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D3F5-DA5A-4CE8-B143-47B562E16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2B3-4E23-438B-A610-101673177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FE58-5F32-4E86-8489-19F0CC9FBD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A163-96D5-4DDE-8C7A-A4DC47D88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A505-0950-4A7A-A417-1AA44BB79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4723-1ABA-4182-9C72-4E9FBF87F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2F97A-E4DC-4E84-85AE-1DAE9E6B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D10E4-61EA-4540-B243-D266AB84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B79EE-6688-4F30-A47F-8DC28B2D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8DDBF-B7FB-4174-A411-48DC1F91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67368-2804-4DA2-830C-9D8C29A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C3D4-B567-43F4-BA76-7C59668E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F2E52-66C3-42D0-A104-4302298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64D9-3F05-4056-BFB1-1DC41C2F7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458A4-8FF5-408D-9F01-6888DB3C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D1403-248E-4AB9-A059-C72C0118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8D07D-8DC2-4141-A7B8-E8120450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4079-5399-4ED0-A2F9-C7FF2CAC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D9706-FD4B-48D7-BEBE-A830A836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2683B-2AC4-4799-BA81-9BB8F8C5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DDFEE-45CE-43C5-AB7A-652BD62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611C0-A3E7-4AC4-BD8F-A53EBDD3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38AC5-EEF5-4C07-ACBE-2ED241BE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F39F5-D52E-4F1F-902E-2D4F187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E86A0-F95B-42A8-9875-282BB2F00A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C7D60-5401-410F-8196-81DDC038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51204-3C15-4D4F-9DCD-D9D48D5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6BA09-E9D7-4CD8-B50A-BC1E6008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89BD1-19E9-4CA1-B411-2DDA7BC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9DCF2-3F67-4A71-9B82-6550AEBE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D6AAC-7E0D-420D-A8EE-49B684DF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9D024A-3FC6-4211-9E73-21FE4F4C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28F7-A661-4F46-8611-7FA94E4F5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87062-C61A-46B6-B2B2-EEBF083AC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02A1-8A9D-4367-9AE7-CECCE2E03F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4ECD-5615-48EE-8544-7DD8267A9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1829-8EAA-4DBB-9E2A-9C422ADE2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BC6E5-BB57-4EE1-B9F5-8B9F7AF4A7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E471-DDFF-44F6-9F25-79B09F3456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0F76-7AC2-4820-9A41-13B7172C72D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CD87-1584-400B-83F4-25BA865FDEF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4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Six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Human Resources Processes with ERP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8FBF-1FA7-4E48-BFB2-9F0D09A8935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66B-613B-42BB-85DB-016FEDA8C5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viewing and Hir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fter candidate accepts formal job offer, Fitter hires a human resources consulting fir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o perform drug tests and conduct background checks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itter Snacker frequently has problems enrolling new employees in correct benefits plans and establishing proper payroll deduct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generate many time-consuming phone calls to Human Resources managemen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alls that would not be needed with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an integrated system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57C-AC18-4164-BC75-5831FC43C3D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Duties after Hir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department should maintain good, continual communication with employee and supervisor to make sure the employee is performing we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issues performance evaluations to new and current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valuation documents become part of employee’s file; maintained by HR depart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91F-2E1E-43E6-87FA-997833D7F3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Duties after Hir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Not having an effective information system makes it difficult for Fitter Snacker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nage all of the performance evaluation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o it’s more challenge for HR department to identify problems with an employee and take corrective action before the termination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intain proper control of sensitive personal inform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D225-B527-4AF5-BF17-94E6AC5272C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Duties after Hir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 turnover can be a significant probl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sts related to hiring and training new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or example, while new employees are learning their jobs, other employees have to take time from their normal jobs to train them, which can negatively impact their productivity.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lose knowledge and skills that may be crucial to keeping them competiti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or example, if a purchasing manager leaves a company, then all of the manager’s knowledge about supplier relations may be lost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urnover is strongly related to job satisfaction and compens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CAE7-B80E-4F7C-A05E-E60007422F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good information system allows all relevant information for an employee to be retrieved in a matter of second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P ERP Human Resources (HR) module provides tools for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ing an organization’s roles and responsibiliti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ersonal employee informatio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asks related to time management, payroll, travel management, and employee train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B0CE-471B-444A-83F4-3BF1745B679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AP ERP’s Organization and Staffing Plan tool used to define: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ompany’s management structure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ositions within the organizational structure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AP ERP distinguishes between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task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job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position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person is a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unique individual who holds a position and who performs tasks, which are the assigned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job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s a general classification of tasks that are routinely performed together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'Jobs are meant to describe the duties someone performs, e.g. Engineer, Accountant, Manager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'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position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s an individual employee assignment within the organization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'Positions are meant to describe specific instances of that job, e.g. Trainee Engineer, Senior Cost Accountant, Sales Manager' 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asks can be assigned to a position directly, or they can be grouped together in a job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responsibilities related to a specific job or position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Manager’s Desktop tool within SAP HR modul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Provides access to all Human Resources data and transactions in one location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402C-01A8-4E65-BF31-16BD4A0A95E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14400" y="56530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-2  Organization and staffing pla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6" descr="Fig06-02"/>
          <p:cNvPicPr/>
          <p:nvPr/>
        </p:nvPicPr>
        <p:blipFill>
          <a:blip r:embed="rId1">
            <a:lum bright="-6000"/>
          </a:blip>
          <a:srcRect l="0" t="0" r="0" b="6006"/>
          <a:stretch/>
        </p:blipFill>
        <p:spPr>
          <a:xfrm>
            <a:off x="950760" y="685800"/>
            <a:ext cx="7659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CDA-C466-46E9-B75E-768E1BA93F8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-3  Relationships among positions, jobs, tasks, and persons who fill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Fig06-03"/>
          <p:cNvPicPr/>
          <p:nvPr/>
        </p:nvPicPr>
        <p:blipFill>
          <a:blip r:embed="rId1">
            <a:lum bright="-6000"/>
          </a:blip>
          <a:srcRect l="0" t="0" r="0" b="6509"/>
          <a:stretch/>
        </p:blipFill>
        <p:spPr>
          <a:xfrm>
            <a:off x="1523880" y="1828800"/>
            <a:ext cx="6216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F21-777F-46FB-B84F-69F0B49BD1C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uman Resources with ERP Softwar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38080" y="5562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6-4  Assignment of a task to a job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5" descr="Fig06-04"/>
          <p:cNvPicPr/>
          <p:nvPr/>
        </p:nvPicPr>
        <p:blipFill>
          <a:blip r:embed="rId1">
            <a:lum bright="-6000"/>
          </a:blip>
          <a:srcRect l="0" t="0" r="0" b="11270"/>
          <a:stretch/>
        </p:blipFill>
        <p:spPr>
          <a:xfrm>
            <a:off x="914400" y="1905120"/>
            <a:ext cx="7496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7E52-2993-4B5F-84E2-FE1A7269069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ced SAP ERP Human Resources Feat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ime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ayrol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vel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ining and develop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301B-23F9-4595-8958-46596924630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4D7-C109-4E17-B9F6-B5FC93D04A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ain why the Human Resources function is critical to the success of a compan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the key processes managed by a Human Resources depart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cribe how an integrated information system can support effective Human Resources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6323-1963-4F1D-97F6-045EA02B0B0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im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ourly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aid for each hour work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ust record time that they work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aried employe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ot paid based on hours work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eir time worked must usually be tracked as we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8551-AEF2-47F9-89EC-130C9E9DC8A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ime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P ERP system uses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ross Application Time Sheets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(CATS) to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Record employee working tim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vide the data to applications including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 Controlling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onitors and manages cost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 Payroll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alculates employee pay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n  data transferred to the Financial Accounting module for payroll proces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 Production Planning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Determines whether enou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gh labor is available to support production plan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4F0-5449-42A1-BD16-50266310B40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yrol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Remuneration element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f an employee’s p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Base pay, bonuses, gratuities, overtime, sick pay, and vacation allowanc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Statutory and voluntary dedu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axes ,company loans, and benefit contribu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ayroll run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process of determining each employee’s p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P ERP system evaluates input data and notes any discrepancies in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error lo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ayroll employees review the error log, make any necessary corrections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ayroll run is used to generate employee pay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CDFF-96F9-4539-83F9-119C4D38D59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vel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vel request may originate with employee or employee’s mana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ravel requests usually require management approv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travel request is approved, travel reservations must be mad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D54-6BDD-4576-8542-9CE7957FB9D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vel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Travel Management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intains travel data for each employee, including flight, hotel, and car preferen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grates travel data with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ayroll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administer reimburs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Financial Accounting and Controlling modules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properly record travel expen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7C34-5C35-496D-AD0E-856B9FFF534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ining and Develop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 ERP system, employee development is driven by qualifications and requir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or abilities associated with a posi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Qualification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kills or abilities associated with a specific employe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e of the most important reasons for managing the development and training of employees is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succession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FA15-BA9A-4D6E-8F28-A166393C7F8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ining and Develop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ccession plan outlines strategy for replacing key employees when they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leav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he company or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move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to another position within the compan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reer and Succession Planning components of  SAP ERP Human Resources modu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llow HR professionals to create, implement, and evaluate succession planning scenario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5105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DE20-ACB1-48B0-879F-9A30DA255F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ditional Human Resources Features of SAP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obile time managemen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SAP’s Mobile Time Management tool allows employees to use smartphones or other mobile devices to record their working times, record absences, or enter a leave request. 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Slide 29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ement of family and medical leav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he Human Resources module imposed by the federal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Family and Medical Leave Act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o determine whether an employee is eligible to take FMLA leave slide 30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omestic partner handl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provide benefits for domestic (unmarried) partners slide 31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dministration of long-term incentiv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The Human Resources module provides more options for processing long-term incentive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Slide 32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ersonnel cost plann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hanges in an organization (including expansions, acquisitions, and downsizing) can affect employee-related expenses, which are usually a significant portion of a company’s costs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2" marL="1097280" indent="-219240">
              <a:spcBef>
                <a:spcPts val="3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22222"/>
                </a:solidFill>
                <a:latin typeface="Arial"/>
              </a:rPr>
              <a:t>Slide 33</a:t>
            </a:r>
            <a:endParaRPr b="0" lang="en-US" sz="1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ement and payroll for global employe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ace many complicated issues, including managing Relocation plans, visas and work permits, housing, taxes, bonus pay  (Slide 34)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agement by objectiv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lide 35-36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5CC6-FEC8-4BFE-B5CC-6E1E5B3AB61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E01-F473-4257-A7A3-A9875484E4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bile Tim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employees may not have regular access to a PC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obile Time Management allows employees to use cellular phones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their working tim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cord absen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ter a leave reque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95C3-49C3-4127-9D1C-9439821EB39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Human capital management (HCM)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asks associated with managing a company’s workfor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 department responsibil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ttracting, selecting, and hiring new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unicating information regarding new positions and hir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suring proper education, training, and certification for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andling issues related to employee con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sure employees understand job responsibilit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86F-4E39-44B9-A350-F83AD61EEE4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of Family and Medical Lea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module reduces administrative burden imposed by Family and Medical Leave Act (FMLA) of 1993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system ca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e whether an employee is eligible to take FMLA absen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cally deducts those absences from the days the employee takes from allowable leav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66AC-BD94-48F4-82C7-204CAF5BA8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mestic Partner Handl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module now supports the management of benefits for domestic partners and their childre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vides more flexibility i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izing dependent coverage options for health pla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ligibility for enrollment of depend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E3C1-A8D1-4305-B452-456CD38BFA8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ministration of Long-Term Incen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must account for expected costs that occur as a result of long-term incentives such as the exercising of stock op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module now provides more options for processing long-term incentiv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tegration with SAP Payroll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alculate taxes accurately when employees exercise incentives and sell their shares in the compan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can share incentive data with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887-52FA-4CEF-8292-AA44B1DC49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sonnel Cost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sonnel Cost Planning too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HR personnel to define and evaluate planning scenarios to generate cost estim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forming cost planning and simu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HR to forecast cost estimates by integrating data with other SAP ERP modul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5A77-6866-432B-8E51-6CB3C3A152B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and Payroll for Global Employe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ment of global employees involves many complicated issu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location plans, visas and work permits, housing, taxes, bonus pa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has enhanced features to support the management of these issu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stomized functionality for more than 50 count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21DF-B212-4E0F-9AF9-8DA776F3659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by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ement by objectives (MBO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1954: first outlined by Peter Drucker in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The Practice of Manage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rs encouraged to focus on results, not activities, and to “negotiate a contract of goals” with their subordinates without dictating the exact methods for achieving th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DA1B-6DEB-4122-B824-DE7B3FA63A3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by Objectiv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provides a comprehensive process to support the MBO approa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formance apprais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ppraisal results can affect employee’s compens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rs can include results of achieved objectives in the employee’s qualifications profi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590-8F1F-4299-A7E9-2EA27E4E1E9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mployees are among a company’s most important asse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out qualified and motivated employees, a company cannot succe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department responsible for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suring that the company can find, evaluate, hire, develop, evaluate, and compensate the right employees to achieve the company’s goal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mployee training and development, succession planning, and termin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8DC0-B898-42DB-8A34-466BE05809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aging, sharing, controlling, and evaluating the data required to manage a company’s human capital are simplified by an integrated information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ditional features of SAP HR systems address today’s changing technology and legis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E69-C168-45FC-B8F7-73539E4F7DF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uman Resources (HR) department responsibilities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effective process to review employee performance and determine salary increases and bonus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ing salary and benefits for each employee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unicating changes in salaries, benefits, or policies to employe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rting management plans for changes in the organiz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BA8-E311-4766-BF03-9914FD77836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blems with Fitter Snacker’s Human Resources Process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ersonnel management relies on paper records and a manual filing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ates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is not readily accessible or easy to analyz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607-449F-409E-84C1-1F079399397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cruit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(FS) has three employees in its HR depart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occur because of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rge number of HR processes (from hiring and firing to managing health benefits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people with whom HR interac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ack of integration among all departme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sults in inaccurate, out-of-date, and inconsistent informa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2BDD-81AF-478E-9A4E-7BDA6C26008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ecruit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blems that can arise in the recruiting proces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escription of qualifications required for the job may be incomplete or inaccurat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because the supervisor is in a hurry, or not aware of all of the functions required for the position, or assumes that all candidates will have certain basic skill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Job vacancy form may be lost or not routed properl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Human Resources department will not know that the position is availabl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Supervisor will assume that paperwork is in proces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iling and properly keeping track of resumes and applications is a challenge at Fitter Snack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ue to applicant’s data being kept on paper form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Example, the résumé of a mechanical engineer is accidentally filed with résumés of candidates applying for jobs in the  accounting department.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45AB-5D5A-4AB5-90A5-FE2AF2A6B0E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viewing and Hir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t FS, requesting department develops a short list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f candidates based on data provided by H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Human Resources department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ontacts candidates on the short lis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chedules interview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reates a file for each candidat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f a candidate accepts interview offer, HR makes arrangements for the interview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fter initial interview, HR updates candidate’s file to indicate whether he or she is a possibility for hir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459F-FCC3-4A2E-8711-CE0987C82AC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terviewing and Hir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interview may be schedul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representative and supervisor of requesting department decide which candidates are acceptable and rank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HR person makes the highest-ranking candidate a job off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eptance of job offer by candidat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3:02Z</dcterms:modified>
  <cp:revision>598</cp:revision>
  <dc:subject/>
  <dc:title>Chapter 6</dc:title>
</cp:coreProperties>
</file>