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3F4-01B1-479C-9DC3-D6E319A4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78B-92FA-4F75-89A9-17911428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D3CF-7F68-438D-9C1F-15445DFB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EF13-B954-4A28-A55F-D8C62AF9A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75D0-4A02-41A0-8AE3-73E0BC88B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BAB3-79B4-44EF-870D-5C8A37049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668AE-3542-4822-BCCC-735A8ADD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FF356-149E-42A9-847F-8E2008F9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ADE1-F3EE-4195-8D52-872C615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A9EEE-3EB2-4683-BC81-CDDDB4C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A0A82-2C35-42F1-870B-59DCA6A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36B6A-08A4-4661-A0EF-7A95468A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2C5F-703B-46B1-A4FC-8D9D602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B074-0D1A-4996-9BC2-52F257A39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A060A-3A02-4E4E-80F7-78F0906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DA32-60E4-4F70-91BD-8A28276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70710-A6AE-43C7-AB21-B9AAA08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5322-40BA-46C9-90CF-56D1B5B8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489D4-35D7-4AFC-8270-5D6314B2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773C7-99C6-4467-907C-CF49A590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2078E-B2DC-4085-BF63-14650B18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D1773-1CCF-4955-A1A8-35245E5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2E34E-DC6D-45D1-AB73-E1CD79BC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9BDD5-0E05-4DFA-8F16-4F390C42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C4E0-CA79-4534-8AA7-3480A32A1C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CC916-3E29-40BA-8723-D2B39FFC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4C6A0-85EB-4300-B6B7-640344F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A0E5-4DDE-4BDC-A261-C806C90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8C4AF-07C6-456A-84D2-65A678D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E2407-2213-4AB5-8F99-E8378E2C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60199-DAA4-4A67-9E8E-AF0C1E7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8FD64-4BA1-4E9B-99E9-0D2E3ADB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244C-25D5-462A-9A7A-B47C9D566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1D3B-DB2E-46E9-9D08-A1183E859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4731-C710-40F8-889A-0090F79EC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EC8E-2867-4C46-B150-C7C8F364C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BC64-4F9F-4C31-AE95-B53572186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E004-BCCC-41CC-BAD5-97A0D15AF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206-AFFF-4852-810A-C562E76EC1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77A9-A6E1-421F-94B6-43ED56EE5BA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9C6-91BB-468D-A057-FA26F1C7122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Six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Human Resources Processes with ERP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D329-688B-46F6-AAF3-A007940164D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C84-21AA-4CA6-A984-028AF7B7D0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fter candidate accepts formal job offer, Fitter hires a human resources consulting fir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o perform drug tests and conduct background checks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tter Snacker frequently has problems enrolling new employees in correct benefits plans and establishing proper payroll deduct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generate many time-consuming phone calls to Human Resources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lls that would not be needed with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an integrated system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A1D9-85C8-43A0-9D20-8D30B77FDF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department should maintain good, continual communication with employee and supervisor to make sure the employee is performing we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issues performance evaluations to new and current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aluation documents become part of employee’s file; maintained by HR depar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0D2-3D06-4800-9ECF-9250CC71721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having an effective information system makes it difficult for Fitter Snacker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nage all of the performance evaluation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o it’s more challenge for HR department to identify problems with an employee and take corrective action before the termination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intain proper control of sensitive persona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FF7-B6F7-47E1-A41F-5B4313907A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 turnover can be a significant probl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related to hiring and training new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or example, while new employees are learning their jobs, other employees have to take time from their normal jobs to train them, which can negatively impact their productivity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lose knowledge and skills that may be crucial to keeping them competit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or example, if a purchasing manager leaves a company, then all of the manager’s knowledge about supplier relations may be lost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urnover is strongly related to job satisfac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829-FBDB-4ED8-B02C-5848148CF65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ood information system allows all relevant information for an employee to be retrieved in a matter of second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Human Resources (HR) module provides tools for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ing an organization’s roles and responsibiliti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ersonal employee informatio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asks related to time management, payroll, travel management, and employee train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26C-F407-4DA7-B365-5150A248EC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P ERP’s Organization and Staffing Plan tool used to define: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ompany’s management structur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ositions within the organizational structur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P ERP distinguishes between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task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position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person is a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unique individual who holds a position and who performs tasks, which are the assigned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job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s a general classification of tasks that are routinely performed together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'Jobs are meant to describe the duties someone performs, e.g. Engineer, Accountant, Manager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'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position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s an individual employee assignment within the organization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'Positions are meant to describe specific instances of that job, e.g. Trainee Engineer, Senior Cost Accountant, Sales Manager' 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asks can be assigned to a position directly, or they can be grouped together in a job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responsibilities related to a specific job or position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Manager’s Desktop tool within SAP HR modu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Provides access to all Human Resources data and transactions in one location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616A-DE0D-45E3-9A7C-8D28BE8D70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14400" y="56530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2  Organization and staffing pla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6" descr="Fig06-02"/>
          <p:cNvPicPr/>
          <p:nvPr/>
        </p:nvPicPr>
        <p:blipFill>
          <a:blip r:embed="rId1">
            <a:lum bright="-6000"/>
          </a:blip>
          <a:srcRect l="0" t="0" r="0" b="6006"/>
          <a:stretch/>
        </p:blipFill>
        <p:spPr>
          <a:xfrm>
            <a:off x="950760" y="685800"/>
            <a:ext cx="7659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74C7-10E8-423F-865D-B13343CBDA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3  Relationships among positions, jobs, tasks, and persons who fill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Fig06-03"/>
          <p:cNvPicPr/>
          <p:nvPr/>
        </p:nvPicPr>
        <p:blipFill>
          <a:blip r:embed="rId1">
            <a:lum bright="-6000"/>
          </a:blip>
          <a:srcRect l="0" t="0" r="0" b="6509"/>
          <a:stretch/>
        </p:blipFill>
        <p:spPr>
          <a:xfrm>
            <a:off x="1523880" y="1828800"/>
            <a:ext cx="6216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2404-AA37-498B-9F83-56A85E5491B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3808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4  Assignment of a task to a job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Fig06-04"/>
          <p:cNvPicPr/>
          <p:nvPr/>
        </p:nvPicPr>
        <p:blipFill>
          <a:blip r:embed="rId1">
            <a:lum bright="-6000"/>
          </a:blip>
          <a:srcRect l="0" t="0" r="0" b="11270"/>
          <a:stretch/>
        </p:blipFill>
        <p:spPr>
          <a:xfrm>
            <a:off x="914400" y="1905120"/>
            <a:ext cx="7496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561-D9A4-4C5D-BF2B-BAE9D0E402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ced SAP ERP Human Resources Fea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yro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 and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76E-B594-4CA1-83FE-86B44CF788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6350-4F1C-4858-BBAE-2DB84D4D9F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why the Human Resources function is critical to the success of a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key processes managed by a Human Resources depart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how an integrated information system can support effective Human Resource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229-A1EF-4C5A-B066-A89C5FF6B20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im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url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id for each hour work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st record time that they 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aried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ot paid based on hours work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ir time worked must usually be tracked as we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51DB-DC09-498B-9805-BBB2A00396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ime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system use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ross Application Time Shee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CATS) to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Record employee working tim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vide the data to applications including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Controlling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onitors and manages cos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Payroll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alculates employee pay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 data transferred to the Financial Accounting module for payroll proces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Production Planning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Determines whether enou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gh labor is available to support production plan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25D-ECF3-4C10-98AE-A83EE39652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yrol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Remuneration element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f an employee’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ase pay, bonuses, gratuities, overtime, sick pay, and vacation allowanc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tatutory and voluntary dedu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axes ,company loans, and benefit contribu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ayroll run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process of determining each employee’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system evaluates input data and notes any discrepancies in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error lo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ayroll employees review the error log, make any necessary corrections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ayroll run is used to generate employee pay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679-A0D0-4471-83C7-E7A8203D8FE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vel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request may originate with employee or employee’s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requests usually require management approv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travel request is approved, travel reservations must be ma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8983-47FF-4DEC-BCED-67A4EC175BA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vel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Travel Management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intains travel data for each employee, including flight, hotel, and car prefer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grates travel data with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ayroll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administer reimburs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nancial Accounting and Controlling modules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properly record travel expen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496A-944F-4316-9B15-5E442AECE3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ining and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 system, employee development is driven by qualifications and requir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or abilities associated with a pos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Qualification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or abilities associated with a specific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of the most important reasons for managing the development and training of employees i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ccession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C47E-9B23-4A29-8E1C-C45FFB1768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ining and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cession plan outlines strategy for replacing key employees when they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leav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he company or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ov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o another position within the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reer and Succession Planning components of  SAP ERP Human Resources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llow HR professionals to create, implement, and evaluate succession planning scenario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5105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1288-8EB6-494F-9B2B-2239EA4D99A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ditional Human Resources Features of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obile time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SAP’s Mobile Time Management tool allows employees to use smartphones or other mobile devices to record their working times, record absences, or enter a leave request.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29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of family and medical leav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he Human Resources module imposed by the federal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Family and Medical Leave Act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o determine whether an employee is eligible to take FMLA leave slide 30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omestic partner handl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provide benefits for domestic (unmarried) partners slide 31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dministration of long-term incentiv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he Human Resources module provides more options for processing long-term incentive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32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ersonnel cost plann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hanges in an organization (including expansions, acquisitions, and downsizing) can affect employee-related expenses, which are usually a significant portion of a company’s costs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33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and payroll for global employe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ace many complicated issues, including managing Relocation plans, visas and work permits, housing, taxes, bonus pay  (Slide 34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by objectiv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lide 35-36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37FE-D0E5-47B6-AE83-460D04C55B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BA5-98BD-42E1-A5BC-D014F7D55F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bile Tim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employees may not have regular access to a PC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bile Time Management allows employees to use cellular phone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their working ti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bs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ter a leave requ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FD2-8408-4182-A1B4-8E89609EE59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uman capital management (HCM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associated with managing a company’s workfor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 department responsi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ttracting, selecting, and hiring new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ng information regarding new positions and hir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ing proper education, training, and certification for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andling issues related to employee con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sure employees understand job responsibil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534D-D4E6-4806-A57F-7213A6CF14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of Family and Medical Lea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reduces administrative burden imposed by Family and Medical Leave Act (FMLA) of 199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system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whether an employee is eligible to take FMLA abs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deducts those absences from the days the employee takes from allowable lea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55CE-E56A-4249-B2AE-14A3E9639C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mestic Partner Handl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now supports the management of benefits for domestic partners and their childr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vides more flexibility i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izing dependent coverage options for health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ligibility for enrollment of depend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E4FA-5CC2-49C9-8A76-1715FD6298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ministration of Long-Term Incen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must account for expected costs that occur as a result of long-term incentives such as the exercising of stock op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now provides more options for processing long-term incentiv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gration with SAP Payroll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lculate taxes accurately when employees exercise incentives and sell their shares in the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can share incentive data with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4C4C-4B31-4024-BE97-76A22F308A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sonnel Cost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sonnel Cost Planning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HR personnel to define and evaluate planning scenarios to generate cost estim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forming cost planning and simu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HR to forecast cost estimates by integrating data with other SAP ERP modu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01DC-A744-4367-8CB0-C910D2550CE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and Payroll for Global Employe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ment of global employees involves many complicated issu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location plans, visas and work permits, housing, taxes, bonu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has enhanced features to support the management of these issu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ized functionality for more than 50 coun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3B0D-AABC-46A8-99FE-89FCAED59D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by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ment by objectives (MBO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54: first outlined by Peter Drucker in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The Practice of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s encouraged to focus on results, not activities, and to “negotiate a contract of goals” with their subordinates without dictating the exact methods for achieving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A64-CA6A-4EC7-98DD-6304120F1B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by Objectiv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provides a comprehensive process to support the MBO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formance apprais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ppraisal results can affect employee’s compens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s can include results of achieved objectives in the employee’s qualifications pro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6010-451E-4440-8262-5FDC02BC2BB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are among a company’s most important ass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out qualified and motivated employees, a company cannot succe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department responsible for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ing that the company can find, evaluate, hire, develop, evaluate, and compensate the right employees to achieve the company’s go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development, succession planning, and termin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DEF0-B10F-4FE1-B221-22D2F32AF3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, sharing, controlling, and evaluating the data required to manage a company’s human capital are simplified by an integrated information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ditional features of SAP HR systems address today’s changing technology and legis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56A-F56C-4BD3-8D2B-5842F6EC12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 department responsibilitie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effective process to review employee performance and determine salary increases and bonu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ing salary and benefits for each employee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ng changes in salaries, benefits, or policies to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ing management plans for changes in the organ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8BB-B295-4A4C-AC3F-B40F190DF0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blems with Fitter Snacker’s Human Resource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sonnel management relies on paper records and a manual filing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s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is not readily accessible or easy to analyz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C5EE-6C5D-4E1E-96A8-8AEBAED0DB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cruit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(FS) has three employees in its HR depart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occur because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rge number of HR processes (from hiring and firing to managing health benefit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people with whom HR intera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ck of integration among all depart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sults in inaccurate, out-of-date, and inconsistent inform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BC72-4A88-4D78-B880-AF303075EA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cruit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blems that can arise in the recruiting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escription of qualifications required for the job may be incomplete or inaccurat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because the supervisor is in a hurry, or not aware of all of the functions required for the position, or assumes that all candidates will have certain basic skill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Job vacancy form may be lost or not routed properl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Human Resources department will not know that the position is availab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Supervisor will assume that paperwork is in proces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iling and properly keeping track of resumes and applications is a challenge at Fitter Snack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ue to applicant’s data being kept on paper 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Example, the résumé of a mechanical engineer is accidentally filed with résumés of candidates applying for jobs in the  accounting department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22D5-EA7B-4A20-872C-187D89C203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FS, requesting department develops a short list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f candidates based on data provided by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Human Resources department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ontacts candidates on the short lis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chedules interview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reates a file for each candidat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f a candidate accepts interview offer, HR makes arrangements for the intervie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fter initial interview, HR updates candidate’s file to indicate whether he or she is a possibility for hir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EF4-E467-4019-BE70-97A1345A85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interview may be schedul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representative and supervisor of requesting department decide which candidates are acceptable and rank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person makes the highest-ranking candidate a job off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ptance of job offer by candid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3:02Z</dcterms:modified>
  <cp:revision>598</cp:revision>
  <dc:subject/>
  <dc:title>Chapter 6</dc:title>
</cp:coreProperties>
</file>