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E717-A08D-4333-92C6-BA88DD669F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66B6-2F81-418C-9248-33FA4A9E623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5D7C-5071-4ABB-AC6A-6F446E8F6240}" type="slidenum">
              <a:rPr b="0" lang="zh-TW" sz="12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ABF9-6F5C-4D93-AFF9-E9196B4C16A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7DDC-A9A3-4898-A4BF-5296D16A7E0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88C0-CACC-4ED3-8B1D-69950749A89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B08A-6014-4106-9CCF-EA4B24ACE3F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00C7-4BBA-4B7F-B449-4152BF86973D}" type="slidenum">
              <a:rPr b="0" lang="zh-TW" sz="12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64FB-5BF6-44BD-815B-77609C9499A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2C27-F55D-4854-BD9E-AF7D167DDF3A}" type="slidenum">
              <a:rPr b="0" lang="zh-TW" sz="12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14A3-E2AF-4CB5-9A10-255D5062D86E}" type="slidenum">
              <a:rPr b="0" lang="zh-TW" sz="12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4BC6-0696-44CF-BAD8-F06C789D58D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5847-4DFF-47F7-A4D2-DDCB9E9398A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A292-A0F9-4267-BF81-4F88111F978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1753-F931-45DE-8D1E-08913C38520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81E3-F281-4EED-96C5-DDD2FEA794A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6FB4-4F5E-463A-A6C3-0E00C376168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10D5-8686-4587-8542-350EB6586B5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1B79-8287-48BB-8183-6214238388C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3F31-2BFD-4D40-B665-DE62B269A76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0DEE-3585-47B4-AB36-8F2FEC45845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F6EA-5793-46F5-A14B-135A3521044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EF7C-1CA5-4623-9016-B68616B5E01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E053-778A-4487-BF04-D67B6D379110}" type="slidenum">
              <a:rPr b="0" lang="zh-TW" sz="12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E7B3-F6D8-4526-ADCF-43775439BC3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CDF0-35CE-4082-8AA4-F6507A24B3A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D438-E90B-4C8A-8EC1-72AAB76E200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3EFB-483E-47E6-B593-705D3F3A601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2FFC-C00E-43E2-8C50-CD71E6F9D7E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9CF-DE0B-4FB3-AD45-E08DB00A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0C9-17CE-40F4-B861-6327A8C4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E3F-0707-4034-B2B2-E20C8DA8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927-922F-404C-91F8-B0AD7CD4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72F0-2BC8-453D-BF37-396A63D5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2EA-DFD3-498F-ACD9-2CBF20F6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182-E376-422C-920E-D845BE81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561-A587-44C0-B71D-CBF27457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2BD-B69D-40EC-BECC-478D5BCB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765-A934-47B0-BA9D-1D16BB61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21F-3EF1-4E78-ACBD-6814E3B8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9A5-9241-45A7-8AC0-C75AFC19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3D96-CF05-4FF5-B8D4-94DB7EF415F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ule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6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1EF4-2D31-4500-809C-547A6796D505}" type="slidenum">
              <a:rPr b="0" lang="zh-TW" sz="14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87A2-1AB5-4C07-B55B-A5EFF4735FB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3.3. </a:t>
            </a: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Isolate and Identify the Problems, Not the Symptoms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*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Identify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 th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 Symptom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by i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nterrogative technique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: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Asking multiple what, where, who, when, why, and how questions about what has changed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by p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robing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 :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An interview technique that tries to draw deeper and more elaborate explanations from the discussion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*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I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solate th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 Symptom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 from the True Problem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ymptoms can be confusing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e case of 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nty-year-old neighborhood swimming associa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mbership has been declining for year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Maybe 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ighborhoo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idents prefer the expensive water park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52280" y="152280"/>
          <a:ext cx="8839440" cy="653760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  <a:gridCol w="2210040"/>
              </a:tblGrid>
              <a:tr h="99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ganizatio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ymptom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blem Definition</a:t>
                      </a:r>
                      <a:r>
                        <a:rPr b="1" lang="tr-T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ased </a:t>
                      </a:r>
                      <a:r>
                        <a:rPr b="1" lang="tr-T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n 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ymptom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ue Problem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4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wenty-year-old neighborhood swimming association in a major city.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Membership has been declining for years.  New water park with wave pool and water slides moved into town a few years ago.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Neighborhood residents prefer the expensive water park and have negative image of swimming pool. 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emographic changes: Children in this 20-year-old neighborhood have grown up.  Older residents no longer swim anywhere.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2102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everage manufacturer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Consumers prefer taste of competitor’s products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aste of our product needs to be reformulated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ld fashioned package is influencing consumers’ taste perceptions.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What Language Is Written on This Stone Found by Archaeologists?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85800" y="5562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The Language 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 English: 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“t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o 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ie 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ules 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7" descr="Juanci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514600"/>
            <a:ext cx="3733560" cy="2666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http://t3.gstatic.com/images?q=tbn:ANd9GcQkZ1yenMOM3NfAFzLt-wwYd-97278t32O8qFWNls1VRLDBMmML"/>
          <p:cNvPicPr/>
          <p:nvPr/>
        </p:nvPicPr>
        <p:blipFill>
          <a:blip r:embed="rId3"/>
          <a:stretch/>
        </p:blipFill>
        <p:spPr>
          <a:xfrm>
            <a:off x="4800600" y="2514600"/>
            <a:ext cx="3276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3.4.</a:t>
            </a: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Determine</a:t>
            </a: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 the Research Objectives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04920" y="1066680"/>
            <a:ext cx="8534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After clarifiyng the situation (current 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ecision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need) 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anagerial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ecision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tatement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should be translate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into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orresponding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esearch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bjectiv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Once the decision statement is written, the research essentially answers the question, “What information is needed to address this situation?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Research objectives are the deliverables of the research projec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58672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i="1" lang="en-US" sz="3000" spc="-1" strike="noStrike">
                <a:solidFill>
                  <a:srgbClr val="ff0000"/>
                </a:solidFill>
                <a:latin typeface="Times New Roman"/>
              </a:rPr>
              <a:t>If you do not know where you are going,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Times New Roman"/>
              </a:rPr>
              <a:t>any road will take you there</a:t>
            </a:r>
            <a:r>
              <a:rPr b="0" i="1" lang="tr-TR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3286080" y="822240"/>
            <a:ext cx="2251080" cy="1366920"/>
            <a:chOff x="3286080" y="822240"/>
            <a:chExt cx="2251080" cy="1366920"/>
          </a:xfrm>
        </p:grpSpPr>
        <p:sp>
          <p:nvSpPr>
            <p:cNvPr id="124" name="Rectangle 3"/>
            <p:cNvSpPr/>
            <p:nvPr/>
          </p:nvSpPr>
          <p:spPr>
            <a:xfrm>
              <a:off x="3286080" y="822240"/>
              <a:ext cx="2251080" cy="1366920"/>
            </a:xfrm>
            <a:prstGeom prst="rect">
              <a:avLst/>
            </a:pr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3286080" y="822240"/>
              <a:ext cx="21747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 Rounded MT Bold"/>
                </a:rPr>
                <a:t>Statement of business proble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6" name="Group 5"/>
          <p:cNvGrpSpPr/>
          <p:nvPr/>
        </p:nvGrpSpPr>
        <p:grpSpPr>
          <a:xfrm>
            <a:off x="6267600" y="822240"/>
            <a:ext cx="2251080" cy="1366920"/>
            <a:chOff x="6267600" y="822240"/>
            <a:chExt cx="2251080" cy="1366920"/>
          </a:xfrm>
        </p:grpSpPr>
        <p:sp>
          <p:nvSpPr>
            <p:cNvPr id="127" name="Rectangle 6"/>
            <p:cNvSpPr/>
            <p:nvPr/>
          </p:nvSpPr>
          <p:spPr>
            <a:xfrm>
              <a:off x="6267600" y="822240"/>
              <a:ext cx="2251080" cy="1366920"/>
            </a:xfrm>
            <a:prstGeom prst="rect">
              <a:avLst/>
            </a:pr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Rectangle 7"/>
            <p:cNvSpPr/>
            <p:nvPr/>
          </p:nvSpPr>
          <p:spPr>
            <a:xfrm>
              <a:off x="6267600" y="822240"/>
              <a:ext cx="21747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 Rounded MT Bold"/>
                </a:rPr>
                <a:t>Exploratory research (optional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9" name="Rectangle 8"/>
          <p:cNvSpPr/>
          <p:nvPr/>
        </p:nvSpPr>
        <p:spPr>
          <a:xfrm>
            <a:off x="3286080" y="824040"/>
            <a:ext cx="2174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Statement of business probl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401760" y="822240"/>
            <a:ext cx="2251080" cy="1366920"/>
            <a:chOff x="401760" y="822240"/>
            <a:chExt cx="2251080" cy="1366920"/>
          </a:xfrm>
        </p:grpSpPr>
        <p:sp>
          <p:nvSpPr>
            <p:cNvPr id="131" name="Rectangle 10"/>
            <p:cNvSpPr/>
            <p:nvPr/>
          </p:nvSpPr>
          <p:spPr>
            <a:xfrm>
              <a:off x="401760" y="822240"/>
              <a:ext cx="2251080" cy="1366920"/>
            </a:xfrm>
            <a:prstGeom prst="rect">
              <a:avLst/>
            </a:pr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Rectangle 11"/>
            <p:cNvSpPr/>
            <p:nvPr/>
          </p:nvSpPr>
          <p:spPr>
            <a:xfrm>
              <a:off x="401760" y="822240"/>
              <a:ext cx="21747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 Rounded MT Bold"/>
                </a:rPr>
                <a:t>Broad research objectiv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3" name="Group 12"/>
          <p:cNvGrpSpPr/>
          <p:nvPr/>
        </p:nvGrpSpPr>
        <p:grpSpPr>
          <a:xfrm>
            <a:off x="401760" y="2897280"/>
            <a:ext cx="2251080" cy="1366920"/>
            <a:chOff x="401760" y="2897280"/>
            <a:chExt cx="2251080" cy="1366920"/>
          </a:xfrm>
        </p:grpSpPr>
        <p:sp>
          <p:nvSpPr>
            <p:cNvPr id="134" name="Rectangle 13"/>
            <p:cNvSpPr/>
            <p:nvPr/>
          </p:nvSpPr>
          <p:spPr>
            <a:xfrm>
              <a:off x="401760" y="2897280"/>
              <a:ext cx="2251080" cy="1366920"/>
            </a:xfrm>
            <a:prstGeom prst="rect">
              <a:avLst/>
            </a:pr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401760" y="3110040"/>
              <a:ext cx="2174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 Rounded MT Bold"/>
                </a:rPr>
                <a:t>Specific Objective 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15"/>
          <p:cNvGrpSpPr/>
          <p:nvPr/>
        </p:nvGrpSpPr>
        <p:grpSpPr>
          <a:xfrm>
            <a:off x="3286080" y="2897280"/>
            <a:ext cx="2251080" cy="1366920"/>
            <a:chOff x="3286080" y="2897280"/>
            <a:chExt cx="2251080" cy="1366920"/>
          </a:xfrm>
        </p:grpSpPr>
        <p:sp>
          <p:nvSpPr>
            <p:cNvPr id="137" name="Rectangle 16"/>
            <p:cNvSpPr/>
            <p:nvPr/>
          </p:nvSpPr>
          <p:spPr>
            <a:xfrm>
              <a:off x="3286080" y="2897280"/>
              <a:ext cx="2251080" cy="1366920"/>
            </a:xfrm>
            <a:prstGeom prst="rect">
              <a:avLst/>
            </a:pr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Rectangle 17"/>
            <p:cNvSpPr/>
            <p:nvPr/>
          </p:nvSpPr>
          <p:spPr>
            <a:xfrm>
              <a:off x="3286080" y="3110040"/>
              <a:ext cx="2174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 Rounded MT Bold"/>
                </a:rPr>
                <a:t>Specific Objective 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9" name="Group 18"/>
          <p:cNvGrpSpPr/>
          <p:nvPr/>
        </p:nvGrpSpPr>
        <p:grpSpPr>
          <a:xfrm>
            <a:off x="6267600" y="2897280"/>
            <a:ext cx="2251080" cy="1366920"/>
            <a:chOff x="6267600" y="2897280"/>
            <a:chExt cx="2251080" cy="1366920"/>
          </a:xfrm>
        </p:grpSpPr>
        <p:sp>
          <p:nvSpPr>
            <p:cNvPr id="140" name="Rectangle 19"/>
            <p:cNvSpPr/>
            <p:nvPr/>
          </p:nvSpPr>
          <p:spPr>
            <a:xfrm>
              <a:off x="6267600" y="2897280"/>
              <a:ext cx="2251080" cy="1366920"/>
            </a:xfrm>
            <a:prstGeom prst="rect">
              <a:avLst/>
            </a:pr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>
              <a:off x="6267600" y="3110040"/>
              <a:ext cx="2174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 Rounded MT Bold"/>
                </a:rPr>
                <a:t>Specific Objective 3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2" name="Group 21"/>
          <p:cNvGrpSpPr/>
          <p:nvPr/>
        </p:nvGrpSpPr>
        <p:grpSpPr>
          <a:xfrm>
            <a:off x="3286080" y="4821120"/>
            <a:ext cx="2251080" cy="1366920"/>
            <a:chOff x="3286080" y="4821120"/>
            <a:chExt cx="2251080" cy="1366920"/>
          </a:xfrm>
        </p:grpSpPr>
        <p:sp>
          <p:nvSpPr>
            <p:cNvPr id="143" name="Rectangle 22"/>
            <p:cNvSpPr/>
            <p:nvPr/>
          </p:nvSpPr>
          <p:spPr>
            <a:xfrm>
              <a:off x="3286080" y="4821120"/>
              <a:ext cx="2251080" cy="1366920"/>
            </a:xfrm>
            <a:prstGeom prst="rect">
              <a:avLst/>
            </a:pr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Rectangle 23"/>
            <p:cNvSpPr/>
            <p:nvPr/>
          </p:nvSpPr>
          <p:spPr>
            <a:xfrm>
              <a:off x="3286080" y="5051520"/>
              <a:ext cx="2174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 Rounded MT Bold"/>
                </a:rPr>
                <a:t>Research Desig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5" name="Group 24"/>
          <p:cNvGrpSpPr/>
          <p:nvPr/>
        </p:nvGrpSpPr>
        <p:grpSpPr>
          <a:xfrm>
            <a:off x="6267600" y="4821120"/>
            <a:ext cx="2251080" cy="1366920"/>
            <a:chOff x="6267600" y="4821120"/>
            <a:chExt cx="2251080" cy="1366920"/>
          </a:xfrm>
        </p:grpSpPr>
        <p:sp>
          <p:nvSpPr>
            <p:cNvPr id="146" name="Rectangle 25"/>
            <p:cNvSpPr/>
            <p:nvPr/>
          </p:nvSpPr>
          <p:spPr>
            <a:xfrm>
              <a:off x="6267600" y="4821120"/>
              <a:ext cx="2251080" cy="1366920"/>
            </a:xfrm>
            <a:prstGeom prst="rect">
              <a:avLst/>
            </a:pr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Rectangle 26"/>
            <p:cNvSpPr/>
            <p:nvPr/>
          </p:nvSpPr>
          <p:spPr>
            <a:xfrm>
              <a:off x="6267600" y="5207040"/>
              <a:ext cx="2174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 Rounded MT Bold"/>
                </a:rPr>
                <a:t>Result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8" name="Line 27"/>
          <p:cNvSpPr/>
          <p:nvPr/>
        </p:nvSpPr>
        <p:spPr>
          <a:xfrm>
            <a:off x="5527800" y="1170000"/>
            <a:ext cx="744480" cy="0"/>
          </a:xfrm>
          <a:prstGeom prst="line">
            <a:avLst/>
          </a:prstGeom>
          <a:ln w="50760">
            <a:solidFill>
              <a:srgbClr val="ff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Line 28"/>
          <p:cNvSpPr/>
          <p:nvPr/>
        </p:nvSpPr>
        <p:spPr>
          <a:xfrm flipH="1">
            <a:off x="5527800" y="1728720"/>
            <a:ext cx="744480" cy="0"/>
          </a:xfrm>
          <a:prstGeom prst="line">
            <a:avLst/>
          </a:prstGeom>
          <a:ln w="50760">
            <a:solidFill>
              <a:srgbClr val="ff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2652840" y="1506600"/>
            <a:ext cx="635040" cy="1440"/>
          </a:xfrm>
          <a:custGeom>
            <a:avLst/>
            <a:gdLst>
              <a:gd name="textAreaLeft" fmla="*/ 0 w 635040"/>
              <a:gd name="textAreaRight" fmla="*/ 635040 w 63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00" h="1">
                <a:moveTo>
                  <a:pt x="399" y="0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1527120" y="2189160"/>
            <a:ext cx="1800" cy="709560"/>
          </a:xfrm>
          <a:custGeom>
            <a:avLst/>
            <a:gdLst>
              <a:gd name="textAreaLeft" fmla="*/ 0 w 1800"/>
              <a:gd name="textAreaRight" fmla="*/ 2160 w 180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" h="447">
                <a:moveTo>
                  <a:pt x="0" y="0"/>
                </a:moveTo>
                <a:lnTo>
                  <a:pt x="0" y="44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1527120" y="2189160"/>
            <a:ext cx="2886120" cy="709560"/>
          </a:xfrm>
          <a:custGeom>
            <a:avLst/>
            <a:gdLst>
              <a:gd name="textAreaLeft" fmla="*/ 0 w 2886120"/>
              <a:gd name="textAreaRight" fmla="*/ 2886480 w 28861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818" h="447">
                <a:moveTo>
                  <a:pt x="0" y="0"/>
                </a:moveTo>
                <a:lnTo>
                  <a:pt x="0" y="223"/>
                </a:lnTo>
                <a:lnTo>
                  <a:pt x="1817" y="223"/>
                </a:lnTo>
                <a:lnTo>
                  <a:pt x="1817" y="44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1527120" y="2189160"/>
            <a:ext cx="5867280" cy="709560"/>
          </a:xfrm>
          <a:custGeom>
            <a:avLst/>
            <a:gdLst>
              <a:gd name="textAreaLeft" fmla="*/ 0 w 5867280"/>
              <a:gd name="textAreaRight" fmla="*/ 5867640 w 586728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3696" h="447">
                <a:moveTo>
                  <a:pt x="0" y="0"/>
                </a:moveTo>
                <a:lnTo>
                  <a:pt x="0" y="223"/>
                </a:lnTo>
                <a:lnTo>
                  <a:pt x="3695" y="223"/>
                </a:lnTo>
                <a:lnTo>
                  <a:pt x="3695" y="44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4411800" y="4264200"/>
            <a:ext cx="1440" cy="558720"/>
          </a:xfrm>
          <a:custGeom>
            <a:avLst/>
            <a:gdLst>
              <a:gd name="textAreaLeft" fmla="*/ 0 w 1440"/>
              <a:gd name="textAreaRight" fmla="*/ 1800 w 14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" h="352">
                <a:moveTo>
                  <a:pt x="0" y="0"/>
                </a:moveTo>
                <a:lnTo>
                  <a:pt x="0" y="351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5537160" y="5505480"/>
            <a:ext cx="731880" cy="1440"/>
          </a:xfrm>
          <a:custGeom>
            <a:avLst/>
            <a:gdLst>
              <a:gd name="textAreaLeft" fmla="*/ 0 w 731880"/>
              <a:gd name="textAreaRight" fmla="*/ 732240 w 731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61" h="1">
                <a:moveTo>
                  <a:pt x="0" y="0"/>
                </a:moveTo>
                <a:lnTo>
                  <a:pt x="460" y="0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4411800" y="458640"/>
            <a:ext cx="4394160" cy="504828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5048280"/>
              <a:gd name="textAreaBottom" fmla="*/ 5048640 h 5048280"/>
            </a:gdLst>
            <a:ahLst/>
            <a:rect l="textAreaLeft" t="textAreaTop" r="textAreaRight" b="textAreaBottom"/>
            <a:pathLst>
              <a:path w="2768" h="3180">
                <a:moveTo>
                  <a:pt x="2587" y="3179"/>
                </a:moveTo>
                <a:lnTo>
                  <a:pt x="2767" y="3179"/>
                </a:lnTo>
                <a:lnTo>
                  <a:pt x="2767" y="0"/>
                </a:lnTo>
                <a:lnTo>
                  <a:pt x="0" y="0"/>
                </a:lnTo>
                <a:lnTo>
                  <a:pt x="0" y="229"/>
                </a:lnTo>
              </a:path>
            </a:pathLst>
          </a:custGeom>
          <a:noFill/>
          <a:ln cap="rnd" w="50760">
            <a:solidFill>
              <a:srgbClr val="ffffcc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42BB-9FE3-433B-BE79-7AEA39A26C7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3.5. Determine the </a:t>
            </a: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Unit of Analysis</a:t>
            </a: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tr-TR" sz="2500" spc="-1" strike="noStrike">
                <a:solidFill>
                  <a:srgbClr val="ff9900"/>
                </a:solidFill>
                <a:latin typeface="Times New Roman"/>
              </a:rPr>
              <a:t>(see also http://www.socialresearchmethods.net/kb/unitanal.php)</a:t>
            </a:r>
            <a:endParaRPr b="0" lang="en-US" sz="25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it of Analysi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ndicates what or who should provide the data and at what level of aggreg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dividuals, households, organizations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many studies, the family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or the fir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ther than the individual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may b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ppropriate unit of analysi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en, data collected at the individual level should be aggregated at a higher level to the firm, work group, or famili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B257-25AA-4A05-AE5B-48F565A293CB}" type="slidenum">
              <a:rPr b="0" lang="zh-TW" sz="14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PMingLiU"/>
              </a:rPr>
              <a:t>Example</a:t>
            </a:r>
            <a:r>
              <a:rPr b="0" lang="tr-TR" sz="3200" spc="-1" strike="noStrike">
                <a:solidFill>
                  <a:srgbClr val="ff9900"/>
                </a:solidFill>
                <a:latin typeface="Times New Roman"/>
                <a:ea typeface="PMingLiU"/>
              </a:rPr>
              <a:t>s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PMingLiU"/>
              </a:rPr>
              <a:t> of Research Objectives</a:t>
            </a:r>
            <a:r>
              <a:rPr b="0" lang="tr-TR" sz="3200" spc="-1" strike="noStrike">
                <a:solidFill>
                  <a:srgbClr val="ff9900"/>
                </a:solidFill>
                <a:latin typeface="Times New Roman"/>
                <a:ea typeface="PMingLiU"/>
              </a:rPr>
              <a:t> and Unit of Analysi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identify the critical factors affecting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cl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ts’ choice of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ome specific brands. (individual client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identify the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future performance of candidates for a specific job offer.(individual candidate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o 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blish the reasons for stagnant sales and suggest means by which sale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be increase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 (firm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369E-0782-4309-B473-C41AD55016E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3.6. </a:t>
            </a: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Determine the Relevant Variable</a:t>
            </a: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s and Hypotheses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determine what characteristics of the unit of analysis will be measured by the research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02600" indent="-102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se characteristics may vary within the same unit of analy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02600" indent="-102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stance, Research Objective: to identify the ways of increasing marketing performa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02600" indent="-102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it of analysis: fi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02600" indent="-102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riable: marketing perform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02600" indent="-102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firms’ marketing performance may be differ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hapter 6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.1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: 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blem Definition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040" y="2286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efinition of a Managemen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 Definitions of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iscovery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The Process of Problem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65D5-79BF-4865-972E-226B9A29C027}" type="slidenum">
              <a:rPr b="0" lang="zh-TW" sz="14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  <a:ea typeface="PMingLiU"/>
              </a:rPr>
              <a:t>Definition of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PMingLiU"/>
              </a:rPr>
              <a:t>Variabl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What is a Variabl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Anything that varies or changes from one instance to another; can exhibit differences in value, usually in magnitude or strength, or in direc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What is a Constan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Something that does not change; is not useful in addressing research ques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6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720E-9AEE-4D95-A820-D1FEE641F983}" type="slidenum">
              <a:rPr b="0" lang="zh-TW" sz="14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PMingLiU"/>
              </a:rPr>
              <a:t>Types of Variabl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Continuous vari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Can take on a range of quantitative valu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Categorical vari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Indicates membership in some grou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Also called classificatory variab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52280" y="3657600"/>
            <a:ext cx="830448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10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Dependent vari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68000" indent="-180000">
              <a:spcBef>
                <a:spcPts val="10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A process outcome or a variable that is predicted and/or explained by other variab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16000" indent="-216000">
              <a:spcBef>
                <a:spcPts val="10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Independent vari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68000" indent="-180000">
              <a:spcBef>
                <a:spcPts val="10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A variable that is expected to influence the dependent variable in some w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Research Question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order to  achieve research objectives, researchers should develop research questions, and try to answer them through researc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 questions are about the nature of relations among varia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s of research questions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are the reasons of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ales declin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What are the drivers of customer satisfacti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What are the relations between new designs and customer satisfacti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Hypothesi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u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upporte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proposi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to answer a research question to be tested by resear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H1: Decline in the purchasing power of the clients decreases the total sales of the industr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H2: New designs increase customer satisf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An </a:t>
            </a: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xemplary problem definition process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ymptons: our clients are complaining, they seem unhappy and we may loose 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ue Problem: our clients began to percieve our products as low quality but still expens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 objective: to identify the ways to convince our clients about our products’ qual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it of analysis: individual buy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Variables: customer satisfaction, re-buying intention, product characteristics, customers’ demographics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Research question: what are the drivers of customer satisfaction, what are the relations among customer perceptions about the product characteristics, customer satisfaction, and re-buying intenti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Hypothesis: old fashioned products are percieved by the young customers as low qual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An exemplary problem definition process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6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 Proposal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esearch Proposal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written statement of the research design that includes a statement explaining the purpose of the stu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tailed outline of procedures associated with a particular method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Questions -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blem Defini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is the purpose of the stud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 much is already know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s additional background information necessar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is to be measured? How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the data be made availabl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hould research be conducted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a hypothesis be formulated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Questions -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Basic Research Desig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types of questions need to be answer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descriptive or causal findings requir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is the source of the dat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 Definition of a Management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Problem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: existence of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a difference between the current conditions and a more preferable set of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futur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condi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agement Problem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a development that necessiates a decision to cope with difficulties and threats, or to exploi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portuni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Questions -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Research Desig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objective answers be obtained by asking peopl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quickly is the information need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should survey questions be word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should experimental manipulations be mad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Questions -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election of Sampl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Who or what is the source of the data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an the target population be identified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Is a sample necessary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How accurate must the sample be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Is a probability sample necessary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Is a national sample necessary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How large a sample is necessary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How will the sample be selected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Questions -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ata Gathering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o will gather the dat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long will data gathering tak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much supervision is need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operational procedures need to be follow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Questions -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ata Analysi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Will standardized editing and coding procedures be used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How will the data be categorized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What statistical software will be used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What is the nature of the data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What questions need to be answered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How many variables are to be investigated simultaneously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Performance criteria for evaluation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Questions -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ype of Repor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o will read the repor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managerial recommendations request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many presentations are requir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will be the format of the written repor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Questions -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verall Evalua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much will the study cos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the time frame acceptabl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outside help need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ll this research design attain the stated research objectiv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should the research be scheduled to begi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7F9F-8805-4C73-ACF0-0DA1B78FE7AA}" type="slidenum">
              <a:rPr b="0" lang="zh-TW" sz="14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8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  <a:ea typeface="PMingLiU"/>
              </a:rPr>
              <a:t>Management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PMingLiU"/>
              </a:rPr>
              <a:t>Problems Mean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  <a:ea typeface="PMingLiU"/>
              </a:rPr>
              <a:t>Performance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PMingLiU"/>
              </a:rPr>
              <a:t>Gap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Business performance is worse than expected business performa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Actual business performance is less than possible business performa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Expected business performance is greater than possible business performa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 Definitions of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blem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Discovery and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blem Defini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iscovery: getting aware of some symptons of a management 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Defini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e indication of a specific business decision area that will be clarified by answering some research ques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768240" y="4718160"/>
            <a:ext cx="3880080" cy="1377720"/>
            <a:chOff x="768240" y="4718160"/>
            <a:chExt cx="3880080" cy="1377720"/>
          </a:xfrm>
        </p:grpSpPr>
        <p:sp>
          <p:nvSpPr>
            <p:cNvPr id="60" name="Freeform 3"/>
            <p:cNvSpPr/>
            <p:nvPr/>
          </p:nvSpPr>
          <p:spPr>
            <a:xfrm>
              <a:off x="2708280" y="4718160"/>
              <a:ext cx="1440" cy="5475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1" h="345">
                  <a:moveTo>
                    <a:pt x="0" y="0"/>
                  </a:moveTo>
                  <a:lnTo>
                    <a:pt x="0" y="344"/>
                  </a:lnTo>
                </a:path>
              </a:pathLst>
            </a:custGeom>
            <a:noFill/>
            <a:ln cap="rnd" w="25560">
              <a:solidFill>
                <a:srgbClr val="ffffcc"/>
              </a:solidFill>
              <a:round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Rectangle 4"/>
            <p:cNvSpPr/>
            <p:nvPr/>
          </p:nvSpPr>
          <p:spPr>
            <a:xfrm>
              <a:off x="768240" y="5264280"/>
              <a:ext cx="3880080" cy="83160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1f7a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 Rounded MT Bold"/>
                </a:rPr>
                <a:t>Statement of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 Rounded MT Bold"/>
                </a:rPr>
                <a:t>Research Objectiv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2" name="Freeform 5"/>
          <p:cNvSpPr/>
          <p:nvPr/>
        </p:nvSpPr>
        <p:spPr>
          <a:xfrm>
            <a:off x="4645080" y="3165480"/>
            <a:ext cx="1001520" cy="754200"/>
          </a:xfrm>
          <a:custGeom>
            <a:avLst/>
            <a:gdLst>
              <a:gd name="textAreaLeft" fmla="*/ 0 w 1001520"/>
              <a:gd name="textAreaRight" fmla="*/ 1001880 w 100152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631" h="475">
                <a:moveTo>
                  <a:pt x="0" y="0"/>
                </a:moveTo>
                <a:lnTo>
                  <a:pt x="630" y="474"/>
                </a:lnTo>
              </a:path>
            </a:pathLst>
          </a:custGeom>
          <a:noFill/>
          <a:ln cap="rnd" w="25560">
            <a:solidFill>
              <a:srgbClr val="ffffcc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762120" y="3581280"/>
            <a:ext cx="4884480" cy="1136880"/>
            <a:chOff x="762120" y="3581280"/>
            <a:chExt cx="4884480" cy="1136880"/>
          </a:xfrm>
        </p:grpSpPr>
        <p:grpSp>
          <p:nvGrpSpPr>
            <p:cNvPr id="64" name="Group 7"/>
            <p:cNvGrpSpPr/>
            <p:nvPr/>
          </p:nvGrpSpPr>
          <p:grpSpPr>
            <a:xfrm>
              <a:off x="762120" y="3581280"/>
              <a:ext cx="3873240" cy="1136880"/>
              <a:chOff x="762120" y="3581280"/>
              <a:chExt cx="3873240" cy="1136880"/>
            </a:xfrm>
          </p:grpSpPr>
          <p:sp>
            <p:nvSpPr>
              <p:cNvPr id="65" name="Freeform 8"/>
              <p:cNvSpPr/>
              <p:nvPr/>
            </p:nvSpPr>
            <p:spPr>
              <a:xfrm>
                <a:off x="2698920" y="3581280"/>
                <a:ext cx="1440" cy="6112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611280"/>
                  <a:gd name="textAreaBottom" fmla="*/ 611280 h 611280"/>
                </a:gdLst>
                <a:ahLst/>
                <a:rect l="textAreaLeft" t="textAreaTop" r="textAreaRight" b="textAreaBottom"/>
                <a:pathLst>
                  <a:path w="1" h="385">
                    <a:moveTo>
                      <a:pt x="0" y="0"/>
                    </a:moveTo>
                    <a:lnTo>
                      <a:pt x="0" y="384"/>
                    </a:lnTo>
                  </a:path>
                </a:pathLst>
              </a:custGeom>
              <a:noFill/>
              <a:ln cap="rnd" w="25560">
                <a:solidFill>
                  <a:srgbClr val="ffffcc"/>
                </a:solidFill>
                <a:round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" name="Rectangle 9"/>
              <p:cNvSpPr/>
              <p:nvPr/>
            </p:nvSpPr>
            <p:spPr>
              <a:xfrm>
                <a:off x="762120" y="4191120"/>
                <a:ext cx="3873240" cy="527040"/>
              </a:xfrm>
              <a:prstGeom prst="rect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5ce5"/>
                  </a:gs>
                </a:gsLst>
                <a:lin ang="5400000"/>
              </a:gra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cc"/>
                    </a:solidFill>
                    <a:latin typeface="Arial Rounded MT Bold"/>
                  </a:rPr>
                  <a:t>Problem Definition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7" name="Freeform 10"/>
            <p:cNvSpPr/>
            <p:nvPr/>
          </p:nvSpPr>
          <p:spPr>
            <a:xfrm>
              <a:off x="4645080" y="3917880"/>
              <a:ext cx="1001520" cy="538200"/>
            </a:xfrm>
            <a:custGeom>
              <a:avLst/>
              <a:gdLst>
                <a:gd name="textAreaLeft" fmla="*/ 0 w 1001520"/>
                <a:gd name="textAreaRight" fmla="*/ 1001880 w 10015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631" h="339">
                  <a:moveTo>
                    <a:pt x="630" y="0"/>
                  </a:moveTo>
                  <a:lnTo>
                    <a:pt x="0" y="338"/>
                  </a:lnTo>
                </a:path>
              </a:pathLst>
            </a:custGeom>
            <a:noFill/>
            <a:ln cap="rnd" w="25560">
              <a:solidFill>
                <a:srgbClr val="ffffcc"/>
              </a:solidFill>
              <a:round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8" name="Rectangle 11"/>
          <p:cNvSpPr/>
          <p:nvPr/>
        </p:nvSpPr>
        <p:spPr>
          <a:xfrm>
            <a:off x="1695960" y="127080"/>
            <a:ext cx="5805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Defining Problem Results 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lear Cut Research Objectiv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5645160" y="2514600"/>
            <a:ext cx="2806560" cy="2806560"/>
          </a:xfrm>
          <a:prstGeom prst="ellipse">
            <a:avLst/>
          </a:prstGeom>
          <a:solidFill>
            <a:srgbClr val="7f7d85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6126120" y="2963880"/>
            <a:ext cx="184464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Explorato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Resear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(Option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771480" y="2203560"/>
            <a:ext cx="3873600" cy="1377720"/>
            <a:chOff x="771480" y="2203560"/>
            <a:chExt cx="3873600" cy="1377720"/>
          </a:xfrm>
        </p:grpSpPr>
        <p:sp>
          <p:nvSpPr>
            <p:cNvPr id="72" name="Freeform 15"/>
            <p:cNvSpPr/>
            <p:nvPr/>
          </p:nvSpPr>
          <p:spPr>
            <a:xfrm>
              <a:off x="2708280" y="2203560"/>
              <a:ext cx="1440" cy="5475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1" h="345">
                  <a:moveTo>
                    <a:pt x="0" y="0"/>
                  </a:moveTo>
                  <a:lnTo>
                    <a:pt x="0" y="344"/>
                  </a:lnTo>
                </a:path>
              </a:pathLst>
            </a:custGeom>
            <a:noFill/>
            <a:ln cap="rnd" w="25560">
              <a:solidFill>
                <a:srgbClr val="ffffcc"/>
              </a:solidFill>
              <a:round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771480" y="2749680"/>
              <a:ext cx="3873600" cy="8316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5c89e5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 Rounded MT Bold"/>
                </a:rPr>
                <a:t>Analysis of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 Rounded MT Bold"/>
                </a:rPr>
                <a:t>the Situatio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4" name="Rectangle 17"/>
          <p:cNvSpPr/>
          <p:nvPr/>
        </p:nvSpPr>
        <p:spPr>
          <a:xfrm>
            <a:off x="771480" y="1676520"/>
            <a:ext cx="3873600" cy="5270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8989e5"/>
              </a:gs>
            </a:gsLst>
            <a:lin ang="5400000"/>
          </a:gra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870120" y="1728720"/>
            <a:ext cx="3676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Rounded MT Bold"/>
              </a:rPr>
              <a:t>Symptom Det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2"/>
          <p:cNvSpPr/>
          <p:nvPr/>
        </p:nvSpPr>
        <p:spPr>
          <a:xfrm>
            <a:off x="2476440" y="2819520"/>
            <a:ext cx="1800" cy="534960"/>
          </a:xfrm>
          <a:custGeom>
            <a:avLst/>
            <a:gdLst>
              <a:gd name="textAreaLeft" fmla="*/ 0 w 1800"/>
              <a:gd name="textAreaRight" fmla="*/ 2160 w 180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2476440" y="4572000"/>
            <a:ext cx="1800" cy="534960"/>
          </a:xfrm>
          <a:custGeom>
            <a:avLst/>
            <a:gdLst>
              <a:gd name="textAreaLeft" fmla="*/ 0 w 1800"/>
              <a:gd name="textAreaRight" fmla="*/ 2160 w 180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Freeform 4"/>
          <p:cNvSpPr/>
          <p:nvPr/>
        </p:nvSpPr>
        <p:spPr>
          <a:xfrm>
            <a:off x="6210360" y="2819520"/>
            <a:ext cx="1440" cy="534960"/>
          </a:xfrm>
          <a:custGeom>
            <a:avLst/>
            <a:gdLst>
              <a:gd name="textAreaLeft" fmla="*/ 0 w 1440"/>
              <a:gd name="textAreaRight" fmla="*/ 1800 w 14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Freeform 5"/>
          <p:cNvSpPr/>
          <p:nvPr/>
        </p:nvSpPr>
        <p:spPr>
          <a:xfrm>
            <a:off x="6210360" y="4572000"/>
            <a:ext cx="1440" cy="534960"/>
          </a:xfrm>
          <a:custGeom>
            <a:avLst/>
            <a:gdLst>
              <a:gd name="textAreaLeft" fmla="*/ 0 w 1440"/>
              <a:gd name="textAreaRight" fmla="*/ 1800 w 14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Freeform 6"/>
          <p:cNvSpPr/>
          <p:nvPr/>
        </p:nvSpPr>
        <p:spPr>
          <a:xfrm>
            <a:off x="3733920" y="2209680"/>
            <a:ext cx="1220760" cy="350676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3506760"/>
              <a:gd name="textAreaBottom" fmla="*/ 3507120 h 3506760"/>
            </a:gdLst>
            <a:ahLst/>
            <a:rect l="textAreaLeft" t="textAreaTop" r="textAreaRight" b="textAreaBottom"/>
            <a:pathLst>
              <a:path w="769" h="2209">
                <a:moveTo>
                  <a:pt x="0" y="2208"/>
                </a:moveTo>
                <a:lnTo>
                  <a:pt x="384" y="2208"/>
                </a:lnTo>
                <a:lnTo>
                  <a:pt x="384" y="0"/>
                </a:lnTo>
                <a:lnTo>
                  <a:pt x="768" y="0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28600" y="152280"/>
            <a:ext cx="8610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Process of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blem Defin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1219320" y="1600200"/>
            <a:ext cx="2514600" cy="1219320"/>
            <a:chOff x="1219320" y="1600200"/>
            <a:chExt cx="2514600" cy="1219320"/>
          </a:xfrm>
        </p:grpSpPr>
        <p:sp>
          <p:nvSpPr>
            <p:cNvPr id="83" name="Rectangle 9"/>
            <p:cNvSpPr/>
            <p:nvPr/>
          </p:nvSpPr>
          <p:spPr>
            <a:xfrm>
              <a:off x="1219320" y="160020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>
              <a:off x="1298880" y="1676520"/>
              <a:ext cx="23810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Ascertain the decision maker’s objective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5" name="Group 11"/>
          <p:cNvGrpSpPr/>
          <p:nvPr/>
        </p:nvGrpSpPr>
        <p:grpSpPr>
          <a:xfrm>
            <a:off x="1219320" y="3352680"/>
            <a:ext cx="2514600" cy="1219320"/>
            <a:chOff x="1219320" y="3352680"/>
            <a:chExt cx="2514600" cy="1219320"/>
          </a:xfrm>
        </p:grpSpPr>
        <p:sp>
          <p:nvSpPr>
            <p:cNvPr id="86" name="Rectangle 12"/>
            <p:cNvSpPr/>
            <p:nvPr/>
          </p:nvSpPr>
          <p:spPr>
            <a:xfrm>
              <a:off x="1219320" y="335268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" name="Rectangle 13"/>
            <p:cNvSpPr/>
            <p:nvPr/>
          </p:nvSpPr>
          <p:spPr>
            <a:xfrm>
              <a:off x="1298880" y="3429000"/>
              <a:ext cx="23810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Understand background of the problem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8" name="Group 14"/>
          <p:cNvGrpSpPr/>
          <p:nvPr/>
        </p:nvGrpSpPr>
        <p:grpSpPr>
          <a:xfrm>
            <a:off x="1219320" y="5105520"/>
            <a:ext cx="2514600" cy="1218960"/>
            <a:chOff x="1219320" y="5105520"/>
            <a:chExt cx="2514600" cy="1218960"/>
          </a:xfrm>
        </p:grpSpPr>
        <p:sp>
          <p:nvSpPr>
            <p:cNvPr id="89" name="Rectangle 15"/>
            <p:cNvSpPr/>
            <p:nvPr/>
          </p:nvSpPr>
          <p:spPr>
            <a:xfrm>
              <a:off x="1219320" y="5105520"/>
              <a:ext cx="2514600" cy="12189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1298880" y="5181480"/>
              <a:ext cx="23810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Isolate/identify the problem, not the symptom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1" name="Group 17"/>
          <p:cNvGrpSpPr/>
          <p:nvPr/>
        </p:nvGrpSpPr>
        <p:grpSpPr>
          <a:xfrm>
            <a:off x="4952880" y="1600200"/>
            <a:ext cx="2895480" cy="1219320"/>
            <a:chOff x="4952880" y="1600200"/>
            <a:chExt cx="2895480" cy="1219320"/>
          </a:xfrm>
        </p:grpSpPr>
        <p:sp>
          <p:nvSpPr>
            <p:cNvPr id="92" name="Rectangle 18"/>
            <p:cNvSpPr/>
            <p:nvPr/>
          </p:nvSpPr>
          <p:spPr>
            <a:xfrm>
              <a:off x="4952880" y="1600200"/>
              <a:ext cx="27432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" name="Rectangle 19"/>
            <p:cNvSpPr/>
            <p:nvPr/>
          </p:nvSpPr>
          <p:spPr>
            <a:xfrm>
              <a:off x="5032080" y="1676520"/>
              <a:ext cx="2816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Determine research</a:t>
              </a:r>
              <a:r>
                <a:rPr b="0" lang="tr-TR" sz="2000" spc="-1" strike="noStrike">
                  <a:solidFill>
                    <a:srgbClr val="ffffcc"/>
                  </a:solidFill>
                  <a:latin typeface="Arial Rounded MT Bold"/>
                </a:rPr>
                <a:t> </a:t>
              </a: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objective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4" name="Group 20"/>
          <p:cNvGrpSpPr/>
          <p:nvPr/>
        </p:nvGrpSpPr>
        <p:grpSpPr>
          <a:xfrm>
            <a:off x="4952880" y="3352680"/>
            <a:ext cx="2742840" cy="1219320"/>
            <a:chOff x="4952880" y="3352680"/>
            <a:chExt cx="2742840" cy="1219320"/>
          </a:xfrm>
        </p:grpSpPr>
        <p:sp>
          <p:nvSpPr>
            <p:cNvPr id="95" name="Rectangle 21"/>
            <p:cNvSpPr/>
            <p:nvPr/>
          </p:nvSpPr>
          <p:spPr>
            <a:xfrm>
              <a:off x="4952880" y="3352680"/>
              <a:ext cx="274284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Rectangle 22"/>
            <p:cNvSpPr/>
            <p:nvPr/>
          </p:nvSpPr>
          <p:spPr>
            <a:xfrm>
              <a:off x="5038920" y="3429000"/>
              <a:ext cx="2597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7" name="Group 23"/>
          <p:cNvGrpSpPr/>
          <p:nvPr/>
        </p:nvGrpSpPr>
        <p:grpSpPr>
          <a:xfrm>
            <a:off x="4952880" y="5105520"/>
            <a:ext cx="2819160" cy="1218960"/>
            <a:chOff x="4952880" y="5105520"/>
            <a:chExt cx="2819160" cy="1218960"/>
          </a:xfrm>
        </p:grpSpPr>
        <p:sp>
          <p:nvSpPr>
            <p:cNvPr id="98" name="Rectangle 24"/>
            <p:cNvSpPr/>
            <p:nvPr/>
          </p:nvSpPr>
          <p:spPr>
            <a:xfrm>
              <a:off x="4952880" y="5105520"/>
              <a:ext cx="2819160" cy="12189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Rectangle 25"/>
            <p:cNvSpPr/>
            <p:nvPr/>
          </p:nvSpPr>
          <p:spPr>
            <a:xfrm>
              <a:off x="5041440" y="5156280"/>
              <a:ext cx="267012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Determine relevant variables</a:t>
              </a:r>
              <a:r>
                <a:rPr b="0" lang="tr-TR" sz="2000" spc="-1" strike="noStrike">
                  <a:solidFill>
                    <a:srgbClr val="ffffcc"/>
                  </a:solidFill>
                  <a:latin typeface="Arial Rounded MT Bold"/>
                </a:rPr>
                <a:t> and s</a:t>
              </a: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tate </a:t>
              </a:r>
              <a:r>
                <a:rPr b="0" lang="tr-TR" sz="2000" spc="-1" strike="noStrike">
                  <a:solidFill>
                    <a:srgbClr val="ffffcc"/>
                  </a:solidFill>
                  <a:latin typeface="Arial Rounded MT Bold"/>
                </a:rPr>
                <a:t>hypothese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0" name="Rectangle 19"/>
          <p:cNvSpPr/>
          <p:nvPr/>
        </p:nvSpPr>
        <p:spPr>
          <a:xfrm>
            <a:off x="4952880" y="3479760"/>
            <a:ext cx="2816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Determine </a:t>
            </a:r>
            <a:r>
              <a:rPr b="0" lang="tr-TR" sz="2000" spc="-1" strike="noStrike">
                <a:solidFill>
                  <a:srgbClr val="ffffcc"/>
                </a:solidFill>
                <a:latin typeface="Arial Rounded MT Bold"/>
              </a:rPr>
              <a:t>the </a:t>
            </a: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unit of analys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Slayt Numarası Yer Tutucusu"/>
          <p:cNvSpPr/>
          <p:nvPr/>
        </p:nvSpPr>
        <p:spPr>
          <a:xfrm>
            <a:off x="68580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AA9C-3CCF-4B5D-858C-43D50E7EB43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3.1. </a:t>
            </a: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Ascertain the Decision Maker’s Objectives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agerial objectives should be expressed in measurable terms; however, line managers seldom clearly articulate their problems to the research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ers should try to understand the problems by interviewing the related managers and collect information from other sourc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AF2E-2F48-4A6F-880B-0E74A14AE36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3.2. </a:t>
            </a: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Understand the Background of the Problem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tuation analysi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informal gathering of background information to familiarize researchers or managers with the decision are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Iceberg Principl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dangerous part of many business problems is neither visible to nor understood by  manag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Soad</cp:lastModifiedBy>
  <dcterms:modified xsi:type="dcterms:W3CDTF">2016-10-16T16:46:12Z</dcterms:modified>
  <cp:revision>373</cp:revision>
  <dc:subject>Chapter 1</dc:subject>
  <dc:title>Business Research Methods  William G. Zikmund</dc:title>
</cp:coreProperties>
</file>