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C9D1-C619-47A6-9DA4-2430B2914D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223C-C11F-4D78-AA0A-FED70EF26D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ACFD-651D-4E85-8219-6612414CEE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4B23-534E-4D45-BBF5-2A0CFF439F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EAFC-D5EF-480B-9CCE-2C0A8F196C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3C65-25BB-4EDB-A98B-4105C0A4A2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4945-9C66-40AC-A7B4-6059EBB0FD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E492-4597-4B3B-83C6-E7CE1DAD78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48EA-BBDC-4974-92EB-38271E03B0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3276-497A-4D40-B5FC-14B30C651A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BEBB-6108-4C31-8496-92F8A1FCE2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1893-0F4A-4D36-B08F-93D1B6BFF5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61FE-2564-4CD2-BD9A-D22061C2A2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D735-66DE-4EBE-BBEA-37C28E2353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8463-3206-49DC-BB60-931BD6C255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8E60-DA27-465C-BCDF-9419ADF06B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A5FF-5829-4542-9B45-A327E2B61B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72D8-E506-4CDF-AAFE-C27A4483AB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7EE6-5C4B-491A-B772-B2B22B1456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2C7B-86C2-4DF6-9D2F-87D37C850C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6E45-892A-410C-86D0-830D9E8F35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1A4A-8010-4EBC-A1DB-927DF3D8E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9347-E097-49E7-B5A1-E4383AE1D0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8DED-3DD3-4DEF-9C98-74B6C2E57B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30CF-DAB2-44F2-B11A-0DA3BAA7ED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3A61-7D74-491F-A47C-26490B35F2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C3EE-0D6B-421B-AACD-02129CBAEA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3295-7662-431C-90BB-66186C6366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511B-D4D7-425A-9BD0-CB50BAF14F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8BB5-99E9-4DEF-8C66-EB63B55C79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6C57-6966-45DC-9F3D-836FED616C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CA2A-3BA6-4A84-9490-3C8670EE29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C6A3-E9D5-4DDE-8EA0-926DDCEB8D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4C83-FF67-4F75-AFA9-665087D8CB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2509-9B54-4B47-85EA-4EA7BAE13C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3EA6-491E-4210-9A2B-CB294BA5D2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86FE-ADC7-4A6F-B90C-7AD6AEB203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11AB-E1A9-427F-84CE-AC04C72285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E849-E661-4FDE-9CB0-36E4EFB418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4C98-B39B-41A5-A8B1-1DF7E2FC62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BF17-43B6-4C32-8C37-1290F3E0FB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8192-29E2-458B-B84D-E2C49D4FD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B616-BAF8-438E-B201-B01A6DCCFE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2D82-522A-41CB-AC2D-0AADDAB5CD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CE1A-67B1-4453-B481-D09377E8F5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4729-C784-402A-8F85-95AC122B12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5BFA-F42B-4826-AD5F-8F3C4BDF1E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382D-2779-483D-AD45-2D4BE943F6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26D3-01FD-46C9-AD9E-CEBA7796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4E86-69F5-4C43-8311-99FA3903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AF14-00EC-4DED-B017-D33CC93C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7E68-C095-43BE-A14D-4AD6F08D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5448-6979-45BE-BAE2-CC82C16B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18E2C-453E-49AD-B8B8-95167A9F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0715-8D83-4033-AC84-6741790A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BC3F-63BB-44D4-B77F-F83AAD3F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63F5-34C1-4AD6-9678-671927F7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17BC-94A7-458B-8614-CB41964C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7BE4-C887-4C57-A50D-441E120C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BD97-D8AE-4F76-99DF-EB4E42CB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6571-EC02-4B3C-85F8-C54109CEB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999920" y="5807160"/>
              <a:ext cx="91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lectronic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Structure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of Atoms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6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Electronic Structure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of Atoms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; H. Eugene LeMay, Jr.;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d Bruce E. Burste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ohn D. Bookstaver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t. Charles Community Colleg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ttleville, MO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magnetic Radi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electromagnetic radiation travels at the same velocity:  the speed of light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3.00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/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0" name="Picture 5" descr="06_04"/>
          <p:cNvPicPr/>
          <p:nvPr/>
        </p:nvPicPr>
        <p:blipFill>
          <a:blip r:embed="rId1"/>
          <a:srcRect l="0" t="0" r="0" b="3847"/>
          <a:stretch/>
        </p:blipFill>
        <p:spPr>
          <a:xfrm>
            <a:off x="4114800" y="1600200"/>
            <a:ext cx="502920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nature of light does not explain how an object can glow when its temperature in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ax Planck explained it by assuming that energy comes in packets called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quant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4" name="Picture 5" descr="06_05"/>
          <p:cNvPicPr/>
          <p:nvPr/>
        </p:nvPicPr>
        <p:blipFill>
          <a:blip r:embed="rId1"/>
          <a:srcRect l="0" t="0" r="0" b="3701"/>
          <a:stretch/>
        </p:blipFill>
        <p:spPr>
          <a:xfrm>
            <a:off x="519120" y="1981080"/>
            <a:ext cx="36561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instein used this assumption to explain the photoelectric effe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 concluded that energy is proportional to frequenc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Planck’s constant, 6.626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3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-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8" name="Picture 5" descr="06_07ab"/>
          <p:cNvPicPr/>
          <p:nvPr/>
        </p:nvPicPr>
        <p:blipFill>
          <a:blip r:embed="rId1"/>
          <a:srcRect l="0" t="0" r="0" b="8340"/>
          <a:stretch/>
        </p:blipFill>
        <p:spPr>
          <a:xfrm>
            <a:off x="4876920" y="2365200"/>
            <a:ext cx="40384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one knows the wavelength of light, one can calculate the energy in one photon, or packet, of that light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2" name="Picture 5" descr="06_09"/>
          <p:cNvPicPr/>
          <p:nvPr/>
        </p:nvPicPr>
        <p:blipFill>
          <a:blip r:embed="rId1"/>
          <a:srcRect l="0" t="0" r="0" b="3704"/>
          <a:stretch/>
        </p:blipFill>
        <p:spPr>
          <a:xfrm>
            <a:off x="5105520" y="1600200"/>
            <a:ext cx="29304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other mystery in the early 20th century involved the emission spectra observed from energy emitted by atoms and molecu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6" name="Picture 5" descr="06_11b"/>
          <p:cNvPicPr/>
          <p:nvPr/>
        </p:nvPicPr>
        <p:blipFill>
          <a:blip r:embed="rId1"/>
          <a:srcRect l="0" t="0" r="0" b="3706"/>
          <a:stretch/>
        </p:blipFill>
        <p:spPr>
          <a:xfrm>
            <a:off x="457200" y="1828800"/>
            <a:ext cx="323856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toms and molecules one does not observe a continuous spectrum, as one gets from a white light sour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ly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ine spectru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discrete wavelengths is observ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0" name="Picture 6" descr="06_10"/>
          <p:cNvPicPr/>
          <p:nvPr/>
        </p:nvPicPr>
        <p:blipFill>
          <a:blip r:embed="rId1"/>
          <a:srcRect l="0" t="0" r="0" b="3853"/>
          <a:stretch/>
        </p:blipFill>
        <p:spPr>
          <a:xfrm>
            <a:off x="4952880" y="1781280"/>
            <a:ext cx="3048120" cy="242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6_12abedit"/>
          <p:cNvPicPr/>
          <p:nvPr/>
        </p:nvPicPr>
        <p:blipFill>
          <a:blip r:embed="rId2"/>
          <a:stretch/>
        </p:blipFill>
        <p:spPr>
          <a:xfrm>
            <a:off x="4648320" y="4336920"/>
            <a:ext cx="4190760" cy="140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an atom can only occupy certain orbits (corresponding to certain energies)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5" name="Picture 5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permitted orbits have specific, “allowed” energies; these energies will not be radiated from the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9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80920" y="198072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nergy is only absorbed or emitted in such a way as to move an electron from one “allowed” energy state to another; the energy is defined by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3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52680" y="1752120"/>
            <a:ext cx="5639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energy absorbed or emitted from the process of electron promotion or demotion can be calculated by the equatio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7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21"/>
          <p:cNvGrpSpPr/>
          <p:nvPr/>
        </p:nvGrpSpPr>
        <p:grpSpPr>
          <a:xfrm>
            <a:off x="4061880" y="3444840"/>
            <a:ext cx="3483360" cy="875880"/>
            <a:chOff x="4061880" y="3444840"/>
            <a:chExt cx="3483360" cy="875880"/>
          </a:xfrm>
        </p:grpSpPr>
        <p:sp>
          <p:nvSpPr>
            <p:cNvPr id="139" name="Rectangle 5"/>
            <p:cNvSpPr/>
            <p:nvPr/>
          </p:nvSpPr>
          <p:spPr>
            <a:xfrm>
              <a:off x="4061880" y="3611520"/>
              <a:ext cx="175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5608800" y="3470400"/>
              <a:ext cx="193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(          )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5851800" y="3444840"/>
              <a:ext cx="497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i="1" lang="en-US" sz="2400" spc="-1" strike="noStrike" baseline="-25000">
                  <a:solidFill>
                    <a:srgbClr val="c82e32"/>
                  </a:solidFill>
                  <a:latin typeface="Arial"/>
                </a:rPr>
                <a:t>f</a:t>
              </a:r>
              <a:r>
                <a:rPr b="0" i="1" lang="en-US" sz="24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891040" y="3867120"/>
              <a:ext cx="4194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43" name="Group 13"/>
            <p:cNvGrpSpPr/>
            <p:nvPr/>
          </p:nvGrpSpPr>
          <p:grpSpPr>
            <a:xfrm>
              <a:off x="6797880" y="3444840"/>
              <a:ext cx="488520" cy="875880"/>
              <a:chOff x="6797880" y="3444840"/>
              <a:chExt cx="488520" cy="875880"/>
            </a:xfrm>
          </p:grpSpPr>
          <p:sp>
            <p:nvSpPr>
              <p:cNvPr id="144" name="Rectangle 14"/>
              <p:cNvSpPr/>
              <p:nvPr/>
            </p:nvSpPr>
            <p:spPr>
              <a:xfrm>
                <a:off x="6797880" y="3444840"/>
                <a:ext cx="4885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i</a:t>
                </a:r>
                <a:r>
                  <a:rPr b="0" i="1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45" name="Line 15"/>
              <p:cNvSpPr/>
              <p:nvPr/>
            </p:nvSpPr>
            <p:spPr>
              <a:xfrm>
                <a:off x="6832440" y="3867120"/>
                <a:ext cx="418680" cy="0"/>
              </a:xfrm>
              <a:prstGeom prst="line">
                <a:avLst/>
              </a:prstGeom>
              <a:ln w="2556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6"/>
            <p:cNvSpPr/>
            <p:nvPr/>
          </p:nvSpPr>
          <p:spPr>
            <a:xfrm>
              <a:off x="6438960" y="35751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147" name="Rectangle 20"/>
          <p:cNvSpPr/>
          <p:nvPr/>
        </p:nvSpPr>
        <p:spPr>
          <a:xfrm>
            <a:off x="3352680" y="4371840"/>
            <a:ext cx="54864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Rydberg constant, 2.1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,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initial and final energy levels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ther 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rotons were discovered by Rutherford in 1919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eutrons were discovered by James Chadwick in 1932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Wave Nature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uis de Broglie posited that if light can have material properties, matter should exhibit wave propert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e demonstrated that the relationship between mass and wavelength wa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3806280" y="4648320"/>
            <a:ext cx="1530360" cy="1068840"/>
            <a:chOff x="3806280" y="4648320"/>
            <a:chExt cx="1530360" cy="1068840"/>
          </a:xfrm>
        </p:grpSpPr>
        <p:sp>
          <p:nvSpPr>
            <p:cNvPr id="152" name="Rectangle 4"/>
            <p:cNvSpPr/>
            <p:nvPr/>
          </p:nvSpPr>
          <p:spPr>
            <a:xfrm>
              <a:off x="3806280" y="4943520"/>
              <a:ext cx="7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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53" name="Group 7"/>
            <p:cNvGrpSpPr/>
            <p:nvPr/>
          </p:nvGrpSpPr>
          <p:grpSpPr>
            <a:xfrm>
              <a:off x="4574880" y="4648320"/>
              <a:ext cx="761760" cy="1068840"/>
              <a:chOff x="4574880" y="4648320"/>
              <a:chExt cx="761760" cy="1068840"/>
            </a:xfrm>
          </p:grpSpPr>
          <p:sp>
            <p:nvSpPr>
              <p:cNvPr id="154" name="Rectangle 5"/>
              <p:cNvSpPr/>
              <p:nvPr/>
            </p:nvSpPr>
            <p:spPr>
              <a:xfrm>
                <a:off x="4580640" y="4648320"/>
                <a:ext cx="7232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mv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55" name="Line 6"/>
              <p:cNvSpPr/>
              <p:nvPr/>
            </p:nvSpPr>
            <p:spPr>
              <a:xfrm>
                <a:off x="4574880" y="5213520"/>
                <a:ext cx="7617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Uncertainty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isenberg showed that the more precisely the momentum of a particle is known, the less precisely is its position know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many cases, our uncertainty of the whereabouts of an electron is greater than the size of the atom itself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2886120" y="3378240"/>
            <a:ext cx="3335400" cy="1068840"/>
            <a:chOff x="2886120" y="3378240"/>
            <a:chExt cx="3335400" cy="1068840"/>
          </a:xfrm>
        </p:grpSpPr>
        <p:sp>
          <p:nvSpPr>
            <p:cNvPr id="160" name="Rectangle 4"/>
            <p:cNvSpPr/>
            <p:nvPr/>
          </p:nvSpPr>
          <p:spPr>
            <a:xfrm>
              <a:off x="2886120" y="3594240"/>
              <a:ext cx="251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mv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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61" name="Group 7"/>
            <p:cNvGrpSpPr/>
            <p:nvPr/>
          </p:nvGrpSpPr>
          <p:grpSpPr>
            <a:xfrm>
              <a:off x="5591160" y="3378240"/>
              <a:ext cx="630360" cy="1068840"/>
              <a:chOff x="5591160" y="3378240"/>
              <a:chExt cx="630360" cy="1068840"/>
            </a:xfrm>
          </p:grpSpPr>
          <p:sp>
            <p:nvSpPr>
              <p:cNvPr id="162" name="Rectangle 5"/>
              <p:cNvSpPr/>
              <p:nvPr/>
            </p:nvSpPr>
            <p:spPr>
              <a:xfrm>
                <a:off x="5591160" y="3378240"/>
                <a:ext cx="630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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>
                <a:off x="5639040" y="3917880"/>
                <a:ext cx="5331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rwin Schrödinger developed a mathematical treatment into which both the wave and particle nature of matter could be incorporat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known as 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7" name="Picture 5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0" name="Picture 4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equation is designated with a lower case Greek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s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quare of the wave equation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gives a probability density map of where an electron has a certain statistical likelihood of being at any given instant in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Numb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lving the wave equation gives a set of wave functions, or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orbital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nd their corresponding energ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ach orbital describes a spatial distribution of electron densit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 orbital is described by a set of three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quantum number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incipal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principal quantum number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describes the energy level on which the orbital resid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≥ 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quantum number defines the shape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0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use letter designations to communicate the different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, therefore, the shapes and types of orbital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828800" y="2438280"/>
          <a:ext cx="5486400" cy="1143000"/>
        </p:xfrm>
        <a:graphic>
          <a:graphicData uri="http://schemas.openxmlformats.org/drawingml/2006/table">
            <a:tbl>
              <a:tblPr/>
              <a:tblGrid>
                <a:gridCol w="2851200"/>
                <a:gridCol w="644400"/>
                <a:gridCol w="646200"/>
                <a:gridCol w="698400"/>
                <a:gridCol w="6462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of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Type of orbita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magnetic quantum number describes the three-dimensional orientation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on any given energy level, there can be up to 1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, 3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5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7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et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rbitals with the sam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m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hel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orbital types within a shell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bshell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0" name="Picture 8" descr="06_T02"/>
          <p:cNvPicPr/>
          <p:nvPr/>
        </p:nvPicPr>
        <p:blipFill>
          <a:blip r:embed="rId1"/>
          <a:srcRect l="0" t="8891" r="0" b="8107"/>
          <a:stretch/>
        </p:blipFill>
        <p:spPr>
          <a:xfrm>
            <a:off x="1409760" y="3657600"/>
            <a:ext cx="632448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electrons are the only particles that have a charg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neutrons have essentially the same ma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electron is so small we ignore i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1" name="Picture 12" descr="02_T01"/>
          <p:cNvPicPr/>
          <p:nvPr/>
        </p:nvPicPr>
        <p:blipFill>
          <a:blip r:embed="rId1"/>
          <a:srcRect l="0" t="19230" r="0" b="11549"/>
          <a:stretch/>
        </p:blipFill>
        <p:spPr>
          <a:xfrm>
            <a:off x="1474920" y="4343400"/>
            <a:ext cx="61927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0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spherical in shap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adius of the sphere increases with 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4" name="Picture 5" descr="06_19"/>
          <p:cNvPicPr/>
          <p:nvPr/>
        </p:nvPicPr>
        <p:blipFill>
          <a:blip r:embed="rId1"/>
          <a:srcRect l="0" t="0" r="0" b="3700"/>
          <a:stretch/>
        </p:blipFill>
        <p:spPr>
          <a:xfrm>
            <a:off x="609480" y="1828800"/>
            <a:ext cx="2414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bserving a graph of probabilities of finding an electron versus distance from the nucleus, we see th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posses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−1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ode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or regions where there is 0 probability of finding an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8" name="Picture 6" descr="06_18"/>
          <p:cNvPicPr/>
          <p:nvPr/>
        </p:nvPicPr>
        <p:blipFill>
          <a:blip r:embed="rId1"/>
          <a:srcRect l="0" t="0" r="0" b="13131"/>
          <a:stretch/>
        </p:blipFill>
        <p:spPr>
          <a:xfrm>
            <a:off x="228600" y="1752480"/>
            <a:ext cx="4343400" cy="1670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06_21"/>
          <p:cNvPicPr/>
          <p:nvPr/>
        </p:nvPicPr>
        <p:blipFill>
          <a:blip r:embed="rId2"/>
          <a:srcRect l="0" t="0" r="0" b="7893"/>
          <a:stretch/>
        </p:blipFill>
        <p:spPr>
          <a:xfrm>
            <a:off x="0" y="3962520"/>
            <a:ext cx="4317840" cy="2503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0"/>
          <p:cNvSpPr/>
          <p:nvPr/>
        </p:nvSpPr>
        <p:spPr>
          <a:xfrm>
            <a:off x="1447920" y="64008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1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have two lobes with a node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4" name="Picture 7" descr="06_22"/>
          <p:cNvPicPr/>
          <p:nvPr/>
        </p:nvPicPr>
        <p:blipFill>
          <a:blip r:embed="rId1"/>
          <a:srcRect l="0" t="0" r="0" b="19228"/>
          <a:stretch/>
        </p:blipFill>
        <p:spPr>
          <a:xfrm>
            <a:off x="1201680" y="4114800"/>
            <a:ext cx="673596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86040" y="175212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is 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ur of the fiv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have 4 lobes; the other resembles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with a doughnut around the cen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8" name="Picture 5" descr="06_23"/>
          <p:cNvPicPr/>
          <p:nvPr/>
        </p:nvPicPr>
        <p:blipFill>
          <a:blip r:embed="rId1"/>
          <a:srcRect l="0" t="0" r="0" b="3562"/>
          <a:stretch/>
        </p:blipFill>
        <p:spPr>
          <a:xfrm>
            <a:off x="457200" y="1981080"/>
            <a:ext cx="4952880" cy="356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one-electron hydrogen atom, orbitals on the same energy level have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at is, they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2" name="Picture 5" descr="06_17"/>
          <p:cNvPicPr/>
          <p:nvPr/>
        </p:nvPicPr>
        <p:blipFill>
          <a:blip r:embed="rId1"/>
          <a:srcRect l="0" t="0" r="0" b="3701"/>
          <a:stretch/>
        </p:blipFill>
        <p:spPr>
          <a:xfrm>
            <a:off x="4981680" y="1981080"/>
            <a:ext cx="31417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electrons increases, though, so does the repulsion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n many-electron atoms, orbitals on the same energy level are no longer degene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6" name="Picture 5" descr="06_24"/>
          <p:cNvPicPr/>
          <p:nvPr/>
        </p:nvPicPr>
        <p:blipFill>
          <a:blip r:embed="rId1"/>
          <a:srcRect l="0" t="0" r="0" b="3702"/>
          <a:stretch/>
        </p:blipFill>
        <p:spPr>
          <a:xfrm>
            <a:off x="380880" y="1676520"/>
            <a:ext cx="38131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1920s, it was discovered that two electrons in the same orbital do not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“spin” of an electron describes its magnetic field, which affects its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0" name="Picture 8" descr="06_27"/>
          <p:cNvPicPr/>
          <p:nvPr/>
        </p:nvPicPr>
        <p:blipFill>
          <a:blip r:embed="rId1"/>
          <a:srcRect l="0" t="0" r="0" b="6621"/>
          <a:stretch/>
        </p:blipFill>
        <p:spPr>
          <a:xfrm>
            <a:off x="4648320" y="2484360"/>
            <a:ext cx="4267080" cy="262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led to a fourth quantum number, the spin quantum number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pin quantum number has only 2 allowed values:  +1/2 and −1/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4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uli Exclusion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 two electrons in the same atom can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no two electrons in the same atom can have identical sets of quantum numb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8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2" name="Picture 7" descr="COEFF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ymbols of Eleme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lements are symbolized by one or two lett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5" name="Picture 20" descr="02_12-01unsymbol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6" name="Picture 5" descr="ORBITAL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superscript denoting the number of electrons in those orbitals.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0" name="Picture 5" descr="superscript"/>
          <p:cNvPicPr/>
          <p:nvPr/>
        </p:nvPicPr>
        <p:blipFill>
          <a:blip r:embed="rId1"/>
          <a:srcRect l="14000" t="28000" r="63008" b="54000"/>
          <a:stretch/>
        </p:blipFill>
        <p:spPr>
          <a:xfrm>
            <a:off x="1219320" y="3200400"/>
            <a:ext cx="11602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box in the diagram represents one orbit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lf-arrows represent th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rection of the arrow represents the relative spin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4" name="Picture 5" descr="06_28-01UN"/>
          <p:cNvPicPr/>
          <p:nvPr/>
        </p:nvPicPr>
        <p:blipFill>
          <a:blip r:embed="rId1"/>
          <a:srcRect l="0" t="0" r="0" b="6447"/>
          <a:stretch/>
        </p:blipFill>
        <p:spPr>
          <a:xfrm>
            <a:off x="5029200" y="2438280"/>
            <a:ext cx="2895480" cy="13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und’s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degenerate orbitals, the lowest energy is attained when the number of electrons with the same spin is maximized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8" name="Picture 5" descr="06_28-05UN"/>
          <p:cNvPicPr/>
          <p:nvPr/>
        </p:nvPicPr>
        <p:blipFill>
          <a:blip r:embed="rId1"/>
          <a:srcRect l="0" t="0" r="0" b="11102"/>
          <a:stretch/>
        </p:blipFill>
        <p:spPr>
          <a:xfrm>
            <a:off x="685800" y="3351240"/>
            <a:ext cx="380988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fill orbitals in increasing order of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blocks on the periodic table (shaded in different colors in this chart) correspond to different types of orbital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2" name="Picture 5" descr="06_29"/>
          <p:cNvPicPr/>
          <p:nvPr/>
        </p:nvPicPr>
        <p:blipFill>
          <a:blip r:embed="rId1"/>
          <a:srcRect l="0" t="0" r="0" b="3739"/>
          <a:stretch/>
        </p:blipFill>
        <p:spPr>
          <a:xfrm>
            <a:off x="4648320" y="2638440"/>
            <a:ext cx="3809880" cy="26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me irregularities occur when there are enough electrons to half-fil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on a given r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6" name="Picture 10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instance, the electron configuration for copper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her than the expected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0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occurs because the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are very close in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nomalies occur i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block atoms, as well.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4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Numb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atoms of the same element have the same number of protons: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atomic number (Z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9" name="Picture 11" descr="02_12-01unatomic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Ma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atom in atomic mass units (amu) is the total number of protons and neutrons in th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3" name="Picture 12" descr="02_12-01unmass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676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are atoms of the same element with different mas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have different numbers of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7" name="Group 19"/>
          <p:cNvGrpSpPr/>
          <p:nvPr/>
        </p:nvGrpSpPr>
        <p:grpSpPr>
          <a:xfrm>
            <a:off x="772200" y="3429000"/>
            <a:ext cx="1298880" cy="1312920"/>
            <a:chOff x="772200" y="3429000"/>
            <a:chExt cx="1298880" cy="1312920"/>
          </a:xfrm>
        </p:grpSpPr>
        <p:sp>
          <p:nvSpPr>
            <p:cNvPr id="78" name="Rectangle 17"/>
            <p:cNvSpPr/>
            <p:nvPr/>
          </p:nvSpPr>
          <p:spPr>
            <a:xfrm>
              <a:off x="77220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134028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0" name="Group 20"/>
          <p:cNvGrpSpPr/>
          <p:nvPr/>
        </p:nvGrpSpPr>
        <p:grpSpPr>
          <a:xfrm>
            <a:off x="2651760" y="3429000"/>
            <a:ext cx="1298880" cy="1312920"/>
            <a:chOff x="2651760" y="3429000"/>
            <a:chExt cx="1298880" cy="1312920"/>
          </a:xfrm>
        </p:grpSpPr>
        <p:sp>
          <p:nvSpPr>
            <p:cNvPr id="81" name="Rectangle 21"/>
            <p:cNvSpPr/>
            <p:nvPr/>
          </p:nvSpPr>
          <p:spPr>
            <a:xfrm>
              <a:off x="265176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2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321984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4531320" y="3429000"/>
            <a:ext cx="1298880" cy="1312920"/>
            <a:chOff x="4531320" y="3429000"/>
            <a:chExt cx="1298880" cy="1312920"/>
          </a:xfrm>
        </p:grpSpPr>
        <p:sp>
          <p:nvSpPr>
            <p:cNvPr id="84" name="Rectangle 24"/>
            <p:cNvSpPr/>
            <p:nvPr/>
          </p:nvSpPr>
          <p:spPr>
            <a:xfrm>
              <a:off x="453132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3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5" name="Rectangle 25"/>
            <p:cNvSpPr/>
            <p:nvPr/>
          </p:nvSpPr>
          <p:spPr>
            <a:xfrm>
              <a:off x="509940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6410880" y="3429000"/>
            <a:ext cx="1298880" cy="1312920"/>
            <a:chOff x="6410880" y="3429000"/>
            <a:chExt cx="1298880" cy="1312920"/>
          </a:xfrm>
        </p:grpSpPr>
        <p:sp>
          <p:nvSpPr>
            <p:cNvPr id="87" name="Rectangle 27"/>
            <p:cNvSpPr/>
            <p:nvPr/>
          </p:nvSpPr>
          <p:spPr>
            <a:xfrm>
              <a:off x="641088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4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697896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understand the electronic structure of atoms, one must understand the nature of electromagnetic rad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stance between corresponding points on adjacent waves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avelength 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2" name="Picture 5" descr="06_03a-c"/>
          <p:cNvPicPr/>
          <p:nvPr/>
        </p:nvPicPr>
        <p:blipFill>
          <a:blip r:embed="rId1"/>
          <a:srcRect l="0" t="0" r="73553" b="38460"/>
          <a:stretch/>
        </p:blipFill>
        <p:spPr>
          <a:xfrm>
            <a:off x="2933640" y="1752480"/>
            <a:ext cx="327672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waves passing a given point per unit of time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waves traveling at the same velocity, the longer the wavelength, the smaller the frequen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6" name="Picture 5" descr="06_04-01UNE6-1"/>
          <p:cNvPicPr/>
          <p:nvPr/>
        </p:nvPicPr>
        <p:blipFill>
          <a:blip r:embed="rId1"/>
          <a:srcRect l="0" t="0" r="0" b="5369"/>
          <a:stretch/>
        </p:blipFill>
        <p:spPr>
          <a:xfrm>
            <a:off x="380880" y="2928960"/>
            <a:ext cx="3810240" cy="21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1:01:38Z</dcterms:created>
  <dc:creator>John Bookstaver</dc:creator>
  <dc:description/>
  <dc:language>en-US</dc:language>
  <cp:lastModifiedBy>Asma</cp:lastModifiedBy>
  <dcterms:modified xsi:type="dcterms:W3CDTF">2017-09-20T11:09:02Z</dcterms:modified>
  <cp:revision>74</cp:revision>
  <dc:subject/>
  <dc:title>Chapter 6 Electronic Structure of Atoms</dc:title>
</cp:coreProperties>
</file>