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2589-19CD-4269-9414-9793C1AC59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9C10-2186-4EBC-A954-943D275681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F4B6-5363-4484-9A24-F5C536DB75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2761-604E-47BD-AE08-3C4A32C1CC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DB43-0350-470C-BDB8-25C70A8AE7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D8EE-450B-455D-A219-D931877AD3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2FF3-726A-4D04-A8BC-A9181980B9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867A-771E-4DBB-B5C6-19A838B13A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8FEA-BF29-496A-8100-7BAD60A645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313B-E212-42CF-B7E2-056FFA58E9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A5C4-3BA5-4049-9AE6-610F347548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1745-64CB-49DC-904C-ADF449113A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BBB5-A0D1-4A33-88DA-E6FD27B712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8DFA-F1A3-4D1F-A8DF-4F0266BB3A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9118-A374-4755-BD64-3A04579579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9161-702E-4612-9971-A53E620177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E137-0F23-484B-B31D-EB919FE3FD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36CD-F19F-4B58-9633-B8B5D22DB0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1304-A84B-4465-BD01-0E4BC00AAE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EB09-552D-4EB4-BA31-31EFB43A3E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1397-9754-4F6C-89F8-B3400E5FC1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5881-7756-4ACB-80F3-0953701079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04D1-C4DB-44EC-8C16-6FB1265EA2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F60D-F36D-4C24-B8BD-2A07062FD2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able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05E2-FBF9-4F41-84CB-DC10EDC2DA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03D3-AE98-4D0D-9EAD-D37A677C74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0A2F-0732-463D-8D35-7D3A22BA2A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D556-2120-4000-841B-F47D1A0718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9CF1-308F-43A3-94C4-C2C5252757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205D-6F55-42D5-BA70-75991E0668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A9E9-7EBA-497B-B212-2932E91315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BA35-F2D0-416D-92B7-446C4EE184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7F1F-1162-43AA-8473-BC7F7AEA0F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717B-937D-4677-93F8-15EBD521AF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B801-1357-4D58-A348-E04FDD8FD1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CD7F-39B8-4B23-9A91-AD7C2A6566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C2B6-617C-4897-9EAE-80AFBE4A99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CDB7-F7B8-4220-8A14-87FAC23691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9490-E2E3-42D7-B6CA-BFCD5D4C1E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4E56-8373-44E6-BBA5-2FF01681F1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ED8F-883F-4F51-86CE-E80B2D4999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F733-E160-4E6B-B03C-1E7AED3BC2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9C80-1A87-40F4-87F4-AC52FEDB31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1E2C-AFEC-4511-B845-ACEABE6C5C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9CEB-5B38-41B6-9AB4-90368B34F3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49DF-5A00-46AE-8BE6-DBA6F6E436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AD16-6CFC-46F6-99F9-0E60640391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E066-D84D-4E2B-9CD7-7F031E3920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4F743-A5A0-4114-820A-1F8B0A28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9DF6E-CDB1-4C9D-AF9A-ADDA1063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F8809-21D6-4742-917F-2FFD3741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8E45E-654E-4DD6-BBE1-3D42401D7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5D36C-2A21-477C-A7B2-DF774E7C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1DEAC-5DA3-4457-BF98-BCB30407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2F4BB-0B2A-4A0D-91FD-7F770A8C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85564-7C00-48C7-85C4-7A5C91C4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1A614-1BDB-4BE5-8C1D-F268D2BB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9A5F4-C2FC-4A26-970F-9423FA6A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4B774-8D37-481E-BB44-6E0DC067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E3330-FD46-4B96-9EA8-897D4728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18F8-43A8-4F5F-9308-B441277C8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4" name="Group 9"/>
          <p:cNvGrpSpPr/>
          <p:nvPr/>
        </p:nvGrpSpPr>
        <p:grpSpPr>
          <a:xfrm>
            <a:off x="7772400" y="5486400"/>
            <a:ext cx="1371600" cy="1371600"/>
            <a:chOff x="7772400" y="5486400"/>
            <a:chExt cx="1371600" cy="1371600"/>
          </a:xfrm>
        </p:grpSpPr>
        <p:pic>
          <p:nvPicPr>
            <p:cNvPr id="5" name="Picture 7" descr="spine icon"/>
            <p:cNvPicPr/>
            <p:nvPr/>
          </p:nvPicPr>
          <p:blipFill>
            <a:blip r:embed="rId2"/>
            <a:stretch/>
          </p:blipFill>
          <p:spPr>
            <a:xfrm>
              <a:off x="7772400" y="54864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Rectangle 8"/>
            <p:cNvSpPr/>
            <p:nvPr/>
          </p:nvSpPr>
          <p:spPr>
            <a:xfrm>
              <a:off x="7999920" y="5807160"/>
              <a:ext cx="916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Electronic</a:t>
              </a:r>
              <a:endParaRPr b="0" lang="en-US" sz="1400" spc="-1" strike="noStrike">
                <a:solidFill>
                  <a:srgbClr val="c82e32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Structure</a:t>
              </a:r>
              <a:endParaRPr b="0" lang="en-US" sz="1400" spc="-1" strike="noStrike">
                <a:solidFill>
                  <a:srgbClr val="c82e32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of Atoms</a:t>
              </a:r>
              <a:endParaRPr b="0" lang="en-US" sz="1400" spc="-1" strike="noStrike">
                <a:solidFill>
                  <a:srgbClr val="c82e32"/>
                </a:solidFill>
                <a:latin typeface="Arial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7543440" y="662904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c82e3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Chapter 6</a:t>
            </a:r>
            <a:br>
              <a:rPr sz="6000"/>
            </a:b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Electronic Structure</a:t>
            </a:r>
            <a:br>
              <a:rPr sz="6000"/>
            </a:b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of Atoms</a:t>
            </a:r>
            <a:endParaRPr b="0" lang="en-US" sz="6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0" y="76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Chemistry, The Central Science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, 11th edition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eodore L. Brown; H. Eugene LeMay, Jr.; 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and Bruce E. Bursten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76320" y="5486400"/>
            <a:ext cx="4495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John D. Bookstaver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St. Charles Community College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ottleville, MO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lectromagnetic Radia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3276360"/>
            <a:ext cx="41148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ll electromagnetic radiation travels at the same velocity:  the speed of light (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, 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3.00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m/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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00" name="Picture 5" descr="06_04"/>
          <p:cNvPicPr/>
          <p:nvPr/>
        </p:nvPicPr>
        <p:blipFill>
          <a:blip r:embed="rId1"/>
          <a:srcRect l="0" t="0" r="0" b="3847"/>
          <a:stretch/>
        </p:blipFill>
        <p:spPr>
          <a:xfrm>
            <a:off x="4114800" y="1600200"/>
            <a:ext cx="5029200" cy="2933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wave nature of light does not explain how an object can glow when its temperature increas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Max Planck explained it by assuming that energy comes in packets called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quanta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04" name="Picture 5" descr="06_05"/>
          <p:cNvPicPr/>
          <p:nvPr/>
        </p:nvPicPr>
        <p:blipFill>
          <a:blip r:embed="rId1"/>
          <a:srcRect l="0" t="0" r="0" b="3701"/>
          <a:stretch/>
        </p:blipFill>
        <p:spPr>
          <a:xfrm>
            <a:off x="519120" y="1981080"/>
            <a:ext cx="365616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4952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Einstein used this assumption to explain the photoelectric effec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e concluded that energy is proportional to frequency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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here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Planck’s constant, 6.626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−3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J-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08" name="Picture 5" descr="06_07ab"/>
          <p:cNvPicPr/>
          <p:nvPr/>
        </p:nvPicPr>
        <p:blipFill>
          <a:blip r:embed="rId1"/>
          <a:srcRect l="0" t="0" r="0" b="8340"/>
          <a:stretch/>
        </p:blipFill>
        <p:spPr>
          <a:xfrm>
            <a:off x="4876920" y="2365200"/>
            <a:ext cx="4038480" cy="2665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 if one knows the wavelength of light, one can calculate the energy in one photon, or packet, of that light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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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12" name="Picture 5" descr="06_09"/>
          <p:cNvPicPr/>
          <p:nvPr/>
        </p:nvPicPr>
        <p:blipFill>
          <a:blip r:embed="rId1"/>
          <a:srcRect l="0" t="0" r="0" b="3704"/>
          <a:stretch/>
        </p:blipFill>
        <p:spPr>
          <a:xfrm>
            <a:off x="5105520" y="1600200"/>
            <a:ext cx="2930400" cy="4343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nother mystery in the early 20th century involved the emission spectra observed from energy emitted by atoms and molecul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16" name="Picture 5" descr="06_11b"/>
          <p:cNvPicPr/>
          <p:nvPr/>
        </p:nvPicPr>
        <p:blipFill>
          <a:blip r:embed="rId1"/>
          <a:srcRect l="0" t="0" r="0" b="3706"/>
          <a:stretch/>
        </p:blipFill>
        <p:spPr>
          <a:xfrm>
            <a:off x="457200" y="1828800"/>
            <a:ext cx="323856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7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 atoms and molecules one does not observe a continuous spectrum, as one gets from a white light sourc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nly a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line spectrum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f discrete wavelengths is observe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20" name="Picture 6" descr="06_10"/>
          <p:cNvPicPr/>
          <p:nvPr/>
        </p:nvPicPr>
        <p:blipFill>
          <a:blip r:embed="rId1"/>
          <a:srcRect l="0" t="0" r="0" b="3853"/>
          <a:stretch/>
        </p:blipFill>
        <p:spPr>
          <a:xfrm>
            <a:off x="4952880" y="1781280"/>
            <a:ext cx="3048120" cy="2425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06_12abedit"/>
          <p:cNvPicPr/>
          <p:nvPr/>
        </p:nvPicPr>
        <p:blipFill>
          <a:blip r:embed="rId2"/>
          <a:stretch/>
        </p:blipFill>
        <p:spPr>
          <a:xfrm>
            <a:off x="4648320" y="4336920"/>
            <a:ext cx="4190760" cy="140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581280" y="198108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iels Bohr adopted Planck’s assumption and explained these phenomena in this way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82e3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Electrons in an atom can only occupy certain orbits (corresponding to certain energies)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25" name="Picture 5" descr="06_13"/>
          <p:cNvPicPr/>
          <p:nvPr/>
        </p:nvPicPr>
        <p:blipFill>
          <a:blip r:embed="rId1"/>
          <a:srcRect l="0" t="0" r="0" b="3707"/>
          <a:stretch/>
        </p:blipFill>
        <p:spPr>
          <a:xfrm>
            <a:off x="457200" y="1828800"/>
            <a:ext cx="278460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581280" y="198108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iels Bohr adopted Planck’s assumption and explained these phenomena in this way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82e32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Electrons in permitted orbits have specific, “allowed” energies; these energies will not be radiated from the atom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29" name="Picture 4" descr="06_13"/>
          <p:cNvPicPr/>
          <p:nvPr/>
        </p:nvPicPr>
        <p:blipFill>
          <a:blip r:embed="rId1"/>
          <a:srcRect l="0" t="0" r="0" b="3707"/>
          <a:stretch/>
        </p:blipFill>
        <p:spPr>
          <a:xfrm>
            <a:off x="457200" y="1828800"/>
            <a:ext cx="278460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580920" y="1980720"/>
            <a:ext cx="5410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iels Bohr adopted Planck’s assumption and explained these phenomena in this way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82e32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Energy is only absorbed or emitted in such a way as to move an electron from one “allowed” energy state to another; the energy is defined by 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9144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c82e32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33" name="Picture 4" descr="06_13"/>
          <p:cNvPicPr/>
          <p:nvPr/>
        </p:nvPicPr>
        <p:blipFill>
          <a:blip r:embed="rId1"/>
          <a:srcRect l="0" t="0" r="0" b="3707"/>
          <a:stretch/>
        </p:blipFill>
        <p:spPr>
          <a:xfrm>
            <a:off x="457200" y="1828800"/>
            <a:ext cx="278460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ature of Energ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352680" y="1752120"/>
            <a:ext cx="563904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energy absorbed or emitted from the process of electron promotion or demotion can be calculated by the equation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37" name="Picture 4" descr="06_13"/>
          <p:cNvPicPr/>
          <p:nvPr/>
        </p:nvPicPr>
        <p:blipFill>
          <a:blip r:embed="rId1"/>
          <a:srcRect l="0" t="0" r="0" b="3707"/>
          <a:stretch/>
        </p:blipFill>
        <p:spPr>
          <a:xfrm>
            <a:off x="457200" y="1828800"/>
            <a:ext cx="2784600" cy="472428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21"/>
          <p:cNvGrpSpPr/>
          <p:nvPr/>
        </p:nvGrpSpPr>
        <p:grpSpPr>
          <a:xfrm>
            <a:off x="4061880" y="3444840"/>
            <a:ext cx="3483360" cy="875880"/>
            <a:chOff x="4061880" y="3444840"/>
            <a:chExt cx="3483360" cy="875880"/>
          </a:xfrm>
        </p:grpSpPr>
        <p:sp>
          <p:nvSpPr>
            <p:cNvPr id="139" name="Rectangle 5"/>
            <p:cNvSpPr/>
            <p:nvPr/>
          </p:nvSpPr>
          <p:spPr>
            <a:xfrm>
              <a:off x="4061880" y="3611520"/>
              <a:ext cx="1750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</a:t>
              </a: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E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= 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i="1" lang="en-US" sz="2800" spc="-1" strike="noStrike">
                  <a:solidFill>
                    <a:srgbClr val="c82e32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c82e32"/>
                  </a:solidFill>
                  <a:latin typeface="Arial"/>
                </a:rPr>
                <a:t>H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c82e32"/>
                </a:solidFill>
                <a:latin typeface="Arial"/>
              </a:endParaRPr>
            </a:p>
          </p:txBody>
        </p:sp>
        <p:sp>
          <p:nvSpPr>
            <p:cNvPr id="140" name="Rectangle 10"/>
            <p:cNvSpPr/>
            <p:nvPr/>
          </p:nvSpPr>
          <p:spPr>
            <a:xfrm>
              <a:off x="5608800" y="3470400"/>
              <a:ext cx="1936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(          )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</p:txBody>
        </p:sp>
        <p:sp>
          <p:nvSpPr>
            <p:cNvPr id="141" name="Rectangle 7"/>
            <p:cNvSpPr/>
            <p:nvPr/>
          </p:nvSpPr>
          <p:spPr>
            <a:xfrm>
              <a:off x="5851800" y="3444840"/>
              <a:ext cx="4975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c82e32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c82e32"/>
                  </a:solidFill>
                  <a:latin typeface="Arial"/>
                </a:rPr>
                <a:t>n</a:t>
              </a:r>
              <a:r>
                <a:rPr b="0" i="1" lang="en-US" sz="2400" spc="-1" strike="noStrike" baseline="-25000">
                  <a:solidFill>
                    <a:srgbClr val="c82e32"/>
                  </a:solidFill>
                  <a:latin typeface="Arial"/>
                </a:rPr>
                <a:t>f</a:t>
              </a:r>
              <a:r>
                <a:rPr b="0" i="1" lang="en-US" sz="2400" spc="-1" strike="noStrike" baseline="30000">
                  <a:solidFill>
                    <a:srgbClr val="c82e32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c82e32"/>
                </a:solidFill>
                <a:latin typeface="Arial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5891040" y="3867120"/>
              <a:ext cx="419400" cy="0"/>
            </a:xfrm>
            <a:prstGeom prst="line">
              <a:avLst/>
            </a:prstGeom>
            <a:ln w="25560">
              <a:solidFill>
                <a:srgbClr val="c82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82e32"/>
                </a:solidFill>
                <a:latin typeface="Arial"/>
              </a:endParaRPr>
            </a:p>
          </p:txBody>
        </p:sp>
        <p:grpSp>
          <p:nvGrpSpPr>
            <p:cNvPr id="143" name="Group 13"/>
            <p:cNvGrpSpPr/>
            <p:nvPr/>
          </p:nvGrpSpPr>
          <p:grpSpPr>
            <a:xfrm>
              <a:off x="6797880" y="3444840"/>
              <a:ext cx="488520" cy="875880"/>
              <a:chOff x="6797880" y="3444840"/>
              <a:chExt cx="488520" cy="875880"/>
            </a:xfrm>
          </p:grpSpPr>
          <p:sp>
            <p:nvSpPr>
              <p:cNvPr id="144" name="Rectangle 14"/>
              <p:cNvSpPr/>
              <p:nvPr/>
            </p:nvSpPr>
            <p:spPr>
              <a:xfrm>
                <a:off x="6797880" y="3444840"/>
                <a:ext cx="488520" cy="87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c82e32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82e32"/>
                    </a:solidFill>
                    <a:latin typeface="Arial"/>
                  </a:rPr>
                  <a:t>n</a:t>
                </a:r>
                <a:r>
                  <a:rPr b="0" i="1" lang="en-US" sz="2400" spc="-1" strike="noStrike" baseline="-25000">
                    <a:solidFill>
                      <a:srgbClr val="c82e32"/>
                    </a:solidFill>
                    <a:latin typeface="Arial"/>
                  </a:rPr>
                  <a:t>i</a:t>
                </a:r>
                <a:r>
                  <a:rPr b="0" i="1" lang="en-US" sz="2400" spc="-1" strike="noStrike" baseline="30000">
                    <a:solidFill>
                      <a:srgbClr val="c82e32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c82e32"/>
                  </a:solidFill>
                  <a:latin typeface="Arial"/>
                </a:endParaRPr>
              </a:p>
            </p:txBody>
          </p:sp>
          <p:sp>
            <p:nvSpPr>
              <p:cNvPr id="145" name="Line 15"/>
              <p:cNvSpPr/>
              <p:nvPr/>
            </p:nvSpPr>
            <p:spPr>
              <a:xfrm>
                <a:off x="6832440" y="3867120"/>
                <a:ext cx="418680" cy="0"/>
              </a:xfrm>
              <a:prstGeom prst="line">
                <a:avLst/>
              </a:prstGeom>
              <a:ln w="2556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82e32"/>
                  </a:solidFill>
                  <a:latin typeface="Arial"/>
                </a:endParaRPr>
              </a:p>
            </p:txBody>
          </p:sp>
        </p:grpSp>
        <p:sp>
          <p:nvSpPr>
            <p:cNvPr id="146" name="Rectangle 16"/>
            <p:cNvSpPr/>
            <p:nvPr/>
          </p:nvSpPr>
          <p:spPr>
            <a:xfrm>
              <a:off x="6438960" y="357516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c82e32"/>
                </a:solidFill>
                <a:latin typeface="Arial"/>
              </a:endParaRPr>
            </a:p>
          </p:txBody>
        </p:sp>
      </p:grpSp>
      <p:sp>
        <p:nvSpPr>
          <p:cNvPr id="147" name="Rectangle 20"/>
          <p:cNvSpPr/>
          <p:nvPr/>
        </p:nvSpPr>
        <p:spPr>
          <a:xfrm>
            <a:off x="3352680" y="4371840"/>
            <a:ext cx="548640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here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R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the Rydberg constant, 2.18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  <a:ea typeface="Arial"/>
              </a:rPr>
              <a:t>−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J, and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re the initial and final energy levels of the electr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Other Subatomic Particl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Protons were discovered by Rutherford in 1919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Neutrons were discovered by James Chadwick in 1932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Wave Nature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Louis de Broglie posited that if light can have material properties, matter should exhibit wave propertie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He demonstrated that the relationship between mass and wavelength wa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3806280" y="4648320"/>
            <a:ext cx="1530360" cy="1068840"/>
            <a:chOff x="3806280" y="4648320"/>
            <a:chExt cx="1530360" cy="1068840"/>
          </a:xfrm>
        </p:grpSpPr>
        <p:sp>
          <p:nvSpPr>
            <p:cNvPr id="152" name="Rectangle 4"/>
            <p:cNvSpPr/>
            <p:nvPr/>
          </p:nvSpPr>
          <p:spPr>
            <a:xfrm>
              <a:off x="3806280" y="4943520"/>
              <a:ext cx="75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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c82e32"/>
                </a:solidFill>
                <a:latin typeface="Arial"/>
              </a:endParaRPr>
            </a:p>
          </p:txBody>
        </p:sp>
        <p:grpSp>
          <p:nvGrpSpPr>
            <p:cNvPr id="153" name="Group 7"/>
            <p:cNvGrpSpPr/>
            <p:nvPr/>
          </p:nvGrpSpPr>
          <p:grpSpPr>
            <a:xfrm>
              <a:off x="4574880" y="4648320"/>
              <a:ext cx="761760" cy="1068840"/>
              <a:chOff x="4574880" y="4648320"/>
              <a:chExt cx="761760" cy="1068840"/>
            </a:xfrm>
          </p:grpSpPr>
          <p:sp>
            <p:nvSpPr>
              <p:cNvPr id="154" name="Rectangle 5"/>
              <p:cNvSpPr/>
              <p:nvPr/>
            </p:nvSpPr>
            <p:spPr>
              <a:xfrm>
                <a:off x="4580640" y="4648320"/>
                <a:ext cx="72324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c82e32"/>
                    </a:solidFill>
                    <a:latin typeface="Arial"/>
                  </a:rPr>
                  <a:t>h</a:t>
                </a:r>
                <a:endParaRPr b="0" lang="en-US" sz="3200" spc="-1" strike="noStrike">
                  <a:solidFill>
                    <a:srgbClr val="c82e32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c82e32"/>
                    </a:solidFill>
                    <a:latin typeface="Arial"/>
                  </a:rPr>
                  <a:t>mv</a:t>
                </a:r>
                <a:endParaRPr b="0" lang="en-US" sz="3200" spc="-1" strike="noStrike">
                  <a:solidFill>
                    <a:srgbClr val="c82e32"/>
                  </a:solidFill>
                  <a:latin typeface="Arial"/>
                </a:endParaRPr>
              </a:p>
            </p:txBody>
          </p:sp>
          <p:sp>
            <p:nvSpPr>
              <p:cNvPr id="155" name="Line 6"/>
              <p:cNvSpPr/>
              <p:nvPr/>
            </p:nvSpPr>
            <p:spPr>
              <a:xfrm>
                <a:off x="4574880" y="5213520"/>
                <a:ext cx="761760" cy="0"/>
              </a:xfrm>
              <a:prstGeom prst="line">
                <a:avLst/>
              </a:prstGeom>
              <a:ln w="2232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82e32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Uncertainty Principl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eisenberg showed that the more precisely the momentum of a particle is known, the less precisely is its position known: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many cases, our uncertainty of the whereabouts of an electron is greater than the size of the atom itself!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59" name="Group 8"/>
          <p:cNvGrpSpPr/>
          <p:nvPr/>
        </p:nvGrpSpPr>
        <p:grpSpPr>
          <a:xfrm>
            <a:off x="2886120" y="3378240"/>
            <a:ext cx="3335400" cy="1068840"/>
            <a:chOff x="2886120" y="3378240"/>
            <a:chExt cx="3335400" cy="1068840"/>
          </a:xfrm>
        </p:grpSpPr>
        <p:sp>
          <p:nvSpPr>
            <p:cNvPr id="160" name="Rectangle 4"/>
            <p:cNvSpPr/>
            <p:nvPr/>
          </p:nvSpPr>
          <p:spPr>
            <a:xfrm>
              <a:off x="2886120" y="3594240"/>
              <a:ext cx="251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lang="en-US" sz="32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</a:t>
              </a: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x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) (</a:t>
              </a:r>
              <a:r>
                <a:rPr b="0" lang="en-US" sz="32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</a:t>
              </a: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mv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) </a:t>
              </a:r>
              <a:r>
                <a:rPr b="0" lang="en-US" sz="32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</a:t>
              </a:r>
              <a:endParaRPr b="0" lang="en-US" sz="3200" spc="-1" strike="noStrike">
                <a:solidFill>
                  <a:srgbClr val="c82e32"/>
                </a:solidFill>
                <a:latin typeface="Arial"/>
              </a:endParaRPr>
            </a:p>
          </p:txBody>
        </p:sp>
        <p:grpSp>
          <p:nvGrpSpPr>
            <p:cNvPr id="161" name="Group 7"/>
            <p:cNvGrpSpPr/>
            <p:nvPr/>
          </p:nvGrpSpPr>
          <p:grpSpPr>
            <a:xfrm>
              <a:off x="5591160" y="3378240"/>
              <a:ext cx="630360" cy="1068840"/>
              <a:chOff x="5591160" y="3378240"/>
              <a:chExt cx="630360" cy="1068840"/>
            </a:xfrm>
          </p:grpSpPr>
          <p:sp>
            <p:nvSpPr>
              <p:cNvPr id="162" name="Rectangle 5"/>
              <p:cNvSpPr/>
              <p:nvPr/>
            </p:nvSpPr>
            <p:spPr>
              <a:xfrm>
                <a:off x="5591160" y="3378240"/>
                <a:ext cx="6303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c82e32"/>
                    </a:solidFill>
                    <a:latin typeface="Arial"/>
                  </a:rPr>
                  <a:t>h</a:t>
                </a:r>
                <a:endParaRPr b="0" lang="en-US" sz="3200" spc="-1" strike="noStrike">
                  <a:solidFill>
                    <a:srgbClr val="c82e32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4</a:t>
                </a:r>
                <a:r>
                  <a:rPr b="0" i="1" lang="en-US" sz="32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</a:t>
                </a:r>
                <a:endParaRPr b="0" lang="en-US" sz="3200" spc="-1" strike="noStrike">
                  <a:solidFill>
                    <a:srgbClr val="c82e32"/>
                  </a:solidFill>
                  <a:latin typeface="Arial"/>
                </a:endParaRPr>
              </a:p>
            </p:txBody>
          </p:sp>
          <p:sp>
            <p:nvSpPr>
              <p:cNvPr id="163" name="Line 6"/>
              <p:cNvSpPr/>
              <p:nvPr/>
            </p:nvSpPr>
            <p:spPr>
              <a:xfrm>
                <a:off x="5639040" y="3917880"/>
                <a:ext cx="533160" cy="0"/>
              </a:xfrm>
              <a:prstGeom prst="line">
                <a:avLst/>
              </a:prstGeom>
              <a:ln w="2232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82e32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Quantum Mechanic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Erwin Schrödinger developed a mathematical treatment into which both the wave and particle nature of matter could be incorporate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t is known as </a:t>
            </a:r>
            <a:r>
              <a:rPr b="0" lang="en-US" sz="2800" spc="-1" strike="noStrike">
                <a:solidFill>
                  <a:srgbClr val="072e93"/>
                </a:solidFill>
                <a:latin typeface="Arial"/>
              </a:rPr>
              <a:t>quantum mechanic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67" name="Picture 5" descr="06_16"/>
          <p:cNvPicPr/>
          <p:nvPr/>
        </p:nvPicPr>
        <p:blipFill>
          <a:blip r:embed="rId1"/>
          <a:srcRect l="0" t="0" r="0" b="5380"/>
          <a:stretch/>
        </p:blipFill>
        <p:spPr>
          <a:xfrm>
            <a:off x="4800600" y="2057400"/>
            <a:ext cx="3809880" cy="371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Quantum Mechanic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70" name="Picture 4" descr="06_16"/>
          <p:cNvPicPr/>
          <p:nvPr/>
        </p:nvPicPr>
        <p:blipFill>
          <a:blip r:embed="rId1"/>
          <a:srcRect l="0" t="0" r="0" b="5380"/>
          <a:stretch/>
        </p:blipFill>
        <p:spPr>
          <a:xfrm>
            <a:off x="4800600" y="2057400"/>
            <a:ext cx="3809880" cy="37162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wave equation is designated with a lower case Greek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psi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(</a:t>
            </a: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square of the wave equation, </a:t>
            </a:r>
            <a:r>
              <a:rPr b="0" i="1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gives a probability density map of where an electron has a certain statistical likelihood of being at any given instant in tim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Quantum Number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olving the wave equation gives a set of wave functions, or 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orbitals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, and their corresponding energie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Each orbital describes a spatial distribution of electron density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n orbital is described by a set of three 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quantum numbers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rincipal Quantum Number (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principal quantum number,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, describes the energy level on which the orbital reside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values of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re integers ≥ 1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ngular Momentum Quantum Number (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s quantum number defines the shape of the orbital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llowed values of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re integers ranging from 0 to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−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We use letter designations to communicate the different values of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nd, therefore, the shapes and types of orbital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ngular Momentum Quantum Number (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828800" y="2438280"/>
          <a:ext cx="5486400" cy="1143000"/>
        </p:xfrm>
        <a:graphic>
          <a:graphicData uri="http://schemas.openxmlformats.org/drawingml/2006/table">
            <a:tbl>
              <a:tblPr/>
              <a:tblGrid>
                <a:gridCol w="2851200"/>
                <a:gridCol w="644400"/>
                <a:gridCol w="646200"/>
                <a:gridCol w="698400"/>
                <a:gridCol w="64620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 of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872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872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872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1872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18720">
                      <a:solidFill>
                        <a:srgbClr val="c82e32"/>
                      </a:solidFill>
                    </a:lnR>
                    <a:lnT w="18720">
                      <a:solidFill>
                        <a:srgbClr val="c82e32"/>
                      </a:solidFill>
                    </a:lnT>
                    <a:lnB w="5760">
                      <a:solidFill>
                        <a:srgbClr val="c82e32"/>
                      </a:solidFill>
                    </a:lnB>
                    <a:solidFill>
                      <a:srgbClr val="c82e32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Type of orbital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872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872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872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576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8720">
                      <a:solidFill>
                        <a:srgbClr val="c82e3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c82e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82e32"/>
                      </a:solidFill>
                    </a:lnL>
                    <a:lnR w="18720">
                      <a:solidFill>
                        <a:srgbClr val="c82e32"/>
                      </a:solidFill>
                    </a:lnR>
                    <a:lnT w="5760">
                      <a:solidFill>
                        <a:srgbClr val="c82e32"/>
                      </a:solidFill>
                    </a:lnT>
                    <a:lnB w="18720">
                      <a:solidFill>
                        <a:srgbClr val="c82e3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gnetic Quantum Number (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magnetic quantum number describes the three-dimensional orientation of the orbital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llowed values of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re integers ranging from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  <a:ea typeface="Arial"/>
              </a:rPr>
              <a:t>-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to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−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≤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3200" spc="-1" strike="noStrike" baseline="-25000">
                <a:solidFill>
                  <a:srgbClr val="c82e32"/>
                </a:solidFill>
                <a:latin typeface="Arial"/>
              </a:rPr>
              <a:t>l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≤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l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refore, on any given energy level, there can be up to 1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orbital, 3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orbitals, 5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orbitals, 7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orbitals, etc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gnetic Quantum Number (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rbitals with the same value o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form a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hell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Different orbital types within a shell are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ubshell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90" name="Picture 8" descr="06_T02"/>
          <p:cNvPicPr/>
          <p:nvPr/>
        </p:nvPicPr>
        <p:blipFill>
          <a:blip r:embed="rId1"/>
          <a:srcRect l="0" t="8891" r="0" b="8107"/>
          <a:stretch/>
        </p:blipFill>
        <p:spPr>
          <a:xfrm>
            <a:off x="1409760" y="3657600"/>
            <a:ext cx="6324480" cy="2209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ubatomic Particl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Protons and electrons are the only particles that have a charg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Protons and neutrons have essentially the same mas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mass of an electron is so small we ignore i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61" name="Picture 12" descr="02_T01"/>
          <p:cNvPicPr/>
          <p:nvPr/>
        </p:nvPicPr>
        <p:blipFill>
          <a:blip r:embed="rId1"/>
          <a:srcRect l="0" t="19230" r="0" b="11549"/>
          <a:stretch/>
        </p:blipFill>
        <p:spPr>
          <a:xfrm>
            <a:off x="1474920" y="4343400"/>
            <a:ext cx="619272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Orbital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value o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for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s is 0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y are spherical in shap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radius of the sphere increases with the value o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94" name="Picture 5" descr="06_19"/>
          <p:cNvPicPr/>
          <p:nvPr/>
        </p:nvPicPr>
        <p:blipFill>
          <a:blip r:embed="rId1"/>
          <a:srcRect l="0" t="0" r="0" b="3700"/>
          <a:stretch/>
        </p:blipFill>
        <p:spPr>
          <a:xfrm>
            <a:off x="609480" y="1828800"/>
            <a:ext cx="241488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7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s 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Orbital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bserving a graph of probabilities of finding an electron versus distance from the nucleus, we see that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s possess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−1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node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or regions where there is 0 probability of finding an electr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98" name="Picture 6" descr="06_18"/>
          <p:cNvPicPr/>
          <p:nvPr/>
        </p:nvPicPr>
        <p:blipFill>
          <a:blip r:embed="rId1"/>
          <a:srcRect l="0" t="0" r="0" b="13131"/>
          <a:stretch/>
        </p:blipFill>
        <p:spPr>
          <a:xfrm>
            <a:off x="228600" y="1752480"/>
            <a:ext cx="4343400" cy="16700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06_21"/>
          <p:cNvPicPr/>
          <p:nvPr/>
        </p:nvPicPr>
        <p:blipFill>
          <a:blip r:embed="rId2"/>
          <a:srcRect l="0" t="0" r="0" b="7893"/>
          <a:stretch/>
        </p:blipFill>
        <p:spPr>
          <a:xfrm>
            <a:off x="0" y="3962520"/>
            <a:ext cx="4317840" cy="25034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10"/>
          <p:cNvSpPr/>
          <p:nvPr/>
        </p:nvSpPr>
        <p:spPr>
          <a:xfrm>
            <a:off x="1447920" y="6400800"/>
            <a:ext cx="2514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p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Orbital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value o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for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s is 1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y have two lobes with a node between the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04" name="Picture 7" descr="06_22"/>
          <p:cNvPicPr/>
          <p:nvPr/>
        </p:nvPicPr>
        <p:blipFill>
          <a:blip r:embed="rId1"/>
          <a:srcRect l="0" t="0" r="0" b="19228"/>
          <a:stretch/>
        </p:blipFill>
        <p:spPr>
          <a:xfrm>
            <a:off x="1201680" y="4114800"/>
            <a:ext cx="6735960" cy="2117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Orbital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486040" y="1752120"/>
            <a:ext cx="3505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value o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for a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 is 2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ur of the five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s have 4 lobes; the other resembles a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 with a doughnut around the cente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08" name="Picture 5" descr="06_23"/>
          <p:cNvPicPr/>
          <p:nvPr/>
        </p:nvPicPr>
        <p:blipFill>
          <a:blip r:embed="rId1"/>
          <a:srcRect l="0" t="0" r="0" b="3562"/>
          <a:stretch/>
        </p:blipFill>
        <p:spPr>
          <a:xfrm>
            <a:off x="457200" y="1981080"/>
            <a:ext cx="4952880" cy="3565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ergies of Orbital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 a one-electron hydrogen atom, orbitals on the same energy level have the same energ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at is, they are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12" name="Picture 5" descr="06_17"/>
          <p:cNvPicPr/>
          <p:nvPr/>
        </p:nvPicPr>
        <p:blipFill>
          <a:blip r:embed="rId1"/>
          <a:srcRect l="0" t="0" r="0" b="3701"/>
          <a:stretch/>
        </p:blipFill>
        <p:spPr>
          <a:xfrm>
            <a:off x="4981680" y="1981080"/>
            <a:ext cx="3141720" cy="3962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ergies of Orbital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s the number of electrons increases, though, so does the repulsion between the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 in many-electron atoms, orbitals on the same energy level are no longer degenerat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16" name="Picture 5" descr="06_24"/>
          <p:cNvPicPr/>
          <p:nvPr/>
        </p:nvPicPr>
        <p:blipFill>
          <a:blip r:embed="rId1"/>
          <a:srcRect l="0" t="0" r="0" b="3702"/>
          <a:stretch/>
        </p:blipFill>
        <p:spPr>
          <a:xfrm>
            <a:off x="380880" y="1676520"/>
            <a:ext cx="381312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pin Quantum Number,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the 1920s, it was discovered that two electrons in the same orbital do not have exactly the same energ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“spin” of an electron describes its magnetic field, which affects its energ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20" name="Picture 8" descr="06_27"/>
          <p:cNvPicPr/>
          <p:nvPr/>
        </p:nvPicPr>
        <p:blipFill>
          <a:blip r:embed="rId1"/>
          <a:srcRect l="0" t="0" r="0" b="6621"/>
          <a:stretch/>
        </p:blipFill>
        <p:spPr>
          <a:xfrm>
            <a:off x="4648320" y="2484360"/>
            <a:ext cx="4267080" cy="2621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pin Quantum Number,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4400" spc="-1" strike="noStrike" baseline="-25000">
                <a:solidFill>
                  <a:srgbClr val="c82e32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is led to a fourth quantum number, the spin quantum number,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i="1" lang="en-US" sz="2800" spc="-1" strike="noStrike" baseline="-25000">
                <a:solidFill>
                  <a:srgbClr val="c82e32"/>
                </a:solidFill>
                <a:latin typeface="Arial"/>
              </a:rPr>
              <a:t>s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spin quantum number has only 2 allowed values:  +1/2 and −1/2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24" name="Picture 4" descr="06_25"/>
          <p:cNvPicPr/>
          <p:nvPr/>
        </p:nvPicPr>
        <p:blipFill>
          <a:blip r:embed="rId1"/>
          <a:srcRect l="0" t="0" r="0" b="3716"/>
          <a:stretch/>
        </p:blipFill>
        <p:spPr>
          <a:xfrm>
            <a:off x="4648320" y="2308320"/>
            <a:ext cx="3809880" cy="333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auli Exclusion Principl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o two electrons in the same atom can have exactly the same energ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 no two electrons in the same atom can have identical sets of quantum number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28" name="Picture 4" descr="06_25"/>
          <p:cNvPicPr/>
          <p:nvPr/>
        </p:nvPicPr>
        <p:blipFill>
          <a:blip r:embed="rId1"/>
          <a:srcRect l="0" t="0" r="0" b="3716"/>
          <a:stretch/>
        </p:blipFill>
        <p:spPr>
          <a:xfrm>
            <a:off x="4648320" y="2308320"/>
            <a:ext cx="3809880" cy="333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lectron Configura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is shows the distribution of all electrons in an atom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Each component consists of 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A number denoting the energy level,</a:t>
            </a: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32" name="Picture 7" descr="COEFF"/>
          <p:cNvPicPr/>
          <p:nvPr/>
        </p:nvPicPr>
        <p:blipFill>
          <a:blip r:embed="rId1"/>
          <a:srcRect l="14000" t="28000" r="64008" b="54000"/>
          <a:stretch/>
        </p:blipFill>
        <p:spPr>
          <a:xfrm>
            <a:off x="1219320" y="3200400"/>
            <a:ext cx="1114200" cy="9111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ymbols of Elemen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Elements are symbolized by one or two letter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65" name="Picture 20" descr="02_12-01unsymbol"/>
          <p:cNvPicPr/>
          <p:nvPr/>
        </p:nvPicPr>
        <p:blipFill>
          <a:blip r:embed="rId1"/>
          <a:stretch/>
        </p:blipFill>
        <p:spPr>
          <a:xfrm>
            <a:off x="1309680" y="1981080"/>
            <a:ext cx="6524640" cy="1981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lectron Configura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is shows the distribution of all electrons in an atom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Each component consists of 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A number denoting the energy level,</a:t>
            </a: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A letter denoting the type of orbital,</a:t>
            </a: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36" name="Picture 5" descr="ORBITAL"/>
          <p:cNvPicPr/>
          <p:nvPr/>
        </p:nvPicPr>
        <p:blipFill>
          <a:blip r:embed="rId1"/>
          <a:srcRect l="14000" t="28000" r="64008" b="54000"/>
          <a:stretch/>
        </p:blipFill>
        <p:spPr>
          <a:xfrm>
            <a:off x="1219320" y="3200400"/>
            <a:ext cx="1114200" cy="9111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lectron Configura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is shows the distribution of all electrons in an atom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Each component consists of 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A number denoting the energy level,</a:t>
            </a: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A letter denoting the type of orbital,</a:t>
            </a: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A superscript denoting the number of electrons in those orbitals.</a:t>
            </a:r>
            <a:endParaRPr b="0" lang="en-US" sz="20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40" name="Picture 5" descr="superscript"/>
          <p:cNvPicPr/>
          <p:nvPr/>
        </p:nvPicPr>
        <p:blipFill>
          <a:blip r:embed="rId1"/>
          <a:srcRect l="14000" t="28000" r="63008" b="54000"/>
          <a:stretch/>
        </p:blipFill>
        <p:spPr>
          <a:xfrm>
            <a:off x="1219320" y="3200400"/>
            <a:ext cx="1160280" cy="907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Orbital Diagram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Each box in the diagram represents one orbital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alf-arrows represent the electr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direction of the arrow represents the relative spin of the electr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44" name="Picture 5" descr="06_28-01UN"/>
          <p:cNvPicPr/>
          <p:nvPr/>
        </p:nvPicPr>
        <p:blipFill>
          <a:blip r:embed="rId1"/>
          <a:srcRect l="0" t="0" r="0" b="6447"/>
          <a:stretch/>
        </p:blipFill>
        <p:spPr>
          <a:xfrm>
            <a:off x="5029200" y="2438280"/>
            <a:ext cx="2895480" cy="1368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Hund’s Rul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 degenerate orbitals, the lowest energy is attained when the number of electrons with the same spin is maximized.”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48" name="Picture 5" descr="06_28-05UN"/>
          <p:cNvPicPr/>
          <p:nvPr/>
        </p:nvPicPr>
        <p:blipFill>
          <a:blip r:embed="rId1"/>
          <a:srcRect l="0" t="0" r="0" b="11102"/>
          <a:stretch/>
        </p:blipFill>
        <p:spPr>
          <a:xfrm>
            <a:off x="685800" y="3351240"/>
            <a:ext cx="3809880" cy="1220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e fill orbitals in increasing order of energ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Different blocks on the periodic table (shaded in different colors in this chart) correspond to different types of orbital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52" name="Picture 5" descr="06_29"/>
          <p:cNvPicPr/>
          <p:nvPr/>
        </p:nvPicPr>
        <p:blipFill>
          <a:blip r:embed="rId1"/>
          <a:srcRect l="0" t="0" r="0" b="3739"/>
          <a:stretch/>
        </p:blipFill>
        <p:spPr>
          <a:xfrm>
            <a:off x="4648320" y="2638440"/>
            <a:ext cx="3809880" cy="2695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ome Anomali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56236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Some irregularities occur when there are enough electrons to half-fill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s on a given row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56" name="Picture 10" descr="06_31"/>
          <p:cNvPicPr/>
          <p:nvPr/>
        </p:nvPicPr>
        <p:blipFill>
          <a:blip r:embed="rId1"/>
          <a:srcRect l="0" t="0" r="0" b="4605"/>
          <a:stretch/>
        </p:blipFill>
        <p:spPr>
          <a:xfrm>
            <a:off x="76320" y="1523880"/>
            <a:ext cx="556236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ome Anomali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56236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 instance, the electron configuration for copper is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[Ar] 4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3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rather than the expected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[Ar] 4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3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60" name="Picture 4" descr="06_31"/>
          <p:cNvPicPr/>
          <p:nvPr/>
        </p:nvPicPr>
        <p:blipFill>
          <a:blip r:embed="rId1"/>
          <a:srcRect l="0" t="0" r="0" b="4605"/>
          <a:stretch/>
        </p:blipFill>
        <p:spPr>
          <a:xfrm>
            <a:off x="76320" y="1523880"/>
            <a:ext cx="556236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ome Anomali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56236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is occurs because the 4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nd 3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bitals are very close in energ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se anomalies occur in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-block atoms, as well. 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64" name="Picture 4" descr="06_31"/>
          <p:cNvPicPr/>
          <p:nvPr/>
        </p:nvPicPr>
        <p:blipFill>
          <a:blip r:embed="rId1"/>
          <a:srcRect l="0" t="0" r="0" b="4605"/>
          <a:stretch/>
        </p:blipFill>
        <p:spPr>
          <a:xfrm>
            <a:off x="76320" y="1523880"/>
            <a:ext cx="556236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tomic Numb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ll atoms of the same element have the same number of protons: 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atomic number (Z)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69" name="Picture 11" descr="02_12-01unatomic"/>
          <p:cNvPicPr/>
          <p:nvPr/>
        </p:nvPicPr>
        <p:blipFill>
          <a:blip r:embed="rId1"/>
          <a:stretch/>
        </p:blipFill>
        <p:spPr>
          <a:xfrm>
            <a:off x="1309680" y="1981080"/>
            <a:ext cx="6524640" cy="1981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tomic Mas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mass of an atom in atomic mass units (amu) is the total number of protons and neutrons in the ato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73" name="Picture 12" descr="02_12-01unmass"/>
          <p:cNvPicPr/>
          <p:nvPr/>
        </p:nvPicPr>
        <p:blipFill>
          <a:blip r:embed="rId1"/>
          <a:stretch/>
        </p:blipFill>
        <p:spPr>
          <a:xfrm>
            <a:off x="1309680" y="1981080"/>
            <a:ext cx="6524640" cy="1981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Isotop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167616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sotopes are atoms of the same element with different mass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sotopes have different numbers of neutr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77" name="Group 19"/>
          <p:cNvGrpSpPr/>
          <p:nvPr/>
        </p:nvGrpSpPr>
        <p:grpSpPr>
          <a:xfrm>
            <a:off x="772200" y="3429000"/>
            <a:ext cx="1298880" cy="1312920"/>
            <a:chOff x="772200" y="3429000"/>
            <a:chExt cx="1298880" cy="1312920"/>
          </a:xfrm>
        </p:grpSpPr>
        <p:sp>
          <p:nvSpPr>
            <p:cNvPr id="78" name="Rectangle 17"/>
            <p:cNvSpPr/>
            <p:nvPr/>
          </p:nvSpPr>
          <p:spPr>
            <a:xfrm>
              <a:off x="772200" y="3429000"/>
              <a:ext cx="744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11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6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1340280" y="358128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82e32"/>
                  </a:solidFill>
                  <a:latin typeface="Arial"/>
                </a:rPr>
                <a:t>C</a:t>
              </a:r>
              <a:endParaRPr b="0" lang="en-US" sz="6000" spc="-1" strike="noStrike">
                <a:solidFill>
                  <a:srgbClr val="c82e32"/>
                </a:solidFill>
                <a:latin typeface="Arial"/>
              </a:endParaRPr>
            </a:p>
          </p:txBody>
        </p:sp>
      </p:grpSp>
      <p:grpSp>
        <p:nvGrpSpPr>
          <p:cNvPr id="80" name="Group 20"/>
          <p:cNvGrpSpPr/>
          <p:nvPr/>
        </p:nvGrpSpPr>
        <p:grpSpPr>
          <a:xfrm>
            <a:off x="2651760" y="3429000"/>
            <a:ext cx="1298880" cy="1312920"/>
            <a:chOff x="2651760" y="3429000"/>
            <a:chExt cx="1298880" cy="1312920"/>
          </a:xfrm>
        </p:grpSpPr>
        <p:sp>
          <p:nvSpPr>
            <p:cNvPr id="81" name="Rectangle 21"/>
            <p:cNvSpPr/>
            <p:nvPr/>
          </p:nvSpPr>
          <p:spPr>
            <a:xfrm>
              <a:off x="2651760" y="3429000"/>
              <a:ext cx="744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12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6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</p:txBody>
        </p:sp>
        <p:sp>
          <p:nvSpPr>
            <p:cNvPr id="82" name="Rectangle 22"/>
            <p:cNvSpPr/>
            <p:nvPr/>
          </p:nvSpPr>
          <p:spPr>
            <a:xfrm>
              <a:off x="3219840" y="358128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82e32"/>
                  </a:solidFill>
                  <a:latin typeface="Arial"/>
                </a:rPr>
                <a:t>C</a:t>
              </a:r>
              <a:endParaRPr b="0" lang="en-US" sz="6000" spc="-1" strike="noStrike">
                <a:solidFill>
                  <a:srgbClr val="c82e32"/>
                </a:solidFill>
                <a:latin typeface="Arial"/>
              </a:endParaRPr>
            </a:p>
          </p:txBody>
        </p:sp>
      </p:grpSp>
      <p:grpSp>
        <p:nvGrpSpPr>
          <p:cNvPr id="83" name="Group 23"/>
          <p:cNvGrpSpPr/>
          <p:nvPr/>
        </p:nvGrpSpPr>
        <p:grpSpPr>
          <a:xfrm>
            <a:off x="4531320" y="3429000"/>
            <a:ext cx="1298880" cy="1312920"/>
            <a:chOff x="4531320" y="3429000"/>
            <a:chExt cx="1298880" cy="1312920"/>
          </a:xfrm>
        </p:grpSpPr>
        <p:sp>
          <p:nvSpPr>
            <p:cNvPr id="84" name="Rectangle 24"/>
            <p:cNvSpPr/>
            <p:nvPr/>
          </p:nvSpPr>
          <p:spPr>
            <a:xfrm>
              <a:off x="4531320" y="3429000"/>
              <a:ext cx="744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13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6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</p:txBody>
        </p:sp>
        <p:sp>
          <p:nvSpPr>
            <p:cNvPr id="85" name="Rectangle 25"/>
            <p:cNvSpPr/>
            <p:nvPr/>
          </p:nvSpPr>
          <p:spPr>
            <a:xfrm>
              <a:off x="5099400" y="358128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82e32"/>
                  </a:solidFill>
                  <a:latin typeface="Arial"/>
                </a:rPr>
                <a:t>C</a:t>
              </a:r>
              <a:endParaRPr b="0" lang="en-US" sz="6000" spc="-1" strike="noStrike">
                <a:solidFill>
                  <a:srgbClr val="c82e32"/>
                </a:solidFill>
                <a:latin typeface="Arial"/>
              </a:endParaRPr>
            </a:p>
          </p:txBody>
        </p:sp>
      </p:grpSp>
      <p:grpSp>
        <p:nvGrpSpPr>
          <p:cNvPr id="86" name="Group 26"/>
          <p:cNvGrpSpPr/>
          <p:nvPr/>
        </p:nvGrpSpPr>
        <p:grpSpPr>
          <a:xfrm>
            <a:off x="6410880" y="3429000"/>
            <a:ext cx="1298880" cy="1312920"/>
            <a:chOff x="6410880" y="3429000"/>
            <a:chExt cx="1298880" cy="1312920"/>
          </a:xfrm>
        </p:grpSpPr>
        <p:sp>
          <p:nvSpPr>
            <p:cNvPr id="87" name="Rectangle 27"/>
            <p:cNvSpPr/>
            <p:nvPr/>
          </p:nvSpPr>
          <p:spPr>
            <a:xfrm>
              <a:off x="6410880" y="3429000"/>
              <a:ext cx="744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14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6</a:t>
              </a:r>
              <a:endParaRPr b="0" lang="en-US" sz="4000" spc="-1" strike="noStrike">
                <a:solidFill>
                  <a:srgbClr val="c82e32"/>
                </a:solidFill>
                <a:latin typeface="Arial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6978960" y="358128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82e32"/>
                  </a:solidFill>
                  <a:latin typeface="Arial"/>
                </a:rPr>
                <a:t>C</a:t>
              </a:r>
              <a:endParaRPr b="0" lang="en-US" sz="6000" spc="-1" strike="noStrike">
                <a:solidFill>
                  <a:srgbClr val="c82e32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av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38858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o understand the electronic structure of atoms, one must understand the nature of electromagnetic radiati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distance between corresponding points on adjacent waves is the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wavelength (</a:t>
            </a:r>
            <a:r>
              <a:rPr b="0" i="1" lang="en-US" sz="2800" spc="-1" strike="noStrike">
                <a:solidFill>
                  <a:srgbClr val="00008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92" name="Picture 5" descr="06_03a-c"/>
          <p:cNvPicPr/>
          <p:nvPr/>
        </p:nvPicPr>
        <p:blipFill>
          <a:blip r:embed="rId1"/>
          <a:srcRect l="0" t="0" r="73553" b="38460"/>
          <a:stretch/>
        </p:blipFill>
        <p:spPr>
          <a:xfrm>
            <a:off x="2933640" y="1752480"/>
            <a:ext cx="3276720" cy="1943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av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19720" y="16002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number of waves passing a given point per unit of time is the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frequency</a:t>
            </a:r>
            <a:r>
              <a:rPr b="0" lang="en-US" sz="2800" spc="-1" strike="noStrike">
                <a:solidFill>
                  <a:srgbClr val="072e9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80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or waves traveling at the same velocity, the longer the wavelength, the smaller the frequency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96" name="Picture 5" descr="06_04-01UNE6-1"/>
          <p:cNvPicPr/>
          <p:nvPr/>
        </p:nvPicPr>
        <p:blipFill>
          <a:blip r:embed="rId1"/>
          <a:srcRect l="0" t="0" r="0" b="5369"/>
          <a:stretch/>
        </p:blipFill>
        <p:spPr>
          <a:xfrm>
            <a:off x="380880" y="2928960"/>
            <a:ext cx="3810240" cy="2100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9T21:01:38Z</dcterms:created>
  <dc:creator>John Bookstaver</dc:creator>
  <dc:description/>
  <dc:language>en-US</dc:language>
  <cp:lastModifiedBy>Asma</cp:lastModifiedBy>
  <dcterms:modified xsi:type="dcterms:W3CDTF">2017-09-20T11:09:02Z</dcterms:modified>
  <cp:revision>74</cp:revision>
  <dc:subject/>
  <dc:title>Chapter 6 Electronic Structure of Atoms</dc:title>
</cp:coreProperties>
</file>