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8BCB-EA6D-4D20-BF31-84296CF39E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BDF3-5ADC-4294-81EE-F1505E776D7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B115-716A-42AF-8046-14E5A13A4A4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F1C8-6048-40DE-AB1E-EAB838122D6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B30B-E664-42C4-BC20-E0C14AE083C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92D5-B906-418F-BD4C-AC827F48923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076F-3F4B-4DAD-BC45-A1E4F4BADEF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2126-7AC9-4118-91F3-D4D7156D1F8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DECC-764B-4CED-A4D8-8FBE442A6DC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3E1D-B148-4CB0-88F2-61DA9AE8C99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5AB9-4F86-431B-9156-3615D975D5D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38FB-CBE7-4CB9-8E35-DE15090AE9F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CD8B-C6BC-4654-9A5E-66FD1231B29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A8E1-0F9B-4490-A448-F7C91656505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27F6-5782-4D56-8066-151CE98D8D6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2BF-AFC2-4970-9F11-E0ED2CF6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E26-8008-4F98-9756-E2C636CA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F80-ABEA-4898-A686-317EBE9C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C37-4D05-446F-A54B-0B0A8999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6B9-B92B-4925-8099-8D3F6121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713-7D9F-4634-A46B-62692526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7D6-16C3-40BB-9E59-7704D833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C8B-3CC6-481F-A75E-C56D5799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B74-8840-4536-9511-6511021C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522-A88F-4BAA-902A-2174DE00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C26-8AC2-4F0E-8A2F-F9A26DF9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59F-4F84-42C0-BA93-7DB1C24C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2C0B-4425-4BBD-8B01-2C6C8D3D2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7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loratory Research and Qualitative Analysis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1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xperience Survey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Consult with carefully selecte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ledgeabl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expert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a particular problem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to clarify the situation, not to develop conclusive evidence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0" name="Object 2"/>
          <p:cNvGraphicFramePr/>
          <p:nvPr/>
        </p:nvGraphicFramePr>
        <p:xfrm>
          <a:off x="6324480" y="3276720"/>
          <a:ext cx="2743200" cy="34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276720"/>
                    <a:ext cx="2743200" cy="34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2"/>
          <p:cNvSpPr/>
          <p:nvPr/>
        </p:nvSpPr>
        <p:spPr>
          <a:xfrm>
            <a:off x="380880" y="3809880"/>
            <a:ext cx="67820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you wish to know the road up th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untain, you must ask the man wh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es back and forth on it.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Zenrinkus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econdary Data Analysi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Preliminary review of already collected and/or reported inform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for a purpose other than the project at han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conomical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and q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ick source for background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sources of already reported information: literature, internet, company reports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3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ase Study Method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nse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nd indepth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vestiga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on of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ne or a few situations similar to the problem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via long term observations, interviews and discussions to define the problem at hand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efu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stud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of the order of events as they occur, or relations among individuals or group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oper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between the researcher and the subject is a must. Thus, studying rival companies’ cases is almost impossi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Generalization from one or a few case studies is very dangerous for decision mak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4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ilot Study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 small scale exploratory study that use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ome sort of loos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 small number of respondents rather than experienced people are surveyed or interview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e results will be used in the definition of the problem and also in the design of  a further descriptive stu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 Types of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ilot Studi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cus Group Intervie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jective Techniqu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-Depth Intervie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1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Focus Group Interview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Interview Proces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structu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e flow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roup intervie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rt with broad topic and focus in on specific iss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roup Composition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6 to 10 peo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latively homogeneo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milar lifestyles and experien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utline for a Focus Group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tablish a rap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gin with broad top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cus in on specific top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te discussion and inter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Focus Group Moderato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velops rapport - helps people rela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a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stens to what people have to 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eryone gets a chance to spea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intains loose control and focuses discus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imulates spontaneous respon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dvantages of Online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Focus Group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expens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ring together many participants from wide-spread geographical area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dent anonym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anscript automatically record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isadvantages of Online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Focus Group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ss group inter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sence of tactile stim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sence of facial expression and body langu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erator’s job is differ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hapter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: 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xploratory Research and Qualitative Analysis  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28195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1. Definition of Exploratory Resear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 Why Conduct Exploratory Research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3. Categorie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Exploratory Resear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4. Types of Pilot Stud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n indirect means of questioning that enables a respondent to project beliefs and feelings onto a third party, onto an object, or into a task situ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jective Techniqu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22240" y="4414680"/>
            <a:ext cx="786456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man is least himself when he talk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his own person; when given a mask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will tell the truth.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Oscar Wil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Some types of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rojective Techniques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d association te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ntence completion meth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-person techniq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le play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.A.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cture frustration version of T.A.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2.1.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Word Association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 Tes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 is presented with a list of word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en, 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ked to respon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once at a time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th first word that comes to min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is test helps the researcher to grasp the true feelings of the subjects about a specific concept (e.g. a new product name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5410080"/>
            <a:ext cx="7620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E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ne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w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 …………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EES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White, Goat, …………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33520" y="228600"/>
            <a:ext cx="8305560" cy="67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2.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entence Completion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 Tes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 is presented with a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ncomplet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sente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en, 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ked to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complete i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th first wor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at come to min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is test helps the researcher to grasp the true beliefs and assumptions of the subjects about a specific issue (e.g. prejudice, discrimination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 man wh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w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 a sui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_______________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boss should no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_______________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829480" y="2171880"/>
            <a:ext cx="3009600" cy="35431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2.3.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matic Apperception Test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.A.T.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2" name="4 Dikdörtgen"/>
          <p:cNvSpPr/>
          <p:nvPr/>
        </p:nvSpPr>
        <p:spPr>
          <a:xfrm>
            <a:off x="457200" y="2021040"/>
            <a:ext cx="541008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 is presented with a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series of pic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en, 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ked to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escribe 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is test helps the researcher to analyze the content of these descriptions in an effort to clarify a research probl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3. Depth Interview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4" name="2 Dikdörtgen"/>
          <p:cNvSpPr/>
          <p:nvPr/>
        </p:nvSpPr>
        <p:spPr>
          <a:xfrm>
            <a:off x="457200" y="1219320"/>
            <a:ext cx="830592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atively unstructured extensive interview used in the primary stages of the research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cess in order to get both the surface reactions and subconscious motivations of the subj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interviewing session may last more than hour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interviewer asks many questions to the subject and probes for elaboration after the subject’s answ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Disadvantages of Depth Interview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6" name="2 Dikdörtgen"/>
          <p:cNvSpPr/>
          <p:nvPr/>
        </p:nvSpPr>
        <p:spPr>
          <a:xfrm>
            <a:off x="457200" y="1368360"/>
            <a:ext cx="83059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take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 lot of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based on unstructured discussions, and -if inexperienced- interviewer cannot keep the discussion within the context of the problem at han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llected information is just the subjectiv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ceptions and interpretations of the interviewe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 Definition of Explorative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 research conducted to clarify and define the nature of a 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es not provide conclusive evid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sequent research expec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he cure for boredom is curiosity, there is no cure for curiosity that kills the cat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Qualitative versus Quantitative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rpos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eliminar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sus conclus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amples: 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ll versus lar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ype of questions: 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ad range of questioning versus structured ques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Results: 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bjective interpretation versus statistical analy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421000" y="1828800"/>
            <a:ext cx="406224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agno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 situ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over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new ide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reening alternat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6629400" y="4038480"/>
          <a:ext cx="1959120" cy="24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038480"/>
                    <a:ext cx="195912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Why Conduct  Exploratory Research?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1.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Diagnos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ing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a situa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1" name="2 Dikdörtgen"/>
          <p:cNvSpPr/>
          <p:nvPr/>
        </p:nvSpPr>
        <p:spPr>
          <a:xfrm>
            <a:off x="609480" y="1600200"/>
            <a:ext cx="7925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tuation analysi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informal gathering of background information to familiarize researchers or managers with the decision area.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ples for situation analys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views with employees about their general complai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s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pinion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the new advertising campaig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iscover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ing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new idea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business decision making, generating new business ideas about new products, new investments, etc. is very critic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agers, employees, customers, etc. may be consulted to develop new ideas that would never come to the minds of decision mak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stance, us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ders and complaints may help decision makers develop new alternative ideas and turn them into new product concep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3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creening of alternativ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business decision mak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etermining alternative solutions and then the best one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mong the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very critical because of time and money constraint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ept testing is a tool for screening alternative solutions, especially alternative concept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of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new or revised produc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stance, after collecting the opinions of the customers about alternative new product concepts, the best one may be determin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ategories of Exploratory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erience surve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ary data analy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lot stud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Soad</cp:lastModifiedBy>
  <dcterms:modified xsi:type="dcterms:W3CDTF">2016-10-16T16:48:08Z</dcterms:modified>
  <cp:revision>373</cp:revision>
  <dc:subject>Chapter 1</dc:subject>
  <dc:title>Business Research Methods  William G. Zikmund</dc:title>
</cp:coreProperties>
</file>