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1460-D7D4-4457-B465-8D40DA537F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81D-0881-4FE6-9B52-FE6D3A4B42C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3829-5B85-4BCF-800B-4D26DEF2E2B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8FA-0A9E-4AFE-9C7A-E01C3BCD393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CFE-F175-4FFB-A141-7646D72A516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B5B-4463-4FC7-AE97-5E3C9E458F0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7EBF-D9F5-4707-8A4C-958B3BE3CE8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5FB-4033-46C5-8A75-E5806429988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C875-E281-4ABE-AF4F-9B62A1F1F62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4522-C9EA-4B03-8F6B-16E4079E94F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C6F-1731-48AD-BFCA-079B5EAA4C6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460-D869-4F19-9EC7-7AA5312FC3B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C92-30E3-44D3-B8C2-89FAE4A746F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943-A6D2-4DAD-ADC7-26E1B5947F8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559-5352-4EB5-89D0-4D8A3965F15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2FA-D6B8-4A85-8DE4-9EE87C4E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4B4-555D-4D95-8643-8356699D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998-A973-41B1-922C-D9836E74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E2F-D9A1-4FFC-8AC8-DC0A2127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45E-EA66-4276-9467-087DD6D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58D-2B0D-4D6B-AFBB-ACE9B090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5D9-BB27-4E0C-8DB5-CA3B6BCE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80C-6925-4CCB-A711-87B038D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243-347C-4BE9-8520-CB40CA2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67B-665B-4E06-9B6B-AF96EE8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57E-1D2E-40F5-A500-A14A668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C90-6FBE-41D3-A0CA-222A38F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686-9736-45CC-BD0A-555A750A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7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loratory Research and Qualitative Analysis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erience Survey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onsult with carefully selecte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ledgeabl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expert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a particular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to clarify the situation, not to develop conclusive evidence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Object 2"/>
          <p:cNvGraphicFramePr/>
          <p:nvPr/>
        </p:nvGraphicFramePr>
        <p:xfrm>
          <a:off x="6324480" y="3276720"/>
          <a:ext cx="274320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276720"/>
                    <a:ext cx="27432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"/>
          <p:cNvSpPr/>
          <p:nvPr/>
        </p:nvSpPr>
        <p:spPr>
          <a:xfrm>
            <a:off x="380880" y="3809880"/>
            <a:ext cx="67820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wish to know the road up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untain, you must ask the man wh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es back and forth on it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Zenrinkus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condary Data Analysi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Preliminary review of already collected and/or reported informa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or a purpose other than the project at ha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onomical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and 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ick source for background in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sources of already reported information: literature, internet, company report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se Study Metho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nse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d indepth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stiga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on o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e or a few situations similar to the problem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via long term observations, interviews and discussions to define the problem at hand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efu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tud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of the order of events as they occur, or relations among individuals or group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operatio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between the researcher and the subject is a must. Thus, studying rival companies’ cases is almost impos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Generalization from one or a few case studies is very dangerous for decision mak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4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ilot Stud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 small scale exploratory study that us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ome sort of loos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small number of respondents rather than experienced people are surveyed or intervie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 results will be used in the definition of the problem and also in the design of  a further descriptive stu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 Types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ilot Studi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cus Group Inter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ve Techniqu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-Depth Intervie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cus Group Interview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Interview Proces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struct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flow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p inter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rt with broad topic and focus in on specific 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roup Composition</a:t>
            </a:r>
            <a:r>
              <a:rPr b="0" lang="tr-TR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6 to 10 peo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latively homogeneo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ilar lifestyles and experie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Outline for a Focus Group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tablish a ra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gin with broad top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cus in on specific top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te discussion and inte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Focus Group Moderator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velops rapport - helps people rela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a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tens to what people have to s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ryone gets a chance to spe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ntains loose control and focuses discus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ates spontaneous respo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dvantages of Online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cus Group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expen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ng together many participants from wide-spread geographical area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dent anonym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nscript automatically recor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isadvantages of Online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cus Group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s group inte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sence of tactile stimu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sence of facial expression and body langu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derator’s job is differ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Exploratory Research and Qualitative Analysis  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8195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 Definition of Explorator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Why Conduct Exploratory Researc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 Categorie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Exploratory Resea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4. Types of Pilot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n indirect means of questioning that enables a respondent to project beliefs and feelings onto a third party, onto an object, or into a task sit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jective Techniqu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22240" y="4414680"/>
            <a:ext cx="786456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an is least himself when he talk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his own person; when given a mask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ill tell the truth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Oscar Wil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Some types of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rojective Techniques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d association te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ntence completion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-person techniq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le play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.A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cture frustration version of T.A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1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Word Association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Tes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 is presented with a list of word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ed to respo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nce at a time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first word that comes to mi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test helps the researcher to grasp the true feelings of the subjects about a specific concept (e.g. a new product nam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541008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e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wn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 …………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EES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White, Goat, …………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3520" y="228600"/>
            <a:ext cx="8305560" cy="67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entence Completion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Te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 is presented with a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ncomplet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sent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ed to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complete i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th first wor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come to mind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test helps the researcher to grasp the true beliefs and assumptions of the subjects about a specific issue (e.g. prejudice, discrimination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man wh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w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 a sui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boss should no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__________________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829480" y="2171880"/>
            <a:ext cx="3009600" cy="3543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2.3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matic Apperception Test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.A.T.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2" name="4 Dikdörtgen"/>
          <p:cNvSpPr/>
          <p:nvPr/>
        </p:nvSpPr>
        <p:spPr>
          <a:xfrm>
            <a:off x="457200" y="2021040"/>
            <a:ext cx="541008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 is presented with a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series of pic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en, 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ked to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describe 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his test helps the researcher to analyze the content of these descriptions in an effort to clarify a research probl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4.3. Depth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4" name="2 Dikdörtgen"/>
          <p:cNvSpPr/>
          <p:nvPr/>
        </p:nvSpPr>
        <p:spPr>
          <a:xfrm>
            <a:off x="457200" y="1219320"/>
            <a:ext cx="830592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latively unstructured extensive interview used in the primary stages of the research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ss in order to get both the surface reactions and subconscious motivations of the subj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nterviewing session may last more than hou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nterviewer asks many questions to the subject and probes for elaboration after the subject’s answ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Disadvantages of Depth Interview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2 Dikdörtgen"/>
          <p:cNvSpPr/>
          <p:nvPr/>
        </p:nvSpPr>
        <p:spPr>
          <a:xfrm>
            <a:off x="457200" y="1368360"/>
            <a:ext cx="8305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tak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 lot of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based on unstructured discussions, and -if inexperienced- interviewer cannot keep the discussion within the context of the problem at han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llected information is just the subjectiv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ceptions and interpretations of the interviewe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Explorative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research conducted to clarify and define the nature of a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es not provide conclusive evi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sequent research exp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The cure for boredom is curiosity, there is no cure for curiosity that kills the cat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Qualitative versus Quantitative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pose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liminar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sus conclusi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amples: 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ll versus lar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Type of questions: 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ad range of questioning versus structured ques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Results: 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bjective interpretation versus statistical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421000" y="1828800"/>
            <a:ext cx="406224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agno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sit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over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ew id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reening alternat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6629400" y="4038480"/>
          <a:ext cx="1959120" cy="24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038480"/>
                    <a:ext cx="195912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Why Conduct  Exploratory Research?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Diagnos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a situatio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2 Dikdörtgen"/>
          <p:cNvSpPr/>
          <p:nvPr/>
        </p:nvSpPr>
        <p:spPr>
          <a:xfrm>
            <a:off x="609480" y="1600200"/>
            <a:ext cx="79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uation analysi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 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informal gathering of background information to familiarize researchers or managers with the decision area.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ples for situation analys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views with employees about their general complai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s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pinion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new advertising campaig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iscover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ing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 new idea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business decision making, generating new business ideas about new products, new investments, etc. is very criti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agers, employees, customers, etc. may be consulted to develop new ideas that would never come to the minds of decision mak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stance, users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ders and complaints may help decision makers develop new alternative ideas and turn them into new product concep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creening of alternativ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business decision making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etermining alternative solutions and then the best on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among the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very critical because of time and money constraint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ept testing is a tool for screening alternative solutions, especially alternative concept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w or revised product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stance, after collecting the opinions of the customers about alternative new product concepts, the best one may be determin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ategories of Exploratory Research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rience surve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ary data analy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lot stud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10-16T16:48:08Z</dcterms:modified>
  <cp:revision>373</cp:revision>
  <dc:subject>Chapter 1</dc:subject>
  <dc:title>Business Research Methods  William G. Zikmund</dc:title>
</cp:coreProperties>
</file>