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735E-E03F-4697-93AB-9840EC233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56CF-ED30-4FE9-A9E4-519862F98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EBE5-7346-436F-B867-EC525FA03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CAED-FF1D-480B-A173-8A5C0938F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1C62-6466-4883-9357-10D9BD4E9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7E92-28C9-4D90-9F4D-A7FFB0564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8DE9-50FF-420E-A632-F55F26A11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5FCD-6F8B-4B34-B805-952FC0B1E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EDEC-9258-4382-9764-4FFB36D95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6B84-BCB7-4280-8B97-1CE3074D7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17BC-1904-4221-8AC1-B8B491277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065E-85E9-4FC3-9B5B-9352CC2E1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1302-922F-4153-8BB8-5BDCE3567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45BD-833D-48A9-966F-EB1D2FC1D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10D5-9586-41E3-B42B-7B9B8517C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39D9-B742-486E-B1B2-FFE1A6B61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C7B2-B78C-4E95-8FBA-AA3E3B33C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6F13-E2B0-4651-BB0E-CC0D6414A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0036-FE13-4EDA-904D-B14C04FDD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5C62-7969-4522-86B2-345F7B313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47B0-5B4A-411A-A77B-E684E1CE8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18A1-EFE0-4BEF-90CE-CDA27CD83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1DE6-5191-4C2A-A379-D49C4A4B3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B7F1-4050-4D4E-B355-0F0A576E9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96AD-2049-4B26-BED1-2D95EA506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B8A2-846A-40A1-A9D7-B6EFECC9D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9B35-3D37-497E-BAB9-FB6F9F7C8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28A7-E763-4DB7-998E-557985D97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B7FB-7E2C-4368-88E7-B4DEF0B54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69A1-0531-43FF-AE58-A8332107F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5E23-3293-411B-80F4-0D3994C91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B203-69DF-48CC-A4EA-867386B80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AC92-B825-4625-9582-CDEF8AE41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5543-3001-4CB5-88D9-31F6683C9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E8EB-A89B-46A7-A917-2CFCE025E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55AA-2827-4002-85FA-544FBA7CB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87EC-2694-44AA-BFBB-11D76D754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F364-A258-4B98-9A62-B467B6003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FE8A-62DF-4CAC-8BDB-C80ABAB97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8FBB-14A9-452A-BC01-7947480F6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58D4-E35E-4167-B429-84CE8F39B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4D79-63D7-45E2-B3A6-CC145C623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B9C3-9810-409C-A25A-3DBF41A7C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47C6-0911-4A2D-953D-229DB570D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51E3-8FC6-4A23-B631-CC0D60F79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12BF-4006-493E-B764-24FFC32C0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7B41-86EA-4D41-B19A-5C3F8B16D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A3C62-E194-4B93-8836-A09F226A7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68446-8CF9-4CDB-93FA-541804E37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21CC-2B45-4A8A-A383-B59ABDAA7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2A889-C049-40AC-99B9-E058F43F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E9856-9457-485A-A1B3-91BF2C50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3DC00-BDFA-4163-82CC-E26B3CF3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FA5D7-71FA-41EC-B574-F41713F9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B711A-3A0A-40B8-BAE8-FCD72411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B3694-B860-48C2-9712-820257D5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DFECC-026E-4B60-9178-E92E289C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6BB7-FFA9-4727-B445-77BCEF259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AD9D4-401F-4D71-B97B-8878335F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890FD-16A1-4404-825B-CE52A9A6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689D8-C4CA-4CC7-AE82-510F5DC1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0E4CD-E3E1-496A-A340-31B9A856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7FFD5-C1A9-4CB0-A4F8-C0BEC8DB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8E2AE-E931-428E-B3BC-18304AEB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4FBD4-484A-4C2E-994F-AB72617C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2AC56-CE8C-4DFA-9F3E-D983484E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682BE-81B8-4BB5-99DC-021661BD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51386-1696-45AB-BDD2-D546D782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1D1E-94BE-4AC5-9D5E-6659208A11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C36C9-DF13-49BE-A98F-6EAA8A73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453C1-99E8-41FA-8A8E-15081C1D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0A4C5-BD1D-434C-B7F5-7C41553F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05BBE-5D68-423A-A0B0-C6718D33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16F4C-CA28-40C2-8E09-4FBEEBD6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AAA9E-1427-41D7-920F-EB473EEA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BA760-D8F0-4F5B-AAF8-A97C46FA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DF400-4E2F-4DB5-9193-973370225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058E-4195-4F1A-9C86-94C29866B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D8AAC-FAD8-4DC1-B329-9FB310AD0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8BBF3-935E-49C7-9F86-113C039FC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F61DF-DC4E-4477-A3DF-717A30CCD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E41B7-2963-4B02-98BC-F25C6AA9E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CCC0-3D19-4F46-B576-3B28E934BA9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D451-12B3-4F4C-8FF3-A24CD9E13FA1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7A19-E5D0-48B1-9685-652E91991A2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924F-6862-49DA-B7AF-110A842A8D5B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EEC7-3387-4517-B093-31ED55C1FC7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our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Eight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400" spc="-1" strike="noStrike">
                <a:solidFill>
                  <a:srgbClr val="222222"/>
                </a:solidFill>
                <a:latin typeface="Arial"/>
              </a:rPr>
              <a:t>RFID, Business Intelligence (BI), Mobile Computing, and the Cloud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4" descr="Z:\Chimborazo\ERP Project\Art\Cengage Icon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F89C-306E-453B-8D00-3117B7BF1EB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rcRect l="0" t="0" r="0" b="8582"/>
          <a:stretch/>
        </p:blipFill>
        <p:spPr>
          <a:xfrm>
            <a:off x="746280" y="1360440"/>
            <a:ext cx="7651440" cy="37321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"/>
          <p:cNvSpPr/>
          <p:nvPr/>
        </p:nvSpPr>
        <p:spPr>
          <a:xfrm>
            <a:off x="1676520" y="5726160"/>
            <a:ext cx="645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22222"/>
                </a:solidFill>
                <a:latin typeface="Arial"/>
              </a:rPr>
              <a:t>Figure 8-1 SAP Business Intelligence (BI) frame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Business Intelligence/Business Analytic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nalytic applications and business intellige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Similar sets of data analysis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SAP’s framework, </a:t>
            </a: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nalytic applica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Data analysis tools applied to specific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dustr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Enterprise performance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Concept of developing strategic goals for the organiz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22222"/>
                </a:solidFill>
                <a:latin typeface="Arial"/>
              </a:rPr>
              <a:t>Gathering data to evaluate how the organization is performing in relation to those goal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0E44-3B15-418B-B366-17525AE354E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Business Intelligence/Business Analytic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Governance, risk, and compliance catego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group of activities focused on ensuring an organization is functioning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thically and legal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ata warehous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Technology used to store the large volumes of data used in the analysi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nterprise </a:t>
            </a:r>
            <a:r>
              <a:rPr b="1" lang="en-CA" sz="2600" spc="-1" strike="noStrike">
                <a:solidFill>
                  <a:srgbClr val="222222"/>
                </a:solidFill>
                <a:latin typeface="Arial"/>
              </a:rPr>
              <a:t>information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Describes the business and technology functions that manage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8116-7959-445A-A674-047DDBD5D42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In-Memory Comput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Data in a data warehouse are structured as </a:t>
            </a:r>
            <a:r>
              <a:rPr b="1" lang="en-CA" sz="2600" spc="-1" strike="noStrike">
                <a:solidFill>
                  <a:srgbClr val="222222"/>
                </a:solidFill>
                <a:latin typeface="Arial"/>
              </a:rPr>
              <a:t>multidimensional data cub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llow for relationships in the data to be analyzed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quick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Two main challenges with using a multidimensional cube structu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significant level of technical expertise is needed to construct a cub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multidimensional cube necessarily restricts how the data can be analyz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DA33-D47B-4E89-9F0B-4F44E0A08A0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In-Memory Comput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ccessing data from memory much faster than accessing data from a hard di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Reason why data warehouses use disk memory: 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rage capac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Hard disks can store one thousand times more data than memory for a comparable co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Data compression provided by column stora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Makes it possible to store large volumes of data in memory without aggreg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ultidimensional cubes are not requir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A2B7-0E59-4FC1-8F32-8A9EFB92E80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1915-A89E-455F-9E3B-7925AD2AEE7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419040" y="1752480"/>
            <a:ext cx="8305920" cy="36673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2151000" y="5562720"/>
            <a:ext cx="39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Figure 8-2 Material master data 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In-Memory Comput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Both SAP’s and Oracle’s in-memory solutions are designed to analyz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“big data”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Big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Enormous amount of data that is now available for BI use from all the available sources, including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22222"/>
                </a:solidFill>
                <a:latin typeface="Arial"/>
              </a:rPr>
              <a:t>ERP systems, Web sites, corporate databases, scientific research, Twitter, and other social networking application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BI analytics was the top technology priority for CIOs in 201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C9FE-7A7D-4CDF-B8C8-D35749E490E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Mobile Comput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Increasing use of smartphones, tablet computers, and other mobile computing de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Mobile applications need to be developed for different kinds of smartphones, with different operating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Companies need to make many decisions about the use of mobile devices by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Mobile devices provide users with information and can also be sources of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D418-6D09-43C8-9186-49C0FFB2252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From Internet-Enabled to Cloud Comput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Cloud compu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Delivery of a software product to a user via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The user typically accesses the cloud product through a Web browser or a lightweight (meaning small and simple) application for a computer or mobile devi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Cloud computing is not a completely new concep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It represents the latest stage of the development of computing and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FC07-2007-462D-AADE-75079490311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SAP and the Interne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1996: SAP introduced its joint Internet strategy with Microsof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Internet Transaction Server (IT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server-based software system that enabled efficient communication between an SAP ERP system and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Core of SAP’s first effort to integrate the Internet with its produ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56B5-839A-472A-88F4-60253185CBC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6A1F-CBFC-4569-AD39-67E9D44ADA7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9B86-7866-4327-B016-9B64B1DABC4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Define RFID and its role in logistics and sa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Define business intelligence (BI), and provide examples of its u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Explain how in-memory computing will change the use of BI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Discuss the importance of mobile applications to busin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Describe cloud computing and why it is becoming important for ERP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vid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SAP and the Interne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May 1999: SAP announced mySAP.co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new strategy designed to completely realign the company and its product portfolio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Goal: combine e-commerce solutions with SAP’s existing ERP applications, using cutting-edge Web technolog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2000: SAP began building on the mySAP.com vis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dded the capability for electronic marketplaces and corporate porta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C796-1DFA-4939-A2CD-D49B9C5730A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NetWeav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2004: SAP introduced its first version of SAP NetWea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collection of components that support business transactions over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Provide seamless connectivity of diverse appl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SAP’s enterprise service-oriented architecture (enterprise SOA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Goal of making all of its business applications service ba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890C-228F-4A9B-8B5A-F64A7CE47DC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NetWeaver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Web ser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Combination of software tools that enables an organization’s various systems and applications to communicate with other appl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SAP’s NetWea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Web services platform that allows various vendor applications to share data over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4BA9-3B3C-4D00-995F-5468BFC9359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NetWeaver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One benefit of adopting SO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bility to quickly add new applications, making the organization more responsiv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Use of open standar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Implementing SOA is not eas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Return on an SOA investment is often difficult to determin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DB9D-D2A8-437D-9E96-19BD6C23960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tWeaver Tools and Capabilit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SAP’s NetWeaver platform is a collection of modules, includ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Enterprise Porta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Mobile Infrastructu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Business Intellige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Master Data Manage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Exchange Infrastructu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2017-6365-4429-B91F-D7D918F5EA8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tWeaver Tools and Capabiliti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SAP Enterprise Portal gives users complete access to all their work on a single scree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ll information is available through the Web services provided by NetWea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NetWeaver’s Mobile Infrastructure module allows users to access and work with data through mobile devices such as smartphones and pag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2EC1-65A4-4AEE-AE16-3CA75B0F9D2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tWeaver Tools and Capabiliti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Business Intelligence (BI) works with any database management software and any operating system that is running NetWea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Master Data Management provides data consistency within a company’s SA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NetWeaver’s Exchange Infrastructure module allows different applications to shar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82F8-B659-45BE-A2CD-B601F9DAF75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NetWeaver at Work for Fitt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Examining how NetWeaver can help Fit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Fitter has an SAP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Fitter’s two top salespeople, Amy Sanchez and Donald Brown, are busy selling NRG bars directly to customers and to distributo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8608-0BCB-44F9-8264-7CDBE1CF021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aS: Software As A Servi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 software delivery mod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 software product is hosted by a company—such as SAP—on its servers and is accessed by customers via a Web brows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222222"/>
                </a:solidFill>
                <a:latin typeface="Arial"/>
              </a:rPr>
              <a:t>Sometimes described as a util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 subset of cloud compu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4842-F635-4452-8FE3-C81CFE30476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Business ByDesig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n example of SaaS for the ERP mark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First released in 2007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 full ERP system delivered to customers via the clou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For small to medium-sized compani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Lowers the total cost of ownership of the softwa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Enables a rapid and smooth implement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9078-6105-44BF-9C8A-8A0162547F8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B2B3-D46D-46A4-8F58-AF3588A2ECD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201D-338D-4F8F-A35A-E741538A0B4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Explain how the service-oriented architecture (SOA) concept ha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hanged ERP develop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Describe Web services, and outline the unique components of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tWea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Define software as a service (SaaS), and identify the advantages and disadvantages of using this software delivery mod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353D-237A-4C44-90F6-3EFA6825E76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917640" y="1581120"/>
            <a:ext cx="7311960" cy="27622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/>
          <p:cNvSpPr/>
          <p:nvPr/>
        </p:nvSpPr>
        <p:spPr>
          <a:xfrm>
            <a:off x="1905120" y="4572000"/>
            <a:ext cx="5486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igure 8-4 SAP Business ByDesign main scre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Business ByDesig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PlaNet Fina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small organization that offers microloans to customers in 30 international off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Finds Business ByDesign is a good fit for its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C30E-09F9-4A6C-9B18-3355B717043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E2F0-A7A0-4BB4-92AF-714F2993AAE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087640" y="609480"/>
            <a:ext cx="4998960" cy="46641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"/>
          <p:cNvSpPr/>
          <p:nvPr/>
        </p:nvSpPr>
        <p:spPr>
          <a:xfrm>
            <a:off x="1447920" y="5497560"/>
            <a:ext cx="6324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IGURE 8-5 SAP Business ByDesign’s key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dvantages of Using Saa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Initial affordabil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Lower cost to implement software provided through Sa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Shorter implementation ti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Implementation time usually shorter as the user does not have to worry about technical issu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Lower support costs and complex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Do not need to hire additional IT personnel to implement new systems and appl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82E0-921F-4A0A-8672-727E4DA7BA0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isadvantages of Using Saa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ur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Bandwidth/response ti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Flexibil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No frill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Technical, not business focu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ercise 8.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Fitter has made the decision to acquire an ERP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65B8-02A5-49D9-B295-12C0EC0BFA8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A3F9-0412-4F05-9A1D-A2C7C54964B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152360" y="2762280"/>
            <a:ext cx="6839280" cy="13334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1152360" y="4648320"/>
            <a:ext cx="68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22222"/>
                </a:solidFill>
                <a:latin typeface="Arial"/>
              </a:rPr>
              <a:t>FIGURE 8-7 Arguments for purchasing ERP system and software versus using Sa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Option 1: Buying Computers and Software Rights for an ERP Syste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Estimated costs to set up its own ERP system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base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pplication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C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uter mainten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icensing righ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stall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r trai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going consul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twork and database administra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A4F0-051D-4032-8242-1D00BAB7671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Option 2: Using an SaaS Provider to Deliver ERP Softwa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Estimated costs for using an SaaS provider to deliver ERP software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C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uter mainten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Software through the SaaS provi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r trai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E35C-11BC-450B-8FB9-4CBAD7C7382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Calculate the NPV and Make a Recommend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You will set up a spreadsheet to total all the costs of each op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In each scenario, you must deal with the net present value (NPV) of mone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NPV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way to figure out whether an investment is profit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In this case, to compare outlay of funds from one method to anoth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ddresses the time value of mone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54B6-8071-4055-A979-FC06E743D22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Calculate the NPV and Make a Recommend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When calculating two different investment options, NPV calculation allow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Different future expenses or earnings to be calculated as an equivalent amount in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present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NPV can be calculated over a number of yea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In example: we need a five-year outlay of funds for the ERP proje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89C6-0D62-4DE9-B4D4-D983A27A8D5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951D-95D0-45C7-951D-B1482DA4DBB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n Enterprise Resource Planning (ERP) system allows a company to accomplish tasks that cannot be done well, if at all, without such a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Traditionally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ERP systems have been software applications that are run on a company’s own computer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Focus of ERP has been on managing business transa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Calculate the NPV and Make a Recommend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an Excel spreadsheet, the </a:t>
            </a: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syntax of NPV calculation:</a:t>
            </a:r>
            <a:br>
              <a:rPr sz="2600"/>
            </a:b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=</a:t>
            </a:r>
            <a:r>
              <a:rPr b="0" i="1" lang="en-CA" sz="2600" spc="-1" strike="noStrike">
                <a:solidFill>
                  <a:srgbClr val="222222"/>
                </a:solidFill>
                <a:latin typeface="Arial"/>
              </a:rPr>
              <a:t>NPV</a:t>
            </a: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 (</a:t>
            </a:r>
            <a:r>
              <a:rPr b="0" i="1" lang="en-CA" sz="2600" spc="-1" strike="noStrike">
                <a:solidFill>
                  <a:srgbClr val="222222"/>
                </a:solidFill>
                <a:latin typeface="Arial"/>
              </a:rPr>
              <a:t>hurdle rate percentage</a:t>
            </a: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, </a:t>
            </a:r>
            <a:r>
              <a:rPr b="0" i="1" lang="en-CA" sz="2600" spc="-1" strike="noStrike">
                <a:solidFill>
                  <a:srgbClr val="222222"/>
                </a:solidFill>
                <a:latin typeface="Arial"/>
              </a:rPr>
              <a:t>range of values</a:t>
            </a: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Values in range can be positive or negative numb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Hurdle rat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22222"/>
                </a:solidFill>
                <a:latin typeface="Arial"/>
              </a:rPr>
              <a:t>Rate of discount over the perio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22222"/>
                </a:solidFill>
                <a:latin typeface="Arial"/>
              </a:rPr>
              <a:t>Minimum acceptable rate of return on a project that a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mpany will accep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2225-1AAA-4417-A331-BE70AF4A992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D23E-8568-4EF5-9630-01578E6B908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6640" cy="49449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1828800" y="5802480"/>
            <a:ext cx="5410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igure 8-8 Cost comparisons: buying versus Sa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Calculate the NPV and Make a Recommend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Perform the following step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Calculate the cost of the two methods of implementing an ERP system for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ve yea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Consider using different hurdle rates for each op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22222"/>
                </a:solidFill>
                <a:latin typeface="Arial"/>
              </a:rPr>
              <a:t>Why might varying hurdle rates be applicable for this decision?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Write a memo, with your spreadsheet attached, to the CIO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22222"/>
                </a:solidFill>
                <a:latin typeface="Arial"/>
              </a:rPr>
              <a:t>Answer this question: Which method should Fitter choose, and why?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CDD6-2933-4416-976B-413C40CDFFF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Technologies such as radio frequency identification (RFID) and smartphones are fueling explosive growth in the amount of data available for businesses to proc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Business intelligence (BI) tools are growing in sophistication and pow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Technologies such as in-memory computing will provide greater speed and flexibility to BI us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Mobile computing technology is increasing the use of ERP and BI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0745-A35C-44BB-A3B6-F2FD8309F24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Cloud computing is the delivery of a software product to a user via the Intern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Web services and service-oriented architecture offer a combination of software tools that enables various programs within an organization to communicate with other applica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SAP’s Web services platform is NetWea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collection of components that support business transactions over the Internet by providing seamless connectivity of diverse applications through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B6A6-B973-4EEF-936C-D5B7F0131F2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Software as a service (SaaS) is a software delivery model in which a software product is hosted by a company—such as SAP—on its servers and is accessed by customers via a Web brows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SaaS model allows companies to use ERP without a large initial invest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SaaS solutions allow for more rapid improvements in the software through user communit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There are some risks associated with using an SaaS provi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8CEA-064E-4FCD-BEDD-43ABB1F8312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AF4E-85BC-40AD-A0E7-139BCA98105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Technologies, such as radio frequency identification (RFID), are increasing the amount of data that is contained in ERP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Business intelligence technologies are turning data in ERP systems into valuable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Cloud computing and mobile technologies are changing where ERP data is stored and how it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s deliver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Radio Frequency Identification (RFID) Technolog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222222"/>
                </a:solidFill>
                <a:latin typeface="Arial"/>
              </a:rPr>
              <a:t>Radio frequency identification</a:t>
            </a: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 technolog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Known commonly as RFI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Becoming an increasingly efficient tool for tracking items through a supply ch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FID devi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Can be attached to produ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small package (or tag) made up of a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icroprocessor and an antenn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B552-450A-429C-B5E0-8B18B1C0DDE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Radio Frequency Identification (RFID) Technolog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RFID read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Can determine location of an item with an RFID ta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Emits radio waves and receives signals back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rom the ta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ometimes called an interroga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dvantages of RFID technology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Does not need a line-of-sight conne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Can withstand most environmental str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C405-F313-4DA1-A2B7-75AACBA062D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Radio Frequency Identification (RFID) Technolog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Walmart is on the leading edge of the move to integrate RFID technology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to the supply chai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Pharmaceutical firms are evaluating the use of RFID technolog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RFID technology is being employed to track medical device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Spectrum Health’s Meijer Heart Center is using RFID technology to track st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5255-A1EB-47B0-9AC2-B5B77ACDBA4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Business Intelligence/Business Analytic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usiness intelligence (BI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lso referred to as </a:t>
            </a:r>
            <a:r>
              <a:rPr b="0" i="1" lang="en-CA" sz="2400" spc="-1" strike="noStrike">
                <a:solidFill>
                  <a:srgbClr val="222222"/>
                </a:solidFill>
                <a:latin typeface="Arial"/>
              </a:rPr>
              <a:t>business analytic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range of different applications and technologies used to extract and analyze large amounts of data to aid in decision mak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Includes data-mining tools and querying too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There has been significant growth in the BI market in recent yea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9F6A-09F4-4C4E-8A2F-763F28107DC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4-09-02T07:43:54Z</dcterms:modified>
  <cp:revision>632</cp:revision>
  <dc:subject/>
  <dc:title>Chapter 7</dc:title>
</cp:coreProperties>
</file>