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04A3-DFDF-407C-9671-164635ADD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D0DC-F0A6-425D-BB2D-D97D201B1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2443-0BAD-455C-ACBC-2116A0731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C015-87C9-413A-BD09-A716B2956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995D-AA3E-4A9B-8D07-1698EB51D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8D8F-188F-4A0E-9002-49589C106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88FD-1665-456B-BF85-6F892BF47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9B81-D36D-4487-92E8-107D434DC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3318-ED65-4EB0-81C5-B0F7E6B42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C1D9-3209-431E-9936-F140A8705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E72A-7907-47BE-A16F-EF66BEB79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BD77-DEDC-4F7F-B40D-38F2D3DF9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69DA-800E-4BBB-B0BC-3B42406FC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2509-DCC0-49DC-BBE5-A40E1D4FC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369B-10CB-4E17-AA16-84FE69EC9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32C9-49AD-4BC2-87C9-04008351B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1CD2-3BC7-4A06-A164-D11E707F6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26E2-B9A2-41F0-A15F-FC9F65684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AB7E-F128-4013-A472-70825B811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053C-0D74-4B61-BFF4-CAC375FA6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A767-1F4D-4A5C-9585-2B56C5CBC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75B2-6CE2-4888-93CF-ABE46D4B3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0AD2-DE09-4F3E-ADAE-1FA44F230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781B-6EAC-4D12-9D88-01DFC5349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3B57-8BF2-4B83-B22E-866E458AA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84E8-7893-4DD2-B41C-AB91D2944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1FAE-7D69-4BC2-9ABF-77A832BED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776C-C23C-4A78-9813-757CBAF00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BC9A-8D6F-4551-BA9E-36B2CAB98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DA12-F7B7-455F-988F-F2BCE028E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C5FF-EDF7-40E7-B06B-CD5F57F82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BED0-219F-4D23-97AD-377B1320C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C54A-11C1-4280-8F79-A2EA56C39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0FDB-3874-489E-92BE-78341A966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C9BF-5893-4F26-A643-09B80DD8D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CBA3-C5F5-4799-BB3F-17DF2BD68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1C05-69D3-4A97-B20F-F464622B8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42A3-34FD-4505-B247-6547B997C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44A3-2973-4E2C-AA06-98DE10E83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B326-B0CE-410F-B6C6-2FA2805F2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8C60-119B-409E-B6AA-DEAD4EE3E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E0C7-5AD4-4584-A3B1-DCAB59C31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9895-D780-4E4E-93E6-03FA2FFC2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14C9-1C6A-4502-877F-7526AB92E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2C0E-47F6-453B-A16A-8931D8293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E756-5CB8-466A-B515-C3EF33886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26534-BCCA-4F66-BAE3-C47EBBF0B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5FD47-3C78-4C5A-AD1E-D97F21D4F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B0470-F59F-4399-A8E6-5EB8C4205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8EB8C-1CD0-4E3D-B962-6395E7330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FB9B8-8A2D-400F-B857-CC7CEF85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8A86D-17E4-4D54-90F2-54CDF461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4BB87-6B7F-4815-8CD6-E08E73AC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4EE50-E277-4747-A7DD-33623043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0FA29-8F79-4D6F-BDB4-1F3D8F8D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CD860-73FA-4243-B8F1-4D75C22E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0CDA1-244F-44AD-A9B7-14E3F1A5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9D1DF-B0C1-4264-9553-E08716714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9DED0-3C57-4757-B5F2-0C766DAD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E100C-72DD-43AD-B946-2E5513A8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6F953-46E6-4AF4-A50F-FB19B626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D13FD-5DC5-49AF-A80C-1ACB6805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1E432-FD01-4FFC-AFA1-0D33D231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39173B-1AF7-4C4B-930E-2385CF53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DEB00-985F-4AD0-B989-97E2EBFB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EEA669-8900-4D31-A5C2-AF872743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754BC-A4EC-4E23-AE4A-D1BDAFDF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04123C-B283-469E-904A-B527A2AC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43D55-C381-4797-91AF-1A2D38E73E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01760-F5D2-416B-961C-E769105D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BDD0FB-5E5A-4D9B-8E36-6158F6EB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A52A0B-D83C-46BD-BA7C-C3B6F3DA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64AAA-5400-4F2C-B9D8-46663894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966A1-FCA9-441E-9EE1-07B754E3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56ED7A-7056-4006-9953-73AB02A92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86A3C9-E9C0-4959-BF83-A37DB8ED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9C825-4CDB-46EF-A046-8E37B8BA2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D5EB0-AA95-4CE8-B275-2990017EE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6A8B5-F316-4A3F-9A5A-888A8DB57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8B13E-77B5-4EA9-A3CF-7EEF35152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4839A-703D-49EF-A411-152A23935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63478-A2F3-4884-8C3C-5B196CC06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063D-54F0-427C-A1B6-874EF97E640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C072-78A7-4C30-81C9-FC38B1DE5E3F}" type="datetime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7758-69E1-4A7E-AE4C-AD34D1463CE6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AC07-C5EB-4697-AE14-64DA80BF97FD}" type="datetime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56F5-E175-4BF3-B0E9-5352A7A52F7B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Concepts in Enterprise Resource Planning</a:t>
            </a:r>
            <a:br>
              <a:rPr sz="4400"/>
            </a:br>
            <a:r>
              <a:rPr b="0" i="1" lang="en-US" sz="4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Four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Eight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400" spc="-1" strike="noStrike">
                <a:solidFill>
                  <a:srgbClr val="222222"/>
                </a:solidFill>
                <a:latin typeface="Arial"/>
              </a:rPr>
              <a:t>RFID, Business Intelligence (BI), Mobile Computing, and the Cloud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31" name="Picture 4" descr="Z:\Chimborazo\ERP Project\Art\Cengage Icon.jpg"/>
          <p:cNvPicPr/>
          <p:nvPr/>
        </p:nvPicPr>
        <p:blipFill>
          <a:blip r:embed="rId1"/>
          <a:stretch/>
        </p:blipFill>
        <p:spPr>
          <a:xfrm>
            <a:off x="0" y="0"/>
            <a:ext cx="3666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5EC3-3261-4A43-9BC3-D24D35BD463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rcRect l="0" t="0" r="0" b="8582"/>
          <a:stretch/>
        </p:blipFill>
        <p:spPr>
          <a:xfrm>
            <a:off x="746280" y="1360440"/>
            <a:ext cx="7651440" cy="37321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"/>
          <p:cNvSpPr/>
          <p:nvPr/>
        </p:nvSpPr>
        <p:spPr>
          <a:xfrm>
            <a:off x="1676520" y="5726160"/>
            <a:ext cx="645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22222"/>
                </a:solidFill>
                <a:latin typeface="Arial"/>
              </a:rPr>
              <a:t>Figure 8-1 SAP Business Intelligence (BI) frame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Business Intelligence/Business Analytic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Analytic applications and business intelligen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Similar sets of data analysis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SAP’s framework, </a:t>
            </a: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Analytic applica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Data analysis tools applied to specific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dustr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Enterprise performance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Concept of developing strategic goals for the organiz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22222"/>
                </a:solidFill>
                <a:latin typeface="Arial"/>
              </a:rPr>
              <a:t>Gathering data to evaluate how the organization is performing in relation to those goal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EDE2-4734-4761-94E6-0BCDDB5761B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Business Intelligence/Business Analytic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Governance, risk, and compliance categor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 group of activities focused on ensuring an organization is functioning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thically and legal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ata warehous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Technology used to store the large volumes of data used in the analysi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Enterprise </a:t>
            </a:r>
            <a:r>
              <a:rPr b="1" lang="en-CA" sz="2600" spc="-1" strike="noStrike">
                <a:solidFill>
                  <a:srgbClr val="222222"/>
                </a:solidFill>
                <a:latin typeface="Arial"/>
              </a:rPr>
              <a:t>information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Describes the business and technology functions that manage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6CD9-5EA8-4EE8-9CCA-6663F932303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In-Memory Comput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Data in a data warehouse are structured as </a:t>
            </a:r>
            <a:r>
              <a:rPr b="1" lang="en-CA" sz="2600" spc="-1" strike="noStrike">
                <a:solidFill>
                  <a:srgbClr val="222222"/>
                </a:solidFill>
                <a:latin typeface="Arial"/>
              </a:rPr>
              <a:t>multidimensional data cub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llow for relationships in the data to be analyzed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quick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Two main challenges with using a multidimensional cube structur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 significant level of technical expertise is needed to construct a cub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 multidimensional cube necessarily restricts how the data can be analyz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1B00-1515-4DC1-9643-5FB1C847A80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In-Memory Comput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Accessing data from memory much faster than accessing data from a hard disk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Reason why data warehouses use disk memory: 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rage capac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Hard disks can store one thousand times more data than memory for a comparable co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Data compression provided by column storag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Makes it possible to store large volumes of data in memory without aggreg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ultidimensional cubes are not requir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6B3B-E5A1-44A3-8553-6A86D6E1C9D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AD92-BD65-4748-99F1-5A2AAD00FDE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419040" y="1752480"/>
            <a:ext cx="8305920" cy="36673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6"/>
          <p:cNvSpPr/>
          <p:nvPr/>
        </p:nvSpPr>
        <p:spPr>
          <a:xfrm>
            <a:off x="2151000" y="5562720"/>
            <a:ext cx="39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Figure 8-2 Material master data 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In-Memory Comput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Both SAP’s and Oracle’s in-memory solutions are designed to analyz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“big data”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Big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Enormous amount of data that is now available for BI use from all the available sources, including: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22222"/>
                </a:solidFill>
                <a:latin typeface="Arial"/>
              </a:rPr>
              <a:t>ERP systems, Web sites, corporate databases, scientific research, Twitter, and other social networking application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BI analytics was the top technology priority for CIOs in 201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CDBD-8001-4E02-80D8-225D40CCA63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Mobile Comput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Increasing use of smartphones, tablet computers, and other mobile computing devi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Mobile applications need to be developed for different kinds of smartphones, with different operating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Companies need to make many decisions about the use of mobile devices by employ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Mobile devices provide users with information and can also be sources of inform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25A8-5A33-4B64-A969-EA1F0FACB70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From Internet-Enabled to Cloud Comput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Cloud comput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Delivery of a software product to a user via the Interne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The user typically accesses the cloud product through a Web browser or a lightweight (meaning small and simple) application for a computer or mobile devi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Cloud computing is not a completely new concep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It represents the latest stage of the development of computing and the Interne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E138-08B9-4AD6-87D6-1F847298485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SAP and the Interne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1996: SAP introduced its joint Internet strategy with Microsof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Internet Transaction Server (ITS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 server-based software system that enabled efficient communication between an SAP ERP system and the Interne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Core of SAP’s first effort to integrate the Internet with its produc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25CB-23A1-416E-8D80-9C1AB136E3D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0964-735B-45F4-BDEC-F67B04BBA27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5764-47EE-493B-AC7C-7418669FBEF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completing this chapter, you will be able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Define RFID and its role in logistics and sa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Define business intelligence (BI), and provide examples of its us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Explain how in-memory computing will change the use of BI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Discuss the importance of mobile applications to business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Describe cloud computing and why it is becoming important for ERP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vid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SAP and the Interne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May 1999: SAP announced mySAP.co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 new strategy designed to completely realign the company and its product portfolio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Goal: combine e-commerce solutions with SAP’s existing ERP applications, using cutting-edge Web technolog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2000: SAP began building on the mySAP.com vis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dded the capability for electronic marketplaces and corporate porta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7509-BDE4-4266-93D4-9F97148EABF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NetWeaver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2004: SAP introduced its first version of SAP NetWea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 collection of components that support business transactions over the Interne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Provide seamless connectivity of diverse applic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SAP’s enterprise service-oriented architecture (enterprise SOA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Goal of making all of its business applications service bas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E45C-DDA5-417F-B6FA-0784B6FA818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NetWeaver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Web servi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Combination of software tools that enables an organization’s various systems and applications to communicate with other applic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SAP’s NetWea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 Web services platform that allows various vendor applications to share data over the Interne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DE77-BD55-4725-A65F-2EE0B7A313B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NetWeaver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One benefit of adopting SO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bility to quickly add new applications, making the organization more responsiv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Use of open standar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Implementing SOA is not eas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Return on an SOA investment is often difficult to determin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F362-085A-4DF2-B288-B7E3754FD37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tWeaver Tools and Capabiliti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SAP’s NetWeaver platform is a collection of modules, including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Enterprise Porta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Mobile Infrastructu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Business Intelligen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Master Data Manage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Exchange Infrastructu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11DB-309E-4656-80AC-25227991133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tWeaver Tools and Capabiliti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SAP Enterprise Portal gives users complete access to all their work on a single scree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ll information is available through the Web services provided by NetWea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NetWeaver’s Mobile Infrastructure module allows users to access and work with data through mobile devices such as smartphones and pag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7594-00D0-4072-88CF-D52994610E3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tWeaver Tools and Capabiliti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Business Intelligence (BI) works with any database management software and any operating system that is running NetWea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Master Data Management provides data consistency within a company’s SAP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NetWeaver’s Exchange Infrastructure module allows different applications to share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ADB4-2A9F-4058-B1C8-54DE1FFB54B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NetWeaver at Work for Fitter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Examining how NetWeaver can help Fitt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Fitter has an SAP ERP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Fitter’s two top salespeople, Amy Sanchez and Donald Brown, are busy selling NRG bars directly to customers and to distributo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1876-0152-423C-9507-8FDC7102AB9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aS: Software As A Servi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A software delivery mod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A software product is hosted by a company—such as SAP—on its servers and is accessed by customers via a Web brows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222222"/>
                </a:solidFill>
                <a:latin typeface="Arial"/>
              </a:rPr>
              <a:t>Sometimes described as a util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A subset of cloud comput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7322-B17B-4B9C-A45C-5F9AF395EE9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Business ByDesig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An example of SaaS for the ERP marke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First released in 2007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A full ERP system delivered to customers via the clou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For small to medium-sized companie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Lowers the total cost of ownership of the softwa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Enables a rapid and smooth implement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8557-30CD-4296-A932-D56DA162C8D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Slide Number Placeholder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BB9C-8A2F-4BAA-BDA1-6834DFF0AD8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A5C4-33A9-4521-9264-1708448E6A0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Explain how the service-oriented architecture (SOA) concept has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hanged ERP develop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Describe Web services, and outline the unique components of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etWea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Define software as a service (SaaS), and identify the advantages and disadvantages of using this software delivery mod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4BA1-1AA8-4A01-8B54-33B8A259FCC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917640" y="1581120"/>
            <a:ext cx="7311960" cy="27622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7"/>
          <p:cNvSpPr/>
          <p:nvPr/>
        </p:nvSpPr>
        <p:spPr>
          <a:xfrm>
            <a:off x="1905120" y="4572000"/>
            <a:ext cx="5486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igure 8-4 SAP Business ByDesign main scre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P Business ByDesig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PlaNet Finan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 small organization that offers microloans to customers in 30 international offi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Finds Business ByDesign is a good fit for its need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CE5B-C15A-4EAF-BDED-FD1E5C41BE5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89BE-41FB-4543-A14F-14468D6DC10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087640" y="609480"/>
            <a:ext cx="4998960" cy="46641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5"/>
          <p:cNvSpPr/>
          <p:nvPr/>
        </p:nvSpPr>
        <p:spPr>
          <a:xfrm>
            <a:off x="1447920" y="5497560"/>
            <a:ext cx="63244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IGURE 8-5 SAP Business ByDesign’s key capabi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dvantages of Using Saa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Initial affordabil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Lower cost to implement software provided through Saa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Shorter implementation tim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Implementation time usually shorter as the user does not have to worry about technical issu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Lower support costs and complex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Do not need to hire additional IT personnel to implement new systems and applic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333A-C947-4469-B575-BD497D9CB40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isadvantages of Using Saa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ur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Bandwidth/response tim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Flexibilit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No frill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Technical, not business focu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xercise 8.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Fitter has made the decision to acquire an ERP syst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1F06-BE63-49B2-8485-F4B26C3546D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CC6D-4344-4104-99CF-13AB7931E8B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1152360" y="2762280"/>
            <a:ext cx="6839280" cy="133344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5"/>
          <p:cNvSpPr/>
          <p:nvPr/>
        </p:nvSpPr>
        <p:spPr>
          <a:xfrm>
            <a:off x="1152360" y="4648320"/>
            <a:ext cx="683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222222"/>
                </a:solidFill>
                <a:latin typeface="Arial"/>
              </a:rPr>
              <a:t>FIGURE 8-7 Arguments for purchasing ERP system and software versus using Sa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Option 1: Buying Computers and Software Rights for an ERP Syste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Estimated costs to set up its own ERP system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atabase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pplication serv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C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uter maintenan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icensing righ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stall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r train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ngoing consult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etwork and database administrato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16E2-8F34-428F-B443-4112226520B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Option 2: Using an SaaS Provider to Deliver ERP Softwa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Estimated costs for using an SaaS provider to deliver ERP software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C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uter maintenan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Software through the SaaS provid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er train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C196-7659-462E-A026-0E4D5F31C4F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Calculate the NPV and Make a Recommenda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You will set up a spreadsheet to total all the costs of each op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In each scenario, you must deal with the net present value (NPV) of mone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NPV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 way to figure out whether an investment is profitab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In this case, to compare outlay of funds from one method to anoth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ddresses the time value of mone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4288-46DF-4DD7-955A-CD280F13C30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Calculate the NPV and Make a Recommenda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When calculating two different investment options, NPV calculation allow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Different future expenses or earnings to be calculated as an equivalent amount in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 present tim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NPV can be calculated over a number of yea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In example: we need a five-year outlay of funds for the ERP projec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37F6-F71F-4A75-8C9F-88D226CC1AA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9B0A-7E27-4A98-AA2B-E481C43BB20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An Enterprise Resource Planning (ERP) system allows a company to accomplish tasks that cannot be done well, if at all, without such a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Traditionally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ERP systems have been software applications that are run on a company’s own computer syst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Focus of ERP has been on managing business transac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Calculate the NPV and Make a Recommenda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an Excel spreadsheet, the </a:t>
            </a: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syntax of NPV calculation:</a:t>
            </a:r>
            <a:br>
              <a:rPr sz="2600"/>
            </a:b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=</a:t>
            </a:r>
            <a:r>
              <a:rPr b="0" i="1" lang="en-CA" sz="2600" spc="-1" strike="noStrike">
                <a:solidFill>
                  <a:srgbClr val="222222"/>
                </a:solidFill>
                <a:latin typeface="Arial"/>
              </a:rPr>
              <a:t>NPV</a:t>
            </a: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 (</a:t>
            </a:r>
            <a:r>
              <a:rPr b="0" i="1" lang="en-CA" sz="2600" spc="-1" strike="noStrike">
                <a:solidFill>
                  <a:srgbClr val="222222"/>
                </a:solidFill>
                <a:latin typeface="Arial"/>
              </a:rPr>
              <a:t>hurdle rate percentage</a:t>
            </a: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, </a:t>
            </a:r>
            <a:r>
              <a:rPr b="0" i="1" lang="en-CA" sz="2600" spc="-1" strike="noStrike">
                <a:solidFill>
                  <a:srgbClr val="222222"/>
                </a:solidFill>
                <a:latin typeface="Arial"/>
              </a:rPr>
              <a:t>range of values</a:t>
            </a: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Values in range can be positive or negative numb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Hurdle rat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22222"/>
                </a:solidFill>
                <a:latin typeface="Arial"/>
              </a:rPr>
              <a:t>Rate of discount over the perio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22222"/>
                </a:solidFill>
                <a:latin typeface="Arial"/>
              </a:rPr>
              <a:t>Minimum acceptable rate of return on a project that a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ompany will accep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175B-656B-475F-80D9-956989BAAB2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22C1-D7B2-4BB9-8326-A8F9DC8025B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6640" cy="49449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5"/>
          <p:cNvSpPr/>
          <p:nvPr/>
        </p:nvSpPr>
        <p:spPr>
          <a:xfrm>
            <a:off x="1828800" y="5802480"/>
            <a:ext cx="5410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igure 8-8 Cost comparisons: buying versus Sa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Calculate the NPV and Make a Recommenda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Perform the following steps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Calculate the cost of the two methods of implementing an ERP system for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ve yea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Consider using different hurdle rates for each op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22222"/>
                </a:solidFill>
                <a:latin typeface="Arial"/>
              </a:rPr>
              <a:t>Why might varying hurdle rates be applicable for this decision?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Write a memo, with your spreadsheet attached, to the CIO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222222"/>
                </a:solidFill>
                <a:latin typeface="Arial"/>
              </a:rPr>
              <a:t>Answer this question: Which method should Fitter choose, and why?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D75F-6234-4E3A-8B60-C3E9C69AEC6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Technologies such as radio frequency identification (RFID) and smartphones are fueling explosive growth in the amount of data available for businesses to proces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Business intelligence (BI) tools are growing in sophistication and pow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Technologies such as in-memory computing will provide greater speed and flexibility to BI us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Mobile computing technology is increasing the use of ERP and BI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C4BC-CB04-4999-AA0C-F1AB69EFCD5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Cloud computing is the delivery of a software product to a user via the Interne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Web services and service-oriented architecture offer a combination of software tools that enables various programs within an organization to communicate with other applica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SAP’s Web services platform is NetWeav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 collection of components that support business transactions over the Internet by providing seamless connectivity of diverse applications through the Interne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DC6E-BDDD-45D6-81A4-70A71CAFF4C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Software as a service (SaaS) is a software delivery model in which a software product is hosted by a company—such as SAP—on its servers and is accessed by customers via a Web brows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SaaS model allows companies to use ERP without a large initial invest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SaaS solutions allow for more rapid improvements in the software through user communit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There are some risks associated with using an SaaS provid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872D-4C37-4052-8E6E-F06C30005DA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98A1-2FE6-40A8-8F15-E571E58690A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roduc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Technologies, such as radio frequency identification (RFID), are increasing the amount of data that is contained in ERP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Business intelligence technologies are turning data in ERP systems into valuable inform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Cloud computing and mobile technologies are changing where ERP data is stored and how it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s deliver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Radio Frequency Identification (RFID) Technolog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222222"/>
                </a:solidFill>
                <a:latin typeface="Arial"/>
              </a:rPr>
              <a:t>Radio frequency identification</a:t>
            </a: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 technolog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Known commonly as RFI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Becoming an increasingly efficient tool for tracking items through a supply chai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RFID devi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Can be attached to produc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 small package (or tag) made up of a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icroprocessor and an antenn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7D7C-C9F2-46E8-8BFE-204653182E6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Radio Frequency Identification (RFID) Technolog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RFID read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Can determine location of an item with an RFID ta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Emits radio waves and receives signals back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rom the ta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ometimes called an interrogato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Advantages of RFID technology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Does not need a line-of-sight connec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Can withstand most environmental stres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159A-B984-442D-B3E2-42B3C5E03E0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Radio Frequency Identification (RFID) Technolog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Walmart is on the leading edge of the move to integrate RFID technology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to the supply chai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Pharmaceutical firms are evaluating the use of RFID technolog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RFID technology is being employed to track medical device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Spectrum Health’s Meijer Heart Center is using RFID technology to track st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4164-87D9-4F30-ACC2-1CE977407C8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222222"/>
                </a:solidFill>
                <a:latin typeface="Arial"/>
              </a:rPr>
              <a:t>Business Intelligence/Business Analytic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Business intelligence (BI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lso referred to as </a:t>
            </a:r>
            <a:r>
              <a:rPr b="0" i="1" lang="en-CA" sz="2400" spc="-1" strike="noStrike">
                <a:solidFill>
                  <a:srgbClr val="222222"/>
                </a:solidFill>
                <a:latin typeface="Arial"/>
              </a:rPr>
              <a:t>business analytic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A range of different applications and technologies used to extract and analyze large amounts of data to aid in decision mak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222222"/>
                </a:solidFill>
                <a:latin typeface="Arial"/>
              </a:rPr>
              <a:t>Includes data-mining tools and querying too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222222"/>
                </a:solidFill>
                <a:latin typeface="Arial"/>
              </a:rPr>
              <a:t>There has been significant growth in the BI market in recent yea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Four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B004-9326-4D08-9CD3-FA8526808E4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4-09-02T07:43:54Z</dcterms:modified>
  <cp:revision>632</cp:revision>
  <dc:subject/>
  <dc:title>Chapter 7</dc:title>
</cp:coreProperties>
</file>