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CC2A-B61B-4410-AF43-32359EA6D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3D73-1F18-4F0B-97D9-810582684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ومن خلال هذه المعادلة استطيع فهم معنى كلمة مدين وكلمة دائ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9D73-B8C9-438D-AEE3-A3A18DAD0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E06-69AB-470F-8DFB-BC4BFE51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0AD-4D98-43B5-8F46-DB4A5D18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052-8489-4513-BF4C-B8CB840F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3E1-2FE1-45F5-B4E4-50AEBF79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E2C2-EF96-473B-B55E-F39B0C4D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80B6-E9D7-4C92-A189-5DDAD71C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62C3-CABB-480D-A19E-8CD90A3F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AB9C-2514-4301-BAE1-3389A91B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ED2A-7598-432F-AE7E-4936A09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AE66-B151-4338-A8E2-A2973EF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B083-7665-4803-A862-2EBDC7C6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5B6-9253-4503-80CD-935072A0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9DB5-363C-40CB-8F04-D7D2283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399-FA25-4D85-BEA8-1D63FD15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FDCA-8D77-4A5B-AA03-E2100BA9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2F22-798C-47AF-8D3C-4E682684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3A52-8222-45AE-9800-3072BE49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C525-74AF-4E1F-BEC2-977B9BBB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11AF-4BB8-4772-9D8B-3AADE67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7549-396D-4C9C-BD33-95420E18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7939-C089-485D-8B2C-9C3A0FDD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D2C99-9416-4A87-B298-4FB7435D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E18-2B60-4B35-AE9E-30C8DB22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551E-9089-4D78-9136-3DD48A29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5A95-5C9D-4930-82BA-7594E68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7B99-CAF3-4BE6-A69D-A0D6755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06EFD-DFB3-41E7-868F-C6023B7A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7876-2709-4A23-BB91-B8C45862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874D-0AD1-4C7A-8F9F-984F9F60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D05A-746E-4ACD-86C7-67F8922E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B478-7E41-4AD2-9965-A0044E63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2DA1-3E45-493F-B1BA-3E46C0B1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62F2-B657-4D45-8544-F9E529E3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88F-837E-4CBF-A57D-E10D170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FE90-B2B0-4505-88AF-E938ED0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934D-9938-4978-B956-F5530B4C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8613-7263-4F2F-9731-6FF5535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D91C-2414-42C2-A96B-539F4A1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64BE-35B8-45DD-8BAD-5A754B9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F4FF-0F26-4CAF-91C8-1F0BE16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3547-7C5C-4B99-8215-313FA2E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1CCC-8EC3-4480-9120-56860A9D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BD69-48D3-4B22-9130-A9ED3A9E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88B-19FF-47C4-A5EE-5B488F80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487-D30D-441F-B9A5-92D77957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6E1-3317-4F39-A05C-17FF666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AA1-2A42-4A87-AD66-96B54F7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4EB-C243-404A-A7F1-8E1AD27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EE88-BCB2-4510-B128-B543A783809A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2DE-2D0E-45DA-8BF5-E8AE4D49D144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E183-D946-4C0A-893D-D4576AF014EC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2009-C5DF-4BF3-86B0-D32D0844E8C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F37C-9CEB-4808-A7DE-9D1938553388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606-110D-4B11-8AB0-87A1047A040E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9C5C-B7CC-4C00-98AB-BC76969B2BDA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B3E8-3DF6-4196-B350-ED8500A22F52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Majalla UI"/>
                <a:cs typeface="Majalla UI"/>
              </a:rPr>
              <a:t>الأصول الثابتــة</a:t>
            </a:r>
            <a:r>
              <a:rPr b="0" lang="ar-SA" sz="48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ثـامـن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95120" y="1736640"/>
            <a:ext cx="6964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قيمة الخردة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ة البيعية للأصل كخردة ”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هي  قيمة الأصل في نهاية حياته الإنتاجية تحدد حسب الخبراء والعرف لكل أصل“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 أي هي القيمة المتوقع أن يباع بها الأصل الثابت عند التخلص منه في نهاية عمره الأنتاجي 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Franklin Gothic Book"/>
                <a:cs typeface="Arial"/>
              </a:rPr>
              <a:t>مثال</a:t>
            </a:r>
            <a:r>
              <a:rPr b="0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لى نفس البيانات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سابقه لشركة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جزيره قررت بيعه بمبلغ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92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فان هذا البمبلغ هو قيمة الخرده للمصنع في نهاية عمره الانتاجي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3100320" y="3405240"/>
            <a:ext cx="3102120" cy="70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ثال لتحديد قيمة الخردة</a:t>
            </a: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5840" y="817200"/>
            <a:ext cx="69645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Down Arrow Callout 5"/>
          <p:cNvSpPr/>
          <p:nvPr/>
        </p:nvSpPr>
        <p:spPr>
          <a:xfrm>
            <a:off x="1347840" y="2019240"/>
            <a:ext cx="6629400" cy="1108080"/>
          </a:xfrm>
          <a:prstGeom prst="downArrowCallout">
            <a:avLst>
              <a:gd name="adj1" fmla="val 24986"/>
              <a:gd name="adj2" fmla="val 25011"/>
              <a:gd name="adj3" fmla="val 25000"/>
              <a:gd name="adj4" fmla="val 64977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ابلة للاستهلاك</a:t>
            </a: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Round Diagonal Corner Rectangle 6"/>
          <p:cNvSpPr/>
          <p:nvPr/>
        </p:nvSpPr>
        <p:spPr>
          <a:xfrm>
            <a:off x="914400" y="3127320"/>
            <a:ext cx="7236000" cy="11271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”هي الفرق بين تكلفة الاصل في بداية عمره وقيمته كخرده في نهاية عمره“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14400" y="4452840"/>
            <a:ext cx="7236000" cy="1020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ابله للاستهلاك = تكلفة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 - القيم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بيعيه(الخرده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95120" y="636480"/>
            <a:ext cx="69642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095480" y="1908000"/>
            <a:ext cx="676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6d61"/>
                </a:solidFill>
                <a:latin typeface="Franklin Gothic Book"/>
                <a:cs typeface="Arial"/>
              </a:rPr>
              <a:t>مثـــــــال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نفس بيانات المثال السابق :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كلفة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: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7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خرده: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فان</a:t>
            </a:r>
            <a:r>
              <a:rPr b="1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تكلفه</a:t>
            </a:r>
            <a:r>
              <a:rPr b="1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قابله للاستهلاك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(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7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6,000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ريال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95120" y="1724040"/>
            <a:ext cx="717372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عمر الإنتاجي للأصل 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حسب إما بالسنوات أو بالوحدات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” عدد السنوات التي يمكن الاستفادة فيها من الأصل أ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عدد الوحدات التي يمكن أن ينتجها الأصل خلال حياته الإنتاجية. 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لتحديد ذلك يج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ن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اخذ في الاعتبارعاملين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عامل الفناء والهلاك الناتج من الاستخدام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عامل التقادم (ظهور مخترعات حديثه من شانها ان تجعل استخدام الاصل غير اقتصادي او غير مناسب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كن تحديد العمر الإنتاجي للأصل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2809800" y="4751280"/>
            <a:ext cx="1576440" cy="46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2425680" y="4751280"/>
            <a:ext cx="24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L-Mohanad Bold"/>
                <a:cs typeface="Arial"/>
              </a:rPr>
              <a:t>سي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214880" y="5340240"/>
            <a:ext cx="2994120" cy="822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سنوات التي يمكن أن تخدم فيها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927000" y="5340240"/>
            <a:ext cx="3087720" cy="822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19120" y="538668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كيلومترات التي يمك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ن تسيرها السي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6" name="Elbow Connector 12"/>
          <p:cNvCxnSpPr/>
          <p:nvPr/>
        </p:nvCxnSpPr>
        <p:spPr>
          <a:xfrm flipH="1" rot="16200000">
            <a:off x="4272840" y="5097960"/>
            <a:ext cx="459360" cy="23256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7" name="Elbow Connector 15"/>
          <p:cNvCxnSpPr/>
          <p:nvPr/>
        </p:nvCxnSpPr>
        <p:spPr>
          <a:xfrm rot="5400000">
            <a:off x="2515320" y="5090760"/>
            <a:ext cx="39132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5120" y="1073160"/>
            <a:ext cx="69642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ق الاستهلاك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Depreciation Metho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Flowchart: Preparation 8"/>
          <p:cNvSpPr/>
          <p:nvPr/>
        </p:nvSpPr>
        <p:spPr>
          <a:xfrm>
            <a:off x="901800" y="2451240"/>
            <a:ext cx="7157880" cy="3632040"/>
          </a:xfrm>
          <a:prstGeom prst="flowChartPreparation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هي الوسيله الحسابيه التي يتم بها توزيع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تكلفه القابله للاستهلاك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لاصل الثابت على الانتاج طيلة استخدام الاصل .</a:t>
            </a:r>
            <a:br>
              <a:rPr sz="2400"/>
            </a:br>
            <a:r>
              <a:rPr b="1" lang="ar-SA" sz="2400" spc="-1" strike="noStrike" u="sng">
                <a:solidFill>
                  <a:srgbClr val="e36d61"/>
                </a:solidFill>
                <a:uFillTx/>
                <a:latin typeface="Franklin Gothic Book"/>
                <a:cs typeface="Arial"/>
              </a:rPr>
              <a:t>طرق</a:t>
            </a:r>
            <a:r>
              <a:rPr b="1" lang="en-US" sz="2400" spc="-1" strike="noStrike" u="sng">
                <a:solidFill>
                  <a:srgbClr val="e36d61"/>
                </a:solidFill>
                <a:uFillTx/>
                <a:latin typeface="Franklin Gothic Book"/>
              </a:rPr>
              <a:t> </a:t>
            </a:r>
            <a:r>
              <a:rPr b="1" lang="ar-SA" sz="2400" spc="-1" strike="noStrike" u="sng">
                <a:solidFill>
                  <a:srgbClr val="e36d61"/>
                </a:solidFill>
                <a:uFillTx/>
                <a:latin typeface="Franklin Gothic Book"/>
                <a:cs typeface="Arial"/>
              </a:rPr>
              <a:t>حساب الاستهلاك :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سط الثابت.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ريقة القسط المتناقص.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جموع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رقام السنين .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حدات النشاط (الانتاج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تتمثل في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عادله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حاسبيه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تاليه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670040" y="2795760"/>
            <a:ext cx="5353200" cy="186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كلفة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–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بيعي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الخرده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 القابله للاستهلاك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br>
              <a:rPr sz="2400"/>
            </a:br>
            <a:br>
              <a:rPr sz="2400"/>
            </a:b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عمر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نتاجي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لاصل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Straight Connector 5"/>
          <p:cNvSpPr/>
          <p:nvPr/>
        </p:nvSpPr>
        <p:spPr>
          <a:xfrm>
            <a:off x="1960560" y="3724200"/>
            <a:ext cx="462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95120" y="1749600"/>
            <a:ext cx="696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مثــــــــــال 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سياره قيمتها (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يتوقع ان تخدم المنشاه مدة خمس سنوات تباع بعده ب(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00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وعلى ذلك فان قسط (مصروف)الاستهلاك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(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)-(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,000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على ذلك يكون القيد 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,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مصروف استهلاك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ى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مجمع استهلاك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Straight Connector 4"/>
          <p:cNvSpPr/>
          <p:nvPr/>
        </p:nvSpPr>
        <p:spPr>
          <a:xfrm flipV="1">
            <a:off x="3352680" y="4120920"/>
            <a:ext cx="220032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041720" y="41353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95120" y="2119320"/>
            <a:ext cx="69642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يمكن كذلك التعبير عن مصروف الاستهلاك بنسبه</a:t>
            </a:r>
            <a:r>
              <a:rPr b="1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مئويه كالتالي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طبيق للمثال السابق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/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100 = 2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066760" y="2813040"/>
            <a:ext cx="4876920" cy="1112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سبة الاستهلاك =</a:t>
            </a: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سنوات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Straight Connector 5"/>
          <p:cNvSpPr/>
          <p:nvPr/>
        </p:nvSpPr>
        <p:spPr>
          <a:xfrm>
            <a:off x="4002120" y="3538440"/>
            <a:ext cx="11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676600" y="3338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مميزاتها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متاز بسهولة حسابها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عيوبها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عامل الأصل في أول حياته مثل نهاية حياته رغم أن كفاءة  الأصل تقل في السنوات الأخيرة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ق القسط المتناقص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63400" y="1974960"/>
            <a:ext cx="619596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سمح لمصروفات الاستهلاك بالانخفاض كلما مرت على الأصل سنة في الخدم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لها طريقتي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ريقة مضاعف معدل القسط الثاب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ريقة مجموع أرقام السنين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ـــاهية الأصل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95120" y="1895040"/>
            <a:ext cx="71341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أصل الثابت :</a:t>
            </a:r>
            <a:r>
              <a:rPr b="0" lang="ar-SA" sz="2400" spc="-1" strike="noStrike">
                <a:solidFill>
                  <a:srgbClr val="ff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هو الأصل الذي تحت حيازة المنشأة لتسهيل عملية الإنتاج والذي يستخدم في أكثر من فتره محاسبية او أكثر من سنة مالي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087720" y="3260880"/>
            <a:ext cx="3075120" cy="582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نقسم الأصول الثابتة إلى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6" name="Shape 17"/>
          <p:cNvCxnSpPr>
            <a:stCxn id="235" idx="2"/>
          </p:cNvCxnSpPr>
          <p:nvPr/>
        </p:nvCxnSpPr>
        <p:spPr>
          <a:xfrm flipH="1" rot="16200000">
            <a:off x="5106960" y="3359880"/>
            <a:ext cx="332640" cy="129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Shape 19"/>
          <p:cNvCxnSpPr>
            <a:stCxn id="235" idx="2"/>
          </p:cNvCxnSpPr>
          <p:nvPr/>
        </p:nvCxnSpPr>
        <p:spPr>
          <a:xfrm rot="5400000">
            <a:off x="3689280" y="3240720"/>
            <a:ext cx="332640" cy="153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Rounded Rectangle 21"/>
          <p:cNvSpPr/>
          <p:nvPr/>
        </p:nvSpPr>
        <p:spPr>
          <a:xfrm>
            <a:off x="5923080" y="4175280"/>
            <a:ext cx="2136600" cy="180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Rounded Rectangle 22"/>
          <p:cNvSpPr/>
          <p:nvPr/>
        </p:nvSpPr>
        <p:spPr>
          <a:xfrm>
            <a:off x="914400" y="4175280"/>
            <a:ext cx="2173320" cy="180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غير الملموسة (ليس لها وجود مادي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الشهرة، حق الاختراع وحق التأليف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5923080" y="4076280"/>
            <a:ext cx="213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لموسة (لها وجود مادي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العقارات، مباني ، معدات ، الالات والسيارات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وحدات النشاط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095120" y="1841400"/>
            <a:ext cx="6964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طرق الأولى تعتمد على الزمن كمعيار لتوزيع تكلفة الأصل أو حساب الاستهلاك. أما طريقة وحدات النشاط  تعتمد على الطاقة الإنتاجية للأصل المستهلك كمعيار لحساب الاستهلاك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ذلك بفرض وجود الة تصوير فانه من غير المتوقع ان تنسخ الاله عدد متساوي من الاوراق خلال سنوات عمرها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511280" y="4041720"/>
            <a:ext cx="6548400" cy="16812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1095480" y="3945240"/>
            <a:ext cx="696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قسط الاستهلاك = عدد الوحدات المستهلكة × معامل الاستهلاك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التكلفة القابلة للاستهلاك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قسط الاستهلاك = عدد الوحدات المستهلكة ×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وحدات النشاط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وحدات النشاط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576440"/>
            <a:ext cx="73677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ثــال</a:t>
            </a:r>
            <a:r>
              <a:rPr b="1" lang="en-US" sz="28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7f2016"/>
                </a:solidFill>
                <a:latin typeface="Franklin Gothic Book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سيارة قدرت تكاليفها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7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عمرها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نتاجي خمس سنوات وقيمة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خرده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وقدر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لسياره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ن تسير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كيلومتر قبل ان تصبح غير صالحه للاستخدام .</a:t>
            </a:r>
            <a:br>
              <a:rPr sz="2400"/>
            </a:br>
            <a:r>
              <a:rPr b="1" lang="ar-SA" sz="2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حل:  </a:t>
            </a:r>
            <a:br>
              <a:rPr sz="28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معامل الاستهلاك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=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تكلفه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قابله للاستهلاك 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                          وحدات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انتاج 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=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50,000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/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00000</a:t>
            </a:r>
            <a:br>
              <a:rPr sz="2400"/>
            </a:b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=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.5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ريال لكل كيلومت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فرض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سياره سارت في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سنه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ولى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2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كيلومتر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ذن مصروف الاستهلاك =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2,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1.5x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33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Straight Connector 4"/>
          <p:cNvSpPr/>
          <p:nvPr/>
        </p:nvSpPr>
        <p:spPr>
          <a:xfrm>
            <a:off x="2173320" y="3591000"/>
            <a:ext cx="243828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179360" y="1338120"/>
            <a:ext cx="66931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يمكن للمنشآت اختيار أي طريقة حسب عدة معايير 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بيعة عمل المنشأ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جم المنشأ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ظرة الإدار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عرف الصناعي : أي ما هو متعارف في مثل هذه الصناع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جدوى الاقتصادي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عالجه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حاسبيه للاستهلاك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95120" y="1801440"/>
            <a:ext cx="6964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عند التسجيل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شراء اله  بتكلفة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,00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م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ل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25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ى ح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نقديه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عند توزيع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تكلفه على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اصل على مدى سنوات استخدام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اصل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 مصروف الاستهلاك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ى ح/مجمع استهلاك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قيمة قسط الاستهلاك السنوي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اي طريقه كانت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</a:t>
            </a:r>
            <a:r>
              <a:rPr b="0" i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حميل ايرادات السنه بما يخصها من مصاريف بناءً على مبدأ المقابله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عالجه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حاسبيه للاستهلاك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95120" y="2292480"/>
            <a:ext cx="696420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صروف الاستهلاك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دخل ضم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قائمة الدخل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ي حساب المصاريف , بينما مج</a:t>
            </a:r>
            <a:r>
              <a:rPr b="0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ع الاستهلاك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دخل ضم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قائمة المركز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الي تحت بند الاصل داخل الاصول الثابته ، وهنا يمثل القيمة الدفترية للأصل 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ة الدفترية = تكلفة الأصل  - مجمع الاستهلاك(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هي تمثل قيمة الأصل في الدفاتر بعد طرح مجمع الاستهلاك 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ي قائمة المركز المالي :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صول الثابتة 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السيارات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.00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مجمع الاستهلاك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0.00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 القيمة الدفترية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0.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(صافي السيارات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Straight Connector 4"/>
          <p:cNvSpPr/>
          <p:nvPr/>
        </p:nvSpPr>
        <p:spPr>
          <a:xfrm flipH="1" flipV="1">
            <a:off x="5513040" y="5354640"/>
            <a:ext cx="2305080" cy="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بيع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اصل الثابت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واقفال حساباته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ounded Rectangle 5"/>
          <p:cNvSpPr/>
          <p:nvPr/>
        </p:nvSpPr>
        <p:spPr>
          <a:xfrm>
            <a:off x="5433840" y="3548160"/>
            <a:ext cx="2146320" cy="66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بالبي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Rounded Rectangle 6"/>
          <p:cNvSpPr/>
          <p:nvPr/>
        </p:nvSpPr>
        <p:spPr>
          <a:xfrm>
            <a:off x="5154480" y="4557600"/>
            <a:ext cx="2664000" cy="41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بح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Rounded Rectangle 7"/>
          <p:cNvSpPr/>
          <p:nvPr/>
        </p:nvSpPr>
        <p:spPr>
          <a:xfrm>
            <a:off x="5154480" y="5214960"/>
            <a:ext cx="266400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خس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14" name="Straight Arrow Connector 9"/>
          <p:cNvCxnSpPr/>
          <p:nvPr/>
        </p:nvCxnSpPr>
        <p:spPr>
          <a:xfrm flipH="1">
            <a:off x="6095160" y="3200400"/>
            <a:ext cx="1080" cy="34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Straight Arrow Connector 11"/>
          <p:cNvCxnSpPr/>
          <p:nvPr/>
        </p:nvCxnSpPr>
        <p:spPr>
          <a:xfrm>
            <a:off x="6486120" y="4209840"/>
            <a:ext cx="1080" cy="347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Straight Arrow Connector 13"/>
          <p:cNvCxnSpPr/>
          <p:nvPr/>
        </p:nvCxnSpPr>
        <p:spPr>
          <a:xfrm>
            <a:off x="6486120" y="5001840"/>
            <a:ext cx="1080" cy="213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Rounded Rectangle 16"/>
          <p:cNvSpPr/>
          <p:nvPr/>
        </p:nvSpPr>
        <p:spPr>
          <a:xfrm>
            <a:off x="1760400" y="3548160"/>
            <a:ext cx="2149560" cy="66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بالتل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Rounded Rectangle 17"/>
          <p:cNvSpPr/>
          <p:nvPr/>
        </p:nvSpPr>
        <p:spPr>
          <a:xfrm>
            <a:off x="1444680" y="4656240"/>
            <a:ext cx="26636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خسارة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19" name="Straight Arrow Connector 19"/>
          <p:cNvCxnSpPr/>
          <p:nvPr/>
        </p:nvCxnSpPr>
        <p:spPr>
          <a:xfrm flipH="1">
            <a:off x="3153600" y="3200400"/>
            <a:ext cx="1080" cy="34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0" name="Straight Arrow Connector 20"/>
          <p:cNvCxnSpPr/>
          <p:nvPr/>
        </p:nvCxnSpPr>
        <p:spPr>
          <a:xfrm flipH="1">
            <a:off x="2834640" y="4209840"/>
            <a:ext cx="1080" cy="347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TextBox 22"/>
          <p:cNvSpPr/>
          <p:nvPr/>
        </p:nvSpPr>
        <p:spPr>
          <a:xfrm>
            <a:off x="1095480" y="1974960"/>
            <a:ext cx="696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ندما تنتهي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ده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قرره لاستخدام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 الثابت فان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نشاه غالبا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توقف استخدامه وتعرضه للبيع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و تستبدل به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صلا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خر وباستعمال القيمة الدفترية للأصل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Down Arrow 23"/>
          <p:cNvSpPr/>
          <p:nvPr/>
        </p:nvSpPr>
        <p:spPr>
          <a:xfrm>
            <a:off x="3154320" y="2682720"/>
            <a:ext cx="2941560" cy="709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تخلص من الأصل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23" name="Straight Arrow Connector 27"/>
          <p:cNvCxnSpPr/>
          <p:nvPr/>
        </p:nvCxnSpPr>
        <p:spPr>
          <a:xfrm>
            <a:off x="6486120" y="5528880"/>
            <a:ext cx="1080" cy="213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4" name="Rounded Rectangle 30"/>
          <p:cNvSpPr/>
          <p:nvPr/>
        </p:nvSpPr>
        <p:spPr>
          <a:xfrm>
            <a:off x="5154480" y="5742000"/>
            <a:ext cx="262584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اربح ولا خسارة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5120" y="7286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بيع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اصل الثابت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واقفال حساباته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95120" y="2119320"/>
            <a:ext cx="69642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حدد الربح والخسارة: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جب مقارنة (ثمن البيع) مع (القيمة الدفترية)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من البيع = القيمة الدفتر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لا ربح ولا خسار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من البي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&lt;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القيمة الدفتر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بح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من البي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&gt;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 القيمة الدفتر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سار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لف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ل القيم الدفترية خسار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Left Arrow 6"/>
          <p:cNvSpPr/>
          <p:nvPr/>
        </p:nvSpPr>
        <p:spPr>
          <a:xfrm>
            <a:off x="4492800" y="3273480"/>
            <a:ext cx="927000" cy="171360"/>
          </a:xfrm>
          <a:prstGeom prst="leftArrow">
            <a:avLst>
              <a:gd name="adj1" fmla="val 50000"/>
              <a:gd name="adj2" fmla="val 50240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Left Arrow 7"/>
          <p:cNvSpPr/>
          <p:nvPr/>
        </p:nvSpPr>
        <p:spPr>
          <a:xfrm>
            <a:off x="4492800" y="3597120"/>
            <a:ext cx="927000" cy="173160"/>
          </a:xfrm>
          <a:prstGeom prst="leftArrow">
            <a:avLst>
              <a:gd name="adj1" fmla="val 50000"/>
              <a:gd name="adj2" fmla="val 49718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Left Arrow 8"/>
          <p:cNvSpPr/>
          <p:nvPr/>
        </p:nvSpPr>
        <p:spPr>
          <a:xfrm>
            <a:off x="4492800" y="3929040"/>
            <a:ext cx="927000" cy="173160"/>
          </a:xfrm>
          <a:prstGeom prst="leftArrow">
            <a:avLst>
              <a:gd name="adj1" fmla="val 50000"/>
              <a:gd name="adj2" fmla="val 49718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Left Arrow 9"/>
          <p:cNvSpPr/>
          <p:nvPr/>
        </p:nvSpPr>
        <p:spPr>
          <a:xfrm>
            <a:off x="6129360" y="4194000"/>
            <a:ext cx="927000" cy="173160"/>
          </a:xfrm>
          <a:prstGeom prst="leftArrow">
            <a:avLst>
              <a:gd name="adj1" fmla="val 50000"/>
              <a:gd name="adj2" fmla="val 49718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الاصول غير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لموسه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Flowchart: Document 3"/>
          <p:cNvSpPr/>
          <p:nvPr/>
        </p:nvSpPr>
        <p:spPr>
          <a:xfrm>
            <a:off x="2530440" y="2001960"/>
            <a:ext cx="4227480" cy="3630600"/>
          </a:xfrm>
          <a:prstGeom prst="flowChartDocumen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عامل معاملة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ول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ثابته غير أن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صروف يطلق عليه مصروف نفاذ وليس مصروف استهلاك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ـــاهية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ounded Rectangular Callout 4"/>
          <p:cNvSpPr/>
          <p:nvPr/>
        </p:nvSpPr>
        <p:spPr>
          <a:xfrm>
            <a:off x="1095480" y="2019240"/>
            <a:ext cx="6964200" cy="3546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0e0e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095480" y="1927440"/>
            <a:ext cx="696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هو الفرق بين الأصول المتداولة والأصول الثابتة ؟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هو أمر نسبي وهو طول البقاء، أي أنها تبقى لأكثر من فترة مالي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الفرق بين الأصل الثابت والمشتريات ؟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صل الثابت  مشتراه بغرض استخدامها في الإنتاج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معنى يساعد في الإنتاج ؟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 عمل يساهم في الحصول على إيرادات من بيع بضائعها أو تقديم خدماتها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تكــلفة الأصل الثابت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63400" y="2359080"/>
            <a:ext cx="61959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يتم الحصول على الأصل الثابت إما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شراء الأصل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بناء الأصل داخل المنشأة 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منحة للمنشأ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5840" y="817560"/>
            <a:ext cx="69645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تكــلفة الأصل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own Arrow Callout 5"/>
          <p:cNvSpPr/>
          <p:nvPr/>
        </p:nvSpPr>
        <p:spPr>
          <a:xfrm>
            <a:off x="1347840" y="2019240"/>
            <a:ext cx="6629400" cy="1625760"/>
          </a:xfrm>
          <a:prstGeom prst="downArrowCallout">
            <a:avLst>
              <a:gd name="adj1" fmla="val 24997"/>
              <a:gd name="adj2" fmla="val 24995"/>
              <a:gd name="adj3" fmla="val 25000"/>
              <a:gd name="adj4" fmla="val 64977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تكلفة الفعلية عند شراء الأصل الثابت هي</a:t>
            </a: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Round Diagonal Corner Rectangle 6"/>
          <p:cNvSpPr/>
          <p:nvPr/>
        </p:nvSpPr>
        <p:spPr>
          <a:xfrm>
            <a:off x="1139760" y="3870360"/>
            <a:ext cx="7010640" cy="20127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هي جميع ما أنفق على الاصل ليكون جاهزا للاستخدام في الغرض الذي اشترى من اجله ( 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 دفع مقابل للحصول على الأصل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5120" y="636480"/>
            <a:ext cx="69642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تكــلفة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11280" y="2104920"/>
            <a:ext cx="635328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ثمن الشراء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ثمن  الشحن والنقل والجمارك والتأمين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جور العم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تأمين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كهربـاء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ثمن تجهيز وتركيب الأصل حتى يكون جاهز للاستخدام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ل ما أنفق لتجهيز مكان الأص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5013360" y="164304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ويشمل ذلك 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5840" y="817560"/>
            <a:ext cx="69645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Down Arrow Callout 5"/>
          <p:cNvSpPr/>
          <p:nvPr/>
        </p:nvSpPr>
        <p:spPr>
          <a:xfrm>
            <a:off x="1347840" y="2019240"/>
            <a:ext cx="6629400" cy="1625760"/>
          </a:xfrm>
          <a:prstGeom prst="downArrowCallout">
            <a:avLst>
              <a:gd name="adj1" fmla="val 24997"/>
              <a:gd name="adj2" fmla="val 24995"/>
              <a:gd name="adj3" fmla="val 25000"/>
              <a:gd name="adj4" fmla="val 64977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عريف الأستهلاك</a:t>
            </a: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Round Diagonal Corner Rectangle 6"/>
          <p:cNvSpPr/>
          <p:nvPr/>
        </p:nvSpPr>
        <p:spPr>
          <a:xfrm>
            <a:off x="914400" y="3870360"/>
            <a:ext cx="7236000" cy="20127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”هو تناقص قيمة الاصل الثابت بقيمة الاستخدام او التقادم خلال السنوات“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أو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”هو النقص التدريجي في قيمة الاصل الثابت نتيجة الاستخدام أو التقادم“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أو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”توزيع تكلفة الاصل الثابت على الحياه الانتاجية.“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033560" y="2239920"/>
            <a:ext cx="7143480" cy="1895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راضي التي لا تستهلك (حالة خاصة)</a:t>
            </a:r>
            <a:r>
              <a:rPr b="1" lang="ar-SA" sz="3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Oval Callout 3"/>
          <p:cNvSpPr/>
          <p:nvPr/>
        </p:nvSpPr>
        <p:spPr>
          <a:xfrm>
            <a:off x="3300480" y="914400"/>
            <a:ext cx="1868400" cy="1127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هم جداً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95120" y="1816200"/>
            <a:ext cx="69642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العناصر التي يجب مراعاتها عند تحديد قسط الاستهلاك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كلفة الأصل الثابت :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ل مبلغ  دفع حتى أصبح الأصل جاهز للاستخدام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فرض أن شركة اسمنت الجزيرة فكرت في زيادة إنتاجها . فاتصلت بدار استشاريه صممت لها وحدة التصنيع اللازمة للزيادة المقترحة في الإنتاج . وقد كلفت هذه الاستشارة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8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ثم ارسلت المواصفات لصناعه الوحده بعقد بلغ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,0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ريال وشحنت الى الدمام باجر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مصروفات تامين بلغت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بلغت مصاريف التخليص الجمركي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5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قد جهزت الشركه قواعد خاصه للاله بلغت تكلفتها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,5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وعلى ذلك فان تكاليف الاله (</a:t>
            </a: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ea typeface="Arial"/>
              </a:rPr>
              <a:t>27,925,000</a:t>
            </a: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ea typeface="Arial"/>
              </a:rPr>
              <a:t>) ريال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3300480" y="2743200"/>
            <a:ext cx="3179520" cy="676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ثـــال لتحديد تكلفة الأصل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3-20T13:55:36Z</dcterms:modified>
  <cp:revision>98</cp:revision>
  <dc:subject/>
  <dc:title>مقدمة في الفكر المحاسبي </dc:title>
</cp:coreProperties>
</file>