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EAA-C18D-432F-A465-3E40ABAA1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3380-3D2E-4DF4-BF27-5802D3337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ومن خلال هذه المعادلة استطيع فهم معنى كلمة مدين وكلمة دائ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EDC-A2BD-4282-ABFB-138A1137F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C22-D4CE-452C-A863-A29C3399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C36-BC27-4A49-8036-F2C90AA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D4D-2E0D-4A21-8CC9-5AAF43FF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9AD-0DE2-4205-836A-DAB37969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DE69-2FEC-4173-AB22-72F8E0C7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E377-9CE4-45DA-9594-F914B6D6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1529-F590-452E-82CE-8CDADC5E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06CB-462C-45F2-AD12-C83B0B5A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6A05-01F5-4D30-9C4E-A1B781F5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7B4A-029D-4581-9608-9757A936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65CB-3B01-40FF-BAEA-17807782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D5D-79A5-4EB0-B6D4-B4F41A0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8026-9F93-44BE-AD9D-8C8F05F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065-8762-452D-9E46-69A4B18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F4E-426D-43B8-9BE3-BD9557C2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6A86-AA49-460C-B507-B64A26F9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883-E696-4823-87BE-372E5647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539C-5937-4BE4-A6C0-DAB3ACD5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0765-8587-4629-8775-7FD8641A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4CC6-61D2-440B-A5E8-C3D7AF82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8F0D-F3DA-46AC-8C43-DB84FC51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B12C-929D-4225-ACBD-A3DE801A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74E-3B19-4370-BD9B-0EBDFDAC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F5A1-A2F2-4078-9CDC-92659832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D294-7B58-4ECC-B6D1-5410F1F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ACB3-E89A-4F53-B076-0639721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1B23-CE2B-418C-A68B-F34F83F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D6A2-DB4B-4EEE-A046-5FB52C3F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13B0-E187-4346-A2EA-1DE17BF7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D279-A98E-4637-91B4-DAE2EC2E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E69A-1423-46BF-BB99-48BA7B2E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4F8C-9337-45A3-9E12-723B7A66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C6ED-A2DE-4E2C-B513-2F0EC7A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E62-F466-4B48-831A-79628689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7DFA-6B53-44A9-8664-B5684031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A7FC-867B-48CC-97B0-08CF3E2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37EE-9B5A-4897-A1EB-6F7D3CA9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C917-AEEE-4456-B5A5-1AB70D69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68E4-9E0E-4B3E-B2AA-CF7DF97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027CA-6044-442E-8B0A-38F2155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F4E3-C933-4FA2-81D0-21CD58A0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8002-21A4-4C62-95E5-BCD776AC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15F8-4504-46BC-A2F0-5B2211AC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400-588C-458C-BD50-BD30A678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FF5-E20D-450B-AE19-E739A04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D31-0519-4654-A0F3-C158D25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E53-8B7C-4AAD-9C50-D17F28C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D5D-B984-4545-B7AA-0EEB178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1565-85F6-46E9-ADFA-DC5491EF9FD4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EC86-C043-4DF2-8E7A-F68A1A13253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5DA-7217-4DB1-913E-DAF7E66127FF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A8C-1B6E-43C1-A4F5-E41CD454D984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6F6-C2D1-4DE5-A7D4-ED71A647416E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6FF2-16D2-4039-A6BE-46D51BBE70B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5B33-2709-4B56-A9F6-50D2FC121343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55EB-115F-4CB6-80E9-7DB38BFA85DA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Majalla UI"/>
                <a:cs typeface="Majalla UI"/>
              </a:rPr>
              <a:t>الأصول الثابتــة</a:t>
            </a:r>
            <a:r>
              <a:rPr b="0" lang="ar-SA" sz="48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ثـامـن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95120" y="1736640"/>
            <a:ext cx="6964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قيمة الخردة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ة البيعية للأصل كخردة ”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هي  قيمة الأصل في نهاية حياته الإنتاجية تحدد حسب الخبراء والعرف لكل أصل“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 أي هي القيمة المتوقع أن يباع بها الأصل الثابت عند التخلص منه في نهاية عمره الأنتاجي 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Franklin Gothic Book"/>
                <a:cs typeface="Arial"/>
              </a:rPr>
              <a:t>مثال</a:t>
            </a:r>
            <a:r>
              <a:rPr b="0" lang="ar-SA" sz="2400" spc="-1" strike="noStrike">
                <a:solidFill>
                  <a:srgbClr val="0070c0"/>
                </a:solidFill>
                <a:latin typeface="Franklin Gothic Book"/>
                <a:ea typeface="Arial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لى نفس البيانات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سابقه لشركة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جزيره قررت بيعه بمبلغ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92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15800" indent="-4158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فان هذا البمبلغ هو قيمة الخرده للمصنع في نهاية عمره الانتاجي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3100320" y="3405240"/>
            <a:ext cx="3102120" cy="70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ثال لتحديد قيمة الخردة</a:t>
            </a: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5840" y="817200"/>
            <a:ext cx="69645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Down Arrow Callout 5"/>
          <p:cNvSpPr/>
          <p:nvPr/>
        </p:nvSpPr>
        <p:spPr>
          <a:xfrm>
            <a:off x="1347840" y="2019240"/>
            <a:ext cx="6629400" cy="1108080"/>
          </a:xfrm>
          <a:prstGeom prst="downArrowCallout">
            <a:avLst>
              <a:gd name="adj1" fmla="val 24986"/>
              <a:gd name="adj2" fmla="val 25011"/>
              <a:gd name="adj3" fmla="val 25000"/>
              <a:gd name="adj4" fmla="val 64977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ابلة للاستهلاك</a:t>
            </a: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Round Diagonal Corner Rectangle 6"/>
          <p:cNvSpPr/>
          <p:nvPr/>
        </p:nvSpPr>
        <p:spPr>
          <a:xfrm>
            <a:off x="914400" y="3127320"/>
            <a:ext cx="7236000" cy="11271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”هي الفرق بين تكلفة الاصل في بداية عمره وقيمته كخرده في نهاية عمره“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14400" y="4452840"/>
            <a:ext cx="7236000" cy="1020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ابله للاستهلاك = تكلفة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 - القيم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بيعيه(الخرده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95120" y="636480"/>
            <a:ext cx="69642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095480" y="1908000"/>
            <a:ext cx="676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6d61"/>
                </a:solidFill>
                <a:latin typeface="Franklin Gothic Book"/>
                <a:cs typeface="Arial"/>
              </a:rPr>
              <a:t>مثـــــــال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نفس بيانات المثال السابق :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كلفة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: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7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خرده: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فان</a:t>
            </a:r>
            <a:r>
              <a:rPr b="1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تكلفه</a:t>
            </a:r>
            <a:r>
              <a:rPr b="1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قابله للاستهلاك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(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7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,925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6,000,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ريال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95120" y="1724040"/>
            <a:ext cx="717372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عمر الإنتاجي للأصل 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حسب إما بالسنوات أو بالوحدات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” عدد السنوات التي يمكن الاستفادة فيها من الأصل أ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عدد الوحدات التي يمكن أن ينتجها الأصل خلال حياته الإنتاجية. 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لتحديد ذلك يج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ن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اخذ في الاعتبارعاملين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عامل الفناء والهلاك الناتج من الاستخدام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عامل التقادم (ظهور مخترعات حديثه من شانها ان تجعل استخدام الاصل غير اقتصادي او غير مناسب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مكن تحديد العمر الإنتاجي للأصل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2809800" y="4751280"/>
            <a:ext cx="1576440" cy="46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2425680" y="4751280"/>
            <a:ext cx="24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L-Mohanad Bold"/>
                <a:cs typeface="Arial"/>
              </a:rPr>
              <a:t>سي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214880" y="5340240"/>
            <a:ext cx="2994120" cy="822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سنوات التي يمكن أن تخدم فيها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927000" y="5340240"/>
            <a:ext cx="3087720" cy="8226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19120" y="538668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كيلومترات التي يمك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ن تسيرها السي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76" name="Elbow Connector 12"/>
          <p:cNvCxnSpPr/>
          <p:nvPr/>
        </p:nvCxnSpPr>
        <p:spPr>
          <a:xfrm flipH="1" rot="16200000">
            <a:off x="4272840" y="5097960"/>
            <a:ext cx="459360" cy="23256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7" name="Elbow Connector 15"/>
          <p:cNvCxnSpPr/>
          <p:nvPr/>
        </p:nvCxnSpPr>
        <p:spPr>
          <a:xfrm rot="5400000">
            <a:off x="2515320" y="5090760"/>
            <a:ext cx="39132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5120" y="1073160"/>
            <a:ext cx="69642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ق الاستهلاك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Depreciation Metho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Flowchart: Preparation 8"/>
          <p:cNvSpPr/>
          <p:nvPr/>
        </p:nvSpPr>
        <p:spPr>
          <a:xfrm>
            <a:off x="901800" y="2451240"/>
            <a:ext cx="7157880" cy="3632040"/>
          </a:xfrm>
          <a:prstGeom prst="flowChartPreparation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هي الوسيله الحسابيه التي يتم بها توزيع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تكلفه القابله للاستهلاك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لاصل الثابت على الانتاج طيلة استخدام الاصل .</a:t>
            </a:r>
            <a:br>
              <a:rPr sz="2400"/>
            </a:br>
            <a:r>
              <a:rPr b="1" lang="ar-SA" sz="2400" spc="-1" strike="noStrike" u="sng">
                <a:solidFill>
                  <a:srgbClr val="e36d61"/>
                </a:solidFill>
                <a:uFillTx/>
                <a:latin typeface="Franklin Gothic Book"/>
                <a:cs typeface="Arial"/>
              </a:rPr>
              <a:t>طرق</a:t>
            </a:r>
            <a:r>
              <a:rPr b="1" lang="en-US" sz="2400" spc="-1" strike="noStrike" u="sng">
                <a:solidFill>
                  <a:srgbClr val="e36d61"/>
                </a:solidFill>
                <a:uFillTx/>
                <a:latin typeface="Franklin Gothic Book"/>
              </a:rPr>
              <a:t> </a:t>
            </a:r>
            <a:r>
              <a:rPr b="1" lang="ar-SA" sz="2400" spc="-1" strike="noStrike" u="sng">
                <a:solidFill>
                  <a:srgbClr val="e36d61"/>
                </a:solidFill>
                <a:uFillTx/>
                <a:latin typeface="Franklin Gothic Book"/>
                <a:cs typeface="Arial"/>
              </a:rPr>
              <a:t>حساب الاستهلاك :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سط الثابت.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ريقة القسط المتناقص.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جموع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رقام السنين .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حدات النشاط (الانتاج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تتمثل في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عادله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محاسبيه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تاليه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670040" y="2795760"/>
            <a:ext cx="5353200" cy="186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كلفة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–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بيعيه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الخرده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}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ه القابله للاستهلاك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br>
              <a:rPr sz="2400"/>
            </a:br>
            <a:br>
              <a:rPr sz="2400"/>
            </a:b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عمر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نتاجي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لاصل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Straight Connector 5"/>
          <p:cNvSpPr/>
          <p:nvPr/>
        </p:nvSpPr>
        <p:spPr>
          <a:xfrm>
            <a:off x="1960560" y="3724200"/>
            <a:ext cx="462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95120" y="1749600"/>
            <a:ext cx="69642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مثــــــــــال 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سياره قيمتها (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يتوقع ان تخدم المنشاه مدة خمس سنوات تباع بعده ب(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00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وعلى ذلك فان قسط (مصروف)الاستهلاك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(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0000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)-(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0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,000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على ذلك يكون القيد :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,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مصروف استهلاك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ى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مجمع استهلاك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Straight Connector 4"/>
          <p:cNvSpPr/>
          <p:nvPr/>
        </p:nvSpPr>
        <p:spPr>
          <a:xfrm flipV="1">
            <a:off x="3352680" y="4120920"/>
            <a:ext cx="220032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041720" y="41353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95120" y="2119320"/>
            <a:ext cx="69642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يمكن كذلك التعبير عن مصروف الاستهلاك بنسبه</a:t>
            </a:r>
            <a:r>
              <a:rPr b="1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مئويه كالتالي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طبيق للمثال السابق 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/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100 = 20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066760" y="2813040"/>
            <a:ext cx="4876920" cy="1112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سبة الاستهلاك =</a:t>
            </a: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دد السنوات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Straight Connector 5"/>
          <p:cNvSpPr/>
          <p:nvPr/>
        </p:nvSpPr>
        <p:spPr>
          <a:xfrm>
            <a:off x="4002120" y="3538440"/>
            <a:ext cx="11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676600" y="3338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x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القسط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مميزاتها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متاز بسهولة حسابها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عيوبها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عامل الأصل في أول حياته مثل نهاية حياته رغم أن كفاءة  الأصل تقل في السنوات الأخيرة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ق القسط المتناقص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63400" y="1974960"/>
            <a:ext cx="619596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سمح لمصروفات الاستهلاك بالانخفاض كلما مرت على الأصل سنة في الخدم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لها طريقتي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ريقة مضاعف معدل القسط الثاب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ريقة مجموع أرقام السنين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ـــاهية الأصل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95120" y="1895040"/>
            <a:ext cx="71341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أصل الثابت :</a:t>
            </a:r>
            <a:r>
              <a:rPr b="0" lang="ar-SA" sz="2400" spc="-1" strike="noStrike">
                <a:solidFill>
                  <a:srgbClr val="ff0000"/>
                </a:solidFill>
                <a:latin typeface="Franklin Gothic Book"/>
                <a:ea typeface="Arial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هو الأصل الذي تحت حيازة المنشأة لتسهيل عملية الإنتاج والذي يستخدم في أكثر من فتره محاسبية او أكثر من سنة مالي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087720" y="3260880"/>
            <a:ext cx="3075120" cy="582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نقسم الأصول الثابتة إلى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6" name="Shape 17"/>
          <p:cNvCxnSpPr>
            <a:stCxn id="235" idx="2"/>
          </p:cNvCxnSpPr>
          <p:nvPr/>
        </p:nvCxnSpPr>
        <p:spPr>
          <a:xfrm flipH="1" rot="16200000">
            <a:off x="5106960" y="3359880"/>
            <a:ext cx="332640" cy="129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Shape 19"/>
          <p:cNvCxnSpPr>
            <a:stCxn id="235" idx="2"/>
          </p:cNvCxnSpPr>
          <p:nvPr/>
        </p:nvCxnSpPr>
        <p:spPr>
          <a:xfrm rot="5400000">
            <a:off x="3689280" y="3240720"/>
            <a:ext cx="332640" cy="153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Rounded Rectangle 21"/>
          <p:cNvSpPr/>
          <p:nvPr/>
        </p:nvSpPr>
        <p:spPr>
          <a:xfrm>
            <a:off x="5923080" y="4175280"/>
            <a:ext cx="2136600" cy="180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Rounded Rectangle 22"/>
          <p:cNvSpPr/>
          <p:nvPr/>
        </p:nvSpPr>
        <p:spPr>
          <a:xfrm>
            <a:off x="914400" y="4175280"/>
            <a:ext cx="2173320" cy="180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غير الملموسة (ليس لها وجود مادي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الشهرة، حق الاختراع وحق التأليف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5923080" y="4076280"/>
            <a:ext cx="213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لموسة (لها وجود مادي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العقارات، مباني ، معدات ، الالات والسيارات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وحدات النشاط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095120" y="1841400"/>
            <a:ext cx="6964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طرق الأولى تعتمد على الزمن كمعيار لتوزيع تكلفة الأصل أو حساب الاستهلاك. أما طريقة وحدات النشاط  تعتمد على الطاقة الإنتاجية للأصل المستهلك كمعيار لحساب الاستهلاك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ذلك بفرض وجود الة تصوير فانه من غير المتوقع ان تنسخ الاله عدد متساوي من الاوراق خلال سنوات عمرها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511280" y="4041720"/>
            <a:ext cx="6548400" cy="16812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1095480" y="3945240"/>
            <a:ext cx="696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قسط الاستهلاك = عدد الوحدات المستهلكة × معامل الاستهلاك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التكلفة القابلة للاستهلاك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قسط الاستهلاك = عدد الوحدات المستهلكة ×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L-Mohanad Bold"/>
                <a:cs typeface="Arial"/>
              </a:rPr>
              <a:t>وحدات النشاط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طريقة وحدات النشاط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576440"/>
            <a:ext cx="73677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ثــال</a:t>
            </a:r>
            <a:r>
              <a:rPr b="1" lang="en-US" sz="28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7f2016"/>
                </a:solidFill>
                <a:latin typeface="Franklin Gothic Book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سيارة قدرت تكاليفها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7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عمرها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نتاجي خمس سنوات وقيمة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خرده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وقدر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لسياره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ن تسير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كيلومتر قبل ان تصبح غير صالحه للاستخدام .</a:t>
            </a:r>
            <a:br>
              <a:rPr sz="2400"/>
            </a:br>
            <a:r>
              <a:rPr b="1" lang="ar-SA" sz="2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حل:  </a:t>
            </a:r>
            <a:br>
              <a:rPr sz="28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معامل الاستهلاك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=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تكلفه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قابله للاستهلاك 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                           وحدات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الانتاج </a:t>
            </a:r>
            <a:br>
              <a:rPr sz="2400"/>
            </a:b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=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50,000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/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00000</a:t>
            </a:r>
            <a:br>
              <a:rPr sz="2400"/>
            </a:b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=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1.5</a:t>
            </a:r>
            <a:r>
              <a:rPr b="0" lang="en-US" sz="2400" spc="-1" strike="noStrike">
                <a:solidFill>
                  <a:srgbClr val="40749b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40749b"/>
                </a:solidFill>
                <a:latin typeface="Franklin Gothic Book"/>
                <a:cs typeface="Arial"/>
              </a:rPr>
              <a:t>ريال لكل كيلومت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فرض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سياره سارت في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سنه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ولى (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2,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كيلومتر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ذن مصروف الاستهلاك =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2,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1.5x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33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يا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Straight Connector 4"/>
          <p:cNvSpPr/>
          <p:nvPr/>
        </p:nvSpPr>
        <p:spPr>
          <a:xfrm>
            <a:off x="2173320" y="3591000"/>
            <a:ext cx="243828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179360" y="1338120"/>
            <a:ext cx="66931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يمكن للمنشآت اختيار أي طريقة حسب عدة معايير 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طبيعة عمل المنشأ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جم المنشأ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ظرة الإدار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عرف الصناعي : أي ما هو متعارف في مثل هذه الصناعة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 algn="r" rtl="1">
              <a:spcBef>
                <a:spcPts val="700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جدوى الاقتصادي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عالجه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حاسبيه للاستهلاك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95120" y="1801440"/>
            <a:ext cx="6964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عند التسجيل: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شراء اله  بتكلفة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,00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00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م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ل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25000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ى ح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نقديه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عند توزيع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تكلفه على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اصل على مدى سنوات استخدام</a:t>
            </a:r>
            <a:r>
              <a:rPr b="1" lang="en-US" sz="2400" spc="-1" strike="noStrike">
                <a:solidFill>
                  <a:srgbClr val="7f2016"/>
                </a:solidFill>
                <a:latin typeface="Franklin Gothic Book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الاصل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/ مصروف الاستهلاك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ى ح/مجمع استهلاك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قيمة قسط الاستهلاك السنوي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اي طريقه كانت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</a:t>
            </a:r>
            <a:r>
              <a:rPr b="0" i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حميل ايرادات السنه بما يخصها من مصاريف بناءً على مبدأ المقابله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عالجه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حاسبيه للاستهلاك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95120" y="2292480"/>
            <a:ext cx="696420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صروف الاستهلاك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دخل ضم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قائمة الدخل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ي حساب المصاريف , بينما مج</a:t>
            </a:r>
            <a:r>
              <a:rPr b="0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ع الاستهلاك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دخل ضم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قائمة المركز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الي تحت بند الاصل داخل الاصول الثابته ، وهنا يمثل القيمة الدفترية للأصل 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قيمة الدفترية = تكلفة الأصل  - مجمع الاستهلاك(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هي تمثل قيمة الأصل في الدفاتر بعد طرح مجمع الاستهلاك 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في قائمة المركز المالي :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صول الثابتة 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السيارات  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00.00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مجمع الاستهلاك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0.00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 القيمة الدفترية 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0.000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(صافي السيارات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 algn="r" rtl="1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Straight Connector 4"/>
          <p:cNvSpPr/>
          <p:nvPr/>
        </p:nvSpPr>
        <p:spPr>
          <a:xfrm flipH="1" flipV="1">
            <a:off x="5513040" y="5354640"/>
            <a:ext cx="2305080" cy="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بيع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اصل الثابت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واقفال حساباته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ounded Rectangle 5"/>
          <p:cNvSpPr/>
          <p:nvPr/>
        </p:nvSpPr>
        <p:spPr>
          <a:xfrm>
            <a:off x="5433840" y="3548160"/>
            <a:ext cx="2146320" cy="66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بالبي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Rounded Rectangle 6"/>
          <p:cNvSpPr/>
          <p:nvPr/>
        </p:nvSpPr>
        <p:spPr>
          <a:xfrm>
            <a:off x="5154480" y="4557600"/>
            <a:ext cx="2664000" cy="41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ربح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Rounded Rectangle 7"/>
          <p:cNvSpPr/>
          <p:nvPr/>
        </p:nvSpPr>
        <p:spPr>
          <a:xfrm>
            <a:off x="5154480" y="5214960"/>
            <a:ext cx="2664000" cy="3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خس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14" name="Straight Arrow Connector 9"/>
          <p:cNvCxnSpPr/>
          <p:nvPr/>
        </p:nvCxnSpPr>
        <p:spPr>
          <a:xfrm flipH="1">
            <a:off x="6095160" y="3200400"/>
            <a:ext cx="1080" cy="34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Straight Arrow Connector 11"/>
          <p:cNvCxnSpPr/>
          <p:nvPr/>
        </p:nvCxnSpPr>
        <p:spPr>
          <a:xfrm>
            <a:off x="6486120" y="4209840"/>
            <a:ext cx="1080" cy="347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Straight Arrow Connector 13"/>
          <p:cNvCxnSpPr/>
          <p:nvPr/>
        </p:nvCxnSpPr>
        <p:spPr>
          <a:xfrm>
            <a:off x="6486120" y="5001840"/>
            <a:ext cx="1080" cy="213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Rounded Rectangle 16"/>
          <p:cNvSpPr/>
          <p:nvPr/>
        </p:nvSpPr>
        <p:spPr>
          <a:xfrm>
            <a:off x="1760400" y="3548160"/>
            <a:ext cx="2149560" cy="662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بالتلف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Rounded Rectangle 17"/>
          <p:cNvSpPr/>
          <p:nvPr/>
        </p:nvSpPr>
        <p:spPr>
          <a:xfrm>
            <a:off x="1444680" y="4656240"/>
            <a:ext cx="26636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خسارة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19" name="Straight Arrow Connector 19"/>
          <p:cNvCxnSpPr/>
          <p:nvPr/>
        </p:nvCxnSpPr>
        <p:spPr>
          <a:xfrm flipH="1">
            <a:off x="3153600" y="3200400"/>
            <a:ext cx="1080" cy="34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0" name="Straight Arrow Connector 20"/>
          <p:cNvCxnSpPr/>
          <p:nvPr/>
        </p:nvCxnSpPr>
        <p:spPr>
          <a:xfrm flipH="1">
            <a:off x="2834640" y="4209840"/>
            <a:ext cx="1080" cy="347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TextBox 22"/>
          <p:cNvSpPr/>
          <p:nvPr/>
        </p:nvSpPr>
        <p:spPr>
          <a:xfrm>
            <a:off x="1095480" y="1974960"/>
            <a:ext cx="696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عندما تنتهي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ده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قرره لاستخدام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ل الثابت فان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نشاه غالبا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توقف استخدامه وتعرضه للبيع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و تستبدل به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صلا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خر وباستعمال القيمة الدفترية للأصل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Down Arrow 23"/>
          <p:cNvSpPr/>
          <p:nvPr/>
        </p:nvSpPr>
        <p:spPr>
          <a:xfrm>
            <a:off x="3154320" y="2682720"/>
            <a:ext cx="2941560" cy="709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تخلص من الأصل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23" name="Straight Arrow Connector 27"/>
          <p:cNvCxnSpPr/>
          <p:nvPr/>
        </p:nvCxnSpPr>
        <p:spPr>
          <a:xfrm>
            <a:off x="6486120" y="5528880"/>
            <a:ext cx="1080" cy="213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4" name="Rounded Rectangle 30"/>
          <p:cNvSpPr/>
          <p:nvPr/>
        </p:nvSpPr>
        <p:spPr>
          <a:xfrm>
            <a:off x="5154480" y="5742000"/>
            <a:ext cx="262584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لاربح ولا خسارة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5120" y="7286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بيع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اصل الثابت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واقفال حساباته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95120" y="2119320"/>
            <a:ext cx="69642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نحدد الربح والخسارة: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جب مقارنة (ثمن البيع) مع (القيمة الدفترية)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من البيع = القيمة الدفتر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لا ربح ولا خسار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من البي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&lt;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القيمة الدفتر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بح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من البي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&gt;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 القيمة الدفتر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سار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لف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ل القيم الدفترية خسارة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Left Arrow 6"/>
          <p:cNvSpPr/>
          <p:nvPr/>
        </p:nvSpPr>
        <p:spPr>
          <a:xfrm>
            <a:off x="4492800" y="3273480"/>
            <a:ext cx="927000" cy="171360"/>
          </a:xfrm>
          <a:prstGeom prst="leftArrow">
            <a:avLst>
              <a:gd name="adj1" fmla="val 50000"/>
              <a:gd name="adj2" fmla="val 50240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Left Arrow 7"/>
          <p:cNvSpPr/>
          <p:nvPr/>
        </p:nvSpPr>
        <p:spPr>
          <a:xfrm>
            <a:off x="4492800" y="3597120"/>
            <a:ext cx="927000" cy="173160"/>
          </a:xfrm>
          <a:prstGeom prst="leftArrow">
            <a:avLst>
              <a:gd name="adj1" fmla="val 50000"/>
              <a:gd name="adj2" fmla="val 49718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Left Arrow 8"/>
          <p:cNvSpPr/>
          <p:nvPr/>
        </p:nvSpPr>
        <p:spPr>
          <a:xfrm>
            <a:off x="4492800" y="3929040"/>
            <a:ext cx="927000" cy="173160"/>
          </a:xfrm>
          <a:prstGeom prst="leftArrow">
            <a:avLst>
              <a:gd name="adj1" fmla="val 50000"/>
              <a:gd name="adj2" fmla="val 49718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Left Arrow 9"/>
          <p:cNvSpPr/>
          <p:nvPr/>
        </p:nvSpPr>
        <p:spPr>
          <a:xfrm>
            <a:off x="6129360" y="4194000"/>
            <a:ext cx="927000" cy="173160"/>
          </a:xfrm>
          <a:prstGeom prst="leftArrow">
            <a:avLst>
              <a:gd name="adj1" fmla="val 50000"/>
              <a:gd name="adj2" fmla="val 49718"/>
            </a:avLst>
          </a:prstGeom>
          <a:gradFill rotWithShape="0">
            <a:gsLst>
              <a:gs pos="0">
                <a:srgbClr val="e6b3b1"/>
              </a:gs>
              <a:gs pos="100000">
                <a:srgbClr val="bb4e47"/>
              </a:gs>
            </a:gsLst>
            <a:lin ang="5400000"/>
          </a:gradFill>
          <a:ln w="936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الاصول غير</a:t>
            </a:r>
            <a:r>
              <a:rPr b="0" lang="en-US" sz="4400" spc="-1" strike="noStrike">
                <a:solidFill>
                  <a:srgbClr val="000000"/>
                </a:solidFill>
                <a:latin typeface="Majalla U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لملموسه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Flowchart: Document 3"/>
          <p:cNvSpPr/>
          <p:nvPr/>
        </p:nvSpPr>
        <p:spPr>
          <a:xfrm>
            <a:off x="2530440" y="2001960"/>
            <a:ext cx="4227480" cy="3630600"/>
          </a:xfrm>
          <a:prstGeom prst="flowChartDocumen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عامل معاملة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اصول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ثابته غير أن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مصروف يطلق عليه مصروف نفاذ وليس مصروف استهلاك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مـــاهية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ounded Rectangular Callout 4"/>
          <p:cNvSpPr/>
          <p:nvPr/>
        </p:nvSpPr>
        <p:spPr>
          <a:xfrm>
            <a:off x="1095480" y="2019240"/>
            <a:ext cx="6964200" cy="3546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0e0e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095480" y="1927440"/>
            <a:ext cx="696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هو الفرق بين الأصول المتداولة والأصول الثابتة ؟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هو أمر نسبي وهو طول البقاء، أي أنها تبقى لأكثر من فترة مالي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الفرق بين الأصل الثابت والمشتريات ؟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صل الثابت  مشتراه بغرض استخدامها في الإنتاج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ا معنى يساعد في الإنتاج ؟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 عمل يساهم في الحصول على إيرادات من بيع بضائعها أو تقديم خدماتها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تكــلفة الأصل الثابت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63400" y="2359080"/>
            <a:ext cx="61959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يتم الحصول على الأصل الثابت إما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شراء الأصل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بناء الأصل داخل المنشأة 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منحة للمنشأ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5840" y="817560"/>
            <a:ext cx="69645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تكــلفة الأصل الثابت</a:t>
            </a:r>
            <a:r>
              <a:rPr b="0" lang="ar-SA" sz="4400" spc="-1" strike="noStrike">
                <a:solidFill>
                  <a:srgbClr val="000000"/>
                </a:solidFill>
                <a:latin typeface="Majalla UI"/>
                <a:ea typeface="Majalla U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own Arrow Callout 5"/>
          <p:cNvSpPr/>
          <p:nvPr/>
        </p:nvSpPr>
        <p:spPr>
          <a:xfrm>
            <a:off x="1347840" y="2019240"/>
            <a:ext cx="6629400" cy="1625760"/>
          </a:xfrm>
          <a:prstGeom prst="downArrowCallout">
            <a:avLst>
              <a:gd name="adj1" fmla="val 24997"/>
              <a:gd name="adj2" fmla="val 24995"/>
              <a:gd name="adj3" fmla="val 25000"/>
              <a:gd name="adj4" fmla="val 64977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تكلفة الفعلية عند شراء الأصل الثابت هي</a:t>
            </a: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Round Diagonal Corner Rectangle 6"/>
          <p:cNvSpPr/>
          <p:nvPr/>
        </p:nvSpPr>
        <p:spPr>
          <a:xfrm>
            <a:off x="1139760" y="3870360"/>
            <a:ext cx="7010640" cy="20127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هي جميع ما أنفق على الاصل ليكون جاهزا للاستخدام في الغرض الذي اشترى من اجله ( 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ي دفع مقابل للحصول على الأصل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5120" y="636480"/>
            <a:ext cx="69642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تكــلفة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11280" y="2104920"/>
            <a:ext cx="635328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ثمن الشراء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ثمن  الشحن والنقل والجمارك والتأمين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أجور العمال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تأمين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كهربـاء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ثمن تجهيز وتركيب الأصل حتى يكون جاهز للاستخدام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 algn="r" rtl="1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ل ما أنفق لتجهيز مكان الأصل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5013360" y="164304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ويشمل ذلك 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5840" y="817560"/>
            <a:ext cx="69645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Down Arrow Callout 5"/>
          <p:cNvSpPr/>
          <p:nvPr/>
        </p:nvSpPr>
        <p:spPr>
          <a:xfrm>
            <a:off x="1347840" y="2019240"/>
            <a:ext cx="6629400" cy="1625760"/>
          </a:xfrm>
          <a:prstGeom prst="downArrowCallout">
            <a:avLst>
              <a:gd name="adj1" fmla="val 24997"/>
              <a:gd name="adj2" fmla="val 24995"/>
              <a:gd name="adj3" fmla="val 25000"/>
              <a:gd name="adj4" fmla="val 64977"/>
            </a:avLst>
          </a:prstGeom>
          <a:gradFill rotWithShape="0">
            <a:gsLst>
              <a:gs pos="0">
                <a:srgbClr val="cbc7c2"/>
              </a:gs>
              <a:gs pos="100000">
                <a:srgbClr val="857d72"/>
              </a:gs>
            </a:gsLst>
            <a:lin ang="5400000"/>
          </a:gradFill>
          <a:ln w="9360">
            <a:solidFill>
              <a:srgbClr val="7168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عريف الأستهلاك</a:t>
            </a:r>
            <a:r>
              <a:rPr b="1" lang="ar-SA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Round Diagonal Corner Rectangle 6"/>
          <p:cNvSpPr/>
          <p:nvPr/>
        </p:nvSpPr>
        <p:spPr>
          <a:xfrm>
            <a:off x="914400" y="3870360"/>
            <a:ext cx="7236000" cy="2012760"/>
          </a:xfrm>
          <a:prstGeom prst="pi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0749b"/>
                </a:solidFill>
                <a:latin typeface="Franklin Gothic Book"/>
                <a:ea typeface="Arial"/>
              </a:rPr>
              <a:t>”هو تناقص قيمة الاصل الثابت بقيمة الاستخدام او التقادم خلال السنوات“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أو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”هو النقص التدريجي في قيمة الاصل الثابت نتيجة الاستخدام أو التقادم“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أو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”توزيع تكلفة الاصل الثابت على الحياه الانتاجية.“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033560" y="2239920"/>
            <a:ext cx="7143480" cy="1895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راضي التي لا تستهلك (حالة خاصة)</a:t>
            </a:r>
            <a:r>
              <a:rPr b="1" lang="ar-SA" sz="3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Oval Callout 3"/>
          <p:cNvSpPr/>
          <p:nvPr/>
        </p:nvSpPr>
        <p:spPr>
          <a:xfrm>
            <a:off x="3300480" y="914400"/>
            <a:ext cx="1868400" cy="1127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هم جداً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ajalla UI"/>
                <a:cs typeface="Majalla UI"/>
              </a:rPr>
              <a:t>استهلاك الأصل الثابت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95120" y="1816200"/>
            <a:ext cx="69642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Franklin Gothic Book"/>
                <a:cs typeface="Arial"/>
              </a:rPr>
              <a:t>العناصر التي يجب مراعاتها عند تحديد قسط الاستهلاك: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كلفة الأصل الثابت :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كل مبلغ  دفع حتى أصبح الأصل جاهز للاستخدام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فرض أن شركة اسمنت الجزيرة فكرت في زيادة إنتاجها . فاتصلت بدار استشاريه صممت لها وحدة التصنيع اللازمة للزيادة المقترحة في الإنتاج . وقد كلفت هذه الاستشارة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8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ثم ارسلت المواصفات لصناعه الوحده بعقد بلغ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,0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ريال وشحنت الى الدمام باجر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مصروفات تامين بلغت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5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بلغت مصاريف التخليص الجمركي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5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وقد جهزت الشركه قواعد خاصه للاله بلغت تكلفتها (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,500,000</a:t>
            </a:r>
            <a:r>
              <a:rPr b="0" lang="ar-SA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) ريال 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 rtl="1"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cs typeface="Arial"/>
              </a:rPr>
              <a:t>وعلى ذلك فان تكاليف الاله (</a:t>
            </a: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ea typeface="Arial"/>
              </a:rPr>
              <a:t>27,925,000</a:t>
            </a:r>
            <a:r>
              <a:rPr b="1" lang="ar-SA" sz="2000" spc="-1" strike="noStrike">
                <a:solidFill>
                  <a:srgbClr val="40749b"/>
                </a:solidFill>
                <a:latin typeface="Franklin Gothic Book"/>
                <a:ea typeface="Arial"/>
              </a:rPr>
              <a:t>) ريال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3300480" y="2743200"/>
            <a:ext cx="3179520" cy="676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مثـــال لتحديد تكلفة الأصل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3-20T13:55:36Z</dcterms:modified>
  <cp:revision>98</cp:revision>
  <dc:subject/>
  <dc:title>مقدمة في الفكر المحاسبي </dc:title>
</cp:coreProperties>
</file>