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0E45-097E-4E25-87F5-EC911AE203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83C3-F966-4763-AAC4-4765793C3D9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0331-BFD4-4198-A088-7FEDA1B092C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E86D-A3F8-4EBC-9AD3-A3D914FE0A5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865-D3B0-49BD-B8AA-926F35F96C2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3302-DD69-4EED-9544-55A67417DBF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E8F2-7852-4BF2-9C0A-C24E9A1D688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2003-CC48-422B-9394-F15530A4D04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4A57-3782-4F98-95C5-499DDB1FDD7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62EB-2128-4C29-AA8D-7AC61DF13B5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1E0-1CBC-4753-A2EE-76ED1077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041-D0F1-4A13-80AE-B2362A08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BD4-C6C5-415B-A6E8-D1D285EE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940-9CC6-4782-A037-919FAF55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B85-29CD-4280-AEFA-36A7CC92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50A-89E5-4035-9603-66C35F3B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45B-1B16-4851-9B41-F2B43990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EC4-ED1E-47C0-BCE9-3F3F393E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A62-47BE-48A9-897F-212AA531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3CA-7ABC-4A88-A584-099AD918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890-1E97-4F22-9BB4-5BC758C2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D46-B9F3-4208-8643-B99AE7DC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A008-7789-448B-9782-4B8B137AC55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8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ar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m: to calculate a dependent variable by using independent variable(s) having specific effects on  this dependent variab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st, facts about one or more independent variables are collected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n, the effects or ratios of these independent variables on the dependent varible will be specifi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ly, the dependent variable will be calculate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3.2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Model Building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3.3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Data Based Marketing</a:t>
            </a: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 (Data Mining)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im: to dig through and analyze volumes of data to discover patterns about a company’s customers, products, and activit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actice of maintaining a customer data 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res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 purch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Customers’ 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ponses to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company’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 effo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a from numerous sour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 Classification of Secondary Dat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ata can be classified according to the origi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terna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xterna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4.1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Internal Data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nternal and proprietary data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re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more descriptiv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Examples for internal data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ccounting informa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ales informat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Backorder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or rejected order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ustomer complaint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6019920" y="2895480"/>
          <a:ext cx="218412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895480"/>
                    <a:ext cx="218412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4.2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External Data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ata 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ted, recorded, or generated by an entity other than the researcher’s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xamples for External Data source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ver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de associ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spapers and journ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brari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oks and periodic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Inter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ndo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loratory Research and Qualitative Analysis  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28195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1. Definition of Secondar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&amp; Disadvantage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Secondar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Typical Objectives for Secondary Data Research Desig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4. Classification of Secondary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Definition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condary Dat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gathered and recorded by someone else prior to and for a purpose other than the current projec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ofte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storic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ready assemb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s no access to subj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dvantages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&amp; Disadvantages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f Secondary Dat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expens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btained Rapid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is not Otherwise Access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38098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sadvantage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certain Accura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ta Not Consistent with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appropriate Units of Measur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e Period Inappropriat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;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ary Data may be D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447920" y="182520"/>
            <a:ext cx="647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Evaluating Secondary Data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978280" y="114948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oes the data help 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swer questio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t out in th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blem definition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978280" y="282564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oes the data apply 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time period 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erest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054240" y="4578480"/>
            <a:ext cx="273060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oes the data apply 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population 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erest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>
            <a:off x="4343400" y="244476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4343400" y="419724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>
            <a:off x="4419720" y="5872320"/>
            <a:ext cx="0" cy="45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1981080" y="1378080"/>
            <a:ext cx="0" cy="517500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1987560" y="1371600"/>
            <a:ext cx="679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39920" y="2262240"/>
            <a:ext cx="1545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o projec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978280" y="92088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o the other term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d variabl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lassification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esented apply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978280" y="259704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re the units o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easurement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mparable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78280" y="4273560"/>
            <a:ext cx="273024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possible, go to th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riginal source of th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ata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4343400" y="221616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419720" y="3892680"/>
            <a:ext cx="0" cy="3823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Line 7"/>
          <p:cNvSpPr/>
          <p:nvPr/>
        </p:nvSpPr>
        <p:spPr>
          <a:xfrm>
            <a:off x="4419720" y="564516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2503080" y="380880"/>
            <a:ext cx="448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Evaluating Secondary Data (continue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Line 9"/>
          <p:cNvSpPr/>
          <p:nvPr/>
        </p:nvSpPr>
        <p:spPr>
          <a:xfrm>
            <a:off x="2057400" y="920880"/>
            <a:ext cx="0" cy="31176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063880" y="4267080"/>
            <a:ext cx="5270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2057400" y="920880"/>
            <a:ext cx="0" cy="14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2057400" y="844560"/>
            <a:ext cx="0" cy="45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516240" y="1881360"/>
            <a:ext cx="1545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pplicabil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o projec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057400" y="4273560"/>
            <a:ext cx="0" cy="1593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2063880" y="4038480"/>
            <a:ext cx="5270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745200" y="4853160"/>
            <a:ext cx="134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f the 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587760" y="844560"/>
            <a:ext cx="273060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 the cost of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quisition worth it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Line 3"/>
          <p:cNvSpPr/>
          <p:nvPr/>
        </p:nvSpPr>
        <p:spPr>
          <a:xfrm>
            <a:off x="4800600" y="221616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666880" y="844560"/>
            <a:ext cx="76320" cy="55562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126440" y="2643120"/>
            <a:ext cx="134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ccurac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f the 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587760" y="2673360"/>
            <a:ext cx="273060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 there a possibility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f bia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587760" y="4419720"/>
            <a:ext cx="2730600" cy="12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n the accuracy 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ata collection b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verified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800600" y="396864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2749680" y="6400800"/>
            <a:ext cx="7556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666880" y="920880"/>
            <a:ext cx="0" cy="14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666880" y="844560"/>
            <a:ext cx="0" cy="45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581280" y="6172200"/>
            <a:ext cx="2730600" cy="4572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cc"/>
                </a:solidFill>
                <a:latin typeface="Arial"/>
              </a:rPr>
              <a:t>Use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800600" y="5789520"/>
            <a:ext cx="0" cy="382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284120" y="1523880"/>
            <a:ext cx="5715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t Find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ntifying consumption patter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cking tre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306440" y="3048120"/>
            <a:ext cx="502776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l build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timating market potent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ecasting s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ecting trade areas and s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284120" y="4952880"/>
            <a:ext cx="6564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Base Market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Data Mining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ment of Prospect Li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hancement of Customer Li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380880" y="1522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Typical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bjectives for Secondary Data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Research De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m: to collect descriptive and comparative information to support decision ma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ng company’s data with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(e.g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tal annual sal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any’s competitors data and/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ng company’s present data with company’s own data in other time perio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3.1.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Fact Finding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29T09:50:24Z</dcterms:modified>
  <cp:revision>373</cp:revision>
  <dc:subject>Chapter 1</dc:subject>
  <dc:title>Business Research Methods  William G. Zikmund</dc:title>
</cp:coreProperties>
</file>