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1B0-EE2A-4A41-A2D9-C64FDF1D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144-422D-4ECB-8DA3-880E3E73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2E0-E2DE-43E4-A4D4-F39286EB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17F-B767-4703-AC9E-8CFB1463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579E-6941-4716-813B-74A9F760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16C9-2C03-4838-9165-573EEE41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4E03-19AC-4D30-B19B-67A6A202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B141-D20F-49B8-B04A-F3BC156B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6DD9-98FB-467E-B398-950BF2CA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4995-3082-4527-8298-DDD943BE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5BBB-E6CB-423D-B374-021A95E5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B75-2212-4BDD-8EC4-A62CC70C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3A65-2F47-4D99-8439-613191F4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A98A-0799-4E6D-8F50-BC2E56CE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C87E-953E-4A64-A6D6-306CE834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E0F9-9461-4009-85CE-132E7B65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57E2-29F6-45F3-BC7C-48354817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513-6DFA-44EE-AB56-1E548547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607-ABF8-44A3-9D7D-294DBB12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2D2-ED4F-402A-8CA9-B7190DD3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173-4154-4A83-9B47-0250C7DC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C29-63B4-4009-B185-A1056B68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663-B306-4285-B06A-AF41411A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810-B63A-4281-BC0E-E9E970FE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9608-4220-4C8C-8878-0FE38E8C55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232920" y="6612840"/>
            <a:ext cx="34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7 McGraw-Hill Higher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0F01-B8BC-47D6-9CFE-EB5027696B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2920" y="6612840"/>
            <a:ext cx="34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7 McGraw-Hill Higher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hapter 9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ulatory Adaptation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Exerc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657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 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and Application to Fitness and Performance,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K. Powers &amp; Edward T. How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ardiac Cyc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27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83040" y="15987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3238560"/>
            <a:ext cx="9144000" cy="2638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732800" y="61214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d as systolic/diast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rmal is 120/80 mmH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 i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40/90 mmH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olic pressure (top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sure generated during ________________ (systole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ol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sure in the arteries during _____________ (diasto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ce between systolic and diastol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________ (M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erage pressure in the arte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32200" y="3152880"/>
            <a:ext cx="73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se Pressure = Systolic - Diastol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1080" y="5286240"/>
            <a:ext cx="67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 = 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n Arterial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pressure of 120/80 mm H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9160" y="609120"/>
            <a:ext cx="3814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surement of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265" t="2714" r="3693" b="1622"/>
          <a:stretch/>
        </p:blipFill>
        <p:spPr>
          <a:xfrm>
            <a:off x="4164120" y="0"/>
            <a:ext cx="49798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010720" y="63626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actors That Influence Arterial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20920" y="1446120"/>
            <a:ext cx="5903640" cy="5062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961400" y="619272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is Blood Pressure Regulat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reg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hieved by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ction of the 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y do so by control of ______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ectrical Activity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action of the heart depends on electrical stimulation of the myoca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ulse is initiated in the __________ and spreads throughout entire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be recorded on an __________________ (EC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ction System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151" t="3013" r="3225" b="2104"/>
          <a:stretch/>
        </p:blipFill>
        <p:spPr>
          <a:xfrm>
            <a:off x="630360" y="1214280"/>
            <a:ext cx="7270560" cy="5205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726680" y="552132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8760" y="2882880"/>
            <a:ext cx="21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The amount of blood pumped by the heart each 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of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number of beats per minu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amount of blood ejected in each be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5840" y="3613320"/>
            <a:ext cx="439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 = 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jor challenge to homeostasis posed by exercise is the increased muscular demand for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heavy exercise, oxygen demands ma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15 to 25 ti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jor adjustments of blood flow 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rdiac outp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distribution of blood flow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orough understanding of the cardiovascular system is essential to exercise physi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gulation of Heart R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rominent factors that influence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a ______________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ows HR by inhibiting 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a cardiac 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HR by stimulating 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gulation of Stroke Volu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V at rest or during exercise is regulated by 3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1.  __________________ (E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olume of blood in the ventricles at the end of diastol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“preload”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2. 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sure the heart must pump against to eject blood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“afterload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3.  _________ of the ventricular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actility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d-Diastolic Volu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8736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eater preload results in stretch of ventricles and in a more forceful cont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by venous retu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regulate venous ret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Skeletal Muscle Pum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6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ic skeletal muscle contractions force blood in the extremities toward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way valves in veins prevent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4079" t="3090" r="4079" b="4635"/>
          <a:stretch/>
        </p:blipFill>
        <p:spPr>
          <a:xfrm>
            <a:off x="5192640" y="1619280"/>
            <a:ext cx="3951360" cy="5238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36160" y="622152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verage Aortic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rtic pressure is ___________ related to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fterload results in a ____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greater force generation by the myocardium to eject blood into the aor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aortic pressure results in 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entricular Contract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ntractility results in _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irculating epinephrine and norepinephr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rect sympathetic stimulation of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actors that Regulate Cardiac Out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720" y="3436920"/>
            <a:ext cx="842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ardiac = Cardiac Rate x Stroke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12600" y="228924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ar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8400" y="4581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09760" y="4438800"/>
            <a:ext cx="148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0" y="5681520"/>
            <a:ext cx="10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k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70760" y="4022640"/>
            <a:ext cx="0" cy="4431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85160" y="5105520"/>
            <a:ext cx="0" cy="914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37320" y="6027840"/>
            <a:ext cx="13572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5240" y="5102280"/>
            <a:ext cx="0" cy="93024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30840" y="4016520"/>
            <a:ext cx="0" cy="44280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07440" y="534204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70520" y="480852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28680" y="227952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sympath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1960" y="306720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72160" y="4002120"/>
            <a:ext cx="0" cy="8398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608800" y="4792680"/>
            <a:ext cx="458640" cy="16992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9960" y="304488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3200" y="575316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emodynamic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study of the physical principles of blood f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509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ysical Characteristics of Blo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quid portion of 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ains ions, proteins, horm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ain hemoglobin to carry oxyg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ortant in blood clot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1300" t="4696" r="2599" b="4696"/>
          <a:stretch/>
        </p:blipFill>
        <p:spPr>
          <a:xfrm>
            <a:off x="1220760" y="1492200"/>
            <a:ext cx="6566040" cy="5140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blood composed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8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verview of the design and function of 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cardiac cycle &amp; associated electrical activity recorded via electrocardi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attern of redistribution of blood flow during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the circulatory responses to various types of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4880" y="41400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63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ed on interrelationships betwe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7ff"/>
                </a:solidFill>
                <a:latin typeface="Arial"/>
              </a:rPr>
              <a:t>Since large increases in P are hazardous to health – decreasing resistance is the primary factor used to achieve increases in BF during exercise with a small rise in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flows from ___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___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al to the difference between MAP and right atrial pressure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BF depends on P at 2 ends of vascular syst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P at 2 ends of a vessel are equal = 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lood Flow Through the Systemic Circu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1101" t="3892" r="2202" b="5838"/>
          <a:stretch/>
        </p:blipFill>
        <p:spPr>
          <a:xfrm>
            <a:off x="228600" y="1752480"/>
            <a:ext cx="8686800" cy="4587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Resistan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contribute to the resistance of blood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_________ change in vessel diameter can have a dramatic impact on resistance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981080" y="5076720"/>
            <a:ext cx="4800600" cy="990360"/>
            <a:chOff x="1981080" y="5076720"/>
            <a:chExt cx="4800600" cy="990360"/>
          </a:xfrm>
        </p:grpSpPr>
        <p:sp>
          <p:nvSpPr>
            <p:cNvPr id="199" name=""/>
            <p:cNvSpPr/>
            <p:nvPr/>
          </p:nvSpPr>
          <p:spPr>
            <a:xfrm>
              <a:off x="2059920" y="5381280"/>
              <a:ext cx="202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istance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5157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480" y="560844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38480" y="5609880"/>
              <a:ext cx="2514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81080" y="5076720"/>
              <a:ext cx="4800600" cy="990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497560" y="2709720"/>
            <a:ext cx="34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is directly proportional to these 2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97560" y="3460680"/>
            <a:ext cx="35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factor determining vascular re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Blood Flo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roportional to the pressure difference between the two ends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roportional to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895480" y="4267080"/>
            <a:ext cx="3047760" cy="1066680"/>
            <a:chOff x="2895480" y="4267080"/>
            <a:chExt cx="3047760" cy="1066680"/>
          </a:xfrm>
        </p:grpSpPr>
        <p:sp>
          <p:nvSpPr>
            <p:cNvPr id="209" name=""/>
            <p:cNvSpPr/>
            <p:nvPr/>
          </p:nvSpPr>
          <p:spPr>
            <a:xfrm>
              <a:off x="2973600" y="4571640"/>
              <a:ext cx="116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ow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90760" y="4348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90760" y="4798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0760" y="4800240"/>
              <a:ext cx="1523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5480" y="4267080"/>
              <a:ext cx="3047760" cy="10666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urces of Vascular Resist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 __________ throughout the systemic cir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st drop occurs across the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oles are called “resistance vesse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ssure Changes Across the Systemic Circul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2780" t="4500" r="4515" b="4173"/>
          <a:stretch/>
        </p:blipFill>
        <p:spPr>
          <a:xfrm>
            <a:off x="1438200" y="1452600"/>
            <a:ext cx="6004080" cy="5148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xygen Delivery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demand by muscles during exercise is many times greater than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ivery accomplished via 2 mechanis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67ff"/>
                </a:solidFill>
                <a:latin typeface="Arial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67ff"/>
                </a:solidFill>
                <a:latin typeface="Arial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Cardiac Out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output increases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d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ear increase to 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d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teau at ~40% V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uptake by the muscle also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er arteriovenous differ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14160" y="30243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HR = 220 - Age (ye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5320" y="369360"/>
            <a:ext cx="43369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Cardiovascular Variables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5677" t="2817" r="4186" b="2142"/>
          <a:stretch/>
        </p:blipFill>
        <p:spPr>
          <a:xfrm>
            <a:off x="458640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220200" y="618012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8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factors that regulate local blood flow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&amp; discuss those factors responsible for regulation of stroke volume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regulation of cardiac output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distribution of Blood Flo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Muscle blood fl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working skeletal mus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Splanchnic blood fl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less active org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, kidneys, GI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2640" y="304560"/>
            <a:ext cx="307476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Muscle and Splanchnic Blood Flow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1727" t="1497" r="5180" b="1497"/>
          <a:stretch/>
        </p:blipFill>
        <p:spPr>
          <a:xfrm>
            <a:off x="3436920" y="0"/>
            <a:ext cx="570708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056680" y="578016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reased Blood Flow to Skeletal Muscle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47880"/>
            <a:ext cx="7772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gulates blood flow to various organs during exerc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lood flow increased to meet metabolic demands of tiss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happens because of muscle vasodi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ension, C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ension, pH, nitric ox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distribution of Blood Flow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2422" t="2104" r="2422" b="2383"/>
          <a:stretch/>
        </p:blipFill>
        <p:spPr>
          <a:xfrm>
            <a:off x="320760" y="0"/>
            <a:ext cx="8823240" cy="6837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1600" y="63626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rculatory Responses to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rate and blood press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, intensity, and duration of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ition From Rest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Exercise and Exercise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Recove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4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id increase in HR, SV, cardiac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teau in submaximal (below lactate threshold)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very depends 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and intensity of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state of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remental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Heart rate and cardiac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linearly with increasing work r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ches plateau at 100% V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m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ystolic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with increasing work r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Double product – also called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linearly with exercise intens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cates the work of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7840" y="563076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product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m vs. Le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ame oxygen uptake arm work results in hig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ue to higher ______________ stimul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ue to _____________ of large inactive muscle m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634032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364840" y="609120"/>
            <a:ext cx="3605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art Rate and Blood Pressure During Arm and Le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1569" t="1506" r="3137" b="1506"/>
          <a:stretch/>
        </p:blipFill>
        <p:spPr>
          <a:xfrm>
            <a:off x="1336680" y="0"/>
            <a:ext cx="6159600" cy="6527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361120"/>
            <a:ext cx="21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se 2 factors increase so will 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9560" y="2141280"/>
            <a:ext cx="960480" cy="3252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822240" y="4547880"/>
            <a:ext cx="542880" cy="880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longed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iac output is mainta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decrease in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increase in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ardiovascular dr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rift du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91120" y="634032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ardiovascular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R, SV, and Q During Prolonged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1648" t="2921" r="3295" b="1460"/>
          <a:stretch/>
        </p:blipFill>
        <p:spPr>
          <a:xfrm>
            <a:off x="2414520" y="1584360"/>
            <a:ext cx="4299120" cy="4879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diovascular Adjustments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o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2154" t="2466" r="3488" b="0"/>
          <a:stretch/>
        </p:blipFill>
        <p:spPr>
          <a:xfrm>
            <a:off x="1454040" y="1582560"/>
            <a:ext cx="6201000" cy="49118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mps 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Arteries and arteri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ry blood ________ from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change of __________ with tiss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Veins and ven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ry blood __________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cture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3138" t="670" r="1943" b="670"/>
          <a:stretch/>
        </p:blipFill>
        <p:spPr>
          <a:xfrm>
            <a:off x="1406520" y="1171440"/>
            <a:ext cx="62215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32800" y="61214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ulmonary and Systemic Circui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5760" y="91764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ystemic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side of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s _________ blood to the whole body via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____________ blood to the right heart via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89560" y="914400"/>
            <a:ext cx="416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Pulmonary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side of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s __________ blood to the ______ via pulmonary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___________ blood to the ________ heart via pulmonary 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yocardi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745" t="347" r="0" b="693"/>
          <a:stretch/>
        </p:blipFill>
        <p:spPr>
          <a:xfrm>
            <a:off x="306360" y="957240"/>
            <a:ext cx="8123400" cy="5618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75920" y="614988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14:33:06Z</dcterms:created>
  <dc:creator>Brian Parr</dc:creator>
  <dc:description/>
  <dc:language>en-US</dc:language>
  <cp:lastModifiedBy>John User</cp:lastModifiedBy>
  <dcterms:modified xsi:type="dcterms:W3CDTF">2008-02-26T14:10:48Z</dcterms:modified>
  <cp:revision>44</cp:revision>
  <dc:subject>Circulatory Adaptations to Exercise</dc:subject>
  <dc:title>Chapter 9</dc:title>
</cp:coreProperties>
</file>