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D97-6079-47DF-9158-570C311C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F81-695B-4A20-A631-B4B8D7B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E60-2815-4ADE-8771-27F7D64A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265-FE08-450F-BFD6-6461DE89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D442-A6CE-4C4F-8879-DC483B5D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EC9-714B-4A7E-89D7-6F7423F8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D67-CD62-4547-A058-9CAB33C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B5EB-6375-48D9-9E7F-A0641743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717-02D8-40DC-9250-BD26EB2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B83-8A40-4426-8EF8-429C684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B2D-9ED2-4AF8-AB1C-AED062D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D52-B1DF-415A-A1B7-2DB23EEF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005-19D3-4E79-8CE8-4AF9B55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6633-4225-4446-9903-96EE1D5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F89B-5D16-4A6D-8866-77E234F0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A84-6F4D-40D3-9E7A-16F1AB9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7D82-19F7-4109-B4D8-C8398DD2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9C4-DC23-4EE4-8978-C09C4DC0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19E-5021-4E7B-A793-03DB1CA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770-8641-42D2-92B8-3D39EE94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30E-612D-4A15-89B5-57E70E3E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903-5342-49F4-B8DA-B783D0F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A2-0DB8-47E8-B89E-C41DA74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B5E-3A26-4E7C-97D8-7019D12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E289-7172-400C-98BB-FE259B4247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B3F-C99E-46C2-B657-0369A917E4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tory Adaptation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and Application to Fitness and Performance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K. Powers &amp; Edward T. How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ac Cy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7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3040" y="1598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263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systolic/diast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rmal is 120/8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40/9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pressure (top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generated during ________________ (systol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in the arteries during _____________ (diasto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ce between systolic and diastol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______ (M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pressure in the art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2200" y="3152880"/>
            <a:ext cx="73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se Pressure = Systolic - Diastol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1080" y="5286240"/>
            <a:ext cx="67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=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n Arterial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pressure of 120/80 mm H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9160" y="609120"/>
            <a:ext cx="3814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ement of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265" t="2714" r="3693" b="1622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010720" y="63626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Influence 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20920" y="1446120"/>
            <a:ext cx="5903640" cy="506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61400" y="61927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is Blood Pressure Regul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reg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d by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ction of the 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do so by control of 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ctrical Activity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ction of the heart depends on electrical stimulation of the myoca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ulse is initiated in the __________ and spreads throughout entire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be recorded on an __________________ (EC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ction System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151" t="3013" r="3225" b="2104"/>
          <a:stretch/>
        </p:blipFill>
        <p:spPr>
          <a:xfrm>
            <a:off x="630360" y="1214280"/>
            <a:ext cx="7270560" cy="5205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26680" y="55213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760" y="288288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The amount of blood pumped by the heart each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f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number of beats per min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amount of blood ejected in each b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5840" y="3613320"/>
            <a:ext cx="43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 = 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llenge to homeostasis posed by exercise is the increased muscular demand for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heavy exercise, oxygen demands ma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5 to 2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adjustments of blood flow 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orough understanding of the cardiovascular system is essential to exercise phys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Heart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ominent factors that influence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______________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s HR by inhibiting 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cardiac 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HR by stimulating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Stroke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V at rest or during exercise is regulated by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1.  __________________ (E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lume of blood in the ventricles at the end of diasto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preload”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2. 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the heart must pump against to eject bloo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afterload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3.  _________ of the ventricula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actili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d-Diastolic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8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er preload results in stretch of ventricles and in a more forceful cont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venous re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regulate venous ret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Skeletal Muscle Pum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ic skeletal muscle contractions force blood in the extremities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 valves in veins prevent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4079" t="3090" r="4079" b="4635"/>
          <a:stretch/>
        </p:blipFill>
        <p:spPr>
          <a:xfrm>
            <a:off x="5192640" y="1619280"/>
            <a:ext cx="3951360" cy="5238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36160" y="62215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erage Aort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pressure is ___________ related to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fterload results in a ___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greater force generation by the myocardium to eject blood into the aor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aortic pressure results in 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ricular Contract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tractility results in 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rculating epinephrine and norepineph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sympathetic stimulation of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Regulate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720" y="3436920"/>
            <a:ext cx="84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ac = Cardiac Rate x Stroke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2600" y="22892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ar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8400" y="45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9760" y="443880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0" y="568152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70760" y="4022640"/>
            <a:ext cx="0" cy="4431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5160" y="5105520"/>
            <a:ext cx="0" cy="914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37320" y="6027840"/>
            <a:ext cx="13572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5240" y="5102280"/>
            <a:ext cx="0" cy="9302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0840" y="4016520"/>
            <a:ext cx="0" cy="44280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07440" y="53420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70520" y="48085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8680" y="227952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1960" y="306720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72160" y="4002120"/>
            <a:ext cx="0" cy="839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608800" y="4792680"/>
            <a:ext cx="458640" cy="1699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9960" y="304488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200" y="5753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tudy of the physical principles of blood 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509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racteristics of Blo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portion of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ions, proteins, horm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ain hemoglobin to carry oxy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t in blood clot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1300" t="4696" r="2599" b="4696"/>
          <a:stretch/>
        </p:blipFill>
        <p:spPr>
          <a:xfrm>
            <a:off x="1220760" y="1492200"/>
            <a:ext cx="6566040" cy="5140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blood composed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verview of the design and function of 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ardiac cycle &amp; associated electrical activity recorded via electrocardi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attern of redistribution of blood flow dur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the circulatory responses to various types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4880" y="41400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63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interrelationships betwe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7ff"/>
                </a:solidFill>
                <a:latin typeface="Arial"/>
              </a:rPr>
              <a:t>Since large increases in P are hazardous to health – decreasing resistance is the primary factor used to achieve increases in BF during exercise with a small rise in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s from ___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___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al to the difference between MAP and right atrial pressure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BF depends on P at 2 ends of vascular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P at 2 ends of a vessel are equal = 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Flow Through the Systemic Circu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101" t="3892" r="2202" b="5838"/>
          <a:stretch/>
        </p:blipFill>
        <p:spPr>
          <a:xfrm>
            <a:off x="228600" y="175248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Resistan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the resistance of blood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_________ change in vessel diameter can have a dramatic impact on resistanc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81080" y="5076720"/>
            <a:ext cx="4800600" cy="990360"/>
            <a:chOff x="1981080" y="5076720"/>
            <a:chExt cx="4800600" cy="990360"/>
          </a:xfrm>
        </p:grpSpPr>
        <p:sp>
          <p:nvSpPr>
            <p:cNvPr id="199" name=""/>
            <p:cNvSpPr/>
            <p:nvPr/>
          </p:nvSpPr>
          <p:spPr>
            <a:xfrm>
              <a:off x="2059920" y="538128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istance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157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560844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8480" y="5609880"/>
              <a:ext cx="2514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81080" y="5076720"/>
              <a:ext cx="4800600" cy="990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497560" y="2709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is directly proportional to these 2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7560" y="3460680"/>
            <a:ext cx="35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factor determining vascular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the pressure difference between the two end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895480" y="4267080"/>
            <a:ext cx="3047760" cy="1066680"/>
            <a:chOff x="2895480" y="4267080"/>
            <a:chExt cx="3047760" cy="1066680"/>
          </a:xfrm>
        </p:grpSpPr>
        <p:sp>
          <p:nvSpPr>
            <p:cNvPr id="209" name=""/>
            <p:cNvSpPr/>
            <p:nvPr/>
          </p:nvSpPr>
          <p:spPr>
            <a:xfrm>
              <a:off x="2973600" y="457164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90760" y="4348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0760" y="4798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0760" y="4800240"/>
              <a:ext cx="152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4267080"/>
              <a:ext cx="3047760" cy="10666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urces of Vascular Resist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 __________ throughout the systemic cir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st drop occurs across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oles are called “resistance vess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sure Changes Across the Systemic Circ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2780" t="4500" r="4515" b="4173"/>
          <a:stretch/>
        </p:blipFill>
        <p:spPr>
          <a:xfrm>
            <a:off x="1438200" y="1452600"/>
            <a:ext cx="6004080" cy="5148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xygen Delivery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demand by muscles during exercise is many times greater than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y accomplished via 2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increases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 increase to 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teau at ~40% V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uptake by the muscle also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arteriovenous 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14160" y="30243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HR = 220 - Age (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5320" y="369360"/>
            <a:ext cx="43369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ovascular Variables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5677" t="2817" r="4186" b="214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20200" y="61801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actors that regulate local blood flow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&amp; discuss those factors responsible for regulation of stroke volume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gulation of cardiac output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Muscle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working skeletal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Splanchnic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less active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, kidneys, GI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2640" y="304560"/>
            <a:ext cx="307476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Muscle and Splanchnic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1727" t="1497" r="5180" b="1497"/>
          <a:stretch/>
        </p:blipFill>
        <p:spPr>
          <a:xfrm>
            <a:off x="3436920" y="0"/>
            <a:ext cx="570708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056680" y="5780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ed Blood Flow to Skeletal Muscle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4788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gulates blood flow to various organs during exerc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ood flow increased to meet metabolic demands of t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ppens because of muscle vasodi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C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pH, nitric ox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422" t="2104" r="2422" b="2383"/>
          <a:stretch/>
        </p:blipFill>
        <p:spPr>
          <a:xfrm>
            <a:off x="320760" y="0"/>
            <a:ext cx="8823240" cy="6837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600" y="63626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culatory Responses 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rate and blood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, intensity, and duration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From Rest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Exercise and Exercise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eco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increase in HR, SV, cardiac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eau in submaximal (below lactate threshold)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very depends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and intensity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tate of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mental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 rate and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hes plateau at 100% V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olic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Double product – also called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exercise inten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s the work of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7840" y="563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product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m vs.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ame oxygen uptake arm work results in hig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higher ______________ stimul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_____________ of large inactive muscle m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634032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64840" y="609120"/>
            <a:ext cx="3605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art Rate and Blood Pressure During Arm and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569" t="1506" r="3137" b="1506"/>
          <a:stretch/>
        </p:blipFill>
        <p:spPr>
          <a:xfrm>
            <a:off x="1336680" y="0"/>
            <a:ext cx="6159600" cy="6527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36112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se 2 factors increase so will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9560" y="2141280"/>
            <a:ext cx="960480" cy="3252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22240" y="4547880"/>
            <a:ext cx="542880" cy="880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ac output is mainta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de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in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ovascular dr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ft du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6340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ovascular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R, SV, and Q During 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1648" t="2921" r="3295" b="1460"/>
          <a:stretch/>
        </p:blipFill>
        <p:spPr>
          <a:xfrm>
            <a:off x="2414520" y="1584360"/>
            <a:ext cx="4299120" cy="4879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diovascular Adjustments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2154" t="2466" r="3488" b="0"/>
          <a:stretch/>
        </p:blipFill>
        <p:spPr>
          <a:xfrm>
            <a:off x="1454040" y="1582560"/>
            <a:ext cx="6201000" cy="4911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mps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Arteries and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 from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hange of __________ with t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Veins and ven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__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cture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138" t="670" r="1943" b="670"/>
          <a:stretch/>
        </p:blipFill>
        <p:spPr>
          <a:xfrm>
            <a:off x="1406520" y="1171440"/>
            <a:ext cx="62215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lmonary and Systemic Circu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5760" y="9176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emic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 blood to the whole body via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____________ blood to the right heart via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89560" y="91440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Pulmonar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_ blood to the ______ via pulmonary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___________ blood to the ________ heart via pulmonary 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yocardi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745" t="347" r="0" b="693"/>
          <a:stretch/>
        </p:blipFill>
        <p:spPr>
          <a:xfrm>
            <a:off x="306360" y="957240"/>
            <a:ext cx="8123400" cy="561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75920" y="614988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4:33:06Z</dcterms:created>
  <dc:creator>Brian Parr</dc:creator>
  <dc:description/>
  <dc:language>en-US</dc:language>
  <cp:lastModifiedBy>John User</cp:lastModifiedBy>
  <dcterms:modified xsi:type="dcterms:W3CDTF">2008-02-26T14:10:48Z</dcterms:modified>
  <cp:revision>44</cp:revision>
  <dc:subject>Circulatory Adaptations to Exercise</dc:subject>
  <dc:title>Chapter 9</dc:title>
</cp:coreProperties>
</file>