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EE09-0E99-4D3E-A2B2-31D80FEA7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AFE2-CA2E-48AE-B269-9F4101D0D53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F52-B285-4AED-AC3C-E6EEEFB322A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759E-C7A3-41E8-9C5D-34DE978FCA3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9E22-7FC4-4EA2-825C-0363875CE5D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15CC-011D-46CC-B994-5733297961C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E139-7767-497C-89DF-F924849EC94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4143-469E-446B-A6A2-37D360F93F2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407A-09A2-46F6-80DE-539FFFDD6CE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F5F6-681F-4E6D-8209-FA9173597F1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CDDC-7060-4CAF-B0C0-90B552065A2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FFFA-F750-40C7-9B06-429FC6DAE8E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3454-311D-4DBF-A879-3BBB8657DA8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6C5D-A45D-4C35-B9AB-263B37C1FD3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AA8A-3FCF-4A0B-93F8-E4BF90D1463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475F-48E7-411F-82D5-20D86ABDC10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B787-2368-44D9-9558-C2FD92A273E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FB5-590B-46F1-803B-6BE60F89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866-F222-49DF-B52D-DBB0AAE7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C68-196E-4084-9824-28F540F3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700-6E22-479F-B602-1560EEDB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D1C-0521-4333-86F3-82CAD38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511-4F2D-442F-8531-F8070A5B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301-1430-4FF5-8BF2-C79898C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23C-DB60-446F-9A37-CE1D5AD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97B-789B-48A9-ADDB-3942FD7D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B62-6548-4E40-AF18-5FFC342B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24A-0CAC-4AD8-9BBA-3F46823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93C-B8E0-46D4-90D0-2D23010B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5D00-4BC3-4B2F-8E61-38BCD2B8B55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9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vey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ystematic Err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ystematic error results from some mistak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(s) done in th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design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nd/or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execution of the research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ll types of error -except random sampling error, are included in this definition,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Sample bias: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 persistent tendency for the results of a sample to deviate in one direction from the true value of the population parameter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ample bias can arise when the intended sample does not adequately reflect the spectrum of characteristics in the target population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2.2.1. Respondent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Bi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lassification of sample bias resulting from some respondent action or in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response  b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se  b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5943600" y="3733920"/>
          <a:ext cx="139392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733920"/>
                    <a:ext cx="13939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Nonresponse Err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Nonrespondent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n almost every survey information from a small or large portion of the sample cannot be collected. These are thos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people who refuse to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respond, or who can not be contacted (n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ot-at-home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Self-selection bia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only those people who are interested strongly with topic of the survey may respond while those who are still within the same sample but indeferent or afraid avoid participating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his leads to the over-representation of some extreme position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, but under-representation of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other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ponse Bi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ias that occurs when respondents tend to answer questions with a certai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clination or viewpoi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consciousl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deliberate falsific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unconsciously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conscious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 misinterpret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srepresents the truth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Reasons of response bi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ingly or unknowingly people who answer questions of the interviewer may feel unconfortable about the truth that they share with others, and change i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in their respo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y may desire to show themselves as more intelligent, wealthy, sensitive, etc. than they really 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28600" y="1771560"/>
            <a:ext cx="8610480" cy="7495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quiescence bias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(positive answ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28600" y="276228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tremity bias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aggerated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answ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28600" y="375300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terviewer bias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(answers acceptable by the interview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480060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uspices bias</a:t>
            </a:r>
            <a:r>
              <a:rPr b="0" lang="tr-TR" sz="2400" spc="-1" strike="noStrike">
                <a:solidFill>
                  <a:srgbClr val="ffffcc"/>
                </a:solidFill>
                <a:latin typeface="Arial"/>
              </a:rPr>
              <a:t> (answers acceptable by the organiza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28600" y="579132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Social desirability bias</a:t>
            </a:r>
            <a:r>
              <a:rPr b="0" lang="tr-TR" sz="2300" spc="-1" strike="noStrike">
                <a:solidFill>
                  <a:srgbClr val="ffffcc"/>
                </a:solidFill>
                <a:latin typeface="Arial"/>
              </a:rPr>
              <a:t> (answers creating a favorable impression)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343400" y="13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tr-TR" sz="3000" spc="-1" strike="noStrike">
                <a:solidFill>
                  <a:srgbClr val="ff9900"/>
                </a:solidFill>
                <a:latin typeface="Times New Roman"/>
              </a:rPr>
              <a:t>ypes of Response Bias</a:t>
            </a:r>
            <a:endParaRPr b="0" lang="en-US" sz="3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8600" y="762120"/>
            <a:ext cx="8610480" cy="749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iberate falsification</a:t>
            </a:r>
            <a:r>
              <a:rPr b="0" lang="tr-TR" sz="2400" spc="-1" strike="noStrike">
                <a:solidFill>
                  <a:srgbClr val="ff0000"/>
                </a:solidFill>
                <a:latin typeface="Arial"/>
              </a:rPr>
              <a:t> (consciously false answ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2.2.2. Administrative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r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Unadvertently or carelessly 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proper administration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nd executi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the research tas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und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r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gl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mi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Types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dministrative Error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Data processing error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ncorrect data entry, computer programming, or other procedural errors during the analysis stage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Sample selection error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mproper sample design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(e.g. based on incomplete databases)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or sampling procedure execution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(e.g. executed in daytime while most of the target population are working)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Interviewer error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istake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done by the interviewer (e.g. taking wrong or incomplete notes about the answers of the respondent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Times New Roman"/>
              </a:rPr>
              <a:t>Interviewer cheating</a:t>
            </a:r>
            <a:r>
              <a:rPr b="0" lang="tr-TR" sz="3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filling in fake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or false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nswer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indeed not given by the respondent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Classification of Survey Method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.1. 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Structure of the questionnaire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whether standardized questions with a limited number of allowable answer -multiple choices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or unstandardized open ended questions with the possibility of being answered in numerious way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.2. 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Level of Directness of the questions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whether direct/undisguised questions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* or indirect/disguised questions to hide the real purpose of the surve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Classification of Survey Method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3.3. Time basis of the Survey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ross-Sectional Study</a:t>
            </a:r>
            <a:r>
              <a:rPr b="1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a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o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ous segments of a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targe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pulation are collected at a single moment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in time to make comparisons among segmen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ongitudinal Study</a:t>
            </a:r>
            <a:r>
              <a:rPr b="1" lang="tr-TR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data ar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llected at different time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from the similar respondents to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are trends and identify changes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cc"/>
                </a:solidFill>
                <a:latin typeface="Times New Roman"/>
              </a:rPr>
              <a:t>Panel Study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ngitudinal survey of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exactl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ame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respondents  to 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cord (in a diary) their attitudes, behavior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rchasing habits over ti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urvey Research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28195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Basic Definitions for surve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rrors in Surve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 Classification of Survey Metho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Basic Definitions for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search technique in which information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imary da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is gathered from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amp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peop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to make 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generalization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imary data: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ata gathered and assembled specifically for the project at h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Samp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of the survey: respondents who are asked to provide information, assuming that they can represent (possess same features with) 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a target popul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819520" y="1905120"/>
          <a:ext cx="632448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05120"/>
                    <a:ext cx="632448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3"/>
          <p:cNvSpPr/>
          <p:nvPr/>
        </p:nvSpPr>
        <p:spPr>
          <a:xfrm>
            <a:off x="5108040" y="4510080"/>
            <a:ext cx="254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638680" y="2362320"/>
            <a:ext cx="187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52280" y="1828800"/>
            <a:ext cx="49276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e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e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 larger pop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lecting a Sampl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42670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o is to be sampl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large a samp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will sample units be select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Basic Definitions for sampling (</a:t>
            </a:r>
            <a:r>
              <a:rPr b="0" lang="tr-TR" sz="2000" spc="-1" strike="noStrike">
                <a:solidFill>
                  <a:srgbClr val="ff9900"/>
                </a:solidFill>
                <a:latin typeface="Times New Roman"/>
              </a:rPr>
              <a:t>http://www.stats.gla.ac.uk/steps/glossary/sampling.html</a:t>
            </a: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Target population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roup about which the researcher wishes to draw conclusion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nd make generaliz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andom sampling</a:t>
            </a:r>
            <a:r>
              <a:rPr b="1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lec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 sample from a larger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arge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where 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h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ponde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chosen entirely by chance and each member of the population has a known, but possibly non-equal, chance of being included in the sam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Basic Definitions for data collec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urveys ask 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respondents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who are the subjects of the research) questions by use of a 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questionnair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espondent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he person who provides information (primary data) by answering a questionnaire or an interviewer’s questions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Questionnaire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list of structured questions designed by the researchers for the purpose of 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codifying and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analyzing the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 respondents’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answers scientifically</a:t>
            </a:r>
            <a:r>
              <a:rPr b="0" lang="tr-TR" sz="3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Advantages of Surveys</a:t>
            </a:r>
            <a:r>
              <a:rPr b="1" lang="tr-TR" sz="3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Quick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expensiv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icient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curat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lexible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ay of gathering information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Errors in Survey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1. Random Sampling Err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2. Systematic Erro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sample bia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2.1. Respondent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Nonresponse b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Response b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2.2. Administrative 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Data processing e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Sample selection e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Interviewer err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* Interviewer chea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andom Sampling Err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ven 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 randomly selected, sample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ma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es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ifferen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racteristic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a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target popul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kelihood of bias is reduce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but still exists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is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tatistical fluctu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due to chance vari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n, an important difference occu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tween the findings obtained from this sample and the findings obtained from a possible census of the whole target popul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der the hypothetic case in which a study sample could be increased until it was infinitely large; chance variation of the mean, or random error, would be reduced toward zero. These are random error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ystematic error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uld not be diminished by increasing sample si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z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(Bias in Research Studies, http://radiology.rsna.org/content/238/3/780.ful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29T09:53:14Z</dcterms:modified>
  <cp:revision>542</cp:revision>
  <dc:subject>Chapter 1</dc:subject>
  <dc:title>Business Research Methods  William G. Zikmund</dc:title>
</cp:coreProperties>
</file>