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8D47-B7D1-4847-B3D2-D7A9DC0BBD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C196-E855-48FD-924E-D65DC1531B9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CFF8-303B-492D-ADD7-159A93BDCE54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B68E-8654-48D0-8DC0-9F567702E1E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6F6B-31D6-4128-BE66-F7E989996911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80BA-ABF4-43A5-8974-AA831C0D26D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B523-2CE6-48E6-8BB9-DB3053A147B1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5377-2661-45DB-BD51-82D0211DC1A9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C226-E9EB-4E6A-816F-226293A2A7ED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B8D3-A0F1-44E1-8391-B75787CD53F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E0AC-A1CA-420B-82F4-C7AD7B820189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B6B5-4446-40A1-9F22-F28698760DD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F3EF-37E4-45E7-8693-C6CE58FAE0FD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F1CD-02AA-47F2-994C-596C0528C6B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7D68-89CB-497E-9386-C0097481235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D4ED-E535-4190-8E02-DDC93A1A503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FDB6-36D4-4989-8234-271EA1A0E0C4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824F-DC59-486A-81EF-B2062579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F012-43BB-44CE-9137-6197C683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0D0F-341D-46CB-97EA-F0E7587A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488-81B1-4432-B1E6-EA1DB686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9ABD-0283-4C50-B49F-8F60EC0A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F341-1EAD-4002-94D6-53FF60F2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A53A-C194-4CEF-A781-24FF369E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3BE9-2245-4E27-ACDA-0474C2B8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319-86E8-41A2-9465-AF527B43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F399-4577-44CB-9208-1E00A944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428-481F-4A50-B9CD-32D724C6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DF1-D504-4144-BE53-682AA245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8D55-C238-40EC-B79B-9778CAEBECC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Research Method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G. Zikmund</a:t>
            </a:r>
            <a:br>
              <a:rPr sz="2800"/>
            </a:b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9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vey Resear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2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ystematic Error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Systematic error results from some mistake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(s) done in the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design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and/or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execution of the research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All types of error -except random sampling error, are included in this definition,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ffffcc"/>
                </a:solidFill>
                <a:latin typeface="Times New Roman"/>
              </a:rPr>
              <a:t>Sample bias: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a persistent tendency for the results of a sample to deviate in one direction from the true value of the population parameter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Sample bias can arise when the intended sample does not adequately reflect the spectrum of characteristics in the target population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2.2.1. Respondent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Bia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lassification of sample bias resulting from some respondent action or ina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nresponse  bi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ponse  bi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75" name="Object 2"/>
          <p:cNvGraphicFramePr/>
          <p:nvPr/>
        </p:nvGraphicFramePr>
        <p:xfrm>
          <a:off x="5943600" y="3733920"/>
          <a:ext cx="139392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3733920"/>
                    <a:ext cx="139392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Nonresponse Error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Nonrespondents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in almost every survey information from a small or large portion of the sample cannot be collected. These are those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people who refuse to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respond, or who can not be contacted (n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ot-at-homes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Self-selection bias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only those people who are interested strongly with topic of the survey may respond while those who are still within the same sample but indeferent or afraid avoid participating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This leads to the over-representation of some extreme positions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, but under-representation of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other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Response Bia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bias that occurs when respondents tend to answer questions with a certain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nclination or viewpoin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t consciously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1" lang="tr-TR" sz="3200" spc="-1" strike="noStrike">
                <a:solidFill>
                  <a:srgbClr val="ffffcc"/>
                </a:solidFill>
                <a:latin typeface="Times New Roman"/>
              </a:rPr>
              <a:t>deliberate falsifica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r unconsciously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unconscious</a:t>
            </a:r>
            <a:r>
              <a:rPr b="1" lang="tr-TR" sz="3200" spc="-1" strike="noStrike">
                <a:solidFill>
                  <a:srgbClr val="ffffcc"/>
                </a:solidFill>
                <a:latin typeface="Times New Roman"/>
              </a:rPr>
              <a:t> misinterpreta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srepresents the truth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Reasons of response bia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ingly or unknowingly people who answer questions of the interviewer may feel unconfortable about the truth that they share with others, and change i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in their respon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ey may desire to show themselves as more intelligent, wealthy, sensitive, etc. than they really a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228600" y="1771560"/>
            <a:ext cx="8610480" cy="74952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cquiescence bias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(positive answer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228600" y="2762280"/>
            <a:ext cx="8610480" cy="74916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xtremity bias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xaggerated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answer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28600" y="3753000"/>
            <a:ext cx="8610480" cy="74916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terviewer bias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(answers acceptable by the interviewe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28600" y="4800600"/>
            <a:ext cx="8610480" cy="74916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uspices bias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(answers acceptable by the organizat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228600" y="5791320"/>
            <a:ext cx="8610480" cy="74916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Social desirability bias</a:t>
            </a:r>
            <a:r>
              <a:rPr b="0" lang="tr-TR" sz="2300" spc="-1" strike="noStrike">
                <a:solidFill>
                  <a:srgbClr val="ffffcc"/>
                </a:solidFill>
                <a:latin typeface="Arial"/>
              </a:rPr>
              <a:t> (answers creating a favorable impression)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4343400" y="13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T</a:t>
            </a:r>
            <a:r>
              <a:rPr b="1" lang="tr-TR" sz="3000" spc="-1" strike="noStrike">
                <a:solidFill>
                  <a:srgbClr val="ff9900"/>
                </a:solidFill>
                <a:latin typeface="Times New Roman"/>
              </a:rPr>
              <a:t>ypes of Response Bias</a:t>
            </a:r>
            <a:endParaRPr b="0" lang="en-US" sz="3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8600" y="762120"/>
            <a:ext cx="8610480" cy="74916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iberate falsification</a:t>
            </a:r>
            <a:r>
              <a:rPr b="0" lang="tr-TR" sz="2400" spc="-1" strike="noStrike">
                <a:solidFill>
                  <a:srgbClr val="ff0000"/>
                </a:solidFill>
                <a:latin typeface="Arial"/>
              </a:rPr>
              <a:t> (consciously false answer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2.2.2. Administrative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rror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Unadvertently or carelessly i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proper administration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nd executio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f the research tas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lunder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ar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fu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glec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mi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Types of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Administrative Error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Data processing error</a:t>
            </a:r>
            <a:r>
              <a:rPr b="0" lang="tr-TR" sz="30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incorrect data entry, computer programming, or other procedural errors during the analysis stage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ample selection error</a:t>
            </a:r>
            <a:r>
              <a:rPr b="0" lang="tr-TR" sz="3000" spc="-1" strike="noStrike">
                <a:solidFill>
                  <a:srgbClr val="ff99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improper sample design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(e.g. based on incomplete databases)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or sampling procedure execution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 (e.g. executed in daytime while most of the target population are working)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Interviewer error</a:t>
            </a:r>
            <a:r>
              <a:rPr b="0" lang="tr-TR" sz="30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istakes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 done by the interviewer (e.g. taking wrong or incomplete notes about the answers of the respondent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Interviewer cheating</a:t>
            </a:r>
            <a:r>
              <a:rPr b="0" lang="tr-TR" sz="30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filling in fake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or false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answers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 indeed not given by the respondent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 Classification of Survey Method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.1. </a:t>
            </a:r>
            <a:r>
              <a:rPr b="1" lang="tr-TR" sz="3000" spc="-1" strike="noStrike">
                <a:solidFill>
                  <a:srgbClr val="ffffcc"/>
                </a:solidFill>
                <a:latin typeface="Times New Roman"/>
              </a:rPr>
              <a:t>Structure of the questionnaire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* whether standardized questions with a limited number of allowable answer -multiple choice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* or unstandardized open ended questions with the possibility of being answered in numerious way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.2. </a:t>
            </a:r>
            <a:r>
              <a:rPr b="1" lang="tr-TR" sz="3000" spc="-1" strike="noStrike">
                <a:solidFill>
                  <a:srgbClr val="ffffcc"/>
                </a:solidFill>
                <a:latin typeface="Times New Roman"/>
              </a:rPr>
              <a:t>Level of Directness of the questions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* whether direct/undisguised questions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* or indirect/disguised questions to hide the real purpose of the survey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Classification of Survey Method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ffffcc"/>
                </a:solidFill>
                <a:latin typeface="Times New Roman"/>
              </a:rPr>
              <a:t>3.3. Time basis of the Survey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ross-Sectional Study</a:t>
            </a:r>
            <a:r>
              <a:rPr b="1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ta 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on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rious segments of a 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target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pulation are collected at a single moment 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in time to make comparisons among segment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Longitudinal Study</a:t>
            </a:r>
            <a:r>
              <a:rPr b="1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data ar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llected at different times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 from the similar respondents to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are trends and identify changes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cc"/>
                </a:solidFill>
                <a:latin typeface="Times New Roman"/>
              </a:rPr>
              <a:t>Panel Study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longitudinal survey of 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exactly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ame 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respondents  to 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cord (in a diary) their attitudes, behavior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rchasing habits over tim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hapter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9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: 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urvey Research</a:t>
            </a:r>
            <a:br>
              <a:rPr sz="4400"/>
            </a:b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9480" y="281952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Basic Definitions for surve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Errors in Surve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3. Classification of Survey Metho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1. Basic Definitions for survey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urvey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esearch technique in which information (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rimary dat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 is gathered from a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amp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f peopl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to make </a:t>
            </a:r>
            <a:r>
              <a:rPr b="1" lang="tr-TR" sz="3200" spc="-1" strike="noStrike">
                <a:solidFill>
                  <a:srgbClr val="ffffcc"/>
                </a:solidFill>
                <a:latin typeface="Times New Roman"/>
              </a:rPr>
              <a:t>generalization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imary data:</a:t>
            </a:r>
            <a:r>
              <a:rPr b="1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data gathered and assembled specifically for the project at han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cc"/>
                </a:solidFill>
                <a:latin typeface="Times New Roman"/>
              </a:rPr>
              <a:t>Sampl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of the survey: respondents who are asked to provide information, assuming that they can represent (possess same features with) </a:t>
            </a:r>
            <a:r>
              <a:rPr b="1" lang="tr-TR" sz="3200" spc="-1" strike="noStrike">
                <a:solidFill>
                  <a:srgbClr val="ffffcc"/>
                </a:solidFill>
                <a:latin typeface="Times New Roman"/>
              </a:rPr>
              <a:t>a target popul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2819520" y="1905120"/>
          <a:ext cx="6324480" cy="43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905120"/>
                    <a:ext cx="632448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3"/>
          <p:cNvSpPr/>
          <p:nvPr/>
        </p:nvSpPr>
        <p:spPr>
          <a:xfrm>
            <a:off x="5108040" y="4510080"/>
            <a:ext cx="254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OPUL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5638680" y="2362320"/>
            <a:ext cx="187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52280" y="1828800"/>
            <a:ext cx="492768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ple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se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f a larger pop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electing a Sampl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28600" y="426708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pling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o is to be sampl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large a sampl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will sample units be select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9900"/>
                </a:solidFill>
                <a:latin typeface="Times New Roman"/>
              </a:rPr>
              <a:t>Basic Definitions for sampling (</a:t>
            </a:r>
            <a:r>
              <a:rPr b="0" lang="tr-TR" sz="2000" spc="-1" strike="noStrike">
                <a:solidFill>
                  <a:srgbClr val="ff9900"/>
                </a:solidFill>
                <a:latin typeface="Times New Roman"/>
              </a:rPr>
              <a:t>http://www.stats.gla.ac.uk/steps/glossary/sampling.html</a:t>
            </a:r>
            <a:r>
              <a:rPr b="0" lang="tr-TR" sz="40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cc"/>
                </a:solidFill>
                <a:latin typeface="Times New Roman"/>
              </a:rPr>
              <a:t>Target population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group about which the researcher wishes to draw conclusion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and make generaliz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andom sampling</a:t>
            </a:r>
            <a:r>
              <a:rPr b="1" lang="tr-TR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lec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 sample from a larger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arge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pula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where 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h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responden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chosen entirely by chance and each member of the population has a known, but possibly non-equal, chance of being included in the samp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Basic Definitions for data collectio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Surveys ask </a:t>
            </a: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respondents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who are the subjects of the research) questions by use of a </a:t>
            </a: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questionnaire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espondent</a:t>
            </a:r>
            <a:r>
              <a:rPr b="1" lang="tr-TR" sz="30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The person who provides information (primary data) by answering a questionnaire or an interviewer’s questions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Questionnaire</a:t>
            </a:r>
            <a:r>
              <a:rPr b="1" lang="tr-TR" sz="30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list of structured questions designed by the researchers for the purpose of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codifying and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analyzing the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 respondents’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answers scientifically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Advantages of Surveys</a:t>
            </a:r>
            <a:r>
              <a:rPr b="1" lang="tr-TR" sz="30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Quick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expensive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fficient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curate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lexible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ay of gathering information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 Errors in Survey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520" y="1294920"/>
            <a:ext cx="72392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1. Random Sampling Err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2. Systematic Error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(sample bia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.2.1. Respondent 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r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 Nonresponse b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 Response b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.2.2. Administrative 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r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 Data processing err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 Sample selection err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 Interviewer err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 Interviewer cheat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1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Random Sampling Error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Even i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 randomly selected, sample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ma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ssess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differen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racteristics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a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target popula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ikelihood of bias is reduced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but still exists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is is 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statistical fluctua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due to chance varia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n, an important difference occur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tween the findings obtained from this sample and the findings obtained from a possible census of the whole target popula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sider the hypothetic case in which a study sample could be increased until it was infinitely large; chance variation of the mean, or random error, would be reduced toward zero. These are random error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ystematic error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uld not be diminished by increasing sample si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z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(Bias in Research Studies, http://radiology.rsna.org/content/238/3/780.ful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6:47:22Z</dcterms:created>
  <dc:creator>zikmund</dc:creator>
  <dc:description/>
  <dc:language>en-US</dc:language>
  <cp:lastModifiedBy>Soad</cp:lastModifiedBy>
  <dcterms:modified xsi:type="dcterms:W3CDTF">2016-10-29T09:53:14Z</dcterms:modified>
  <cp:revision>542</cp:revision>
  <dc:subject>Chapter 1</dc:subject>
  <dc:title>Business Research Methods  William G. Zikmund</dc:title>
</cp:coreProperties>
</file>