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3.png" ContentType="image/png"/>
  <Override PartName="/ppt/media/image5.pct" ContentType="image/x-pict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432C-AC6F-4CBB-ADDC-598D090A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ides following this can be viewed sequentially or by using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ching  icons on each slide to go forward from this index slide and come back to it.  This permits the instructor to select which subsets of slides to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C5D5-ACD1-4693-AEE5-D98DAD33F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F59D-07E0-422B-8020-52F72FD00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6877-7BDD-41BA-9872-A2D18B96C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6339-4BA0-468B-8C1B-871A5B2BA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A56C8-5E45-407B-8085-CBDC3A64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42ADF-E3E9-4C25-8790-1BCEFB1F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443A0-A159-4C37-BE4C-A8AB5CB1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D49EF-B703-43BB-9D3B-67E04F08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D5F18-A4A4-46CC-97C9-33E0D5DA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9E73A-8CCB-42E4-8E92-330CC9F4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C0600-EA11-45C3-8E65-C6CBEFF0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70AB-9880-4FB4-ACBD-4A1BE01D1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73062-21A2-4C0C-9A1C-D62E29A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B7F00-1469-4F64-A52C-A7139F0B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ADFBA-CAF3-47B1-AB65-01284B1F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7BFCD-9006-4BAB-BAEA-41D050C0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BD794-CCDE-4A03-8424-DB5040F7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94E2-133C-4E8B-B3C1-6C529BAF5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8D82-F5FF-4FB9-82B7-2BA0B58B9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AEED-5700-4D99-972D-CD2316370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FDB4-E98F-42CC-8EC1-5C20F322E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5221-2766-431A-90C4-670DB4D63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B5A7-5845-45E1-AE0F-F2981B52B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D2F6-C00D-4850-B730-E8A550D49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ff66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ffffcc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ffffcc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29400" y="62388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242200" cy="396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56320" y="6394320"/>
            <a:ext cx="3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265C-42D8-48C0-A054-E69F435CB874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C891-6DF0-4891-A9B8-C8FE8AAD119A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4220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hemical Messenge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28440" y="2514240"/>
            <a:ext cx="579132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Neurotransmitter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Hormone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Neurohormone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arkinson’s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Results from loss of dopamine-producing neurons in the substantia nigra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Symptoms include: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difficulty starting and stopping voluntary movements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tremors at rest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stooped posture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rigidity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poor balance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arkinson’s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Treatments: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L-dopa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transplants of fetal dopamine-producing substantia nigra cell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adrenal gland transplant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electrical stimulation of the thalamus to stop tremor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dorphin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Control pain and pleasure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Released in response to pain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Morphine and codeine work on endorphin receptors Involved in healing effects of acupuncture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962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dorphin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Runner’s high - feeling of pleasure after a long run is due to heavy endorphin releas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40480" y="1886040"/>
            <a:ext cx="19810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Gamma-Aminobutyric Acid (GABA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Main inhibitory neurotransmitter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Benzodiazepines (which include tranquilizers such as Valium) and alcohol work on GABA receptor complexes 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untington’s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9360" y="17712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Involves loss of neurons in striatum that utilize GABA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Symptoms: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jerky involuntary movements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mental deterioration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506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Glutamat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Major excitatory neurotransmitter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Too much glutamate (and too little GABA) associated with epileptic seizure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rmon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hemical messengers secreted into bloodstream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784760" y="1919160"/>
            <a:ext cx="3683160" cy="4224240"/>
            <a:chOff x="4784760" y="1919160"/>
            <a:chExt cx="3683160" cy="42242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800600" y="2841480"/>
              <a:ext cx="2895480" cy="28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784760" y="1919160"/>
              <a:ext cx="31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ormonal communication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2600" y="2390760"/>
              <a:ext cx="122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ndocrine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ll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2640" y="4191120"/>
              <a:ext cx="84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ood-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ream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98360" y="5562720"/>
              <a:ext cx="799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ll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rmones vs. Neurotransmitte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Distance traveled between release and target site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hormones travel longer distances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neurotransmitters - travel across a synaptic cleft (20 nm)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Speed of communication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hormones - slower communication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neurotransmitters - rapid, specific action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rmon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Released by organs, including the stomach, intestines, kidneys and the brai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Also released by a set of glands called the endocrine system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ypes of Neurotransmitte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Acetylcholin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Serotoni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Norepinephrin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Dopamin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Endorphin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GABA  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Glutamat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docrine Syste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Consists of hormone-releasing glands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Includes: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hypothalamus</a:t>
            </a: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pituitary gland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adrenal glands 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thyroid gland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parathyroid glands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pineal gland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pancreas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ovaries and testes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190512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ypothalamus and Hormon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467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Hypothalamus releases hormones or releasing factors which in turn cause pituitary gland to release its hormone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ituitary Glan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Master endocrine gland”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Produces hormones that control hormone production in other endocrine gland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ituitary Glan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Also produces growth hormone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Too little pituitary activity produces dwarfism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Too much leads to gigantism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ituitary Glan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Also involved in breastfeeding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Produces prolacti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stimulates milk production</a:t>
            </a: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Produces oxytoci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involved in milk release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renal Gland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Involved in stress response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Hormones released include: 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epinephrine (a.k.a. adrenaline)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norepinephrine (a.k.a. noradrenaline)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562720" y="1752480"/>
            <a:ext cx="2438280" cy="4952880"/>
            <a:chOff x="5562720" y="1752480"/>
            <a:chExt cx="2438280" cy="4952880"/>
          </a:xfrm>
        </p:grpSpPr>
        <p:sp>
          <p:nvSpPr>
            <p:cNvPr id="152" name=""/>
            <p:cNvSpPr/>
            <p:nvPr/>
          </p:nvSpPr>
          <p:spPr>
            <a:xfrm>
              <a:off x="6782040" y="2146320"/>
              <a:ext cx="0" cy="29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2040" y="2908080"/>
              <a:ext cx="0" cy="29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2040" y="4038480"/>
              <a:ext cx="0" cy="25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2040" y="4978440"/>
              <a:ext cx="0" cy="29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82040" y="5727600"/>
              <a:ext cx="0" cy="29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2720" y="1752480"/>
              <a:ext cx="2438280" cy="3808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adowy figure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2720" y="2438280"/>
              <a:ext cx="2438280" cy="4572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in interprets stimulu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 fearsome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62720" y="3187440"/>
              <a:ext cx="2438280" cy="8384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ypothalamus secrete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rticotropin-releasing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ctor into blood portal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th to anterior pituitary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4279680"/>
              <a:ext cx="2438280" cy="6858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terior pituitary secrete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rticotropin, carried by 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lood to the adrenal gland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720" y="5257800"/>
              <a:ext cx="2438280" cy="4572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renal secretes cortisol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 other hormones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62720" y="6019560"/>
              <a:ext cx="2438280" cy="6858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adrenal hormones act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 various tissues to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able adaptation to stress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docrine Gland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Thyroid gland - metabolism 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Pineal gland - sleep and wakefulnes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Pancreas - regulates blood sugar level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Ovaries and testes - secrete sex hormones such as testosterone and estrogen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cetylcholin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Found in neuromuscular junctio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Involved in muscle movement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27440" y="2338560"/>
            <a:ext cx="40086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sruption of Acetylcholine Functioning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urare - blocks ACh receptor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35480" indent="-28296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paralysis result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Nerve gases and Black Widow spider venom - too much ACh leads to severe muscle spasms and possible death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sruptions in ACh Functioning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885680"/>
            <a:ext cx="7543800" cy="26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igarettes - nicotine works on ACh receptor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can artificially stimulate skeletal muscles, leading to slight, trembling movement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lzheimer’s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0082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Deterioration of memory, reasoning and language skill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Symptoms may be due to loss of ACh neuron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erotoni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Involved in sleep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Involved in depressio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Prozac works by keeping serotonin in the synapse longer, giving it more time to exert an effect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Norepinephrin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162920" cy="18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Black"/>
              </a:rPr>
              <a:t>Arousal</a:t>
            </a:r>
            <a:endParaRPr b="0" lang="en-US" sz="36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Arial Black"/>
              </a:rPr>
              <a:t>Fight or flight” response</a:t>
            </a:r>
            <a:endParaRPr b="0" lang="en-US" sz="36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opamin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Involved in movement, attention and learning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Dopamine imbalance also involved in schizophrenia 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Loss of dopamine- producing neurons is cause of Parkinson’s Diseas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7T03:40:50Z</dcterms:created>
  <dc:creator>B Givens</dc:creator>
  <dc:description/>
  <dc:language>en-US</dc:language>
  <cp:lastModifiedBy>Soo Young Lee</cp:lastModifiedBy>
  <dcterms:modified xsi:type="dcterms:W3CDTF">1999-11-04T00:48:31Z</dcterms:modified>
  <cp:revision>163</cp:revision>
  <dc:subject/>
  <dc:title>Types of neurons</dc:title>
</cp:coreProperties>
</file>