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3.png" ContentType="image/png"/>
  <Override PartName="/ppt/media/image5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18B2-86E7-418C-AEAD-D79D8949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following this can be viewed sequentially or by using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ing  icons on each slide to go forward from this index slide and come back to it.  This permits the instructor to select which subsets of slides to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0D25-8771-4B4A-AF9A-8E3B1A841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0997-8C86-40EE-8849-FC34BDE88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D3EA-9588-472E-98C3-F3E74B10B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F778-C20A-46D3-97BB-40DA30149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B5F6E-26D5-4BE1-9F11-58CC2140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5490A-2BBA-4DD2-B6AE-B1218894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69D8E-7B0E-4CBD-8495-F10DA3FC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F7806-6C45-402D-8832-AC9D6BD8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30C3F-6565-43A0-A83E-591781D5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B136F-7BDF-482F-A076-84FB993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9C78F-3B6D-4D43-8707-D4304EB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AD9C-F913-479A-88B3-7659F9FE1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CAE37-79CD-4910-855D-B0B86E2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AB886-E6AA-458B-A98F-C1E0019C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F5CA6-2DCD-4497-B21F-5FF378AC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1175D-1D56-4913-92D4-26F6EAB6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379A4-AC7A-4586-B6AF-0E669992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2E1B-E81D-47C6-BBE9-4A2A9375E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3B4C-AB0B-4535-9E77-29CD28AAA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BD6C-E29D-4665-BD75-B4FDDD558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CD2C-C744-41B5-B6C0-0E31BC64F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2337-7883-4BE0-8805-24D6662C3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ED1A-DC8C-4F21-A3FA-121CE6A50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9B23-E460-4560-A7A7-4FBCD58AC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29400" y="62388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56320" y="6394320"/>
            <a:ext cx="3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0C01-C4DA-4393-BD73-6E3E75A8B369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7056-BC3F-446D-8B7E-87B9A524F036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4220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hemical Messeng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8440" y="2514240"/>
            <a:ext cx="579132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Neurotransmitter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Hormon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Neurohormon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arkinson’s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Results from loss of dopamine-producing neurons in the substantia nigra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ymptoms include: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difficulty starting and stopping voluntary movements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tremors at rest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stooped postur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rigidity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poor balanc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arkinson’s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Treatments: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L-dopa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transplants of fetal dopamine-producing substantia nigra cell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adrenal gland transplant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electrical stimulation of the thalamus to stop tremor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dorphi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Control pain and pleasur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Released in response to pain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Morphine and codeine work on endorphin receptors Involved in healing effects of acupunctur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962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dorphi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Runner’s high - feeling of pleasure after a long run is due to heavy endorphin releas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40480" y="1886040"/>
            <a:ext cx="19810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amma-Aminobutyric Acid (GABA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Main inhibitory neurotransmitter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Benzodiazepines (which include tranquilizers such as Valium) and alcohol work on GABA receptor complexes 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untington’s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9360" y="17712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Involves loss of neurons in striatum that utilize GABA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ymptoms: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jerky involuntary movements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mental deterioration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506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lutamat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Major excitatory neurotransmitter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Too much glutamate (and too little GABA) associated with epileptic seizur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rmon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hemical messengers secreted into bloodstream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784760" y="1919160"/>
            <a:ext cx="3683160" cy="4224240"/>
            <a:chOff x="4784760" y="1919160"/>
            <a:chExt cx="3683160" cy="42242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800600" y="2841480"/>
              <a:ext cx="2895480" cy="28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784760" y="1919160"/>
              <a:ext cx="31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ormonal communication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2600" y="2390760"/>
              <a:ext cx="122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ndocrine 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ll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2640" y="4191120"/>
              <a:ext cx="84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ood-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ream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98360" y="5562720"/>
              <a:ext cx="79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ll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rmones vs. Neurotransmitt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Distance traveled between release and target site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hormones travel longer distances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neurotransmitters - travel across a synaptic cleft (20 nm)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peed of communication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hormones - slower communication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neurotransmitters - rapid, specific action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rmon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Released by organs, including the stomach, intestines, kidneys and the brai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Also released by a set of glands called the endocrine system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ypes of Neurotransmitt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Acetylcholin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Serotoni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Norepinephrin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Dopamin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Endorphin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GABA  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Glutamat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docrine Syste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Consists of hormone-releasing glands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Includes: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hypothalamus</a:t>
            </a: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pituitary gland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adrenal glands 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thyroid gland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parathyroid glands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pineal gland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pancreas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ovaries and testes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90512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ypothalamus and Hormon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Hypothalamus releases hormones or releasing factors which in turn cause pituitary gland to release its hormon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ituitary Glan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Master endocrine gland”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Produces hormones that control hormone production in other endocrine gland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ituitary Glan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Also produces growth hormone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Too little pituitary activity produces dwarfism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Too much leads to gigantism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ituitary Glan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Also involved in breastfeeding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Produces prolacti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timulates milk production</a:t>
            </a: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Produces oxytoci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involved in milk release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renal Gland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Involved in stress response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Hormones released include: 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epinephrine (a.k.a. adrenaline)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norepinephrine (a.k.a. noradrenaline)</a:t>
            </a:r>
            <a:endParaRPr b="0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562720" y="1752480"/>
            <a:ext cx="2438280" cy="4952880"/>
            <a:chOff x="5562720" y="1752480"/>
            <a:chExt cx="2438280" cy="4952880"/>
          </a:xfrm>
        </p:grpSpPr>
        <p:sp>
          <p:nvSpPr>
            <p:cNvPr id="152" name=""/>
            <p:cNvSpPr/>
            <p:nvPr/>
          </p:nvSpPr>
          <p:spPr>
            <a:xfrm>
              <a:off x="6782040" y="214632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82040" y="2908080"/>
              <a:ext cx="0" cy="29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2040" y="4038480"/>
              <a:ext cx="0" cy="25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2040" y="497844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2040" y="5727600"/>
              <a:ext cx="0" cy="29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2720" y="1752480"/>
              <a:ext cx="2438280" cy="3808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adowy figure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2720" y="2438280"/>
              <a:ext cx="2438280" cy="457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in interprets stimulu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 fearsome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62720" y="3187440"/>
              <a:ext cx="2438280" cy="8384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ypothalamus secrete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ticotropin-releasing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ctor into blood portal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th to anterior pituitary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4279680"/>
              <a:ext cx="2438280" cy="6858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terior pituitary secretes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ticotropin, carried by 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lood to the adrenal gland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5257800"/>
              <a:ext cx="2438280" cy="457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renal secretes cortisol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 other hormones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62720" y="6019560"/>
              <a:ext cx="2438280" cy="6858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adrenal hormones act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various tissues to 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able adaptation to stress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docrine Gland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Thyroid gland - metabolism 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ineal gland - sleep and wakefulnes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ancreas - regulates blood sugar level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Ovaries and testes - secrete sex hormones such as testosterone and estrogen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cetylcholi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Found in neuromuscular junctio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Involved in muscle movement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27440" y="2338560"/>
            <a:ext cx="40086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sruption of Acetylcholine Functioni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urare - blocks ACh receptor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35480" indent="-28296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aralysis result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Nerve gases and Black Widow spider venom - too much ACh leads to severe muscle spasms and possible death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sruptions in ACh Functioni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885680"/>
            <a:ext cx="7543800" cy="26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igarettes - nicotine works on ACh receptor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can artificially stimulate skeletal muscles, leading to slight, trembling movement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lzheimer’s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0082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Deterioration of memory, reasoning and language skill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Symptoms may be due to loss of ACh neurons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erotoni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79246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Involved in sleep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Involved in depression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Black"/>
              </a:rPr>
              <a:t>Prozac works by keeping serotonin in the synapse longer, giving it more time to exert an effect</a:t>
            </a:r>
            <a:endParaRPr b="0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Norepinephri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162920" cy="18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Black"/>
              </a:rPr>
              <a:t>Arousal</a:t>
            </a:r>
            <a:endParaRPr b="0" lang="en-US" sz="36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Arial Black"/>
              </a:rPr>
              <a:t>Fight or flight” response</a:t>
            </a:r>
            <a:endParaRPr b="0" lang="en-US" sz="36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opami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Involved in movement, attention and learning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Dopamine imbalance also involved in schizophrenia 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Loss of dopamine- producing neurons is cause of Parkinson’s Disease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7T03:40:50Z</dcterms:created>
  <dc:creator>B Givens</dc:creator>
  <dc:description/>
  <dc:language>en-US</dc:language>
  <cp:lastModifiedBy>Soo Young Lee</cp:lastModifiedBy>
  <dcterms:modified xsi:type="dcterms:W3CDTF">1999-11-04T00:48:31Z</dcterms:modified>
  <cp:revision>163</cp:revision>
  <dc:subject/>
  <dc:title>Types of neurons</dc:title>
</cp:coreProperties>
</file>