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AD4-A64C-4EC3-BF20-A2792686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9A8-3872-4016-A102-CC4C072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9F65D-492B-49D0-ADA9-2AD8F964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89604-F9FE-452A-84E8-8CCBB1D3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60F57-499C-4E87-9D7A-B154C8F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2335-079C-494C-A3A6-FF642B2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AD5F-5C48-4F0E-99DF-CF2CF0E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827A2-0105-4463-9413-DAFC0C3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D3B7E-284C-4A04-968F-23C1D5A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0ABE0-6C91-4393-8F7A-A773E3EF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6FF13-BA15-4887-9C06-993227E2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D081-A2F6-479F-B5AF-0B2F056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DA0-443E-4A92-8EDD-5B8F4CC2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C8E87-A529-47B5-B049-456C4FCC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F8472-928D-4FA4-838A-BBDB9D5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98F4D-0E36-467A-A1CE-2F7EFDE1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F26A2-8BEE-4B29-8DBB-A7BDD238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93AE-4D63-4BEB-9C13-7C4ABAB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88858-1DC4-4CF3-8D1A-07208F4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D05A3-B27B-4663-8063-88C56924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4D875-3BB6-48D2-9BFD-C45202D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F69C1-09D2-4614-BA6C-B328AFA4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58576-D775-4D9D-9C7B-F355494D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645-5D03-4D18-9AE5-CD414C5E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71C1F-FD1A-4C24-BE19-A79A1188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2B6BD-943A-4E39-B792-04FB737C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ECC7B-051B-4470-A9B5-10B4AF06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64922-BE3B-4463-8073-C0D34BF3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B533B-3311-4729-BE23-0E309D7B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EA8D0-9BAC-4F29-974A-9150730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3F7C5-F9ED-4B23-AA83-62CF8FE6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D749B-688F-4D70-9ECC-70971F2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B78E5-FA3D-434D-A586-5374767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A053D-9CDE-404C-B4E4-EE89DE9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13E2-DE29-4228-9AD8-DDDDCF0A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3AC9B-5709-43DD-AEEA-024E719A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5A414-088D-47E1-8BBB-5D14D963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3D1B-8F25-4A11-89A2-D98641E5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13E86-614D-4AED-BABD-279B9264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A793A-A08F-4578-8497-B95CC61A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92BD9-9413-49B9-A851-2247EC9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8C1CC-D2D8-498D-9E48-429ABE0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0FFE3-FBAA-4D83-8478-D68BA3D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B722D-8764-4378-A27C-9DAA205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F80DB-F59E-4AC0-9519-3856C0A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E97-490C-4E09-A78D-A8A7F65D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3B166-C24C-49B6-A3AD-1CC7739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C852A-8F14-4629-9496-F2980CB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14F3D-D815-43C7-B16C-159AF781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22105-402F-496F-8A29-B40B9BBB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0CFAD-DD9F-4A6A-AA14-5CFEEA47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6C6F-0482-4283-9376-B7997D9B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DF8F-ECF0-4B53-9AE3-956EF7F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8C6-8E94-4350-84EE-DD3A74B5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D60-07FA-4094-B6C5-4697DF3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7E68-9C47-4E2B-9E6B-C88FC61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5CA-E09A-428A-9974-E7AA7701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809E-0C56-4C65-A8B2-627DB36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5896-F1C7-4140-AAE3-AEAC99F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EB4-74A5-4C1E-B6E3-40183EF5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2F89-796B-4E25-BC70-51090CD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9E5-841F-464C-BE39-920E44B9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08E5-F931-4FF9-A590-71FABA98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3CBE-BD68-4AC7-90C0-EAD0918B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19FB-A0EB-415B-8509-530683A3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DB8C-3404-4133-AF64-88022E71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6017-8C8D-4194-B68D-50F7998D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53D-BE0F-4AA1-9E8A-EAA26BD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C532-1D0C-4BB1-A05B-69370C78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0079-3C6C-4171-9754-A775D42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576E-3342-46EB-90D9-2B2B47A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1C5A-DEB4-48BC-B4F9-838575E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263C-3490-497F-87D0-D02FA36C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F1A3-5787-4106-B607-705B79AA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1BE1-1175-4D2B-8CEC-F7D86673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A4CB-E1DB-45C2-A81E-C670A827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CFC5-6DE4-4CFD-8A04-60F7C55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9551-8E4B-4DA9-AFF6-64DC4D7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5DA-3243-4EFA-B362-4D4EF518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D122-4F06-4247-BFB3-81C72D3D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7FDB-D2A1-47A5-8BAB-735F56A7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775F-78C4-4FDF-AD86-0977EE96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31AC-9CC4-448F-AB35-A54DA78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783F-8ADF-42FD-9CEE-D3D97F0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843A-AF74-4380-9FE7-7BA6BBB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A8E0-13BA-41DC-9852-813EBB74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84E4-6092-479F-A32A-979E70F4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CBBD-975A-4387-8842-FCEED376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136D-52CA-4C02-AE11-A95B3083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B0D-A5C6-45B6-A589-550616EA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3128-8AAA-4354-9464-EFF2F9BE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B944-71AF-4150-A30F-AA5202F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737E-9F4A-43FA-91DA-FFB1AAD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C4F3B-B181-4C48-A76D-E0B741E5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ECA9-9D4B-405C-AF27-8B4FD71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202B-752F-4E43-A625-D7AD4F57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AE870-025D-495B-81C9-14F0558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6E33-D3D6-4B5D-9CE0-150A7A8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1F8A-0617-45DA-9D19-A96D071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9C5B-B20E-4564-B8F9-8E3B953E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097-E3CA-41AE-B27E-7C6EC75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7BCE-66F9-40A7-8DE8-E393BC6A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1CD8C-8642-4E27-9658-4434E5B5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1A94-C540-43AC-BAEE-77D83A19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33C1-BDAB-4502-88EC-D2D3B7E8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7383-ADD6-4533-9FA8-6D16F50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18F3-F371-44E8-A3DC-D289A7CC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3CC6-3409-42E3-AD1E-2B9F9590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3BC6A-6304-4884-8C94-4F8F2F5B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30A7-5378-431B-9F40-F98C056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D412-05C3-405A-A4E1-EBD6CEB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73-08BD-45C6-A0F3-C6ECF80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1CD72-0511-462B-A6F4-ADD047F7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60862-4AB5-4766-8859-FBBCE397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08C3D-B0F0-4926-B5CF-F03E3829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602D2-C07A-45F5-9DF4-5463D306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0107-0428-4718-8829-94BC975C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E3CD7-CDDC-4EC5-AEA6-7F965F4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E1CB-15F8-421C-8B3F-6FCD62D0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9EAF6-D57A-431D-BC55-1F279A26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4550-0F03-4D37-B204-314446F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DAB3-AE57-4B4C-AEE9-D88D63E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AF7-3695-49BB-94AA-693A622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086C-7F8F-460D-9340-8B135A0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81901-DBC7-41B1-BDD5-00E869E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04FCF-AED2-4792-B392-FC93039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E694-056B-4A90-AE30-6E9398D6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487A-DC9E-4BC1-990A-4219593D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D4DF-1BD5-4984-815E-9F5A5FB6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28E8-F847-4558-96F7-BB79F9DE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2443-17DA-4B32-A4FF-3409E64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FBDAB-A2CF-42BA-861B-7D83D910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329AD-8639-4BF0-8505-54D12BF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04D-9CCE-4308-A5A2-EE883CD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3F5D5-0B79-48C3-8A18-7B7C805D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9D3A-9B7C-4A64-9D07-51ED1DE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DD28C-549D-40C1-9614-AFD56A9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CC7F-64A7-4A45-B51B-20460D4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8BD7-CF50-4D42-813F-9F262FC4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E2B7D-F0D0-4CB8-BC74-5F0632BE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25AD-FD92-4C52-8CD9-D0931F3C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BCA7-C035-4A23-A21E-7843F581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BBA2A-8762-4B41-9890-3C0E59B0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D12B2-AFB3-4D07-9DAE-1D744E0F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A2C5-722B-4956-8EE4-C0DF096407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Straight Connector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948-34AB-4040-96C2-5058401B95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BC0-28D5-4046-8D03-F9EB36BF3C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510-A864-437E-BFF2-C398F0E0CA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F00-FA4E-477E-956A-72E0C98B8B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3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215B-D098-4F15-B139-C3441361FA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0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93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9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237A-FCE7-485D-B89D-49A31A33B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Straight Connector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141-D8D9-4237-8C7A-CE5F90F79C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8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220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2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223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2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675-91C8-4ECE-BB76-3B05304FA3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Straight Connector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68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D23-430D-4E48-B46C-EBCD0E3C5F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Straight Connector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312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1B3E-9FC4-4267-9BEB-51DB71E372F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7BFF-AD84-43C0-891F-F37A7DFCF8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Documents and Settings\user\Local Settings\Temporary Internet Files\Content.IE5\MCY9A0ZQ\MPj04310290000[1].jpg"/>
          <p:cNvPicPr/>
          <p:nvPr/>
        </p:nvPicPr>
        <p:blipFill>
          <a:blip r:embed="rId1"/>
          <a:stretch/>
        </p:blipFill>
        <p:spPr>
          <a:xfrm>
            <a:off x="0" y="457200"/>
            <a:ext cx="4314960" cy="60199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809880" y="1599840"/>
            <a:ext cx="5181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Child Development Theories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Lecture 3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4314960" y="2286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 311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Vygotsky’s sociocultural the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arning is based upon inventions of socie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nowledge is created through interactions with other people and objects in the cult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ss skilled persons learn from the more skill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4648320" y="3124080"/>
            <a:ext cx="2209680" cy="221004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vironmen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057400" y="3124080"/>
            <a:ext cx="2209680" cy="22860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s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cognitive)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3373560" y="938160"/>
            <a:ext cx="2286000" cy="2209680"/>
          </a:xfrm>
          <a:prstGeom prst="ellipse">
            <a:avLst/>
          </a:prstGeom>
          <a:solidFill>
            <a:srgbClr val="ad1f1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havio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1" name="AutoShape 5"/>
          <p:cNvSpPr/>
          <p:nvPr/>
        </p:nvSpPr>
        <p:spPr>
          <a:xfrm rot="1822200">
            <a:off x="3505320" y="2057040"/>
            <a:ext cx="228600" cy="1828800"/>
          </a:xfrm>
          <a:prstGeom prst="upDownArrow">
            <a:avLst>
              <a:gd name="adj1" fmla="val 50000"/>
              <a:gd name="adj2" fmla="val 159259"/>
            </a:avLst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2" name="AutoShape 6"/>
          <p:cNvSpPr/>
          <p:nvPr/>
        </p:nvSpPr>
        <p:spPr>
          <a:xfrm rot="19829400">
            <a:off x="5181120" y="2057400"/>
            <a:ext cx="228600" cy="1828800"/>
          </a:xfrm>
          <a:prstGeom prst="upDownArrow">
            <a:avLst>
              <a:gd name="adj1" fmla="val 50000"/>
              <a:gd name="adj2" fmla="val 159259"/>
            </a:avLst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3429000" y="457200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828800" y="395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andura’s Social Cognitive Model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152280" y="6400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igure 2.4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7" name="Freeform 3"/>
          <p:cNvSpPr/>
          <p:nvPr/>
        </p:nvSpPr>
        <p:spPr>
          <a:xfrm>
            <a:off x="1376280" y="1606680"/>
            <a:ext cx="1519200" cy="104112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2872" h="1968">
                <a:moveTo>
                  <a:pt x="2872" y="1968"/>
                </a:moveTo>
                <a:lnTo>
                  <a:pt x="2806" y="1672"/>
                </a:lnTo>
                <a:lnTo>
                  <a:pt x="2731" y="1459"/>
                </a:lnTo>
                <a:lnTo>
                  <a:pt x="1466" y="0"/>
                </a:lnTo>
                <a:lnTo>
                  <a:pt x="0" y="376"/>
                </a:lnTo>
                <a:lnTo>
                  <a:pt x="0" y="1656"/>
                </a:lnTo>
                <a:lnTo>
                  <a:pt x="152" y="1968"/>
                </a:lnTo>
                <a:lnTo>
                  <a:pt x="2872" y="1968"/>
                </a:lnTo>
                <a:close/>
              </a:path>
            </a:pathLst>
          </a:custGeom>
          <a:solidFill>
            <a:srgbClr val="0073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8" name="Freeform 4"/>
          <p:cNvSpPr/>
          <p:nvPr/>
        </p:nvSpPr>
        <p:spPr>
          <a:xfrm>
            <a:off x="1504800" y="1357200"/>
            <a:ext cx="1355760" cy="11289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2563" h="2133">
                <a:moveTo>
                  <a:pt x="216" y="533"/>
                </a:moveTo>
                <a:lnTo>
                  <a:pt x="0" y="231"/>
                </a:lnTo>
                <a:lnTo>
                  <a:pt x="1196" y="64"/>
                </a:lnTo>
                <a:lnTo>
                  <a:pt x="1370" y="64"/>
                </a:lnTo>
                <a:lnTo>
                  <a:pt x="1597" y="51"/>
                </a:lnTo>
                <a:lnTo>
                  <a:pt x="1669" y="0"/>
                </a:lnTo>
                <a:lnTo>
                  <a:pt x="2228" y="217"/>
                </a:lnTo>
                <a:lnTo>
                  <a:pt x="2199" y="313"/>
                </a:lnTo>
                <a:lnTo>
                  <a:pt x="2366" y="438"/>
                </a:lnTo>
                <a:lnTo>
                  <a:pt x="2503" y="541"/>
                </a:lnTo>
                <a:lnTo>
                  <a:pt x="2563" y="604"/>
                </a:lnTo>
                <a:lnTo>
                  <a:pt x="2563" y="855"/>
                </a:lnTo>
                <a:lnTo>
                  <a:pt x="2419" y="1175"/>
                </a:lnTo>
                <a:lnTo>
                  <a:pt x="1995" y="1085"/>
                </a:lnTo>
                <a:lnTo>
                  <a:pt x="1822" y="1445"/>
                </a:lnTo>
                <a:lnTo>
                  <a:pt x="2229" y="2046"/>
                </a:lnTo>
                <a:lnTo>
                  <a:pt x="2190" y="2046"/>
                </a:lnTo>
                <a:lnTo>
                  <a:pt x="2078" y="2025"/>
                </a:lnTo>
                <a:lnTo>
                  <a:pt x="2022" y="2025"/>
                </a:lnTo>
                <a:lnTo>
                  <a:pt x="1983" y="2133"/>
                </a:lnTo>
                <a:lnTo>
                  <a:pt x="1592" y="1788"/>
                </a:lnTo>
                <a:lnTo>
                  <a:pt x="1508" y="1646"/>
                </a:lnTo>
                <a:lnTo>
                  <a:pt x="1392" y="1552"/>
                </a:lnTo>
                <a:lnTo>
                  <a:pt x="1392" y="1450"/>
                </a:lnTo>
                <a:lnTo>
                  <a:pt x="1330" y="1228"/>
                </a:lnTo>
                <a:lnTo>
                  <a:pt x="1073" y="755"/>
                </a:lnTo>
                <a:lnTo>
                  <a:pt x="219" y="667"/>
                </a:lnTo>
                <a:lnTo>
                  <a:pt x="216" y="533"/>
                </a:lnTo>
                <a:close/>
              </a:path>
            </a:pathLst>
          </a:custGeom>
          <a:solidFill>
            <a:srgbClr val="7f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9" name="Freeform 5"/>
          <p:cNvSpPr/>
          <p:nvPr/>
        </p:nvSpPr>
        <p:spPr>
          <a:xfrm>
            <a:off x="2071800" y="1736640"/>
            <a:ext cx="749160" cy="709560"/>
          </a:xfrm>
          <a:custGeom>
            <a:avLst/>
            <a:gdLst>
              <a:gd name="textAreaLeft" fmla="*/ 0 w 749160"/>
              <a:gd name="textAreaRight" fmla="*/ 749520 w 74916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17" h="1342">
                <a:moveTo>
                  <a:pt x="857" y="987"/>
                </a:moveTo>
                <a:lnTo>
                  <a:pt x="870" y="996"/>
                </a:lnTo>
                <a:lnTo>
                  <a:pt x="918" y="1097"/>
                </a:lnTo>
                <a:lnTo>
                  <a:pt x="857" y="987"/>
                </a:lnTo>
                <a:lnTo>
                  <a:pt x="156" y="0"/>
                </a:lnTo>
                <a:lnTo>
                  <a:pt x="0" y="88"/>
                </a:lnTo>
                <a:lnTo>
                  <a:pt x="38" y="253"/>
                </a:lnTo>
                <a:lnTo>
                  <a:pt x="158" y="346"/>
                </a:lnTo>
                <a:lnTo>
                  <a:pt x="269" y="575"/>
                </a:lnTo>
                <a:lnTo>
                  <a:pt x="449" y="963"/>
                </a:lnTo>
                <a:lnTo>
                  <a:pt x="723" y="1208"/>
                </a:lnTo>
                <a:lnTo>
                  <a:pt x="939" y="1136"/>
                </a:lnTo>
                <a:lnTo>
                  <a:pt x="926" y="1114"/>
                </a:lnTo>
                <a:lnTo>
                  <a:pt x="1124" y="1342"/>
                </a:lnTo>
                <a:lnTo>
                  <a:pt x="1232" y="1324"/>
                </a:lnTo>
                <a:lnTo>
                  <a:pt x="1368" y="1268"/>
                </a:lnTo>
                <a:lnTo>
                  <a:pt x="1417" y="1218"/>
                </a:lnTo>
                <a:lnTo>
                  <a:pt x="1211" y="693"/>
                </a:lnTo>
                <a:lnTo>
                  <a:pt x="1301" y="447"/>
                </a:lnTo>
                <a:lnTo>
                  <a:pt x="918" y="375"/>
                </a:lnTo>
                <a:lnTo>
                  <a:pt x="896" y="431"/>
                </a:lnTo>
                <a:lnTo>
                  <a:pt x="859" y="490"/>
                </a:lnTo>
                <a:lnTo>
                  <a:pt x="837" y="538"/>
                </a:lnTo>
                <a:lnTo>
                  <a:pt x="816" y="577"/>
                </a:lnTo>
                <a:lnTo>
                  <a:pt x="798" y="636"/>
                </a:lnTo>
                <a:lnTo>
                  <a:pt x="772" y="679"/>
                </a:lnTo>
                <a:lnTo>
                  <a:pt x="759" y="705"/>
                </a:lnTo>
                <a:lnTo>
                  <a:pt x="744" y="686"/>
                </a:lnTo>
                <a:lnTo>
                  <a:pt x="626" y="549"/>
                </a:lnTo>
                <a:lnTo>
                  <a:pt x="316" y="150"/>
                </a:lnTo>
                <a:lnTo>
                  <a:pt x="194" y="23"/>
                </a:lnTo>
                <a:lnTo>
                  <a:pt x="156" y="0"/>
                </a:lnTo>
                <a:lnTo>
                  <a:pt x="857" y="987"/>
                </a:lnTo>
                <a:close/>
              </a:path>
            </a:pathLst>
          </a:custGeom>
          <a:solidFill>
            <a:srgbClr val="ffc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0" name="Freeform 6"/>
          <p:cNvSpPr/>
          <p:nvPr/>
        </p:nvSpPr>
        <p:spPr>
          <a:xfrm>
            <a:off x="2313000" y="1127160"/>
            <a:ext cx="482760" cy="514440"/>
          </a:xfrm>
          <a:custGeom>
            <a:avLst/>
            <a:gdLst>
              <a:gd name="textAreaLeft" fmla="*/ 0 w 482760"/>
              <a:gd name="textAreaRight" fmla="*/ 483120 w 4827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911" h="971">
                <a:moveTo>
                  <a:pt x="120" y="115"/>
                </a:moveTo>
                <a:lnTo>
                  <a:pt x="0" y="173"/>
                </a:lnTo>
                <a:lnTo>
                  <a:pt x="0" y="285"/>
                </a:lnTo>
                <a:lnTo>
                  <a:pt x="48" y="418"/>
                </a:lnTo>
                <a:lnTo>
                  <a:pt x="91" y="449"/>
                </a:lnTo>
                <a:lnTo>
                  <a:pt x="125" y="449"/>
                </a:lnTo>
                <a:lnTo>
                  <a:pt x="125" y="552"/>
                </a:lnTo>
                <a:lnTo>
                  <a:pt x="150" y="791"/>
                </a:lnTo>
                <a:lnTo>
                  <a:pt x="300" y="969"/>
                </a:lnTo>
                <a:lnTo>
                  <a:pt x="444" y="971"/>
                </a:lnTo>
                <a:lnTo>
                  <a:pt x="551" y="922"/>
                </a:lnTo>
                <a:lnTo>
                  <a:pt x="726" y="814"/>
                </a:lnTo>
                <a:lnTo>
                  <a:pt x="655" y="753"/>
                </a:lnTo>
                <a:lnTo>
                  <a:pt x="698" y="707"/>
                </a:lnTo>
                <a:lnTo>
                  <a:pt x="749" y="601"/>
                </a:lnTo>
                <a:lnTo>
                  <a:pt x="763" y="552"/>
                </a:lnTo>
                <a:lnTo>
                  <a:pt x="822" y="526"/>
                </a:lnTo>
                <a:lnTo>
                  <a:pt x="867" y="471"/>
                </a:lnTo>
                <a:lnTo>
                  <a:pt x="888" y="418"/>
                </a:lnTo>
                <a:lnTo>
                  <a:pt x="911" y="271"/>
                </a:lnTo>
                <a:lnTo>
                  <a:pt x="812" y="117"/>
                </a:lnTo>
                <a:lnTo>
                  <a:pt x="229" y="0"/>
                </a:lnTo>
                <a:lnTo>
                  <a:pt x="120" y="115"/>
                </a:lnTo>
                <a:close/>
              </a:path>
            </a:pathLst>
          </a:custGeom>
          <a:solidFill>
            <a:srgbClr val="ffc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1" name="Freeform 7"/>
          <p:cNvSpPr/>
          <p:nvPr/>
        </p:nvSpPr>
        <p:spPr>
          <a:xfrm>
            <a:off x="1374840" y="1454040"/>
            <a:ext cx="520560" cy="1193760"/>
          </a:xfrm>
          <a:custGeom>
            <a:avLst/>
            <a:gdLst>
              <a:gd name="textAreaLeft" fmla="*/ 0 w 520560"/>
              <a:gd name="textAreaRight" fmla="*/ 520920 w 5205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984" h="2257">
                <a:moveTo>
                  <a:pt x="442" y="305"/>
                </a:moveTo>
                <a:lnTo>
                  <a:pt x="444" y="478"/>
                </a:lnTo>
                <a:lnTo>
                  <a:pt x="532" y="894"/>
                </a:lnTo>
                <a:lnTo>
                  <a:pt x="603" y="1093"/>
                </a:lnTo>
                <a:lnTo>
                  <a:pt x="714" y="1277"/>
                </a:lnTo>
                <a:lnTo>
                  <a:pt x="810" y="1352"/>
                </a:lnTo>
                <a:lnTo>
                  <a:pt x="853" y="1469"/>
                </a:lnTo>
                <a:lnTo>
                  <a:pt x="888" y="1483"/>
                </a:lnTo>
                <a:lnTo>
                  <a:pt x="927" y="1551"/>
                </a:lnTo>
                <a:lnTo>
                  <a:pt x="932" y="1563"/>
                </a:lnTo>
                <a:lnTo>
                  <a:pt x="875" y="1617"/>
                </a:lnTo>
                <a:lnTo>
                  <a:pt x="927" y="1606"/>
                </a:lnTo>
                <a:lnTo>
                  <a:pt x="947" y="1632"/>
                </a:lnTo>
                <a:lnTo>
                  <a:pt x="950" y="1688"/>
                </a:lnTo>
                <a:lnTo>
                  <a:pt x="935" y="1718"/>
                </a:lnTo>
                <a:lnTo>
                  <a:pt x="980" y="1750"/>
                </a:lnTo>
                <a:lnTo>
                  <a:pt x="984" y="1793"/>
                </a:lnTo>
                <a:lnTo>
                  <a:pt x="921" y="1872"/>
                </a:lnTo>
                <a:lnTo>
                  <a:pt x="927" y="1966"/>
                </a:lnTo>
                <a:lnTo>
                  <a:pt x="656" y="2176"/>
                </a:lnTo>
                <a:lnTo>
                  <a:pt x="560" y="2208"/>
                </a:lnTo>
                <a:lnTo>
                  <a:pt x="0" y="2257"/>
                </a:lnTo>
                <a:lnTo>
                  <a:pt x="3" y="1941"/>
                </a:lnTo>
                <a:lnTo>
                  <a:pt x="380" y="1929"/>
                </a:lnTo>
                <a:lnTo>
                  <a:pt x="502" y="1626"/>
                </a:lnTo>
                <a:lnTo>
                  <a:pt x="270" y="1048"/>
                </a:lnTo>
                <a:lnTo>
                  <a:pt x="31" y="275"/>
                </a:lnTo>
                <a:lnTo>
                  <a:pt x="116" y="138"/>
                </a:lnTo>
                <a:lnTo>
                  <a:pt x="272" y="0"/>
                </a:lnTo>
                <a:lnTo>
                  <a:pt x="388" y="210"/>
                </a:lnTo>
                <a:lnTo>
                  <a:pt x="442" y="305"/>
                </a:lnTo>
                <a:close/>
              </a:path>
            </a:pathLst>
          </a:custGeom>
          <a:solidFill>
            <a:srgbClr val="ffc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2" name="Freeform 8"/>
          <p:cNvSpPr/>
          <p:nvPr/>
        </p:nvSpPr>
        <p:spPr>
          <a:xfrm>
            <a:off x="1563840" y="1170000"/>
            <a:ext cx="647640" cy="766800"/>
          </a:xfrm>
          <a:custGeom>
            <a:avLst/>
            <a:gdLst>
              <a:gd name="textAreaLeft" fmla="*/ 0 w 647640"/>
              <a:gd name="textAreaRight" fmla="*/ 648000 w 6476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1222" h="1448">
                <a:moveTo>
                  <a:pt x="209" y="1187"/>
                </a:moveTo>
                <a:lnTo>
                  <a:pt x="341" y="1276"/>
                </a:lnTo>
                <a:lnTo>
                  <a:pt x="396" y="1448"/>
                </a:lnTo>
                <a:lnTo>
                  <a:pt x="619" y="1295"/>
                </a:lnTo>
                <a:lnTo>
                  <a:pt x="697" y="1157"/>
                </a:lnTo>
                <a:lnTo>
                  <a:pt x="1069" y="1157"/>
                </a:lnTo>
                <a:lnTo>
                  <a:pt x="1123" y="1098"/>
                </a:lnTo>
                <a:lnTo>
                  <a:pt x="1123" y="1034"/>
                </a:lnTo>
                <a:lnTo>
                  <a:pt x="1098" y="964"/>
                </a:lnTo>
                <a:lnTo>
                  <a:pt x="1098" y="945"/>
                </a:lnTo>
                <a:lnTo>
                  <a:pt x="1118" y="906"/>
                </a:lnTo>
                <a:lnTo>
                  <a:pt x="1118" y="876"/>
                </a:lnTo>
                <a:lnTo>
                  <a:pt x="1092" y="857"/>
                </a:lnTo>
                <a:lnTo>
                  <a:pt x="1104" y="807"/>
                </a:lnTo>
                <a:lnTo>
                  <a:pt x="1117" y="790"/>
                </a:lnTo>
                <a:lnTo>
                  <a:pt x="1092" y="749"/>
                </a:lnTo>
                <a:lnTo>
                  <a:pt x="1128" y="716"/>
                </a:lnTo>
                <a:lnTo>
                  <a:pt x="1195" y="716"/>
                </a:lnTo>
                <a:lnTo>
                  <a:pt x="1222" y="692"/>
                </a:lnTo>
                <a:lnTo>
                  <a:pt x="1222" y="658"/>
                </a:lnTo>
                <a:lnTo>
                  <a:pt x="1078" y="444"/>
                </a:lnTo>
                <a:lnTo>
                  <a:pt x="1098" y="366"/>
                </a:lnTo>
                <a:lnTo>
                  <a:pt x="1081" y="297"/>
                </a:lnTo>
                <a:lnTo>
                  <a:pt x="924" y="74"/>
                </a:lnTo>
                <a:lnTo>
                  <a:pt x="523" y="0"/>
                </a:lnTo>
                <a:lnTo>
                  <a:pt x="243" y="493"/>
                </a:lnTo>
                <a:lnTo>
                  <a:pt x="0" y="679"/>
                </a:lnTo>
                <a:lnTo>
                  <a:pt x="81" y="981"/>
                </a:lnTo>
                <a:lnTo>
                  <a:pt x="209" y="1187"/>
                </a:lnTo>
                <a:close/>
              </a:path>
            </a:pathLst>
          </a:custGeom>
          <a:solidFill>
            <a:srgbClr val="ffc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3" name="Freeform 9"/>
          <p:cNvSpPr/>
          <p:nvPr/>
        </p:nvSpPr>
        <p:spPr>
          <a:xfrm>
            <a:off x="1465200" y="1025640"/>
            <a:ext cx="627120" cy="449280"/>
          </a:xfrm>
          <a:custGeom>
            <a:avLst/>
            <a:gdLst>
              <a:gd name="textAreaLeft" fmla="*/ 0 w 627120"/>
              <a:gd name="textAreaRight" fmla="*/ 627480 w 627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187" h="851">
                <a:moveTo>
                  <a:pt x="738" y="725"/>
                </a:moveTo>
                <a:lnTo>
                  <a:pt x="752" y="540"/>
                </a:lnTo>
                <a:lnTo>
                  <a:pt x="713" y="415"/>
                </a:lnTo>
                <a:lnTo>
                  <a:pt x="742" y="336"/>
                </a:lnTo>
                <a:lnTo>
                  <a:pt x="909" y="336"/>
                </a:lnTo>
                <a:lnTo>
                  <a:pt x="951" y="349"/>
                </a:lnTo>
                <a:lnTo>
                  <a:pt x="1108" y="349"/>
                </a:lnTo>
                <a:lnTo>
                  <a:pt x="1187" y="305"/>
                </a:lnTo>
                <a:lnTo>
                  <a:pt x="1181" y="255"/>
                </a:lnTo>
                <a:lnTo>
                  <a:pt x="628" y="7"/>
                </a:lnTo>
                <a:lnTo>
                  <a:pt x="440" y="0"/>
                </a:lnTo>
                <a:lnTo>
                  <a:pt x="293" y="102"/>
                </a:lnTo>
                <a:lnTo>
                  <a:pt x="200" y="215"/>
                </a:lnTo>
                <a:lnTo>
                  <a:pt x="70" y="287"/>
                </a:lnTo>
                <a:lnTo>
                  <a:pt x="11" y="419"/>
                </a:lnTo>
                <a:lnTo>
                  <a:pt x="0" y="566"/>
                </a:lnTo>
                <a:lnTo>
                  <a:pt x="38" y="730"/>
                </a:lnTo>
                <a:lnTo>
                  <a:pt x="381" y="851"/>
                </a:lnTo>
                <a:lnTo>
                  <a:pt x="564" y="743"/>
                </a:lnTo>
                <a:lnTo>
                  <a:pt x="738" y="725"/>
                </a:lnTo>
                <a:close/>
              </a:path>
            </a:pathLst>
          </a:custGeom>
          <a:solidFill>
            <a:srgbClr val="9e5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4" name="Freeform 10"/>
          <p:cNvSpPr/>
          <p:nvPr/>
        </p:nvSpPr>
        <p:spPr>
          <a:xfrm>
            <a:off x="2076480" y="1600200"/>
            <a:ext cx="74520" cy="36360"/>
          </a:xfrm>
          <a:custGeom>
            <a:avLst/>
            <a:gdLst>
              <a:gd name="textAreaLeft" fmla="*/ 0 w 74520"/>
              <a:gd name="textAreaRight" fmla="*/ 74880 w 74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39" h="71">
                <a:moveTo>
                  <a:pt x="0" y="71"/>
                </a:moveTo>
                <a:lnTo>
                  <a:pt x="89" y="71"/>
                </a:lnTo>
                <a:lnTo>
                  <a:pt x="128" y="65"/>
                </a:lnTo>
                <a:lnTo>
                  <a:pt x="139" y="0"/>
                </a:lnTo>
                <a:lnTo>
                  <a:pt x="93" y="26"/>
                </a:lnTo>
                <a:lnTo>
                  <a:pt x="46" y="38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5" name="Freeform 11"/>
          <p:cNvSpPr/>
          <p:nvPr/>
        </p:nvSpPr>
        <p:spPr>
          <a:xfrm>
            <a:off x="1379520" y="1476360"/>
            <a:ext cx="120600" cy="299880"/>
          </a:xfrm>
          <a:custGeom>
            <a:avLst/>
            <a:gdLst>
              <a:gd name="textAreaLeft" fmla="*/ 0 w 120600"/>
              <a:gd name="textAreaRight" fmla="*/ 120960 w 1206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28" h="566">
                <a:moveTo>
                  <a:pt x="114" y="566"/>
                </a:moveTo>
                <a:lnTo>
                  <a:pt x="48" y="447"/>
                </a:lnTo>
                <a:lnTo>
                  <a:pt x="0" y="333"/>
                </a:lnTo>
                <a:lnTo>
                  <a:pt x="31" y="215"/>
                </a:lnTo>
                <a:lnTo>
                  <a:pt x="67" y="160"/>
                </a:lnTo>
                <a:lnTo>
                  <a:pt x="108" y="75"/>
                </a:lnTo>
                <a:lnTo>
                  <a:pt x="228" y="0"/>
                </a:lnTo>
                <a:lnTo>
                  <a:pt x="228" y="29"/>
                </a:lnTo>
                <a:lnTo>
                  <a:pt x="136" y="91"/>
                </a:lnTo>
                <a:lnTo>
                  <a:pt x="120" y="153"/>
                </a:lnTo>
                <a:lnTo>
                  <a:pt x="59" y="244"/>
                </a:lnTo>
                <a:lnTo>
                  <a:pt x="54" y="321"/>
                </a:lnTo>
                <a:lnTo>
                  <a:pt x="114" y="5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1376280" y="1627200"/>
            <a:ext cx="285840" cy="689040"/>
          </a:xfrm>
          <a:custGeom>
            <a:avLst/>
            <a:gdLst>
              <a:gd name="textAreaLeft" fmla="*/ 0 w 285840"/>
              <a:gd name="textAreaRight" fmla="*/ 286200 w 285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541" h="1300">
                <a:moveTo>
                  <a:pt x="47" y="0"/>
                </a:moveTo>
                <a:lnTo>
                  <a:pt x="227" y="529"/>
                </a:lnTo>
                <a:lnTo>
                  <a:pt x="286" y="626"/>
                </a:lnTo>
                <a:lnTo>
                  <a:pt x="227" y="299"/>
                </a:lnTo>
                <a:lnTo>
                  <a:pt x="323" y="669"/>
                </a:lnTo>
                <a:lnTo>
                  <a:pt x="464" y="1051"/>
                </a:lnTo>
                <a:lnTo>
                  <a:pt x="541" y="1238"/>
                </a:lnTo>
                <a:lnTo>
                  <a:pt x="508" y="1267"/>
                </a:lnTo>
                <a:lnTo>
                  <a:pt x="488" y="1300"/>
                </a:lnTo>
                <a:lnTo>
                  <a:pt x="259" y="781"/>
                </a:lnTo>
                <a:lnTo>
                  <a:pt x="129" y="382"/>
                </a:lnTo>
                <a:lnTo>
                  <a:pt x="0" y="327"/>
                </a:lnTo>
                <a:lnTo>
                  <a:pt x="72" y="258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7" name="Freeform 13"/>
          <p:cNvSpPr/>
          <p:nvPr/>
        </p:nvSpPr>
        <p:spPr>
          <a:xfrm>
            <a:off x="1778040" y="1668600"/>
            <a:ext cx="385560" cy="266400"/>
          </a:xfrm>
          <a:custGeom>
            <a:avLst/>
            <a:gdLst>
              <a:gd name="textAreaLeft" fmla="*/ 0 w 385560"/>
              <a:gd name="textAreaRight" fmla="*/ 385920 w 38556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728" h="503">
                <a:moveTo>
                  <a:pt x="83" y="42"/>
                </a:moveTo>
                <a:lnTo>
                  <a:pt x="182" y="118"/>
                </a:lnTo>
                <a:lnTo>
                  <a:pt x="523" y="203"/>
                </a:lnTo>
                <a:lnTo>
                  <a:pt x="653" y="203"/>
                </a:lnTo>
                <a:lnTo>
                  <a:pt x="713" y="147"/>
                </a:lnTo>
                <a:lnTo>
                  <a:pt x="713" y="112"/>
                </a:lnTo>
                <a:lnTo>
                  <a:pt x="692" y="42"/>
                </a:lnTo>
                <a:lnTo>
                  <a:pt x="692" y="0"/>
                </a:lnTo>
                <a:lnTo>
                  <a:pt x="728" y="89"/>
                </a:lnTo>
                <a:lnTo>
                  <a:pt x="728" y="160"/>
                </a:lnTo>
                <a:lnTo>
                  <a:pt x="706" y="194"/>
                </a:lnTo>
                <a:lnTo>
                  <a:pt x="664" y="222"/>
                </a:lnTo>
                <a:lnTo>
                  <a:pt x="431" y="222"/>
                </a:lnTo>
                <a:lnTo>
                  <a:pt x="323" y="258"/>
                </a:lnTo>
                <a:lnTo>
                  <a:pt x="257" y="291"/>
                </a:lnTo>
                <a:lnTo>
                  <a:pt x="224" y="369"/>
                </a:lnTo>
                <a:lnTo>
                  <a:pt x="0" y="503"/>
                </a:lnTo>
                <a:lnTo>
                  <a:pt x="194" y="348"/>
                </a:lnTo>
                <a:lnTo>
                  <a:pt x="220" y="209"/>
                </a:lnTo>
                <a:lnTo>
                  <a:pt x="95" y="89"/>
                </a:lnTo>
                <a:lnTo>
                  <a:pt x="8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8" name="Freeform 14"/>
          <p:cNvSpPr/>
          <p:nvPr/>
        </p:nvSpPr>
        <p:spPr>
          <a:xfrm>
            <a:off x="1774800" y="1785960"/>
            <a:ext cx="274680" cy="195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521" h="370">
                <a:moveTo>
                  <a:pt x="0" y="370"/>
                </a:moveTo>
                <a:lnTo>
                  <a:pt x="179" y="327"/>
                </a:lnTo>
                <a:lnTo>
                  <a:pt x="271" y="203"/>
                </a:lnTo>
                <a:lnTo>
                  <a:pt x="141" y="278"/>
                </a:lnTo>
                <a:lnTo>
                  <a:pt x="336" y="69"/>
                </a:lnTo>
                <a:lnTo>
                  <a:pt x="505" y="0"/>
                </a:lnTo>
                <a:lnTo>
                  <a:pt x="521" y="64"/>
                </a:lnTo>
                <a:lnTo>
                  <a:pt x="477" y="188"/>
                </a:lnTo>
                <a:lnTo>
                  <a:pt x="359" y="270"/>
                </a:lnTo>
                <a:lnTo>
                  <a:pt x="353" y="209"/>
                </a:lnTo>
                <a:lnTo>
                  <a:pt x="320" y="209"/>
                </a:lnTo>
                <a:lnTo>
                  <a:pt x="205" y="348"/>
                </a:lnTo>
                <a:lnTo>
                  <a:pt x="0" y="3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9" name="Freeform 15"/>
          <p:cNvSpPr/>
          <p:nvPr/>
        </p:nvSpPr>
        <p:spPr>
          <a:xfrm>
            <a:off x="1671480" y="1947960"/>
            <a:ext cx="141480" cy="88920"/>
          </a:xfrm>
          <a:custGeom>
            <a:avLst/>
            <a:gdLst>
              <a:gd name="textAreaLeft" fmla="*/ 0 w 141480"/>
              <a:gd name="textAreaRight" fmla="*/ 141840 w 141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66" h="169">
                <a:moveTo>
                  <a:pt x="0" y="0"/>
                </a:moveTo>
                <a:lnTo>
                  <a:pt x="63" y="74"/>
                </a:lnTo>
                <a:lnTo>
                  <a:pt x="107" y="74"/>
                </a:lnTo>
                <a:lnTo>
                  <a:pt x="85" y="112"/>
                </a:lnTo>
                <a:lnTo>
                  <a:pt x="107" y="121"/>
                </a:lnTo>
                <a:lnTo>
                  <a:pt x="150" y="104"/>
                </a:lnTo>
                <a:lnTo>
                  <a:pt x="266" y="169"/>
                </a:lnTo>
                <a:lnTo>
                  <a:pt x="161" y="169"/>
                </a:lnTo>
                <a:lnTo>
                  <a:pt x="24" y="12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0" name="Freeform 16"/>
          <p:cNvSpPr/>
          <p:nvPr/>
        </p:nvSpPr>
        <p:spPr>
          <a:xfrm>
            <a:off x="2087640" y="1631880"/>
            <a:ext cx="52200" cy="12600"/>
          </a:xfrm>
          <a:custGeom>
            <a:avLst/>
            <a:gdLst>
              <a:gd name="textAreaLeft" fmla="*/ 0 w 52200"/>
              <a:gd name="textAreaRight" fmla="*/ 52560 w 52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8" h="22">
                <a:moveTo>
                  <a:pt x="0" y="7"/>
                </a:moveTo>
                <a:lnTo>
                  <a:pt x="98" y="0"/>
                </a:lnTo>
                <a:lnTo>
                  <a:pt x="69" y="22"/>
                </a:lnTo>
                <a:lnTo>
                  <a:pt x="26" y="1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1" name="Freeform 17"/>
          <p:cNvSpPr/>
          <p:nvPr/>
        </p:nvSpPr>
        <p:spPr>
          <a:xfrm>
            <a:off x="1703520" y="1521000"/>
            <a:ext cx="74520" cy="91800"/>
          </a:xfrm>
          <a:custGeom>
            <a:avLst/>
            <a:gdLst>
              <a:gd name="textAreaLeft" fmla="*/ 0 w 74520"/>
              <a:gd name="textAreaRight" fmla="*/ 74880 w 74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3" h="175">
                <a:moveTo>
                  <a:pt x="88" y="78"/>
                </a:moveTo>
                <a:lnTo>
                  <a:pt x="119" y="56"/>
                </a:lnTo>
                <a:lnTo>
                  <a:pt x="119" y="36"/>
                </a:lnTo>
                <a:lnTo>
                  <a:pt x="143" y="29"/>
                </a:lnTo>
                <a:lnTo>
                  <a:pt x="65" y="0"/>
                </a:lnTo>
                <a:lnTo>
                  <a:pt x="14" y="16"/>
                </a:lnTo>
                <a:lnTo>
                  <a:pt x="0" y="52"/>
                </a:lnTo>
                <a:lnTo>
                  <a:pt x="55" y="175"/>
                </a:lnTo>
                <a:lnTo>
                  <a:pt x="33" y="80"/>
                </a:lnTo>
                <a:lnTo>
                  <a:pt x="48" y="23"/>
                </a:lnTo>
                <a:lnTo>
                  <a:pt x="76" y="23"/>
                </a:lnTo>
                <a:lnTo>
                  <a:pt x="88" y="44"/>
                </a:lnTo>
                <a:lnTo>
                  <a:pt x="62" y="95"/>
                </a:lnTo>
                <a:lnTo>
                  <a:pt x="8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2" name="Freeform 18"/>
          <p:cNvSpPr/>
          <p:nvPr/>
        </p:nvSpPr>
        <p:spPr>
          <a:xfrm>
            <a:off x="1757520" y="15620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4" h="97">
                <a:moveTo>
                  <a:pt x="51" y="0"/>
                </a:moveTo>
                <a:lnTo>
                  <a:pt x="0" y="43"/>
                </a:lnTo>
                <a:lnTo>
                  <a:pt x="0" y="76"/>
                </a:lnTo>
                <a:lnTo>
                  <a:pt x="94" y="97"/>
                </a:lnTo>
                <a:lnTo>
                  <a:pt x="45" y="35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3" name="Freeform 19"/>
          <p:cNvSpPr/>
          <p:nvPr/>
        </p:nvSpPr>
        <p:spPr>
          <a:xfrm>
            <a:off x="1371600" y="2298600"/>
            <a:ext cx="291960" cy="265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553" h="501">
                <a:moveTo>
                  <a:pt x="553" y="102"/>
                </a:moveTo>
                <a:lnTo>
                  <a:pt x="530" y="79"/>
                </a:lnTo>
                <a:lnTo>
                  <a:pt x="514" y="0"/>
                </a:lnTo>
                <a:lnTo>
                  <a:pt x="491" y="29"/>
                </a:lnTo>
                <a:lnTo>
                  <a:pt x="377" y="322"/>
                </a:lnTo>
                <a:lnTo>
                  <a:pt x="0" y="333"/>
                </a:lnTo>
                <a:lnTo>
                  <a:pt x="106" y="392"/>
                </a:lnTo>
                <a:lnTo>
                  <a:pt x="288" y="396"/>
                </a:lnTo>
                <a:lnTo>
                  <a:pt x="322" y="487"/>
                </a:lnTo>
                <a:lnTo>
                  <a:pt x="381" y="501"/>
                </a:lnTo>
                <a:lnTo>
                  <a:pt x="478" y="451"/>
                </a:lnTo>
                <a:lnTo>
                  <a:pt x="471" y="281"/>
                </a:lnTo>
                <a:lnTo>
                  <a:pt x="511" y="122"/>
                </a:lnTo>
                <a:lnTo>
                  <a:pt x="553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4" name="Freeform 20"/>
          <p:cNvSpPr/>
          <p:nvPr/>
        </p:nvSpPr>
        <p:spPr>
          <a:xfrm>
            <a:off x="1378080" y="2368440"/>
            <a:ext cx="426960" cy="282600"/>
          </a:xfrm>
          <a:custGeom>
            <a:avLst/>
            <a:gdLst>
              <a:gd name="textAreaLeft" fmla="*/ 0 w 426960"/>
              <a:gd name="textAreaRight" fmla="*/ 427320 w 426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808" h="534">
                <a:moveTo>
                  <a:pt x="542" y="0"/>
                </a:moveTo>
                <a:lnTo>
                  <a:pt x="523" y="88"/>
                </a:lnTo>
                <a:lnTo>
                  <a:pt x="459" y="320"/>
                </a:lnTo>
                <a:lnTo>
                  <a:pt x="529" y="350"/>
                </a:lnTo>
                <a:lnTo>
                  <a:pt x="434" y="428"/>
                </a:lnTo>
                <a:lnTo>
                  <a:pt x="345" y="436"/>
                </a:lnTo>
                <a:lnTo>
                  <a:pt x="0" y="534"/>
                </a:lnTo>
                <a:lnTo>
                  <a:pt x="558" y="485"/>
                </a:lnTo>
                <a:lnTo>
                  <a:pt x="646" y="455"/>
                </a:lnTo>
                <a:lnTo>
                  <a:pt x="808" y="334"/>
                </a:lnTo>
                <a:lnTo>
                  <a:pt x="761" y="334"/>
                </a:lnTo>
                <a:lnTo>
                  <a:pt x="716" y="317"/>
                </a:lnTo>
                <a:lnTo>
                  <a:pt x="680" y="237"/>
                </a:lnTo>
                <a:lnTo>
                  <a:pt x="693" y="191"/>
                </a:lnTo>
                <a:lnTo>
                  <a:pt x="620" y="160"/>
                </a:lnTo>
                <a:lnTo>
                  <a:pt x="620" y="108"/>
                </a:lnTo>
                <a:lnTo>
                  <a:pt x="572" y="88"/>
                </a:lnTo>
                <a:lnTo>
                  <a:pt x="549" y="65"/>
                </a:lnTo>
                <a:lnTo>
                  <a:pt x="5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5" name="Freeform 21"/>
          <p:cNvSpPr/>
          <p:nvPr/>
        </p:nvSpPr>
        <p:spPr>
          <a:xfrm>
            <a:off x="1638360" y="2206800"/>
            <a:ext cx="125280" cy="1141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36" h="215">
                <a:moveTo>
                  <a:pt x="13" y="141"/>
                </a:moveTo>
                <a:lnTo>
                  <a:pt x="236" y="0"/>
                </a:lnTo>
                <a:lnTo>
                  <a:pt x="24" y="170"/>
                </a:lnTo>
                <a:lnTo>
                  <a:pt x="16" y="215"/>
                </a:lnTo>
                <a:lnTo>
                  <a:pt x="0" y="183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6" name="Freeform 22"/>
          <p:cNvSpPr/>
          <p:nvPr/>
        </p:nvSpPr>
        <p:spPr>
          <a:xfrm>
            <a:off x="1765440" y="2206800"/>
            <a:ext cx="102960" cy="74520"/>
          </a:xfrm>
          <a:custGeom>
            <a:avLst/>
            <a:gdLst>
              <a:gd name="textAreaLeft" fmla="*/ 0 w 102960"/>
              <a:gd name="textAreaRight" fmla="*/ 103320 w 102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5" h="142">
                <a:moveTo>
                  <a:pt x="0" y="0"/>
                </a:moveTo>
                <a:lnTo>
                  <a:pt x="146" y="57"/>
                </a:lnTo>
                <a:lnTo>
                  <a:pt x="195" y="142"/>
                </a:lnTo>
                <a:lnTo>
                  <a:pt x="160" y="52"/>
                </a:lnTo>
                <a:lnTo>
                  <a:pt x="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7" name="Freeform 23"/>
          <p:cNvSpPr/>
          <p:nvPr/>
        </p:nvSpPr>
        <p:spPr>
          <a:xfrm>
            <a:off x="1806480" y="2173320"/>
            <a:ext cx="27000" cy="54000"/>
          </a:xfrm>
          <a:custGeom>
            <a:avLst/>
            <a:gdLst>
              <a:gd name="textAreaLeft" fmla="*/ 0 w 27000"/>
              <a:gd name="textAreaRight" fmla="*/ 27360 w 27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0" h="101">
                <a:moveTo>
                  <a:pt x="50" y="101"/>
                </a:moveTo>
                <a:lnTo>
                  <a:pt x="0" y="0"/>
                </a:lnTo>
                <a:lnTo>
                  <a:pt x="26" y="91"/>
                </a:lnTo>
                <a:lnTo>
                  <a:pt x="5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8" name="Freeform 24"/>
          <p:cNvSpPr/>
          <p:nvPr/>
        </p:nvSpPr>
        <p:spPr>
          <a:xfrm>
            <a:off x="1758960" y="2274840"/>
            <a:ext cx="117360" cy="52560"/>
          </a:xfrm>
          <a:custGeom>
            <a:avLst/>
            <a:gdLst>
              <a:gd name="textAreaLeft" fmla="*/ 0 w 117360"/>
              <a:gd name="textAreaRight" fmla="*/ 117720 w 117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21" h="101">
                <a:moveTo>
                  <a:pt x="211" y="9"/>
                </a:moveTo>
                <a:lnTo>
                  <a:pt x="175" y="30"/>
                </a:lnTo>
                <a:lnTo>
                  <a:pt x="145" y="27"/>
                </a:lnTo>
                <a:lnTo>
                  <a:pt x="87" y="0"/>
                </a:lnTo>
                <a:lnTo>
                  <a:pt x="87" y="69"/>
                </a:lnTo>
                <a:lnTo>
                  <a:pt x="0" y="98"/>
                </a:lnTo>
                <a:lnTo>
                  <a:pt x="154" y="72"/>
                </a:lnTo>
                <a:lnTo>
                  <a:pt x="204" y="72"/>
                </a:lnTo>
                <a:lnTo>
                  <a:pt x="221" y="101"/>
                </a:lnTo>
                <a:lnTo>
                  <a:pt x="211" y="56"/>
                </a:lnTo>
                <a:lnTo>
                  <a:pt x="169" y="53"/>
                </a:lnTo>
                <a:lnTo>
                  <a:pt x="201" y="39"/>
                </a:lnTo>
                <a:lnTo>
                  <a:pt x="211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9" name="Freeform 25"/>
          <p:cNvSpPr/>
          <p:nvPr/>
        </p:nvSpPr>
        <p:spPr>
          <a:xfrm>
            <a:off x="1746360" y="2268360"/>
            <a:ext cx="60120" cy="54000"/>
          </a:xfrm>
          <a:custGeom>
            <a:avLst/>
            <a:gdLst>
              <a:gd name="textAreaLeft" fmla="*/ 0 w 60120"/>
              <a:gd name="textAreaRight" fmla="*/ 60480 w 601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15" h="102">
                <a:moveTo>
                  <a:pt x="115" y="0"/>
                </a:moveTo>
                <a:lnTo>
                  <a:pt x="67" y="30"/>
                </a:lnTo>
                <a:lnTo>
                  <a:pt x="0" y="73"/>
                </a:lnTo>
                <a:lnTo>
                  <a:pt x="36" y="70"/>
                </a:lnTo>
                <a:lnTo>
                  <a:pt x="56" y="102"/>
                </a:lnTo>
                <a:lnTo>
                  <a:pt x="73" y="41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0" name="Freeform 26"/>
          <p:cNvSpPr/>
          <p:nvPr/>
        </p:nvSpPr>
        <p:spPr>
          <a:xfrm>
            <a:off x="1790640" y="2328840"/>
            <a:ext cx="96840" cy="60480"/>
          </a:xfrm>
          <a:custGeom>
            <a:avLst/>
            <a:gdLst>
              <a:gd name="textAreaLeft" fmla="*/ 0 w 96840"/>
              <a:gd name="textAreaRight" fmla="*/ 97200 w 96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4" h="112">
                <a:moveTo>
                  <a:pt x="166" y="0"/>
                </a:moveTo>
                <a:lnTo>
                  <a:pt x="142" y="44"/>
                </a:lnTo>
                <a:lnTo>
                  <a:pt x="17" y="88"/>
                </a:lnTo>
                <a:lnTo>
                  <a:pt x="0" y="112"/>
                </a:lnTo>
                <a:lnTo>
                  <a:pt x="148" y="69"/>
                </a:lnTo>
                <a:lnTo>
                  <a:pt x="184" y="88"/>
                </a:lnTo>
                <a:lnTo>
                  <a:pt x="151" y="59"/>
                </a:lnTo>
                <a:lnTo>
                  <a:pt x="164" y="50"/>
                </a:lnTo>
                <a:lnTo>
                  <a:pt x="1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1" name="Freeform 27"/>
          <p:cNvSpPr/>
          <p:nvPr/>
        </p:nvSpPr>
        <p:spPr>
          <a:xfrm>
            <a:off x="1784520" y="2379600"/>
            <a:ext cx="114120" cy="85680"/>
          </a:xfrm>
          <a:custGeom>
            <a:avLst/>
            <a:gdLst>
              <a:gd name="textAreaLeft" fmla="*/ 0 w 114120"/>
              <a:gd name="textAreaRight" fmla="*/ 114480 w 1141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17" h="161">
                <a:moveTo>
                  <a:pt x="202" y="0"/>
                </a:moveTo>
                <a:lnTo>
                  <a:pt x="196" y="50"/>
                </a:lnTo>
                <a:lnTo>
                  <a:pt x="148" y="112"/>
                </a:lnTo>
                <a:lnTo>
                  <a:pt x="0" y="161"/>
                </a:lnTo>
                <a:lnTo>
                  <a:pt x="158" y="127"/>
                </a:lnTo>
                <a:lnTo>
                  <a:pt x="217" y="58"/>
                </a:lnTo>
                <a:lnTo>
                  <a:pt x="2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2" name="Freeform 28"/>
          <p:cNvSpPr/>
          <p:nvPr/>
        </p:nvSpPr>
        <p:spPr>
          <a:xfrm>
            <a:off x="1803240" y="2454120"/>
            <a:ext cx="65160" cy="92160"/>
          </a:xfrm>
          <a:custGeom>
            <a:avLst/>
            <a:gdLst>
              <a:gd name="textAreaLeft" fmla="*/ 0 w 65160"/>
              <a:gd name="textAreaRight" fmla="*/ 65520 w 65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4" h="174">
                <a:moveTo>
                  <a:pt x="114" y="0"/>
                </a:moveTo>
                <a:lnTo>
                  <a:pt x="98" y="76"/>
                </a:lnTo>
                <a:lnTo>
                  <a:pt x="0" y="174"/>
                </a:lnTo>
                <a:lnTo>
                  <a:pt x="124" y="77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3" name="Freeform 29"/>
          <p:cNvSpPr/>
          <p:nvPr/>
        </p:nvSpPr>
        <p:spPr>
          <a:xfrm>
            <a:off x="2173320" y="1576440"/>
            <a:ext cx="380880" cy="530280"/>
          </a:xfrm>
          <a:custGeom>
            <a:avLst/>
            <a:gdLst>
              <a:gd name="textAreaLeft" fmla="*/ 0 w 380880"/>
              <a:gd name="textAreaRight" fmla="*/ 381240 w 380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720" h="1003">
                <a:moveTo>
                  <a:pt x="0" y="327"/>
                </a:moveTo>
                <a:lnTo>
                  <a:pt x="130" y="463"/>
                </a:lnTo>
                <a:lnTo>
                  <a:pt x="183" y="544"/>
                </a:lnTo>
                <a:lnTo>
                  <a:pt x="562" y="1003"/>
                </a:lnTo>
                <a:lnTo>
                  <a:pt x="376" y="734"/>
                </a:lnTo>
                <a:lnTo>
                  <a:pt x="578" y="937"/>
                </a:lnTo>
                <a:lnTo>
                  <a:pt x="506" y="817"/>
                </a:lnTo>
                <a:lnTo>
                  <a:pt x="534" y="793"/>
                </a:lnTo>
                <a:lnTo>
                  <a:pt x="660" y="692"/>
                </a:lnTo>
                <a:lnTo>
                  <a:pt x="542" y="721"/>
                </a:lnTo>
                <a:lnTo>
                  <a:pt x="445" y="678"/>
                </a:lnTo>
                <a:lnTo>
                  <a:pt x="720" y="565"/>
                </a:lnTo>
                <a:lnTo>
                  <a:pt x="324" y="608"/>
                </a:lnTo>
                <a:lnTo>
                  <a:pt x="270" y="582"/>
                </a:lnTo>
                <a:lnTo>
                  <a:pt x="413" y="221"/>
                </a:lnTo>
                <a:lnTo>
                  <a:pt x="274" y="440"/>
                </a:lnTo>
                <a:lnTo>
                  <a:pt x="281" y="379"/>
                </a:lnTo>
                <a:lnTo>
                  <a:pt x="245" y="379"/>
                </a:lnTo>
                <a:lnTo>
                  <a:pt x="193" y="487"/>
                </a:lnTo>
                <a:lnTo>
                  <a:pt x="166" y="188"/>
                </a:lnTo>
                <a:lnTo>
                  <a:pt x="107" y="0"/>
                </a:lnTo>
                <a:lnTo>
                  <a:pt x="121" y="211"/>
                </a:lnTo>
                <a:lnTo>
                  <a:pt x="88" y="156"/>
                </a:lnTo>
                <a:lnTo>
                  <a:pt x="35" y="320"/>
                </a:lnTo>
                <a:lnTo>
                  <a:pt x="0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4" name="Freeform 30"/>
          <p:cNvSpPr/>
          <p:nvPr/>
        </p:nvSpPr>
        <p:spPr>
          <a:xfrm>
            <a:off x="2514600" y="1736640"/>
            <a:ext cx="171360" cy="277920"/>
          </a:xfrm>
          <a:custGeom>
            <a:avLst/>
            <a:gdLst>
              <a:gd name="textAreaLeft" fmla="*/ 0 w 171360"/>
              <a:gd name="textAreaRight" fmla="*/ 171720 w 1713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324" h="525">
                <a:moveTo>
                  <a:pt x="137" y="303"/>
                </a:moveTo>
                <a:lnTo>
                  <a:pt x="197" y="218"/>
                </a:lnTo>
                <a:lnTo>
                  <a:pt x="324" y="0"/>
                </a:lnTo>
                <a:lnTo>
                  <a:pt x="81" y="310"/>
                </a:lnTo>
                <a:lnTo>
                  <a:pt x="40" y="454"/>
                </a:lnTo>
                <a:lnTo>
                  <a:pt x="0" y="525"/>
                </a:lnTo>
                <a:lnTo>
                  <a:pt x="55" y="444"/>
                </a:lnTo>
                <a:lnTo>
                  <a:pt x="81" y="389"/>
                </a:lnTo>
                <a:lnTo>
                  <a:pt x="232" y="231"/>
                </a:lnTo>
                <a:lnTo>
                  <a:pt x="137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5" name="Freeform 31"/>
          <p:cNvSpPr/>
          <p:nvPr/>
        </p:nvSpPr>
        <p:spPr>
          <a:xfrm>
            <a:off x="2114640" y="2090880"/>
            <a:ext cx="552240" cy="556920"/>
          </a:xfrm>
          <a:custGeom>
            <a:avLst/>
            <a:gdLst>
              <a:gd name="textAreaLeft" fmla="*/ 0 w 552240"/>
              <a:gd name="textAreaRight" fmla="*/ 552600 w 55224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1044" h="1052">
                <a:moveTo>
                  <a:pt x="435" y="336"/>
                </a:moveTo>
                <a:lnTo>
                  <a:pt x="530" y="432"/>
                </a:lnTo>
                <a:lnTo>
                  <a:pt x="730" y="497"/>
                </a:lnTo>
                <a:lnTo>
                  <a:pt x="779" y="432"/>
                </a:lnTo>
                <a:lnTo>
                  <a:pt x="759" y="356"/>
                </a:lnTo>
                <a:lnTo>
                  <a:pt x="726" y="333"/>
                </a:lnTo>
                <a:lnTo>
                  <a:pt x="668" y="167"/>
                </a:lnTo>
                <a:lnTo>
                  <a:pt x="746" y="271"/>
                </a:lnTo>
                <a:lnTo>
                  <a:pt x="806" y="327"/>
                </a:lnTo>
                <a:lnTo>
                  <a:pt x="859" y="436"/>
                </a:lnTo>
                <a:lnTo>
                  <a:pt x="1036" y="654"/>
                </a:lnTo>
                <a:lnTo>
                  <a:pt x="1044" y="671"/>
                </a:lnTo>
                <a:lnTo>
                  <a:pt x="937" y="592"/>
                </a:lnTo>
                <a:lnTo>
                  <a:pt x="835" y="482"/>
                </a:lnTo>
                <a:lnTo>
                  <a:pt x="777" y="491"/>
                </a:lnTo>
                <a:lnTo>
                  <a:pt x="803" y="519"/>
                </a:lnTo>
                <a:lnTo>
                  <a:pt x="740" y="556"/>
                </a:lnTo>
                <a:lnTo>
                  <a:pt x="694" y="552"/>
                </a:lnTo>
                <a:lnTo>
                  <a:pt x="809" y="625"/>
                </a:lnTo>
                <a:lnTo>
                  <a:pt x="828" y="736"/>
                </a:lnTo>
                <a:lnTo>
                  <a:pt x="864" y="638"/>
                </a:lnTo>
                <a:lnTo>
                  <a:pt x="882" y="638"/>
                </a:lnTo>
                <a:lnTo>
                  <a:pt x="887" y="802"/>
                </a:lnTo>
                <a:lnTo>
                  <a:pt x="859" y="847"/>
                </a:lnTo>
                <a:lnTo>
                  <a:pt x="818" y="903"/>
                </a:lnTo>
                <a:lnTo>
                  <a:pt x="785" y="1052"/>
                </a:lnTo>
                <a:lnTo>
                  <a:pt x="39" y="1052"/>
                </a:lnTo>
                <a:lnTo>
                  <a:pt x="39" y="1010"/>
                </a:lnTo>
                <a:lnTo>
                  <a:pt x="0" y="969"/>
                </a:lnTo>
                <a:lnTo>
                  <a:pt x="91" y="918"/>
                </a:lnTo>
                <a:lnTo>
                  <a:pt x="146" y="761"/>
                </a:lnTo>
                <a:lnTo>
                  <a:pt x="121" y="750"/>
                </a:lnTo>
                <a:lnTo>
                  <a:pt x="19" y="830"/>
                </a:lnTo>
                <a:lnTo>
                  <a:pt x="140" y="671"/>
                </a:lnTo>
                <a:lnTo>
                  <a:pt x="265" y="602"/>
                </a:lnTo>
                <a:lnTo>
                  <a:pt x="376" y="353"/>
                </a:lnTo>
                <a:lnTo>
                  <a:pt x="312" y="314"/>
                </a:lnTo>
                <a:lnTo>
                  <a:pt x="245" y="314"/>
                </a:lnTo>
                <a:lnTo>
                  <a:pt x="225" y="0"/>
                </a:lnTo>
                <a:lnTo>
                  <a:pt x="321" y="161"/>
                </a:lnTo>
                <a:lnTo>
                  <a:pt x="435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6" name="Freeform 32"/>
          <p:cNvSpPr/>
          <p:nvPr/>
        </p:nvSpPr>
        <p:spPr>
          <a:xfrm>
            <a:off x="2475000" y="2006640"/>
            <a:ext cx="75960" cy="106200"/>
          </a:xfrm>
          <a:custGeom>
            <a:avLst/>
            <a:gdLst>
              <a:gd name="textAreaLeft" fmla="*/ 0 w 75960"/>
              <a:gd name="textAreaRight" fmla="*/ 76320 w 759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4" h="202">
                <a:moveTo>
                  <a:pt x="12" y="0"/>
                </a:moveTo>
                <a:lnTo>
                  <a:pt x="36" y="46"/>
                </a:lnTo>
                <a:lnTo>
                  <a:pt x="36" y="69"/>
                </a:lnTo>
                <a:lnTo>
                  <a:pt x="144" y="16"/>
                </a:lnTo>
                <a:lnTo>
                  <a:pt x="67" y="79"/>
                </a:lnTo>
                <a:lnTo>
                  <a:pt x="67" y="105"/>
                </a:lnTo>
                <a:lnTo>
                  <a:pt x="136" y="124"/>
                </a:lnTo>
                <a:lnTo>
                  <a:pt x="95" y="124"/>
                </a:lnTo>
                <a:lnTo>
                  <a:pt x="52" y="153"/>
                </a:lnTo>
                <a:lnTo>
                  <a:pt x="0" y="202"/>
                </a:lnTo>
                <a:lnTo>
                  <a:pt x="28" y="133"/>
                </a:lnTo>
                <a:lnTo>
                  <a:pt x="28" y="55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7" name="Freeform 33"/>
          <p:cNvSpPr/>
          <p:nvPr/>
        </p:nvSpPr>
        <p:spPr>
          <a:xfrm>
            <a:off x="2494080" y="2106720"/>
            <a:ext cx="52200" cy="90360"/>
          </a:xfrm>
          <a:custGeom>
            <a:avLst/>
            <a:gdLst>
              <a:gd name="textAreaLeft" fmla="*/ 0 w 52200"/>
              <a:gd name="textAreaRight" fmla="*/ 52560 w 522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0" h="171">
                <a:moveTo>
                  <a:pt x="0" y="0"/>
                </a:moveTo>
                <a:lnTo>
                  <a:pt x="31" y="73"/>
                </a:lnTo>
                <a:lnTo>
                  <a:pt x="100" y="171"/>
                </a:lnTo>
                <a:lnTo>
                  <a:pt x="85" y="115"/>
                </a:lnTo>
                <a:lnTo>
                  <a:pt x="33" y="6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8" name="Freeform 34"/>
          <p:cNvSpPr/>
          <p:nvPr/>
        </p:nvSpPr>
        <p:spPr>
          <a:xfrm>
            <a:off x="2554200" y="2079720"/>
            <a:ext cx="47880" cy="85680"/>
          </a:xfrm>
          <a:custGeom>
            <a:avLst/>
            <a:gdLst>
              <a:gd name="textAreaLeft" fmla="*/ 0 w 47880"/>
              <a:gd name="textAreaRight" fmla="*/ 48240 w 478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90" h="162">
                <a:moveTo>
                  <a:pt x="0" y="0"/>
                </a:moveTo>
                <a:lnTo>
                  <a:pt x="89" y="162"/>
                </a:lnTo>
                <a:lnTo>
                  <a:pt x="90" y="117"/>
                </a:lnTo>
                <a:lnTo>
                  <a:pt x="37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9" name="Freeform 35"/>
          <p:cNvSpPr/>
          <p:nvPr/>
        </p:nvSpPr>
        <p:spPr>
          <a:xfrm>
            <a:off x="2549520" y="1982880"/>
            <a:ext cx="93600" cy="128520"/>
          </a:xfrm>
          <a:custGeom>
            <a:avLst/>
            <a:gdLst>
              <a:gd name="textAreaLeft" fmla="*/ 0 w 93600"/>
              <a:gd name="textAreaRight" fmla="*/ 93960 w 936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77" h="242">
                <a:moveTo>
                  <a:pt x="41" y="0"/>
                </a:moveTo>
                <a:lnTo>
                  <a:pt x="68" y="56"/>
                </a:lnTo>
                <a:lnTo>
                  <a:pt x="114" y="75"/>
                </a:lnTo>
                <a:lnTo>
                  <a:pt x="177" y="242"/>
                </a:lnTo>
                <a:lnTo>
                  <a:pt x="91" y="93"/>
                </a:lnTo>
                <a:lnTo>
                  <a:pt x="48" y="66"/>
                </a:lnTo>
                <a:lnTo>
                  <a:pt x="0" y="6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0" name="Freeform 36"/>
          <p:cNvSpPr/>
          <p:nvPr/>
        </p:nvSpPr>
        <p:spPr>
          <a:xfrm>
            <a:off x="2604960" y="1973160"/>
            <a:ext cx="209520" cy="395280"/>
          </a:xfrm>
          <a:custGeom>
            <a:avLst/>
            <a:gdLst>
              <a:gd name="textAreaLeft" fmla="*/ 0 w 209520"/>
              <a:gd name="textAreaRight" fmla="*/ 209880 w 2095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396" h="748">
                <a:moveTo>
                  <a:pt x="0" y="0"/>
                </a:moveTo>
                <a:lnTo>
                  <a:pt x="88" y="32"/>
                </a:lnTo>
                <a:lnTo>
                  <a:pt x="133" y="102"/>
                </a:lnTo>
                <a:lnTo>
                  <a:pt x="396" y="748"/>
                </a:lnTo>
                <a:lnTo>
                  <a:pt x="224" y="389"/>
                </a:lnTo>
                <a:lnTo>
                  <a:pt x="127" y="112"/>
                </a:lnTo>
                <a:lnTo>
                  <a:pt x="80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1" name="Freeform 37"/>
          <p:cNvSpPr/>
          <p:nvPr/>
        </p:nvSpPr>
        <p:spPr>
          <a:xfrm>
            <a:off x="2751120" y="2392200"/>
            <a:ext cx="131760" cy="196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49" h="374">
                <a:moveTo>
                  <a:pt x="147" y="0"/>
                </a:moveTo>
                <a:lnTo>
                  <a:pt x="169" y="125"/>
                </a:lnTo>
                <a:lnTo>
                  <a:pt x="134" y="115"/>
                </a:lnTo>
                <a:lnTo>
                  <a:pt x="91" y="232"/>
                </a:lnTo>
                <a:lnTo>
                  <a:pt x="25" y="298"/>
                </a:lnTo>
                <a:lnTo>
                  <a:pt x="0" y="374"/>
                </a:lnTo>
                <a:lnTo>
                  <a:pt x="150" y="294"/>
                </a:lnTo>
                <a:lnTo>
                  <a:pt x="174" y="222"/>
                </a:lnTo>
                <a:lnTo>
                  <a:pt x="249" y="349"/>
                </a:lnTo>
                <a:lnTo>
                  <a:pt x="238" y="232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2" name="Freeform 38"/>
          <p:cNvSpPr/>
          <p:nvPr/>
        </p:nvSpPr>
        <p:spPr>
          <a:xfrm>
            <a:off x="2066760" y="1209600"/>
            <a:ext cx="142920" cy="343080"/>
          </a:xfrm>
          <a:custGeom>
            <a:avLst/>
            <a:gdLst>
              <a:gd name="textAreaLeft" fmla="*/ 0 w 142920"/>
              <a:gd name="textAreaRight" fmla="*/ 143280 w 1429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72" h="647">
                <a:moveTo>
                  <a:pt x="0" y="0"/>
                </a:moveTo>
                <a:lnTo>
                  <a:pt x="74" y="186"/>
                </a:lnTo>
                <a:lnTo>
                  <a:pt x="138" y="284"/>
                </a:lnTo>
                <a:lnTo>
                  <a:pt x="122" y="344"/>
                </a:lnTo>
                <a:lnTo>
                  <a:pt x="125" y="390"/>
                </a:lnTo>
                <a:lnTo>
                  <a:pt x="256" y="582"/>
                </a:lnTo>
                <a:lnTo>
                  <a:pt x="253" y="614"/>
                </a:lnTo>
                <a:lnTo>
                  <a:pt x="238" y="628"/>
                </a:lnTo>
                <a:lnTo>
                  <a:pt x="149" y="644"/>
                </a:lnTo>
                <a:lnTo>
                  <a:pt x="241" y="647"/>
                </a:lnTo>
                <a:lnTo>
                  <a:pt x="272" y="625"/>
                </a:lnTo>
                <a:lnTo>
                  <a:pt x="272" y="579"/>
                </a:lnTo>
                <a:lnTo>
                  <a:pt x="138" y="385"/>
                </a:lnTo>
                <a:lnTo>
                  <a:pt x="138" y="347"/>
                </a:lnTo>
                <a:lnTo>
                  <a:pt x="152" y="277"/>
                </a:lnTo>
                <a:lnTo>
                  <a:pt x="143" y="2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3" name="Freeform 39"/>
          <p:cNvSpPr/>
          <p:nvPr/>
        </p:nvSpPr>
        <p:spPr>
          <a:xfrm>
            <a:off x="2114640" y="1496880"/>
            <a:ext cx="30240" cy="25560"/>
          </a:xfrm>
          <a:custGeom>
            <a:avLst/>
            <a:gdLst>
              <a:gd name="textAreaLeft" fmla="*/ 0 w 30240"/>
              <a:gd name="textAreaRight" fmla="*/ 30600 w 30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7" h="46">
                <a:moveTo>
                  <a:pt x="57" y="22"/>
                </a:moveTo>
                <a:lnTo>
                  <a:pt x="27" y="39"/>
                </a:lnTo>
                <a:lnTo>
                  <a:pt x="0" y="46"/>
                </a:lnTo>
                <a:lnTo>
                  <a:pt x="33" y="0"/>
                </a:lnTo>
                <a:lnTo>
                  <a:pt x="5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4" name="Freeform 40"/>
          <p:cNvSpPr/>
          <p:nvPr/>
        </p:nvSpPr>
        <p:spPr>
          <a:xfrm>
            <a:off x="2060640" y="1596960"/>
            <a:ext cx="34920" cy="52560"/>
          </a:xfrm>
          <a:custGeom>
            <a:avLst/>
            <a:gdLst>
              <a:gd name="textAreaLeft" fmla="*/ 0 w 34920"/>
              <a:gd name="textAreaRight" fmla="*/ 35280 w 34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8" h="101">
                <a:moveTo>
                  <a:pt x="45" y="39"/>
                </a:moveTo>
                <a:lnTo>
                  <a:pt x="0" y="101"/>
                </a:lnTo>
                <a:lnTo>
                  <a:pt x="50" y="72"/>
                </a:lnTo>
                <a:lnTo>
                  <a:pt x="68" y="0"/>
                </a:lnTo>
                <a:lnTo>
                  <a:pt x="45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5" name="Freeform 41"/>
          <p:cNvSpPr/>
          <p:nvPr/>
        </p:nvSpPr>
        <p:spPr>
          <a:xfrm>
            <a:off x="2136600" y="1336680"/>
            <a:ext cx="692280" cy="316080"/>
          </a:xfrm>
          <a:custGeom>
            <a:avLst/>
            <a:gdLst>
              <a:gd name="textAreaLeft" fmla="*/ 0 w 692280"/>
              <a:gd name="textAreaRight" fmla="*/ 692640 w 6922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1309" h="598">
                <a:moveTo>
                  <a:pt x="461" y="59"/>
                </a:moveTo>
                <a:lnTo>
                  <a:pt x="461" y="128"/>
                </a:lnTo>
                <a:lnTo>
                  <a:pt x="553" y="317"/>
                </a:lnTo>
                <a:lnTo>
                  <a:pt x="592" y="382"/>
                </a:lnTo>
                <a:lnTo>
                  <a:pt x="635" y="432"/>
                </a:lnTo>
                <a:lnTo>
                  <a:pt x="750" y="480"/>
                </a:lnTo>
                <a:lnTo>
                  <a:pt x="805" y="476"/>
                </a:lnTo>
                <a:lnTo>
                  <a:pt x="913" y="382"/>
                </a:lnTo>
                <a:lnTo>
                  <a:pt x="963" y="343"/>
                </a:lnTo>
                <a:lnTo>
                  <a:pt x="1021" y="288"/>
                </a:lnTo>
                <a:lnTo>
                  <a:pt x="1078" y="190"/>
                </a:lnTo>
                <a:lnTo>
                  <a:pt x="1136" y="12"/>
                </a:lnTo>
                <a:lnTo>
                  <a:pt x="1107" y="161"/>
                </a:lnTo>
                <a:lnTo>
                  <a:pt x="1028" y="346"/>
                </a:lnTo>
                <a:lnTo>
                  <a:pt x="1309" y="568"/>
                </a:lnTo>
                <a:lnTo>
                  <a:pt x="1094" y="454"/>
                </a:lnTo>
                <a:lnTo>
                  <a:pt x="837" y="562"/>
                </a:lnTo>
                <a:lnTo>
                  <a:pt x="969" y="478"/>
                </a:lnTo>
                <a:lnTo>
                  <a:pt x="1035" y="386"/>
                </a:lnTo>
                <a:lnTo>
                  <a:pt x="956" y="382"/>
                </a:lnTo>
                <a:lnTo>
                  <a:pt x="887" y="429"/>
                </a:lnTo>
                <a:lnTo>
                  <a:pt x="815" y="501"/>
                </a:lnTo>
                <a:lnTo>
                  <a:pt x="580" y="484"/>
                </a:lnTo>
                <a:lnTo>
                  <a:pt x="670" y="598"/>
                </a:lnTo>
                <a:lnTo>
                  <a:pt x="531" y="503"/>
                </a:lnTo>
                <a:lnTo>
                  <a:pt x="461" y="406"/>
                </a:lnTo>
                <a:lnTo>
                  <a:pt x="412" y="323"/>
                </a:lnTo>
                <a:lnTo>
                  <a:pt x="373" y="180"/>
                </a:lnTo>
                <a:lnTo>
                  <a:pt x="370" y="140"/>
                </a:lnTo>
                <a:lnTo>
                  <a:pt x="0" y="102"/>
                </a:lnTo>
                <a:lnTo>
                  <a:pt x="389" y="81"/>
                </a:lnTo>
                <a:lnTo>
                  <a:pt x="451" y="40"/>
                </a:lnTo>
                <a:lnTo>
                  <a:pt x="472" y="0"/>
                </a:lnTo>
                <a:lnTo>
                  <a:pt x="461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6" name="Freeform 42"/>
          <p:cNvSpPr/>
          <p:nvPr/>
        </p:nvSpPr>
        <p:spPr>
          <a:xfrm>
            <a:off x="2308320" y="1195560"/>
            <a:ext cx="54000" cy="183960"/>
          </a:xfrm>
          <a:custGeom>
            <a:avLst/>
            <a:gdLst>
              <a:gd name="textAreaLeft" fmla="*/ 0 w 54000"/>
              <a:gd name="textAreaRight" fmla="*/ 54360 w 54000"/>
              <a:gd name="textAreaTop" fmla="*/ 0 h 183960"/>
              <a:gd name="textAreaBottom" fmla="*/ 183960 h 183960"/>
            </a:gdLst>
            <a:ahLst/>
            <a:rect l="textAreaLeft" t="textAreaTop" r="textAreaRight" b="textAreaBottom"/>
            <a:pathLst>
              <a:path w="103" h="347">
                <a:moveTo>
                  <a:pt x="103" y="322"/>
                </a:moveTo>
                <a:lnTo>
                  <a:pt x="59" y="260"/>
                </a:lnTo>
                <a:lnTo>
                  <a:pt x="13" y="157"/>
                </a:lnTo>
                <a:lnTo>
                  <a:pt x="13" y="51"/>
                </a:lnTo>
                <a:lnTo>
                  <a:pt x="66" y="15"/>
                </a:lnTo>
                <a:lnTo>
                  <a:pt x="41" y="0"/>
                </a:lnTo>
                <a:lnTo>
                  <a:pt x="27" y="13"/>
                </a:lnTo>
                <a:lnTo>
                  <a:pt x="0" y="50"/>
                </a:lnTo>
                <a:lnTo>
                  <a:pt x="3" y="151"/>
                </a:lnTo>
                <a:lnTo>
                  <a:pt x="47" y="293"/>
                </a:lnTo>
                <a:lnTo>
                  <a:pt x="99" y="347"/>
                </a:lnTo>
                <a:lnTo>
                  <a:pt x="103" y="3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7" name="Freeform 43"/>
          <p:cNvSpPr/>
          <p:nvPr/>
        </p:nvSpPr>
        <p:spPr>
          <a:xfrm>
            <a:off x="2319480" y="1220760"/>
            <a:ext cx="60120" cy="104760"/>
          </a:xfrm>
          <a:custGeom>
            <a:avLst/>
            <a:gdLst>
              <a:gd name="textAreaLeft" fmla="*/ 0 w 60120"/>
              <a:gd name="textAreaRight" fmla="*/ 60480 w 60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15" h="197">
                <a:moveTo>
                  <a:pt x="101" y="197"/>
                </a:moveTo>
                <a:lnTo>
                  <a:pt x="75" y="153"/>
                </a:lnTo>
                <a:lnTo>
                  <a:pt x="44" y="137"/>
                </a:lnTo>
                <a:lnTo>
                  <a:pt x="44" y="81"/>
                </a:lnTo>
                <a:lnTo>
                  <a:pt x="85" y="53"/>
                </a:lnTo>
                <a:lnTo>
                  <a:pt x="62" y="28"/>
                </a:lnTo>
                <a:lnTo>
                  <a:pt x="25" y="59"/>
                </a:lnTo>
                <a:lnTo>
                  <a:pt x="25" y="140"/>
                </a:lnTo>
                <a:lnTo>
                  <a:pt x="0" y="59"/>
                </a:lnTo>
                <a:lnTo>
                  <a:pt x="10" y="22"/>
                </a:lnTo>
                <a:lnTo>
                  <a:pt x="25" y="0"/>
                </a:lnTo>
                <a:lnTo>
                  <a:pt x="94" y="6"/>
                </a:lnTo>
                <a:lnTo>
                  <a:pt x="107" y="72"/>
                </a:lnTo>
                <a:lnTo>
                  <a:pt x="82" y="120"/>
                </a:lnTo>
                <a:lnTo>
                  <a:pt x="97" y="147"/>
                </a:lnTo>
                <a:lnTo>
                  <a:pt x="115" y="157"/>
                </a:lnTo>
                <a:lnTo>
                  <a:pt x="101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8" name="Freeform 44"/>
          <p:cNvSpPr/>
          <p:nvPr/>
        </p:nvSpPr>
        <p:spPr>
          <a:xfrm>
            <a:off x="1460520" y="1025640"/>
            <a:ext cx="561960" cy="695160"/>
          </a:xfrm>
          <a:custGeom>
            <a:avLst/>
            <a:gdLst>
              <a:gd name="textAreaLeft" fmla="*/ 0 w 561960"/>
              <a:gd name="textAreaRight" fmla="*/ 562320 w 56196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1062" h="1315">
                <a:moveTo>
                  <a:pt x="1062" y="281"/>
                </a:moveTo>
                <a:lnTo>
                  <a:pt x="963" y="346"/>
                </a:lnTo>
                <a:lnTo>
                  <a:pt x="763" y="346"/>
                </a:lnTo>
                <a:lnTo>
                  <a:pt x="923" y="428"/>
                </a:lnTo>
                <a:lnTo>
                  <a:pt x="740" y="369"/>
                </a:lnTo>
                <a:lnTo>
                  <a:pt x="812" y="428"/>
                </a:lnTo>
                <a:lnTo>
                  <a:pt x="763" y="428"/>
                </a:lnTo>
                <a:lnTo>
                  <a:pt x="822" y="514"/>
                </a:lnTo>
                <a:lnTo>
                  <a:pt x="841" y="619"/>
                </a:lnTo>
                <a:lnTo>
                  <a:pt x="841" y="696"/>
                </a:lnTo>
                <a:lnTo>
                  <a:pt x="809" y="828"/>
                </a:lnTo>
                <a:lnTo>
                  <a:pt x="786" y="828"/>
                </a:lnTo>
                <a:lnTo>
                  <a:pt x="769" y="870"/>
                </a:lnTo>
                <a:lnTo>
                  <a:pt x="772" y="928"/>
                </a:lnTo>
                <a:lnTo>
                  <a:pt x="667" y="928"/>
                </a:lnTo>
                <a:lnTo>
                  <a:pt x="628" y="948"/>
                </a:lnTo>
                <a:lnTo>
                  <a:pt x="536" y="899"/>
                </a:lnTo>
                <a:lnTo>
                  <a:pt x="501" y="903"/>
                </a:lnTo>
                <a:lnTo>
                  <a:pt x="416" y="928"/>
                </a:lnTo>
                <a:lnTo>
                  <a:pt x="396" y="964"/>
                </a:lnTo>
                <a:lnTo>
                  <a:pt x="396" y="1010"/>
                </a:lnTo>
                <a:lnTo>
                  <a:pt x="464" y="1144"/>
                </a:lnTo>
                <a:lnTo>
                  <a:pt x="626" y="1213"/>
                </a:lnTo>
                <a:lnTo>
                  <a:pt x="687" y="1186"/>
                </a:lnTo>
                <a:lnTo>
                  <a:pt x="654" y="1220"/>
                </a:lnTo>
                <a:lnTo>
                  <a:pt x="613" y="1226"/>
                </a:lnTo>
                <a:lnTo>
                  <a:pt x="478" y="1178"/>
                </a:lnTo>
                <a:lnTo>
                  <a:pt x="464" y="1226"/>
                </a:lnTo>
                <a:lnTo>
                  <a:pt x="462" y="1289"/>
                </a:lnTo>
                <a:lnTo>
                  <a:pt x="396" y="1197"/>
                </a:lnTo>
                <a:lnTo>
                  <a:pt x="341" y="1226"/>
                </a:lnTo>
                <a:lnTo>
                  <a:pt x="334" y="1315"/>
                </a:lnTo>
                <a:lnTo>
                  <a:pt x="280" y="1206"/>
                </a:lnTo>
                <a:lnTo>
                  <a:pt x="87" y="956"/>
                </a:lnTo>
                <a:lnTo>
                  <a:pt x="5" y="665"/>
                </a:lnTo>
                <a:lnTo>
                  <a:pt x="0" y="510"/>
                </a:lnTo>
                <a:lnTo>
                  <a:pt x="13" y="369"/>
                </a:lnTo>
                <a:lnTo>
                  <a:pt x="57" y="276"/>
                </a:lnTo>
                <a:lnTo>
                  <a:pt x="131" y="217"/>
                </a:lnTo>
                <a:lnTo>
                  <a:pt x="205" y="183"/>
                </a:lnTo>
                <a:lnTo>
                  <a:pt x="329" y="59"/>
                </a:lnTo>
                <a:lnTo>
                  <a:pt x="373" y="24"/>
                </a:lnTo>
                <a:lnTo>
                  <a:pt x="454" y="0"/>
                </a:lnTo>
                <a:lnTo>
                  <a:pt x="363" y="68"/>
                </a:lnTo>
                <a:lnTo>
                  <a:pt x="323" y="217"/>
                </a:lnTo>
                <a:lnTo>
                  <a:pt x="305" y="124"/>
                </a:lnTo>
                <a:lnTo>
                  <a:pt x="295" y="235"/>
                </a:lnTo>
                <a:lnTo>
                  <a:pt x="272" y="153"/>
                </a:lnTo>
                <a:lnTo>
                  <a:pt x="272" y="235"/>
                </a:lnTo>
                <a:lnTo>
                  <a:pt x="236" y="194"/>
                </a:lnTo>
                <a:lnTo>
                  <a:pt x="245" y="253"/>
                </a:lnTo>
                <a:lnTo>
                  <a:pt x="190" y="235"/>
                </a:lnTo>
                <a:lnTo>
                  <a:pt x="242" y="298"/>
                </a:lnTo>
                <a:lnTo>
                  <a:pt x="154" y="276"/>
                </a:lnTo>
                <a:lnTo>
                  <a:pt x="183" y="311"/>
                </a:lnTo>
                <a:lnTo>
                  <a:pt x="100" y="305"/>
                </a:lnTo>
                <a:lnTo>
                  <a:pt x="52" y="382"/>
                </a:lnTo>
                <a:lnTo>
                  <a:pt x="139" y="340"/>
                </a:lnTo>
                <a:lnTo>
                  <a:pt x="154" y="340"/>
                </a:lnTo>
                <a:lnTo>
                  <a:pt x="69" y="403"/>
                </a:lnTo>
                <a:lnTo>
                  <a:pt x="23" y="510"/>
                </a:lnTo>
                <a:lnTo>
                  <a:pt x="23" y="566"/>
                </a:lnTo>
                <a:lnTo>
                  <a:pt x="105" y="422"/>
                </a:lnTo>
                <a:lnTo>
                  <a:pt x="42" y="560"/>
                </a:lnTo>
                <a:lnTo>
                  <a:pt x="36" y="673"/>
                </a:lnTo>
                <a:lnTo>
                  <a:pt x="100" y="526"/>
                </a:lnTo>
                <a:lnTo>
                  <a:pt x="139" y="712"/>
                </a:lnTo>
                <a:lnTo>
                  <a:pt x="160" y="549"/>
                </a:lnTo>
                <a:lnTo>
                  <a:pt x="177" y="677"/>
                </a:lnTo>
                <a:lnTo>
                  <a:pt x="219" y="531"/>
                </a:lnTo>
                <a:lnTo>
                  <a:pt x="242" y="654"/>
                </a:lnTo>
                <a:lnTo>
                  <a:pt x="249" y="543"/>
                </a:lnTo>
                <a:lnTo>
                  <a:pt x="305" y="730"/>
                </a:lnTo>
                <a:lnTo>
                  <a:pt x="301" y="537"/>
                </a:lnTo>
                <a:lnTo>
                  <a:pt x="331" y="606"/>
                </a:lnTo>
                <a:lnTo>
                  <a:pt x="354" y="537"/>
                </a:lnTo>
                <a:lnTo>
                  <a:pt x="388" y="644"/>
                </a:lnTo>
                <a:lnTo>
                  <a:pt x="405" y="549"/>
                </a:lnTo>
                <a:lnTo>
                  <a:pt x="418" y="625"/>
                </a:lnTo>
                <a:lnTo>
                  <a:pt x="464" y="520"/>
                </a:lnTo>
                <a:lnTo>
                  <a:pt x="494" y="661"/>
                </a:lnTo>
                <a:lnTo>
                  <a:pt x="554" y="549"/>
                </a:lnTo>
                <a:lnTo>
                  <a:pt x="577" y="543"/>
                </a:lnTo>
                <a:lnTo>
                  <a:pt x="569" y="689"/>
                </a:lnTo>
                <a:lnTo>
                  <a:pt x="645" y="566"/>
                </a:lnTo>
                <a:lnTo>
                  <a:pt x="652" y="585"/>
                </a:lnTo>
                <a:lnTo>
                  <a:pt x="613" y="700"/>
                </a:lnTo>
                <a:lnTo>
                  <a:pt x="664" y="637"/>
                </a:lnTo>
                <a:lnTo>
                  <a:pt x="660" y="712"/>
                </a:lnTo>
                <a:lnTo>
                  <a:pt x="707" y="644"/>
                </a:lnTo>
                <a:lnTo>
                  <a:pt x="727" y="491"/>
                </a:lnTo>
                <a:lnTo>
                  <a:pt x="691" y="468"/>
                </a:lnTo>
                <a:lnTo>
                  <a:pt x="704" y="503"/>
                </a:lnTo>
                <a:lnTo>
                  <a:pt x="660" y="468"/>
                </a:lnTo>
                <a:lnTo>
                  <a:pt x="683" y="526"/>
                </a:lnTo>
                <a:lnTo>
                  <a:pt x="632" y="478"/>
                </a:lnTo>
                <a:lnTo>
                  <a:pt x="652" y="526"/>
                </a:lnTo>
                <a:lnTo>
                  <a:pt x="586" y="491"/>
                </a:lnTo>
                <a:lnTo>
                  <a:pt x="549" y="438"/>
                </a:lnTo>
                <a:lnTo>
                  <a:pt x="554" y="503"/>
                </a:lnTo>
                <a:lnTo>
                  <a:pt x="533" y="457"/>
                </a:lnTo>
                <a:lnTo>
                  <a:pt x="517" y="531"/>
                </a:lnTo>
                <a:lnTo>
                  <a:pt x="481" y="444"/>
                </a:lnTo>
                <a:lnTo>
                  <a:pt x="464" y="474"/>
                </a:lnTo>
                <a:lnTo>
                  <a:pt x="429" y="398"/>
                </a:lnTo>
                <a:lnTo>
                  <a:pt x="418" y="498"/>
                </a:lnTo>
                <a:lnTo>
                  <a:pt x="409" y="409"/>
                </a:lnTo>
                <a:lnTo>
                  <a:pt x="383" y="498"/>
                </a:lnTo>
                <a:lnTo>
                  <a:pt x="388" y="403"/>
                </a:lnTo>
                <a:lnTo>
                  <a:pt x="354" y="457"/>
                </a:lnTo>
                <a:lnTo>
                  <a:pt x="346" y="415"/>
                </a:lnTo>
                <a:lnTo>
                  <a:pt x="301" y="491"/>
                </a:lnTo>
                <a:lnTo>
                  <a:pt x="310" y="409"/>
                </a:lnTo>
                <a:lnTo>
                  <a:pt x="258" y="510"/>
                </a:lnTo>
                <a:lnTo>
                  <a:pt x="249" y="438"/>
                </a:lnTo>
                <a:lnTo>
                  <a:pt x="205" y="514"/>
                </a:lnTo>
                <a:lnTo>
                  <a:pt x="173" y="474"/>
                </a:lnTo>
                <a:lnTo>
                  <a:pt x="205" y="415"/>
                </a:lnTo>
                <a:lnTo>
                  <a:pt x="131" y="462"/>
                </a:lnTo>
                <a:lnTo>
                  <a:pt x="190" y="409"/>
                </a:lnTo>
                <a:lnTo>
                  <a:pt x="147" y="403"/>
                </a:lnTo>
                <a:lnTo>
                  <a:pt x="219" y="369"/>
                </a:lnTo>
                <a:lnTo>
                  <a:pt x="200" y="351"/>
                </a:lnTo>
                <a:lnTo>
                  <a:pt x="272" y="361"/>
                </a:lnTo>
                <a:lnTo>
                  <a:pt x="265" y="317"/>
                </a:lnTo>
                <a:lnTo>
                  <a:pt x="310" y="281"/>
                </a:lnTo>
                <a:lnTo>
                  <a:pt x="346" y="323"/>
                </a:lnTo>
                <a:lnTo>
                  <a:pt x="341" y="253"/>
                </a:lnTo>
                <a:lnTo>
                  <a:pt x="373" y="292"/>
                </a:lnTo>
                <a:lnTo>
                  <a:pt x="409" y="141"/>
                </a:lnTo>
                <a:lnTo>
                  <a:pt x="464" y="78"/>
                </a:lnTo>
                <a:lnTo>
                  <a:pt x="451" y="164"/>
                </a:lnTo>
                <a:lnTo>
                  <a:pt x="468" y="258"/>
                </a:lnTo>
                <a:lnTo>
                  <a:pt x="478" y="153"/>
                </a:lnTo>
                <a:lnTo>
                  <a:pt x="517" y="130"/>
                </a:lnTo>
                <a:lnTo>
                  <a:pt x="514" y="160"/>
                </a:lnTo>
                <a:lnTo>
                  <a:pt x="542" y="183"/>
                </a:lnTo>
                <a:lnTo>
                  <a:pt x="652" y="141"/>
                </a:lnTo>
                <a:lnTo>
                  <a:pt x="626" y="189"/>
                </a:lnTo>
                <a:lnTo>
                  <a:pt x="700" y="141"/>
                </a:lnTo>
                <a:lnTo>
                  <a:pt x="645" y="212"/>
                </a:lnTo>
                <a:lnTo>
                  <a:pt x="730" y="153"/>
                </a:lnTo>
                <a:lnTo>
                  <a:pt x="694" y="206"/>
                </a:lnTo>
                <a:lnTo>
                  <a:pt x="730" y="206"/>
                </a:lnTo>
                <a:lnTo>
                  <a:pt x="654" y="276"/>
                </a:lnTo>
                <a:lnTo>
                  <a:pt x="755" y="223"/>
                </a:lnTo>
                <a:lnTo>
                  <a:pt x="645" y="305"/>
                </a:lnTo>
                <a:lnTo>
                  <a:pt x="769" y="276"/>
                </a:lnTo>
                <a:lnTo>
                  <a:pt x="848" y="229"/>
                </a:lnTo>
                <a:lnTo>
                  <a:pt x="746" y="317"/>
                </a:lnTo>
                <a:lnTo>
                  <a:pt x="854" y="292"/>
                </a:lnTo>
                <a:lnTo>
                  <a:pt x="936" y="292"/>
                </a:lnTo>
                <a:lnTo>
                  <a:pt x="845" y="317"/>
                </a:lnTo>
                <a:lnTo>
                  <a:pt x="963" y="317"/>
                </a:lnTo>
                <a:lnTo>
                  <a:pt x="1062" y="2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9" name="Freeform 45"/>
          <p:cNvSpPr/>
          <p:nvPr/>
        </p:nvSpPr>
        <p:spPr>
          <a:xfrm>
            <a:off x="1747800" y="1030320"/>
            <a:ext cx="371520" cy="158760"/>
          </a:xfrm>
          <a:custGeom>
            <a:avLst/>
            <a:gdLst>
              <a:gd name="textAreaLeft" fmla="*/ 0 w 371520"/>
              <a:gd name="textAreaRight" fmla="*/ 371880 w 37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2" h="302">
                <a:moveTo>
                  <a:pt x="0" y="0"/>
                </a:moveTo>
                <a:lnTo>
                  <a:pt x="76" y="27"/>
                </a:lnTo>
                <a:lnTo>
                  <a:pt x="125" y="61"/>
                </a:lnTo>
                <a:lnTo>
                  <a:pt x="99" y="92"/>
                </a:lnTo>
                <a:lnTo>
                  <a:pt x="204" y="61"/>
                </a:lnTo>
                <a:lnTo>
                  <a:pt x="177" y="97"/>
                </a:lnTo>
                <a:lnTo>
                  <a:pt x="263" y="97"/>
                </a:lnTo>
                <a:lnTo>
                  <a:pt x="213" y="132"/>
                </a:lnTo>
                <a:lnTo>
                  <a:pt x="303" y="132"/>
                </a:lnTo>
                <a:lnTo>
                  <a:pt x="280" y="162"/>
                </a:lnTo>
                <a:lnTo>
                  <a:pt x="348" y="155"/>
                </a:lnTo>
                <a:lnTo>
                  <a:pt x="407" y="185"/>
                </a:lnTo>
                <a:lnTo>
                  <a:pt x="371" y="208"/>
                </a:lnTo>
                <a:lnTo>
                  <a:pt x="506" y="208"/>
                </a:lnTo>
                <a:lnTo>
                  <a:pt x="472" y="260"/>
                </a:lnTo>
                <a:lnTo>
                  <a:pt x="584" y="260"/>
                </a:lnTo>
                <a:lnTo>
                  <a:pt x="548" y="283"/>
                </a:lnTo>
                <a:lnTo>
                  <a:pt x="643" y="267"/>
                </a:lnTo>
                <a:lnTo>
                  <a:pt x="611" y="296"/>
                </a:lnTo>
                <a:lnTo>
                  <a:pt x="640" y="302"/>
                </a:lnTo>
                <a:lnTo>
                  <a:pt x="685" y="289"/>
                </a:lnTo>
                <a:lnTo>
                  <a:pt x="702" y="244"/>
                </a:lnTo>
                <a:lnTo>
                  <a:pt x="685" y="197"/>
                </a:lnTo>
                <a:lnTo>
                  <a:pt x="597" y="197"/>
                </a:lnTo>
                <a:lnTo>
                  <a:pt x="591" y="132"/>
                </a:lnTo>
                <a:lnTo>
                  <a:pt x="490" y="97"/>
                </a:lnTo>
                <a:lnTo>
                  <a:pt x="358" y="97"/>
                </a:lnTo>
                <a:lnTo>
                  <a:pt x="259" y="34"/>
                </a:lnTo>
                <a:lnTo>
                  <a:pt x="1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0" name="Freeform 46"/>
          <p:cNvSpPr/>
          <p:nvPr/>
        </p:nvSpPr>
        <p:spPr>
          <a:xfrm>
            <a:off x="2011320" y="1198440"/>
            <a:ext cx="87480" cy="74880"/>
          </a:xfrm>
          <a:custGeom>
            <a:avLst/>
            <a:gdLst>
              <a:gd name="textAreaLeft" fmla="*/ 0 w 87480"/>
              <a:gd name="textAreaRight" fmla="*/ 87840 w 8748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164" h="141">
                <a:moveTo>
                  <a:pt x="116" y="0"/>
                </a:moveTo>
                <a:lnTo>
                  <a:pt x="66" y="19"/>
                </a:lnTo>
                <a:lnTo>
                  <a:pt x="0" y="19"/>
                </a:lnTo>
                <a:lnTo>
                  <a:pt x="85" y="30"/>
                </a:lnTo>
                <a:lnTo>
                  <a:pt x="164" y="141"/>
                </a:lnTo>
                <a:lnTo>
                  <a:pt x="141" y="47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1" name="Freeform 47"/>
          <p:cNvSpPr/>
          <p:nvPr/>
        </p:nvSpPr>
        <p:spPr>
          <a:xfrm>
            <a:off x="2336760" y="938160"/>
            <a:ext cx="515880" cy="357120"/>
          </a:xfrm>
          <a:custGeom>
            <a:avLst/>
            <a:gdLst>
              <a:gd name="textAreaLeft" fmla="*/ 0 w 515880"/>
              <a:gd name="textAreaRight" fmla="*/ 516240 w 51588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74" h="674">
                <a:moveTo>
                  <a:pt x="492" y="513"/>
                </a:moveTo>
                <a:lnTo>
                  <a:pt x="613" y="491"/>
                </a:lnTo>
                <a:lnTo>
                  <a:pt x="600" y="525"/>
                </a:lnTo>
                <a:lnTo>
                  <a:pt x="669" y="530"/>
                </a:lnTo>
                <a:lnTo>
                  <a:pt x="737" y="491"/>
                </a:lnTo>
                <a:lnTo>
                  <a:pt x="801" y="530"/>
                </a:lnTo>
                <a:lnTo>
                  <a:pt x="819" y="596"/>
                </a:lnTo>
                <a:lnTo>
                  <a:pt x="856" y="674"/>
                </a:lnTo>
                <a:lnTo>
                  <a:pt x="912" y="623"/>
                </a:lnTo>
                <a:lnTo>
                  <a:pt x="974" y="393"/>
                </a:lnTo>
                <a:lnTo>
                  <a:pt x="974" y="312"/>
                </a:lnTo>
                <a:lnTo>
                  <a:pt x="902" y="200"/>
                </a:lnTo>
                <a:lnTo>
                  <a:pt x="594" y="3"/>
                </a:lnTo>
                <a:lnTo>
                  <a:pt x="341" y="0"/>
                </a:lnTo>
                <a:lnTo>
                  <a:pt x="160" y="79"/>
                </a:lnTo>
                <a:lnTo>
                  <a:pt x="24" y="232"/>
                </a:lnTo>
                <a:lnTo>
                  <a:pt x="0" y="383"/>
                </a:lnTo>
                <a:lnTo>
                  <a:pt x="535" y="464"/>
                </a:lnTo>
                <a:lnTo>
                  <a:pt x="492" y="513"/>
                </a:lnTo>
                <a:close/>
              </a:path>
            </a:pathLst>
          </a:custGeom>
          <a:solidFill>
            <a:srgbClr val="ea98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2" name="Freeform 48"/>
          <p:cNvSpPr/>
          <p:nvPr/>
        </p:nvSpPr>
        <p:spPr>
          <a:xfrm>
            <a:off x="2320920" y="927000"/>
            <a:ext cx="525600" cy="411120"/>
          </a:xfrm>
          <a:custGeom>
            <a:avLst/>
            <a:gdLst>
              <a:gd name="textAreaLeft" fmla="*/ 0 w 525600"/>
              <a:gd name="textAreaRight" fmla="*/ 525960 w 5256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993" h="777">
                <a:moveTo>
                  <a:pt x="298" y="51"/>
                </a:moveTo>
                <a:lnTo>
                  <a:pt x="409" y="0"/>
                </a:lnTo>
                <a:lnTo>
                  <a:pt x="644" y="0"/>
                </a:lnTo>
                <a:lnTo>
                  <a:pt x="950" y="219"/>
                </a:lnTo>
                <a:lnTo>
                  <a:pt x="993" y="316"/>
                </a:lnTo>
                <a:lnTo>
                  <a:pt x="933" y="230"/>
                </a:lnTo>
                <a:lnTo>
                  <a:pt x="878" y="215"/>
                </a:lnTo>
                <a:lnTo>
                  <a:pt x="917" y="274"/>
                </a:lnTo>
                <a:lnTo>
                  <a:pt x="917" y="306"/>
                </a:lnTo>
                <a:lnTo>
                  <a:pt x="890" y="352"/>
                </a:lnTo>
                <a:lnTo>
                  <a:pt x="868" y="385"/>
                </a:lnTo>
                <a:lnTo>
                  <a:pt x="868" y="338"/>
                </a:lnTo>
                <a:lnTo>
                  <a:pt x="839" y="449"/>
                </a:lnTo>
                <a:lnTo>
                  <a:pt x="764" y="562"/>
                </a:lnTo>
                <a:lnTo>
                  <a:pt x="822" y="398"/>
                </a:lnTo>
                <a:lnTo>
                  <a:pt x="740" y="466"/>
                </a:lnTo>
                <a:lnTo>
                  <a:pt x="751" y="421"/>
                </a:lnTo>
                <a:lnTo>
                  <a:pt x="641" y="466"/>
                </a:lnTo>
                <a:lnTo>
                  <a:pt x="523" y="535"/>
                </a:lnTo>
                <a:lnTo>
                  <a:pt x="550" y="490"/>
                </a:lnTo>
                <a:lnTo>
                  <a:pt x="422" y="562"/>
                </a:lnTo>
                <a:lnTo>
                  <a:pt x="337" y="562"/>
                </a:lnTo>
                <a:lnTo>
                  <a:pt x="357" y="531"/>
                </a:lnTo>
                <a:lnTo>
                  <a:pt x="266" y="531"/>
                </a:lnTo>
                <a:lnTo>
                  <a:pt x="291" y="485"/>
                </a:lnTo>
                <a:lnTo>
                  <a:pt x="215" y="535"/>
                </a:lnTo>
                <a:lnTo>
                  <a:pt x="182" y="535"/>
                </a:lnTo>
                <a:lnTo>
                  <a:pt x="117" y="682"/>
                </a:lnTo>
                <a:lnTo>
                  <a:pt x="117" y="777"/>
                </a:lnTo>
                <a:lnTo>
                  <a:pt x="78" y="708"/>
                </a:lnTo>
                <a:lnTo>
                  <a:pt x="45" y="686"/>
                </a:lnTo>
                <a:lnTo>
                  <a:pt x="42" y="663"/>
                </a:lnTo>
                <a:lnTo>
                  <a:pt x="53" y="630"/>
                </a:lnTo>
                <a:lnTo>
                  <a:pt x="85" y="623"/>
                </a:lnTo>
                <a:lnTo>
                  <a:pt x="84" y="594"/>
                </a:lnTo>
                <a:lnTo>
                  <a:pt x="45" y="590"/>
                </a:lnTo>
                <a:lnTo>
                  <a:pt x="17" y="607"/>
                </a:lnTo>
                <a:lnTo>
                  <a:pt x="17" y="663"/>
                </a:lnTo>
                <a:lnTo>
                  <a:pt x="0" y="617"/>
                </a:lnTo>
                <a:lnTo>
                  <a:pt x="0" y="584"/>
                </a:lnTo>
                <a:lnTo>
                  <a:pt x="26" y="549"/>
                </a:lnTo>
                <a:lnTo>
                  <a:pt x="42" y="549"/>
                </a:lnTo>
                <a:lnTo>
                  <a:pt x="15" y="512"/>
                </a:lnTo>
                <a:lnTo>
                  <a:pt x="15" y="392"/>
                </a:lnTo>
                <a:lnTo>
                  <a:pt x="61" y="253"/>
                </a:lnTo>
                <a:lnTo>
                  <a:pt x="56" y="293"/>
                </a:lnTo>
                <a:lnTo>
                  <a:pt x="102" y="230"/>
                </a:lnTo>
                <a:lnTo>
                  <a:pt x="114" y="274"/>
                </a:lnTo>
                <a:lnTo>
                  <a:pt x="182" y="188"/>
                </a:lnTo>
                <a:lnTo>
                  <a:pt x="182" y="312"/>
                </a:lnTo>
                <a:lnTo>
                  <a:pt x="215" y="289"/>
                </a:lnTo>
                <a:lnTo>
                  <a:pt x="209" y="306"/>
                </a:lnTo>
                <a:lnTo>
                  <a:pt x="317" y="266"/>
                </a:lnTo>
                <a:lnTo>
                  <a:pt x="310" y="302"/>
                </a:lnTo>
                <a:lnTo>
                  <a:pt x="422" y="268"/>
                </a:lnTo>
                <a:lnTo>
                  <a:pt x="392" y="306"/>
                </a:lnTo>
                <a:lnTo>
                  <a:pt x="419" y="306"/>
                </a:lnTo>
                <a:lnTo>
                  <a:pt x="392" y="366"/>
                </a:lnTo>
                <a:lnTo>
                  <a:pt x="396" y="407"/>
                </a:lnTo>
                <a:lnTo>
                  <a:pt x="452" y="361"/>
                </a:lnTo>
                <a:lnTo>
                  <a:pt x="466" y="385"/>
                </a:lnTo>
                <a:lnTo>
                  <a:pt x="433" y="425"/>
                </a:lnTo>
                <a:lnTo>
                  <a:pt x="498" y="415"/>
                </a:lnTo>
                <a:lnTo>
                  <a:pt x="474" y="453"/>
                </a:lnTo>
                <a:lnTo>
                  <a:pt x="583" y="425"/>
                </a:lnTo>
                <a:lnTo>
                  <a:pt x="564" y="392"/>
                </a:lnTo>
                <a:lnTo>
                  <a:pt x="691" y="366"/>
                </a:lnTo>
                <a:lnTo>
                  <a:pt x="583" y="361"/>
                </a:lnTo>
                <a:lnTo>
                  <a:pt x="723" y="302"/>
                </a:lnTo>
                <a:lnTo>
                  <a:pt x="595" y="312"/>
                </a:lnTo>
                <a:lnTo>
                  <a:pt x="744" y="253"/>
                </a:lnTo>
                <a:lnTo>
                  <a:pt x="652" y="243"/>
                </a:lnTo>
                <a:lnTo>
                  <a:pt x="708" y="202"/>
                </a:lnTo>
                <a:lnTo>
                  <a:pt x="668" y="176"/>
                </a:lnTo>
                <a:lnTo>
                  <a:pt x="537" y="247"/>
                </a:lnTo>
                <a:lnTo>
                  <a:pt x="644" y="169"/>
                </a:lnTo>
                <a:lnTo>
                  <a:pt x="613" y="156"/>
                </a:lnTo>
                <a:lnTo>
                  <a:pt x="455" y="255"/>
                </a:lnTo>
                <a:lnTo>
                  <a:pt x="616" y="120"/>
                </a:lnTo>
                <a:lnTo>
                  <a:pt x="452" y="196"/>
                </a:lnTo>
                <a:lnTo>
                  <a:pt x="523" y="124"/>
                </a:lnTo>
                <a:lnTo>
                  <a:pt x="649" y="83"/>
                </a:lnTo>
                <a:lnTo>
                  <a:pt x="511" y="91"/>
                </a:lnTo>
                <a:lnTo>
                  <a:pt x="422" y="137"/>
                </a:lnTo>
                <a:lnTo>
                  <a:pt x="501" y="65"/>
                </a:lnTo>
                <a:lnTo>
                  <a:pt x="583" y="37"/>
                </a:lnTo>
                <a:lnTo>
                  <a:pt x="452" y="42"/>
                </a:lnTo>
                <a:lnTo>
                  <a:pt x="305" y="110"/>
                </a:lnTo>
                <a:lnTo>
                  <a:pt x="428" y="19"/>
                </a:lnTo>
                <a:lnTo>
                  <a:pt x="298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3" name="Freeform 49"/>
          <p:cNvSpPr/>
          <p:nvPr/>
        </p:nvSpPr>
        <p:spPr>
          <a:xfrm>
            <a:off x="2600280" y="1189080"/>
            <a:ext cx="138240" cy="284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60" h="54">
                <a:moveTo>
                  <a:pt x="0" y="40"/>
                </a:moveTo>
                <a:lnTo>
                  <a:pt x="108" y="26"/>
                </a:lnTo>
                <a:lnTo>
                  <a:pt x="92" y="54"/>
                </a:lnTo>
                <a:lnTo>
                  <a:pt x="185" y="54"/>
                </a:lnTo>
                <a:lnTo>
                  <a:pt x="240" y="23"/>
                </a:lnTo>
                <a:lnTo>
                  <a:pt x="260" y="23"/>
                </a:lnTo>
                <a:lnTo>
                  <a:pt x="232" y="0"/>
                </a:lnTo>
                <a:lnTo>
                  <a:pt x="158" y="46"/>
                </a:lnTo>
                <a:lnTo>
                  <a:pt x="108" y="46"/>
                </a:lnTo>
                <a:lnTo>
                  <a:pt x="125" y="8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4" name="Freeform 50"/>
          <p:cNvSpPr/>
          <p:nvPr/>
        </p:nvSpPr>
        <p:spPr>
          <a:xfrm>
            <a:off x="2481120" y="1447920"/>
            <a:ext cx="133560" cy="38160"/>
          </a:xfrm>
          <a:custGeom>
            <a:avLst/>
            <a:gdLst>
              <a:gd name="textAreaLeft" fmla="*/ 0 w 133560"/>
              <a:gd name="textAreaRight" fmla="*/ 133920 w 1335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1" h="72">
                <a:moveTo>
                  <a:pt x="0" y="0"/>
                </a:moveTo>
                <a:lnTo>
                  <a:pt x="26" y="32"/>
                </a:lnTo>
                <a:lnTo>
                  <a:pt x="115" y="72"/>
                </a:lnTo>
                <a:lnTo>
                  <a:pt x="182" y="72"/>
                </a:lnTo>
                <a:lnTo>
                  <a:pt x="251" y="37"/>
                </a:lnTo>
                <a:lnTo>
                  <a:pt x="251" y="22"/>
                </a:lnTo>
                <a:lnTo>
                  <a:pt x="196" y="27"/>
                </a:lnTo>
                <a:lnTo>
                  <a:pt x="110" y="27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5" name="Freeform 51"/>
          <p:cNvSpPr/>
          <p:nvPr/>
        </p:nvSpPr>
        <p:spPr>
          <a:xfrm>
            <a:off x="2610000" y="1295280"/>
            <a:ext cx="85680" cy="23760"/>
          </a:xfrm>
          <a:custGeom>
            <a:avLst/>
            <a:gdLst>
              <a:gd name="textAreaLeft" fmla="*/ 0 w 85680"/>
              <a:gd name="textAreaRight" fmla="*/ 86040 w 85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1" h="46">
                <a:moveTo>
                  <a:pt x="0" y="33"/>
                </a:moveTo>
                <a:lnTo>
                  <a:pt x="14" y="13"/>
                </a:lnTo>
                <a:lnTo>
                  <a:pt x="39" y="0"/>
                </a:lnTo>
                <a:lnTo>
                  <a:pt x="66" y="0"/>
                </a:lnTo>
                <a:lnTo>
                  <a:pt x="108" y="13"/>
                </a:lnTo>
                <a:lnTo>
                  <a:pt x="137" y="13"/>
                </a:lnTo>
                <a:lnTo>
                  <a:pt x="161" y="46"/>
                </a:lnTo>
                <a:lnTo>
                  <a:pt x="141" y="46"/>
                </a:lnTo>
                <a:lnTo>
                  <a:pt x="102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6" name="Freeform 52"/>
          <p:cNvSpPr/>
          <p:nvPr/>
        </p:nvSpPr>
        <p:spPr>
          <a:xfrm>
            <a:off x="2614680" y="1271520"/>
            <a:ext cx="73080" cy="17640"/>
          </a:xfrm>
          <a:custGeom>
            <a:avLst/>
            <a:gdLst>
              <a:gd name="textAreaLeft" fmla="*/ 0 w 73080"/>
              <a:gd name="textAreaRight" fmla="*/ 73440 w 730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38" h="33">
                <a:moveTo>
                  <a:pt x="0" y="23"/>
                </a:moveTo>
                <a:lnTo>
                  <a:pt x="29" y="4"/>
                </a:lnTo>
                <a:lnTo>
                  <a:pt x="81" y="0"/>
                </a:lnTo>
                <a:lnTo>
                  <a:pt x="138" y="3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7" name="Freeform 53"/>
          <p:cNvSpPr/>
          <p:nvPr/>
        </p:nvSpPr>
        <p:spPr>
          <a:xfrm>
            <a:off x="2622600" y="1328760"/>
            <a:ext cx="41400" cy="17280"/>
          </a:xfrm>
          <a:custGeom>
            <a:avLst/>
            <a:gdLst>
              <a:gd name="textAreaLeft" fmla="*/ 0 w 41400"/>
              <a:gd name="textAreaRight" fmla="*/ 41760 w 41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79" h="33">
                <a:moveTo>
                  <a:pt x="0" y="0"/>
                </a:moveTo>
                <a:lnTo>
                  <a:pt x="79" y="33"/>
                </a:lnTo>
                <a:lnTo>
                  <a:pt x="16" y="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8" name="Freeform 54"/>
          <p:cNvSpPr/>
          <p:nvPr/>
        </p:nvSpPr>
        <p:spPr>
          <a:xfrm>
            <a:off x="2587680" y="1351080"/>
            <a:ext cx="7920" cy="29880"/>
          </a:xfrm>
          <a:custGeom>
            <a:avLst/>
            <a:gdLst>
              <a:gd name="textAreaLeft" fmla="*/ 0 w 7920"/>
              <a:gd name="textAreaRight" fmla="*/ 8280 w 79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5" h="59">
                <a:moveTo>
                  <a:pt x="0" y="0"/>
                </a:moveTo>
                <a:lnTo>
                  <a:pt x="0" y="59"/>
                </a:lnTo>
                <a:lnTo>
                  <a:pt x="15" y="49"/>
                </a:lnTo>
                <a:lnTo>
                  <a:pt x="15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9" name="Freeform 55"/>
          <p:cNvSpPr/>
          <p:nvPr/>
        </p:nvSpPr>
        <p:spPr>
          <a:xfrm>
            <a:off x="2502000" y="1378080"/>
            <a:ext cx="108000" cy="66600"/>
          </a:xfrm>
          <a:custGeom>
            <a:avLst/>
            <a:gdLst>
              <a:gd name="textAreaLeft" fmla="*/ 0 w 108000"/>
              <a:gd name="textAreaRight" fmla="*/ 108360 w 108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3" h="124">
                <a:moveTo>
                  <a:pt x="203" y="52"/>
                </a:moveTo>
                <a:lnTo>
                  <a:pt x="148" y="82"/>
                </a:lnTo>
                <a:lnTo>
                  <a:pt x="98" y="82"/>
                </a:lnTo>
                <a:lnTo>
                  <a:pt x="56" y="44"/>
                </a:lnTo>
                <a:lnTo>
                  <a:pt x="20" y="31"/>
                </a:lnTo>
                <a:lnTo>
                  <a:pt x="0" y="0"/>
                </a:lnTo>
                <a:lnTo>
                  <a:pt x="5" y="46"/>
                </a:lnTo>
                <a:lnTo>
                  <a:pt x="72" y="124"/>
                </a:lnTo>
                <a:lnTo>
                  <a:pt x="102" y="124"/>
                </a:lnTo>
                <a:lnTo>
                  <a:pt x="136" y="106"/>
                </a:lnTo>
                <a:lnTo>
                  <a:pt x="165" y="98"/>
                </a:lnTo>
                <a:lnTo>
                  <a:pt x="187" y="75"/>
                </a:lnTo>
                <a:lnTo>
                  <a:pt x="203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0" name="Freeform 56"/>
          <p:cNvSpPr/>
          <p:nvPr/>
        </p:nvSpPr>
        <p:spPr>
          <a:xfrm>
            <a:off x="2441520" y="1266840"/>
            <a:ext cx="76320" cy="23760"/>
          </a:xfrm>
          <a:custGeom>
            <a:avLst/>
            <a:gdLst>
              <a:gd name="textAreaLeft" fmla="*/ 0 w 76320"/>
              <a:gd name="textAreaRight" fmla="*/ 76680 w 763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42" h="44">
                <a:moveTo>
                  <a:pt x="0" y="21"/>
                </a:moveTo>
                <a:lnTo>
                  <a:pt x="19" y="34"/>
                </a:lnTo>
                <a:lnTo>
                  <a:pt x="48" y="44"/>
                </a:lnTo>
                <a:lnTo>
                  <a:pt x="91" y="44"/>
                </a:lnTo>
                <a:lnTo>
                  <a:pt x="142" y="34"/>
                </a:lnTo>
                <a:lnTo>
                  <a:pt x="103" y="17"/>
                </a:lnTo>
                <a:lnTo>
                  <a:pt x="45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1" name="Freeform 57"/>
          <p:cNvSpPr/>
          <p:nvPr/>
        </p:nvSpPr>
        <p:spPr>
          <a:xfrm>
            <a:off x="2513160" y="1262160"/>
            <a:ext cx="42840" cy="68040"/>
          </a:xfrm>
          <a:custGeom>
            <a:avLst/>
            <a:gdLst>
              <a:gd name="textAreaLeft" fmla="*/ 0 w 42840"/>
              <a:gd name="textAreaRight" fmla="*/ 43200 w 42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82" h="128">
                <a:moveTo>
                  <a:pt x="0" y="20"/>
                </a:moveTo>
                <a:lnTo>
                  <a:pt x="33" y="75"/>
                </a:lnTo>
                <a:lnTo>
                  <a:pt x="44" y="128"/>
                </a:lnTo>
                <a:lnTo>
                  <a:pt x="46" y="62"/>
                </a:lnTo>
                <a:lnTo>
                  <a:pt x="82" y="29"/>
                </a:lnTo>
                <a:lnTo>
                  <a:pt x="40" y="0"/>
                </a:lnTo>
                <a:lnTo>
                  <a:pt x="46" y="43"/>
                </a:lnTo>
                <a:lnTo>
                  <a:pt x="19" y="1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2" name="Freeform 58"/>
          <p:cNvSpPr/>
          <p:nvPr/>
        </p:nvSpPr>
        <p:spPr>
          <a:xfrm>
            <a:off x="2443320" y="1244520"/>
            <a:ext cx="79200" cy="15840"/>
          </a:xfrm>
          <a:custGeom>
            <a:avLst/>
            <a:gdLst>
              <a:gd name="textAreaLeft" fmla="*/ 0 w 79200"/>
              <a:gd name="textAreaRight" fmla="*/ 79560 w 79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9" h="29">
                <a:moveTo>
                  <a:pt x="0" y="12"/>
                </a:moveTo>
                <a:lnTo>
                  <a:pt x="68" y="29"/>
                </a:lnTo>
                <a:lnTo>
                  <a:pt x="149" y="25"/>
                </a:lnTo>
                <a:lnTo>
                  <a:pt x="7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3" name="Freeform 59"/>
          <p:cNvSpPr/>
          <p:nvPr/>
        </p:nvSpPr>
        <p:spPr>
          <a:xfrm>
            <a:off x="2454120" y="1301760"/>
            <a:ext cx="39960" cy="17280"/>
          </a:xfrm>
          <a:custGeom>
            <a:avLst/>
            <a:gdLst>
              <a:gd name="textAreaLeft" fmla="*/ 0 w 39960"/>
              <a:gd name="textAreaRight" fmla="*/ 40320 w 39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74" h="33">
                <a:moveTo>
                  <a:pt x="0" y="0"/>
                </a:moveTo>
                <a:lnTo>
                  <a:pt x="32" y="33"/>
                </a:lnTo>
                <a:lnTo>
                  <a:pt x="74" y="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4" name="Freeform 60"/>
          <p:cNvSpPr/>
          <p:nvPr/>
        </p:nvSpPr>
        <p:spPr>
          <a:xfrm>
            <a:off x="2448000" y="1389240"/>
            <a:ext cx="169920" cy="10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319" h="202">
                <a:moveTo>
                  <a:pt x="52" y="0"/>
                </a:moveTo>
                <a:lnTo>
                  <a:pt x="39" y="61"/>
                </a:lnTo>
                <a:lnTo>
                  <a:pt x="39" y="97"/>
                </a:lnTo>
                <a:lnTo>
                  <a:pt x="75" y="97"/>
                </a:lnTo>
                <a:lnTo>
                  <a:pt x="150" y="115"/>
                </a:lnTo>
                <a:lnTo>
                  <a:pt x="177" y="130"/>
                </a:lnTo>
                <a:lnTo>
                  <a:pt x="319" y="130"/>
                </a:lnTo>
                <a:lnTo>
                  <a:pt x="263" y="143"/>
                </a:lnTo>
                <a:lnTo>
                  <a:pt x="174" y="143"/>
                </a:lnTo>
                <a:lnTo>
                  <a:pt x="75" y="111"/>
                </a:lnTo>
                <a:lnTo>
                  <a:pt x="95" y="138"/>
                </a:lnTo>
                <a:lnTo>
                  <a:pt x="174" y="180"/>
                </a:lnTo>
                <a:lnTo>
                  <a:pt x="242" y="180"/>
                </a:lnTo>
                <a:lnTo>
                  <a:pt x="305" y="151"/>
                </a:lnTo>
                <a:lnTo>
                  <a:pt x="237" y="202"/>
                </a:lnTo>
                <a:lnTo>
                  <a:pt x="142" y="189"/>
                </a:lnTo>
                <a:lnTo>
                  <a:pt x="108" y="169"/>
                </a:lnTo>
                <a:lnTo>
                  <a:pt x="16" y="87"/>
                </a:lnTo>
                <a:lnTo>
                  <a:pt x="4" y="130"/>
                </a:lnTo>
                <a:lnTo>
                  <a:pt x="0" y="63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5" name="Freeform 61"/>
          <p:cNvSpPr/>
          <p:nvPr/>
        </p:nvSpPr>
        <p:spPr>
          <a:xfrm>
            <a:off x="2584440" y="1411200"/>
            <a:ext cx="65160" cy="95400"/>
          </a:xfrm>
          <a:custGeom>
            <a:avLst/>
            <a:gdLst>
              <a:gd name="textAreaLeft" fmla="*/ 0 w 65160"/>
              <a:gd name="textAreaRight" fmla="*/ 65520 w 651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24" h="180">
                <a:moveTo>
                  <a:pt x="52" y="90"/>
                </a:moveTo>
                <a:lnTo>
                  <a:pt x="52" y="105"/>
                </a:lnTo>
                <a:lnTo>
                  <a:pt x="48" y="113"/>
                </a:lnTo>
                <a:lnTo>
                  <a:pt x="48" y="131"/>
                </a:lnTo>
                <a:lnTo>
                  <a:pt x="32" y="152"/>
                </a:lnTo>
                <a:lnTo>
                  <a:pt x="32" y="159"/>
                </a:lnTo>
                <a:lnTo>
                  <a:pt x="0" y="180"/>
                </a:lnTo>
                <a:lnTo>
                  <a:pt x="42" y="154"/>
                </a:lnTo>
                <a:lnTo>
                  <a:pt x="85" y="100"/>
                </a:lnTo>
                <a:lnTo>
                  <a:pt x="97" y="152"/>
                </a:lnTo>
                <a:lnTo>
                  <a:pt x="124" y="95"/>
                </a:lnTo>
                <a:lnTo>
                  <a:pt x="124" y="29"/>
                </a:lnTo>
                <a:lnTo>
                  <a:pt x="92" y="0"/>
                </a:lnTo>
                <a:lnTo>
                  <a:pt x="97" y="26"/>
                </a:lnTo>
                <a:lnTo>
                  <a:pt x="85" y="59"/>
                </a:lnTo>
                <a:lnTo>
                  <a:pt x="88" y="87"/>
                </a:lnTo>
                <a:lnTo>
                  <a:pt x="52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6" name="Freeform 62"/>
          <p:cNvSpPr/>
          <p:nvPr/>
        </p:nvSpPr>
        <p:spPr>
          <a:xfrm>
            <a:off x="2487600" y="1498680"/>
            <a:ext cx="101520" cy="38160"/>
          </a:xfrm>
          <a:custGeom>
            <a:avLst/>
            <a:gdLst>
              <a:gd name="textAreaLeft" fmla="*/ 0 w 101520"/>
              <a:gd name="textAreaRight" fmla="*/ 101880 w 101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1" h="71">
                <a:moveTo>
                  <a:pt x="0" y="0"/>
                </a:moveTo>
                <a:lnTo>
                  <a:pt x="55" y="29"/>
                </a:lnTo>
                <a:lnTo>
                  <a:pt x="138" y="39"/>
                </a:lnTo>
                <a:lnTo>
                  <a:pt x="191" y="39"/>
                </a:lnTo>
                <a:lnTo>
                  <a:pt x="132" y="68"/>
                </a:lnTo>
                <a:lnTo>
                  <a:pt x="70" y="71"/>
                </a:lnTo>
                <a:lnTo>
                  <a:pt x="49" y="5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7" name="Freeform 63"/>
          <p:cNvSpPr/>
          <p:nvPr/>
        </p:nvSpPr>
        <p:spPr>
          <a:xfrm>
            <a:off x="2062080" y="138744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7" h="105">
                <a:moveTo>
                  <a:pt x="0" y="42"/>
                </a:moveTo>
                <a:lnTo>
                  <a:pt x="90" y="0"/>
                </a:lnTo>
                <a:lnTo>
                  <a:pt x="90" y="23"/>
                </a:lnTo>
                <a:lnTo>
                  <a:pt x="127" y="0"/>
                </a:lnTo>
                <a:lnTo>
                  <a:pt x="117" y="16"/>
                </a:lnTo>
                <a:lnTo>
                  <a:pt x="62" y="69"/>
                </a:lnTo>
                <a:lnTo>
                  <a:pt x="52" y="105"/>
                </a:lnTo>
                <a:lnTo>
                  <a:pt x="52" y="52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8" name="Freeform 64"/>
          <p:cNvSpPr/>
          <p:nvPr/>
        </p:nvSpPr>
        <p:spPr>
          <a:xfrm>
            <a:off x="1971720" y="1474920"/>
            <a:ext cx="46080" cy="15840"/>
          </a:xfrm>
          <a:custGeom>
            <a:avLst/>
            <a:gdLst>
              <a:gd name="textAreaLeft" fmla="*/ 0 w 46080"/>
              <a:gd name="textAreaRight" fmla="*/ 46440 w 46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9" h="28">
                <a:moveTo>
                  <a:pt x="0" y="0"/>
                </a:moveTo>
                <a:lnTo>
                  <a:pt x="59" y="13"/>
                </a:lnTo>
                <a:lnTo>
                  <a:pt x="89" y="13"/>
                </a:lnTo>
                <a:lnTo>
                  <a:pt x="62" y="28"/>
                </a:lnTo>
                <a:lnTo>
                  <a:pt x="33" y="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9" name="Freeform 65"/>
          <p:cNvSpPr/>
          <p:nvPr/>
        </p:nvSpPr>
        <p:spPr>
          <a:xfrm>
            <a:off x="2544840" y="1611360"/>
            <a:ext cx="344520" cy="511200"/>
          </a:xfrm>
          <a:custGeom>
            <a:avLst/>
            <a:gdLst>
              <a:gd name="textAreaLeft" fmla="*/ 0 w 344520"/>
              <a:gd name="textAreaRight" fmla="*/ 344880 w 344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49" h="965">
                <a:moveTo>
                  <a:pt x="459" y="0"/>
                </a:moveTo>
                <a:lnTo>
                  <a:pt x="573" y="123"/>
                </a:lnTo>
                <a:lnTo>
                  <a:pt x="568" y="199"/>
                </a:lnTo>
                <a:lnTo>
                  <a:pt x="506" y="293"/>
                </a:lnTo>
                <a:lnTo>
                  <a:pt x="417" y="383"/>
                </a:lnTo>
                <a:lnTo>
                  <a:pt x="535" y="340"/>
                </a:lnTo>
                <a:lnTo>
                  <a:pt x="483" y="421"/>
                </a:lnTo>
                <a:lnTo>
                  <a:pt x="390" y="491"/>
                </a:lnTo>
                <a:lnTo>
                  <a:pt x="506" y="496"/>
                </a:lnTo>
                <a:lnTo>
                  <a:pt x="408" y="610"/>
                </a:lnTo>
                <a:lnTo>
                  <a:pt x="298" y="641"/>
                </a:lnTo>
                <a:lnTo>
                  <a:pt x="0" y="599"/>
                </a:lnTo>
                <a:lnTo>
                  <a:pt x="377" y="731"/>
                </a:lnTo>
                <a:lnTo>
                  <a:pt x="292" y="965"/>
                </a:lnTo>
                <a:lnTo>
                  <a:pt x="419" y="749"/>
                </a:lnTo>
                <a:lnTo>
                  <a:pt x="591" y="780"/>
                </a:lnTo>
                <a:lnTo>
                  <a:pt x="620" y="392"/>
                </a:lnTo>
                <a:lnTo>
                  <a:pt x="649" y="270"/>
                </a:lnTo>
                <a:lnTo>
                  <a:pt x="630" y="123"/>
                </a:lnTo>
                <a:lnTo>
                  <a:pt x="4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0" name="Freeform 66"/>
          <p:cNvSpPr/>
          <p:nvPr/>
        </p:nvSpPr>
        <p:spPr>
          <a:xfrm>
            <a:off x="2589120" y="2389320"/>
            <a:ext cx="235080" cy="72720"/>
          </a:xfrm>
          <a:custGeom>
            <a:avLst/>
            <a:gdLst>
              <a:gd name="textAreaLeft" fmla="*/ 0 w 235080"/>
              <a:gd name="textAreaRight" fmla="*/ 235440 w 23508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443" h="138">
                <a:moveTo>
                  <a:pt x="0" y="95"/>
                </a:moveTo>
                <a:lnTo>
                  <a:pt x="160" y="138"/>
                </a:lnTo>
                <a:lnTo>
                  <a:pt x="330" y="91"/>
                </a:lnTo>
                <a:lnTo>
                  <a:pt x="443" y="0"/>
                </a:lnTo>
                <a:lnTo>
                  <a:pt x="259" y="87"/>
                </a:lnTo>
                <a:lnTo>
                  <a:pt x="141" y="95"/>
                </a:lnTo>
                <a:lnTo>
                  <a:pt x="0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1" name="Freeform 67"/>
          <p:cNvSpPr/>
          <p:nvPr/>
        </p:nvSpPr>
        <p:spPr>
          <a:xfrm>
            <a:off x="2043000" y="1474920"/>
            <a:ext cx="25560" cy="15840"/>
          </a:xfrm>
          <a:custGeom>
            <a:avLst/>
            <a:gdLst>
              <a:gd name="textAreaLeft" fmla="*/ 0 w 25560"/>
              <a:gd name="textAreaRight" fmla="*/ 25920 w 25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8" h="29">
                <a:moveTo>
                  <a:pt x="48" y="29"/>
                </a:moveTo>
                <a:lnTo>
                  <a:pt x="48" y="0"/>
                </a:lnTo>
                <a:lnTo>
                  <a:pt x="0" y="19"/>
                </a:lnTo>
                <a:lnTo>
                  <a:pt x="4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2" name="Freeform 68"/>
          <p:cNvSpPr/>
          <p:nvPr/>
        </p:nvSpPr>
        <p:spPr>
          <a:xfrm>
            <a:off x="1995480" y="1405080"/>
            <a:ext cx="90360" cy="71280"/>
          </a:xfrm>
          <a:custGeom>
            <a:avLst/>
            <a:gdLst>
              <a:gd name="textAreaLeft" fmla="*/ 0 w 90360"/>
              <a:gd name="textAreaRight" fmla="*/ 90720 w 9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71" h="135">
                <a:moveTo>
                  <a:pt x="109" y="118"/>
                </a:moveTo>
                <a:lnTo>
                  <a:pt x="171" y="86"/>
                </a:lnTo>
                <a:lnTo>
                  <a:pt x="141" y="80"/>
                </a:lnTo>
                <a:lnTo>
                  <a:pt x="143" y="79"/>
                </a:lnTo>
                <a:lnTo>
                  <a:pt x="157" y="34"/>
                </a:lnTo>
                <a:lnTo>
                  <a:pt x="121" y="52"/>
                </a:lnTo>
                <a:lnTo>
                  <a:pt x="141" y="0"/>
                </a:lnTo>
                <a:lnTo>
                  <a:pt x="95" y="52"/>
                </a:lnTo>
                <a:lnTo>
                  <a:pt x="55" y="112"/>
                </a:lnTo>
                <a:lnTo>
                  <a:pt x="0" y="122"/>
                </a:lnTo>
                <a:lnTo>
                  <a:pt x="29" y="135"/>
                </a:lnTo>
                <a:lnTo>
                  <a:pt x="85" y="114"/>
                </a:lnTo>
                <a:lnTo>
                  <a:pt x="109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3" name="Freeform 69"/>
          <p:cNvSpPr/>
          <p:nvPr/>
        </p:nvSpPr>
        <p:spPr>
          <a:xfrm>
            <a:off x="2720880" y="1143000"/>
            <a:ext cx="133560" cy="271440"/>
          </a:xfrm>
          <a:custGeom>
            <a:avLst/>
            <a:gdLst>
              <a:gd name="textAreaLeft" fmla="*/ 0 w 133560"/>
              <a:gd name="textAreaRight" fmla="*/ 133920 w 1335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51" h="515">
                <a:moveTo>
                  <a:pt x="0" y="503"/>
                </a:moveTo>
                <a:lnTo>
                  <a:pt x="0" y="515"/>
                </a:lnTo>
                <a:lnTo>
                  <a:pt x="43" y="504"/>
                </a:lnTo>
                <a:lnTo>
                  <a:pt x="75" y="464"/>
                </a:lnTo>
                <a:lnTo>
                  <a:pt x="112" y="435"/>
                </a:lnTo>
                <a:lnTo>
                  <a:pt x="135" y="379"/>
                </a:lnTo>
                <a:lnTo>
                  <a:pt x="143" y="333"/>
                </a:lnTo>
                <a:lnTo>
                  <a:pt x="169" y="298"/>
                </a:lnTo>
                <a:lnTo>
                  <a:pt x="186" y="246"/>
                </a:lnTo>
                <a:lnTo>
                  <a:pt x="251" y="8"/>
                </a:lnTo>
                <a:lnTo>
                  <a:pt x="183" y="233"/>
                </a:lnTo>
                <a:lnTo>
                  <a:pt x="144" y="265"/>
                </a:lnTo>
                <a:lnTo>
                  <a:pt x="146" y="258"/>
                </a:lnTo>
                <a:lnTo>
                  <a:pt x="177" y="200"/>
                </a:lnTo>
                <a:lnTo>
                  <a:pt x="197" y="114"/>
                </a:lnTo>
                <a:lnTo>
                  <a:pt x="146" y="200"/>
                </a:lnTo>
                <a:lnTo>
                  <a:pt x="160" y="88"/>
                </a:lnTo>
                <a:lnTo>
                  <a:pt x="115" y="193"/>
                </a:lnTo>
                <a:lnTo>
                  <a:pt x="130" y="69"/>
                </a:lnTo>
                <a:lnTo>
                  <a:pt x="79" y="142"/>
                </a:lnTo>
                <a:lnTo>
                  <a:pt x="97" y="0"/>
                </a:lnTo>
                <a:lnTo>
                  <a:pt x="7" y="160"/>
                </a:lnTo>
                <a:lnTo>
                  <a:pt x="51" y="138"/>
                </a:lnTo>
                <a:lnTo>
                  <a:pt x="19" y="216"/>
                </a:lnTo>
                <a:lnTo>
                  <a:pt x="36" y="282"/>
                </a:lnTo>
                <a:lnTo>
                  <a:pt x="2" y="467"/>
                </a:lnTo>
                <a:lnTo>
                  <a:pt x="6" y="471"/>
                </a:lnTo>
                <a:lnTo>
                  <a:pt x="36" y="384"/>
                </a:lnTo>
                <a:lnTo>
                  <a:pt x="62" y="344"/>
                </a:lnTo>
                <a:lnTo>
                  <a:pt x="62" y="383"/>
                </a:lnTo>
                <a:lnTo>
                  <a:pt x="39" y="400"/>
                </a:lnTo>
                <a:lnTo>
                  <a:pt x="42" y="436"/>
                </a:lnTo>
                <a:lnTo>
                  <a:pt x="74" y="400"/>
                </a:lnTo>
                <a:lnTo>
                  <a:pt x="101" y="350"/>
                </a:lnTo>
                <a:lnTo>
                  <a:pt x="88" y="309"/>
                </a:lnTo>
                <a:lnTo>
                  <a:pt x="100" y="291"/>
                </a:lnTo>
                <a:lnTo>
                  <a:pt x="127" y="312"/>
                </a:lnTo>
                <a:lnTo>
                  <a:pt x="102" y="420"/>
                </a:lnTo>
                <a:lnTo>
                  <a:pt x="75" y="445"/>
                </a:lnTo>
                <a:lnTo>
                  <a:pt x="35" y="490"/>
                </a:lnTo>
                <a:lnTo>
                  <a:pt x="10" y="494"/>
                </a:lnTo>
                <a:lnTo>
                  <a:pt x="0" y="5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4" name="Freeform 70"/>
          <p:cNvSpPr/>
          <p:nvPr/>
        </p:nvSpPr>
        <p:spPr>
          <a:xfrm>
            <a:off x="2062080" y="1797120"/>
            <a:ext cx="247680" cy="442800"/>
          </a:xfrm>
          <a:custGeom>
            <a:avLst/>
            <a:gdLst>
              <a:gd name="textAreaLeft" fmla="*/ 0 w 247680"/>
              <a:gd name="textAreaRight" fmla="*/ 248040 w 24768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468" h="837">
                <a:moveTo>
                  <a:pt x="26" y="0"/>
                </a:moveTo>
                <a:lnTo>
                  <a:pt x="26" y="0"/>
                </a:lnTo>
                <a:lnTo>
                  <a:pt x="37" y="119"/>
                </a:lnTo>
                <a:lnTo>
                  <a:pt x="0" y="334"/>
                </a:lnTo>
                <a:lnTo>
                  <a:pt x="47" y="161"/>
                </a:lnTo>
                <a:lnTo>
                  <a:pt x="151" y="225"/>
                </a:lnTo>
                <a:lnTo>
                  <a:pt x="286" y="494"/>
                </a:lnTo>
                <a:lnTo>
                  <a:pt x="338" y="687"/>
                </a:lnTo>
                <a:lnTo>
                  <a:pt x="468" y="837"/>
                </a:lnTo>
                <a:lnTo>
                  <a:pt x="344" y="539"/>
                </a:lnTo>
                <a:lnTo>
                  <a:pt x="278" y="441"/>
                </a:lnTo>
                <a:lnTo>
                  <a:pt x="237" y="350"/>
                </a:lnTo>
                <a:lnTo>
                  <a:pt x="193" y="217"/>
                </a:lnTo>
                <a:lnTo>
                  <a:pt x="242" y="210"/>
                </a:lnTo>
                <a:lnTo>
                  <a:pt x="53" y="92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5" name="Freeform 71"/>
          <p:cNvSpPr/>
          <p:nvPr/>
        </p:nvSpPr>
        <p:spPr>
          <a:xfrm>
            <a:off x="1630440" y="1724040"/>
            <a:ext cx="158760" cy="249120"/>
          </a:xfrm>
          <a:custGeom>
            <a:avLst/>
            <a:gdLst>
              <a:gd name="textAreaLeft" fmla="*/ 0 w 158760"/>
              <a:gd name="textAreaRight" fmla="*/ 159120 w 1587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02" h="472">
                <a:moveTo>
                  <a:pt x="250" y="426"/>
                </a:moveTo>
                <a:lnTo>
                  <a:pt x="216" y="251"/>
                </a:lnTo>
                <a:lnTo>
                  <a:pt x="3" y="69"/>
                </a:lnTo>
                <a:lnTo>
                  <a:pt x="0" y="0"/>
                </a:lnTo>
                <a:lnTo>
                  <a:pt x="239" y="233"/>
                </a:lnTo>
                <a:lnTo>
                  <a:pt x="302" y="472"/>
                </a:lnTo>
                <a:lnTo>
                  <a:pt x="250" y="4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6" name="Freeform 72"/>
          <p:cNvSpPr/>
          <p:nvPr/>
        </p:nvSpPr>
        <p:spPr>
          <a:xfrm>
            <a:off x="1590840" y="1581120"/>
            <a:ext cx="158760" cy="542880"/>
          </a:xfrm>
          <a:custGeom>
            <a:avLst/>
            <a:gdLst>
              <a:gd name="textAreaLeft" fmla="*/ 0 w 158760"/>
              <a:gd name="textAreaRight" fmla="*/ 159120 w 1587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00" h="1027">
                <a:moveTo>
                  <a:pt x="6" y="112"/>
                </a:moveTo>
                <a:lnTo>
                  <a:pt x="36" y="251"/>
                </a:lnTo>
                <a:lnTo>
                  <a:pt x="114" y="646"/>
                </a:lnTo>
                <a:lnTo>
                  <a:pt x="201" y="876"/>
                </a:lnTo>
                <a:lnTo>
                  <a:pt x="300" y="1027"/>
                </a:lnTo>
                <a:lnTo>
                  <a:pt x="177" y="791"/>
                </a:lnTo>
                <a:lnTo>
                  <a:pt x="116" y="540"/>
                </a:lnTo>
                <a:lnTo>
                  <a:pt x="267" y="540"/>
                </a:lnTo>
                <a:lnTo>
                  <a:pt x="267" y="509"/>
                </a:lnTo>
                <a:lnTo>
                  <a:pt x="91" y="415"/>
                </a:lnTo>
                <a:lnTo>
                  <a:pt x="80" y="156"/>
                </a:lnTo>
                <a:lnTo>
                  <a:pt x="0" y="0"/>
                </a:lnTo>
                <a:lnTo>
                  <a:pt x="6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7" name="Freeform 73"/>
          <p:cNvSpPr/>
          <p:nvPr/>
        </p:nvSpPr>
        <p:spPr>
          <a:xfrm>
            <a:off x="2079720" y="1549440"/>
            <a:ext cx="82440" cy="135000"/>
          </a:xfrm>
          <a:custGeom>
            <a:avLst/>
            <a:gdLst>
              <a:gd name="textAreaLeft" fmla="*/ 0 w 82440"/>
              <a:gd name="textAreaRight" fmla="*/ 82800 w 82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6" h="256">
                <a:moveTo>
                  <a:pt x="133" y="19"/>
                </a:moveTo>
                <a:lnTo>
                  <a:pt x="156" y="0"/>
                </a:lnTo>
                <a:lnTo>
                  <a:pt x="120" y="0"/>
                </a:lnTo>
                <a:lnTo>
                  <a:pt x="105" y="12"/>
                </a:lnTo>
                <a:lnTo>
                  <a:pt x="97" y="12"/>
                </a:lnTo>
                <a:lnTo>
                  <a:pt x="64" y="0"/>
                </a:lnTo>
                <a:lnTo>
                  <a:pt x="116" y="35"/>
                </a:lnTo>
                <a:lnTo>
                  <a:pt x="134" y="76"/>
                </a:lnTo>
                <a:lnTo>
                  <a:pt x="113" y="91"/>
                </a:lnTo>
                <a:lnTo>
                  <a:pt x="0" y="159"/>
                </a:lnTo>
                <a:lnTo>
                  <a:pt x="80" y="131"/>
                </a:lnTo>
                <a:lnTo>
                  <a:pt x="107" y="118"/>
                </a:lnTo>
                <a:lnTo>
                  <a:pt x="100" y="161"/>
                </a:lnTo>
                <a:lnTo>
                  <a:pt x="127" y="170"/>
                </a:lnTo>
                <a:lnTo>
                  <a:pt x="124" y="210"/>
                </a:lnTo>
                <a:lnTo>
                  <a:pt x="55" y="254"/>
                </a:lnTo>
                <a:lnTo>
                  <a:pt x="124" y="256"/>
                </a:lnTo>
                <a:lnTo>
                  <a:pt x="124" y="226"/>
                </a:lnTo>
                <a:lnTo>
                  <a:pt x="149" y="205"/>
                </a:lnTo>
                <a:lnTo>
                  <a:pt x="149" y="156"/>
                </a:lnTo>
                <a:lnTo>
                  <a:pt x="131" y="150"/>
                </a:lnTo>
                <a:lnTo>
                  <a:pt x="137" y="110"/>
                </a:lnTo>
                <a:lnTo>
                  <a:pt x="152" y="82"/>
                </a:lnTo>
                <a:lnTo>
                  <a:pt x="130" y="36"/>
                </a:lnTo>
                <a:lnTo>
                  <a:pt x="13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8" name="Rectangle 74"/>
          <p:cNvSpPr/>
          <p:nvPr/>
        </p:nvSpPr>
        <p:spPr>
          <a:xfrm>
            <a:off x="5943600" y="228600"/>
            <a:ext cx="220968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39" name="Picture 75" descr="PE03667_"/>
          <p:cNvPicPr/>
          <p:nvPr/>
        </p:nvPicPr>
        <p:blipFill>
          <a:blip r:embed="rId1"/>
          <a:stretch/>
        </p:blipFill>
        <p:spPr>
          <a:xfrm>
            <a:off x="6022800" y="1295280"/>
            <a:ext cx="911520" cy="1295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6" descr="PE02602_"/>
          <p:cNvPicPr/>
          <p:nvPr/>
        </p:nvPicPr>
        <p:blipFill>
          <a:blip r:embed="rId2"/>
          <a:stretch/>
        </p:blipFill>
        <p:spPr>
          <a:xfrm>
            <a:off x="6751800" y="990720"/>
            <a:ext cx="1172880" cy="13716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77"/>
          <p:cNvSpPr/>
          <p:nvPr/>
        </p:nvSpPr>
        <p:spPr>
          <a:xfrm>
            <a:off x="7238880" y="41911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2" name="Rectangle 78"/>
          <p:cNvSpPr/>
          <p:nvPr/>
        </p:nvSpPr>
        <p:spPr>
          <a:xfrm>
            <a:off x="4038480" y="36576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43" name="Picture 79" descr="PE07499_"/>
          <p:cNvPicPr/>
          <p:nvPr/>
        </p:nvPicPr>
        <p:blipFill>
          <a:blip r:embed="rId3"/>
          <a:stretch/>
        </p:blipFill>
        <p:spPr>
          <a:xfrm>
            <a:off x="3581280" y="3444840"/>
            <a:ext cx="2133720" cy="19191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80"/>
          <p:cNvSpPr/>
          <p:nvPr/>
        </p:nvSpPr>
        <p:spPr>
          <a:xfrm>
            <a:off x="762120" y="3809880"/>
            <a:ext cx="2361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45" name="Picture 81" descr="PE02992_"/>
          <p:cNvPicPr/>
          <p:nvPr/>
        </p:nvPicPr>
        <p:blipFill>
          <a:blip r:embed="rId4"/>
          <a:stretch/>
        </p:blipFill>
        <p:spPr>
          <a:xfrm>
            <a:off x="1376280" y="3809880"/>
            <a:ext cx="1443240" cy="1600200"/>
          </a:xfrm>
          <a:prstGeom prst="rect">
            <a:avLst/>
          </a:prstGeom>
          <a:ln w="0">
            <a:noFill/>
          </a:ln>
        </p:spPr>
      </p:pic>
      <p:sp>
        <p:nvSpPr>
          <p:cNvPr id="646" name="Freeform 82"/>
          <p:cNvSpPr/>
          <p:nvPr/>
        </p:nvSpPr>
        <p:spPr>
          <a:xfrm>
            <a:off x="7102440" y="5305320"/>
            <a:ext cx="504720" cy="104760"/>
          </a:xfrm>
          <a:custGeom>
            <a:avLst/>
            <a:gdLst>
              <a:gd name="textAreaLeft" fmla="*/ 0 w 504720"/>
              <a:gd name="textAreaRight" fmla="*/ 505080 w 504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954" h="131">
                <a:moveTo>
                  <a:pt x="0" y="131"/>
                </a:moveTo>
                <a:lnTo>
                  <a:pt x="954" y="131"/>
                </a:lnTo>
                <a:lnTo>
                  <a:pt x="512" y="0"/>
                </a:lnTo>
                <a:lnTo>
                  <a:pt x="268" y="9"/>
                </a:lnTo>
                <a:lnTo>
                  <a:pt x="0" y="131"/>
                </a:lnTo>
                <a:close/>
              </a:path>
            </a:pathLst>
          </a:custGeom>
          <a:solidFill>
            <a:srgbClr val="bf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7" name="Freeform 83"/>
          <p:cNvSpPr/>
          <p:nvPr/>
        </p:nvSpPr>
        <p:spPr>
          <a:xfrm>
            <a:off x="6324480" y="5129280"/>
            <a:ext cx="746280" cy="280800"/>
          </a:xfrm>
          <a:custGeom>
            <a:avLst/>
            <a:gdLst>
              <a:gd name="textAreaLeft" fmla="*/ 0 w 746280"/>
              <a:gd name="textAreaRight" fmla="*/ 746640 w 746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409" h="353">
                <a:moveTo>
                  <a:pt x="0" y="0"/>
                </a:moveTo>
                <a:lnTo>
                  <a:pt x="0" y="353"/>
                </a:lnTo>
                <a:lnTo>
                  <a:pt x="1409" y="353"/>
                </a:lnTo>
                <a:lnTo>
                  <a:pt x="1409" y="7"/>
                </a:lnTo>
                <a:lnTo>
                  <a:pt x="0" y="0"/>
                </a:lnTo>
                <a:close/>
              </a:path>
            </a:pathLst>
          </a:custGeom>
          <a:solidFill>
            <a:srgbClr val="7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8" name="Freeform 84"/>
          <p:cNvSpPr/>
          <p:nvPr/>
        </p:nvSpPr>
        <p:spPr>
          <a:xfrm>
            <a:off x="6324480" y="3887640"/>
            <a:ext cx="1401840" cy="1522440"/>
          </a:xfrm>
          <a:custGeom>
            <a:avLst/>
            <a:gdLst>
              <a:gd name="textAreaLeft" fmla="*/ 0 w 1401840"/>
              <a:gd name="textAreaRight" fmla="*/ 1402200 w 140184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2649" h="1918">
                <a:moveTo>
                  <a:pt x="1774" y="897"/>
                </a:moveTo>
                <a:lnTo>
                  <a:pt x="1778" y="913"/>
                </a:lnTo>
                <a:lnTo>
                  <a:pt x="1779" y="930"/>
                </a:lnTo>
                <a:lnTo>
                  <a:pt x="1775" y="947"/>
                </a:lnTo>
                <a:lnTo>
                  <a:pt x="1766" y="961"/>
                </a:lnTo>
                <a:lnTo>
                  <a:pt x="1767" y="963"/>
                </a:lnTo>
                <a:lnTo>
                  <a:pt x="1771" y="964"/>
                </a:lnTo>
                <a:lnTo>
                  <a:pt x="1778" y="966"/>
                </a:lnTo>
                <a:lnTo>
                  <a:pt x="1786" y="967"/>
                </a:lnTo>
                <a:lnTo>
                  <a:pt x="1796" y="967"/>
                </a:lnTo>
                <a:lnTo>
                  <a:pt x="1804" y="967"/>
                </a:lnTo>
                <a:lnTo>
                  <a:pt x="1813" y="966"/>
                </a:lnTo>
                <a:lnTo>
                  <a:pt x="1820" y="964"/>
                </a:lnTo>
                <a:lnTo>
                  <a:pt x="1824" y="974"/>
                </a:lnTo>
                <a:lnTo>
                  <a:pt x="1824" y="985"/>
                </a:lnTo>
                <a:lnTo>
                  <a:pt x="1821" y="995"/>
                </a:lnTo>
                <a:lnTo>
                  <a:pt x="1816" y="1005"/>
                </a:lnTo>
                <a:lnTo>
                  <a:pt x="1810" y="1016"/>
                </a:lnTo>
                <a:lnTo>
                  <a:pt x="1802" y="1026"/>
                </a:lnTo>
                <a:lnTo>
                  <a:pt x="1796" y="1036"/>
                </a:lnTo>
                <a:lnTo>
                  <a:pt x="1791" y="1046"/>
                </a:lnTo>
                <a:lnTo>
                  <a:pt x="1777" y="1070"/>
                </a:lnTo>
                <a:lnTo>
                  <a:pt x="1763" y="1095"/>
                </a:lnTo>
                <a:lnTo>
                  <a:pt x="1752" y="1121"/>
                </a:lnTo>
                <a:lnTo>
                  <a:pt x="1741" y="1147"/>
                </a:lnTo>
                <a:lnTo>
                  <a:pt x="1732" y="1173"/>
                </a:lnTo>
                <a:lnTo>
                  <a:pt x="1727" y="1201"/>
                </a:lnTo>
                <a:lnTo>
                  <a:pt x="1725" y="1229"/>
                </a:lnTo>
                <a:lnTo>
                  <a:pt x="1728" y="1259"/>
                </a:lnTo>
                <a:lnTo>
                  <a:pt x="1759" y="1391"/>
                </a:lnTo>
                <a:lnTo>
                  <a:pt x="1763" y="1416"/>
                </a:lnTo>
                <a:lnTo>
                  <a:pt x="1707" y="1375"/>
                </a:lnTo>
                <a:lnTo>
                  <a:pt x="1702" y="1366"/>
                </a:lnTo>
                <a:lnTo>
                  <a:pt x="1696" y="1357"/>
                </a:lnTo>
                <a:lnTo>
                  <a:pt x="1692" y="1348"/>
                </a:lnTo>
                <a:lnTo>
                  <a:pt x="1686" y="1339"/>
                </a:lnTo>
                <a:lnTo>
                  <a:pt x="1679" y="1331"/>
                </a:lnTo>
                <a:lnTo>
                  <a:pt x="1671" y="1322"/>
                </a:lnTo>
                <a:lnTo>
                  <a:pt x="1663" y="1315"/>
                </a:lnTo>
                <a:lnTo>
                  <a:pt x="1652" y="1308"/>
                </a:lnTo>
                <a:lnTo>
                  <a:pt x="1648" y="1307"/>
                </a:lnTo>
                <a:lnTo>
                  <a:pt x="1643" y="1308"/>
                </a:lnTo>
                <a:lnTo>
                  <a:pt x="1639" y="1309"/>
                </a:lnTo>
                <a:lnTo>
                  <a:pt x="1635" y="1310"/>
                </a:lnTo>
                <a:lnTo>
                  <a:pt x="1624" y="1285"/>
                </a:lnTo>
                <a:lnTo>
                  <a:pt x="1617" y="1259"/>
                </a:lnTo>
                <a:lnTo>
                  <a:pt x="1611" y="1233"/>
                </a:lnTo>
                <a:lnTo>
                  <a:pt x="1602" y="1208"/>
                </a:lnTo>
                <a:lnTo>
                  <a:pt x="1592" y="1188"/>
                </a:lnTo>
                <a:lnTo>
                  <a:pt x="1586" y="1166"/>
                </a:lnTo>
                <a:lnTo>
                  <a:pt x="1584" y="1144"/>
                </a:lnTo>
                <a:lnTo>
                  <a:pt x="1584" y="1121"/>
                </a:lnTo>
                <a:lnTo>
                  <a:pt x="1582" y="1097"/>
                </a:lnTo>
                <a:lnTo>
                  <a:pt x="1579" y="1074"/>
                </a:lnTo>
                <a:lnTo>
                  <a:pt x="1573" y="1053"/>
                </a:lnTo>
                <a:lnTo>
                  <a:pt x="1560" y="1033"/>
                </a:lnTo>
                <a:lnTo>
                  <a:pt x="1554" y="1021"/>
                </a:lnTo>
                <a:lnTo>
                  <a:pt x="1549" y="1010"/>
                </a:lnTo>
                <a:lnTo>
                  <a:pt x="1542" y="998"/>
                </a:lnTo>
                <a:lnTo>
                  <a:pt x="1535" y="987"/>
                </a:lnTo>
                <a:lnTo>
                  <a:pt x="1527" y="976"/>
                </a:lnTo>
                <a:lnTo>
                  <a:pt x="1518" y="965"/>
                </a:lnTo>
                <a:lnTo>
                  <a:pt x="1510" y="954"/>
                </a:lnTo>
                <a:lnTo>
                  <a:pt x="1502" y="943"/>
                </a:lnTo>
                <a:lnTo>
                  <a:pt x="1492" y="918"/>
                </a:lnTo>
                <a:lnTo>
                  <a:pt x="1485" y="892"/>
                </a:lnTo>
                <a:lnTo>
                  <a:pt x="1477" y="866"/>
                </a:lnTo>
                <a:lnTo>
                  <a:pt x="1463" y="842"/>
                </a:lnTo>
                <a:lnTo>
                  <a:pt x="1457" y="839"/>
                </a:lnTo>
                <a:lnTo>
                  <a:pt x="1450" y="838"/>
                </a:lnTo>
                <a:lnTo>
                  <a:pt x="1445" y="839"/>
                </a:lnTo>
                <a:lnTo>
                  <a:pt x="1438" y="840"/>
                </a:lnTo>
                <a:lnTo>
                  <a:pt x="1432" y="843"/>
                </a:lnTo>
                <a:lnTo>
                  <a:pt x="1425" y="845"/>
                </a:lnTo>
                <a:lnTo>
                  <a:pt x="1420" y="848"/>
                </a:lnTo>
                <a:lnTo>
                  <a:pt x="1414" y="850"/>
                </a:lnTo>
                <a:lnTo>
                  <a:pt x="1396" y="867"/>
                </a:lnTo>
                <a:lnTo>
                  <a:pt x="1396" y="849"/>
                </a:lnTo>
                <a:lnTo>
                  <a:pt x="1395" y="827"/>
                </a:lnTo>
                <a:lnTo>
                  <a:pt x="1395" y="804"/>
                </a:lnTo>
                <a:lnTo>
                  <a:pt x="1393" y="781"/>
                </a:lnTo>
                <a:lnTo>
                  <a:pt x="1409" y="772"/>
                </a:lnTo>
                <a:lnTo>
                  <a:pt x="1418" y="760"/>
                </a:lnTo>
                <a:lnTo>
                  <a:pt x="1424" y="746"/>
                </a:lnTo>
                <a:lnTo>
                  <a:pt x="1429" y="733"/>
                </a:lnTo>
                <a:lnTo>
                  <a:pt x="1432" y="750"/>
                </a:lnTo>
                <a:lnTo>
                  <a:pt x="1436" y="766"/>
                </a:lnTo>
                <a:lnTo>
                  <a:pt x="1443" y="783"/>
                </a:lnTo>
                <a:lnTo>
                  <a:pt x="1452" y="799"/>
                </a:lnTo>
                <a:lnTo>
                  <a:pt x="1461" y="814"/>
                </a:lnTo>
                <a:lnTo>
                  <a:pt x="1475" y="828"/>
                </a:lnTo>
                <a:lnTo>
                  <a:pt x="1492" y="841"/>
                </a:lnTo>
                <a:lnTo>
                  <a:pt x="1513" y="852"/>
                </a:lnTo>
                <a:lnTo>
                  <a:pt x="1531" y="859"/>
                </a:lnTo>
                <a:lnTo>
                  <a:pt x="1549" y="865"/>
                </a:lnTo>
                <a:lnTo>
                  <a:pt x="1568" y="871"/>
                </a:lnTo>
                <a:lnTo>
                  <a:pt x="1586" y="877"/>
                </a:lnTo>
                <a:lnTo>
                  <a:pt x="1604" y="883"/>
                </a:lnTo>
                <a:lnTo>
                  <a:pt x="1623" y="890"/>
                </a:lnTo>
                <a:lnTo>
                  <a:pt x="1641" y="897"/>
                </a:lnTo>
                <a:lnTo>
                  <a:pt x="1657" y="906"/>
                </a:lnTo>
                <a:lnTo>
                  <a:pt x="1673" y="908"/>
                </a:lnTo>
                <a:lnTo>
                  <a:pt x="1688" y="910"/>
                </a:lnTo>
                <a:lnTo>
                  <a:pt x="1703" y="911"/>
                </a:lnTo>
                <a:lnTo>
                  <a:pt x="1718" y="911"/>
                </a:lnTo>
                <a:lnTo>
                  <a:pt x="1734" y="910"/>
                </a:lnTo>
                <a:lnTo>
                  <a:pt x="1748" y="907"/>
                </a:lnTo>
                <a:lnTo>
                  <a:pt x="1761" y="903"/>
                </a:lnTo>
                <a:lnTo>
                  <a:pt x="1774" y="897"/>
                </a:lnTo>
                <a:lnTo>
                  <a:pt x="2260" y="546"/>
                </a:lnTo>
                <a:lnTo>
                  <a:pt x="2241" y="526"/>
                </a:lnTo>
                <a:lnTo>
                  <a:pt x="2220" y="505"/>
                </a:lnTo>
                <a:lnTo>
                  <a:pt x="2198" y="481"/>
                </a:lnTo>
                <a:lnTo>
                  <a:pt x="2175" y="456"/>
                </a:lnTo>
                <a:lnTo>
                  <a:pt x="2152" y="432"/>
                </a:lnTo>
                <a:lnTo>
                  <a:pt x="2128" y="407"/>
                </a:lnTo>
                <a:lnTo>
                  <a:pt x="2106" y="382"/>
                </a:lnTo>
                <a:lnTo>
                  <a:pt x="2082" y="357"/>
                </a:lnTo>
                <a:lnTo>
                  <a:pt x="2061" y="334"/>
                </a:lnTo>
                <a:lnTo>
                  <a:pt x="2041" y="312"/>
                </a:lnTo>
                <a:lnTo>
                  <a:pt x="2021" y="292"/>
                </a:lnTo>
                <a:lnTo>
                  <a:pt x="2003" y="274"/>
                </a:lnTo>
                <a:lnTo>
                  <a:pt x="1988" y="259"/>
                </a:lnTo>
                <a:lnTo>
                  <a:pt x="1975" y="246"/>
                </a:lnTo>
                <a:lnTo>
                  <a:pt x="1966" y="237"/>
                </a:lnTo>
                <a:lnTo>
                  <a:pt x="1959" y="232"/>
                </a:lnTo>
                <a:lnTo>
                  <a:pt x="1941" y="221"/>
                </a:lnTo>
                <a:lnTo>
                  <a:pt x="1921" y="212"/>
                </a:lnTo>
                <a:lnTo>
                  <a:pt x="1900" y="204"/>
                </a:lnTo>
                <a:lnTo>
                  <a:pt x="1879" y="196"/>
                </a:lnTo>
                <a:lnTo>
                  <a:pt x="1859" y="190"/>
                </a:lnTo>
                <a:lnTo>
                  <a:pt x="1836" y="185"/>
                </a:lnTo>
                <a:lnTo>
                  <a:pt x="1814" y="180"/>
                </a:lnTo>
                <a:lnTo>
                  <a:pt x="1791" y="177"/>
                </a:lnTo>
                <a:lnTo>
                  <a:pt x="1768" y="177"/>
                </a:lnTo>
                <a:lnTo>
                  <a:pt x="1748" y="178"/>
                </a:lnTo>
                <a:lnTo>
                  <a:pt x="1725" y="178"/>
                </a:lnTo>
                <a:lnTo>
                  <a:pt x="1704" y="179"/>
                </a:lnTo>
                <a:lnTo>
                  <a:pt x="1682" y="181"/>
                </a:lnTo>
                <a:lnTo>
                  <a:pt x="1661" y="182"/>
                </a:lnTo>
                <a:lnTo>
                  <a:pt x="1641" y="184"/>
                </a:lnTo>
                <a:lnTo>
                  <a:pt x="1620" y="187"/>
                </a:lnTo>
                <a:lnTo>
                  <a:pt x="1598" y="189"/>
                </a:lnTo>
                <a:lnTo>
                  <a:pt x="1575" y="192"/>
                </a:lnTo>
                <a:lnTo>
                  <a:pt x="1553" y="197"/>
                </a:lnTo>
                <a:lnTo>
                  <a:pt x="1531" y="204"/>
                </a:lnTo>
                <a:lnTo>
                  <a:pt x="1510" y="211"/>
                </a:lnTo>
                <a:lnTo>
                  <a:pt x="1489" y="220"/>
                </a:lnTo>
                <a:lnTo>
                  <a:pt x="1468" y="229"/>
                </a:lnTo>
                <a:lnTo>
                  <a:pt x="1449" y="240"/>
                </a:lnTo>
                <a:lnTo>
                  <a:pt x="1431" y="251"/>
                </a:lnTo>
                <a:lnTo>
                  <a:pt x="1414" y="264"/>
                </a:lnTo>
                <a:lnTo>
                  <a:pt x="1398" y="277"/>
                </a:lnTo>
                <a:lnTo>
                  <a:pt x="1382" y="290"/>
                </a:lnTo>
                <a:lnTo>
                  <a:pt x="1368" y="304"/>
                </a:lnTo>
                <a:lnTo>
                  <a:pt x="1356" y="318"/>
                </a:lnTo>
                <a:lnTo>
                  <a:pt x="1346" y="332"/>
                </a:lnTo>
                <a:lnTo>
                  <a:pt x="1336" y="347"/>
                </a:lnTo>
                <a:lnTo>
                  <a:pt x="1336" y="353"/>
                </a:lnTo>
                <a:lnTo>
                  <a:pt x="1329" y="356"/>
                </a:lnTo>
                <a:lnTo>
                  <a:pt x="1320" y="357"/>
                </a:lnTo>
                <a:lnTo>
                  <a:pt x="1313" y="359"/>
                </a:lnTo>
                <a:lnTo>
                  <a:pt x="1278" y="377"/>
                </a:lnTo>
                <a:lnTo>
                  <a:pt x="1256" y="398"/>
                </a:lnTo>
                <a:lnTo>
                  <a:pt x="1243" y="424"/>
                </a:lnTo>
                <a:lnTo>
                  <a:pt x="1238" y="451"/>
                </a:lnTo>
                <a:lnTo>
                  <a:pt x="1238" y="481"/>
                </a:lnTo>
                <a:lnTo>
                  <a:pt x="1239" y="510"/>
                </a:lnTo>
                <a:lnTo>
                  <a:pt x="1242" y="539"/>
                </a:lnTo>
                <a:lnTo>
                  <a:pt x="1242" y="566"/>
                </a:lnTo>
                <a:lnTo>
                  <a:pt x="1225" y="561"/>
                </a:lnTo>
                <a:lnTo>
                  <a:pt x="1209" y="555"/>
                </a:lnTo>
                <a:lnTo>
                  <a:pt x="1192" y="550"/>
                </a:lnTo>
                <a:lnTo>
                  <a:pt x="1175" y="544"/>
                </a:lnTo>
                <a:lnTo>
                  <a:pt x="1157" y="539"/>
                </a:lnTo>
                <a:lnTo>
                  <a:pt x="1141" y="534"/>
                </a:lnTo>
                <a:lnTo>
                  <a:pt x="1123" y="530"/>
                </a:lnTo>
                <a:lnTo>
                  <a:pt x="1105" y="527"/>
                </a:lnTo>
                <a:lnTo>
                  <a:pt x="1152" y="469"/>
                </a:lnTo>
                <a:lnTo>
                  <a:pt x="1161" y="466"/>
                </a:lnTo>
                <a:lnTo>
                  <a:pt x="1171" y="463"/>
                </a:lnTo>
                <a:lnTo>
                  <a:pt x="1181" y="458"/>
                </a:lnTo>
                <a:lnTo>
                  <a:pt x="1189" y="453"/>
                </a:lnTo>
                <a:lnTo>
                  <a:pt x="1198" y="447"/>
                </a:lnTo>
                <a:lnTo>
                  <a:pt x="1206" y="441"/>
                </a:lnTo>
                <a:lnTo>
                  <a:pt x="1213" y="435"/>
                </a:lnTo>
                <a:lnTo>
                  <a:pt x="1220" y="429"/>
                </a:lnTo>
                <a:lnTo>
                  <a:pt x="1227" y="417"/>
                </a:lnTo>
                <a:lnTo>
                  <a:pt x="1230" y="403"/>
                </a:lnTo>
                <a:lnTo>
                  <a:pt x="1230" y="389"/>
                </a:lnTo>
                <a:lnTo>
                  <a:pt x="1227" y="376"/>
                </a:lnTo>
                <a:lnTo>
                  <a:pt x="1243" y="345"/>
                </a:lnTo>
                <a:lnTo>
                  <a:pt x="1256" y="312"/>
                </a:lnTo>
                <a:lnTo>
                  <a:pt x="1263" y="277"/>
                </a:lnTo>
                <a:lnTo>
                  <a:pt x="1267" y="241"/>
                </a:lnTo>
                <a:lnTo>
                  <a:pt x="1264" y="206"/>
                </a:lnTo>
                <a:lnTo>
                  <a:pt x="1256" y="171"/>
                </a:lnTo>
                <a:lnTo>
                  <a:pt x="1242" y="138"/>
                </a:lnTo>
                <a:lnTo>
                  <a:pt x="1223" y="108"/>
                </a:lnTo>
                <a:lnTo>
                  <a:pt x="1206" y="98"/>
                </a:lnTo>
                <a:lnTo>
                  <a:pt x="1189" y="89"/>
                </a:lnTo>
                <a:lnTo>
                  <a:pt x="1173" y="79"/>
                </a:lnTo>
                <a:lnTo>
                  <a:pt x="1155" y="70"/>
                </a:lnTo>
                <a:lnTo>
                  <a:pt x="1136" y="62"/>
                </a:lnTo>
                <a:lnTo>
                  <a:pt x="1117" y="55"/>
                </a:lnTo>
                <a:lnTo>
                  <a:pt x="1098" y="50"/>
                </a:lnTo>
                <a:lnTo>
                  <a:pt x="1077" y="45"/>
                </a:lnTo>
                <a:lnTo>
                  <a:pt x="1064" y="39"/>
                </a:lnTo>
                <a:lnTo>
                  <a:pt x="1053" y="32"/>
                </a:lnTo>
                <a:lnTo>
                  <a:pt x="1041" y="26"/>
                </a:lnTo>
                <a:lnTo>
                  <a:pt x="1028" y="20"/>
                </a:lnTo>
                <a:lnTo>
                  <a:pt x="1014" y="15"/>
                </a:lnTo>
                <a:lnTo>
                  <a:pt x="1002" y="10"/>
                </a:lnTo>
                <a:lnTo>
                  <a:pt x="988" y="6"/>
                </a:lnTo>
                <a:lnTo>
                  <a:pt x="973" y="4"/>
                </a:lnTo>
                <a:lnTo>
                  <a:pt x="950" y="2"/>
                </a:lnTo>
                <a:lnTo>
                  <a:pt x="928" y="1"/>
                </a:lnTo>
                <a:lnTo>
                  <a:pt x="907" y="0"/>
                </a:lnTo>
                <a:lnTo>
                  <a:pt x="886" y="0"/>
                </a:lnTo>
                <a:lnTo>
                  <a:pt x="866" y="0"/>
                </a:lnTo>
                <a:lnTo>
                  <a:pt x="846" y="0"/>
                </a:lnTo>
                <a:lnTo>
                  <a:pt x="825" y="1"/>
                </a:lnTo>
                <a:lnTo>
                  <a:pt x="806" y="3"/>
                </a:lnTo>
                <a:lnTo>
                  <a:pt x="791" y="5"/>
                </a:lnTo>
                <a:lnTo>
                  <a:pt x="775" y="7"/>
                </a:lnTo>
                <a:lnTo>
                  <a:pt x="760" y="9"/>
                </a:lnTo>
                <a:lnTo>
                  <a:pt x="745" y="12"/>
                </a:lnTo>
                <a:lnTo>
                  <a:pt x="731" y="15"/>
                </a:lnTo>
                <a:lnTo>
                  <a:pt x="716" y="18"/>
                </a:lnTo>
                <a:lnTo>
                  <a:pt x="702" y="22"/>
                </a:lnTo>
                <a:lnTo>
                  <a:pt x="686" y="27"/>
                </a:lnTo>
                <a:lnTo>
                  <a:pt x="673" y="31"/>
                </a:lnTo>
                <a:lnTo>
                  <a:pt x="657" y="37"/>
                </a:lnTo>
                <a:lnTo>
                  <a:pt x="643" y="42"/>
                </a:lnTo>
                <a:lnTo>
                  <a:pt x="630" y="48"/>
                </a:lnTo>
                <a:lnTo>
                  <a:pt x="616" y="55"/>
                </a:lnTo>
                <a:lnTo>
                  <a:pt x="600" y="62"/>
                </a:lnTo>
                <a:lnTo>
                  <a:pt x="586" y="70"/>
                </a:lnTo>
                <a:lnTo>
                  <a:pt x="573" y="78"/>
                </a:lnTo>
                <a:lnTo>
                  <a:pt x="535" y="104"/>
                </a:lnTo>
                <a:lnTo>
                  <a:pt x="505" y="133"/>
                </a:lnTo>
                <a:lnTo>
                  <a:pt x="481" y="166"/>
                </a:lnTo>
                <a:lnTo>
                  <a:pt x="464" y="199"/>
                </a:lnTo>
                <a:lnTo>
                  <a:pt x="453" y="234"/>
                </a:lnTo>
                <a:lnTo>
                  <a:pt x="448" y="270"/>
                </a:lnTo>
                <a:lnTo>
                  <a:pt x="448" y="307"/>
                </a:lnTo>
                <a:lnTo>
                  <a:pt x="452" y="344"/>
                </a:lnTo>
                <a:lnTo>
                  <a:pt x="438" y="366"/>
                </a:lnTo>
                <a:lnTo>
                  <a:pt x="432" y="391"/>
                </a:lnTo>
                <a:lnTo>
                  <a:pt x="435" y="416"/>
                </a:lnTo>
                <a:lnTo>
                  <a:pt x="449" y="439"/>
                </a:lnTo>
                <a:lnTo>
                  <a:pt x="455" y="447"/>
                </a:lnTo>
                <a:lnTo>
                  <a:pt x="461" y="454"/>
                </a:lnTo>
                <a:lnTo>
                  <a:pt x="470" y="460"/>
                </a:lnTo>
                <a:lnTo>
                  <a:pt x="480" y="465"/>
                </a:lnTo>
                <a:lnTo>
                  <a:pt x="488" y="469"/>
                </a:lnTo>
                <a:lnTo>
                  <a:pt x="498" y="473"/>
                </a:lnTo>
                <a:lnTo>
                  <a:pt x="506" y="477"/>
                </a:lnTo>
                <a:lnTo>
                  <a:pt x="513" y="483"/>
                </a:lnTo>
                <a:lnTo>
                  <a:pt x="461" y="506"/>
                </a:lnTo>
                <a:lnTo>
                  <a:pt x="443" y="516"/>
                </a:lnTo>
                <a:lnTo>
                  <a:pt x="424" y="527"/>
                </a:lnTo>
                <a:lnTo>
                  <a:pt x="403" y="537"/>
                </a:lnTo>
                <a:lnTo>
                  <a:pt x="382" y="547"/>
                </a:lnTo>
                <a:lnTo>
                  <a:pt x="361" y="558"/>
                </a:lnTo>
                <a:lnTo>
                  <a:pt x="339" y="569"/>
                </a:lnTo>
                <a:lnTo>
                  <a:pt x="318" y="581"/>
                </a:lnTo>
                <a:lnTo>
                  <a:pt x="299" y="593"/>
                </a:lnTo>
                <a:lnTo>
                  <a:pt x="280" y="605"/>
                </a:lnTo>
                <a:lnTo>
                  <a:pt x="261" y="618"/>
                </a:lnTo>
                <a:lnTo>
                  <a:pt x="245" y="632"/>
                </a:lnTo>
                <a:lnTo>
                  <a:pt x="231" y="647"/>
                </a:lnTo>
                <a:lnTo>
                  <a:pt x="220" y="662"/>
                </a:lnTo>
                <a:lnTo>
                  <a:pt x="210" y="678"/>
                </a:lnTo>
                <a:lnTo>
                  <a:pt x="205" y="696"/>
                </a:lnTo>
                <a:lnTo>
                  <a:pt x="202" y="714"/>
                </a:lnTo>
                <a:lnTo>
                  <a:pt x="150" y="868"/>
                </a:lnTo>
                <a:lnTo>
                  <a:pt x="141" y="888"/>
                </a:lnTo>
                <a:lnTo>
                  <a:pt x="131" y="908"/>
                </a:lnTo>
                <a:lnTo>
                  <a:pt x="118" y="927"/>
                </a:lnTo>
                <a:lnTo>
                  <a:pt x="107" y="946"/>
                </a:lnTo>
                <a:lnTo>
                  <a:pt x="95" y="965"/>
                </a:lnTo>
                <a:lnTo>
                  <a:pt x="82" y="984"/>
                </a:lnTo>
                <a:lnTo>
                  <a:pt x="71" y="1003"/>
                </a:lnTo>
                <a:lnTo>
                  <a:pt x="60" y="1022"/>
                </a:lnTo>
                <a:lnTo>
                  <a:pt x="57" y="1032"/>
                </a:lnTo>
                <a:lnTo>
                  <a:pt x="53" y="1041"/>
                </a:lnTo>
                <a:lnTo>
                  <a:pt x="45" y="1050"/>
                </a:lnTo>
                <a:lnTo>
                  <a:pt x="36" y="1058"/>
                </a:lnTo>
                <a:lnTo>
                  <a:pt x="28" y="1067"/>
                </a:lnTo>
                <a:lnTo>
                  <a:pt x="21" y="1076"/>
                </a:lnTo>
                <a:lnTo>
                  <a:pt x="14" y="1085"/>
                </a:lnTo>
                <a:lnTo>
                  <a:pt x="11" y="1095"/>
                </a:lnTo>
                <a:lnTo>
                  <a:pt x="7" y="1110"/>
                </a:lnTo>
                <a:lnTo>
                  <a:pt x="7" y="1127"/>
                </a:lnTo>
                <a:lnTo>
                  <a:pt x="10" y="1142"/>
                </a:lnTo>
                <a:lnTo>
                  <a:pt x="14" y="1157"/>
                </a:lnTo>
                <a:lnTo>
                  <a:pt x="20" y="1172"/>
                </a:lnTo>
                <a:lnTo>
                  <a:pt x="28" y="1186"/>
                </a:lnTo>
                <a:lnTo>
                  <a:pt x="36" y="1200"/>
                </a:lnTo>
                <a:lnTo>
                  <a:pt x="46" y="1214"/>
                </a:lnTo>
                <a:lnTo>
                  <a:pt x="52" y="1214"/>
                </a:lnTo>
                <a:lnTo>
                  <a:pt x="56" y="1213"/>
                </a:lnTo>
                <a:lnTo>
                  <a:pt x="59" y="1210"/>
                </a:lnTo>
                <a:lnTo>
                  <a:pt x="63" y="1208"/>
                </a:lnTo>
                <a:lnTo>
                  <a:pt x="75" y="1226"/>
                </a:lnTo>
                <a:lnTo>
                  <a:pt x="88" y="1244"/>
                </a:lnTo>
                <a:lnTo>
                  <a:pt x="102" y="1262"/>
                </a:lnTo>
                <a:lnTo>
                  <a:pt x="117" y="1280"/>
                </a:lnTo>
                <a:lnTo>
                  <a:pt x="134" y="1297"/>
                </a:lnTo>
                <a:lnTo>
                  <a:pt x="150" y="1314"/>
                </a:lnTo>
                <a:lnTo>
                  <a:pt x="168" y="1331"/>
                </a:lnTo>
                <a:lnTo>
                  <a:pt x="186" y="1348"/>
                </a:lnTo>
                <a:lnTo>
                  <a:pt x="186" y="1353"/>
                </a:lnTo>
                <a:lnTo>
                  <a:pt x="196" y="1364"/>
                </a:lnTo>
                <a:lnTo>
                  <a:pt x="198" y="1375"/>
                </a:lnTo>
                <a:lnTo>
                  <a:pt x="196" y="1388"/>
                </a:lnTo>
                <a:lnTo>
                  <a:pt x="200" y="1400"/>
                </a:lnTo>
                <a:lnTo>
                  <a:pt x="217" y="1415"/>
                </a:lnTo>
                <a:lnTo>
                  <a:pt x="220" y="1433"/>
                </a:lnTo>
                <a:lnTo>
                  <a:pt x="220" y="1453"/>
                </a:lnTo>
                <a:lnTo>
                  <a:pt x="224" y="1471"/>
                </a:lnTo>
                <a:lnTo>
                  <a:pt x="231" y="1478"/>
                </a:lnTo>
                <a:lnTo>
                  <a:pt x="241" y="1484"/>
                </a:lnTo>
                <a:lnTo>
                  <a:pt x="252" y="1488"/>
                </a:lnTo>
                <a:lnTo>
                  <a:pt x="263" y="1491"/>
                </a:lnTo>
                <a:lnTo>
                  <a:pt x="274" y="1493"/>
                </a:lnTo>
                <a:lnTo>
                  <a:pt x="286" y="1495"/>
                </a:lnTo>
                <a:lnTo>
                  <a:pt x="299" y="1497"/>
                </a:lnTo>
                <a:lnTo>
                  <a:pt x="311" y="1498"/>
                </a:lnTo>
                <a:lnTo>
                  <a:pt x="313" y="1507"/>
                </a:lnTo>
                <a:lnTo>
                  <a:pt x="317" y="1516"/>
                </a:lnTo>
                <a:lnTo>
                  <a:pt x="318" y="1525"/>
                </a:lnTo>
                <a:lnTo>
                  <a:pt x="318" y="1533"/>
                </a:lnTo>
                <a:lnTo>
                  <a:pt x="0" y="1533"/>
                </a:lnTo>
                <a:lnTo>
                  <a:pt x="0" y="1603"/>
                </a:lnTo>
                <a:lnTo>
                  <a:pt x="5" y="1603"/>
                </a:lnTo>
                <a:lnTo>
                  <a:pt x="16" y="1603"/>
                </a:lnTo>
                <a:lnTo>
                  <a:pt x="34" y="1603"/>
                </a:lnTo>
                <a:lnTo>
                  <a:pt x="60" y="1603"/>
                </a:lnTo>
                <a:lnTo>
                  <a:pt x="91" y="1603"/>
                </a:lnTo>
                <a:lnTo>
                  <a:pt x="127" y="1603"/>
                </a:lnTo>
                <a:lnTo>
                  <a:pt x="170" y="1603"/>
                </a:lnTo>
                <a:lnTo>
                  <a:pt x="216" y="1602"/>
                </a:lnTo>
                <a:lnTo>
                  <a:pt x="266" y="1602"/>
                </a:lnTo>
                <a:lnTo>
                  <a:pt x="320" y="1602"/>
                </a:lnTo>
                <a:lnTo>
                  <a:pt x="377" y="1602"/>
                </a:lnTo>
                <a:lnTo>
                  <a:pt x="436" y="1602"/>
                </a:lnTo>
                <a:lnTo>
                  <a:pt x="498" y="1602"/>
                </a:lnTo>
                <a:lnTo>
                  <a:pt x="560" y="1602"/>
                </a:lnTo>
                <a:lnTo>
                  <a:pt x="624" y="1602"/>
                </a:lnTo>
                <a:lnTo>
                  <a:pt x="688" y="1601"/>
                </a:lnTo>
                <a:lnTo>
                  <a:pt x="753" y="1601"/>
                </a:lnTo>
                <a:lnTo>
                  <a:pt x="817" y="1601"/>
                </a:lnTo>
                <a:lnTo>
                  <a:pt x="880" y="1601"/>
                </a:lnTo>
                <a:lnTo>
                  <a:pt x="941" y="1601"/>
                </a:lnTo>
                <a:lnTo>
                  <a:pt x="1000" y="1601"/>
                </a:lnTo>
                <a:lnTo>
                  <a:pt x="1057" y="1601"/>
                </a:lnTo>
                <a:lnTo>
                  <a:pt x="1111" y="1601"/>
                </a:lnTo>
                <a:lnTo>
                  <a:pt x="1161" y="1601"/>
                </a:lnTo>
                <a:lnTo>
                  <a:pt x="1207" y="1601"/>
                </a:lnTo>
                <a:lnTo>
                  <a:pt x="1249" y="1602"/>
                </a:lnTo>
                <a:lnTo>
                  <a:pt x="1285" y="1602"/>
                </a:lnTo>
                <a:lnTo>
                  <a:pt x="1317" y="1602"/>
                </a:lnTo>
                <a:lnTo>
                  <a:pt x="1342" y="1602"/>
                </a:lnTo>
                <a:lnTo>
                  <a:pt x="1360" y="1602"/>
                </a:lnTo>
                <a:lnTo>
                  <a:pt x="1371" y="1603"/>
                </a:lnTo>
                <a:lnTo>
                  <a:pt x="1375" y="1603"/>
                </a:lnTo>
                <a:lnTo>
                  <a:pt x="1375" y="1918"/>
                </a:lnTo>
                <a:lnTo>
                  <a:pt x="1428" y="1918"/>
                </a:lnTo>
                <a:lnTo>
                  <a:pt x="1431" y="1603"/>
                </a:lnTo>
                <a:lnTo>
                  <a:pt x="1452" y="1605"/>
                </a:lnTo>
                <a:lnTo>
                  <a:pt x="1452" y="1529"/>
                </a:lnTo>
                <a:lnTo>
                  <a:pt x="1320" y="1528"/>
                </a:lnTo>
                <a:lnTo>
                  <a:pt x="1341" y="1467"/>
                </a:lnTo>
                <a:lnTo>
                  <a:pt x="1350" y="1399"/>
                </a:lnTo>
                <a:lnTo>
                  <a:pt x="1353" y="1332"/>
                </a:lnTo>
                <a:lnTo>
                  <a:pt x="1354" y="1266"/>
                </a:lnTo>
                <a:lnTo>
                  <a:pt x="1364" y="1267"/>
                </a:lnTo>
                <a:lnTo>
                  <a:pt x="1375" y="1268"/>
                </a:lnTo>
                <a:lnTo>
                  <a:pt x="1385" y="1270"/>
                </a:lnTo>
                <a:lnTo>
                  <a:pt x="1395" y="1272"/>
                </a:lnTo>
                <a:lnTo>
                  <a:pt x="1403" y="1276"/>
                </a:lnTo>
                <a:lnTo>
                  <a:pt x="1411" y="1280"/>
                </a:lnTo>
                <a:lnTo>
                  <a:pt x="1418" y="1286"/>
                </a:lnTo>
                <a:lnTo>
                  <a:pt x="1424" y="1293"/>
                </a:lnTo>
                <a:lnTo>
                  <a:pt x="1432" y="1308"/>
                </a:lnTo>
                <a:lnTo>
                  <a:pt x="1439" y="1324"/>
                </a:lnTo>
                <a:lnTo>
                  <a:pt x="1445" y="1339"/>
                </a:lnTo>
                <a:lnTo>
                  <a:pt x="1452" y="1355"/>
                </a:lnTo>
                <a:lnTo>
                  <a:pt x="1457" y="1371"/>
                </a:lnTo>
                <a:lnTo>
                  <a:pt x="1463" y="1388"/>
                </a:lnTo>
                <a:lnTo>
                  <a:pt x="1470" y="1404"/>
                </a:lnTo>
                <a:lnTo>
                  <a:pt x="1477" y="1420"/>
                </a:lnTo>
                <a:lnTo>
                  <a:pt x="1467" y="1423"/>
                </a:lnTo>
                <a:lnTo>
                  <a:pt x="1454" y="1424"/>
                </a:lnTo>
                <a:lnTo>
                  <a:pt x="1443" y="1427"/>
                </a:lnTo>
                <a:lnTo>
                  <a:pt x="1438" y="1434"/>
                </a:lnTo>
                <a:lnTo>
                  <a:pt x="1496" y="1500"/>
                </a:lnTo>
                <a:lnTo>
                  <a:pt x="1574" y="1620"/>
                </a:lnTo>
                <a:lnTo>
                  <a:pt x="1663" y="1735"/>
                </a:lnTo>
                <a:lnTo>
                  <a:pt x="1704" y="1795"/>
                </a:lnTo>
                <a:lnTo>
                  <a:pt x="1699" y="1797"/>
                </a:lnTo>
                <a:lnTo>
                  <a:pt x="1689" y="1801"/>
                </a:lnTo>
                <a:lnTo>
                  <a:pt x="1677" y="1805"/>
                </a:lnTo>
                <a:lnTo>
                  <a:pt x="1661" y="1811"/>
                </a:lnTo>
                <a:lnTo>
                  <a:pt x="1643" y="1817"/>
                </a:lnTo>
                <a:lnTo>
                  <a:pt x="1624" y="1825"/>
                </a:lnTo>
                <a:lnTo>
                  <a:pt x="1603" y="1833"/>
                </a:lnTo>
                <a:lnTo>
                  <a:pt x="1582" y="1841"/>
                </a:lnTo>
                <a:lnTo>
                  <a:pt x="1560" y="1850"/>
                </a:lnTo>
                <a:lnTo>
                  <a:pt x="1539" y="1859"/>
                </a:lnTo>
                <a:lnTo>
                  <a:pt x="1518" y="1869"/>
                </a:lnTo>
                <a:lnTo>
                  <a:pt x="1500" y="1879"/>
                </a:lnTo>
                <a:lnTo>
                  <a:pt x="1484" y="1889"/>
                </a:lnTo>
                <a:lnTo>
                  <a:pt x="1468" y="1899"/>
                </a:lnTo>
                <a:lnTo>
                  <a:pt x="1457" y="1908"/>
                </a:lnTo>
                <a:lnTo>
                  <a:pt x="1450" y="1918"/>
                </a:lnTo>
                <a:lnTo>
                  <a:pt x="1524" y="1918"/>
                </a:lnTo>
                <a:lnTo>
                  <a:pt x="1553" y="1900"/>
                </a:lnTo>
                <a:lnTo>
                  <a:pt x="1584" y="1883"/>
                </a:lnTo>
                <a:lnTo>
                  <a:pt x="1616" y="1868"/>
                </a:lnTo>
                <a:lnTo>
                  <a:pt x="1648" y="1855"/>
                </a:lnTo>
                <a:lnTo>
                  <a:pt x="1675" y="1843"/>
                </a:lnTo>
                <a:lnTo>
                  <a:pt x="1700" y="1835"/>
                </a:lnTo>
                <a:lnTo>
                  <a:pt x="1720" y="1828"/>
                </a:lnTo>
                <a:lnTo>
                  <a:pt x="1732" y="1825"/>
                </a:lnTo>
                <a:lnTo>
                  <a:pt x="1749" y="1841"/>
                </a:lnTo>
                <a:lnTo>
                  <a:pt x="1768" y="1854"/>
                </a:lnTo>
                <a:lnTo>
                  <a:pt x="1788" y="1866"/>
                </a:lnTo>
                <a:lnTo>
                  <a:pt x="1810" y="1877"/>
                </a:lnTo>
                <a:lnTo>
                  <a:pt x="1831" y="1885"/>
                </a:lnTo>
                <a:lnTo>
                  <a:pt x="1854" y="1892"/>
                </a:lnTo>
                <a:lnTo>
                  <a:pt x="1877" y="1898"/>
                </a:lnTo>
                <a:lnTo>
                  <a:pt x="1899" y="1902"/>
                </a:lnTo>
                <a:lnTo>
                  <a:pt x="1917" y="1901"/>
                </a:lnTo>
                <a:lnTo>
                  <a:pt x="1935" y="1897"/>
                </a:lnTo>
                <a:lnTo>
                  <a:pt x="1952" y="1892"/>
                </a:lnTo>
                <a:lnTo>
                  <a:pt x="1967" y="1886"/>
                </a:lnTo>
                <a:lnTo>
                  <a:pt x="1982" y="1879"/>
                </a:lnTo>
                <a:lnTo>
                  <a:pt x="1998" y="1872"/>
                </a:lnTo>
                <a:lnTo>
                  <a:pt x="2014" y="1864"/>
                </a:lnTo>
                <a:lnTo>
                  <a:pt x="2029" y="1858"/>
                </a:lnTo>
                <a:lnTo>
                  <a:pt x="2050" y="1864"/>
                </a:lnTo>
                <a:lnTo>
                  <a:pt x="2071" y="1869"/>
                </a:lnTo>
                <a:lnTo>
                  <a:pt x="2092" y="1874"/>
                </a:lnTo>
                <a:lnTo>
                  <a:pt x="2113" y="1879"/>
                </a:lnTo>
                <a:lnTo>
                  <a:pt x="2135" y="1883"/>
                </a:lnTo>
                <a:lnTo>
                  <a:pt x="2156" y="1888"/>
                </a:lnTo>
                <a:lnTo>
                  <a:pt x="2178" y="1892"/>
                </a:lnTo>
                <a:lnTo>
                  <a:pt x="2200" y="1895"/>
                </a:lnTo>
                <a:lnTo>
                  <a:pt x="2221" y="1899"/>
                </a:lnTo>
                <a:lnTo>
                  <a:pt x="2243" y="1903"/>
                </a:lnTo>
                <a:lnTo>
                  <a:pt x="2266" y="1906"/>
                </a:lnTo>
                <a:lnTo>
                  <a:pt x="2286" y="1909"/>
                </a:lnTo>
                <a:lnTo>
                  <a:pt x="2309" y="1911"/>
                </a:lnTo>
                <a:lnTo>
                  <a:pt x="2331" y="1914"/>
                </a:lnTo>
                <a:lnTo>
                  <a:pt x="2352" y="1916"/>
                </a:lnTo>
                <a:lnTo>
                  <a:pt x="2374" y="1918"/>
                </a:lnTo>
                <a:lnTo>
                  <a:pt x="2424" y="1918"/>
                </a:lnTo>
                <a:lnTo>
                  <a:pt x="2445" y="1893"/>
                </a:lnTo>
                <a:lnTo>
                  <a:pt x="2471" y="1852"/>
                </a:lnTo>
                <a:lnTo>
                  <a:pt x="2502" y="1801"/>
                </a:lnTo>
                <a:lnTo>
                  <a:pt x="2531" y="1746"/>
                </a:lnTo>
                <a:lnTo>
                  <a:pt x="2560" y="1694"/>
                </a:lnTo>
                <a:lnTo>
                  <a:pt x="2582" y="1650"/>
                </a:lnTo>
                <a:lnTo>
                  <a:pt x="2599" y="1619"/>
                </a:lnTo>
                <a:lnTo>
                  <a:pt x="2604" y="1607"/>
                </a:lnTo>
                <a:lnTo>
                  <a:pt x="2616" y="1568"/>
                </a:lnTo>
                <a:lnTo>
                  <a:pt x="2625" y="1528"/>
                </a:lnTo>
                <a:lnTo>
                  <a:pt x="2631" y="1488"/>
                </a:lnTo>
                <a:lnTo>
                  <a:pt x="2636" y="1449"/>
                </a:lnTo>
                <a:lnTo>
                  <a:pt x="2639" y="1412"/>
                </a:lnTo>
                <a:lnTo>
                  <a:pt x="2646" y="1330"/>
                </a:lnTo>
                <a:lnTo>
                  <a:pt x="2649" y="1238"/>
                </a:lnTo>
                <a:lnTo>
                  <a:pt x="2642" y="1176"/>
                </a:lnTo>
                <a:lnTo>
                  <a:pt x="2639" y="1141"/>
                </a:lnTo>
                <a:lnTo>
                  <a:pt x="2632" y="1106"/>
                </a:lnTo>
                <a:lnTo>
                  <a:pt x="2623" y="1072"/>
                </a:lnTo>
                <a:lnTo>
                  <a:pt x="2609" y="1039"/>
                </a:lnTo>
                <a:lnTo>
                  <a:pt x="2593" y="1007"/>
                </a:lnTo>
                <a:lnTo>
                  <a:pt x="2575" y="975"/>
                </a:lnTo>
                <a:lnTo>
                  <a:pt x="2554" y="944"/>
                </a:lnTo>
                <a:lnTo>
                  <a:pt x="2532" y="913"/>
                </a:lnTo>
                <a:lnTo>
                  <a:pt x="2435" y="794"/>
                </a:lnTo>
                <a:lnTo>
                  <a:pt x="2427" y="786"/>
                </a:lnTo>
                <a:lnTo>
                  <a:pt x="2418" y="779"/>
                </a:lnTo>
                <a:lnTo>
                  <a:pt x="2410" y="771"/>
                </a:lnTo>
                <a:lnTo>
                  <a:pt x="2402" y="763"/>
                </a:lnTo>
                <a:lnTo>
                  <a:pt x="2393" y="755"/>
                </a:lnTo>
                <a:lnTo>
                  <a:pt x="2385" y="748"/>
                </a:lnTo>
                <a:lnTo>
                  <a:pt x="2375" y="740"/>
                </a:lnTo>
                <a:lnTo>
                  <a:pt x="2367" y="733"/>
                </a:lnTo>
                <a:lnTo>
                  <a:pt x="2378" y="722"/>
                </a:lnTo>
                <a:lnTo>
                  <a:pt x="2385" y="710"/>
                </a:lnTo>
                <a:lnTo>
                  <a:pt x="2391" y="697"/>
                </a:lnTo>
                <a:lnTo>
                  <a:pt x="2396" y="684"/>
                </a:lnTo>
                <a:lnTo>
                  <a:pt x="2400" y="668"/>
                </a:lnTo>
                <a:lnTo>
                  <a:pt x="2398" y="654"/>
                </a:lnTo>
                <a:lnTo>
                  <a:pt x="2389" y="641"/>
                </a:lnTo>
                <a:lnTo>
                  <a:pt x="2375" y="629"/>
                </a:lnTo>
                <a:lnTo>
                  <a:pt x="2260" y="546"/>
                </a:lnTo>
                <a:lnTo>
                  <a:pt x="1774" y="8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9" name="Freeform 85"/>
          <p:cNvSpPr/>
          <p:nvPr/>
        </p:nvSpPr>
        <p:spPr>
          <a:xfrm>
            <a:off x="6581880" y="3908520"/>
            <a:ext cx="380880" cy="249120"/>
          </a:xfrm>
          <a:custGeom>
            <a:avLst/>
            <a:gdLst>
              <a:gd name="textAreaLeft" fmla="*/ 0 w 380880"/>
              <a:gd name="textAreaRight" fmla="*/ 381240 w 380880"/>
              <a:gd name="textAreaTop" fmla="*/ 0 h 249120"/>
              <a:gd name="textAreaBottom" fmla="*/ 249120 h 249120"/>
            </a:gdLst>
            <a:ahLst/>
            <a:rect l="textAreaLeft" t="textAreaTop" r="textAreaRight" b="textAreaBottom"/>
            <a:pathLst>
              <a:path w="721" h="313">
                <a:moveTo>
                  <a:pt x="608" y="57"/>
                </a:moveTo>
                <a:lnTo>
                  <a:pt x="641" y="72"/>
                </a:lnTo>
                <a:lnTo>
                  <a:pt x="668" y="90"/>
                </a:lnTo>
                <a:lnTo>
                  <a:pt x="687" y="112"/>
                </a:lnTo>
                <a:lnTo>
                  <a:pt x="702" y="136"/>
                </a:lnTo>
                <a:lnTo>
                  <a:pt x="712" y="161"/>
                </a:lnTo>
                <a:lnTo>
                  <a:pt x="718" y="188"/>
                </a:lnTo>
                <a:lnTo>
                  <a:pt x="721" y="215"/>
                </a:lnTo>
                <a:lnTo>
                  <a:pt x="721" y="242"/>
                </a:lnTo>
                <a:lnTo>
                  <a:pt x="721" y="260"/>
                </a:lnTo>
                <a:lnTo>
                  <a:pt x="716" y="277"/>
                </a:lnTo>
                <a:lnTo>
                  <a:pt x="711" y="293"/>
                </a:lnTo>
                <a:lnTo>
                  <a:pt x="702" y="309"/>
                </a:lnTo>
                <a:lnTo>
                  <a:pt x="698" y="306"/>
                </a:lnTo>
                <a:lnTo>
                  <a:pt x="689" y="300"/>
                </a:lnTo>
                <a:lnTo>
                  <a:pt x="676" y="294"/>
                </a:lnTo>
                <a:lnTo>
                  <a:pt x="666" y="291"/>
                </a:lnTo>
                <a:lnTo>
                  <a:pt x="658" y="295"/>
                </a:lnTo>
                <a:lnTo>
                  <a:pt x="650" y="300"/>
                </a:lnTo>
                <a:lnTo>
                  <a:pt x="643" y="307"/>
                </a:lnTo>
                <a:lnTo>
                  <a:pt x="637" y="313"/>
                </a:lnTo>
                <a:lnTo>
                  <a:pt x="627" y="298"/>
                </a:lnTo>
                <a:lnTo>
                  <a:pt x="625" y="282"/>
                </a:lnTo>
                <a:lnTo>
                  <a:pt x="622" y="267"/>
                </a:lnTo>
                <a:lnTo>
                  <a:pt x="611" y="254"/>
                </a:lnTo>
                <a:lnTo>
                  <a:pt x="604" y="256"/>
                </a:lnTo>
                <a:lnTo>
                  <a:pt x="590" y="261"/>
                </a:lnTo>
                <a:lnTo>
                  <a:pt x="573" y="269"/>
                </a:lnTo>
                <a:lnTo>
                  <a:pt x="552" y="277"/>
                </a:lnTo>
                <a:lnTo>
                  <a:pt x="530" y="286"/>
                </a:lnTo>
                <a:lnTo>
                  <a:pt x="508" y="293"/>
                </a:lnTo>
                <a:lnTo>
                  <a:pt x="487" y="298"/>
                </a:lnTo>
                <a:lnTo>
                  <a:pt x="468" y="300"/>
                </a:lnTo>
                <a:lnTo>
                  <a:pt x="479" y="286"/>
                </a:lnTo>
                <a:lnTo>
                  <a:pt x="487" y="270"/>
                </a:lnTo>
                <a:lnTo>
                  <a:pt x="490" y="254"/>
                </a:lnTo>
                <a:lnTo>
                  <a:pt x="484" y="237"/>
                </a:lnTo>
                <a:lnTo>
                  <a:pt x="479" y="238"/>
                </a:lnTo>
                <a:lnTo>
                  <a:pt x="466" y="241"/>
                </a:lnTo>
                <a:lnTo>
                  <a:pt x="451" y="244"/>
                </a:lnTo>
                <a:lnTo>
                  <a:pt x="430" y="248"/>
                </a:lnTo>
                <a:lnTo>
                  <a:pt x="405" y="253"/>
                </a:lnTo>
                <a:lnTo>
                  <a:pt x="379" y="258"/>
                </a:lnTo>
                <a:lnTo>
                  <a:pt x="348" y="263"/>
                </a:lnTo>
                <a:lnTo>
                  <a:pt x="318" y="268"/>
                </a:lnTo>
                <a:lnTo>
                  <a:pt x="284" y="273"/>
                </a:lnTo>
                <a:lnTo>
                  <a:pt x="251" y="279"/>
                </a:lnTo>
                <a:lnTo>
                  <a:pt x="216" y="284"/>
                </a:lnTo>
                <a:lnTo>
                  <a:pt x="184" y="288"/>
                </a:lnTo>
                <a:lnTo>
                  <a:pt x="151" y="292"/>
                </a:lnTo>
                <a:lnTo>
                  <a:pt x="122" y="296"/>
                </a:lnTo>
                <a:lnTo>
                  <a:pt x="93" y="298"/>
                </a:lnTo>
                <a:lnTo>
                  <a:pt x="68" y="300"/>
                </a:lnTo>
                <a:lnTo>
                  <a:pt x="61" y="300"/>
                </a:lnTo>
                <a:lnTo>
                  <a:pt x="51" y="300"/>
                </a:lnTo>
                <a:lnTo>
                  <a:pt x="40" y="300"/>
                </a:lnTo>
                <a:lnTo>
                  <a:pt x="29" y="299"/>
                </a:lnTo>
                <a:lnTo>
                  <a:pt x="19" y="299"/>
                </a:lnTo>
                <a:lnTo>
                  <a:pt x="11" y="299"/>
                </a:lnTo>
                <a:lnTo>
                  <a:pt x="5" y="299"/>
                </a:lnTo>
                <a:lnTo>
                  <a:pt x="2" y="299"/>
                </a:lnTo>
                <a:lnTo>
                  <a:pt x="0" y="283"/>
                </a:lnTo>
                <a:lnTo>
                  <a:pt x="0" y="267"/>
                </a:lnTo>
                <a:lnTo>
                  <a:pt x="4" y="252"/>
                </a:lnTo>
                <a:lnTo>
                  <a:pt x="12" y="237"/>
                </a:lnTo>
                <a:lnTo>
                  <a:pt x="21" y="223"/>
                </a:lnTo>
                <a:lnTo>
                  <a:pt x="30" y="208"/>
                </a:lnTo>
                <a:lnTo>
                  <a:pt x="40" y="194"/>
                </a:lnTo>
                <a:lnTo>
                  <a:pt x="50" y="180"/>
                </a:lnTo>
                <a:lnTo>
                  <a:pt x="65" y="162"/>
                </a:lnTo>
                <a:lnTo>
                  <a:pt x="82" y="144"/>
                </a:lnTo>
                <a:lnTo>
                  <a:pt x="98" y="126"/>
                </a:lnTo>
                <a:lnTo>
                  <a:pt x="118" y="109"/>
                </a:lnTo>
                <a:lnTo>
                  <a:pt x="139" y="93"/>
                </a:lnTo>
                <a:lnTo>
                  <a:pt x="161" y="78"/>
                </a:lnTo>
                <a:lnTo>
                  <a:pt x="184" y="64"/>
                </a:lnTo>
                <a:lnTo>
                  <a:pt x="208" y="51"/>
                </a:lnTo>
                <a:lnTo>
                  <a:pt x="234" y="39"/>
                </a:lnTo>
                <a:lnTo>
                  <a:pt x="259" y="29"/>
                </a:lnTo>
                <a:lnTo>
                  <a:pt x="287" y="20"/>
                </a:lnTo>
                <a:lnTo>
                  <a:pt x="315" y="12"/>
                </a:lnTo>
                <a:lnTo>
                  <a:pt x="344" y="6"/>
                </a:lnTo>
                <a:lnTo>
                  <a:pt x="373" y="2"/>
                </a:lnTo>
                <a:lnTo>
                  <a:pt x="402" y="0"/>
                </a:lnTo>
                <a:lnTo>
                  <a:pt x="433" y="0"/>
                </a:lnTo>
                <a:lnTo>
                  <a:pt x="458" y="4"/>
                </a:lnTo>
                <a:lnTo>
                  <a:pt x="482" y="8"/>
                </a:lnTo>
                <a:lnTo>
                  <a:pt x="505" y="13"/>
                </a:lnTo>
                <a:lnTo>
                  <a:pt x="527" y="19"/>
                </a:lnTo>
                <a:lnTo>
                  <a:pt x="550" y="26"/>
                </a:lnTo>
                <a:lnTo>
                  <a:pt x="571" y="35"/>
                </a:lnTo>
                <a:lnTo>
                  <a:pt x="590" y="45"/>
                </a:lnTo>
                <a:lnTo>
                  <a:pt x="608" y="57"/>
                </a:lnTo>
                <a:close/>
              </a:path>
            </a:pathLst>
          </a:custGeom>
          <a:solidFill>
            <a:srgbClr val="9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0" name="Freeform 86"/>
          <p:cNvSpPr/>
          <p:nvPr/>
        </p:nvSpPr>
        <p:spPr>
          <a:xfrm>
            <a:off x="6570720" y="4133880"/>
            <a:ext cx="388800" cy="255600"/>
          </a:xfrm>
          <a:custGeom>
            <a:avLst/>
            <a:gdLst>
              <a:gd name="textAreaLeft" fmla="*/ 0 w 388800"/>
              <a:gd name="textAreaRight" fmla="*/ 389160 w 3888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736" h="322">
                <a:moveTo>
                  <a:pt x="472" y="0"/>
                </a:moveTo>
                <a:lnTo>
                  <a:pt x="466" y="6"/>
                </a:lnTo>
                <a:lnTo>
                  <a:pt x="459" y="13"/>
                </a:lnTo>
                <a:lnTo>
                  <a:pt x="454" y="19"/>
                </a:lnTo>
                <a:lnTo>
                  <a:pt x="453" y="27"/>
                </a:lnTo>
                <a:lnTo>
                  <a:pt x="460" y="32"/>
                </a:lnTo>
                <a:lnTo>
                  <a:pt x="467" y="35"/>
                </a:lnTo>
                <a:lnTo>
                  <a:pt x="477" y="36"/>
                </a:lnTo>
                <a:lnTo>
                  <a:pt x="486" y="36"/>
                </a:lnTo>
                <a:lnTo>
                  <a:pt x="496" y="35"/>
                </a:lnTo>
                <a:lnTo>
                  <a:pt x="507" y="34"/>
                </a:lnTo>
                <a:lnTo>
                  <a:pt x="518" y="33"/>
                </a:lnTo>
                <a:lnTo>
                  <a:pt x="528" y="33"/>
                </a:lnTo>
                <a:lnTo>
                  <a:pt x="539" y="31"/>
                </a:lnTo>
                <a:lnTo>
                  <a:pt x="550" y="28"/>
                </a:lnTo>
                <a:lnTo>
                  <a:pt x="560" y="26"/>
                </a:lnTo>
                <a:lnTo>
                  <a:pt x="571" y="23"/>
                </a:lnTo>
                <a:lnTo>
                  <a:pt x="582" y="20"/>
                </a:lnTo>
                <a:lnTo>
                  <a:pt x="593" y="16"/>
                </a:lnTo>
                <a:lnTo>
                  <a:pt x="606" y="12"/>
                </a:lnTo>
                <a:lnTo>
                  <a:pt x="620" y="6"/>
                </a:lnTo>
                <a:lnTo>
                  <a:pt x="622" y="23"/>
                </a:lnTo>
                <a:lnTo>
                  <a:pt x="629" y="39"/>
                </a:lnTo>
                <a:lnTo>
                  <a:pt x="639" y="54"/>
                </a:lnTo>
                <a:lnTo>
                  <a:pt x="653" y="68"/>
                </a:lnTo>
                <a:lnTo>
                  <a:pt x="657" y="68"/>
                </a:lnTo>
                <a:lnTo>
                  <a:pt x="661" y="67"/>
                </a:lnTo>
                <a:lnTo>
                  <a:pt x="666" y="65"/>
                </a:lnTo>
                <a:lnTo>
                  <a:pt x="667" y="62"/>
                </a:lnTo>
                <a:lnTo>
                  <a:pt x="674" y="61"/>
                </a:lnTo>
                <a:lnTo>
                  <a:pt x="679" y="59"/>
                </a:lnTo>
                <a:lnTo>
                  <a:pt x="685" y="57"/>
                </a:lnTo>
                <a:lnTo>
                  <a:pt x="692" y="54"/>
                </a:lnTo>
                <a:lnTo>
                  <a:pt x="697" y="53"/>
                </a:lnTo>
                <a:lnTo>
                  <a:pt x="703" y="52"/>
                </a:lnTo>
                <a:lnTo>
                  <a:pt x="710" y="53"/>
                </a:lnTo>
                <a:lnTo>
                  <a:pt x="717" y="56"/>
                </a:lnTo>
                <a:lnTo>
                  <a:pt x="724" y="60"/>
                </a:lnTo>
                <a:lnTo>
                  <a:pt x="729" y="65"/>
                </a:lnTo>
                <a:lnTo>
                  <a:pt x="734" y="71"/>
                </a:lnTo>
                <a:lnTo>
                  <a:pt x="736" y="77"/>
                </a:lnTo>
                <a:lnTo>
                  <a:pt x="735" y="87"/>
                </a:lnTo>
                <a:lnTo>
                  <a:pt x="731" y="97"/>
                </a:lnTo>
                <a:lnTo>
                  <a:pt x="725" y="106"/>
                </a:lnTo>
                <a:lnTo>
                  <a:pt x="718" y="114"/>
                </a:lnTo>
                <a:lnTo>
                  <a:pt x="709" y="121"/>
                </a:lnTo>
                <a:lnTo>
                  <a:pt x="697" y="128"/>
                </a:lnTo>
                <a:lnTo>
                  <a:pt x="686" y="134"/>
                </a:lnTo>
                <a:lnTo>
                  <a:pt x="674" y="139"/>
                </a:lnTo>
                <a:lnTo>
                  <a:pt x="563" y="243"/>
                </a:lnTo>
                <a:lnTo>
                  <a:pt x="542" y="260"/>
                </a:lnTo>
                <a:lnTo>
                  <a:pt x="520" y="275"/>
                </a:lnTo>
                <a:lnTo>
                  <a:pt x="496" y="289"/>
                </a:lnTo>
                <a:lnTo>
                  <a:pt x="471" y="301"/>
                </a:lnTo>
                <a:lnTo>
                  <a:pt x="445" y="310"/>
                </a:lnTo>
                <a:lnTo>
                  <a:pt x="417" y="317"/>
                </a:lnTo>
                <a:lnTo>
                  <a:pt x="388" y="321"/>
                </a:lnTo>
                <a:lnTo>
                  <a:pt x="357" y="322"/>
                </a:lnTo>
                <a:lnTo>
                  <a:pt x="331" y="320"/>
                </a:lnTo>
                <a:lnTo>
                  <a:pt x="306" y="316"/>
                </a:lnTo>
                <a:lnTo>
                  <a:pt x="279" y="311"/>
                </a:lnTo>
                <a:lnTo>
                  <a:pt x="256" y="303"/>
                </a:lnTo>
                <a:lnTo>
                  <a:pt x="232" y="295"/>
                </a:lnTo>
                <a:lnTo>
                  <a:pt x="210" y="285"/>
                </a:lnTo>
                <a:lnTo>
                  <a:pt x="188" y="273"/>
                </a:lnTo>
                <a:lnTo>
                  <a:pt x="167" y="261"/>
                </a:lnTo>
                <a:lnTo>
                  <a:pt x="147" y="247"/>
                </a:lnTo>
                <a:lnTo>
                  <a:pt x="129" y="233"/>
                </a:lnTo>
                <a:lnTo>
                  <a:pt x="113" y="218"/>
                </a:lnTo>
                <a:lnTo>
                  <a:pt x="96" y="202"/>
                </a:lnTo>
                <a:lnTo>
                  <a:pt x="82" y="186"/>
                </a:lnTo>
                <a:lnTo>
                  <a:pt x="70" y="170"/>
                </a:lnTo>
                <a:lnTo>
                  <a:pt x="59" y="152"/>
                </a:lnTo>
                <a:lnTo>
                  <a:pt x="49" y="135"/>
                </a:lnTo>
                <a:lnTo>
                  <a:pt x="36" y="129"/>
                </a:lnTo>
                <a:lnTo>
                  <a:pt x="25" y="122"/>
                </a:lnTo>
                <a:lnTo>
                  <a:pt x="16" y="113"/>
                </a:lnTo>
                <a:lnTo>
                  <a:pt x="9" y="104"/>
                </a:lnTo>
                <a:lnTo>
                  <a:pt x="3" y="93"/>
                </a:lnTo>
                <a:lnTo>
                  <a:pt x="0" y="82"/>
                </a:lnTo>
                <a:lnTo>
                  <a:pt x="0" y="71"/>
                </a:lnTo>
                <a:lnTo>
                  <a:pt x="4" y="59"/>
                </a:lnTo>
                <a:lnTo>
                  <a:pt x="9" y="55"/>
                </a:lnTo>
                <a:lnTo>
                  <a:pt x="13" y="52"/>
                </a:lnTo>
                <a:lnTo>
                  <a:pt x="18" y="49"/>
                </a:lnTo>
                <a:lnTo>
                  <a:pt x="24" y="46"/>
                </a:lnTo>
                <a:lnTo>
                  <a:pt x="29" y="44"/>
                </a:lnTo>
                <a:lnTo>
                  <a:pt x="35" y="42"/>
                </a:lnTo>
                <a:lnTo>
                  <a:pt x="41" y="40"/>
                </a:lnTo>
                <a:lnTo>
                  <a:pt x="46" y="39"/>
                </a:lnTo>
                <a:lnTo>
                  <a:pt x="56" y="45"/>
                </a:lnTo>
                <a:lnTo>
                  <a:pt x="64" y="54"/>
                </a:lnTo>
                <a:lnTo>
                  <a:pt x="72" y="60"/>
                </a:lnTo>
                <a:lnTo>
                  <a:pt x="85" y="55"/>
                </a:lnTo>
                <a:lnTo>
                  <a:pt x="85" y="52"/>
                </a:lnTo>
                <a:lnTo>
                  <a:pt x="86" y="48"/>
                </a:lnTo>
                <a:lnTo>
                  <a:pt x="88" y="44"/>
                </a:lnTo>
                <a:lnTo>
                  <a:pt x="91" y="41"/>
                </a:lnTo>
                <a:lnTo>
                  <a:pt x="118" y="39"/>
                </a:lnTo>
                <a:lnTo>
                  <a:pt x="145" y="38"/>
                </a:lnTo>
                <a:lnTo>
                  <a:pt x="170" y="36"/>
                </a:lnTo>
                <a:lnTo>
                  <a:pt x="195" y="35"/>
                </a:lnTo>
                <a:lnTo>
                  <a:pt x="220" y="33"/>
                </a:lnTo>
                <a:lnTo>
                  <a:pt x="245" y="32"/>
                </a:lnTo>
                <a:lnTo>
                  <a:pt x="268" y="30"/>
                </a:lnTo>
                <a:lnTo>
                  <a:pt x="292" y="28"/>
                </a:lnTo>
                <a:lnTo>
                  <a:pt x="314" y="26"/>
                </a:lnTo>
                <a:lnTo>
                  <a:pt x="338" y="24"/>
                </a:lnTo>
                <a:lnTo>
                  <a:pt x="360" y="21"/>
                </a:lnTo>
                <a:lnTo>
                  <a:pt x="382" y="18"/>
                </a:lnTo>
                <a:lnTo>
                  <a:pt x="404" y="14"/>
                </a:lnTo>
                <a:lnTo>
                  <a:pt x="428" y="10"/>
                </a:lnTo>
                <a:lnTo>
                  <a:pt x="450" y="5"/>
                </a:lnTo>
                <a:lnTo>
                  <a:pt x="472" y="0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1" name="Freeform 87"/>
          <p:cNvSpPr/>
          <p:nvPr/>
        </p:nvSpPr>
        <p:spPr>
          <a:xfrm>
            <a:off x="6797520" y="4191120"/>
            <a:ext cx="59040" cy="27000"/>
          </a:xfrm>
          <a:custGeom>
            <a:avLst/>
            <a:gdLst>
              <a:gd name="textAreaLeft" fmla="*/ 0 w 59040"/>
              <a:gd name="textAreaRight" fmla="*/ 59400 w 590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10" h="34">
                <a:moveTo>
                  <a:pt x="110" y="6"/>
                </a:moveTo>
                <a:lnTo>
                  <a:pt x="106" y="13"/>
                </a:lnTo>
                <a:lnTo>
                  <a:pt x="100" y="19"/>
                </a:lnTo>
                <a:lnTo>
                  <a:pt x="93" y="23"/>
                </a:lnTo>
                <a:lnTo>
                  <a:pt x="84" y="27"/>
                </a:lnTo>
                <a:lnTo>
                  <a:pt x="75" y="30"/>
                </a:lnTo>
                <a:lnTo>
                  <a:pt x="66" y="32"/>
                </a:lnTo>
                <a:lnTo>
                  <a:pt x="55" y="33"/>
                </a:lnTo>
                <a:lnTo>
                  <a:pt x="45" y="34"/>
                </a:lnTo>
                <a:lnTo>
                  <a:pt x="38" y="34"/>
                </a:lnTo>
                <a:lnTo>
                  <a:pt x="31" y="33"/>
                </a:lnTo>
                <a:lnTo>
                  <a:pt x="25" y="32"/>
                </a:lnTo>
                <a:lnTo>
                  <a:pt x="18" y="29"/>
                </a:lnTo>
                <a:lnTo>
                  <a:pt x="14" y="26"/>
                </a:lnTo>
                <a:lnTo>
                  <a:pt x="9" y="22"/>
                </a:lnTo>
                <a:lnTo>
                  <a:pt x="5" y="18"/>
                </a:lnTo>
                <a:lnTo>
                  <a:pt x="0" y="13"/>
                </a:lnTo>
                <a:lnTo>
                  <a:pt x="0" y="9"/>
                </a:lnTo>
                <a:lnTo>
                  <a:pt x="5" y="8"/>
                </a:lnTo>
                <a:lnTo>
                  <a:pt x="12" y="8"/>
                </a:lnTo>
                <a:lnTo>
                  <a:pt x="17" y="6"/>
                </a:lnTo>
                <a:lnTo>
                  <a:pt x="25" y="6"/>
                </a:lnTo>
                <a:lnTo>
                  <a:pt x="35" y="7"/>
                </a:lnTo>
                <a:lnTo>
                  <a:pt x="46" y="8"/>
                </a:lnTo>
                <a:lnTo>
                  <a:pt x="56" y="8"/>
                </a:lnTo>
                <a:lnTo>
                  <a:pt x="67" y="8"/>
                </a:lnTo>
                <a:lnTo>
                  <a:pt x="77" y="7"/>
                </a:lnTo>
                <a:lnTo>
                  <a:pt x="87" y="4"/>
                </a:lnTo>
                <a:lnTo>
                  <a:pt x="96" y="0"/>
                </a:lnTo>
                <a:lnTo>
                  <a:pt x="100" y="1"/>
                </a:lnTo>
                <a:lnTo>
                  <a:pt x="106" y="1"/>
                </a:lnTo>
                <a:lnTo>
                  <a:pt x="109" y="3"/>
                </a:lnTo>
                <a:lnTo>
                  <a:pt x="1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2" name="Freeform 88"/>
          <p:cNvSpPr/>
          <p:nvPr/>
        </p:nvSpPr>
        <p:spPr>
          <a:xfrm>
            <a:off x="6651720" y="4191120"/>
            <a:ext cx="54000" cy="27000"/>
          </a:xfrm>
          <a:custGeom>
            <a:avLst/>
            <a:gdLst>
              <a:gd name="textAreaLeft" fmla="*/ 0 w 54000"/>
              <a:gd name="textAreaRight" fmla="*/ 54360 w 54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02" h="34">
                <a:moveTo>
                  <a:pt x="102" y="13"/>
                </a:moveTo>
                <a:lnTo>
                  <a:pt x="100" y="19"/>
                </a:lnTo>
                <a:lnTo>
                  <a:pt x="95" y="24"/>
                </a:lnTo>
                <a:lnTo>
                  <a:pt x="89" y="28"/>
                </a:lnTo>
                <a:lnTo>
                  <a:pt x="84" y="32"/>
                </a:lnTo>
                <a:lnTo>
                  <a:pt x="74" y="34"/>
                </a:lnTo>
                <a:lnTo>
                  <a:pt x="64" y="34"/>
                </a:lnTo>
                <a:lnTo>
                  <a:pt x="55" y="34"/>
                </a:lnTo>
                <a:lnTo>
                  <a:pt x="45" y="33"/>
                </a:lnTo>
                <a:lnTo>
                  <a:pt x="35" y="31"/>
                </a:lnTo>
                <a:lnTo>
                  <a:pt x="27" y="27"/>
                </a:lnTo>
                <a:lnTo>
                  <a:pt x="18" y="23"/>
                </a:lnTo>
                <a:lnTo>
                  <a:pt x="12" y="18"/>
                </a:lnTo>
                <a:lnTo>
                  <a:pt x="7" y="14"/>
                </a:lnTo>
                <a:lnTo>
                  <a:pt x="3" y="10"/>
                </a:lnTo>
                <a:lnTo>
                  <a:pt x="0" y="5"/>
                </a:lnTo>
                <a:lnTo>
                  <a:pt x="2" y="0"/>
                </a:lnTo>
                <a:lnTo>
                  <a:pt x="13" y="4"/>
                </a:lnTo>
                <a:lnTo>
                  <a:pt x="25" y="7"/>
                </a:lnTo>
                <a:lnTo>
                  <a:pt x="38" y="8"/>
                </a:lnTo>
                <a:lnTo>
                  <a:pt x="50" y="8"/>
                </a:lnTo>
                <a:lnTo>
                  <a:pt x="63" y="9"/>
                </a:lnTo>
                <a:lnTo>
                  <a:pt x="77" y="9"/>
                </a:lnTo>
                <a:lnTo>
                  <a:pt x="89" y="10"/>
                </a:lnTo>
                <a:lnTo>
                  <a:pt x="1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3" name="Freeform 89"/>
          <p:cNvSpPr/>
          <p:nvPr/>
        </p:nvSpPr>
        <p:spPr>
          <a:xfrm>
            <a:off x="6711840" y="4254480"/>
            <a:ext cx="69840" cy="60480"/>
          </a:xfrm>
          <a:custGeom>
            <a:avLst/>
            <a:gdLst>
              <a:gd name="textAreaLeft" fmla="*/ 0 w 69840"/>
              <a:gd name="textAreaRight" fmla="*/ 70200 w 69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1" h="76">
                <a:moveTo>
                  <a:pt x="31" y="58"/>
                </a:moveTo>
                <a:lnTo>
                  <a:pt x="42" y="58"/>
                </a:lnTo>
                <a:lnTo>
                  <a:pt x="54" y="59"/>
                </a:lnTo>
                <a:lnTo>
                  <a:pt x="66" y="61"/>
                </a:lnTo>
                <a:lnTo>
                  <a:pt x="78" y="63"/>
                </a:lnTo>
                <a:lnTo>
                  <a:pt x="91" y="63"/>
                </a:lnTo>
                <a:lnTo>
                  <a:pt x="102" y="62"/>
                </a:lnTo>
                <a:lnTo>
                  <a:pt x="111" y="59"/>
                </a:lnTo>
                <a:lnTo>
                  <a:pt x="121" y="53"/>
                </a:lnTo>
                <a:lnTo>
                  <a:pt x="124" y="53"/>
                </a:lnTo>
                <a:lnTo>
                  <a:pt x="127" y="54"/>
                </a:lnTo>
                <a:lnTo>
                  <a:pt x="129" y="55"/>
                </a:lnTo>
                <a:lnTo>
                  <a:pt x="131" y="57"/>
                </a:lnTo>
                <a:lnTo>
                  <a:pt x="128" y="63"/>
                </a:lnTo>
                <a:lnTo>
                  <a:pt x="121" y="69"/>
                </a:lnTo>
                <a:lnTo>
                  <a:pt x="111" y="73"/>
                </a:lnTo>
                <a:lnTo>
                  <a:pt x="103" y="76"/>
                </a:lnTo>
                <a:lnTo>
                  <a:pt x="96" y="76"/>
                </a:lnTo>
                <a:lnTo>
                  <a:pt x="89" y="75"/>
                </a:lnTo>
                <a:lnTo>
                  <a:pt x="81" y="75"/>
                </a:lnTo>
                <a:lnTo>
                  <a:pt x="74" y="74"/>
                </a:lnTo>
                <a:lnTo>
                  <a:pt x="67" y="74"/>
                </a:lnTo>
                <a:lnTo>
                  <a:pt x="60" y="74"/>
                </a:lnTo>
                <a:lnTo>
                  <a:pt x="52" y="74"/>
                </a:lnTo>
                <a:lnTo>
                  <a:pt x="43" y="75"/>
                </a:lnTo>
                <a:lnTo>
                  <a:pt x="38" y="74"/>
                </a:lnTo>
                <a:lnTo>
                  <a:pt x="31" y="73"/>
                </a:lnTo>
                <a:lnTo>
                  <a:pt x="25" y="71"/>
                </a:lnTo>
                <a:lnTo>
                  <a:pt x="20" y="69"/>
                </a:lnTo>
                <a:lnTo>
                  <a:pt x="14" y="66"/>
                </a:lnTo>
                <a:lnTo>
                  <a:pt x="10" y="63"/>
                </a:lnTo>
                <a:lnTo>
                  <a:pt x="6" y="60"/>
                </a:lnTo>
                <a:lnTo>
                  <a:pt x="2" y="56"/>
                </a:lnTo>
                <a:lnTo>
                  <a:pt x="0" y="42"/>
                </a:lnTo>
                <a:lnTo>
                  <a:pt x="4" y="28"/>
                </a:lnTo>
                <a:lnTo>
                  <a:pt x="11" y="14"/>
                </a:lnTo>
                <a:lnTo>
                  <a:pt x="18" y="0"/>
                </a:lnTo>
                <a:lnTo>
                  <a:pt x="17" y="7"/>
                </a:lnTo>
                <a:lnTo>
                  <a:pt x="11" y="25"/>
                </a:lnTo>
                <a:lnTo>
                  <a:pt x="13" y="44"/>
                </a:lnTo>
                <a:lnTo>
                  <a:pt x="31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4" name="Freeform 90"/>
          <p:cNvSpPr/>
          <p:nvPr/>
        </p:nvSpPr>
        <p:spPr>
          <a:xfrm>
            <a:off x="6383160" y="4792680"/>
            <a:ext cx="100080" cy="138240"/>
          </a:xfrm>
          <a:custGeom>
            <a:avLst/>
            <a:gdLst>
              <a:gd name="textAreaLeft" fmla="*/ 0 w 100080"/>
              <a:gd name="textAreaRight" fmla="*/ 100440 w 1000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87" h="173">
                <a:moveTo>
                  <a:pt x="187" y="36"/>
                </a:moveTo>
                <a:lnTo>
                  <a:pt x="173" y="36"/>
                </a:lnTo>
                <a:lnTo>
                  <a:pt x="160" y="37"/>
                </a:lnTo>
                <a:lnTo>
                  <a:pt x="146" y="37"/>
                </a:lnTo>
                <a:lnTo>
                  <a:pt x="135" y="37"/>
                </a:lnTo>
                <a:lnTo>
                  <a:pt x="125" y="37"/>
                </a:lnTo>
                <a:lnTo>
                  <a:pt x="117" y="37"/>
                </a:lnTo>
                <a:lnTo>
                  <a:pt x="113" y="38"/>
                </a:lnTo>
                <a:lnTo>
                  <a:pt x="110" y="38"/>
                </a:lnTo>
                <a:lnTo>
                  <a:pt x="110" y="54"/>
                </a:lnTo>
                <a:lnTo>
                  <a:pt x="116" y="70"/>
                </a:lnTo>
                <a:lnTo>
                  <a:pt x="120" y="85"/>
                </a:lnTo>
                <a:lnTo>
                  <a:pt x="124" y="102"/>
                </a:lnTo>
                <a:lnTo>
                  <a:pt x="116" y="100"/>
                </a:lnTo>
                <a:lnTo>
                  <a:pt x="107" y="101"/>
                </a:lnTo>
                <a:lnTo>
                  <a:pt x="100" y="104"/>
                </a:lnTo>
                <a:lnTo>
                  <a:pt x="92" y="106"/>
                </a:lnTo>
                <a:lnTo>
                  <a:pt x="81" y="115"/>
                </a:lnTo>
                <a:lnTo>
                  <a:pt x="74" y="126"/>
                </a:lnTo>
                <a:lnTo>
                  <a:pt x="71" y="137"/>
                </a:lnTo>
                <a:lnTo>
                  <a:pt x="71" y="149"/>
                </a:lnTo>
                <a:lnTo>
                  <a:pt x="75" y="155"/>
                </a:lnTo>
                <a:lnTo>
                  <a:pt x="82" y="161"/>
                </a:lnTo>
                <a:lnTo>
                  <a:pt x="87" y="167"/>
                </a:lnTo>
                <a:lnTo>
                  <a:pt x="84" y="173"/>
                </a:lnTo>
                <a:lnTo>
                  <a:pt x="69" y="156"/>
                </a:lnTo>
                <a:lnTo>
                  <a:pt x="53" y="139"/>
                </a:lnTo>
                <a:lnTo>
                  <a:pt x="39" y="121"/>
                </a:lnTo>
                <a:lnTo>
                  <a:pt x="28" y="103"/>
                </a:lnTo>
                <a:lnTo>
                  <a:pt x="17" y="85"/>
                </a:lnTo>
                <a:lnTo>
                  <a:pt x="9" y="66"/>
                </a:lnTo>
                <a:lnTo>
                  <a:pt x="3" y="46"/>
                </a:lnTo>
                <a:lnTo>
                  <a:pt x="0" y="26"/>
                </a:lnTo>
                <a:lnTo>
                  <a:pt x="23" y="12"/>
                </a:lnTo>
                <a:lnTo>
                  <a:pt x="50" y="4"/>
                </a:lnTo>
                <a:lnTo>
                  <a:pt x="78" y="0"/>
                </a:lnTo>
                <a:lnTo>
                  <a:pt x="107" y="0"/>
                </a:lnTo>
                <a:lnTo>
                  <a:pt x="132" y="1"/>
                </a:lnTo>
                <a:lnTo>
                  <a:pt x="155" y="4"/>
                </a:lnTo>
                <a:lnTo>
                  <a:pt x="169" y="6"/>
                </a:lnTo>
                <a:lnTo>
                  <a:pt x="174" y="7"/>
                </a:lnTo>
                <a:lnTo>
                  <a:pt x="187" y="36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5" name="Freeform 91"/>
          <p:cNvSpPr/>
          <p:nvPr/>
        </p:nvSpPr>
        <p:spPr>
          <a:xfrm>
            <a:off x="6353280" y="4300560"/>
            <a:ext cx="674640" cy="544320"/>
          </a:xfrm>
          <a:custGeom>
            <a:avLst/>
            <a:gdLst>
              <a:gd name="textAreaLeft" fmla="*/ 0 w 674640"/>
              <a:gd name="textAreaRight" fmla="*/ 675000 w 67464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1276" h="686">
                <a:moveTo>
                  <a:pt x="250" y="621"/>
                </a:moveTo>
                <a:lnTo>
                  <a:pt x="247" y="617"/>
                </a:lnTo>
                <a:lnTo>
                  <a:pt x="243" y="612"/>
                </a:lnTo>
                <a:lnTo>
                  <a:pt x="237" y="608"/>
                </a:lnTo>
                <a:lnTo>
                  <a:pt x="230" y="605"/>
                </a:lnTo>
                <a:lnTo>
                  <a:pt x="223" y="601"/>
                </a:lnTo>
                <a:lnTo>
                  <a:pt x="215" y="598"/>
                </a:lnTo>
                <a:lnTo>
                  <a:pt x="208" y="594"/>
                </a:lnTo>
                <a:lnTo>
                  <a:pt x="201" y="592"/>
                </a:lnTo>
                <a:lnTo>
                  <a:pt x="175" y="589"/>
                </a:lnTo>
                <a:lnTo>
                  <a:pt x="150" y="589"/>
                </a:lnTo>
                <a:lnTo>
                  <a:pt x="125" y="591"/>
                </a:lnTo>
                <a:lnTo>
                  <a:pt x="100" y="596"/>
                </a:lnTo>
                <a:lnTo>
                  <a:pt x="78" y="604"/>
                </a:lnTo>
                <a:lnTo>
                  <a:pt x="57" y="614"/>
                </a:lnTo>
                <a:lnTo>
                  <a:pt x="37" y="626"/>
                </a:lnTo>
                <a:lnTo>
                  <a:pt x="19" y="641"/>
                </a:lnTo>
                <a:lnTo>
                  <a:pt x="19" y="629"/>
                </a:lnTo>
                <a:lnTo>
                  <a:pt x="15" y="616"/>
                </a:lnTo>
                <a:lnTo>
                  <a:pt x="8" y="604"/>
                </a:lnTo>
                <a:lnTo>
                  <a:pt x="3" y="590"/>
                </a:lnTo>
                <a:lnTo>
                  <a:pt x="0" y="578"/>
                </a:lnTo>
                <a:lnTo>
                  <a:pt x="1" y="567"/>
                </a:lnTo>
                <a:lnTo>
                  <a:pt x="12" y="558"/>
                </a:lnTo>
                <a:lnTo>
                  <a:pt x="32" y="550"/>
                </a:lnTo>
                <a:lnTo>
                  <a:pt x="47" y="543"/>
                </a:lnTo>
                <a:lnTo>
                  <a:pt x="62" y="537"/>
                </a:lnTo>
                <a:lnTo>
                  <a:pt x="79" y="532"/>
                </a:lnTo>
                <a:lnTo>
                  <a:pt x="96" y="528"/>
                </a:lnTo>
                <a:lnTo>
                  <a:pt x="112" y="525"/>
                </a:lnTo>
                <a:lnTo>
                  <a:pt x="129" y="522"/>
                </a:lnTo>
                <a:lnTo>
                  <a:pt x="146" y="518"/>
                </a:lnTo>
                <a:lnTo>
                  <a:pt x="161" y="514"/>
                </a:lnTo>
                <a:lnTo>
                  <a:pt x="162" y="512"/>
                </a:lnTo>
                <a:lnTo>
                  <a:pt x="165" y="510"/>
                </a:lnTo>
                <a:lnTo>
                  <a:pt x="166" y="508"/>
                </a:lnTo>
                <a:lnTo>
                  <a:pt x="166" y="506"/>
                </a:lnTo>
                <a:lnTo>
                  <a:pt x="159" y="504"/>
                </a:lnTo>
                <a:lnTo>
                  <a:pt x="153" y="503"/>
                </a:lnTo>
                <a:lnTo>
                  <a:pt x="144" y="503"/>
                </a:lnTo>
                <a:lnTo>
                  <a:pt x="136" y="504"/>
                </a:lnTo>
                <a:lnTo>
                  <a:pt x="128" y="504"/>
                </a:lnTo>
                <a:lnTo>
                  <a:pt x="121" y="505"/>
                </a:lnTo>
                <a:lnTo>
                  <a:pt x="112" y="506"/>
                </a:lnTo>
                <a:lnTo>
                  <a:pt x="104" y="506"/>
                </a:lnTo>
                <a:lnTo>
                  <a:pt x="94" y="508"/>
                </a:lnTo>
                <a:lnTo>
                  <a:pt x="82" y="510"/>
                </a:lnTo>
                <a:lnTo>
                  <a:pt x="72" y="509"/>
                </a:lnTo>
                <a:lnTo>
                  <a:pt x="66" y="501"/>
                </a:lnTo>
                <a:lnTo>
                  <a:pt x="65" y="489"/>
                </a:lnTo>
                <a:lnTo>
                  <a:pt x="68" y="478"/>
                </a:lnTo>
                <a:lnTo>
                  <a:pt x="72" y="468"/>
                </a:lnTo>
                <a:lnTo>
                  <a:pt x="78" y="458"/>
                </a:lnTo>
                <a:lnTo>
                  <a:pt x="84" y="448"/>
                </a:lnTo>
                <a:lnTo>
                  <a:pt x="91" y="438"/>
                </a:lnTo>
                <a:lnTo>
                  <a:pt x="97" y="428"/>
                </a:lnTo>
                <a:lnTo>
                  <a:pt x="103" y="417"/>
                </a:lnTo>
                <a:lnTo>
                  <a:pt x="109" y="402"/>
                </a:lnTo>
                <a:lnTo>
                  <a:pt x="115" y="387"/>
                </a:lnTo>
                <a:lnTo>
                  <a:pt x="121" y="372"/>
                </a:lnTo>
                <a:lnTo>
                  <a:pt x="128" y="357"/>
                </a:lnTo>
                <a:lnTo>
                  <a:pt x="133" y="342"/>
                </a:lnTo>
                <a:lnTo>
                  <a:pt x="140" y="327"/>
                </a:lnTo>
                <a:lnTo>
                  <a:pt x="147" y="312"/>
                </a:lnTo>
                <a:lnTo>
                  <a:pt x="155" y="298"/>
                </a:lnTo>
                <a:lnTo>
                  <a:pt x="191" y="170"/>
                </a:lnTo>
                <a:lnTo>
                  <a:pt x="198" y="162"/>
                </a:lnTo>
                <a:lnTo>
                  <a:pt x="209" y="152"/>
                </a:lnTo>
                <a:lnTo>
                  <a:pt x="226" y="141"/>
                </a:lnTo>
                <a:lnTo>
                  <a:pt x="246" y="128"/>
                </a:lnTo>
                <a:lnTo>
                  <a:pt x="266" y="114"/>
                </a:lnTo>
                <a:lnTo>
                  <a:pt x="291" y="100"/>
                </a:lnTo>
                <a:lnTo>
                  <a:pt x="316" y="85"/>
                </a:lnTo>
                <a:lnTo>
                  <a:pt x="341" y="71"/>
                </a:lnTo>
                <a:lnTo>
                  <a:pt x="366" y="57"/>
                </a:lnTo>
                <a:lnTo>
                  <a:pt x="391" y="44"/>
                </a:lnTo>
                <a:lnTo>
                  <a:pt x="414" y="32"/>
                </a:lnTo>
                <a:lnTo>
                  <a:pt x="433" y="21"/>
                </a:lnTo>
                <a:lnTo>
                  <a:pt x="451" y="13"/>
                </a:lnTo>
                <a:lnTo>
                  <a:pt x="464" y="6"/>
                </a:lnTo>
                <a:lnTo>
                  <a:pt x="472" y="2"/>
                </a:lnTo>
                <a:lnTo>
                  <a:pt x="475" y="0"/>
                </a:lnTo>
                <a:lnTo>
                  <a:pt x="490" y="24"/>
                </a:lnTo>
                <a:lnTo>
                  <a:pt x="478" y="42"/>
                </a:lnTo>
                <a:lnTo>
                  <a:pt x="466" y="61"/>
                </a:lnTo>
                <a:lnTo>
                  <a:pt x="458" y="80"/>
                </a:lnTo>
                <a:lnTo>
                  <a:pt x="450" y="100"/>
                </a:lnTo>
                <a:lnTo>
                  <a:pt x="446" y="121"/>
                </a:lnTo>
                <a:lnTo>
                  <a:pt x="443" y="142"/>
                </a:lnTo>
                <a:lnTo>
                  <a:pt x="443" y="163"/>
                </a:lnTo>
                <a:lnTo>
                  <a:pt x="447" y="184"/>
                </a:lnTo>
                <a:lnTo>
                  <a:pt x="451" y="183"/>
                </a:lnTo>
                <a:lnTo>
                  <a:pt x="461" y="178"/>
                </a:lnTo>
                <a:lnTo>
                  <a:pt x="473" y="170"/>
                </a:lnTo>
                <a:lnTo>
                  <a:pt x="490" y="162"/>
                </a:lnTo>
                <a:lnTo>
                  <a:pt x="509" y="154"/>
                </a:lnTo>
                <a:lnTo>
                  <a:pt x="529" y="147"/>
                </a:lnTo>
                <a:lnTo>
                  <a:pt x="548" y="143"/>
                </a:lnTo>
                <a:lnTo>
                  <a:pt x="566" y="143"/>
                </a:lnTo>
                <a:lnTo>
                  <a:pt x="601" y="173"/>
                </a:lnTo>
                <a:lnTo>
                  <a:pt x="682" y="289"/>
                </a:lnTo>
                <a:lnTo>
                  <a:pt x="683" y="291"/>
                </a:lnTo>
                <a:lnTo>
                  <a:pt x="687" y="290"/>
                </a:lnTo>
                <a:lnTo>
                  <a:pt x="693" y="288"/>
                </a:lnTo>
                <a:lnTo>
                  <a:pt x="700" y="284"/>
                </a:lnTo>
                <a:lnTo>
                  <a:pt x="707" y="279"/>
                </a:lnTo>
                <a:lnTo>
                  <a:pt x="714" y="272"/>
                </a:lnTo>
                <a:lnTo>
                  <a:pt x="722" y="266"/>
                </a:lnTo>
                <a:lnTo>
                  <a:pt x="730" y="260"/>
                </a:lnTo>
                <a:lnTo>
                  <a:pt x="741" y="243"/>
                </a:lnTo>
                <a:lnTo>
                  <a:pt x="755" y="226"/>
                </a:lnTo>
                <a:lnTo>
                  <a:pt x="772" y="210"/>
                </a:lnTo>
                <a:lnTo>
                  <a:pt x="793" y="195"/>
                </a:lnTo>
                <a:lnTo>
                  <a:pt x="815" y="183"/>
                </a:lnTo>
                <a:lnTo>
                  <a:pt x="839" y="174"/>
                </a:lnTo>
                <a:lnTo>
                  <a:pt x="864" y="167"/>
                </a:lnTo>
                <a:lnTo>
                  <a:pt x="890" y="164"/>
                </a:lnTo>
                <a:lnTo>
                  <a:pt x="905" y="163"/>
                </a:lnTo>
                <a:lnTo>
                  <a:pt x="919" y="164"/>
                </a:lnTo>
                <a:lnTo>
                  <a:pt x="932" y="166"/>
                </a:lnTo>
                <a:lnTo>
                  <a:pt x="943" y="171"/>
                </a:lnTo>
                <a:lnTo>
                  <a:pt x="954" y="177"/>
                </a:lnTo>
                <a:lnTo>
                  <a:pt x="962" y="184"/>
                </a:lnTo>
                <a:lnTo>
                  <a:pt x="972" y="191"/>
                </a:lnTo>
                <a:lnTo>
                  <a:pt x="980" y="199"/>
                </a:lnTo>
                <a:lnTo>
                  <a:pt x="987" y="209"/>
                </a:lnTo>
                <a:lnTo>
                  <a:pt x="991" y="220"/>
                </a:lnTo>
                <a:lnTo>
                  <a:pt x="997" y="230"/>
                </a:lnTo>
                <a:lnTo>
                  <a:pt x="1009" y="236"/>
                </a:lnTo>
                <a:lnTo>
                  <a:pt x="1025" y="215"/>
                </a:lnTo>
                <a:lnTo>
                  <a:pt x="1037" y="192"/>
                </a:lnTo>
                <a:lnTo>
                  <a:pt x="1047" y="168"/>
                </a:lnTo>
                <a:lnTo>
                  <a:pt x="1054" y="143"/>
                </a:lnTo>
                <a:lnTo>
                  <a:pt x="1058" y="117"/>
                </a:lnTo>
                <a:lnTo>
                  <a:pt x="1059" y="92"/>
                </a:lnTo>
                <a:lnTo>
                  <a:pt x="1058" y="66"/>
                </a:lnTo>
                <a:lnTo>
                  <a:pt x="1053" y="41"/>
                </a:lnTo>
                <a:lnTo>
                  <a:pt x="1072" y="44"/>
                </a:lnTo>
                <a:lnTo>
                  <a:pt x="1091" y="48"/>
                </a:lnTo>
                <a:lnTo>
                  <a:pt x="1109" y="52"/>
                </a:lnTo>
                <a:lnTo>
                  <a:pt x="1128" y="57"/>
                </a:lnTo>
                <a:lnTo>
                  <a:pt x="1146" y="63"/>
                </a:lnTo>
                <a:lnTo>
                  <a:pt x="1164" y="69"/>
                </a:lnTo>
                <a:lnTo>
                  <a:pt x="1180" y="75"/>
                </a:lnTo>
                <a:lnTo>
                  <a:pt x="1197" y="81"/>
                </a:lnTo>
                <a:lnTo>
                  <a:pt x="1200" y="101"/>
                </a:lnTo>
                <a:lnTo>
                  <a:pt x="1204" y="123"/>
                </a:lnTo>
                <a:lnTo>
                  <a:pt x="1205" y="141"/>
                </a:lnTo>
                <a:lnTo>
                  <a:pt x="1207" y="148"/>
                </a:lnTo>
                <a:lnTo>
                  <a:pt x="1214" y="153"/>
                </a:lnTo>
                <a:lnTo>
                  <a:pt x="1222" y="155"/>
                </a:lnTo>
                <a:lnTo>
                  <a:pt x="1230" y="156"/>
                </a:lnTo>
                <a:lnTo>
                  <a:pt x="1240" y="157"/>
                </a:lnTo>
                <a:lnTo>
                  <a:pt x="1248" y="156"/>
                </a:lnTo>
                <a:lnTo>
                  <a:pt x="1258" y="156"/>
                </a:lnTo>
                <a:lnTo>
                  <a:pt x="1268" y="156"/>
                </a:lnTo>
                <a:lnTo>
                  <a:pt x="1276" y="157"/>
                </a:lnTo>
                <a:lnTo>
                  <a:pt x="1273" y="159"/>
                </a:lnTo>
                <a:lnTo>
                  <a:pt x="1266" y="165"/>
                </a:lnTo>
                <a:lnTo>
                  <a:pt x="1255" y="173"/>
                </a:lnTo>
                <a:lnTo>
                  <a:pt x="1241" y="183"/>
                </a:lnTo>
                <a:lnTo>
                  <a:pt x="1228" y="194"/>
                </a:lnTo>
                <a:lnTo>
                  <a:pt x="1214" y="206"/>
                </a:lnTo>
                <a:lnTo>
                  <a:pt x="1201" y="217"/>
                </a:lnTo>
                <a:lnTo>
                  <a:pt x="1190" y="226"/>
                </a:lnTo>
                <a:lnTo>
                  <a:pt x="941" y="287"/>
                </a:lnTo>
                <a:lnTo>
                  <a:pt x="926" y="292"/>
                </a:lnTo>
                <a:lnTo>
                  <a:pt x="909" y="297"/>
                </a:lnTo>
                <a:lnTo>
                  <a:pt x="893" y="302"/>
                </a:lnTo>
                <a:lnTo>
                  <a:pt x="876" y="307"/>
                </a:lnTo>
                <a:lnTo>
                  <a:pt x="861" y="314"/>
                </a:lnTo>
                <a:lnTo>
                  <a:pt x="846" y="323"/>
                </a:lnTo>
                <a:lnTo>
                  <a:pt x="832" y="334"/>
                </a:lnTo>
                <a:lnTo>
                  <a:pt x="819" y="348"/>
                </a:lnTo>
                <a:lnTo>
                  <a:pt x="823" y="358"/>
                </a:lnTo>
                <a:lnTo>
                  <a:pt x="830" y="368"/>
                </a:lnTo>
                <a:lnTo>
                  <a:pt x="839" y="379"/>
                </a:lnTo>
                <a:lnTo>
                  <a:pt x="847" y="390"/>
                </a:lnTo>
                <a:lnTo>
                  <a:pt x="855" y="400"/>
                </a:lnTo>
                <a:lnTo>
                  <a:pt x="862" y="408"/>
                </a:lnTo>
                <a:lnTo>
                  <a:pt x="866" y="415"/>
                </a:lnTo>
                <a:lnTo>
                  <a:pt x="866" y="420"/>
                </a:lnTo>
                <a:lnTo>
                  <a:pt x="859" y="424"/>
                </a:lnTo>
                <a:lnTo>
                  <a:pt x="851" y="429"/>
                </a:lnTo>
                <a:lnTo>
                  <a:pt x="844" y="433"/>
                </a:lnTo>
                <a:lnTo>
                  <a:pt x="836" y="438"/>
                </a:lnTo>
                <a:lnTo>
                  <a:pt x="829" y="444"/>
                </a:lnTo>
                <a:lnTo>
                  <a:pt x="823" y="449"/>
                </a:lnTo>
                <a:lnTo>
                  <a:pt x="819" y="455"/>
                </a:lnTo>
                <a:lnTo>
                  <a:pt x="816" y="462"/>
                </a:lnTo>
                <a:lnTo>
                  <a:pt x="825" y="468"/>
                </a:lnTo>
                <a:lnTo>
                  <a:pt x="832" y="474"/>
                </a:lnTo>
                <a:lnTo>
                  <a:pt x="839" y="481"/>
                </a:lnTo>
                <a:lnTo>
                  <a:pt x="847" y="487"/>
                </a:lnTo>
                <a:lnTo>
                  <a:pt x="855" y="493"/>
                </a:lnTo>
                <a:lnTo>
                  <a:pt x="865" y="497"/>
                </a:lnTo>
                <a:lnTo>
                  <a:pt x="875" y="499"/>
                </a:lnTo>
                <a:lnTo>
                  <a:pt x="886" y="498"/>
                </a:lnTo>
                <a:lnTo>
                  <a:pt x="893" y="495"/>
                </a:lnTo>
                <a:lnTo>
                  <a:pt x="900" y="492"/>
                </a:lnTo>
                <a:lnTo>
                  <a:pt x="905" y="489"/>
                </a:lnTo>
                <a:lnTo>
                  <a:pt x="912" y="485"/>
                </a:lnTo>
                <a:lnTo>
                  <a:pt x="918" y="481"/>
                </a:lnTo>
                <a:lnTo>
                  <a:pt x="925" y="478"/>
                </a:lnTo>
                <a:lnTo>
                  <a:pt x="930" y="474"/>
                </a:lnTo>
                <a:lnTo>
                  <a:pt x="937" y="470"/>
                </a:lnTo>
                <a:lnTo>
                  <a:pt x="943" y="473"/>
                </a:lnTo>
                <a:lnTo>
                  <a:pt x="947" y="476"/>
                </a:lnTo>
                <a:lnTo>
                  <a:pt x="951" y="480"/>
                </a:lnTo>
                <a:lnTo>
                  <a:pt x="957" y="484"/>
                </a:lnTo>
                <a:lnTo>
                  <a:pt x="950" y="490"/>
                </a:lnTo>
                <a:lnTo>
                  <a:pt x="941" y="495"/>
                </a:lnTo>
                <a:lnTo>
                  <a:pt x="936" y="502"/>
                </a:lnTo>
                <a:lnTo>
                  <a:pt x="937" y="509"/>
                </a:lnTo>
                <a:lnTo>
                  <a:pt x="941" y="515"/>
                </a:lnTo>
                <a:lnTo>
                  <a:pt x="946" y="520"/>
                </a:lnTo>
                <a:lnTo>
                  <a:pt x="953" y="526"/>
                </a:lnTo>
                <a:lnTo>
                  <a:pt x="959" y="531"/>
                </a:lnTo>
                <a:lnTo>
                  <a:pt x="966" y="535"/>
                </a:lnTo>
                <a:lnTo>
                  <a:pt x="973" y="540"/>
                </a:lnTo>
                <a:lnTo>
                  <a:pt x="982" y="543"/>
                </a:lnTo>
                <a:lnTo>
                  <a:pt x="989" y="547"/>
                </a:lnTo>
                <a:lnTo>
                  <a:pt x="997" y="547"/>
                </a:lnTo>
                <a:lnTo>
                  <a:pt x="1004" y="545"/>
                </a:lnTo>
                <a:lnTo>
                  <a:pt x="1011" y="542"/>
                </a:lnTo>
                <a:lnTo>
                  <a:pt x="1018" y="537"/>
                </a:lnTo>
                <a:lnTo>
                  <a:pt x="1025" y="543"/>
                </a:lnTo>
                <a:lnTo>
                  <a:pt x="1034" y="549"/>
                </a:lnTo>
                <a:lnTo>
                  <a:pt x="1044" y="556"/>
                </a:lnTo>
                <a:lnTo>
                  <a:pt x="1054" y="562"/>
                </a:lnTo>
                <a:lnTo>
                  <a:pt x="1061" y="568"/>
                </a:lnTo>
                <a:lnTo>
                  <a:pt x="1065" y="575"/>
                </a:lnTo>
                <a:lnTo>
                  <a:pt x="1065" y="582"/>
                </a:lnTo>
                <a:lnTo>
                  <a:pt x="1057" y="590"/>
                </a:lnTo>
                <a:lnTo>
                  <a:pt x="1058" y="600"/>
                </a:lnTo>
                <a:lnTo>
                  <a:pt x="1064" y="607"/>
                </a:lnTo>
                <a:lnTo>
                  <a:pt x="1071" y="613"/>
                </a:lnTo>
                <a:lnTo>
                  <a:pt x="1076" y="620"/>
                </a:lnTo>
                <a:lnTo>
                  <a:pt x="1065" y="628"/>
                </a:lnTo>
                <a:lnTo>
                  <a:pt x="1055" y="636"/>
                </a:lnTo>
                <a:lnTo>
                  <a:pt x="1046" y="644"/>
                </a:lnTo>
                <a:lnTo>
                  <a:pt x="1037" y="652"/>
                </a:lnTo>
                <a:lnTo>
                  <a:pt x="1029" y="661"/>
                </a:lnTo>
                <a:lnTo>
                  <a:pt x="1021" y="669"/>
                </a:lnTo>
                <a:lnTo>
                  <a:pt x="1012" y="678"/>
                </a:lnTo>
                <a:lnTo>
                  <a:pt x="1004" y="686"/>
                </a:lnTo>
                <a:lnTo>
                  <a:pt x="646" y="408"/>
                </a:lnTo>
                <a:lnTo>
                  <a:pt x="637" y="412"/>
                </a:lnTo>
                <a:lnTo>
                  <a:pt x="629" y="417"/>
                </a:lnTo>
                <a:lnTo>
                  <a:pt x="619" y="423"/>
                </a:lnTo>
                <a:lnTo>
                  <a:pt x="611" y="430"/>
                </a:lnTo>
                <a:lnTo>
                  <a:pt x="603" y="436"/>
                </a:lnTo>
                <a:lnTo>
                  <a:pt x="596" y="441"/>
                </a:lnTo>
                <a:lnTo>
                  <a:pt x="590" y="445"/>
                </a:lnTo>
                <a:lnTo>
                  <a:pt x="589" y="447"/>
                </a:lnTo>
                <a:lnTo>
                  <a:pt x="844" y="656"/>
                </a:lnTo>
                <a:lnTo>
                  <a:pt x="833" y="655"/>
                </a:lnTo>
                <a:lnTo>
                  <a:pt x="821" y="655"/>
                </a:lnTo>
                <a:lnTo>
                  <a:pt x="808" y="656"/>
                </a:lnTo>
                <a:lnTo>
                  <a:pt x="797" y="657"/>
                </a:lnTo>
                <a:lnTo>
                  <a:pt x="787" y="656"/>
                </a:lnTo>
                <a:lnTo>
                  <a:pt x="779" y="653"/>
                </a:lnTo>
                <a:lnTo>
                  <a:pt x="773" y="647"/>
                </a:lnTo>
                <a:lnTo>
                  <a:pt x="771" y="637"/>
                </a:lnTo>
                <a:lnTo>
                  <a:pt x="758" y="626"/>
                </a:lnTo>
                <a:lnTo>
                  <a:pt x="744" y="618"/>
                </a:lnTo>
                <a:lnTo>
                  <a:pt x="728" y="613"/>
                </a:lnTo>
                <a:lnTo>
                  <a:pt x="711" y="610"/>
                </a:lnTo>
                <a:lnTo>
                  <a:pt x="693" y="609"/>
                </a:lnTo>
                <a:lnTo>
                  <a:pt x="675" y="608"/>
                </a:lnTo>
                <a:lnTo>
                  <a:pt x="657" y="609"/>
                </a:lnTo>
                <a:lnTo>
                  <a:pt x="639" y="610"/>
                </a:lnTo>
                <a:lnTo>
                  <a:pt x="626" y="602"/>
                </a:lnTo>
                <a:lnTo>
                  <a:pt x="614" y="594"/>
                </a:lnTo>
                <a:lnTo>
                  <a:pt x="601" y="589"/>
                </a:lnTo>
                <a:lnTo>
                  <a:pt x="587" y="584"/>
                </a:lnTo>
                <a:lnTo>
                  <a:pt x="572" y="580"/>
                </a:lnTo>
                <a:lnTo>
                  <a:pt x="557" y="578"/>
                </a:lnTo>
                <a:lnTo>
                  <a:pt x="541" y="577"/>
                </a:lnTo>
                <a:lnTo>
                  <a:pt x="526" y="577"/>
                </a:lnTo>
                <a:lnTo>
                  <a:pt x="514" y="580"/>
                </a:lnTo>
                <a:lnTo>
                  <a:pt x="501" y="584"/>
                </a:lnTo>
                <a:lnTo>
                  <a:pt x="489" y="588"/>
                </a:lnTo>
                <a:lnTo>
                  <a:pt x="476" y="593"/>
                </a:lnTo>
                <a:lnTo>
                  <a:pt x="465" y="600"/>
                </a:lnTo>
                <a:lnTo>
                  <a:pt x="455" y="607"/>
                </a:lnTo>
                <a:lnTo>
                  <a:pt x="446" y="614"/>
                </a:lnTo>
                <a:lnTo>
                  <a:pt x="439" y="623"/>
                </a:lnTo>
                <a:lnTo>
                  <a:pt x="432" y="618"/>
                </a:lnTo>
                <a:lnTo>
                  <a:pt x="422" y="615"/>
                </a:lnTo>
                <a:lnTo>
                  <a:pt x="411" y="614"/>
                </a:lnTo>
                <a:lnTo>
                  <a:pt x="401" y="613"/>
                </a:lnTo>
                <a:lnTo>
                  <a:pt x="391" y="611"/>
                </a:lnTo>
                <a:lnTo>
                  <a:pt x="383" y="609"/>
                </a:lnTo>
                <a:lnTo>
                  <a:pt x="379" y="604"/>
                </a:lnTo>
                <a:lnTo>
                  <a:pt x="378" y="596"/>
                </a:lnTo>
                <a:lnTo>
                  <a:pt x="380" y="569"/>
                </a:lnTo>
                <a:lnTo>
                  <a:pt x="382" y="543"/>
                </a:lnTo>
                <a:lnTo>
                  <a:pt x="380" y="517"/>
                </a:lnTo>
                <a:lnTo>
                  <a:pt x="378" y="491"/>
                </a:lnTo>
                <a:lnTo>
                  <a:pt x="373" y="466"/>
                </a:lnTo>
                <a:lnTo>
                  <a:pt x="366" y="441"/>
                </a:lnTo>
                <a:lnTo>
                  <a:pt x="357" y="417"/>
                </a:lnTo>
                <a:lnTo>
                  <a:pt x="346" y="394"/>
                </a:lnTo>
                <a:lnTo>
                  <a:pt x="344" y="355"/>
                </a:lnTo>
                <a:lnTo>
                  <a:pt x="347" y="316"/>
                </a:lnTo>
                <a:lnTo>
                  <a:pt x="348" y="275"/>
                </a:lnTo>
                <a:lnTo>
                  <a:pt x="344" y="237"/>
                </a:lnTo>
                <a:lnTo>
                  <a:pt x="340" y="234"/>
                </a:lnTo>
                <a:lnTo>
                  <a:pt x="336" y="233"/>
                </a:lnTo>
                <a:lnTo>
                  <a:pt x="332" y="233"/>
                </a:lnTo>
                <a:lnTo>
                  <a:pt x="326" y="233"/>
                </a:lnTo>
                <a:lnTo>
                  <a:pt x="315" y="414"/>
                </a:lnTo>
                <a:lnTo>
                  <a:pt x="326" y="468"/>
                </a:lnTo>
                <a:lnTo>
                  <a:pt x="332" y="524"/>
                </a:lnTo>
                <a:lnTo>
                  <a:pt x="332" y="581"/>
                </a:lnTo>
                <a:lnTo>
                  <a:pt x="326" y="639"/>
                </a:lnTo>
                <a:lnTo>
                  <a:pt x="308" y="655"/>
                </a:lnTo>
                <a:lnTo>
                  <a:pt x="307" y="655"/>
                </a:lnTo>
                <a:lnTo>
                  <a:pt x="304" y="655"/>
                </a:lnTo>
                <a:lnTo>
                  <a:pt x="300" y="655"/>
                </a:lnTo>
                <a:lnTo>
                  <a:pt x="294" y="655"/>
                </a:lnTo>
                <a:lnTo>
                  <a:pt x="287" y="655"/>
                </a:lnTo>
                <a:lnTo>
                  <a:pt x="280" y="655"/>
                </a:lnTo>
                <a:lnTo>
                  <a:pt x="272" y="655"/>
                </a:lnTo>
                <a:lnTo>
                  <a:pt x="262" y="655"/>
                </a:lnTo>
                <a:lnTo>
                  <a:pt x="261" y="651"/>
                </a:lnTo>
                <a:lnTo>
                  <a:pt x="258" y="642"/>
                </a:lnTo>
                <a:lnTo>
                  <a:pt x="254" y="631"/>
                </a:lnTo>
                <a:lnTo>
                  <a:pt x="250" y="621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6" name="Freeform 92"/>
          <p:cNvSpPr/>
          <p:nvPr/>
        </p:nvSpPr>
        <p:spPr>
          <a:xfrm>
            <a:off x="7067520" y="4348080"/>
            <a:ext cx="193680" cy="243000"/>
          </a:xfrm>
          <a:custGeom>
            <a:avLst/>
            <a:gdLst>
              <a:gd name="textAreaLeft" fmla="*/ 0 w 193680"/>
              <a:gd name="textAreaRight" fmla="*/ 194040 w 193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65" h="306">
                <a:moveTo>
                  <a:pt x="247" y="111"/>
                </a:moveTo>
                <a:lnTo>
                  <a:pt x="256" y="136"/>
                </a:lnTo>
                <a:lnTo>
                  <a:pt x="267" y="160"/>
                </a:lnTo>
                <a:lnTo>
                  <a:pt x="279" y="184"/>
                </a:lnTo>
                <a:lnTo>
                  <a:pt x="296" y="207"/>
                </a:lnTo>
                <a:lnTo>
                  <a:pt x="313" y="231"/>
                </a:lnTo>
                <a:lnTo>
                  <a:pt x="329" y="254"/>
                </a:lnTo>
                <a:lnTo>
                  <a:pt x="347" y="276"/>
                </a:lnTo>
                <a:lnTo>
                  <a:pt x="365" y="299"/>
                </a:lnTo>
                <a:lnTo>
                  <a:pt x="358" y="303"/>
                </a:lnTo>
                <a:lnTo>
                  <a:pt x="349" y="305"/>
                </a:lnTo>
                <a:lnTo>
                  <a:pt x="339" y="306"/>
                </a:lnTo>
                <a:lnTo>
                  <a:pt x="329" y="306"/>
                </a:lnTo>
                <a:lnTo>
                  <a:pt x="320" y="306"/>
                </a:lnTo>
                <a:lnTo>
                  <a:pt x="310" y="305"/>
                </a:lnTo>
                <a:lnTo>
                  <a:pt x="300" y="303"/>
                </a:lnTo>
                <a:lnTo>
                  <a:pt x="292" y="302"/>
                </a:lnTo>
                <a:lnTo>
                  <a:pt x="275" y="294"/>
                </a:lnTo>
                <a:lnTo>
                  <a:pt x="258" y="287"/>
                </a:lnTo>
                <a:lnTo>
                  <a:pt x="240" y="280"/>
                </a:lnTo>
                <a:lnTo>
                  <a:pt x="222" y="272"/>
                </a:lnTo>
                <a:lnTo>
                  <a:pt x="203" y="265"/>
                </a:lnTo>
                <a:lnTo>
                  <a:pt x="185" y="258"/>
                </a:lnTo>
                <a:lnTo>
                  <a:pt x="167" y="251"/>
                </a:lnTo>
                <a:lnTo>
                  <a:pt x="149" y="243"/>
                </a:lnTo>
                <a:lnTo>
                  <a:pt x="132" y="234"/>
                </a:lnTo>
                <a:lnTo>
                  <a:pt x="115" y="225"/>
                </a:lnTo>
                <a:lnTo>
                  <a:pt x="101" y="214"/>
                </a:lnTo>
                <a:lnTo>
                  <a:pt x="89" y="203"/>
                </a:lnTo>
                <a:lnTo>
                  <a:pt x="78" y="191"/>
                </a:lnTo>
                <a:lnTo>
                  <a:pt x="68" y="178"/>
                </a:lnTo>
                <a:lnTo>
                  <a:pt x="61" y="163"/>
                </a:lnTo>
                <a:lnTo>
                  <a:pt x="57" y="147"/>
                </a:lnTo>
                <a:lnTo>
                  <a:pt x="65" y="135"/>
                </a:lnTo>
                <a:lnTo>
                  <a:pt x="76" y="124"/>
                </a:lnTo>
                <a:lnTo>
                  <a:pt x="88" y="113"/>
                </a:lnTo>
                <a:lnTo>
                  <a:pt x="92" y="100"/>
                </a:lnTo>
                <a:lnTo>
                  <a:pt x="89" y="97"/>
                </a:lnTo>
                <a:lnTo>
                  <a:pt x="85" y="95"/>
                </a:lnTo>
                <a:lnTo>
                  <a:pt x="81" y="95"/>
                </a:lnTo>
                <a:lnTo>
                  <a:pt x="76" y="96"/>
                </a:lnTo>
                <a:lnTo>
                  <a:pt x="72" y="100"/>
                </a:lnTo>
                <a:lnTo>
                  <a:pt x="67" y="105"/>
                </a:lnTo>
                <a:lnTo>
                  <a:pt x="63" y="110"/>
                </a:lnTo>
                <a:lnTo>
                  <a:pt x="58" y="115"/>
                </a:lnTo>
                <a:lnTo>
                  <a:pt x="53" y="119"/>
                </a:lnTo>
                <a:lnTo>
                  <a:pt x="46" y="123"/>
                </a:lnTo>
                <a:lnTo>
                  <a:pt x="40" y="126"/>
                </a:lnTo>
                <a:lnTo>
                  <a:pt x="32" y="127"/>
                </a:lnTo>
                <a:lnTo>
                  <a:pt x="18" y="120"/>
                </a:lnTo>
                <a:lnTo>
                  <a:pt x="11" y="110"/>
                </a:lnTo>
                <a:lnTo>
                  <a:pt x="6" y="99"/>
                </a:lnTo>
                <a:lnTo>
                  <a:pt x="0" y="89"/>
                </a:lnTo>
                <a:lnTo>
                  <a:pt x="15" y="85"/>
                </a:lnTo>
                <a:lnTo>
                  <a:pt x="29" y="79"/>
                </a:lnTo>
                <a:lnTo>
                  <a:pt x="45" y="73"/>
                </a:lnTo>
                <a:lnTo>
                  <a:pt x="58" y="65"/>
                </a:lnTo>
                <a:lnTo>
                  <a:pt x="71" y="57"/>
                </a:lnTo>
                <a:lnTo>
                  <a:pt x="81" y="48"/>
                </a:lnTo>
                <a:lnTo>
                  <a:pt x="89" y="37"/>
                </a:lnTo>
                <a:lnTo>
                  <a:pt x="93" y="26"/>
                </a:lnTo>
                <a:lnTo>
                  <a:pt x="96" y="30"/>
                </a:lnTo>
                <a:lnTo>
                  <a:pt x="99" y="34"/>
                </a:lnTo>
                <a:lnTo>
                  <a:pt x="101" y="39"/>
                </a:lnTo>
                <a:lnTo>
                  <a:pt x="107" y="42"/>
                </a:lnTo>
                <a:lnTo>
                  <a:pt x="118" y="42"/>
                </a:lnTo>
                <a:lnTo>
                  <a:pt x="131" y="40"/>
                </a:lnTo>
                <a:lnTo>
                  <a:pt x="142" y="37"/>
                </a:lnTo>
                <a:lnTo>
                  <a:pt x="151" y="33"/>
                </a:lnTo>
                <a:lnTo>
                  <a:pt x="161" y="28"/>
                </a:lnTo>
                <a:lnTo>
                  <a:pt x="171" y="22"/>
                </a:lnTo>
                <a:lnTo>
                  <a:pt x="178" y="16"/>
                </a:lnTo>
                <a:lnTo>
                  <a:pt x="183" y="8"/>
                </a:lnTo>
                <a:lnTo>
                  <a:pt x="189" y="0"/>
                </a:lnTo>
                <a:lnTo>
                  <a:pt x="247" y="11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7" name="Freeform 93"/>
          <p:cNvSpPr/>
          <p:nvPr/>
        </p:nvSpPr>
        <p:spPr>
          <a:xfrm>
            <a:off x="6715080" y="4334040"/>
            <a:ext cx="76320" cy="23760"/>
          </a:xfrm>
          <a:custGeom>
            <a:avLst/>
            <a:gdLst>
              <a:gd name="textAreaLeft" fmla="*/ 0 w 76320"/>
              <a:gd name="textAreaRight" fmla="*/ 76680 w 763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44" h="31">
                <a:moveTo>
                  <a:pt x="144" y="5"/>
                </a:moveTo>
                <a:lnTo>
                  <a:pt x="142" y="10"/>
                </a:lnTo>
                <a:lnTo>
                  <a:pt x="136" y="15"/>
                </a:lnTo>
                <a:lnTo>
                  <a:pt x="130" y="19"/>
                </a:lnTo>
                <a:lnTo>
                  <a:pt x="125" y="22"/>
                </a:lnTo>
                <a:lnTo>
                  <a:pt x="118" y="24"/>
                </a:lnTo>
                <a:lnTo>
                  <a:pt x="111" y="27"/>
                </a:lnTo>
                <a:lnTo>
                  <a:pt x="104" y="28"/>
                </a:lnTo>
                <a:lnTo>
                  <a:pt x="97" y="29"/>
                </a:lnTo>
                <a:lnTo>
                  <a:pt x="76" y="31"/>
                </a:lnTo>
                <a:lnTo>
                  <a:pt x="57" y="30"/>
                </a:lnTo>
                <a:lnTo>
                  <a:pt x="40" y="26"/>
                </a:lnTo>
                <a:lnTo>
                  <a:pt x="26" y="22"/>
                </a:lnTo>
                <a:lnTo>
                  <a:pt x="15" y="17"/>
                </a:lnTo>
                <a:lnTo>
                  <a:pt x="7" y="13"/>
                </a:lnTo>
                <a:lnTo>
                  <a:pt x="1" y="9"/>
                </a:lnTo>
                <a:lnTo>
                  <a:pt x="0" y="8"/>
                </a:lnTo>
                <a:lnTo>
                  <a:pt x="18" y="9"/>
                </a:lnTo>
                <a:lnTo>
                  <a:pt x="35" y="11"/>
                </a:lnTo>
                <a:lnTo>
                  <a:pt x="53" y="13"/>
                </a:lnTo>
                <a:lnTo>
                  <a:pt x="69" y="14"/>
                </a:lnTo>
                <a:lnTo>
                  <a:pt x="86" y="13"/>
                </a:lnTo>
                <a:lnTo>
                  <a:pt x="103" y="11"/>
                </a:lnTo>
                <a:lnTo>
                  <a:pt x="119" y="7"/>
                </a:lnTo>
                <a:lnTo>
                  <a:pt x="135" y="0"/>
                </a:lnTo>
                <a:lnTo>
                  <a:pt x="137" y="1"/>
                </a:lnTo>
                <a:lnTo>
                  <a:pt x="140" y="2"/>
                </a:lnTo>
                <a:lnTo>
                  <a:pt x="142" y="3"/>
                </a:lnTo>
                <a:lnTo>
                  <a:pt x="14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8" name="Freeform 94"/>
          <p:cNvSpPr/>
          <p:nvPr/>
        </p:nvSpPr>
        <p:spPr>
          <a:xfrm>
            <a:off x="6813720" y="4338720"/>
            <a:ext cx="79200" cy="109440"/>
          </a:xfrm>
          <a:custGeom>
            <a:avLst/>
            <a:gdLst>
              <a:gd name="textAreaLeft" fmla="*/ 0 w 79200"/>
              <a:gd name="textAreaRight" fmla="*/ 79560 w 792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50" h="138">
                <a:moveTo>
                  <a:pt x="130" y="138"/>
                </a:moveTo>
                <a:lnTo>
                  <a:pt x="120" y="129"/>
                </a:lnTo>
                <a:lnTo>
                  <a:pt x="109" y="121"/>
                </a:lnTo>
                <a:lnTo>
                  <a:pt x="98" y="114"/>
                </a:lnTo>
                <a:lnTo>
                  <a:pt x="86" y="109"/>
                </a:lnTo>
                <a:lnTo>
                  <a:pt x="72" y="105"/>
                </a:lnTo>
                <a:lnTo>
                  <a:pt x="58" y="102"/>
                </a:lnTo>
                <a:lnTo>
                  <a:pt x="43" y="100"/>
                </a:lnTo>
                <a:lnTo>
                  <a:pt x="27" y="99"/>
                </a:lnTo>
                <a:lnTo>
                  <a:pt x="0" y="104"/>
                </a:lnTo>
                <a:lnTo>
                  <a:pt x="19" y="93"/>
                </a:lnTo>
                <a:lnTo>
                  <a:pt x="37" y="80"/>
                </a:lnTo>
                <a:lnTo>
                  <a:pt x="54" y="67"/>
                </a:lnTo>
                <a:lnTo>
                  <a:pt x="72" y="53"/>
                </a:lnTo>
                <a:lnTo>
                  <a:pt x="88" y="39"/>
                </a:lnTo>
                <a:lnTo>
                  <a:pt x="105" y="25"/>
                </a:lnTo>
                <a:lnTo>
                  <a:pt x="123" y="12"/>
                </a:lnTo>
                <a:lnTo>
                  <a:pt x="143" y="0"/>
                </a:lnTo>
                <a:lnTo>
                  <a:pt x="150" y="34"/>
                </a:lnTo>
                <a:lnTo>
                  <a:pt x="145" y="69"/>
                </a:lnTo>
                <a:lnTo>
                  <a:pt x="137" y="103"/>
                </a:lnTo>
                <a:lnTo>
                  <a:pt x="130" y="138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9" name="Freeform 95"/>
          <p:cNvSpPr/>
          <p:nvPr/>
        </p:nvSpPr>
        <p:spPr>
          <a:xfrm>
            <a:off x="6603840" y="4335480"/>
            <a:ext cx="82800" cy="92160"/>
          </a:xfrm>
          <a:custGeom>
            <a:avLst/>
            <a:gdLst>
              <a:gd name="textAreaLeft" fmla="*/ 0 w 82800"/>
              <a:gd name="textAreaRight" fmla="*/ 83160 w 828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56" h="116">
                <a:moveTo>
                  <a:pt x="140" y="69"/>
                </a:moveTo>
                <a:lnTo>
                  <a:pt x="143" y="81"/>
                </a:lnTo>
                <a:lnTo>
                  <a:pt x="146" y="93"/>
                </a:lnTo>
                <a:lnTo>
                  <a:pt x="149" y="105"/>
                </a:lnTo>
                <a:lnTo>
                  <a:pt x="156" y="116"/>
                </a:lnTo>
                <a:lnTo>
                  <a:pt x="147" y="110"/>
                </a:lnTo>
                <a:lnTo>
                  <a:pt x="138" y="103"/>
                </a:lnTo>
                <a:lnTo>
                  <a:pt x="128" y="96"/>
                </a:lnTo>
                <a:lnTo>
                  <a:pt x="117" y="89"/>
                </a:lnTo>
                <a:lnTo>
                  <a:pt x="104" y="84"/>
                </a:lnTo>
                <a:lnTo>
                  <a:pt x="90" y="80"/>
                </a:lnTo>
                <a:lnTo>
                  <a:pt x="75" y="80"/>
                </a:lnTo>
                <a:lnTo>
                  <a:pt x="60" y="83"/>
                </a:lnTo>
                <a:lnTo>
                  <a:pt x="52" y="85"/>
                </a:lnTo>
                <a:lnTo>
                  <a:pt x="43" y="87"/>
                </a:lnTo>
                <a:lnTo>
                  <a:pt x="35" y="89"/>
                </a:lnTo>
                <a:lnTo>
                  <a:pt x="28" y="92"/>
                </a:lnTo>
                <a:lnTo>
                  <a:pt x="20" y="95"/>
                </a:lnTo>
                <a:lnTo>
                  <a:pt x="13" y="99"/>
                </a:lnTo>
                <a:lnTo>
                  <a:pt x="6" y="103"/>
                </a:lnTo>
                <a:lnTo>
                  <a:pt x="0" y="108"/>
                </a:lnTo>
                <a:lnTo>
                  <a:pt x="6" y="80"/>
                </a:lnTo>
                <a:lnTo>
                  <a:pt x="11" y="52"/>
                </a:lnTo>
                <a:lnTo>
                  <a:pt x="20" y="26"/>
                </a:lnTo>
                <a:lnTo>
                  <a:pt x="31" y="0"/>
                </a:lnTo>
                <a:lnTo>
                  <a:pt x="43" y="10"/>
                </a:lnTo>
                <a:lnTo>
                  <a:pt x="56" y="20"/>
                </a:lnTo>
                <a:lnTo>
                  <a:pt x="70" y="29"/>
                </a:lnTo>
                <a:lnTo>
                  <a:pt x="83" y="38"/>
                </a:lnTo>
                <a:lnTo>
                  <a:pt x="97" y="46"/>
                </a:lnTo>
                <a:lnTo>
                  <a:pt x="113" y="54"/>
                </a:lnTo>
                <a:lnTo>
                  <a:pt x="127" y="61"/>
                </a:lnTo>
                <a:lnTo>
                  <a:pt x="140" y="69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0" name="Freeform 96"/>
          <p:cNvSpPr/>
          <p:nvPr/>
        </p:nvSpPr>
        <p:spPr>
          <a:xfrm>
            <a:off x="6700680" y="4400640"/>
            <a:ext cx="96840" cy="82440"/>
          </a:xfrm>
          <a:custGeom>
            <a:avLst/>
            <a:gdLst>
              <a:gd name="textAreaLeft" fmla="*/ 0 w 96840"/>
              <a:gd name="textAreaRight" fmla="*/ 97200 w 968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84" h="105">
                <a:moveTo>
                  <a:pt x="51" y="103"/>
                </a:moveTo>
                <a:lnTo>
                  <a:pt x="50" y="105"/>
                </a:lnTo>
                <a:lnTo>
                  <a:pt x="43" y="93"/>
                </a:lnTo>
                <a:lnTo>
                  <a:pt x="34" y="80"/>
                </a:lnTo>
                <a:lnTo>
                  <a:pt x="29" y="68"/>
                </a:lnTo>
                <a:lnTo>
                  <a:pt x="22" y="55"/>
                </a:lnTo>
                <a:lnTo>
                  <a:pt x="16" y="42"/>
                </a:lnTo>
                <a:lnTo>
                  <a:pt x="11" y="28"/>
                </a:lnTo>
                <a:lnTo>
                  <a:pt x="5" y="15"/>
                </a:lnTo>
                <a:lnTo>
                  <a:pt x="0" y="2"/>
                </a:lnTo>
                <a:lnTo>
                  <a:pt x="22" y="4"/>
                </a:lnTo>
                <a:lnTo>
                  <a:pt x="46" y="7"/>
                </a:lnTo>
                <a:lnTo>
                  <a:pt x="69" y="10"/>
                </a:lnTo>
                <a:lnTo>
                  <a:pt x="93" y="12"/>
                </a:lnTo>
                <a:lnTo>
                  <a:pt x="116" y="13"/>
                </a:lnTo>
                <a:lnTo>
                  <a:pt x="140" y="11"/>
                </a:lnTo>
                <a:lnTo>
                  <a:pt x="162" y="7"/>
                </a:lnTo>
                <a:lnTo>
                  <a:pt x="184" y="0"/>
                </a:lnTo>
                <a:lnTo>
                  <a:pt x="169" y="12"/>
                </a:lnTo>
                <a:lnTo>
                  <a:pt x="152" y="24"/>
                </a:lnTo>
                <a:lnTo>
                  <a:pt x="133" y="36"/>
                </a:lnTo>
                <a:lnTo>
                  <a:pt x="114" y="48"/>
                </a:lnTo>
                <a:lnTo>
                  <a:pt x="94" y="60"/>
                </a:lnTo>
                <a:lnTo>
                  <a:pt x="77" y="74"/>
                </a:lnTo>
                <a:lnTo>
                  <a:pt x="62" y="88"/>
                </a:lnTo>
                <a:lnTo>
                  <a:pt x="51" y="103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1" name="Freeform 97"/>
          <p:cNvSpPr/>
          <p:nvPr/>
        </p:nvSpPr>
        <p:spPr>
          <a:xfrm>
            <a:off x="7004160" y="4446720"/>
            <a:ext cx="52200" cy="56880"/>
          </a:xfrm>
          <a:custGeom>
            <a:avLst/>
            <a:gdLst>
              <a:gd name="textAreaLeft" fmla="*/ 0 w 52200"/>
              <a:gd name="textAreaRight" fmla="*/ 52560 w 52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98" h="71">
                <a:moveTo>
                  <a:pt x="98" y="16"/>
                </a:moveTo>
                <a:lnTo>
                  <a:pt x="89" y="22"/>
                </a:lnTo>
                <a:lnTo>
                  <a:pt x="77" y="29"/>
                </a:lnTo>
                <a:lnTo>
                  <a:pt x="66" y="36"/>
                </a:lnTo>
                <a:lnTo>
                  <a:pt x="55" y="43"/>
                </a:lnTo>
                <a:lnTo>
                  <a:pt x="44" y="50"/>
                </a:lnTo>
                <a:lnTo>
                  <a:pt x="34" y="57"/>
                </a:lnTo>
                <a:lnTo>
                  <a:pt x="25" y="64"/>
                </a:lnTo>
                <a:lnTo>
                  <a:pt x="15" y="71"/>
                </a:lnTo>
                <a:lnTo>
                  <a:pt x="9" y="67"/>
                </a:lnTo>
                <a:lnTo>
                  <a:pt x="5" y="64"/>
                </a:lnTo>
                <a:lnTo>
                  <a:pt x="1" y="61"/>
                </a:lnTo>
                <a:lnTo>
                  <a:pt x="0" y="56"/>
                </a:lnTo>
                <a:lnTo>
                  <a:pt x="73" y="0"/>
                </a:lnTo>
                <a:lnTo>
                  <a:pt x="80" y="3"/>
                </a:lnTo>
                <a:lnTo>
                  <a:pt x="87" y="7"/>
                </a:lnTo>
                <a:lnTo>
                  <a:pt x="93" y="11"/>
                </a:lnTo>
                <a:lnTo>
                  <a:pt x="98" y="1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2" name="Freeform 98"/>
          <p:cNvSpPr/>
          <p:nvPr/>
        </p:nvSpPr>
        <p:spPr>
          <a:xfrm>
            <a:off x="7470720" y="4489560"/>
            <a:ext cx="227160" cy="280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29" h="354">
                <a:moveTo>
                  <a:pt x="340" y="170"/>
                </a:moveTo>
                <a:lnTo>
                  <a:pt x="410" y="289"/>
                </a:lnTo>
                <a:lnTo>
                  <a:pt x="415" y="305"/>
                </a:lnTo>
                <a:lnTo>
                  <a:pt x="422" y="321"/>
                </a:lnTo>
                <a:lnTo>
                  <a:pt x="427" y="338"/>
                </a:lnTo>
                <a:lnTo>
                  <a:pt x="429" y="354"/>
                </a:lnTo>
                <a:lnTo>
                  <a:pt x="415" y="337"/>
                </a:lnTo>
                <a:lnTo>
                  <a:pt x="399" y="320"/>
                </a:lnTo>
                <a:lnTo>
                  <a:pt x="381" y="303"/>
                </a:lnTo>
                <a:lnTo>
                  <a:pt x="363" y="287"/>
                </a:lnTo>
                <a:lnTo>
                  <a:pt x="342" y="272"/>
                </a:lnTo>
                <a:lnTo>
                  <a:pt x="322" y="256"/>
                </a:lnTo>
                <a:lnTo>
                  <a:pt x="303" y="242"/>
                </a:lnTo>
                <a:lnTo>
                  <a:pt x="284" y="228"/>
                </a:lnTo>
                <a:lnTo>
                  <a:pt x="157" y="144"/>
                </a:lnTo>
                <a:lnTo>
                  <a:pt x="138" y="135"/>
                </a:lnTo>
                <a:lnTo>
                  <a:pt x="118" y="126"/>
                </a:lnTo>
                <a:lnTo>
                  <a:pt x="97" y="118"/>
                </a:lnTo>
                <a:lnTo>
                  <a:pt x="77" y="110"/>
                </a:lnTo>
                <a:lnTo>
                  <a:pt x="57" y="103"/>
                </a:lnTo>
                <a:lnTo>
                  <a:pt x="38" y="95"/>
                </a:lnTo>
                <a:lnTo>
                  <a:pt x="18" y="88"/>
                </a:lnTo>
                <a:lnTo>
                  <a:pt x="0" y="80"/>
                </a:lnTo>
                <a:lnTo>
                  <a:pt x="15" y="77"/>
                </a:lnTo>
                <a:lnTo>
                  <a:pt x="29" y="72"/>
                </a:lnTo>
                <a:lnTo>
                  <a:pt x="43" y="67"/>
                </a:lnTo>
                <a:lnTo>
                  <a:pt x="57" y="61"/>
                </a:lnTo>
                <a:lnTo>
                  <a:pt x="70" y="55"/>
                </a:lnTo>
                <a:lnTo>
                  <a:pt x="84" y="49"/>
                </a:lnTo>
                <a:lnTo>
                  <a:pt x="97" y="44"/>
                </a:lnTo>
                <a:lnTo>
                  <a:pt x="113" y="39"/>
                </a:lnTo>
                <a:lnTo>
                  <a:pt x="121" y="35"/>
                </a:lnTo>
                <a:lnTo>
                  <a:pt x="131" y="30"/>
                </a:lnTo>
                <a:lnTo>
                  <a:pt x="138" y="25"/>
                </a:lnTo>
                <a:lnTo>
                  <a:pt x="146" y="20"/>
                </a:lnTo>
                <a:lnTo>
                  <a:pt x="153" y="15"/>
                </a:lnTo>
                <a:lnTo>
                  <a:pt x="161" y="10"/>
                </a:lnTo>
                <a:lnTo>
                  <a:pt x="170" y="5"/>
                </a:lnTo>
                <a:lnTo>
                  <a:pt x="178" y="0"/>
                </a:lnTo>
                <a:lnTo>
                  <a:pt x="202" y="20"/>
                </a:lnTo>
                <a:lnTo>
                  <a:pt x="224" y="41"/>
                </a:lnTo>
                <a:lnTo>
                  <a:pt x="246" y="62"/>
                </a:lnTo>
                <a:lnTo>
                  <a:pt x="267" y="83"/>
                </a:lnTo>
                <a:lnTo>
                  <a:pt x="286" y="105"/>
                </a:lnTo>
                <a:lnTo>
                  <a:pt x="306" y="126"/>
                </a:lnTo>
                <a:lnTo>
                  <a:pt x="324" y="148"/>
                </a:lnTo>
                <a:lnTo>
                  <a:pt x="340" y="170"/>
                </a:lnTo>
                <a:close/>
              </a:path>
            </a:pathLst>
          </a:custGeom>
          <a:solidFill>
            <a:srgbClr val="ff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3" name="Freeform 99"/>
          <p:cNvSpPr/>
          <p:nvPr/>
        </p:nvSpPr>
        <p:spPr>
          <a:xfrm>
            <a:off x="6826320" y="4511520"/>
            <a:ext cx="182520" cy="192240"/>
          </a:xfrm>
          <a:custGeom>
            <a:avLst/>
            <a:gdLst>
              <a:gd name="textAreaLeft" fmla="*/ 0 w 182520"/>
              <a:gd name="textAreaRight" fmla="*/ 182880 w 1825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45" h="242">
                <a:moveTo>
                  <a:pt x="338" y="21"/>
                </a:moveTo>
                <a:lnTo>
                  <a:pt x="345" y="45"/>
                </a:lnTo>
                <a:lnTo>
                  <a:pt x="343" y="69"/>
                </a:lnTo>
                <a:lnTo>
                  <a:pt x="337" y="94"/>
                </a:lnTo>
                <a:lnTo>
                  <a:pt x="337" y="118"/>
                </a:lnTo>
                <a:lnTo>
                  <a:pt x="318" y="122"/>
                </a:lnTo>
                <a:lnTo>
                  <a:pt x="304" y="128"/>
                </a:lnTo>
                <a:lnTo>
                  <a:pt x="293" y="137"/>
                </a:lnTo>
                <a:lnTo>
                  <a:pt x="283" y="148"/>
                </a:lnTo>
                <a:lnTo>
                  <a:pt x="275" y="159"/>
                </a:lnTo>
                <a:lnTo>
                  <a:pt x="266" y="171"/>
                </a:lnTo>
                <a:lnTo>
                  <a:pt x="255" y="181"/>
                </a:lnTo>
                <a:lnTo>
                  <a:pt x="241" y="190"/>
                </a:lnTo>
                <a:lnTo>
                  <a:pt x="238" y="197"/>
                </a:lnTo>
                <a:lnTo>
                  <a:pt x="234" y="204"/>
                </a:lnTo>
                <a:lnTo>
                  <a:pt x="230" y="211"/>
                </a:lnTo>
                <a:lnTo>
                  <a:pt x="225" y="217"/>
                </a:lnTo>
                <a:lnTo>
                  <a:pt x="219" y="224"/>
                </a:lnTo>
                <a:lnTo>
                  <a:pt x="213" y="230"/>
                </a:lnTo>
                <a:lnTo>
                  <a:pt x="207" y="236"/>
                </a:lnTo>
                <a:lnTo>
                  <a:pt x="200" y="242"/>
                </a:lnTo>
                <a:lnTo>
                  <a:pt x="11" y="90"/>
                </a:lnTo>
                <a:lnTo>
                  <a:pt x="0" y="78"/>
                </a:lnTo>
                <a:lnTo>
                  <a:pt x="34" y="65"/>
                </a:lnTo>
                <a:lnTo>
                  <a:pt x="193" y="25"/>
                </a:lnTo>
                <a:lnTo>
                  <a:pt x="208" y="22"/>
                </a:lnTo>
                <a:lnTo>
                  <a:pt x="223" y="19"/>
                </a:lnTo>
                <a:lnTo>
                  <a:pt x="238" y="15"/>
                </a:lnTo>
                <a:lnTo>
                  <a:pt x="254" y="11"/>
                </a:lnTo>
                <a:lnTo>
                  <a:pt x="270" y="8"/>
                </a:lnTo>
                <a:lnTo>
                  <a:pt x="286" y="5"/>
                </a:lnTo>
                <a:lnTo>
                  <a:pt x="301" y="2"/>
                </a:lnTo>
                <a:lnTo>
                  <a:pt x="318" y="0"/>
                </a:lnTo>
                <a:lnTo>
                  <a:pt x="338" y="21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4" name="Freeform 100"/>
          <p:cNvSpPr/>
          <p:nvPr/>
        </p:nvSpPr>
        <p:spPr>
          <a:xfrm>
            <a:off x="7021440" y="4527720"/>
            <a:ext cx="23760" cy="56880"/>
          </a:xfrm>
          <a:custGeom>
            <a:avLst/>
            <a:gdLst>
              <a:gd name="textAreaLeft" fmla="*/ 0 w 23760"/>
              <a:gd name="textAreaRight" fmla="*/ 24120 w 237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3" h="71">
                <a:moveTo>
                  <a:pt x="35" y="62"/>
                </a:moveTo>
                <a:lnTo>
                  <a:pt x="25" y="63"/>
                </a:lnTo>
                <a:lnTo>
                  <a:pt x="17" y="64"/>
                </a:lnTo>
                <a:lnTo>
                  <a:pt x="8" y="66"/>
                </a:lnTo>
                <a:lnTo>
                  <a:pt x="0" y="71"/>
                </a:lnTo>
                <a:lnTo>
                  <a:pt x="4" y="61"/>
                </a:lnTo>
                <a:lnTo>
                  <a:pt x="6" y="51"/>
                </a:lnTo>
                <a:lnTo>
                  <a:pt x="7" y="40"/>
                </a:lnTo>
                <a:lnTo>
                  <a:pt x="8" y="29"/>
                </a:lnTo>
                <a:lnTo>
                  <a:pt x="11" y="19"/>
                </a:lnTo>
                <a:lnTo>
                  <a:pt x="18" y="11"/>
                </a:lnTo>
                <a:lnTo>
                  <a:pt x="28" y="4"/>
                </a:lnTo>
                <a:lnTo>
                  <a:pt x="43" y="0"/>
                </a:lnTo>
                <a:lnTo>
                  <a:pt x="43" y="15"/>
                </a:lnTo>
                <a:lnTo>
                  <a:pt x="42" y="31"/>
                </a:lnTo>
                <a:lnTo>
                  <a:pt x="39" y="47"/>
                </a:lnTo>
                <a:lnTo>
                  <a:pt x="35" y="62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5" name="Freeform 101"/>
          <p:cNvSpPr/>
          <p:nvPr/>
        </p:nvSpPr>
        <p:spPr>
          <a:xfrm>
            <a:off x="7335720" y="4560840"/>
            <a:ext cx="370080" cy="831960"/>
          </a:xfrm>
          <a:custGeom>
            <a:avLst/>
            <a:gdLst>
              <a:gd name="textAreaLeft" fmla="*/ 0 w 370080"/>
              <a:gd name="textAreaRight" fmla="*/ 370440 w 37008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698" h="1049">
                <a:moveTo>
                  <a:pt x="406" y="75"/>
                </a:moveTo>
                <a:lnTo>
                  <a:pt x="417" y="82"/>
                </a:lnTo>
                <a:lnTo>
                  <a:pt x="432" y="93"/>
                </a:lnTo>
                <a:lnTo>
                  <a:pt x="449" y="106"/>
                </a:lnTo>
                <a:lnTo>
                  <a:pt x="468" y="122"/>
                </a:lnTo>
                <a:lnTo>
                  <a:pt x="489" y="140"/>
                </a:lnTo>
                <a:lnTo>
                  <a:pt x="512" y="159"/>
                </a:lnTo>
                <a:lnTo>
                  <a:pt x="534" y="178"/>
                </a:lnTo>
                <a:lnTo>
                  <a:pt x="556" y="198"/>
                </a:lnTo>
                <a:lnTo>
                  <a:pt x="577" y="217"/>
                </a:lnTo>
                <a:lnTo>
                  <a:pt x="598" y="236"/>
                </a:lnTo>
                <a:lnTo>
                  <a:pt x="616" y="253"/>
                </a:lnTo>
                <a:lnTo>
                  <a:pt x="632" y="268"/>
                </a:lnTo>
                <a:lnTo>
                  <a:pt x="646" y="282"/>
                </a:lnTo>
                <a:lnTo>
                  <a:pt x="657" y="292"/>
                </a:lnTo>
                <a:lnTo>
                  <a:pt x="663" y="298"/>
                </a:lnTo>
                <a:lnTo>
                  <a:pt x="666" y="300"/>
                </a:lnTo>
                <a:lnTo>
                  <a:pt x="682" y="356"/>
                </a:lnTo>
                <a:lnTo>
                  <a:pt x="693" y="414"/>
                </a:lnTo>
                <a:lnTo>
                  <a:pt x="698" y="473"/>
                </a:lnTo>
                <a:lnTo>
                  <a:pt x="696" y="533"/>
                </a:lnTo>
                <a:lnTo>
                  <a:pt x="689" y="593"/>
                </a:lnTo>
                <a:lnTo>
                  <a:pt x="680" y="652"/>
                </a:lnTo>
                <a:lnTo>
                  <a:pt x="664" y="711"/>
                </a:lnTo>
                <a:lnTo>
                  <a:pt x="646" y="767"/>
                </a:lnTo>
                <a:lnTo>
                  <a:pt x="639" y="778"/>
                </a:lnTo>
                <a:lnTo>
                  <a:pt x="623" y="808"/>
                </a:lnTo>
                <a:lnTo>
                  <a:pt x="598" y="851"/>
                </a:lnTo>
                <a:lnTo>
                  <a:pt x="568" y="901"/>
                </a:lnTo>
                <a:lnTo>
                  <a:pt x="541" y="952"/>
                </a:lnTo>
                <a:lnTo>
                  <a:pt x="516" y="997"/>
                </a:lnTo>
                <a:lnTo>
                  <a:pt x="496" y="1032"/>
                </a:lnTo>
                <a:lnTo>
                  <a:pt x="489" y="1049"/>
                </a:lnTo>
                <a:lnTo>
                  <a:pt x="477" y="1048"/>
                </a:lnTo>
                <a:lnTo>
                  <a:pt x="459" y="1046"/>
                </a:lnTo>
                <a:lnTo>
                  <a:pt x="438" y="1044"/>
                </a:lnTo>
                <a:lnTo>
                  <a:pt x="413" y="1040"/>
                </a:lnTo>
                <a:lnTo>
                  <a:pt x="387" y="1036"/>
                </a:lnTo>
                <a:lnTo>
                  <a:pt x="359" y="1032"/>
                </a:lnTo>
                <a:lnTo>
                  <a:pt x="331" y="1027"/>
                </a:lnTo>
                <a:lnTo>
                  <a:pt x="302" y="1022"/>
                </a:lnTo>
                <a:lnTo>
                  <a:pt x="273" y="1017"/>
                </a:lnTo>
                <a:lnTo>
                  <a:pt x="246" y="1013"/>
                </a:lnTo>
                <a:lnTo>
                  <a:pt x="221" y="1008"/>
                </a:lnTo>
                <a:lnTo>
                  <a:pt x="199" y="1004"/>
                </a:lnTo>
                <a:lnTo>
                  <a:pt x="180" y="1001"/>
                </a:lnTo>
                <a:lnTo>
                  <a:pt x="166" y="998"/>
                </a:lnTo>
                <a:lnTo>
                  <a:pt x="155" y="996"/>
                </a:lnTo>
                <a:lnTo>
                  <a:pt x="150" y="995"/>
                </a:lnTo>
                <a:lnTo>
                  <a:pt x="166" y="985"/>
                </a:lnTo>
                <a:lnTo>
                  <a:pt x="181" y="974"/>
                </a:lnTo>
                <a:lnTo>
                  <a:pt x="196" y="963"/>
                </a:lnTo>
                <a:lnTo>
                  <a:pt x="210" y="952"/>
                </a:lnTo>
                <a:lnTo>
                  <a:pt x="223" y="940"/>
                </a:lnTo>
                <a:lnTo>
                  <a:pt x="235" y="929"/>
                </a:lnTo>
                <a:lnTo>
                  <a:pt x="248" y="917"/>
                </a:lnTo>
                <a:lnTo>
                  <a:pt x="260" y="904"/>
                </a:lnTo>
                <a:lnTo>
                  <a:pt x="274" y="908"/>
                </a:lnTo>
                <a:lnTo>
                  <a:pt x="288" y="912"/>
                </a:lnTo>
                <a:lnTo>
                  <a:pt x="305" y="916"/>
                </a:lnTo>
                <a:lnTo>
                  <a:pt x="323" y="920"/>
                </a:lnTo>
                <a:lnTo>
                  <a:pt x="341" y="924"/>
                </a:lnTo>
                <a:lnTo>
                  <a:pt x="360" y="927"/>
                </a:lnTo>
                <a:lnTo>
                  <a:pt x="378" y="931"/>
                </a:lnTo>
                <a:lnTo>
                  <a:pt x="396" y="934"/>
                </a:lnTo>
                <a:lnTo>
                  <a:pt x="414" y="937"/>
                </a:lnTo>
                <a:lnTo>
                  <a:pt x="430" y="940"/>
                </a:lnTo>
                <a:lnTo>
                  <a:pt x="445" y="943"/>
                </a:lnTo>
                <a:lnTo>
                  <a:pt x="457" y="945"/>
                </a:lnTo>
                <a:lnTo>
                  <a:pt x="468" y="947"/>
                </a:lnTo>
                <a:lnTo>
                  <a:pt x="477" y="948"/>
                </a:lnTo>
                <a:lnTo>
                  <a:pt x="482" y="949"/>
                </a:lnTo>
                <a:lnTo>
                  <a:pt x="484" y="949"/>
                </a:lnTo>
                <a:lnTo>
                  <a:pt x="577" y="736"/>
                </a:lnTo>
                <a:lnTo>
                  <a:pt x="591" y="684"/>
                </a:lnTo>
                <a:lnTo>
                  <a:pt x="600" y="648"/>
                </a:lnTo>
                <a:lnTo>
                  <a:pt x="606" y="609"/>
                </a:lnTo>
                <a:lnTo>
                  <a:pt x="609" y="545"/>
                </a:lnTo>
                <a:lnTo>
                  <a:pt x="606" y="522"/>
                </a:lnTo>
                <a:lnTo>
                  <a:pt x="603" y="489"/>
                </a:lnTo>
                <a:lnTo>
                  <a:pt x="602" y="457"/>
                </a:lnTo>
                <a:lnTo>
                  <a:pt x="602" y="440"/>
                </a:lnTo>
                <a:lnTo>
                  <a:pt x="598" y="424"/>
                </a:lnTo>
                <a:lnTo>
                  <a:pt x="592" y="409"/>
                </a:lnTo>
                <a:lnTo>
                  <a:pt x="585" y="393"/>
                </a:lnTo>
                <a:lnTo>
                  <a:pt x="578" y="377"/>
                </a:lnTo>
                <a:lnTo>
                  <a:pt x="570" y="362"/>
                </a:lnTo>
                <a:lnTo>
                  <a:pt x="563" y="346"/>
                </a:lnTo>
                <a:lnTo>
                  <a:pt x="556" y="331"/>
                </a:lnTo>
                <a:lnTo>
                  <a:pt x="549" y="316"/>
                </a:lnTo>
                <a:lnTo>
                  <a:pt x="541" y="300"/>
                </a:lnTo>
                <a:lnTo>
                  <a:pt x="532" y="286"/>
                </a:lnTo>
                <a:lnTo>
                  <a:pt x="523" y="272"/>
                </a:lnTo>
                <a:lnTo>
                  <a:pt x="513" y="259"/>
                </a:lnTo>
                <a:lnTo>
                  <a:pt x="502" y="246"/>
                </a:lnTo>
                <a:lnTo>
                  <a:pt x="489" y="234"/>
                </a:lnTo>
                <a:lnTo>
                  <a:pt x="477" y="220"/>
                </a:lnTo>
                <a:lnTo>
                  <a:pt x="463" y="205"/>
                </a:lnTo>
                <a:lnTo>
                  <a:pt x="453" y="194"/>
                </a:lnTo>
                <a:lnTo>
                  <a:pt x="443" y="183"/>
                </a:lnTo>
                <a:lnTo>
                  <a:pt x="435" y="174"/>
                </a:lnTo>
                <a:lnTo>
                  <a:pt x="425" y="164"/>
                </a:lnTo>
                <a:lnTo>
                  <a:pt x="416" y="155"/>
                </a:lnTo>
                <a:lnTo>
                  <a:pt x="402" y="146"/>
                </a:lnTo>
                <a:lnTo>
                  <a:pt x="385" y="135"/>
                </a:lnTo>
                <a:lnTo>
                  <a:pt x="366" y="124"/>
                </a:lnTo>
                <a:lnTo>
                  <a:pt x="350" y="116"/>
                </a:lnTo>
                <a:lnTo>
                  <a:pt x="334" y="108"/>
                </a:lnTo>
                <a:lnTo>
                  <a:pt x="317" y="101"/>
                </a:lnTo>
                <a:lnTo>
                  <a:pt x="302" y="94"/>
                </a:lnTo>
                <a:lnTo>
                  <a:pt x="285" y="87"/>
                </a:lnTo>
                <a:lnTo>
                  <a:pt x="268" y="82"/>
                </a:lnTo>
                <a:lnTo>
                  <a:pt x="252" y="76"/>
                </a:lnTo>
                <a:lnTo>
                  <a:pt x="235" y="71"/>
                </a:lnTo>
                <a:lnTo>
                  <a:pt x="217" y="67"/>
                </a:lnTo>
                <a:lnTo>
                  <a:pt x="199" y="64"/>
                </a:lnTo>
                <a:lnTo>
                  <a:pt x="181" y="61"/>
                </a:lnTo>
                <a:lnTo>
                  <a:pt x="162" y="59"/>
                </a:lnTo>
                <a:lnTo>
                  <a:pt x="143" y="58"/>
                </a:lnTo>
                <a:lnTo>
                  <a:pt x="124" y="58"/>
                </a:lnTo>
                <a:lnTo>
                  <a:pt x="103" y="58"/>
                </a:lnTo>
                <a:lnTo>
                  <a:pt x="82" y="60"/>
                </a:lnTo>
                <a:lnTo>
                  <a:pt x="73" y="63"/>
                </a:lnTo>
                <a:lnTo>
                  <a:pt x="60" y="66"/>
                </a:lnTo>
                <a:lnTo>
                  <a:pt x="48" y="69"/>
                </a:lnTo>
                <a:lnTo>
                  <a:pt x="35" y="71"/>
                </a:lnTo>
                <a:lnTo>
                  <a:pt x="24" y="74"/>
                </a:lnTo>
                <a:lnTo>
                  <a:pt x="13" y="75"/>
                </a:lnTo>
                <a:lnTo>
                  <a:pt x="6" y="77"/>
                </a:lnTo>
                <a:lnTo>
                  <a:pt x="0" y="77"/>
                </a:lnTo>
                <a:lnTo>
                  <a:pt x="20" y="64"/>
                </a:lnTo>
                <a:lnTo>
                  <a:pt x="42" y="52"/>
                </a:lnTo>
                <a:lnTo>
                  <a:pt x="66" y="41"/>
                </a:lnTo>
                <a:lnTo>
                  <a:pt x="92" y="31"/>
                </a:lnTo>
                <a:lnTo>
                  <a:pt x="120" y="22"/>
                </a:lnTo>
                <a:lnTo>
                  <a:pt x="146" y="13"/>
                </a:lnTo>
                <a:lnTo>
                  <a:pt x="171" y="6"/>
                </a:lnTo>
                <a:lnTo>
                  <a:pt x="195" y="0"/>
                </a:lnTo>
                <a:lnTo>
                  <a:pt x="206" y="4"/>
                </a:lnTo>
                <a:lnTo>
                  <a:pt x="227" y="10"/>
                </a:lnTo>
                <a:lnTo>
                  <a:pt x="255" y="19"/>
                </a:lnTo>
                <a:lnTo>
                  <a:pt x="287" y="29"/>
                </a:lnTo>
                <a:lnTo>
                  <a:pt x="320" y="40"/>
                </a:lnTo>
                <a:lnTo>
                  <a:pt x="353" y="52"/>
                </a:lnTo>
                <a:lnTo>
                  <a:pt x="382" y="64"/>
                </a:lnTo>
                <a:lnTo>
                  <a:pt x="406" y="75"/>
                </a:lnTo>
                <a:close/>
              </a:path>
            </a:pathLst>
          </a:custGeom>
          <a:solidFill>
            <a:srgbClr val="bf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6" name="Freeform 102"/>
          <p:cNvSpPr/>
          <p:nvPr/>
        </p:nvSpPr>
        <p:spPr>
          <a:xfrm>
            <a:off x="6931080" y="4573440"/>
            <a:ext cx="244440" cy="42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60" h="537">
                <a:moveTo>
                  <a:pt x="354" y="134"/>
                </a:moveTo>
                <a:lnTo>
                  <a:pt x="372" y="156"/>
                </a:lnTo>
                <a:lnTo>
                  <a:pt x="383" y="180"/>
                </a:lnTo>
                <a:lnTo>
                  <a:pt x="389" y="205"/>
                </a:lnTo>
                <a:lnTo>
                  <a:pt x="392" y="231"/>
                </a:lnTo>
                <a:lnTo>
                  <a:pt x="393" y="259"/>
                </a:lnTo>
                <a:lnTo>
                  <a:pt x="393" y="286"/>
                </a:lnTo>
                <a:lnTo>
                  <a:pt x="393" y="312"/>
                </a:lnTo>
                <a:lnTo>
                  <a:pt x="397" y="338"/>
                </a:lnTo>
                <a:lnTo>
                  <a:pt x="450" y="463"/>
                </a:lnTo>
                <a:lnTo>
                  <a:pt x="453" y="470"/>
                </a:lnTo>
                <a:lnTo>
                  <a:pt x="454" y="477"/>
                </a:lnTo>
                <a:lnTo>
                  <a:pt x="457" y="484"/>
                </a:lnTo>
                <a:lnTo>
                  <a:pt x="460" y="491"/>
                </a:lnTo>
                <a:lnTo>
                  <a:pt x="450" y="498"/>
                </a:lnTo>
                <a:lnTo>
                  <a:pt x="439" y="505"/>
                </a:lnTo>
                <a:lnTo>
                  <a:pt x="428" y="511"/>
                </a:lnTo>
                <a:lnTo>
                  <a:pt x="417" y="517"/>
                </a:lnTo>
                <a:lnTo>
                  <a:pt x="406" y="522"/>
                </a:lnTo>
                <a:lnTo>
                  <a:pt x="395" y="527"/>
                </a:lnTo>
                <a:lnTo>
                  <a:pt x="383" y="532"/>
                </a:lnTo>
                <a:lnTo>
                  <a:pt x="372" y="537"/>
                </a:lnTo>
                <a:lnTo>
                  <a:pt x="361" y="522"/>
                </a:lnTo>
                <a:lnTo>
                  <a:pt x="354" y="506"/>
                </a:lnTo>
                <a:lnTo>
                  <a:pt x="349" y="488"/>
                </a:lnTo>
                <a:lnTo>
                  <a:pt x="345" y="471"/>
                </a:lnTo>
                <a:lnTo>
                  <a:pt x="339" y="454"/>
                </a:lnTo>
                <a:lnTo>
                  <a:pt x="332" y="437"/>
                </a:lnTo>
                <a:lnTo>
                  <a:pt x="320" y="422"/>
                </a:lnTo>
                <a:lnTo>
                  <a:pt x="302" y="408"/>
                </a:lnTo>
                <a:lnTo>
                  <a:pt x="295" y="399"/>
                </a:lnTo>
                <a:lnTo>
                  <a:pt x="285" y="392"/>
                </a:lnTo>
                <a:lnTo>
                  <a:pt x="272" y="387"/>
                </a:lnTo>
                <a:lnTo>
                  <a:pt x="260" y="383"/>
                </a:lnTo>
                <a:lnTo>
                  <a:pt x="247" y="379"/>
                </a:lnTo>
                <a:lnTo>
                  <a:pt x="233" y="375"/>
                </a:lnTo>
                <a:lnTo>
                  <a:pt x="221" y="371"/>
                </a:lnTo>
                <a:lnTo>
                  <a:pt x="208" y="367"/>
                </a:lnTo>
                <a:lnTo>
                  <a:pt x="190" y="355"/>
                </a:lnTo>
                <a:lnTo>
                  <a:pt x="174" y="341"/>
                </a:lnTo>
                <a:lnTo>
                  <a:pt x="158" y="327"/>
                </a:lnTo>
                <a:lnTo>
                  <a:pt x="145" y="312"/>
                </a:lnTo>
                <a:lnTo>
                  <a:pt x="129" y="298"/>
                </a:lnTo>
                <a:lnTo>
                  <a:pt x="113" y="285"/>
                </a:lnTo>
                <a:lnTo>
                  <a:pt x="93" y="275"/>
                </a:lnTo>
                <a:lnTo>
                  <a:pt x="71" y="267"/>
                </a:lnTo>
                <a:lnTo>
                  <a:pt x="63" y="262"/>
                </a:lnTo>
                <a:lnTo>
                  <a:pt x="53" y="256"/>
                </a:lnTo>
                <a:lnTo>
                  <a:pt x="42" y="252"/>
                </a:lnTo>
                <a:lnTo>
                  <a:pt x="32" y="251"/>
                </a:lnTo>
                <a:lnTo>
                  <a:pt x="25" y="255"/>
                </a:lnTo>
                <a:lnTo>
                  <a:pt x="25" y="259"/>
                </a:lnTo>
                <a:lnTo>
                  <a:pt x="28" y="264"/>
                </a:lnTo>
                <a:lnTo>
                  <a:pt x="27" y="268"/>
                </a:lnTo>
                <a:lnTo>
                  <a:pt x="34" y="270"/>
                </a:lnTo>
                <a:lnTo>
                  <a:pt x="42" y="273"/>
                </a:lnTo>
                <a:lnTo>
                  <a:pt x="49" y="276"/>
                </a:lnTo>
                <a:lnTo>
                  <a:pt x="56" y="280"/>
                </a:lnTo>
                <a:lnTo>
                  <a:pt x="61" y="284"/>
                </a:lnTo>
                <a:lnTo>
                  <a:pt x="68" y="288"/>
                </a:lnTo>
                <a:lnTo>
                  <a:pt x="74" y="292"/>
                </a:lnTo>
                <a:lnTo>
                  <a:pt x="81" y="296"/>
                </a:lnTo>
                <a:lnTo>
                  <a:pt x="67" y="298"/>
                </a:lnTo>
                <a:lnTo>
                  <a:pt x="56" y="298"/>
                </a:lnTo>
                <a:lnTo>
                  <a:pt x="45" y="294"/>
                </a:lnTo>
                <a:lnTo>
                  <a:pt x="35" y="289"/>
                </a:lnTo>
                <a:lnTo>
                  <a:pt x="25" y="282"/>
                </a:lnTo>
                <a:lnTo>
                  <a:pt x="17" y="275"/>
                </a:lnTo>
                <a:lnTo>
                  <a:pt x="9" y="267"/>
                </a:lnTo>
                <a:lnTo>
                  <a:pt x="0" y="260"/>
                </a:lnTo>
                <a:lnTo>
                  <a:pt x="6" y="245"/>
                </a:lnTo>
                <a:lnTo>
                  <a:pt x="13" y="231"/>
                </a:lnTo>
                <a:lnTo>
                  <a:pt x="21" y="217"/>
                </a:lnTo>
                <a:lnTo>
                  <a:pt x="29" y="203"/>
                </a:lnTo>
                <a:lnTo>
                  <a:pt x="40" y="199"/>
                </a:lnTo>
                <a:lnTo>
                  <a:pt x="52" y="197"/>
                </a:lnTo>
                <a:lnTo>
                  <a:pt x="64" y="195"/>
                </a:lnTo>
                <a:lnTo>
                  <a:pt x="77" y="194"/>
                </a:lnTo>
                <a:lnTo>
                  <a:pt x="89" y="193"/>
                </a:lnTo>
                <a:lnTo>
                  <a:pt x="102" y="193"/>
                </a:lnTo>
                <a:lnTo>
                  <a:pt x="114" y="192"/>
                </a:lnTo>
                <a:lnTo>
                  <a:pt x="127" y="191"/>
                </a:lnTo>
                <a:lnTo>
                  <a:pt x="128" y="187"/>
                </a:lnTo>
                <a:lnTo>
                  <a:pt x="131" y="184"/>
                </a:lnTo>
                <a:lnTo>
                  <a:pt x="132" y="180"/>
                </a:lnTo>
                <a:lnTo>
                  <a:pt x="131" y="176"/>
                </a:lnTo>
                <a:lnTo>
                  <a:pt x="120" y="172"/>
                </a:lnTo>
                <a:lnTo>
                  <a:pt x="107" y="169"/>
                </a:lnTo>
                <a:lnTo>
                  <a:pt x="95" y="167"/>
                </a:lnTo>
                <a:lnTo>
                  <a:pt x="81" y="165"/>
                </a:lnTo>
                <a:lnTo>
                  <a:pt x="67" y="165"/>
                </a:lnTo>
                <a:lnTo>
                  <a:pt x="53" y="165"/>
                </a:lnTo>
                <a:lnTo>
                  <a:pt x="40" y="167"/>
                </a:lnTo>
                <a:lnTo>
                  <a:pt x="28" y="170"/>
                </a:lnTo>
                <a:lnTo>
                  <a:pt x="34" y="162"/>
                </a:lnTo>
                <a:lnTo>
                  <a:pt x="40" y="154"/>
                </a:lnTo>
                <a:lnTo>
                  <a:pt x="49" y="147"/>
                </a:lnTo>
                <a:lnTo>
                  <a:pt x="61" y="142"/>
                </a:lnTo>
                <a:lnTo>
                  <a:pt x="71" y="142"/>
                </a:lnTo>
                <a:lnTo>
                  <a:pt x="81" y="141"/>
                </a:lnTo>
                <a:lnTo>
                  <a:pt x="90" y="141"/>
                </a:lnTo>
                <a:lnTo>
                  <a:pt x="100" y="141"/>
                </a:lnTo>
                <a:lnTo>
                  <a:pt x="110" y="139"/>
                </a:lnTo>
                <a:lnTo>
                  <a:pt x="118" y="137"/>
                </a:lnTo>
                <a:lnTo>
                  <a:pt x="125" y="133"/>
                </a:lnTo>
                <a:lnTo>
                  <a:pt x="131" y="128"/>
                </a:lnTo>
                <a:lnTo>
                  <a:pt x="125" y="124"/>
                </a:lnTo>
                <a:lnTo>
                  <a:pt x="120" y="121"/>
                </a:lnTo>
                <a:lnTo>
                  <a:pt x="113" y="119"/>
                </a:lnTo>
                <a:lnTo>
                  <a:pt x="104" y="117"/>
                </a:lnTo>
                <a:lnTo>
                  <a:pt x="96" y="116"/>
                </a:lnTo>
                <a:lnTo>
                  <a:pt x="88" y="115"/>
                </a:lnTo>
                <a:lnTo>
                  <a:pt x="79" y="115"/>
                </a:lnTo>
                <a:lnTo>
                  <a:pt x="71" y="114"/>
                </a:lnTo>
                <a:lnTo>
                  <a:pt x="82" y="108"/>
                </a:lnTo>
                <a:lnTo>
                  <a:pt x="95" y="103"/>
                </a:lnTo>
                <a:lnTo>
                  <a:pt x="107" y="98"/>
                </a:lnTo>
                <a:lnTo>
                  <a:pt x="120" y="94"/>
                </a:lnTo>
                <a:lnTo>
                  <a:pt x="132" y="91"/>
                </a:lnTo>
                <a:lnTo>
                  <a:pt x="146" y="90"/>
                </a:lnTo>
                <a:lnTo>
                  <a:pt x="161" y="90"/>
                </a:lnTo>
                <a:lnTo>
                  <a:pt x="177" y="91"/>
                </a:lnTo>
                <a:lnTo>
                  <a:pt x="179" y="87"/>
                </a:lnTo>
                <a:lnTo>
                  <a:pt x="186" y="85"/>
                </a:lnTo>
                <a:lnTo>
                  <a:pt x="192" y="82"/>
                </a:lnTo>
                <a:lnTo>
                  <a:pt x="190" y="77"/>
                </a:lnTo>
                <a:lnTo>
                  <a:pt x="118" y="65"/>
                </a:lnTo>
                <a:lnTo>
                  <a:pt x="132" y="57"/>
                </a:lnTo>
                <a:lnTo>
                  <a:pt x="149" y="54"/>
                </a:lnTo>
                <a:lnTo>
                  <a:pt x="167" y="54"/>
                </a:lnTo>
                <a:lnTo>
                  <a:pt x="185" y="56"/>
                </a:lnTo>
                <a:lnTo>
                  <a:pt x="204" y="60"/>
                </a:lnTo>
                <a:lnTo>
                  <a:pt x="222" y="65"/>
                </a:lnTo>
                <a:lnTo>
                  <a:pt x="240" y="70"/>
                </a:lnTo>
                <a:lnTo>
                  <a:pt x="257" y="73"/>
                </a:lnTo>
                <a:lnTo>
                  <a:pt x="256" y="77"/>
                </a:lnTo>
                <a:lnTo>
                  <a:pt x="252" y="80"/>
                </a:lnTo>
                <a:lnTo>
                  <a:pt x="250" y="83"/>
                </a:lnTo>
                <a:lnTo>
                  <a:pt x="254" y="87"/>
                </a:lnTo>
                <a:lnTo>
                  <a:pt x="265" y="88"/>
                </a:lnTo>
                <a:lnTo>
                  <a:pt x="274" y="93"/>
                </a:lnTo>
                <a:lnTo>
                  <a:pt x="281" y="100"/>
                </a:lnTo>
                <a:lnTo>
                  <a:pt x="286" y="106"/>
                </a:lnTo>
                <a:lnTo>
                  <a:pt x="295" y="117"/>
                </a:lnTo>
                <a:lnTo>
                  <a:pt x="302" y="129"/>
                </a:lnTo>
                <a:lnTo>
                  <a:pt x="310" y="140"/>
                </a:lnTo>
                <a:lnTo>
                  <a:pt x="322" y="148"/>
                </a:lnTo>
                <a:lnTo>
                  <a:pt x="324" y="132"/>
                </a:lnTo>
                <a:lnTo>
                  <a:pt x="320" y="120"/>
                </a:lnTo>
                <a:lnTo>
                  <a:pt x="314" y="109"/>
                </a:lnTo>
                <a:lnTo>
                  <a:pt x="306" y="99"/>
                </a:lnTo>
                <a:lnTo>
                  <a:pt x="299" y="90"/>
                </a:lnTo>
                <a:lnTo>
                  <a:pt x="292" y="80"/>
                </a:lnTo>
                <a:lnTo>
                  <a:pt x="286" y="70"/>
                </a:lnTo>
                <a:lnTo>
                  <a:pt x="283" y="58"/>
                </a:lnTo>
                <a:lnTo>
                  <a:pt x="286" y="45"/>
                </a:lnTo>
                <a:lnTo>
                  <a:pt x="279" y="24"/>
                </a:lnTo>
                <a:lnTo>
                  <a:pt x="286" y="10"/>
                </a:lnTo>
                <a:lnTo>
                  <a:pt x="296" y="2"/>
                </a:lnTo>
                <a:lnTo>
                  <a:pt x="302" y="0"/>
                </a:lnTo>
                <a:lnTo>
                  <a:pt x="310" y="16"/>
                </a:lnTo>
                <a:lnTo>
                  <a:pt x="315" y="33"/>
                </a:lnTo>
                <a:lnTo>
                  <a:pt x="320" y="50"/>
                </a:lnTo>
                <a:lnTo>
                  <a:pt x="324" y="68"/>
                </a:lnTo>
                <a:lnTo>
                  <a:pt x="328" y="85"/>
                </a:lnTo>
                <a:lnTo>
                  <a:pt x="333" y="102"/>
                </a:lnTo>
                <a:lnTo>
                  <a:pt x="342" y="119"/>
                </a:lnTo>
                <a:lnTo>
                  <a:pt x="354" y="134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7" name="Freeform 103"/>
          <p:cNvSpPr/>
          <p:nvPr/>
        </p:nvSpPr>
        <p:spPr>
          <a:xfrm>
            <a:off x="6811920" y="4579920"/>
            <a:ext cx="117360" cy="158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21" h="199">
                <a:moveTo>
                  <a:pt x="221" y="184"/>
                </a:moveTo>
                <a:lnTo>
                  <a:pt x="221" y="188"/>
                </a:lnTo>
                <a:lnTo>
                  <a:pt x="220" y="193"/>
                </a:lnTo>
                <a:lnTo>
                  <a:pt x="217" y="196"/>
                </a:lnTo>
                <a:lnTo>
                  <a:pt x="213" y="199"/>
                </a:lnTo>
                <a:lnTo>
                  <a:pt x="204" y="193"/>
                </a:lnTo>
                <a:lnTo>
                  <a:pt x="184" y="175"/>
                </a:lnTo>
                <a:lnTo>
                  <a:pt x="152" y="151"/>
                </a:lnTo>
                <a:lnTo>
                  <a:pt x="115" y="122"/>
                </a:lnTo>
                <a:lnTo>
                  <a:pt x="78" y="92"/>
                </a:lnTo>
                <a:lnTo>
                  <a:pt x="45" y="64"/>
                </a:lnTo>
                <a:lnTo>
                  <a:pt x="17" y="41"/>
                </a:lnTo>
                <a:lnTo>
                  <a:pt x="0" y="26"/>
                </a:lnTo>
                <a:lnTo>
                  <a:pt x="4" y="0"/>
                </a:lnTo>
                <a:lnTo>
                  <a:pt x="221" y="184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8" name="Freeform 104"/>
          <p:cNvSpPr/>
          <p:nvPr/>
        </p:nvSpPr>
        <p:spPr>
          <a:xfrm>
            <a:off x="7026120" y="4591080"/>
            <a:ext cx="39960" cy="25200"/>
          </a:xfrm>
          <a:custGeom>
            <a:avLst/>
            <a:gdLst>
              <a:gd name="textAreaLeft" fmla="*/ 0 w 39960"/>
              <a:gd name="textAreaRight" fmla="*/ 40320 w 39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75" h="32">
                <a:moveTo>
                  <a:pt x="75" y="21"/>
                </a:moveTo>
                <a:lnTo>
                  <a:pt x="74" y="32"/>
                </a:lnTo>
                <a:lnTo>
                  <a:pt x="66" y="29"/>
                </a:lnTo>
                <a:lnTo>
                  <a:pt x="56" y="26"/>
                </a:lnTo>
                <a:lnTo>
                  <a:pt x="48" y="24"/>
                </a:lnTo>
                <a:lnTo>
                  <a:pt x="38" y="21"/>
                </a:lnTo>
                <a:lnTo>
                  <a:pt x="29" y="19"/>
                </a:lnTo>
                <a:lnTo>
                  <a:pt x="20" y="17"/>
                </a:lnTo>
                <a:lnTo>
                  <a:pt x="10" y="15"/>
                </a:lnTo>
                <a:lnTo>
                  <a:pt x="0" y="13"/>
                </a:lnTo>
                <a:lnTo>
                  <a:pt x="6" y="8"/>
                </a:lnTo>
                <a:lnTo>
                  <a:pt x="11" y="5"/>
                </a:lnTo>
                <a:lnTo>
                  <a:pt x="17" y="3"/>
                </a:lnTo>
                <a:lnTo>
                  <a:pt x="24" y="1"/>
                </a:lnTo>
                <a:lnTo>
                  <a:pt x="31" y="0"/>
                </a:lnTo>
                <a:lnTo>
                  <a:pt x="38" y="0"/>
                </a:lnTo>
                <a:lnTo>
                  <a:pt x="45" y="0"/>
                </a:lnTo>
                <a:lnTo>
                  <a:pt x="53" y="1"/>
                </a:lnTo>
                <a:lnTo>
                  <a:pt x="60" y="4"/>
                </a:lnTo>
                <a:lnTo>
                  <a:pt x="66" y="10"/>
                </a:lnTo>
                <a:lnTo>
                  <a:pt x="71" y="16"/>
                </a:lnTo>
                <a:lnTo>
                  <a:pt x="75" y="21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9" name="Freeform 105"/>
          <p:cNvSpPr/>
          <p:nvPr/>
        </p:nvSpPr>
        <p:spPr>
          <a:xfrm>
            <a:off x="7107120" y="4621320"/>
            <a:ext cx="519120" cy="757080"/>
          </a:xfrm>
          <a:custGeom>
            <a:avLst/>
            <a:gdLst>
              <a:gd name="textAreaLeft" fmla="*/ 0 w 519120"/>
              <a:gd name="textAreaRight" fmla="*/ 519480 w 519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981" h="954">
                <a:moveTo>
                  <a:pt x="871" y="150"/>
                </a:moveTo>
                <a:lnTo>
                  <a:pt x="917" y="207"/>
                </a:lnTo>
                <a:lnTo>
                  <a:pt x="950" y="269"/>
                </a:lnTo>
                <a:lnTo>
                  <a:pt x="971" y="336"/>
                </a:lnTo>
                <a:lnTo>
                  <a:pt x="981" y="405"/>
                </a:lnTo>
                <a:lnTo>
                  <a:pt x="981" y="475"/>
                </a:lnTo>
                <a:lnTo>
                  <a:pt x="972" y="546"/>
                </a:lnTo>
                <a:lnTo>
                  <a:pt x="957" y="614"/>
                </a:lnTo>
                <a:lnTo>
                  <a:pt x="936" y="679"/>
                </a:lnTo>
                <a:lnTo>
                  <a:pt x="928" y="700"/>
                </a:lnTo>
                <a:lnTo>
                  <a:pt x="920" y="720"/>
                </a:lnTo>
                <a:lnTo>
                  <a:pt x="911" y="741"/>
                </a:lnTo>
                <a:lnTo>
                  <a:pt x="901" y="761"/>
                </a:lnTo>
                <a:lnTo>
                  <a:pt x="892" y="781"/>
                </a:lnTo>
                <a:lnTo>
                  <a:pt x="881" y="801"/>
                </a:lnTo>
                <a:lnTo>
                  <a:pt x="871" y="822"/>
                </a:lnTo>
                <a:lnTo>
                  <a:pt x="860" y="843"/>
                </a:lnTo>
                <a:lnTo>
                  <a:pt x="842" y="839"/>
                </a:lnTo>
                <a:lnTo>
                  <a:pt x="822" y="835"/>
                </a:lnTo>
                <a:lnTo>
                  <a:pt x="804" y="830"/>
                </a:lnTo>
                <a:lnTo>
                  <a:pt x="786" y="826"/>
                </a:lnTo>
                <a:lnTo>
                  <a:pt x="767" y="822"/>
                </a:lnTo>
                <a:lnTo>
                  <a:pt x="749" y="818"/>
                </a:lnTo>
                <a:lnTo>
                  <a:pt x="731" y="813"/>
                </a:lnTo>
                <a:lnTo>
                  <a:pt x="713" y="808"/>
                </a:lnTo>
                <a:lnTo>
                  <a:pt x="717" y="794"/>
                </a:lnTo>
                <a:lnTo>
                  <a:pt x="731" y="757"/>
                </a:lnTo>
                <a:lnTo>
                  <a:pt x="747" y="705"/>
                </a:lnTo>
                <a:lnTo>
                  <a:pt x="768" y="646"/>
                </a:lnTo>
                <a:lnTo>
                  <a:pt x="788" y="586"/>
                </a:lnTo>
                <a:lnTo>
                  <a:pt x="806" y="535"/>
                </a:lnTo>
                <a:lnTo>
                  <a:pt x="817" y="497"/>
                </a:lnTo>
                <a:lnTo>
                  <a:pt x="820" y="484"/>
                </a:lnTo>
                <a:lnTo>
                  <a:pt x="793" y="504"/>
                </a:lnTo>
                <a:lnTo>
                  <a:pt x="708" y="699"/>
                </a:lnTo>
                <a:lnTo>
                  <a:pt x="699" y="714"/>
                </a:lnTo>
                <a:lnTo>
                  <a:pt x="690" y="729"/>
                </a:lnTo>
                <a:lnTo>
                  <a:pt x="683" y="744"/>
                </a:lnTo>
                <a:lnTo>
                  <a:pt x="676" y="760"/>
                </a:lnTo>
                <a:lnTo>
                  <a:pt x="670" y="776"/>
                </a:lnTo>
                <a:lnTo>
                  <a:pt x="663" y="791"/>
                </a:lnTo>
                <a:lnTo>
                  <a:pt x="653" y="806"/>
                </a:lnTo>
                <a:lnTo>
                  <a:pt x="640" y="820"/>
                </a:lnTo>
                <a:lnTo>
                  <a:pt x="629" y="830"/>
                </a:lnTo>
                <a:lnTo>
                  <a:pt x="617" y="842"/>
                </a:lnTo>
                <a:lnTo>
                  <a:pt x="606" y="852"/>
                </a:lnTo>
                <a:lnTo>
                  <a:pt x="595" y="863"/>
                </a:lnTo>
                <a:lnTo>
                  <a:pt x="583" y="873"/>
                </a:lnTo>
                <a:lnTo>
                  <a:pt x="571" y="883"/>
                </a:lnTo>
                <a:lnTo>
                  <a:pt x="558" y="892"/>
                </a:lnTo>
                <a:lnTo>
                  <a:pt x="545" y="901"/>
                </a:lnTo>
                <a:lnTo>
                  <a:pt x="528" y="911"/>
                </a:lnTo>
                <a:lnTo>
                  <a:pt x="513" y="921"/>
                </a:lnTo>
                <a:lnTo>
                  <a:pt x="495" y="931"/>
                </a:lnTo>
                <a:lnTo>
                  <a:pt x="478" y="939"/>
                </a:lnTo>
                <a:lnTo>
                  <a:pt x="460" y="946"/>
                </a:lnTo>
                <a:lnTo>
                  <a:pt x="440" y="951"/>
                </a:lnTo>
                <a:lnTo>
                  <a:pt x="421" y="954"/>
                </a:lnTo>
                <a:lnTo>
                  <a:pt x="399" y="954"/>
                </a:lnTo>
                <a:lnTo>
                  <a:pt x="382" y="944"/>
                </a:lnTo>
                <a:lnTo>
                  <a:pt x="367" y="934"/>
                </a:lnTo>
                <a:lnTo>
                  <a:pt x="351" y="922"/>
                </a:lnTo>
                <a:lnTo>
                  <a:pt x="338" y="910"/>
                </a:lnTo>
                <a:lnTo>
                  <a:pt x="324" y="898"/>
                </a:lnTo>
                <a:lnTo>
                  <a:pt x="311" y="885"/>
                </a:lnTo>
                <a:lnTo>
                  <a:pt x="299" y="873"/>
                </a:lnTo>
                <a:lnTo>
                  <a:pt x="288" y="860"/>
                </a:lnTo>
                <a:lnTo>
                  <a:pt x="97" y="609"/>
                </a:lnTo>
                <a:lnTo>
                  <a:pt x="86" y="597"/>
                </a:lnTo>
                <a:lnTo>
                  <a:pt x="74" y="586"/>
                </a:lnTo>
                <a:lnTo>
                  <a:pt x="63" y="574"/>
                </a:lnTo>
                <a:lnTo>
                  <a:pt x="51" y="562"/>
                </a:lnTo>
                <a:lnTo>
                  <a:pt x="39" y="551"/>
                </a:lnTo>
                <a:lnTo>
                  <a:pt x="28" y="539"/>
                </a:lnTo>
                <a:lnTo>
                  <a:pt x="14" y="528"/>
                </a:lnTo>
                <a:lnTo>
                  <a:pt x="0" y="517"/>
                </a:lnTo>
                <a:lnTo>
                  <a:pt x="24" y="510"/>
                </a:lnTo>
                <a:lnTo>
                  <a:pt x="49" y="501"/>
                </a:lnTo>
                <a:lnTo>
                  <a:pt x="74" y="490"/>
                </a:lnTo>
                <a:lnTo>
                  <a:pt x="99" y="478"/>
                </a:lnTo>
                <a:lnTo>
                  <a:pt x="121" y="466"/>
                </a:lnTo>
                <a:lnTo>
                  <a:pt x="140" y="456"/>
                </a:lnTo>
                <a:lnTo>
                  <a:pt x="153" y="449"/>
                </a:lnTo>
                <a:lnTo>
                  <a:pt x="158" y="446"/>
                </a:lnTo>
                <a:lnTo>
                  <a:pt x="172" y="462"/>
                </a:lnTo>
                <a:lnTo>
                  <a:pt x="189" y="478"/>
                </a:lnTo>
                <a:lnTo>
                  <a:pt x="207" y="494"/>
                </a:lnTo>
                <a:lnTo>
                  <a:pt x="225" y="510"/>
                </a:lnTo>
                <a:lnTo>
                  <a:pt x="243" y="526"/>
                </a:lnTo>
                <a:lnTo>
                  <a:pt x="261" y="541"/>
                </a:lnTo>
                <a:lnTo>
                  <a:pt x="279" y="556"/>
                </a:lnTo>
                <a:lnTo>
                  <a:pt x="296" y="571"/>
                </a:lnTo>
                <a:lnTo>
                  <a:pt x="297" y="608"/>
                </a:lnTo>
                <a:lnTo>
                  <a:pt x="299" y="645"/>
                </a:lnTo>
                <a:lnTo>
                  <a:pt x="304" y="682"/>
                </a:lnTo>
                <a:lnTo>
                  <a:pt x="318" y="716"/>
                </a:lnTo>
                <a:lnTo>
                  <a:pt x="325" y="730"/>
                </a:lnTo>
                <a:lnTo>
                  <a:pt x="333" y="744"/>
                </a:lnTo>
                <a:lnTo>
                  <a:pt x="342" y="759"/>
                </a:lnTo>
                <a:lnTo>
                  <a:pt x="350" y="773"/>
                </a:lnTo>
                <a:lnTo>
                  <a:pt x="358" y="787"/>
                </a:lnTo>
                <a:lnTo>
                  <a:pt x="368" y="801"/>
                </a:lnTo>
                <a:lnTo>
                  <a:pt x="378" y="814"/>
                </a:lnTo>
                <a:lnTo>
                  <a:pt x="388" y="828"/>
                </a:lnTo>
                <a:lnTo>
                  <a:pt x="393" y="828"/>
                </a:lnTo>
                <a:lnTo>
                  <a:pt x="401" y="825"/>
                </a:lnTo>
                <a:lnTo>
                  <a:pt x="410" y="820"/>
                </a:lnTo>
                <a:lnTo>
                  <a:pt x="411" y="815"/>
                </a:lnTo>
                <a:lnTo>
                  <a:pt x="396" y="797"/>
                </a:lnTo>
                <a:lnTo>
                  <a:pt x="382" y="778"/>
                </a:lnTo>
                <a:lnTo>
                  <a:pt x="370" y="759"/>
                </a:lnTo>
                <a:lnTo>
                  <a:pt x="358" y="739"/>
                </a:lnTo>
                <a:lnTo>
                  <a:pt x="349" y="719"/>
                </a:lnTo>
                <a:lnTo>
                  <a:pt x="340" y="698"/>
                </a:lnTo>
                <a:lnTo>
                  <a:pt x="336" y="677"/>
                </a:lnTo>
                <a:lnTo>
                  <a:pt x="333" y="655"/>
                </a:lnTo>
                <a:lnTo>
                  <a:pt x="335" y="516"/>
                </a:lnTo>
                <a:lnTo>
                  <a:pt x="324" y="438"/>
                </a:lnTo>
                <a:lnTo>
                  <a:pt x="303" y="315"/>
                </a:lnTo>
                <a:lnTo>
                  <a:pt x="311" y="280"/>
                </a:lnTo>
                <a:lnTo>
                  <a:pt x="320" y="246"/>
                </a:lnTo>
                <a:lnTo>
                  <a:pt x="329" y="212"/>
                </a:lnTo>
                <a:lnTo>
                  <a:pt x="343" y="177"/>
                </a:lnTo>
                <a:lnTo>
                  <a:pt x="358" y="145"/>
                </a:lnTo>
                <a:lnTo>
                  <a:pt x="379" y="115"/>
                </a:lnTo>
                <a:lnTo>
                  <a:pt x="404" y="86"/>
                </a:lnTo>
                <a:lnTo>
                  <a:pt x="436" y="59"/>
                </a:lnTo>
                <a:lnTo>
                  <a:pt x="445" y="54"/>
                </a:lnTo>
                <a:lnTo>
                  <a:pt x="456" y="48"/>
                </a:lnTo>
                <a:lnTo>
                  <a:pt x="471" y="39"/>
                </a:lnTo>
                <a:lnTo>
                  <a:pt x="488" y="29"/>
                </a:lnTo>
                <a:lnTo>
                  <a:pt x="503" y="20"/>
                </a:lnTo>
                <a:lnTo>
                  <a:pt x="517" y="11"/>
                </a:lnTo>
                <a:lnTo>
                  <a:pt x="528" y="5"/>
                </a:lnTo>
                <a:lnTo>
                  <a:pt x="533" y="0"/>
                </a:lnTo>
                <a:lnTo>
                  <a:pt x="558" y="2"/>
                </a:lnTo>
                <a:lnTo>
                  <a:pt x="583" y="6"/>
                </a:lnTo>
                <a:lnTo>
                  <a:pt x="607" y="11"/>
                </a:lnTo>
                <a:lnTo>
                  <a:pt x="631" y="17"/>
                </a:lnTo>
                <a:lnTo>
                  <a:pt x="654" y="24"/>
                </a:lnTo>
                <a:lnTo>
                  <a:pt x="676" y="33"/>
                </a:lnTo>
                <a:lnTo>
                  <a:pt x="699" y="42"/>
                </a:lnTo>
                <a:lnTo>
                  <a:pt x="721" y="52"/>
                </a:lnTo>
                <a:lnTo>
                  <a:pt x="742" y="63"/>
                </a:lnTo>
                <a:lnTo>
                  <a:pt x="763" y="75"/>
                </a:lnTo>
                <a:lnTo>
                  <a:pt x="782" y="87"/>
                </a:lnTo>
                <a:lnTo>
                  <a:pt x="801" y="99"/>
                </a:lnTo>
                <a:lnTo>
                  <a:pt x="821" y="112"/>
                </a:lnTo>
                <a:lnTo>
                  <a:pt x="838" y="125"/>
                </a:lnTo>
                <a:lnTo>
                  <a:pt x="854" y="137"/>
                </a:lnTo>
                <a:lnTo>
                  <a:pt x="871" y="150"/>
                </a:lnTo>
                <a:close/>
              </a:path>
            </a:pathLst>
          </a:custGeom>
          <a:solidFill>
            <a:srgbClr val="ff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0" name="Freeform 106"/>
          <p:cNvSpPr/>
          <p:nvPr/>
        </p:nvSpPr>
        <p:spPr>
          <a:xfrm>
            <a:off x="6673680" y="4635360"/>
            <a:ext cx="228600" cy="271440"/>
          </a:xfrm>
          <a:custGeom>
            <a:avLst/>
            <a:gdLst>
              <a:gd name="textAreaLeft" fmla="*/ 0 w 228600"/>
              <a:gd name="textAreaRight" fmla="*/ 228960 w 228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32" h="342">
                <a:moveTo>
                  <a:pt x="432" y="311"/>
                </a:moveTo>
                <a:lnTo>
                  <a:pt x="425" y="319"/>
                </a:lnTo>
                <a:lnTo>
                  <a:pt x="417" y="327"/>
                </a:lnTo>
                <a:lnTo>
                  <a:pt x="406" y="334"/>
                </a:lnTo>
                <a:lnTo>
                  <a:pt x="396" y="342"/>
                </a:lnTo>
                <a:lnTo>
                  <a:pt x="0" y="26"/>
                </a:lnTo>
                <a:lnTo>
                  <a:pt x="38" y="0"/>
                </a:lnTo>
                <a:lnTo>
                  <a:pt x="432" y="311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1" name="Freeform 107"/>
          <p:cNvSpPr/>
          <p:nvPr/>
        </p:nvSpPr>
        <p:spPr>
          <a:xfrm>
            <a:off x="6797520" y="4640400"/>
            <a:ext cx="44640" cy="46080"/>
          </a:xfrm>
          <a:custGeom>
            <a:avLst/>
            <a:gdLst>
              <a:gd name="textAreaLeft" fmla="*/ 0 w 44640"/>
              <a:gd name="textAreaRight" fmla="*/ 45000 w 44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85" h="56">
                <a:moveTo>
                  <a:pt x="36" y="56"/>
                </a:moveTo>
                <a:lnTo>
                  <a:pt x="26" y="50"/>
                </a:lnTo>
                <a:lnTo>
                  <a:pt x="18" y="44"/>
                </a:lnTo>
                <a:lnTo>
                  <a:pt x="8" y="38"/>
                </a:lnTo>
                <a:lnTo>
                  <a:pt x="0" y="31"/>
                </a:lnTo>
                <a:lnTo>
                  <a:pt x="4" y="27"/>
                </a:lnTo>
                <a:lnTo>
                  <a:pt x="8" y="23"/>
                </a:lnTo>
                <a:lnTo>
                  <a:pt x="13" y="19"/>
                </a:lnTo>
                <a:lnTo>
                  <a:pt x="19" y="15"/>
                </a:lnTo>
                <a:lnTo>
                  <a:pt x="25" y="11"/>
                </a:lnTo>
                <a:lnTo>
                  <a:pt x="31" y="8"/>
                </a:lnTo>
                <a:lnTo>
                  <a:pt x="36" y="4"/>
                </a:lnTo>
                <a:lnTo>
                  <a:pt x="42" y="0"/>
                </a:lnTo>
                <a:lnTo>
                  <a:pt x="85" y="31"/>
                </a:lnTo>
                <a:lnTo>
                  <a:pt x="36" y="56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2" name="Freeform 108"/>
          <p:cNvSpPr/>
          <p:nvPr/>
        </p:nvSpPr>
        <p:spPr>
          <a:xfrm>
            <a:off x="6859440" y="4694400"/>
            <a:ext cx="25560" cy="29880"/>
          </a:xfrm>
          <a:custGeom>
            <a:avLst/>
            <a:gdLst>
              <a:gd name="textAreaLeft" fmla="*/ 0 w 25560"/>
              <a:gd name="textAreaRight" fmla="*/ 25920 w 255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7" h="37">
                <a:moveTo>
                  <a:pt x="47" y="31"/>
                </a:moveTo>
                <a:lnTo>
                  <a:pt x="39" y="37"/>
                </a:lnTo>
                <a:lnTo>
                  <a:pt x="32" y="36"/>
                </a:lnTo>
                <a:lnTo>
                  <a:pt x="24" y="31"/>
                </a:lnTo>
                <a:lnTo>
                  <a:pt x="17" y="27"/>
                </a:lnTo>
                <a:lnTo>
                  <a:pt x="8" y="21"/>
                </a:lnTo>
                <a:lnTo>
                  <a:pt x="1" y="14"/>
                </a:lnTo>
                <a:lnTo>
                  <a:pt x="0" y="7"/>
                </a:lnTo>
                <a:lnTo>
                  <a:pt x="8" y="0"/>
                </a:lnTo>
                <a:lnTo>
                  <a:pt x="18" y="7"/>
                </a:lnTo>
                <a:lnTo>
                  <a:pt x="28" y="14"/>
                </a:lnTo>
                <a:lnTo>
                  <a:pt x="39" y="23"/>
                </a:lnTo>
                <a:lnTo>
                  <a:pt x="47" y="31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3" name="Freeform 109"/>
          <p:cNvSpPr/>
          <p:nvPr/>
        </p:nvSpPr>
        <p:spPr>
          <a:xfrm>
            <a:off x="6532560" y="4775040"/>
            <a:ext cx="223920" cy="44640"/>
          </a:xfrm>
          <a:custGeom>
            <a:avLst/>
            <a:gdLst>
              <a:gd name="textAreaLeft" fmla="*/ 0 w 223920"/>
              <a:gd name="textAreaRight" fmla="*/ 224280 w 2239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21" h="58">
                <a:moveTo>
                  <a:pt x="285" y="42"/>
                </a:moveTo>
                <a:lnTo>
                  <a:pt x="289" y="43"/>
                </a:lnTo>
                <a:lnTo>
                  <a:pt x="296" y="42"/>
                </a:lnTo>
                <a:lnTo>
                  <a:pt x="307" y="41"/>
                </a:lnTo>
                <a:lnTo>
                  <a:pt x="320" y="40"/>
                </a:lnTo>
                <a:lnTo>
                  <a:pt x="334" y="39"/>
                </a:lnTo>
                <a:lnTo>
                  <a:pt x="348" y="39"/>
                </a:lnTo>
                <a:lnTo>
                  <a:pt x="363" y="39"/>
                </a:lnTo>
                <a:lnTo>
                  <a:pt x="378" y="41"/>
                </a:lnTo>
                <a:lnTo>
                  <a:pt x="384" y="43"/>
                </a:lnTo>
                <a:lnTo>
                  <a:pt x="391" y="44"/>
                </a:lnTo>
                <a:lnTo>
                  <a:pt x="396" y="45"/>
                </a:lnTo>
                <a:lnTo>
                  <a:pt x="403" y="47"/>
                </a:lnTo>
                <a:lnTo>
                  <a:pt x="410" y="49"/>
                </a:lnTo>
                <a:lnTo>
                  <a:pt x="414" y="51"/>
                </a:lnTo>
                <a:lnTo>
                  <a:pt x="418" y="54"/>
                </a:lnTo>
                <a:lnTo>
                  <a:pt x="421" y="58"/>
                </a:lnTo>
                <a:lnTo>
                  <a:pt x="0" y="58"/>
                </a:lnTo>
                <a:lnTo>
                  <a:pt x="5" y="53"/>
                </a:lnTo>
                <a:lnTo>
                  <a:pt x="10" y="48"/>
                </a:lnTo>
                <a:lnTo>
                  <a:pt x="20" y="45"/>
                </a:lnTo>
                <a:lnTo>
                  <a:pt x="30" y="42"/>
                </a:lnTo>
                <a:lnTo>
                  <a:pt x="39" y="41"/>
                </a:lnTo>
                <a:lnTo>
                  <a:pt x="50" y="39"/>
                </a:lnTo>
                <a:lnTo>
                  <a:pt x="60" y="38"/>
                </a:lnTo>
                <a:lnTo>
                  <a:pt x="68" y="38"/>
                </a:lnTo>
                <a:lnTo>
                  <a:pt x="89" y="44"/>
                </a:lnTo>
                <a:lnTo>
                  <a:pt x="107" y="43"/>
                </a:lnTo>
                <a:lnTo>
                  <a:pt x="124" y="37"/>
                </a:lnTo>
                <a:lnTo>
                  <a:pt x="139" y="28"/>
                </a:lnTo>
                <a:lnTo>
                  <a:pt x="155" y="18"/>
                </a:lnTo>
                <a:lnTo>
                  <a:pt x="171" y="9"/>
                </a:lnTo>
                <a:lnTo>
                  <a:pt x="188" y="3"/>
                </a:lnTo>
                <a:lnTo>
                  <a:pt x="209" y="2"/>
                </a:lnTo>
                <a:lnTo>
                  <a:pt x="214" y="0"/>
                </a:lnTo>
                <a:lnTo>
                  <a:pt x="221" y="0"/>
                </a:lnTo>
                <a:lnTo>
                  <a:pt x="227" y="0"/>
                </a:lnTo>
                <a:lnTo>
                  <a:pt x="232" y="2"/>
                </a:lnTo>
                <a:lnTo>
                  <a:pt x="238" y="4"/>
                </a:lnTo>
                <a:lnTo>
                  <a:pt x="242" y="5"/>
                </a:lnTo>
                <a:lnTo>
                  <a:pt x="248" y="7"/>
                </a:lnTo>
                <a:lnTo>
                  <a:pt x="253" y="9"/>
                </a:lnTo>
                <a:lnTo>
                  <a:pt x="263" y="18"/>
                </a:lnTo>
                <a:lnTo>
                  <a:pt x="271" y="25"/>
                </a:lnTo>
                <a:lnTo>
                  <a:pt x="280" y="33"/>
                </a:lnTo>
                <a:lnTo>
                  <a:pt x="285" y="4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4" name="Freeform 110"/>
          <p:cNvSpPr/>
          <p:nvPr/>
        </p:nvSpPr>
        <p:spPr>
          <a:xfrm>
            <a:off x="6621480" y="4784760"/>
            <a:ext cx="39600" cy="22320"/>
          </a:xfrm>
          <a:custGeom>
            <a:avLst/>
            <a:gdLst>
              <a:gd name="textAreaLeft" fmla="*/ 0 w 39600"/>
              <a:gd name="textAreaRight" fmla="*/ 39960 w 39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5" h="29">
                <a:moveTo>
                  <a:pt x="66" y="7"/>
                </a:moveTo>
                <a:lnTo>
                  <a:pt x="66" y="12"/>
                </a:lnTo>
                <a:lnTo>
                  <a:pt x="71" y="15"/>
                </a:lnTo>
                <a:lnTo>
                  <a:pt x="75" y="19"/>
                </a:lnTo>
                <a:lnTo>
                  <a:pt x="75" y="23"/>
                </a:lnTo>
                <a:lnTo>
                  <a:pt x="66" y="26"/>
                </a:lnTo>
                <a:lnTo>
                  <a:pt x="57" y="28"/>
                </a:lnTo>
                <a:lnTo>
                  <a:pt x="48" y="29"/>
                </a:lnTo>
                <a:lnTo>
                  <a:pt x="39" y="29"/>
                </a:lnTo>
                <a:lnTo>
                  <a:pt x="29" y="29"/>
                </a:lnTo>
                <a:lnTo>
                  <a:pt x="21" y="27"/>
                </a:lnTo>
                <a:lnTo>
                  <a:pt x="11" y="25"/>
                </a:lnTo>
                <a:lnTo>
                  <a:pt x="2" y="23"/>
                </a:lnTo>
                <a:lnTo>
                  <a:pt x="0" y="18"/>
                </a:lnTo>
                <a:lnTo>
                  <a:pt x="1" y="14"/>
                </a:lnTo>
                <a:lnTo>
                  <a:pt x="5" y="11"/>
                </a:lnTo>
                <a:lnTo>
                  <a:pt x="9" y="8"/>
                </a:lnTo>
                <a:lnTo>
                  <a:pt x="16" y="7"/>
                </a:lnTo>
                <a:lnTo>
                  <a:pt x="22" y="5"/>
                </a:lnTo>
                <a:lnTo>
                  <a:pt x="29" y="3"/>
                </a:lnTo>
                <a:lnTo>
                  <a:pt x="33" y="0"/>
                </a:lnTo>
                <a:lnTo>
                  <a:pt x="43" y="0"/>
                </a:lnTo>
                <a:lnTo>
                  <a:pt x="51" y="1"/>
                </a:lnTo>
                <a:lnTo>
                  <a:pt x="59" y="4"/>
                </a:lnTo>
                <a:lnTo>
                  <a:pt x="6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5" name="Freeform 111"/>
          <p:cNvSpPr/>
          <p:nvPr/>
        </p:nvSpPr>
        <p:spPr>
          <a:xfrm>
            <a:off x="6891480" y="4807080"/>
            <a:ext cx="56880" cy="68040"/>
          </a:xfrm>
          <a:custGeom>
            <a:avLst/>
            <a:gdLst>
              <a:gd name="textAreaLeft" fmla="*/ 0 w 56880"/>
              <a:gd name="textAreaRight" fmla="*/ 57240 w 568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06" h="86">
                <a:moveTo>
                  <a:pt x="106" y="17"/>
                </a:moveTo>
                <a:lnTo>
                  <a:pt x="97" y="26"/>
                </a:lnTo>
                <a:lnTo>
                  <a:pt x="89" y="34"/>
                </a:lnTo>
                <a:lnTo>
                  <a:pt x="79" y="43"/>
                </a:lnTo>
                <a:lnTo>
                  <a:pt x="70" y="51"/>
                </a:lnTo>
                <a:lnTo>
                  <a:pt x="60" y="60"/>
                </a:lnTo>
                <a:lnTo>
                  <a:pt x="52" y="69"/>
                </a:lnTo>
                <a:lnTo>
                  <a:pt x="42" y="77"/>
                </a:lnTo>
                <a:lnTo>
                  <a:pt x="32" y="86"/>
                </a:lnTo>
                <a:lnTo>
                  <a:pt x="24" y="79"/>
                </a:lnTo>
                <a:lnTo>
                  <a:pt x="17" y="74"/>
                </a:lnTo>
                <a:lnTo>
                  <a:pt x="9" y="69"/>
                </a:lnTo>
                <a:lnTo>
                  <a:pt x="0" y="62"/>
                </a:lnTo>
                <a:lnTo>
                  <a:pt x="10" y="55"/>
                </a:lnTo>
                <a:lnTo>
                  <a:pt x="20" y="47"/>
                </a:lnTo>
                <a:lnTo>
                  <a:pt x="29" y="40"/>
                </a:lnTo>
                <a:lnTo>
                  <a:pt x="39" y="32"/>
                </a:lnTo>
                <a:lnTo>
                  <a:pt x="47" y="24"/>
                </a:lnTo>
                <a:lnTo>
                  <a:pt x="56" y="16"/>
                </a:lnTo>
                <a:lnTo>
                  <a:pt x="64" y="8"/>
                </a:lnTo>
                <a:lnTo>
                  <a:pt x="71" y="0"/>
                </a:lnTo>
                <a:lnTo>
                  <a:pt x="78" y="6"/>
                </a:lnTo>
                <a:lnTo>
                  <a:pt x="86" y="11"/>
                </a:lnTo>
                <a:lnTo>
                  <a:pt x="96" y="15"/>
                </a:lnTo>
                <a:lnTo>
                  <a:pt x="106" y="17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6" name="Freeform 112"/>
          <p:cNvSpPr/>
          <p:nvPr/>
        </p:nvSpPr>
        <p:spPr>
          <a:xfrm>
            <a:off x="6904080" y="4826160"/>
            <a:ext cx="81000" cy="98280"/>
          </a:xfrm>
          <a:custGeom>
            <a:avLst/>
            <a:gdLst>
              <a:gd name="textAreaLeft" fmla="*/ 0 w 81000"/>
              <a:gd name="textAreaRight" fmla="*/ 81360 w 81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53" h="123">
                <a:moveTo>
                  <a:pt x="153" y="12"/>
                </a:moveTo>
                <a:lnTo>
                  <a:pt x="139" y="26"/>
                </a:lnTo>
                <a:lnTo>
                  <a:pt x="123" y="39"/>
                </a:lnTo>
                <a:lnTo>
                  <a:pt x="110" y="53"/>
                </a:lnTo>
                <a:lnTo>
                  <a:pt x="94" y="67"/>
                </a:lnTo>
                <a:lnTo>
                  <a:pt x="79" y="80"/>
                </a:lnTo>
                <a:lnTo>
                  <a:pt x="65" y="94"/>
                </a:lnTo>
                <a:lnTo>
                  <a:pt x="51" y="109"/>
                </a:lnTo>
                <a:lnTo>
                  <a:pt x="39" y="123"/>
                </a:lnTo>
                <a:lnTo>
                  <a:pt x="29" y="119"/>
                </a:lnTo>
                <a:lnTo>
                  <a:pt x="19" y="116"/>
                </a:lnTo>
                <a:lnTo>
                  <a:pt x="10" y="113"/>
                </a:lnTo>
                <a:lnTo>
                  <a:pt x="0" y="110"/>
                </a:lnTo>
                <a:lnTo>
                  <a:pt x="16" y="97"/>
                </a:lnTo>
                <a:lnTo>
                  <a:pt x="32" y="83"/>
                </a:lnTo>
                <a:lnTo>
                  <a:pt x="47" y="69"/>
                </a:lnTo>
                <a:lnTo>
                  <a:pt x="61" y="55"/>
                </a:lnTo>
                <a:lnTo>
                  <a:pt x="75" y="41"/>
                </a:lnTo>
                <a:lnTo>
                  <a:pt x="90" y="27"/>
                </a:lnTo>
                <a:lnTo>
                  <a:pt x="104" y="14"/>
                </a:lnTo>
                <a:lnTo>
                  <a:pt x="119" y="0"/>
                </a:lnTo>
                <a:lnTo>
                  <a:pt x="129" y="1"/>
                </a:lnTo>
                <a:lnTo>
                  <a:pt x="137" y="4"/>
                </a:lnTo>
                <a:lnTo>
                  <a:pt x="146" y="8"/>
                </a:lnTo>
                <a:lnTo>
                  <a:pt x="153" y="12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7" name="Freeform 113"/>
          <p:cNvSpPr/>
          <p:nvPr/>
        </p:nvSpPr>
        <p:spPr>
          <a:xfrm>
            <a:off x="6939000" y="4848120"/>
            <a:ext cx="61920" cy="98640"/>
          </a:xfrm>
          <a:custGeom>
            <a:avLst/>
            <a:gdLst>
              <a:gd name="textAreaLeft" fmla="*/ 0 w 61920"/>
              <a:gd name="textAreaRight" fmla="*/ 62280 w 619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18" h="123">
                <a:moveTo>
                  <a:pt x="98" y="34"/>
                </a:moveTo>
                <a:lnTo>
                  <a:pt x="87" y="45"/>
                </a:lnTo>
                <a:lnTo>
                  <a:pt x="77" y="56"/>
                </a:lnTo>
                <a:lnTo>
                  <a:pt x="66" y="67"/>
                </a:lnTo>
                <a:lnTo>
                  <a:pt x="55" y="78"/>
                </a:lnTo>
                <a:lnTo>
                  <a:pt x="46" y="89"/>
                </a:lnTo>
                <a:lnTo>
                  <a:pt x="34" y="100"/>
                </a:lnTo>
                <a:lnTo>
                  <a:pt x="25" y="111"/>
                </a:lnTo>
                <a:lnTo>
                  <a:pt x="15" y="123"/>
                </a:lnTo>
                <a:lnTo>
                  <a:pt x="11" y="121"/>
                </a:lnTo>
                <a:lnTo>
                  <a:pt x="8" y="118"/>
                </a:lnTo>
                <a:lnTo>
                  <a:pt x="4" y="115"/>
                </a:lnTo>
                <a:lnTo>
                  <a:pt x="0" y="112"/>
                </a:lnTo>
                <a:lnTo>
                  <a:pt x="14" y="98"/>
                </a:lnTo>
                <a:lnTo>
                  <a:pt x="26" y="84"/>
                </a:lnTo>
                <a:lnTo>
                  <a:pt x="40" y="70"/>
                </a:lnTo>
                <a:lnTo>
                  <a:pt x="54" y="56"/>
                </a:lnTo>
                <a:lnTo>
                  <a:pt x="68" y="42"/>
                </a:lnTo>
                <a:lnTo>
                  <a:pt x="82" y="28"/>
                </a:lnTo>
                <a:lnTo>
                  <a:pt x="96" y="14"/>
                </a:lnTo>
                <a:lnTo>
                  <a:pt x="109" y="0"/>
                </a:lnTo>
                <a:lnTo>
                  <a:pt x="118" y="9"/>
                </a:lnTo>
                <a:lnTo>
                  <a:pt x="114" y="17"/>
                </a:lnTo>
                <a:lnTo>
                  <a:pt x="104" y="25"/>
                </a:lnTo>
                <a:lnTo>
                  <a:pt x="98" y="34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8" name="Freeform 114"/>
          <p:cNvSpPr/>
          <p:nvPr/>
        </p:nvSpPr>
        <p:spPr>
          <a:xfrm>
            <a:off x="6462720" y="4842000"/>
            <a:ext cx="388800" cy="260280"/>
          </a:xfrm>
          <a:custGeom>
            <a:avLst/>
            <a:gdLst>
              <a:gd name="textAreaLeft" fmla="*/ 0 w 388800"/>
              <a:gd name="textAreaRight" fmla="*/ 389160 w 3888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735" h="328">
                <a:moveTo>
                  <a:pt x="220" y="257"/>
                </a:moveTo>
                <a:lnTo>
                  <a:pt x="219" y="273"/>
                </a:lnTo>
                <a:lnTo>
                  <a:pt x="220" y="290"/>
                </a:lnTo>
                <a:lnTo>
                  <a:pt x="220" y="308"/>
                </a:lnTo>
                <a:lnTo>
                  <a:pt x="219" y="327"/>
                </a:lnTo>
                <a:lnTo>
                  <a:pt x="91" y="328"/>
                </a:lnTo>
                <a:lnTo>
                  <a:pt x="81" y="283"/>
                </a:lnTo>
                <a:lnTo>
                  <a:pt x="84" y="283"/>
                </a:lnTo>
                <a:lnTo>
                  <a:pt x="87" y="281"/>
                </a:lnTo>
                <a:lnTo>
                  <a:pt x="88" y="280"/>
                </a:lnTo>
                <a:lnTo>
                  <a:pt x="91" y="279"/>
                </a:lnTo>
                <a:lnTo>
                  <a:pt x="92" y="266"/>
                </a:lnTo>
                <a:lnTo>
                  <a:pt x="85" y="254"/>
                </a:lnTo>
                <a:lnTo>
                  <a:pt x="80" y="243"/>
                </a:lnTo>
                <a:lnTo>
                  <a:pt x="85" y="229"/>
                </a:lnTo>
                <a:lnTo>
                  <a:pt x="82" y="214"/>
                </a:lnTo>
                <a:lnTo>
                  <a:pt x="80" y="198"/>
                </a:lnTo>
                <a:lnTo>
                  <a:pt x="74" y="183"/>
                </a:lnTo>
                <a:lnTo>
                  <a:pt x="62" y="170"/>
                </a:lnTo>
                <a:lnTo>
                  <a:pt x="74" y="161"/>
                </a:lnTo>
                <a:lnTo>
                  <a:pt x="85" y="151"/>
                </a:lnTo>
                <a:lnTo>
                  <a:pt x="92" y="140"/>
                </a:lnTo>
                <a:lnTo>
                  <a:pt x="89" y="126"/>
                </a:lnTo>
                <a:lnTo>
                  <a:pt x="87" y="121"/>
                </a:lnTo>
                <a:lnTo>
                  <a:pt x="82" y="117"/>
                </a:lnTo>
                <a:lnTo>
                  <a:pt x="77" y="114"/>
                </a:lnTo>
                <a:lnTo>
                  <a:pt x="71" y="112"/>
                </a:lnTo>
                <a:lnTo>
                  <a:pt x="64" y="111"/>
                </a:lnTo>
                <a:lnTo>
                  <a:pt x="57" y="111"/>
                </a:lnTo>
                <a:lnTo>
                  <a:pt x="52" y="110"/>
                </a:lnTo>
                <a:lnTo>
                  <a:pt x="46" y="108"/>
                </a:lnTo>
                <a:lnTo>
                  <a:pt x="52" y="101"/>
                </a:lnTo>
                <a:lnTo>
                  <a:pt x="57" y="94"/>
                </a:lnTo>
                <a:lnTo>
                  <a:pt x="60" y="86"/>
                </a:lnTo>
                <a:lnTo>
                  <a:pt x="60" y="77"/>
                </a:lnTo>
                <a:lnTo>
                  <a:pt x="55" y="73"/>
                </a:lnTo>
                <a:lnTo>
                  <a:pt x="50" y="70"/>
                </a:lnTo>
                <a:lnTo>
                  <a:pt x="45" y="68"/>
                </a:lnTo>
                <a:lnTo>
                  <a:pt x="39" y="66"/>
                </a:lnTo>
                <a:lnTo>
                  <a:pt x="34" y="64"/>
                </a:lnTo>
                <a:lnTo>
                  <a:pt x="27" y="62"/>
                </a:lnTo>
                <a:lnTo>
                  <a:pt x="21" y="60"/>
                </a:lnTo>
                <a:lnTo>
                  <a:pt x="16" y="58"/>
                </a:lnTo>
                <a:lnTo>
                  <a:pt x="13" y="43"/>
                </a:lnTo>
                <a:lnTo>
                  <a:pt x="10" y="28"/>
                </a:lnTo>
                <a:lnTo>
                  <a:pt x="6" y="14"/>
                </a:lnTo>
                <a:lnTo>
                  <a:pt x="0" y="0"/>
                </a:lnTo>
                <a:lnTo>
                  <a:pt x="666" y="0"/>
                </a:lnTo>
                <a:lnTo>
                  <a:pt x="735" y="53"/>
                </a:lnTo>
                <a:lnTo>
                  <a:pt x="728" y="59"/>
                </a:lnTo>
                <a:lnTo>
                  <a:pt x="720" y="65"/>
                </a:lnTo>
                <a:lnTo>
                  <a:pt x="713" y="70"/>
                </a:lnTo>
                <a:lnTo>
                  <a:pt x="706" y="76"/>
                </a:lnTo>
                <a:lnTo>
                  <a:pt x="699" y="82"/>
                </a:lnTo>
                <a:lnTo>
                  <a:pt x="694" y="88"/>
                </a:lnTo>
                <a:lnTo>
                  <a:pt x="687" y="94"/>
                </a:lnTo>
                <a:lnTo>
                  <a:pt x="680" y="100"/>
                </a:lnTo>
                <a:lnTo>
                  <a:pt x="670" y="101"/>
                </a:lnTo>
                <a:lnTo>
                  <a:pt x="659" y="102"/>
                </a:lnTo>
                <a:lnTo>
                  <a:pt x="648" y="102"/>
                </a:lnTo>
                <a:lnTo>
                  <a:pt x="638" y="102"/>
                </a:lnTo>
                <a:lnTo>
                  <a:pt x="627" y="102"/>
                </a:lnTo>
                <a:lnTo>
                  <a:pt x="616" y="101"/>
                </a:lnTo>
                <a:lnTo>
                  <a:pt x="605" y="101"/>
                </a:lnTo>
                <a:lnTo>
                  <a:pt x="595" y="100"/>
                </a:lnTo>
                <a:lnTo>
                  <a:pt x="603" y="82"/>
                </a:lnTo>
                <a:lnTo>
                  <a:pt x="606" y="67"/>
                </a:lnTo>
                <a:lnTo>
                  <a:pt x="602" y="52"/>
                </a:lnTo>
                <a:lnTo>
                  <a:pt x="591" y="37"/>
                </a:lnTo>
                <a:lnTo>
                  <a:pt x="567" y="35"/>
                </a:lnTo>
                <a:lnTo>
                  <a:pt x="544" y="33"/>
                </a:lnTo>
                <a:lnTo>
                  <a:pt x="519" y="32"/>
                </a:lnTo>
                <a:lnTo>
                  <a:pt x="495" y="31"/>
                </a:lnTo>
                <a:lnTo>
                  <a:pt x="471" y="32"/>
                </a:lnTo>
                <a:lnTo>
                  <a:pt x="448" y="33"/>
                </a:lnTo>
                <a:lnTo>
                  <a:pt x="424" y="35"/>
                </a:lnTo>
                <a:lnTo>
                  <a:pt x="400" y="38"/>
                </a:lnTo>
                <a:lnTo>
                  <a:pt x="391" y="45"/>
                </a:lnTo>
                <a:lnTo>
                  <a:pt x="389" y="54"/>
                </a:lnTo>
                <a:lnTo>
                  <a:pt x="391" y="63"/>
                </a:lnTo>
                <a:lnTo>
                  <a:pt x="389" y="73"/>
                </a:lnTo>
                <a:lnTo>
                  <a:pt x="388" y="83"/>
                </a:lnTo>
                <a:lnTo>
                  <a:pt x="389" y="93"/>
                </a:lnTo>
                <a:lnTo>
                  <a:pt x="391" y="103"/>
                </a:lnTo>
                <a:lnTo>
                  <a:pt x="396" y="112"/>
                </a:lnTo>
                <a:lnTo>
                  <a:pt x="403" y="116"/>
                </a:lnTo>
                <a:lnTo>
                  <a:pt x="412" y="119"/>
                </a:lnTo>
                <a:lnTo>
                  <a:pt x="420" y="121"/>
                </a:lnTo>
                <a:lnTo>
                  <a:pt x="430" y="121"/>
                </a:lnTo>
                <a:lnTo>
                  <a:pt x="428" y="127"/>
                </a:lnTo>
                <a:lnTo>
                  <a:pt x="432" y="132"/>
                </a:lnTo>
                <a:lnTo>
                  <a:pt x="438" y="136"/>
                </a:lnTo>
                <a:lnTo>
                  <a:pt x="444" y="141"/>
                </a:lnTo>
                <a:lnTo>
                  <a:pt x="445" y="144"/>
                </a:lnTo>
                <a:lnTo>
                  <a:pt x="450" y="150"/>
                </a:lnTo>
                <a:lnTo>
                  <a:pt x="456" y="157"/>
                </a:lnTo>
                <a:lnTo>
                  <a:pt x="462" y="162"/>
                </a:lnTo>
                <a:lnTo>
                  <a:pt x="466" y="166"/>
                </a:lnTo>
                <a:lnTo>
                  <a:pt x="473" y="168"/>
                </a:lnTo>
                <a:lnTo>
                  <a:pt x="478" y="169"/>
                </a:lnTo>
                <a:lnTo>
                  <a:pt x="485" y="170"/>
                </a:lnTo>
                <a:lnTo>
                  <a:pt x="494" y="170"/>
                </a:lnTo>
                <a:lnTo>
                  <a:pt x="500" y="169"/>
                </a:lnTo>
                <a:lnTo>
                  <a:pt x="507" y="169"/>
                </a:lnTo>
                <a:lnTo>
                  <a:pt x="513" y="168"/>
                </a:lnTo>
                <a:lnTo>
                  <a:pt x="521" y="163"/>
                </a:lnTo>
                <a:lnTo>
                  <a:pt x="531" y="161"/>
                </a:lnTo>
                <a:lnTo>
                  <a:pt x="541" y="162"/>
                </a:lnTo>
                <a:lnTo>
                  <a:pt x="552" y="164"/>
                </a:lnTo>
                <a:lnTo>
                  <a:pt x="557" y="167"/>
                </a:lnTo>
                <a:lnTo>
                  <a:pt x="563" y="166"/>
                </a:lnTo>
                <a:lnTo>
                  <a:pt x="569" y="165"/>
                </a:lnTo>
                <a:lnTo>
                  <a:pt x="575" y="164"/>
                </a:lnTo>
                <a:lnTo>
                  <a:pt x="585" y="167"/>
                </a:lnTo>
                <a:lnTo>
                  <a:pt x="592" y="172"/>
                </a:lnTo>
                <a:lnTo>
                  <a:pt x="600" y="176"/>
                </a:lnTo>
                <a:lnTo>
                  <a:pt x="612" y="177"/>
                </a:lnTo>
                <a:lnTo>
                  <a:pt x="603" y="188"/>
                </a:lnTo>
                <a:lnTo>
                  <a:pt x="596" y="198"/>
                </a:lnTo>
                <a:lnTo>
                  <a:pt x="592" y="210"/>
                </a:lnTo>
                <a:lnTo>
                  <a:pt x="595" y="223"/>
                </a:lnTo>
                <a:lnTo>
                  <a:pt x="599" y="227"/>
                </a:lnTo>
                <a:lnTo>
                  <a:pt x="606" y="229"/>
                </a:lnTo>
                <a:lnTo>
                  <a:pt x="612" y="230"/>
                </a:lnTo>
                <a:lnTo>
                  <a:pt x="620" y="230"/>
                </a:lnTo>
                <a:lnTo>
                  <a:pt x="627" y="230"/>
                </a:lnTo>
                <a:lnTo>
                  <a:pt x="634" y="230"/>
                </a:lnTo>
                <a:lnTo>
                  <a:pt x="641" y="231"/>
                </a:lnTo>
                <a:lnTo>
                  <a:pt x="648" y="232"/>
                </a:lnTo>
                <a:lnTo>
                  <a:pt x="648" y="240"/>
                </a:lnTo>
                <a:lnTo>
                  <a:pt x="645" y="248"/>
                </a:lnTo>
                <a:lnTo>
                  <a:pt x="639" y="254"/>
                </a:lnTo>
                <a:lnTo>
                  <a:pt x="630" y="256"/>
                </a:lnTo>
                <a:lnTo>
                  <a:pt x="220" y="257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9" name="Freeform 115"/>
          <p:cNvSpPr/>
          <p:nvPr/>
        </p:nvSpPr>
        <p:spPr>
          <a:xfrm>
            <a:off x="6953400" y="4869000"/>
            <a:ext cx="66600" cy="231480"/>
          </a:xfrm>
          <a:custGeom>
            <a:avLst/>
            <a:gdLst>
              <a:gd name="textAreaLeft" fmla="*/ 0 w 66600"/>
              <a:gd name="textAreaRight" fmla="*/ 66960 w 66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8" h="292">
                <a:moveTo>
                  <a:pt x="128" y="37"/>
                </a:moveTo>
                <a:lnTo>
                  <a:pt x="125" y="99"/>
                </a:lnTo>
                <a:lnTo>
                  <a:pt x="117" y="161"/>
                </a:lnTo>
                <a:lnTo>
                  <a:pt x="107" y="226"/>
                </a:lnTo>
                <a:lnTo>
                  <a:pt x="99" y="292"/>
                </a:lnTo>
                <a:lnTo>
                  <a:pt x="44" y="292"/>
                </a:lnTo>
                <a:lnTo>
                  <a:pt x="49" y="276"/>
                </a:lnTo>
                <a:lnTo>
                  <a:pt x="49" y="262"/>
                </a:lnTo>
                <a:lnTo>
                  <a:pt x="46" y="248"/>
                </a:lnTo>
                <a:lnTo>
                  <a:pt x="46" y="235"/>
                </a:lnTo>
                <a:lnTo>
                  <a:pt x="42" y="220"/>
                </a:lnTo>
                <a:lnTo>
                  <a:pt x="38" y="204"/>
                </a:lnTo>
                <a:lnTo>
                  <a:pt x="35" y="188"/>
                </a:lnTo>
                <a:lnTo>
                  <a:pt x="30" y="172"/>
                </a:lnTo>
                <a:lnTo>
                  <a:pt x="25" y="157"/>
                </a:lnTo>
                <a:lnTo>
                  <a:pt x="19" y="142"/>
                </a:lnTo>
                <a:lnTo>
                  <a:pt x="10" y="128"/>
                </a:lnTo>
                <a:lnTo>
                  <a:pt x="0" y="114"/>
                </a:lnTo>
                <a:lnTo>
                  <a:pt x="110" y="0"/>
                </a:lnTo>
                <a:lnTo>
                  <a:pt x="123" y="6"/>
                </a:lnTo>
                <a:lnTo>
                  <a:pt x="127" y="16"/>
                </a:lnTo>
                <a:lnTo>
                  <a:pt x="127" y="27"/>
                </a:lnTo>
                <a:lnTo>
                  <a:pt x="128" y="37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0" name="Freeform 116"/>
          <p:cNvSpPr/>
          <p:nvPr/>
        </p:nvSpPr>
        <p:spPr>
          <a:xfrm>
            <a:off x="6789600" y="4894200"/>
            <a:ext cx="86040" cy="123840"/>
          </a:xfrm>
          <a:custGeom>
            <a:avLst/>
            <a:gdLst>
              <a:gd name="textAreaLeft" fmla="*/ 0 w 86040"/>
              <a:gd name="textAreaRight" fmla="*/ 86400 w 86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63" h="156">
                <a:moveTo>
                  <a:pt x="163" y="23"/>
                </a:moveTo>
                <a:lnTo>
                  <a:pt x="140" y="37"/>
                </a:lnTo>
                <a:lnTo>
                  <a:pt x="121" y="52"/>
                </a:lnTo>
                <a:lnTo>
                  <a:pt x="104" y="68"/>
                </a:lnTo>
                <a:lnTo>
                  <a:pt x="89" y="85"/>
                </a:lnTo>
                <a:lnTo>
                  <a:pt x="77" y="103"/>
                </a:lnTo>
                <a:lnTo>
                  <a:pt x="64" y="121"/>
                </a:lnTo>
                <a:lnTo>
                  <a:pt x="53" y="139"/>
                </a:lnTo>
                <a:lnTo>
                  <a:pt x="40" y="156"/>
                </a:lnTo>
                <a:lnTo>
                  <a:pt x="35" y="156"/>
                </a:lnTo>
                <a:lnTo>
                  <a:pt x="28" y="155"/>
                </a:lnTo>
                <a:lnTo>
                  <a:pt x="20" y="155"/>
                </a:lnTo>
                <a:lnTo>
                  <a:pt x="13" y="155"/>
                </a:lnTo>
                <a:lnTo>
                  <a:pt x="7" y="154"/>
                </a:lnTo>
                <a:lnTo>
                  <a:pt x="2" y="152"/>
                </a:lnTo>
                <a:lnTo>
                  <a:pt x="0" y="149"/>
                </a:lnTo>
                <a:lnTo>
                  <a:pt x="0" y="144"/>
                </a:lnTo>
                <a:lnTo>
                  <a:pt x="10" y="131"/>
                </a:lnTo>
                <a:lnTo>
                  <a:pt x="25" y="112"/>
                </a:lnTo>
                <a:lnTo>
                  <a:pt x="47" y="88"/>
                </a:lnTo>
                <a:lnTo>
                  <a:pt x="70" y="63"/>
                </a:lnTo>
                <a:lnTo>
                  <a:pt x="93" y="39"/>
                </a:lnTo>
                <a:lnTo>
                  <a:pt x="113" y="19"/>
                </a:lnTo>
                <a:lnTo>
                  <a:pt x="125" y="5"/>
                </a:lnTo>
                <a:lnTo>
                  <a:pt x="131" y="0"/>
                </a:lnTo>
                <a:lnTo>
                  <a:pt x="163" y="23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1" name="Freeform 117"/>
          <p:cNvSpPr/>
          <p:nvPr/>
        </p:nvSpPr>
        <p:spPr>
          <a:xfrm>
            <a:off x="6440400" y="4889520"/>
            <a:ext cx="39600" cy="34920"/>
          </a:xfrm>
          <a:custGeom>
            <a:avLst/>
            <a:gdLst>
              <a:gd name="textAreaLeft" fmla="*/ 0 w 39600"/>
              <a:gd name="textAreaRight" fmla="*/ 39960 w 396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75" h="43">
                <a:moveTo>
                  <a:pt x="75" y="36"/>
                </a:moveTo>
                <a:lnTo>
                  <a:pt x="67" y="41"/>
                </a:lnTo>
                <a:lnTo>
                  <a:pt x="58" y="43"/>
                </a:lnTo>
                <a:lnTo>
                  <a:pt x="50" y="43"/>
                </a:lnTo>
                <a:lnTo>
                  <a:pt x="40" y="41"/>
                </a:lnTo>
                <a:lnTo>
                  <a:pt x="32" y="38"/>
                </a:lnTo>
                <a:lnTo>
                  <a:pt x="22" y="36"/>
                </a:lnTo>
                <a:lnTo>
                  <a:pt x="14" y="33"/>
                </a:lnTo>
                <a:lnTo>
                  <a:pt x="6" y="32"/>
                </a:lnTo>
                <a:lnTo>
                  <a:pt x="3" y="24"/>
                </a:lnTo>
                <a:lnTo>
                  <a:pt x="0" y="16"/>
                </a:lnTo>
                <a:lnTo>
                  <a:pt x="1" y="7"/>
                </a:lnTo>
                <a:lnTo>
                  <a:pt x="6" y="0"/>
                </a:lnTo>
                <a:lnTo>
                  <a:pt x="15" y="4"/>
                </a:lnTo>
                <a:lnTo>
                  <a:pt x="26" y="7"/>
                </a:lnTo>
                <a:lnTo>
                  <a:pt x="38" y="9"/>
                </a:lnTo>
                <a:lnTo>
                  <a:pt x="50" y="12"/>
                </a:lnTo>
                <a:lnTo>
                  <a:pt x="60" y="15"/>
                </a:lnTo>
                <a:lnTo>
                  <a:pt x="68" y="20"/>
                </a:lnTo>
                <a:lnTo>
                  <a:pt x="74" y="26"/>
                </a:lnTo>
                <a:lnTo>
                  <a:pt x="75" y="36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2" name="Freeform 118"/>
          <p:cNvSpPr/>
          <p:nvPr/>
        </p:nvSpPr>
        <p:spPr>
          <a:xfrm>
            <a:off x="6594480" y="4925880"/>
            <a:ext cx="366840" cy="174600"/>
          </a:xfrm>
          <a:custGeom>
            <a:avLst/>
            <a:gdLst>
              <a:gd name="textAreaLeft" fmla="*/ 0 w 366840"/>
              <a:gd name="textAreaRight" fmla="*/ 367200 w 36684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694" h="222">
                <a:moveTo>
                  <a:pt x="687" y="175"/>
                </a:moveTo>
                <a:lnTo>
                  <a:pt x="691" y="186"/>
                </a:lnTo>
                <a:lnTo>
                  <a:pt x="694" y="198"/>
                </a:lnTo>
                <a:lnTo>
                  <a:pt x="694" y="211"/>
                </a:lnTo>
                <a:lnTo>
                  <a:pt x="694" y="222"/>
                </a:lnTo>
                <a:lnTo>
                  <a:pt x="1" y="222"/>
                </a:lnTo>
                <a:lnTo>
                  <a:pt x="0" y="172"/>
                </a:lnTo>
                <a:lnTo>
                  <a:pt x="400" y="174"/>
                </a:lnTo>
                <a:lnTo>
                  <a:pt x="409" y="166"/>
                </a:lnTo>
                <a:lnTo>
                  <a:pt x="418" y="157"/>
                </a:lnTo>
                <a:lnTo>
                  <a:pt x="425" y="147"/>
                </a:lnTo>
                <a:lnTo>
                  <a:pt x="430" y="137"/>
                </a:lnTo>
                <a:lnTo>
                  <a:pt x="436" y="126"/>
                </a:lnTo>
                <a:lnTo>
                  <a:pt x="441" y="117"/>
                </a:lnTo>
                <a:lnTo>
                  <a:pt x="447" y="108"/>
                </a:lnTo>
                <a:lnTo>
                  <a:pt x="452" y="100"/>
                </a:lnTo>
                <a:lnTo>
                  <a:pt x="462" y="87"/>
                </a:lnTo>
                <a:lnTo>
                  <a:pt x="472" y="73"/>
                </a:lnTo>
                <a:lnTo>
                  <a:pt x="483" y="60"/>
                </a:lnTo>
                <a:lnTo>
                  <a:pt x="494" y="47"/>
                </a:lnTo>
                <a:lnTo>
                  <a:pt x="507" y="34"/>
                </a:lnTo>
                <a:lnTo>
                  <a:pt x="521" y="22"/>
                </a:lnTo>
                <a:lnTo>
                  <a:pt x="536" y="11"/>
                </a:lnTo>
                <a:lnTo>
                  <a:pt x="551" y="0"/>
                </a:lnTo>
                <a:lnTo>
                  <a:pt x="576" y="1"/>
                </a:lnTo>
                <a:lnTo>
                  <a:pt x="600" y="11"/>
                </a:lnTo>
                <a:lnTo>
                  <a:pt x="622" y="29"/>
                </a:lnTo>
                <a:lnTo>
                  <a:pt x="643" y="54"/>
                </a:lnTo>
                <a:lnTo>
                  <a:pt x="659" y="82"/>
                </a:lnTo>
                <a:lnTo>
                  <a:pt x="673" y="113"/>
                </a:lnTo>
                <a:lnTo>
                  <a:pt x="683" y="145"/>
                </a:lnTo>
                <a:lnTo>
                  <a:pt x="687" y="175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3" name="Freeform 119"/>
          <p:cNvSpPr/>
          <p:nvPr/>
        </p:nvSpPr>
        <p:spPr>
          <a:xfrm>
            <a:off x="6880320" y="4946760"/>
            <a:ext cx="38160" cy="44280"/>
          </a:xfrm>
          <a:custGeom>
            <a:avLst/>
            <a:gdLst>
              <a:gd name="textAreaLeft" fmla="*/ 0 w 38160"/>
              <a:gd name="textAreaRight" fmla="*/ 38520 w 381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2" h="57">
                <a:moveTo>
                  <a:pt x="69" y="19"/>
                </a:moveTo>
                <a:lnTo>
                  <a:pt x="72" y="31"/>
                </a:lnTo>
                <a:lnTo>
                  <a:pt x="68" y="43"/>
                </a:lnTo>
                <a:lnTo>
                  <a:pt x="58" y="52"/>
                </a:lnTo>
                <a:lnTo>
                  <a:pt x="44" y="56"/>
                </a:lnTo>
                <a:lnTo>
                  <a:pt x="38" y="57"/>
                </a:lnTo>
                <a:lnTo>
                  <a:pt x="33" y="57"/>
                </a:lnTo>
                <a:lnTo>
                  <a:pt x="26" y="56"/>
                </a:lnTo>
                <a:lnTo>
                  <a:pt x="19" y="54"/>
                </a:lnTo>
                <a:lnTo>
                  <a:pt x="13" y="52"/>
                </a:lnTo>
                <a:lnTo>
                  <a:pt x="8" y="49"/>
                </a:lnTo>
                <a:lnTo>
                  <a:pt x="4" y="45"/>
                </a:lnTo>
                <a:lnTo>
                  <a:pt x="1" y="41"/>
                </a:lnTo>
                <a:lnTo>
                  <a:pt x="0" y="30"/>
                </a:lnTo>
                <a:lnTo>
                  <a:pt x="0" y="20"/>
                </a:lnTo>
                <a:lnTo>
                  <a:pt x="5" y="11"/>
                </a:lnTo>
                <a:lnTo>
                  <a:pt x="18" y="5"/>
                </a:lnTo>
                <a:lnTo>
                  <a:pt x="23" y="4"/>
                </a:lnTo>
                <a:lnTo>
                  <a:pt x="30" y="4"/>
                </a:lnTo>
                <a:lnTo>
                  <a:pt x="36" y="3"/>
                </a:lnTo>
                <a:lnTo>
                  <a:pt x="38" y="0"/>
                </a:lnTo>
                <a:lnTo>
                  <a:pt x="45" y="4"/>
                </a:lnTo>
                <a:lnTo>
                  <a:pt x="55" y="8"/>
                </a:lnTo>
                <a:lnTo>
                  <a:pt x="63" y="12"/>
                </a:lnTo>
                <a:lnTo>
                  <a:pt x="6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4" name="Freeform 120"/>
          <p:cNvSpPr/>
          <p:nvPr/>
        </p:nvSpPr>
        <p:spPr>
          <a:xfrm>
            <a:off x="6443640" y="4930920"/>
            <a:ext cx="55440" cy="34920"/>
          </a:xfrm>
          <a:custGeom>
            <a:avLst/>
            <a:gdLst>
              <a:gd name="textAreaLeft" fmla="*/ 0 w 55440"/>
              <a:gd name="textAreaRight" fmla="*/ 55800 w 554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6" h="43">
                <a:moveTo>
                  <a:pt x="101" y="17"/>
                </a:moveTo>
                <a:lnTo>
                  <a:pt x="106" y="20"/>
                </a:lnTo>
                <a:lnTo>
                  <a:pt x="104" y="23"/>
                </a:lnTo>
                <a:lnTo>
                  <a:pt x="101" y="26"/>
                </a:lnTo>
                <a:lnTo>
                  <a:pt x="100" y="29"/>
                </a:lnTo>
                <a:lnTo>
                  <a:pt x="89" y="33"/>
                </a:lnTo>
                <a:lnTo>
                  <a:pt x="78" y="36"/>
                </a:lnTo>
                <a:lnTo>
                  <a:pt x="67" y="39"/>
                </a:lnTo>
                <a:lnTo>
                  <a:pt x="54" y="41"/>
                </a:lnTo>
                <a:lnTo>
                  <a:pt x="42" y="42"/>
                </a:lnTo>
                <a:lnTo>
                  <a:pt x="28" y="43"/>
                </a:lnTo>
                <a:lnTo>
                  <a:pt x="15" y="42"/>
                </a:lnTo>
                <a:lnTo>
                  <a:pt x="1" y="40"/>
                </a:lnTo>
                <a:lnTo>
                  <a:pt x="0" y="31"/>
                </a:lnTo>
                <a:lnTo>
                  <a:pt x="3" y="21"/>
                </a:lnTo>
                <a:lnTo>
                  <a:pt x="7" y="10"/>
                </a:lnTo>
                <a:lnTo>
                  <a:pt x="11" y="0"/>
                </a:lnTo>
                <a:lnTo>
                  <a:pt x="22" y="3"/>
                </a:lnTo>
                <a:lnTo>
                  <a:pt x="32" y="6"/>
                </a:lnTo>
                <a:lnTo>
                  <a:pt x="43" y="9"/>
                </a:lnTo>
                <a:lnTo>
                  <a:pt x="54" y="11"/>
                </a:lnTo>
                <a:lnTo>
                  <a:pt x="65" y="13"/>
                </a:lnTo>
                <a:lnTo>
                  <a:pt x="78" y="15"/>
                </a:lnTo>
                <a:lnTo>
                  <a:pt x="89" y="16"/>
                </a:lnTo>
                <a:lnTo>
                  <a:pt x="101" y="17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5" name="Freeform 121"/>
          <p:cNvSpPr/>
          <p:nvPr/>
        </p:nvSpPr>
        <p:spPr>
          <a:xfrm>
            <a:off x="6446880" y="497988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82" h="57">
                <a:moveTo>
                  <a:pt x="47" y="3"/>
                </a:moveTo>
                <a:lnTo>
                  <a:pt x="61" y="15"/>
                </a:lnTo>
                <a:lnTo>
                  <a:pt x="74" y="28"/>
                </a:lnTo>
                <a:lnTo>
                  <a:pt x="80" y="42"/>
                </a:lnTo>
                <a:lnTo>
                  <a:pt x="82" y="57"/>
                </a:lnTo>
                <a:lnTo>
                  <a:pt x="71" y="49"/>
                </a:lnTo>
                <a:lnTo>
                  <a:pt x="57" y="44"/>
                </a:lnTo>
                <a:lnTo>
                  <a:pt x="43" y="39"/>
                </a:lnTo>
                <a:lnTo>
                  <a:pt x="29" y="34"/>
                </a:lnTo>
                <a:lnTo>
                  <a:pt x="17" y="28"/>
                </a:lnTo>
                <a:lnTo>
                  <a:pt x="7" y="21"/>
                </a:lnTo>
                <a:lnTo>
                  <a:pt x="0" y="12"/>
                </a:lnTo>
                <a:lnTo>
                  <a:pt x="0" y="0"/>
                </a:lnTo>
                <a:lnTo>
                  <a:pt x="47" y="3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6" name="Freeform 122"/>
          <p:cNvSpPr/>
          <p:nvPr/>
        </p:nvSpPr>
        <p:spPr>
          <a:xfrm>
            <a:off x="6458040" y="5022720"/>
            <a:ext cx="36360" cy="32040"/>
          </a:xfrm>
          <a:custGeom>
            <a:avLst/>
            <a:gdLst>
              <a:gd name="textAreaLeft" fmla="*/ 0 w 36360"/>
              <a:gd name="textAreaRight" fmla="*/ 36720 w 363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69" h="42">
                <a:moveTo>
                  <a:pt x="69" y="42"/>
                </a:moveTo>
                <a:lnTo>
                  <a:pt x="59" y="42"/>
                </a:lnTo>
                <a:lnTo>
                  <a:pt x="51" y="42"/>
                </a:lnTo>
                <a:lnTo>
                  <a:pt x="43" y="41"/>
                </a:lnTo>
                <a:lnTo>
                  <a:pt x="34" y="40"/>
                </a:lnTo>
                <a:lnTo>
                  <a:pt x="26" y="38"/>
                </a:lnTo>
                <a:lnTo>
                  <a:pt x="18" y="36"/>
                </a:lnTo>
                <a:lnTo>
                  <a:pt x="11" y="34"/>
                </a:lnTo>
                <a:lnTo>
                  <a:pt x="3" y="32"/>
                </a:lnTo>
                <a:lnTo>
                  <a:pt x="0" y="0"/>
                </a:lnTo>
                <a:lnTo>
                  <a:pt x="9" y="5"/>
                </a:lnTo>
                <a:lnTo>
                  <a:pt x="19" y="10"/>
                </a:lnTo>
                <a:lnTo>
                  <a:pt x="29" y="14"/>
                </a:lnTo>
                <a:lnTo>
                  <a:pt x="39" y="19"/>
                </a:lnTo>
                <a:lnTo>
                  <a:pt x="48" y="24"/>
                </a:lnTo>
                <a:lnTo>
                  <a:pt x="57" y="29"/>
                </a:lnTo>
                <a:lnTo>
                  <a:pt x="64" y="35"/>
                </a:lnTo>
                <a:lnTo>
                  <a:pt x="69" y="42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7" name="AutoShape 123"/>
          <p:cNvSpPr/>
          <p:nvPr/>
        </p:nvSpPr>
        <p:spPr>
          <a:xfrm>
            <a:off x="2895480" y="1523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8" name="AutoShape 124"/>
          <p:cNvSpPr/>
          <p:nvPr/>
        </p:nvSpPr>
        <p:spPr>
          <a:xfrm>
            <a:off x="5638680" y="4343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9" name="AutoShape 125"/>
          <p:cNvSpPr/>
          <p:nvPr/>
        </p:nvSpPr>
        <p:spPr>
          <a:xfrm>
            <a:off x="27432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0" name="Text Box 126"/>
          <p:cNvSpPr/>
          <p:nvPr/>
        </p:nvSpPr>
        <p:spPr>
          <a:xfrm>
            <a:off x="1752480" y="106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andura’s Modeling/Imitation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1" name="Oval 127"/>
          <p:cNvSpPr/>
          <p:nvPr/>
        </p:nvSpPr>
        <p:spPr>
          <a:xfrm>
            <a:off x="152280" y="2819520"/>
            <a:ext cx="434340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2" name="Oval 128"/>
          <p:cNvSpPr/>
          <p:nvPr/>
        </p:nvSpPr>
        <p:spPr>
          <a:xfrm>
            <a:off x="5486400" y="2819520"/>
            <a:ext cx="281952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93" name="Picture 129" descr="pe01686_"/>
          <p:cNvPicPr/>
          <p:nvPr/>
        </p:nvPicPr>
        <p:blipFill>
          <a:blip r:embed="rId5"/>
          <a:stretch/>
        </p:blipFill>
        <p:spPr>
          <a:xfrm>
            <a:off x="3505320" y="914400"/>
            <a:ext cx="1958760" cy="2133720"/>
          </a:xfrm>
          <a:prstGeom prst="rect">
            <a:avLst/>
          </a:prstGeom>
          <a:ln w="0">
            <a:noFill/>
          </a:ln>
        </p:spPr>
      </p:pic>
      <p:sp>
        <p:nvSpPr>
          <p:cNvPr id="694" name="AutoShape 130"/>
          <p:cNvSpPr/>
          <p:nvPr/>
        </p:nvSpPr>
        <p:spPr>
          <a:xfrm>
            <a:off x="5181480" y="1600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5" name="Text Box 131"/>
          <p:cNvSpPr/>
          <p:nvPr/>
        </p:nvSpPr>
        <p:spPr>
          <a:xfrm>
            <a:off x="838080" y="2625840"/>
            <a:ext cx="228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il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es someone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mire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6" name="Text Box 132"/>
          <p:cNvSpPr/>
          <p:nvPr/>
        </p:nvSpPr>
        <p:spPr>
          <a:xfrm>
            <a:off x="5791320" y="2638440"/>
            <a:ext cx="2209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imitates behavio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eems rewarde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braham Masl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arl Rogers: Client-Centered The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22824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braham Maslow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tudied the needs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or motivations of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 individu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arl Rogers: Client-Centered Theo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arl Rogers focused on the therapeutic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relationship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nd developed a new method of client centered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rapy. Rogers was one of the first to use the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erm “client” rather than “patient.” Client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entered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rapy focused on the role of the client, rather than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 therapist, as the key to the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healing proces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52280" y="4568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at is a theory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theory should allow us to predict and explain human behavi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ifferent theorists place different emphasis on the genetic, environmental or interactive influences on develop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itle 1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8881920" cy="11224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341280" y="1218960"/>
            <a:ext cx="78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sychological Theo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reudian Psychoanalytic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Erikson psychosocial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iaget Cognitive Develop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ocial Cultural Theo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ygotsky’s sociocultural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ura’s Social Cognitive Model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istic Theo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Maslow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 Rogers: Client-Centered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reudian Psychoanalytic The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rikson Psychosocial Theor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iaget Cognitive Develop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684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Freud’s Psychoanalytic The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ersonality has 3 Structures of id, ego, supereg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09480" y="2133720"/>
          <a:ext cx="7772400" cy="3611520"/>
        </p:xfrm>
        <a:graphic>
          <a:graphicData uri="http://schemas.openxmlformats.org/drawingml/2006/table">
            <a:tbl>
              <a:tblPr/>
              <a:tblGrid>
                <a:gridCol w="1619280"/>
                <a:gridCol w="61531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Structures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Definition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d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s the part of one’s nature that reflects basic or innate desires such as pleasure-seeking behavior and aggression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Superego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s the part of a person’s nature that reflects moral and ethical concepts, values, and parental and social expectations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ego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s the balancing or mediating force between the id and the superego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657600" y="1905120"/>
            <a:ext cx="1447920" cy="3581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hallic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’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ur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cuses on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enital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181480" y="1905120"/>
            <a:ext cx="1600200" cy="3581280"/>
          </a:xfrm>
          <a:prstGeom prst="rect">
            <a:avLst/>
          </a:prstGeom>
          <a:solidFill>
            <a:srgbClr val="dfb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tency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presse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xual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terest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velop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ocial and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ectual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kill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2133720" y="1905120"/>
            <a:ext cx="1447560" cy="3581280"/>
          </a:xfrm>
          <a:prstGeom prst="rect">
            <a:avLst/>
          </a:prstGeom>
          <a:solidFill>
            <a:srgbClr val="75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al 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’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ur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cuses on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u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6858000" y="1905120"/>
            <a:ext cx="1600200" cy="358128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enit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 time of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xual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awakening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609480" y="1905120"/>
            <a:ext cx="1447920" cy="3581280"/>
          </a:xfrm>
          <a:prstGeom prst="rect">
            <a:avLst/>
          </a:prstGeom>
          <a:solidFill>
            <a:srgbClr val="ffbfb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ral 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fant’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ur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enters on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uth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2805120" y="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reudian Stage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5334120" y="1143000"/>
            <a:ext cx="129528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 yrs to puberty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685800" y="1143000"/>
            <a:ext cx="129528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irth to 1½ yr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2286000" y="1143000"/>
            <a:ext cx="114300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½ to 3 yr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6934320" y="1143000"/>
            <a:ext cx="137160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berty onwar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3886200" y="1143000"/>
            <a:ext cx="99072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 to 6 year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1349280" y="530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ve stages—Oral, Anal, Phallic, Latency, Genita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457200" y="1633680"/>
          <a:ext cx="8229600" cy="5029200"/>
        </p:xfrm>
        <a:graphic>
          <a:graphicData uri="http://schemas.openxmlformats.org/drawingml/2006/table">
            <a:tbl>
              <a:tblPr/>
              <a:tblGrid>
                <a:gridCol w="3676680"/>
                <a:gridCol w="455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rikson’s Stages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Developmental Period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Trust vs Mistrus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fan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utonomy vs shame &amp; doub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Toddler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itiative vs guil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Preschool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dustry vs inferiority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chool age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dentity vs identity confusion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dolescence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timacy vs isolation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arly adulthood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Generativity vs stagnation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Middle adulthood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tegrity vs despair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Late adulthood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35"/>
          <p:cNvSpPr/>
          <p:nvPr/>
        </p:nvSpPr>
        <p:spPr>
          <a:xfrm>
            <a:off x="762120" y="76320"/>
            <a:ext cx="82296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Erikson’s Psychosocial Theory: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There are 8 stages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Each has a unique developmental task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2362320" y="2514600"/>
            <a:ext cx="6019560" cy="1447920"/>
          </a:xfrm>
          <a:prstGeom prst="rect">
            <a:avLst/>
          </a:prstGeom>
          <a:solidFill>
            <a:srgbClr val="ffc3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operational Stage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ild begins to represent the world with word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mages. These words and images reflect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d symbolic thinking.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2362320" y="5105520"/>
            <a:ext cx="6019560" cy="106668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mal Operational Stag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dolescent reasons in more abstract idealistic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gical ways.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362320" y="762120"/>
            <a:ext cx="6019560" cy="1676160"/>
          </a:xfrm>
          <a:prstGeom prst="rect">
            <a:avLst/>
          </a:prstGeom>
          <a:solidFill>
            <a:srgbClr val="c9ff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nsorimotor Stage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fant constructs an understanding of the world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y coordinating sensory experiences with physic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tions.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362320" y="4038480"/>
            <a:ext cx="6019560" cy="9907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 Operational Stage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ild can now reason logically about concret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vents and classify objects into different sets.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762120" y="510552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2–15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762120" y="137160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irth to 2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762120" y="297180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 to 6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762120" y="426708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6 to 12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6360" y="185760"/>
            <a:ext cx="899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iaget Cognitive theories: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Stages of Cognitive Development</a:t>
            </a:r>
            <a:endParaRPr b="0" lang="en-US" sz="25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ygotsky’s sociocultural the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andura’s Social Cognitive Mod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8:44:27Z</dcterms:created>
  <dc:creator>ANN BUTZIN</dc:creator>
  <dc:description/>
  <dc:language>en-US</dc:language>
  <cp:lastModifiedBy>User-PC</cp:lastModifiedBy>
  <cp:lastPrinted>2007-01-29T12:31:18Z</cp:lastPrinted>
  <dcterms:modified xsi:type="dcterms:W3CDTF">2017-02-23T07:39:51Z</dcterms:modified>
  <cp:revision>114</cp:revision>
  <dc:subject/>
  <dc:title>PowerPoint Presentation</dc:title>
</cp:coreProperties>
</file>