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BF1-2C47-4A7C-8984-729BE9C1BB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979B-9BA9-46F7-BA8C-E09CBAE160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415-B63C-4FE4-82FB-677D4A179E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F9B2-DAF0-4EDE-B5CC-8E0FD77F29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C77A-6F08-46E4-8D33-E68AE40D54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CD4B-9BB4-431C-BF0C-49A9B76243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EFC-38CB-4696-A150-4D826B5590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5F1-AEDA-4C9F-B5A1-99DDB12604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E9A-B74E-49D6-B056-78CB91B887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AAEE-C5AF-4C06-BFBB-FD2B805C8D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E66-7AC8-44B6-BAF8-D1FDB6BF67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7E2-ECC1-45DE-A661-11DD506D12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CDB-5982-416E-968A-C35118CBB3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A93-2024-4D7C-9148-5052FBA023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9DE4-1B71-40B3-BE04-3F6AA7E731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28C-7BC2-4991-9E82-F50C97C4BA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3135-0352-4649-8273-5E297A7B05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23A-22AA-42AD-B1FD-F5C9464640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B79-1128-47DC-9ABE-8421E73B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3D0-AD02-4892-BCDF-A083DB5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0D5-14DF-4425-AF98-F6FE6A82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018-6564-479A-91A6-AD58B3D6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0E14-0C30-4CFC-926B-210FF690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DCF3-7D9E-44C9-AA08-B3A978FA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F01-C549-4D27-8689-D1E04C4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7C9-2828-4229-90E5-9BC29A3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D05B-945E-44C5-8726-329A2515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BBF-CF02-482D-B4E1-171F2C1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B302-CD21-4319-BAA6-E8F8A9E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BDC-DE61-411F-910B-116D912D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5CC5-4A44-45FE-BEEF-D41E45E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C6F-8541-4F8C-870A-5DEFA5B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FB8-B3C6-46FD-9288-EF29278A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C9B-76B3-4E7B-B012-711F186B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284F-F5C8-47C1-BB24-36042607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56B7D-1D48-479F-A87B-F7AE9C253F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5568F-210A-4D0F-8594-38673F413A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891A8-8FC2-4D94-BBBC-842132E00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058DC-EC17-46BA-8C99-F8ADACEE91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421CC-80C7-4F81-8929-39650135D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450-4C1A-4402-964B-0303D99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FE350-AA53-4C07-A7F0-3C4F7A3995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EDA78-9BC3-4C07-BBDE-3F79405A70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85D8F-981B-42FE-90EA-518544CD25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7A175-C9BD-4A32-8ACE-D99472DA87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85A0E-2830-4A39-9C20-890F96D7E0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F00FC-2418-4AC4-8BF6-779B2390C0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2C954-3044-4204-88E4-611C37C22E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84D57-55F6-4DAE-8AE5-2E10AAD5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C83F2-0C45-4E3A-86CA-3BCB5A91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CC33B-3CF3-423C-9B38-C4CAE50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F63-812F-40A7-AD9F-DB230B3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9DE9-7F62-4334-AF94-74F105F2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281DF-6F3A-4529-8B35-03C53C0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8A8EB-D362-4761-8774-D4E684D8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A4639-DCB0-4991-AEEE-1EBE945B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CC5F1-9CD9-4A14-9A6E-DA9AFA1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AD8C2-0D96-48B7-A885-A403B6C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85017-8B6F-4573-B8F8-E731D7A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BB98E-1517-4E2F-B8F2-43C6D811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EFAE0-DD71-4F22-8933-8883CCB0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1C78-0C27-4EAD-B283-70D65A1F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131-0C49-48B4-8638-A2AFBE79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2A28-6458-4926-89D9-DD605D01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A2ED-EF55-4187-8050-799D590C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000C-F477-4D1B-BF8E-CD8F7053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07E5-9422-4FE2-9731-31B204B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AFD0-FD6F-4335-A3C6-6B28C2EC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EC56-40AE-4783-B5C7-6958F37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6808-545C-4D75-9E7F-31EF3FA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2266-0BF5-476C-A1F0-7FE23B7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7256-ED95-44B2-BDCC-6BD371C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9D4B-FAB2-4502-8598-86DD7BF5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6F6-B13C-452C-B206-70882C48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DD17-EB01-4415-8C19-B279A712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118B-8C97-4FDE-90B5-72045DB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57F4-9AE5-475A-A2D3-1348047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CC745-659C-410C-80A2-D19E98C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285A-D92D-4DF0-AB66-DE3B781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7FFB-8417-4D39-A48E-73DCEDC4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86BD1-3FD7-49E3-AD20-9C8015E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DCF9-C1F0-4F77-BEE9-22A42CC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6F63-FA2B-496D-B010-77A5B3D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0C69-C57E-4BEC-820D-BEE692D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6D5-78B7-48E6-8AAE-2138269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E435-08D8-4D07-89B7-09A8F02B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7D224-7F51-4B00-8693-6A931B54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0932-9368-4060-877D-F37D8E66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4C1C-AF88-4D34-9A55-C2C4511B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637D-9D9D-48CB-BB6E-365679EB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3960-21BC-41A3-9E7E-D846BD6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A578-D740-4C72-9E37-BF39A33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5AE21-8C1B-4965-A5F5-1C909D7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B317B-C539-429A-B7F4-6887AAAF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07A4-F567-4BA8-9F3B-795A1A9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6A3-3859-4C2A-9455-7C822CC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9143-6E56-4B35-84F8-F71699E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4CD0-A9C2-46D3-BA7C-D460C09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9502-5828-41F6-BCB5-8A71B0F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E957F-09E7-4676-AF54-9782FEC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86BC-6DE1-4C03-AB85-ABB9E849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958-5642-4523-97B7-0CE3B45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AD09-D691-4B77-8994-1AFA6B6998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6D7-DDF8-4F42-829D-D19FB73431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A7F-15AB-4557-9C54-1B62DA8EC4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3AB5-6191-4B47-912E-226B003C0A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90C3-50A5-4667-BDFB-08E89195D4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F98-5C69-4BAC-821F-D8C5171DFB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30F-092D-452D-8252-D6604380F0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FE8-7BDE-4110-895A-40B9C491802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C23-3CB5-46DD-95F7-BB71E9DCAAA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42F-9F40-476F-BC1A-E44AD1456AC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C4B-A084-4543-BCFE-BA6EBF37134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DF2-091C-4EA1-81B5-48F112B7136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BD49-9AD0-45BD-BBE9-8357E9EF179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C40-8B97-44A3-8F20-0B776220330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2B16-D439-4597-A742-C3ED44AF4A2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2D8-B326-40B3-A028-F1175821D52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ineering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BAB-E3B8-48C1-8094-09607EEFBAD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 teaching 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E74-F8E1-47FB-8ECD-DBA1BF8E89F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licy mak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Trainees &amp; Students of the Profes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5EB1-6FAC-4C22-8C15-5FB730AA408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central and growing role 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automate/ facilitate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C2C-C6CF-4101-AE18-AAC331B7F25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abl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uenc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1FEB-4EB4-4B4B-BB05-15F97676985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commitment, software engineers shall adhere to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878-768E-4F37-8116-F73F482AAA4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32A-A27F-4D76-B477-CD0DA7D0D36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2-20T21:19:21Z</dcterms:modified>
  <cp:revision>178</cp:revision>
  <dc:subject/>
  <dc:title>Table 8-1: Abbreviations and Acronyms Pertaining to Copyright</dc:title>
</cp:coreProperties>
</file>