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20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ftr" idx="21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 type="sldNum" idx="22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780E-3442-406B-A6EE-85B9B09F3AB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B280-0F6B-45A4-BFC0-57B30FFB164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803B-8A49-4266-81E2-F3801B9EF2F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C727-811B-470A-806C-F4A43459DD2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AFB9-A515-4F02-8C02-53F7D05C721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4F14-BD4E-4025-9F3F-FDA66BE3BD9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4FCE-145F-4A73-97ED-FDFD1722046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F29B-EAD9-4011-8E39-E7AE0282C06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2668-DF96-46CC-ABFD-04B3C747E81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C008-20D5-4587-B2FE-8E2BEBDC672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0992-6273-4BCB-B9B5-8D1B37CB24F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F01D-B16A-4321-B6EB-A7DF0368454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00F7-32B2-41D7-A6A3-C5CF2D81605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66A2-7790-4BA5-B12E-761E94EF1EB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5645-C241-4087-B199-52813E23C2A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7A2B-34EA-412E-8F02-42A95D60CEB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AB01-BD7D-4421-A3AA-90EAD9095A0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1773-5596-4EBB-AB52-E15647E260F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33CE-5617-4AA8-8E34-25633CDF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92FB-687A-4CC3-A1B0-B404C37C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8B11-CC15-42FC-A9B0-53334429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6E41-BD30-4588-99AD-94E5E623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F058-BD4D-43F2-B1A6-4A8D1F45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34C8-C0E8-42B1-8562-D93465F2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95AC-5B11-4F64-ADB6-01F5BA16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D3EF-614E-465E-860B-4DA53379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D2F2-A76E-4964-9698-AE15598F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0719-ED27-45C4-A8CF-BF1EFBD9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EB93-4885-4094-BB14-447A0CDD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BF2A-66FF-4FB7-BC62-D98484DD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E573-A7C7-43C1-A66B-FC7EC80F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22AA-B050-4EE1-BEA5-D7013205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192E-0F95-4612-B5F2-D2071527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C114-4C7F-4194-8C78-5A5468D7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9230-7E4F-499A-95F4-68961786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BC5900-F304-463D-8EB9-5EE2C53419A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976E50-83EA-47ED-85CD-B21537AB49C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2163AD-B1D2-41AE-83F5-009C93C2F35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BC485C-EE7B-4528-A50B-94278293A8D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BC5A67-67AF-47D5-92D2-162CE44E78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93EF-229B-45BA-982F-D65A5FC8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F271A7-78A9-421D-94DC-30F3B544E0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4E2F1F-0648-4222-9A14-CBAD119FEF1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A95D46-343A-4943-86B6-8EEFDD1AE7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495432-2729-4405-B412-0402AF5E9F5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02D070-D0E5-4C71-988B-DCE842E3F6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E64DBE-65E5-4EC7-936C-5E8A968760B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602D39-A7DC-4C85-B3A4-B0A7CB3BE29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979757-88EA-40AC-9DC3-8CA761E7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E65CFC-3A68-40C0-9093-5A708D2A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FAEAB0-6593-48B7-8ED9-F8967C10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92CD-E09B-4034-B1C1-9660DD46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F9029B-2AF4-430D-88CD-8D87BD8D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AFFC16-761C-457E-9D90-A6AF39A7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25B9ED-D403-4B13-AB35-AB423331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C0B157-7C67-4525-ABBB-CE5ED56F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38EBDC-8648-4F3B-A31E-45923B2D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D2AECB-E83C-4C31-85CE-136269E3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486A1D-25CE-40F1-A8FD-D66AABC0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431AF5-16BC-4B48-8914-006DB47D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BF1B07-B538-4D58-B9D7-8D28FB0F0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1AB48-1293-4665-B6A1-432385CB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6D04-C6CA-49C0-A4A9-3D34E8BB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F9F0E-3775-49DB-897C-123412A0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429D6-D8DD-424F-893D-41FA78ED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75394-9C85-4F8E-9CB2-7A7D5EB4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346C1-ED0B-4C0A-A461-32E11A96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BE709-FE7B-42B0-ACA0-EBBB2AA2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433F6-A6E4-4499-82F3-F1378B65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422D0-2E9F-4F0A-A9C7-473A4E4E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C2704-7BA2-4C29-ADBF-DBBAFEEC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1640D-C574-4983-A5EC-45BAE147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D407B-7001-40CD-8F5F-28282C45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6BF2-9BD8-4D62-8D43-ACD58DD6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0A80B-C2C8-48C0-AFEB-E3430D89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2F2A6-1CB1-4114-8616-6739AF93D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16312-7F7B-4FB4-8EA4-BB052E2B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89C32-DB0C-4F7A-B05B-3DD8FB5B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C2C75-8150-408D-A17B-AAD91644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E67D6-A77E-4ED0-BAF5-97F03855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0D5F1-2D14-4B77-B68F-A0836D6E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A582C-9A46-4ECF-ADB2-C97CFA10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E1650-FBBE-4D43-91B3-D72AE352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F6D38-40B0-4104-89B2-DCDA26DA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F8FC-2608-43D1-89BB-C4547DBE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45336-9BA7-498B-A338-65690143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258B2-7DF6-4AB9-891C-DEF6635A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47290-5942-4624-98E1-F4113138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AB533-E8D2-404C-A99B-1B2DCE11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D22F0-7084-47EC-BB0F-1B54217A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C3401-9A92-499C-8AF5-72BE4567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DD454-700C-4C21-B3CA-567C516E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0490A-E9AA-4306-84C5-776FDCE8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EFC66-7765-42F0-9A4B-571B3121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E4098-4743-403A-8FF6-00CC6D19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04FE-CF62-4855-8C7F-35C01B1F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EF973-21EA-43AB-B2B9-4BD11AC6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4B441-ED18-4939-A81D-CF990B88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CDC69-A195-4067-8CE8-3FBECF0B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0F010-9417-44ED-87B1-B5FB7F030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CB7BC-93B1-47C5-BFC5-840A61BB5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236A-6DB3-4214-902D-0A8229BE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397A-A256-4485-886A-C370B90D65E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28E0-704C-4DF8-B706-DFD1A3419DC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09C0-123C-48F3-9F55-FA661D36151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8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9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0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D50F-6D82-4E8E-8FE5-D82DCD231B3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2245-BD20-4668-95B3-6E1475715BC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BE24-C0B7-4363-8CB9-8CAD0E7B682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ftr" idx="1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1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9CEF-BC65-42C2-8CA0-600F95FBEFB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ftr" idx="1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76212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3657600" y="1981080"/>
            <a:ext cx="236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gine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cs 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fess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t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510840" y="6400800"/>
            <a:ext cx="812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9 by the Institute of Electrical and Electronics Engineers, Inc. and the Association for Computing Machinery, Inc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743200" y="441972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5f6d"/>
                </a:solidFill>
                <a:latin typeface="Century Schoolbook"/>
              </a:rPr>
              <a:t>Dr. Hassan Abdall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5f6d"/>
                </a:solidFill>
                <a:latin typeface="Century Schoolbook"/>
              </a:rPr>
              <a:t>Room: 2236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653D-9E40-4B0B-A47D-864C038828C0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CLIENT AND EMPLOYER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Software engineers shall act in a manner that is in the best interests of their client and employer, consistent with the public intere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rovide service in their areas of competenc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 knowingly use software that is obtained or retained either illegally or unethically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Use the property of a client or employer only in ways properly authorized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dentify, document, collect evidence  and report to the client or the employer promptly if, a project is likely to fail or to violate intellectual property law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4070-EA75-428F-ABD6-D3CB88ADBB04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PRODUC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399"/>
                </a:solidFill>
                <a:latin typeface="Century Schoolbook"/>
              </a:rPr>
              <a:t>Software engineers shall ensure that their products and related modifications meet the highest professional standards possible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trive for high quality and acceptable cos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sure proper and achievable goals and objectives for any project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sure that they are qualified for any project they work o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sure that an appropriate method is used for any project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ork to follow professional standard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trive to fully understand the specifications for softwar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sure adequate testing, debugging, documentation and review of softwar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eat all forms of  software maintenance with the same professionalism as new development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JUDGMEN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Software engineers shall maintain integrity and independence in their professional judgment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emper all technical judgments by the need to support and maintain human values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Only endorse documents if prepared under supervision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aintain professional objectivity with respect to any softwar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 engage in deceptive financial practices such as bribery, double billing, or other improper financial practices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isclose to all concerned parties those conflicts of interest that cannot reasonably be avoided or escaped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A4D0-D021-4DC1-9D5A-68D13E0B56D5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MANAGEMEN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lnSpc>
                <a:spcPct val="9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399"/>
                </a:solidFill>
                <a:latin typeface="Century Schoolbook"/>
              </a:rPr>
              <a:t>Software engineering managers and leaders shall subscribe to and promote an ethical approach to the management of software development and maintenance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sure good management for any project on which they work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sure that software engineers are informed of standards before being held to them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sure realistic quantitative estimates of cost, scheduling, personnel, quality and outcomes on any project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rovide for due process in hearing charges of violation of an employer's policy or of this Cod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 ask a software engineer to do anything inconsistent with this Cod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 punish anyone for expressing ethical concerns about a project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A23D-9412-467A-AF58-C53BA9FED268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3E77-1C8B-44C0-A299-E889F1EB7E7F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PROFESSION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720" indent="-25344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399"/>
                </a:solidFill>
                <a:latin typeface="Century Schoolbook"/>
              </a:rPr>
              <a:t>Software engineers shall advance the integrity and reputation of the profession consistent with the public interest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-169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elp develop an organizational environment favorable to acting ethicall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-169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romote public knowledge of software engineeri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-169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upport, as members of a profession, other software engineers striving to follow this Cod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-169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 promote their own interest at the expense of the profession, client or employer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-169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ake responsibility for detecting, correcting, and reporting errors in softwar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-1695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Report significant violations of this Code to appropriate authoriti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6410-16DA-4551-9BB7-A46958F53EF6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COLLEAGUE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Software engineers shall be fair to and supportive of their colleagues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courage colleagues to adhere to this Cod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ssist colleagues in professional developmen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redit fully the work of others and refrain from taking undue credi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ssist colleagues in being fully aware of current standard work practice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 unfairly intervene in the career of any colleagu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28EF-9628-49BC-A8D4-32B00E29F8D9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SELF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urther their knowledge of recent development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mprove their ability to create safe, reliable, and useful quality softwar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mprove their ability to produce accurate, informative, and well-written documentation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mprove their knowledge of  relevant standard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 influence others to undertake any action that involves a breach of this Cod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D6EF-9120-4513-8C59-DF56916B2631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ERE TO FIND THIS COD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61760" y="22096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http://www.computer.org/tab/seprof/code.ht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CAFA-9CCD-4465-B142-B31BF060852D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SEEPP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ands for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ftware 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gineering 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cs and 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ofessional 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actic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oal: Establish a code of conduct for professional software engineers to make software engineering a beneficial and respected profess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Joint Effort by IEEE-Computer Society and Association of Computing Machinery(ACM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3FCB-169A-4B22-A993-107F0895C9DD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O ARE THE ENGINEER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Software engineers are those who contribute either by direct participation or by teaching i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nalyzing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pecifying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esigning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eveloping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intaining and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esting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of software system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CC95-7364-4B83-A865-783B99E1A709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OLES OF ENGINEER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Professional Software Engineers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 inclu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ractitione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ducato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nage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pervisor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olicy make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nd Trainees &amp; Students of the Profess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BEF5-F546-45CE-A649-00646081E802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SOFTWAR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puters have a central and growing role in commerce, industry, government, medicine, education, entertainment and society at lar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ftware Engineers develop software to automate/ facilitate other areas of socie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us Role of software in medicine, education, government, industry, commerce etc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A7E9-0AA3-47BF-B993-28CFE8FB0980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OFTWARE ENGINEERS IN FOCU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ecause of their roles in developing software systems, software engineers have significant opportunities to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o good or cause har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nable others to do good or cause har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fluence others to do good or cause har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8A8C-5C4D-494C-9343-C34142062F75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NEED FOR CODE OF ETHIC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 ensure, as much as possible, that software engineers efforts will be used for goo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Century Schoolbook"/>
              </a:rPr>
              <a:t>Software engineers must commit themselves to making software engineering a beneficial and respected profession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accordance with that commitment, software engineers shall adhere to Code of Ethics and Professional Practi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DBAD-EEC3-4A97-BBF2-5990B006BBF5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entury Schoolbook"/>
              </a:rPr>
              <a:t>The Code contains eight Principles related to the behavior of and decisions made by professional software engineer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PUBLIC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CLIENT AND EMPLOYER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PRODUCT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JUDGMENT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MANAGEMENT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PROFESSIO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COLLEAGUE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SELF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1850-97C4-47B3-A1EC-40D01E4D1ECA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PUBLIC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Software engineers shall act consistently with the public intere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ccept full responsibility for their own work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derate the interests of the software engineer, the employer, the client and the users with the public good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pprove software only if they believe that it is safe, meets specifications, passes appropriate test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e fair and avoid deception in all statements, particularly public one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onsider issues of physical disabilities and allocation of resource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e encouraged to volunteer professional skills to good cause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4:38:34Z</dcterms:created>
  <dc:creator>Admin</dc:creator>
  <dc:description/>
  <dc:language>en-US</dc:language>
  <cp:lastModifiedBy>Admin</cp:lastModifiedBy>
  <dcterms:modified xsi:type="dcterms:W3CDTF">2011-02-20T21:19:21Z</dcterms:modified>
  <cp:revision>178</cp:revision>
  <dc:subject/>
  <dc:title>Table 8-1: Abbreviations and Acronyms Pertaining to Copyright</dc:title>
</cp:coreProperties>
</file>