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6AA7-1F43-4EDB-B993-C106F8FCA1D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B72D-1517-4FB3-AA6D-D323012506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CFE5-5022-4058-9F9E-475FEB85D0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2FBB-15AD-4A04-8065-06318CBA88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E3D5-D6C2-4740-97C7-271B3DBB7D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A994-3DF0-4F37-BBE7-29152F4305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45B6-F5CC-4DBF-A644-AE5288BAA4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CF36-8693-4514-B9D4-9ADB4BA465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371B-3ABD-4D46-BFC3-4F17183E40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1112-7C85-4067-8F08-0D3DB5FC72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C91E-16A1-4A5B-B58B-0BFCD35FD5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0C9A-DCD2-4347-A7DF-3425D426E5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CF46-40B0-4AE7-B966-FFB115E5E8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2651-2B79-45F4-8DF0-A07F4578A6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DD50-EF38-4E6F-87FE-038DA2B993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49D3-71A7-4C49-9208-DEF7715A20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D999-0445-493A-AFD2-920AEFAA6D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B6EB-5CE9-4418-8DD9-4588C94030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AD6-C7BC-41DD-B1B6-00147C82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2F7-0CF6-410C-B7E5-B54B6A03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153-AE8C-4A14-B1ED-251A5C3B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162-1D87-4940-A256-0A62360C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4B25-C14B-4370-916B-7A7DF3EF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F994-A9F1-4452-A77F-DB16F6A1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C9EC-8EB2-450C-B906-23CBF5F3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B965-FDFB-44DA-ACD1-D7EC0595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FF67-66F8-4D8C-B144-1D1AE745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BADB-94A4-472B-892F-2780F995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AFCE-326B-40B8-8504-F6E92EC8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A13-32FE-4946-BA29-A4EF953A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6450-AFB5-4408-A883-AE8C079B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7458-E7A4-40F6-AFBC-5D2397F1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2802-DAD3-4DBC-9648-E023E6C5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3717-0488-481A-8FB8-BEB96F26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A698-B06A-46C0-81C2-9DFC5AB5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5BE20-EE6D-475A-9D30-9119DF1DDF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45905-66F0-4A97-832D-7A24B45124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C34D9-980A-4AA4-A1FA-CDFAA0AB02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DA459D-BEE4-46A1-8768-A054F11D80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48DCC-C4E2-4DCE-BEF0-2AFFA0FFF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C43-7514-4C9C-A89A-EFC3DE08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CFFA5-4B71-44CD-9725-952957634E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6C17E-EC7B-4629-91BB-FEBF6E5106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545C29-2B14-415E-89BD-915DACB22D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FD0C18-B612-4269-AFCE-A4A4819144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12A01-6F2B-4E2D-929D-712124BC63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3FCCC7-F860-4545-B1CC-809A650EDB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CB779-3813-4902-B25F-56D2323D9C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EE44F3-C6C8-4271-B3E1-B33F0095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BD75C-2A16-4BA8-A7A5-D5A9522E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940F0-32E6-4834-A909-DE44A074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EFA-9031-4D75-BC6C-DFDE49C2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921D0-95BC-448E-93B7-13795461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725608-2CA3-49F0-95F8-6A821F03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73FBC-B38E-4F41-8199-57CF1A10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BA36F-508B-425F-80DB-27E88DF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54F570-36C3-473B-85F1-F634E700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5AE6C8-9B9C-4BCA-9C3B-CF2321F7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F923E-3B06-40C5-90C6-9FB11A1C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3C3E9-5F57-44BA-B8CD-D3A4584E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D52256-D493-4437-B691-A3CE726F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B0017-258A-47E9-9E32-9F6601DD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8B3-0530-40B5-9AE3-F562AB87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02AB2-E941-4EAF-A653-234ADC83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BD9CA-BF91-4C3D-82C9-5162403E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3560-E552-483E-8267-50C33AEC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31897-8460-4844-A0D4-9D967D68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D145-641E-4927-820E-6D4C39EE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84F5-C9AD-4DC2-B7B5-9FDD7777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D35B7-FA8E-44EE-A902-680CBE6C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55407-296F-48C3-9E5C-0DE7B3F9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0E700-C2DA-43CF-B98A-2A4E7A1A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865C-24D1-4B17-B5F5-A444A41F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919-76A8-4255-BDDD-2009AE02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D360-3CE9-4968-9829-6CFC99A4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AFF2F-B663-4C6E-929A-F5A4FA63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B1FE5-E0F9-4307-8B69-5BE1EF3D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915AF-9900-4A0D-83E8-95F2B963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1FF52-30CA-4332-914D-B2D32B52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B3D78-B439-4A95-9F2E-1F2D1176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F783B-FBAE-4281-A713-4624C24A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4FF91-B698-4658-9F65-077D0F2B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ABA1F-1335-4CD5-A275-BC9E1B29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D11E3-23E1-4286-A9B7-4B225825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778-C065-4F0C-97C8-2304AE03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9CF62-F433-473A-81BA-F3AD15FD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B766D-E76B-4B07-8E51-D9ED7B3E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9524D-A2A0-45F0-816A-A420E3EC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C9908-883C-47DC-B3B1-56B3B955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6201A-B190-4ADC-A20E-F9FB0B75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22848-E132-4999-B0BD-35E229DD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3EDE5-3B75-4E4A-853E-EF2095EA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D140B-28D3-484F-8D0D-87B4882F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520AD-320E-4E0B-A91A-8C46819F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9027C-8B17-495E-B6EF-D3F2E1A1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A625-2832-40FE-BA0C-CC43532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CC500-0D2A-4570-A9F6-95F23C64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51B79-4360-4F4E-8DFD-40752839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2C98F-862F-469C-B46B-ED6FF158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50540-81D0-4E9D-8C66-1FD9AD8B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932BB-D6A5-4221-A017-987F64AB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BC2-3C6C-4870-84EB-DE6520E4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F0C0-B82F-404A-BCDF-8C7B980368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C374-D323-4D06-8AA6-AB21FFED48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315B-C218-488C-93B0-4AFBEF5871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8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0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164E-BCD2-4F7E-9ACD-32E1C95EC9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75CF-C8E2-407F-975B-66B192E442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1FB3-A0BC-4CE0-9073-D5BF5B7451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BF70-5A98-4511-9572-9B35B78F3A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1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657600" y="198108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ine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s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fess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t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510840" y="6400800"/>
            <a:ext cx="812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9 by the Institute of Electrical and Electronics Engineers, Inc. and the Association for Computing Machinery, Inc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743200" y="44197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Dr. Hassan Abdall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Room: 223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D2A9-ABDE-4596-BEC1-4CD661E9D0D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LIENT AND EMPLOY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act in a manner that is in the best interests of their client and employer, consistent with the public inter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vide service in their areas of competenc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knowingly use software that is obtained or retained either illegally or unethically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Use the property of a client or employer only in ways properly authorize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dentify, document, collect evidence  and report to the client or the employer promptly if, a project is likely to fail or to violate intellectual property la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32A4-0D75-4E18-8B42-B6D6CB15FF6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PRODUCT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s shall ensure that their products and related modifications meet the highest professional standards possibl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ive for high quality and acceptable cos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proper and achievable goals and objectives for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they are qualified for any project they work 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an appropriate method is used for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ork to follow professional standard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ive to fully understand the specifications for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adequate testing, debugging, documentation and review of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reat all forms of  software maintenance with the same professionalism as new developmen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JUDG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maintain integrity and independence in their professional judgment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emper all technical judgments by the need to support and maintain human valu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nly endorse documents if prepared under supervisi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intain professional objectivity with respect to any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engage in deceptive financial practices such as bribery, double billing, or other improper financial practic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isclose to all concerned parties those conflicts of interest that cannot reasonably be avoided or escaped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2998-B37D-4E35-88DD-E5CDA91702C8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ANAGEMEN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lnSpc>
                <a:spcPct val="9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ing managers and leaders shall subscribe to and promote an ethical approach to the management of software development and maintenance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good management for any project on which they work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that software engineers are informed of standards before being held to them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sure realistic quantitative estimates of cost, scheduling, personnel, quality and outcomes on any project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vide for due process in hearing charges of violation of an employer's policy or of this Cod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ask a software engineer to do anything inconsistent with this Co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-17856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punish anyone for expressing ethical concerns about a projec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9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8FDA-8D48-4C96-B00E-BA9398E5F9C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C13F-E499-4FD0-9AF2-030CA51C6A0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PROFESSION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-25344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99"/>
                </a:solidFill>
                <a:latin typeface="Century Schoolbook"/>
              </a:rPr>
              <a:t>Software engineers shall advance the integrity and reputation of the profession consistent with the public interest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elp develop an organizational environment favorable to acting ethicall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mote public knowledge of software engineer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pport, as members of a profession, other software engineers striving to follow this Cod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promote their own interest at the expense of the profession, client or employer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ake responsibility for detecting, correcting, and reporting errors in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-16956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eport significant violations of this Code to appropriate authori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503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94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8783-BFB5-4EF5-96EC-5CD7D9AA4A98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COLLEAGU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be fair to and supportive of their colleagues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ncourage colleagues to adhere to this Cod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ssist colleagues in professional developme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redit fully the work of others and refrain from taking undue credi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ssist colleagues in being fully aware of current standard work practi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unfairly intervene in the career of any colleagu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B102-E24A-4E3E-A0BB-9485910F66F5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SEL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urther their knowledge of recent development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ability to create safe, reliable, and useful quality softwar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ability to produce accurate, informative, and well-written documentati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their knowledge of  relevant standard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t influence others to undertake any action that involves a breach of this Cod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C639-32F7-4CAB-ABCA-4ED949D9904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ERE TO FIND THIS COD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http://www.computer.org/tab/seprof/code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7881-2BB7-4BD0-875E-927E3AFD13E4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EEPP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nds fo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tware Engineering Ethics and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ofessional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ctic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al: Establish a code of conduct for professional software engineers to make software engineering a beneficial and respected profess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oint Effort by IEEE-Computer Society and Association of Computing Machinery(AC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EAF3-7978-43C4-8824-555250D740C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O ARE THE ENGINEER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are those who contribute either by direct participation or b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ach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alyz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ecification generat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sign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ertifying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intaining and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esting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of software system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C912-37A1-4FF8-BEED-EA63D41E7BF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OLES OF ENGINE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Professional Software Engineers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 inclu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actition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ducato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ag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pervisor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d Policy mak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Trainees and Students of the Profes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2FA1-5C9B-4FDD-BDA3-1438563A8DB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SOFTWAR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uters have a central and growing role in commerce, industry, government, medicine, education, entertainment and society at lar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ftware Engineers develop software to automate/ facilitate other areas of socie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us Role of software in medicine, education, government, industry, commerce etc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2E79-B5F2-4AD9-B78C-14D9E5A2F46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FTWARE ENGINEERS IN FOC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cause of their roles in developing software systems, software engineers have significant opportunities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able others to 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fluence others to do good or cause har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7738-A97B-470E-9992-0C50B41D859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EED FOR CODE OF ETH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ensure, as much as possible, that software engineers efforts will be used for go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Century Schoolbook"/>
              </a:rPr>
              <a:t>Software engineers must commit themselves to making software engineering a beneficial and respected profession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accordance with that commitment, software engineers shall adhere a Code of Ethics and Professional Prac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F33B-84D2-4623-B73E-E6BB7318AD1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entury Schoolbook"/>
              </a:rPr>
              <a:t>The Code contains eight Principles related to the behavior of and decisions made by professional software engine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UBLIC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LIENT AND EMPLOYER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RODUC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JUDGMEN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MANAGEMEN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PROFESSI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COLLEAGU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SELF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8365-1A79-4912-BC6C-76A203DDE30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SOFTWARE ENGINEERING CODE OF ETHICS AND PROFESSIONAL PRACTICE (CONTD.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UBLI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entury Schoolbook"/>
              </a:rPr>
              <a:t>Software engineers shall act consistently with the public inter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ccept full responsibility for their own work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derate the interests of the software engineer, the employer, the client and the users with the public good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pprove software only if they believe that it is safe, meets specifications, passes appropriate test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 fair and avoid deception in all statements, particularly public on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nsider issues of physical disabilities and allocation of resourc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 encouraged to volunteer professional skills to good caus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4:38:34Z</dcterms:created>
  <dc:creator>Admin</dc:creator>
  <dc:description/>
  <dc:language>en-US</dc:language>
  <cp:lastModifiedBy>habdalla</cp:lastModifiedBy>
  <dcterms:modified xsi:type="dcterms:W3CDTF">2010-11-07T07:55:14Z</dcterms:modified>
  <cp:revision>173</cp:revision>
  <dc:subject/>
  <dc:title>Table 8-1: Abbreviations and Acronyms Pertaining to Copyright</dc:title>
</cp:coreProperties>
</file>