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20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ftr" idx="21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 type="sldNum" idx="22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D1DA-9385-481E-883B-F838AED2A36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2033-97F0-4E51-B539-A2DDA136ED5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6384-23D0-4C64-92E8-9FF79FED57F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A55A-A636-4D20-8B16-125475E4D09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24EA-AA58-40A9-829F-6F4C4EE2011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4C30-73A5-4225-8BAC-AA572B5AD79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DEA9-BD20-4F45-9552-2D23C07AF40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5AF7-510E-4198-B699-3797BA50000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A818-8ED8-456C-80A0-34E23CDBF60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9DB3-724D-4121-83AA-3A7973CF5F4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56A6-1A10-44E1-BDDE-62A48356A41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1E8B-B1B2-4366-B0AD-9EBF55B68B8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0859-955D-4ACD-A70C-7D116F09F53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A2F6-61C1-4286-8B1A-2C3318AFE86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0639-B741-47DC-85CE-30BB6D073DF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F32C-8998-4F76-8179-7F7CBB115B7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D754-0205-4019-834A-3C619396AA4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3454-EBA9-4661-A442-F9671E99E61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4CE2-4D1C-4296-A08C-5A35D6E85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BC71-0F44-47E9-BE17-12CA6B7D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2A9F-6171-4031-94F9-5FE563B4E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606A-A931-485B-A2F5-D3DF6A3B7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AA2C4-3274-4FF4-8F7D-BDBDC6625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0A77-153D-4DE5-B098-E75AF30B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34C2-1AD9-41B9-92CC-09DA775A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DD25-3EF8-4CE9-BC4E-95A85823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AB18-9871-49BB-9421-CE219D67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00AB-5531-4AD2-8435-94160420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D29C-E74C-42EE-8555-8BC853AC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9C96-D7CD-4BE2-A4FD-0B91549D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2E3F-01C5-4DE9-A088-97514197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6B988-0549-4BC3-A9E0-6AAC1D92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D8D3-8A8E-4503-8CE3-93C388A2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0FB5-A29E-42DC-8ECF-4207B3671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A1F8-2487-42AB-83B5-89BCD9BE7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002967-9D20-479E-83DD-18B8AF52846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4C453F-7F4C-472C-8D37-588090C8A4F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47D91C-C2B8-4EF0-A44F-12500F2B1A7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DB1910-C261-45A0-9465-FCDC0FDE615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D8FB59-96E1-42A4-A742-93299201F7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2F26-F5CB-43F7-A860-42CFE907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3885B3-6D6E-48A5-AFDE-87245363140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1B0D93-F861-4D4D-B977-DDF7ED17DDA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D03A5F-7FA2-4FCB-AE49-87199C33F63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7DBF64-B48C-4610-890F-49330C6F533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412032-8AA7-4106-B8A9-77D5FA06DF0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6BB24E-6C01-4FB0-A005-366FA56F58E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201F16-AA85-4753-A697-7C333CC4418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BF2D43-1184-4FDF-A9DE-569FC5CC0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F53BC1-7179-4FEE-8288-F4F2119C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8B2AEF-687C-483B-8CA5-CDD5C03D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B817-3F16-4E44-9045-B57A4C9D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6FD9FA-9422-4A95-8D8A-98F4F71D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7E9A6E-B4A0-443C-A726-3669F2FE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B54552-2E36-4570-A43A-09A24DE9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800E26-81A1-43CB-B2F0-BB3C6BA9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F681CB-5928-46A3-B39C-FFE0CB4D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C81388-5E70-4FDF-B635-1BA552C8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D14A63-5A42-43B5-AD39-2EEE5E7F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C4747C-055A-4813-B378-EB43831AA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CED4AD-2C59-4A52-9804-3D1489C0F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B1F4E-6751-4529-843E-EE7EDD7AA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F1DA-BBBF-494B-BDC0-3AC9324F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D2BA3-4AD0-4821-9A64-0D7B9EF4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D33BE-D4B7-4213-BB8B-51FD8111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7A24D-00C3-4A92-BCC6-D2F9D2B6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57B82-FE06-4918-B0C6-F2225B2B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A236A-FEC3-4ED9-8A07-D5A4C0B0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685EF-E5DC-4F61-BCBE-D2852457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9BB62-88CC-4220-9673-0C3EB553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F1AE6-6CBB-464D-BB04-DB73C0BA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CD1EA-A56F-427B-9CDD-345490B2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478FD-1D16-4418-959D-5242E5C3F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CA73-2379-421E-A53F-5E7A36BA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A10A5-A71D-49EB-9C6C-D0E7B9AF8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4EE0D-90AE-437A-9E64-5CA6A52B1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DE704-39B0-4051-90ED-029F07FA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FFEB3-3891-4044-9707-4CB28EE9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4D63E-B3CF-4FD8-86B5-4B852364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8023B-5E87-42E1-9DE1-60BD1C4B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79B37-01E3-4898-A879-FF98FCC0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51D9D-17E2-4433-883E-CD411EF2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F312B-13DD-46DC-BE9E-D753A95E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B8370-2373-450D-9DEB-03D95919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F698-22AA-4CD3-A589-C9E46836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58710-93F1-4642-92E1-272310DE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10D9D-B0DA-40BC-B2B2-41D8E48BB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42BEA-A4DF-4629-BC60-7975A76C5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1B9B5-3B31-473A-923F-5124E6E4B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57AFB-DFBD-4FBE-B454-23766196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ED4D2-9672-4ABB-AFEB-D5579610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C9AFE-25D8-4862-BDFE-7C7BEA7F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F722F-E871-45C6-B813-D9F490A0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5E524-A76A-45FB-B1E2-CDD7841E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CED11-33CF-43D9-BFDE-B0F8E428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B5FC-1D13-426C-B724-53DA04AA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67B6E-DFBF-4A37-B469-945C4A0F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AD185-DFC9-4570-943B-28AFBDAD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B67A7-4C9C-417A-B114-FC04CE3E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AF460-152F-4A99-9D19-6C1D7C225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2B399-3866-471D-994C-477F2E556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1DD6-78DE-46B5-ABEE-819DEAA6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872A-F869-4048-A9BD-E3F84C2AD7A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6454-7EA4-4320-8C13-B34339CBC59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Num" idx="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DBA2-DAF9-4851-AD29-8CAEA8503E6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8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9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0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529B-04EE-47EF-8F0C-4BC676D92DB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30E8-17B3-4607-ADD6-697A307B8A0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1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0140-2870-41D5-A983-84C37BCF914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ftr" idx="1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sldNum" idx="1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5753-0803-4458-AB18-3796B115961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ftr" idx="1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76212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OFTWARE ENGINEERING CODE OF ETHICS AND PROFESSIONAL PRACTICE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3657600" y="1981080"/>
            <a:ext cx="236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gine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cs an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fess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ct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510840" y="6400800"/>
            <a:ext cx="8122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9 by the Institute of Electrical and Electronics Engineers, Inc. and the Association for Computing Machinery, Inc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743200" y="441972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75f6d"/>
                </a:solidFill>
                <a:latin typeface="Century Schoolbook"/>
              </a:rPr>
              <a:t>Dr. Hassan Abdall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75f6d"/>
                </a:solidFill>
                <a:latin typeface="Century Schoolbook"/>
              </a:rPr>
              <a:t>Room: 2236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8C75-7805-43F9-B3C6-47D190EC2EC3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SOFTWARE ENGINEERING CODE OF ETHICS AND PROFESSIONAL PRACTICE (CONTD.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CLIENT AND EMPLOYER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Software engineers shall act in a manner that is in the best interests of their client and employer, consistent with the public intere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rovide service in their areas of competence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ot knowingly use software that is obtained or retained either illegally or unethically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Use the property of a client or employer only in ways properly authorized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Identify, document, collect evidence  and report to the client or the employer promptly if, a project is likely to fail or to violate intellectual property law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06B0-F91F-4C5F-BF35-6F1B83F2AFEB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SOFTWARE ENGINEERING CODE OF ETHICS AND PROFESSIONAL PRACTICE (CONTD.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PRODUCT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3399"/>
                </a:solidFill>
                <a:latin typeface="Century Schoolbook"/>
              </a:rPr>
              <a:t>Software engineers shall ensure that their products and related modifications meet the highest professional standards possible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trive for high quality and acceptable cos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nsure proper and achievable goals and objectives for any project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nsure that they are qualified for any project they work o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nsure that an appropriate method is used for any project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Work to follow professional standards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trive to fully understand the specifications for software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nsure adequate testing, debugging, documentation and review of software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eat all forms of  software maintenance with the same professionalism as new development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SOFTWARE ENGINEERING CODE OF ETHICS AND PROFESSIONAL PRACTICE (CONTD.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JUDGMEN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Software engineers shall maintain integrity and independence in their professional judgment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emper all technical judgments by the need to support and maintain human values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Only endorse documents if prepared under supervision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aintain professional objectivity with respect to any software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ot engage in deceptive financial practices such as bribery, double billing, or other improper financial practices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Disclose to all concerned parties those conflicts of interest that cannot reasonably be avoided or escaped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B275-367E-41E8-A071-A5C56F562478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SOFTWARE ENGINEERING CODE OF ETHICS AND PROFESSIONAL PRACTICE (CONTD.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MANAGEMENT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lnSpc>
                <a:spcPct val="9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3399"/>
                </a:solidFill>
                <a:latin typeface="Century Schoolbook"/>
              </a:rPr>
              <a:t>Software engineering managers and leaders shall subscribe to and promote an ethical approach to the management of software development and maintenance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nsure good management for any project on which they work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nsure that software engineers are informed of standards before being held to them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nsure realistic quantitative estimates of cost, scheduling, personnel, quality and outcomes on any project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rovide for due process in hearing charges of violation of an employer's policy or of this Code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ot ask a software engineer to do anything inconsistent with this Cod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ot punish anyone for expressing ethical concerns about a project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0EDF-36BB-435F-A98E-057D68EDAABF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CA8F-EFB9-4BB4-A582-2F1701FDEFB0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SOFTWARE ENGINEERING CODE OF ETHICS AND PROFESSIONAL PRACTICE (CONTD.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PROFESSION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720" indent="-25344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3399"/>
                </a:solidFill>
                <a:latin typeface="Century Schoolbook"/>
              </a:rPr>
              <a:t>Software engineers shall advance the integrity and reputation of the profession consistent with the public interest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50320" indent="-1695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elp develop an organizational environment favorable to acting ethicall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50320" indent="-1695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romote public knowledge of software engineering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50320" indent="-1695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upport, as members of a profession, other software engineers striving to follow this Code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50320" indent="-1695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ot promote their own interest at the expense of the profession, client or employer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50320" indent="-1695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ake responsibility for detecting, correcting, and reporting errors in software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50320" indent="-1695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Report significant violations of this Code to appropriate authoriti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503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503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15D3-F8D2-41F2-B90D-530049DA0DAA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SOFTWARE ENGINEERING CODE OF ETHICS AND PROFESSIONAL PRACTICE (CONTD.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COLLEAGUE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Software engineers shall be fair to and supportive of their colleagues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ncourage colleagues to adhere to this Cod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ssist colleagues in professional developmen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redit fully the work of others and refrain from taking undue credi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ssist colleagues in being fully aware of current standard work practices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ot unfairly intervene in the career of any colleague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0727-8F66-48FB-9DF3-502416E24816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SOFTWARE ENGINEERING CODE OF ETHICS AND PROFESSIONAL PRACTICE (CONTD.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SELF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urther their knowledge of recent developments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Improve their ability to create safe, reliable, and useful quality software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Improve their ability to produce accurate, informative, and well-written documentation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Improve their knowledge of  relevant standards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ot influence others to undertake any action that involves a breach of this Code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C5A3-1A36-42A0-8598-1F9873037AF2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ERE TO FIND THIS CODE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61760" y="22096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http://www.computer.org/tab/seprof/code.ht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7CF8-C51A-4CE4-AA11-D514AF0F5C23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SEEPP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ands for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ftware Engineering Ethics and </a:t>
            </a: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ofessional </a:t>
            </a: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actic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oal: Establish a code of conduct for professional software engineers to make software engineering a beneficial and respected professio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Joint Effort by IEEE-Computer Society and Association of Computing Machinery(ACM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F784-115D-4F6B-9731-FADC75F98B5B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O ARE THE ENGINEER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Software engineers are those who contribute either by direct participation or by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eaching,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nalyzing,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pecification generating,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esigning,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eveloping,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ertifying,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aintaining and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esting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of software system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317B-8B71-4884-AD3B-AF8D4FE3D6FD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ROLES OF ENGINEER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Professional Software Engineers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 includ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ractitioner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ducator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anager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pervisors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nd Policy maker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Trainees and Students of the Profess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171A-9F12-4FD6-ADE5-7E293D14E594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SOFTWARE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mputers have a central and growing role in commerce, industry, government, medicine, education, entertainment and society at lar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oftware Engineers develop software to automate/ facilitate other areas of societ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us Role of software in medicine, education, government, industry, commerce etc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97E1-1E56-40AC-82E7-D6F16706DB41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OFTWARE ENGINEERS IN FOCU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ecause of their roles in developing software systems, software engineers have significant opportunities to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o good or cause har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nable others to do good or cause har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fluence others to do good or cause har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ADE9-8349-474A-A675-718C595804CE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NEED FOR CODE OF ETHIC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o ensure, as much as possible, that software engineers efforts will be used for goo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Century Schoolbook"/>
              </a:rPr>
              <a:t>Software engineers must commit themselves to making software engineering a beneficial and respected profession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accordance with that commitment, software engineers shall adhere a Code of Ethics and Professional Practi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D369-86A8-461B-8173-CCFF0C426913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040" y="9140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75f6d"/>
                </a:solidFill>
                <a:latin typeface="Century Schoolbook"/>
              </a:rPr>
              <a:t>SOFTWARE ENGINEERING CODE OF ETHICS AND PROFESSIONAL PRACTICE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entury Schoolbook"/>
              </a:rPr>
              <a:t>The Code contains eight Principles related to the behavior of and decisions made by professional software engineer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PUBLIC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CLIENT AND EMPLOYER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PRODUCT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JUDGMENT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MANAGEMENT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PROFESSION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COLLEAGUES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SELF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A511-4E7B-4085-94E4-9226924DE5F4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SOFTWARE ENGINEERING CODE OF ETHICS AND PROFESSIONAL PRACTICE (CONTD.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PUBLIC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Software engineers shall act consistently with the public intere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ccept full responsibility for their own work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oderate the interests of the software engineer, the employer, the client and the users with the public good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pprove software only if they believe that it is safe, meets specifications, passes appropriate test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Be fair and avoid deception in all statements, particularly public ones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onsider issues of physical disabilities and allocation of resources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Be encouraged to volunteer professional skills to good causes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14:38:34Z</dcterms:created>
  <dc:creator>Admin</dc:creator>
  <dc:description/>
  <dc:language>en-US</dc:language>
  <cp:lastModifiedBy>habdalla</cp:lastModifiedBy>
  <dcterms:modified xsi:type="dcterms:W3CDTF">2010-11-07T07:55:14Z</dcterms:modified>
  <cp:revision>173</cp:revision>
  <dc:subject/>
  <dc:title>Table 8-1: Abbreviations and Acronyms Pertaining to Copyright</dc:title>
</cp:coreProperties>
</file>