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3CE3-82D3-4E09-9916-1CDBED8152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74C6-C7E6-4EA0-B147-4A5B60F558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141-0F86-4D6D-B724-8200DE4C85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8FBF-58A7-4FE8-8133-27AB4F36BC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2BC6-0CAB-419F-B63F-299A5CDFAF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60DB-6FF3-4048-8FED-E31E6418BF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74B-6ECB-40D5-ADDF-B644C55556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2CE0-2806-48EC-B8B4-5521F8EB89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0D6-2637-438C-8FE7-14DF7BB2A5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E27-7609-413A-B8CF-C4E6538A82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0C21-1999-4945-83CD-0F8C64CCC2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D5B-7B02-41E0-A916-66AA6D3D91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31B-FB79-4B5E-8A21-EF768AB24F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0C00-9C92-4159-8405-34A0A933E4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F349-2B8B-418D-A150-C7CDE589A7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410E-0D08-4ABC-BD0E-22556A5B3E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38E1-6961-4224-8A5B-88EE00BAF6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992C-44B5-4DA5-A6D3-2BEC2223BA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A5F-E532-4EBF-8250-77C462CA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E7B-7083-4ACE-B5BD-1D202ECE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364-A828-4A36-97F4-59FFB06A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E2A-449A-4107-B749-333081F6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B609-1E05-4920-ADA1-3523BDA9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C422-9014-4844-8947-ACA009B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390-EF48-49FB-BE1B-FF176F2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A913-26DA-4837-9942-979FC648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2A5B-7AF0-4F48-B3C7-A68E5B1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6CB3-66A2-41CB-8A37-445F14C1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F9A-AA7B-44A9-8716-B9E806B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D12-0E74-4DCE-8C67-585BB68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AD0F-C8E9-47E9-BF94-0CBF3CD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D61-3591-413B-8454-37F79F8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DD03-75EA-479C-9539-D351619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20AC-3568-4A77-98DD-A8481C6C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DB25-237C-4A07-85D2-F2E7D5F1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85956-715F-477C-A36D-343F47617B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94D09-4B8A-4912-81B0-1D2C41FE75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37739-CF24-4FEE-B5EB-F96E220F5C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A2960-5A59-46A6-B13A-5507306AA3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90572-0F54-4368-8DBF-82E71D5E5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8B0-DB31-4C85-A81D-A8EE37E0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9525F-3713-408C-8840-B11C3663F9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5D3DF-83F7-4A9C-B4A2-8838697A94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BFD19-E6AE-463C-86A9-168BD53959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BDF18-9D76-4CBF-A11C-C6BE92D0A2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383A2-DA28-4E7E-B6F2-1967E0D335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B3A7F-D73C-45F8-BA7C-95AEE34E32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54BE2-0DC1-43B7-A910-553809FF1E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47A2F-389C-4E1A-BBA3-B9EB7309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BAE09-CB89-4E6A-8C99-620B3105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B77F7-92C9-4CB5-AA17-38C14B7D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4DD-6592-47D7-8333-C24EED4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5162B-DBD1-4EB5-8743-ECBB6DE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300D1-A94D-4D79-8304-C5892E41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F7479-F31B-4441-8249-7500176C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B4DFC-2888-4C73-AAEE-9AA9544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D3B38-E0AF-48A4-8E15-1B83E91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F9826-5F20-4456-8387-EC7EB4A5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BE97E-BCF3-43DB-9D58-76615944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E43A2-DCBC-4D6E-959C-53202B57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630A2-4E9B-4C2F-AD68-1AA4BC11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C328-7134-4D2B-9D7C-3BD891D0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0A3-15F6-4809-BD2B-1C4DE98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7C54-6222-4989-99DB-46631F3E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EB4A-DBD5-4FCE-AD86-7CC7CCF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EE3C-4446-4154-B43E-94ED4A4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FE34-3163-44EC-8FF3-05866326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2D10-E8F0-4C84-8CE3-82272A1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ED2C-0034-427F-8F22-7EE3252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326B-96ED-4E2E-8AD4-FACF845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423A-BFB1-4B9B-A437-64A1B67A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DD10-1497-40BC-8C80-0F8190B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540D-47A9-4691-8AD2-C1A7ACA3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AAC-6715-44FA-97D1-847FACB4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56BE-588A-4631-8215-70545626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88F6-CF32-4F71-A650-7B548AAC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33C3C-790D-4F2C-A7D9-725D092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6DBD7-4F33-48BF-B3BC-A0A020A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180D-513F-464E-BAEC-C2DF07C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4F06-9848-4F02-AB5C-114DF821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36613-3037-4043-91D8-7827A6A8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6C0C-34E8-4442-942A-9A7FF67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42889-3A22-4759-9093-12F438C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D34A-0E6A-467E-A105-4328E0DE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43C-F8EE-4A47-AC70-CE32A91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62F0-9ABE-4BFE-AE16-0E2E3DC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5F93-7A26-4F4F-8437-91AEC3AB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D393-161A-4842-845B-19D8CB8F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A375C-18B2-4830-A2D3-4A033C86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4962-2C50-4DA3-94D2-FDD930C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CA788-657E-45A7-BB6B-2666718F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0CF3-D468-4135-B7D8-1D3893AB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B067-070D-457C-99BA-3386A28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3B2C-F381-44E2-B3AA-6DF21A6A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E2C0-863A-4B02-98FA-9665E85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26E-6005-4E4C-93CA-68D3793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F4A7-0A9B-4768-8B9B-650F54F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5DA7C-BD9C-4863-A036-771D590A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F2E3-CA48-4141-8A49-14CFD71E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109D-771E-4B2B-8F49-0A5DB914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F8E1-04B4-43FA-868C-1A0BBD36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9C5-869B-450F-9D65-187177E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F34-2F8C-4324-BACA-29FA65F259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C8A-15F9-4A66-BF07-487AC599A7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6A5-927A-4AAB-80EF-9B7BC3346C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A29-5D83-49A9-B935-9C05FA1D09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438-237D-44F7-AAE9-AADEA5307A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BFB8-BC22-4FC6-A715-AA7F01E067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A149-9320-4614-8F73-B6BD90F66D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65760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s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10840" y="6400800"/>
            <a:ext cx="81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9 by the Institute of Electrical and Electronics Engineers, Inc. and the Association for Computing Machinery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7432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Dr. Hassan Abda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oom: 22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DB3-7C06-4A78-938C-F5F1B256D9D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LIENT AND EMPLOY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in a manner that is in the best interests of their client and employer, consistent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service in their areas of competen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knowingly use software that is obtained or retained either illegally or unethicall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 the property of a client or employer only in ways properly authoriz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dentify, document, collect evidence  and report to the client or the employer promptly if, a project is likely to fail or to violate intellectual property la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DD7F-319F-421E-819D-DB6756D36C9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RODUC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ensure that their products and related modifications meet the highest professional standards possibl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for high quality and acceptable c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proper and achievable goals and objectives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they are qualified for any project they work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an appropriate method is used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 to follow professional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to fully understand the specifications for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adequate testing, debugging, documentation and review of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eat all forms of  software maintenance with the same professionalism as new develop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JUDG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maintain integrity and independence in their professional judgm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mper all technical judgments by the need to support and maintain human valu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ly endorse documents if prepared under supervis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ntain professional objectivity with respect to an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engage in deceptive financial practices such as bribery, double billing, or other improper financial practic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isclose to all concerned parties those conflicts of interest that cannot reasonably be avoided or escape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147B-1EC5-4EE5-9EFA-13FF217F752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ANAGE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ing managers and leaders shall subscribe to and promote an ethical approach to the management of software development and maintenanc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good management for any project on which they work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software engineers are informed of standards before being held to them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realistic quantitative estimates of cost, scheduling, personnel, quality and outcomes on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for due process in hearing charges of violation of an employer's policy or of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ask a software engineer to do anything inconsistent with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unish anyone for expressing ethical concerns about a projec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1C4-08E6-4192-915A-C0FB41C48E6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D6F3-D313-4494-B4D5-8DD510F8F32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PROFESS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advance the integrity and reputation of the profession consistent with the public interes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lp develop an organizational environment favorable to acting ethical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public knowledge of software engineer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pport, as members of a profession, other software engineers striving to follow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romote their own interest at the expense of the profession, client or employ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ake responsibility for detecting, correcting, and reporting errors in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port significant violations of this Code to appropriate author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DF6-6AEA-430A-BC76-5950BC38380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COLLEAGU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be fair to and supportive of their colleague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courage colleagues to adhere to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professional develop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redit fully the work of others and refrain from taking undue cred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being fully aware of current standard work practi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unfairly intervene in the career of any colleagu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0825-283F-452B-A36A-9E8915DBB36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SEL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urther their knowledge of recent developmen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create safe, reliable, and useful qualit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produce accurate, informative, and well-written documentat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knowledge of  relevant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influence others to undertake any action that involves a breach of this Cod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893-3DA3-4A6C-B266-FEC4E26D9AE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TO FIND THIS COD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http://www.computer.org/tab/seprof/code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52CC-7BBE-46AB-8547-BE602791EDF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EP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nds fo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ware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gineering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cs and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fessiona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al: Establish a code of conduct for professional software engineers to make software engineering a beneficial and respected profes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int Effort by IEEE-Computer Society and Association of Computing Machinery(AC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C3DB-45B4-463E-9CD1-84FEB9430E7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ARE THE ENGINEER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are those who contribute either by direct participation or b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ach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c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sign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rt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intaining,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sting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of software syst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36F8-497B-4DE9-9C38-33BAD23B25F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LES OF ENGINE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rofessional Software Engineer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actition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ervis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licy makers,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Trainees &amp; students of the profes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ADA-C062-44E2-9141-99328B64C32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OFTWA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rs have a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central and growing rol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commerce, industry, government, medicine, education, entertainment and society at l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ftware Engineers develop software to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autom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facilit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ther areas of soc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s Role of software in medicine, education, government, industry, commerce etc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B287-96C9-44CF-AFB4-8F138703467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FTWARE ENGINEERS IN FOC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of their roles in developing software systems, software engineers have significant opportun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Do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nab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Influenc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F5D-343E-4B2D-B327-C37DE905547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ED FOR CODE OF ETH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ensure, as much as possible, that software engineers efforts will be used for g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Century Schoolbook"/>
              </a:rPr>
              <a:t>Software engineers must commit themselves to making software engineering a beneficial and respected profess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ccordance with that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commit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software engineers shal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adhe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 Code of Ethics and Professional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CC8A-CA9C-4085-BDBE-EEDB5758C75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entury Schoolbook"/>
              </a:rPr>
              <a:t>The Code contains eight Principles related to the behavior of and decisions made by professional software engine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UBLIC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LIENT AND EMPLOYE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DUC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JUDG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MANAGE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FESS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LLEAGU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ELF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7D57-8715-4CF2-82D6-10F63AF48EA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UBL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consistently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cept full responsibility for their own wor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derate the interests of the software engineer, the employer, the client and the users with the public goo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prove software only if they believe that it is safe, meets specifications, passes appropriate te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fair and avoid deception in all statements, particularly public o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issues of physical disabilities and allocation of resour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encouraged to volunteer professional skills to good caus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istrator</cp:lastModifiedBy>
  <dcterms:modified xsi:type="dcterms:W3CDTF">2011-09-18T11:44:21Z</dcterms:modified>
  <cp:revision>179</cp:revision>
  <dc:subject/>
  <dc:title>Table 8-1: Abbreviations and Acronyms Pertaining to Copyright</dc:title>
</cp:coreProperties>
</file>