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94B-C080-412E-B9E7-AA8B3A6C49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4569-905B-4549-B91A-D0F3DAAF31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94A-68ED-4BD4-9EAF-E38A850BBD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EEDD-7991-41EF-B5FE-B7714623AE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84B5-7A03-46DC-ADB4-E3B1CC8E03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457-22A3-41C4-AE88-96F554F4F9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693-1714-4865-8CF1-0548C71D9D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766-AF69-4A4D-ADBE-E6A13FE2F2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9E4-B334-4B08-81B2-8E60439D7D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58B-8494-4D67-A353-F47B26D5F4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7CB2-37BB-4BBA-91E0-570531E921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71E9-307A-464A-9D51-3689141211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3BF-1853-4CCF-85C5-D49208D965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267A-3ECA-4CAA-90DC-85709A60C5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3C5-FAD2-476A-8A46-F26E583F39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AB4-680F-4BBE-BA95-2EE1E5654E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3C7-E02E-472A-BA1B-D89C9216D2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DD57-FF3D-47C9-AACE-9A75582ED7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9C4-EA6A-480F-B20A-73FE2A96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409-7A9C-4E8C-B849-F50E9F1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01F-CE38-41ED-8C25-CA03EC3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11D-EFED-4947-8D39-DA9BD59E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07A9-0070-44E0-B1DD-E85D034F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2443-1042-40A6-82E0-97953AA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3BA1-14DC-45EC-B6ED-35C95B9F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BB9-8A55-4C6B-9342-807AF3F3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36E3-70D0-4DAD-AC39-28FB9EBD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D97-9B5F-4E78-9886-45F1730A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5A4C-FD17-43E0-8D1A-40ACECF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AC8-B3F5-4B75-86F3-E90DC500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A5F-CB19-4FF9-A282-6FE4FC5B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FEA-3717-4ACE-8C70-17A3B60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5FF5-36EC-42FB-95BB-2C0171E3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44CB-AD88-49E6-ADA7-368FFAF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8079-D8AB-42FD-8217-A1F13E51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6843A-3BB9-418B-84B1-C622FE72F2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A1B3B-87CC-45BE-B15A-801CAE7E19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D43CF-0563-466E-80FF-F5C15329F5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6F733-0443-453B-A99A-84DBEC1535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246CE-42AC-4ABD-8FF6-B985AE58D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C32-BFCC-4C21-ABC3-98362B3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5B9C7-385C-4B99-986C-3324D135BD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8D5594-4E11-40F2-A441-0188385941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E1968-7556-4955-A279-69ADBBD126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9F8B5-16B4-476F-80E6-479EA42106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57E0E-6400-4354-A40E-9456FA3710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79A26-C0F6-43B1-BFD6-64A7FC8A40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6D1CA7-607F-4540-9B2C-23B2334F95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A7B2C-09B4-4DE1-92F2-89E0B5FC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94B88-73FC-4195-9DFF-BD131478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654F1-635B-42F8-9756-819B2A63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362-659C-4515-8282-2AF25944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618D6-13DB-4CCB-914A-A961B74C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5FBAB-4C80-49DD-A16D-C07E51AF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146A0-3288-49DE-8E93-0E15041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2DA98-12B6-437F-AEEF-BFF3566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A9BCC-6C96-412E-AAC3-63D2C6F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6485F-C3D8-4D63-9039-8AFDB200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DBA95-B183-4233-871D-4B3374CC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AB3CB-FFD6-4CCE-B548-D55F208E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37931-150E-4EA5-B2C1-E67D8CC8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B7765-8D59-417B-9958-DAE6D75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4BA-2193-448E-A59B-0DA8FB94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8F1B4-452D-45DC-AF3E-F3308ED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C343-491A-4E27-88B0-A63B098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378C-9363-4482-8412-7DC7CD39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44E7-1802-4729-B61E-C706859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B66E-9EDA-45DB-8837-1DDEEF3B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D26B-F95F-492E-8FDA-0001C98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D7A2-ECC7-4F44-8A62-697DF68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D341-0F0F-4FAB-9BD0-5D30441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8841-8B9E-4B56-843B-D7A689B6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2DBA-A901-4C5E-B013-0F7DB24D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2E8-6DE6-4C58-B673-EC5206F5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A151-8033-4EF7-B789-8D7A4F76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66AD-ECED-4197-8D60-7EC75CE7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90FD-CCC3-483E-916A-ACDA83E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B04F-55A7-4906-9B82-4F2F7464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C2BC-E563-43F9-AF4A-373CD430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8507-12D4-4956-9843-E3C5192C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A0F0-88AB-4EA3-92A6-3DE89C4D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E030-5FC2-4466-A8BC-56A139DC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388C8-BA21-45A7-9DC9-9D9DA309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4B9A-CDBF-4F74-9797-E24051DE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00C-0E43-43E5-96FF-968AC22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1836-9D2C-4837-8848-06F4BB1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564DC-B664-4023-9B65-9582DFD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6BF6-E716-49A6-A019-4DABE458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CF227-AC61-4502-9BDC-8F8D0B96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4C8E-DA81-4B1D-BAAA-A94D3E7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1B3E-67D1-4051-80E7-D89B322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A63B-4CD0-4D97-9AED-1FE05D9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2A35D-86E2-4BCE-A673-46F0AD65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9220-829A-4AC6-B557-68F9DC1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BC031-173A-4E58-B502-7AF87D8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254-55ED-4552-A114-D2DD2A6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49D3-F762-4FA9-A407-9B0EE272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E77E-3051-4CB9-8657-94B2BC2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EB42-B5F4-444B-8DA4-A4FA7764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1778-EC6C-4926-B5DE-87690CEA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B4149-1B27-4CB6-8736-4D076D15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5D2-C7D7-4040-B077-EC3628A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1B46-38A0-4FB1-8384-E317E539D0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8CE6-2572-4FF8-A011-EE2FEDC3D3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CC1-9974-4056-AD08-6C76FF2C36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E178-95D7-49BA-8F25-558D4C6CE1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1EF-3335-45FD-8B9B-2897A69C17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04C6-D484-4EB2-AB85-823C27B68D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06C9-0C70-47F0-8E44-DE7EF2A05A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3F15-48AA-4622-A1E2-078D0255980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D2CC-DCC5-41B3-ACE1-9B231A33983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83E2-9E0A-424F-A35A-7E9FE88DC19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582-3283-4EB6-9CEB-C6E81FD4CB5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5AF2-6EFF-48A2-8E36-23B182FC99F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7324-BD18-42A2-A595-3EFAD32A944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9606-E364-4C70-869F-3F50987D9A5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1994-5A2A-46CF-8F7A-0256FBAA83E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AD1-3B2D-4513-9A31-1315B3E0FB8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ineering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BAC-87FC-43FE-9405-784902F0687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ach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rt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,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F22-3D84-446D-92BC-2D6C482FE69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licy makers,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Trainees &amp; students of the profes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215A-412F-4234-AC10-E8BF4366A38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central and growing rol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autom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facilit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DE39-8F6F-4903-AFAF-F9CAB96AE4C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Do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nab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Influenc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4F6-FAE3-4C64-9CA0-70AD56BE7E0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commit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software engineers shal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adhe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EA5-67F2-496B-9B2D-4FA0CD361BB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F0F-948C-4935-A964-8CFC4D6DF85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istrator</cp:lastModifiedBy>
  <dcterms:modified xsi:type="dcterms:W3CDTF">2011-09-18T11:44:21Z</dcterms:modified>
  <cp:revision>179</cp:revision>
  <dc:subject/>
  <dc:title>Table 8-1: Abbreviations and Acronyms Pertaining to Copyright</dc:title>
</cp:coreProperties>
</file>