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9336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92904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923400" y="441000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929040" y="882000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7A80E47-C282-4571-ACA6-A6B9135A5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23400" y="441000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kingabdullahcity.com/en/Downloads/EmploymentApplicationForm.doc, accessed October 12, 20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2CA8-AC53-4E6C-95C0-18D6793B61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2F9C-B3E4-414A-8CF1-6D2B9570E1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8BC0-6C43-4DB8-8141-FE7421DCB0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83EA-AE17-4758-AA26-25A284EBA6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11D6-0FA3-49C3-97A9-AEA4C160D2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C2B9-8ABA-483F-871F-C9B1365B0D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FE30-52B2-4B66-8A72-4271F6F554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162F-7325-47E5-9B10-3F2408B2C4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6B9A-78FA-4361-ABB9-4230D05C16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ADE0-4D03-47F1-8CAC-5CE246184A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B685-ACAE-45E2-A812-5028D61419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3971-D00E-47ED-BBC4-7343370C54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D95-867B-449A-9991-DD4D572FCB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CF6-366A-4377-B730-8948B1E4C3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A4B-E44A-4237-8AD0-745C9DF049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4E9-D484-435D-B44D-6EFCDC2325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22F-A6F4-414D-9D6E-88BA6213B3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812-93D0-4160-824B-94065DD199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E6D-7600-4A73-BBD5-65E9219CBF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0B5-95C4-4321-947F-9D2AF5D2D4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E53-10C3-4DD9-9A2D-3993082827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736-3511-4C33-8554-F26C180FB5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9DF-7BAB-4DBF-89C2-56F10DE14E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414E-2777-4DCD-BA97-98876B1076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2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Always_Learning_Text_Orange_RGB"/>
          <p:cNvPicPr/>
          <p:nvPr/>
        </p:nvPicPr>
        <p:blipFill>
          <a:blip r:embed="rId4"/>
          <a:stretch/>
        </p:blipFill>
        <p:spPr>
          <a:xfrm>
            <a:off x="957240" y="23302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4274-E09D-4EA3-938C-0E6CDC2205A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© Pearson Education 201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3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D619-74DE-4F08-88C6-5F1AAD8109A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1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AA97-5EF0-48A5-9736-2E8DBF3AB14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20200" y="1863720"/>
            <a:ext cx="7642440" cy="3022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nel Planning and Recrui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63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lexities of Recruiting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65040" y="140292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55680" indent="-3556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ruitment efforts should make sense in terms of the company’s strategic plan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cruiting methods are better to others, depending on the type of job recruited f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m’s image affects its recruiting results.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 ins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better the image and reputation of a company, the more it will attract candida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BF52-2958-4A42-B269-C74449C027F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774E-E77A-4C15-8177-B896A8E7635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Recruiting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040" y="140292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vantages of Centralizing Recruitmen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s applying strategic priori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s employment bra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s duplication of HR activi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s the cost of new HR technolog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s teams of HR exper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etter measurement of HR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for sharing of applicant po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Recruiting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65040" y="1495080"/>
            <a:ext cx="8229600" cy="45766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centralizing Recruitmen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firm’s divisions are independent, or their recruitment needs are varied, it may be more sensible to decentralize the recruitment func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7900-496B-4FEA-93C1-EDF42053CB9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2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9B5B-6B62-4F39-A719-CD32BE72B70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ing Recruiting Effectiveness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210" name="Group 9"/>
          <p:cNvGrpSpPr/>
          <p:nvPr/>
        </p:nvGrpSpPr>
        <p:grpSpPr>
          <a:xfrm>
            <a:off x="1073160" y="1679040"/>
            <a:ext cx="7273440" cy="3867480"/>
            <a:chOff x="1073160" y="1679040"/>
            <a:chExt cx="7273440" cy="3867480"/>
          </a:xfrm>
        </p:grpSpPr>
        <p:sp>
          <p:nvSpPr>
            <p:cNvPr id="211" name="Text Box 3"/>
            <p:cNvSpPr/>
            <p:nvPr/>
          </p:nvSpPr>
          <p:spPr>
            <a:xfrm>
              <a:off x="1073160" y="4217760"/>
              <a:ext cx="2691720" cy="1311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to Measur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5"/>
            <p:cNvSpPr/>
            <p:nvPr/>
          </p:nvSpPr>
          <p:spPr>
            <a:xfrm>
              <a:off x="5654880" y="4235040"/>
              <a:ext cx="2691720" cy="1311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w to Measur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13" name="AutoShape 6"/>
            <p:cNvCxnSpPr>
              <a:stCxn id="214" idx="0"/>
              <a:endCxn id="211" idx="0"/>
            </p:cNvCxnSpPr>
            <p:nvPr/>
          </p:nvCxnSpPr>
          <p:spPr>
            <a:xfrm flipH="1">
              <a:off x="2418120" y="1679040"/>
              <a:ext cx="2265480" cy="253908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lg" type="stealth" w="lg"/>
            </a:ln>
          </p:spPr>
        </p:cxnSp>
        <p:cxnSp>
          <p:nvCxnSpPr>
            <p:cNvPr id="215" name="AutoShape 7"/>
            <p:cNvCxnSpPr>
              <a:stCxn id="214" idx="0"/>
              <a:endCxn id="212" idx="0"/>
            </p:cNvCxnSpPr>
            <p:nvPr/>
          </p:nvCxnSpPr>
          <p:spPr>
            <a:xfrm>
              <a:off x="4683240" y="1679040"/>
              <a:ext cx="2317320" cy="255636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lg" type="stealth" w="lg"/>
            </a:ln>
          </p:spPr>
        </p:cxnSp>
        <p:sp>
          <p:nvSpPr>
            <p:cNvPr id="214" name="Oval 4"/>
            <p:cNvSpPr/>
            <p:nvPr/>
          </p:nvSpPr>
          <p:spPr>
            <a:xfrm>
              <a:off x="2278080" y="1679400"/>
              <a:ext cx="4811760" cy="1741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valuating Recruiting Effectivenes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ACB8-5D5A-4811-884A-16D9A193AA3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73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andidates: Hiring from Within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9120" y="2047680"/>
            <a:ext cx="41148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137160" anchor="t">
            <a:normAutofit/>
          </a:bodyPr>
          <a:p>
            <a:pPr marL="287280" indent="-287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knowledge of candidate’s strengths and weakn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accurate view of candidate’s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tes have a stronger commitment to the comp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raining and orientation requi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43440" y="2139840"/>
            <a:ext cx="37130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137160" anchor="t">
            <a:normAutofit/>
          </a:bodyPr>
          <a:p>
            <a:pPr marL="287280" indent="-287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ed applicants become dissatisf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wasted interviewing inside candidates who will not be consid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12720" y="1403280"/>
            <a:ext cx="2468520" cy="63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5032440" y="1403280"/>
            <a:ext cx="2927160" cy="63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2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A093-9886-4CB2-8734-B60EB97EFF5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 Internal Candidates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1073160" y="1495440"/>
            <a:ext cx="7089120" cy="4511160"/>
            <a:chOff x="1073160" y="1495440"/>
            <a:chExt cx="7089120" cy="4511160"/>
          </a:xfrm>
        </p:grpSpPr>
        <p:sp>
          <p:nvSpPr>
            <p:cNvPr id="225" name="_s1028"/>
            <p:cNvSpPr/>
            <p:nvPr/>
          </p:nvSpPr>
          <p:spPr>
            <a:xfrm flipV="1">
              <a:off x="5437440" y="2508120"/>
              <a:ext cx="1038240" cy="847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_s1028"/>
            <p:cNvSpPr/>
            <p:nvPr/>
          </p:nvSpPr>
          <p:spPr>
            <a:xfrm flipH="1" flipV="1">
              <a:off x="2761560" y="2510640"/>
              <a:ext cx="1032480" cy="84420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_s1032"/>
            <p:cNvSpPr/>
            <p:nvPr/>
          </p:nvSpPr>
          <p:spPr>
            <a:xfrm>
              <a:off x="4604760" y="4119480"/>
              <a:ext cx="0" cy="6706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7"/>
            <p:cNvSpPr/>
            <p:nvPr/>
          </p:nvSpPr>
          <p:spPr>
            <a:xfrm>
              <a:off x="3184200" y="3164760"/>
              <a:ext cx="2833920" cy="1042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iring from Within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8"/>
            <p:cNvSpPr/>
            <p:nvPr/>
          </p:nvSpPr>
          <p:spPr>
            <a:xfrm>
              <a:off x="1073160" y="1495440"/>
              <a:ext cx="2833200" cy="1040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Job Posting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>
              <a:off x="3184200" y="4812840"/>
              <a:ext cx="2833920" cy="1193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uccession Planning (HRIS)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Text Box 10"/>
            <p:cNvSpPr/>
            <p:nvPr/>
          </p:nvSpPr>
          <p:spPr>
            <a:xfrm>
              <a:off x="5329080" y="1496520"/>
              <a:ext cx="2833200" cy="104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Rehiring Former Employees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2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327E-B85B-4FC3-9330-6621EA8B389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utside Sources of Candidates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1092240" y="1549440"/>
            <a:ext cx="782280" cy="1044000"/>
            <a:chOff x="1092240" y="1549440"/>
            <a:chExt cx="782280" cy="1044000"/>
          </a:xfrm>
        </p:grpSpPr>
        <p:sp>
          <p:nvSpPr>
            <p:cNvPr id="235" name="Freeform 4"/>
            <p:cNvSpPr/>
            <p:nvPr/>
          </p:nvSpPr>
          <p:spPr>
            <a:xfrm>
              <a:off x="1092240" y="1549440"/>
              <a:ext cx="782280" cy="909360"/>
            </a:xfrm>
            <a:prstGeom prst="pie">
              <a:avLst/>
            </a:prstGeom>
            <a:noFill/>
            <a:ln w="5724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Oval 5"/>
            <p:cNvSpPr/>
            <p:nvPr/>
          </p:nvSpPr>
          <p:spPr>
            <a:xfrm>
              <a:off x="1204920" y="2320560"/>
              <a:ext cx="333720" cy="272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7" name="Group 6"/>
          <p:cNvGrpSpPr/>
          <p:nvPr/>
        </p:nvGrpSpPr>
        <p:grpSpPr>
          <a:xfrm>
            <a:off x="1092240" y="2241720"/>
            <a:ext cx="782280" cy="1044360"/>
            <a:chOff x="1092240" y="2241720"/>
            <a:chExt cx="782280" cy="1044360"/>
          </a:xfrm>
        </p:grpSpPr>
        <p:sp>
          <p:nvSpPr>
            <p:cNvPr id="238" name="Freeform 7"/>
            <p:cNvSpPr/>
            <p:nvPr/>
          </p:nvSpPr>
          <p:spPr>
            <a:xfrm>
              <a:off x="1092240" y="2241720"/>
              <a:ext cx="782280" cy="909720"/>
            </a:xfrm>
            <a:prstGeom prst="pie">
              <a:avLst/>
            </a:prstGeom>
            <a:noFill/>
            <a:ln w="5724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Oval 8"/>
            <p:cNvSpPr/>
            <p:nvPr/>
          </p:nvSpPr>
          <p:spPr>
            <a:xfrm>
              <a:off x="1204920" y="3013200"/>
              <a:ext cx="333720" cy="272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0" name="Group 9"/>
          <p:cNvGrpSpPr/>
          <p:nvPr/>
        </p:nvGrpSpPr>
        <p:grpSpPr>
          <a:xfrm>
            <a:off x="1092240" y="2190600"/>
            <a:ext cx="782280" cy="1725480"/>
            <a:chOff x="1092240" y="2190600"/>
            <a:chExt cx="782280" cy="1725480"/>
          </a:xfrm>
        </p:grpSpPr>
        <p:sp>
          <p:nvSpPr>
            <p:cNvPr id="241" name="Freeform 10"/>
            <p:cNvSpPr/>
            <p:nvPr/>
          </p:nvSpPr>
          <p:spPr>
            <a:xfrm>
              <a:off x="1092240" y="2190600"/>
              <a:ext cx="782280" cy="1584000"/>
            </a:xfrm>
            <a:prstGeom prst="pie">
              <a:avLst/>
            </a:prstGeom>
            <a:noFill/>
            <a:ln w="5724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Oval 11"/>
            <p:cNvSpPr/>
            <p:nvPr/>
          </p:nvSpPr>
          <p:spPr>
            <a:xfrm>
              <a:off x="1204920" y="3629880"/>
              <a:ext cx="333720" cy="286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3" name="Freeform 13"/>
          <p:cNvSpPr/>
          <p:nvPr/>
        </p:nvSpPr>
        <p:spPr>
          <a:xfrm>
            <a:off x="1087560" y="2833560"/>
            <a:ext cx="782640" cy="1584360"/>
          </a:xfrm>
          <a:prstGeom prst="pie">
            <a:avLst/>
          </a:prstGeom>
          <a:noFill/>
          <a:ln w="572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1790640" y="2921040"/>
            <a:ext cx="3008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1790640" y="2273400"/>
            <a:ext cx="3008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ruiting via the Intern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1790640" y="3562200"/>
            <a:ext cx="3008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ment Ag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" name="Group 23"/>
          <p:cNvGrpSpPr/>
          <p:nvPr/>
        </p:nvGrpSpPr>
        <p:grpSpPr>
          <a:xfrm>
            <a:off x="5046840" y="1549440"/>
            <a:ext cx="690120" cy="1044000"/>
            <a:chOff x="5046840" y="1549440"/>
            <a:chExt cx="690120" cy="1044000"/>
          </a:xfrm>
        </p:grpSpPr>
        <p:sp>
          <p:nvSpPr>
            <p:cNvPr id="248" name="Freeform 24"/>
            <p:cNvSpPr/>
            <p:nvPr/>
          </p:nvSpPr>
          <p:spPr>
            <a:xfrm>
              <a:off x="5046840" y="1549440"/>
              <a:ext cx="690120" cy="909360"/>
            </a:xfrm>
            <a:prstGeom prst="pie">
              <a:avLst/>
            </a:prstGeom>
            <a:noFill/>
            <a:ln w="5724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Oval 25"/>
            <p:cNvSpPr/>
            <p:nvPr/>
          </p:nvSpPr>
          <p:spPr>
            <a:xfrm>
              <a:off x="5146200" y="2320560"/>
              <a:ext cx="294480" cy="272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0" name="Group 26"/>
          <p:cNvGrpSpPr/>
          <p:nvPr/>
        </p:nvGrpSpPr>
        <p:grpSpPr>
          <a:xfrm>
            <a:off x="5046840" y="2241720"/>
            <a:ext cx="690120" cy="1044360"/>
            <a:chOff x="5046840" y="2241720"/>
            <a:chExt cx="690120" cy="1044360"/>
          </a:xfrm>
        </p:grpSpPr>
        <p:sp>
          <p:nvSpPr>
            <p:cNvPr id="251" name="Freeform 27"/>
            <p:cNvSpPr/>
            <p:nvPr/>
          </p:nvSpPr>
          <p:spPr>
            <a:xfrm>
              <a:off x="5046840" y="2241720"/>
              <a:ext cx="690120" cy="909720"/>
            </a:xfrm>
            <a:prstGeom prst="pie">
              <a:avLst/>
            </a:prstGeom>
            <a:noFill/>
            <a:ln w="5724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Oval 28"/>
            <p:cNvSpPr/>
            <p:nvPr/>
          </p:nvSpPr>
          <p:spPr>
            <a:xfrm>
              <a:off x="5146200" y="3013200"/>
              <a:ext cx="294480" cy="272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" name="Group 29"/>
          <p:cNvGrpSpPr/>
          <p:nvPr/>
        </p:nvGrpSpPr>
        <p:grpSpPr>
          <a:xfrm>
            <a:off x="5046840" y="2190600"/>
            <a:ext cx="690120" cy="1725480"/>
            <a:chOff x="5046840" y="2190600"/>
            <a:chExt cx="690120" cy="1725480"/>
          </a:xfrm>
        </p:grpSpPr>
        <p:sp>
          <p:nvSpPr>
            <p:cNvPr id="254" name="Freeform 30"/>
            <p:cNvSpPr/>
            <p:nvPr/>
          </p:nvSpPr>
          <p:spPr>
            <a:xfrm>
              <a:off x="5046840" y="2190600"/>
              <a:ext cx="690120" cy="1584000"/>
            </a:xfrm>
            <a:prstGeom prst="pie">
              <a:avLst/>
            </a:prstGeom>
            <a:noFill/>
            <a:ln w="5724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Oval 31"/>
            <p:cNvSpPr/>
            <p:nvPr/>
          </p:nvSpPr>
          <p:spPr>
            <a:xfrm>
              <a:off x="5146200" y="3629880"/>
              <a:ext cx="294480" cy="286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5041800" y="2833560"/>
            <a:ext cx="690480" cy="1725480"/>
            <a:chOff x="5041800" y="2833560"/>
            <a:chExt cx="690480" cy="1725480"/>
          </a:xfrm>
        </p:grpSpPr>
        <p:sp>
          <p:nvSpPr>
            <p:cNvPr id="257" name="Freeform 33"/>
            <p:cNvSpPr/>
            <p:nvPr/>
          </p:nvSpPr>
          <p:spPr>
            <a:xfrm>
              <a:off x="5041800" y="2833560"/>
              <a:ext cx="690480" cy="1584000"/>
            </a:xfrm>
            <a:prstGeom prst="pie">
              <a:avLst/>
            </a:prstGeom>
            <a:noFill/>
            <a:ln w="5724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Oval 34"/>
            <p:cNvSpPr/>
            <p:nvPr/>
          </p:nvSpPr>
          <p:spPr>
            <a:xfrm>
              <a:off x="5141160" y="4272840"/>
              <a:ext cx="294480" cy="286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9" name="Rectangle 38"/>
          <p:cNvSpPr/>
          <p:nvPr/>
        </p:nvSpPr>
        <p:spPr>
          <a:xfrm>
            <a:off x="5678640" y="2921040"/>
            <a:ext cx="3008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Demand Recruiting Services (OD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39"/>
          <p:cNvSpPr/>
          <p:nvPr/>
        </p:nvSpPr>
        <p:spPr>
          <a:xfrm>
            <a:off x="5678640" y="2273400"/>
            <a:ext cx="30081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ve Recrui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40"/>
          <p:cNvSpPr/>
          <p:nvPr/>
        </p:nvSpPr>
        <p:spPr>
          <a:xfrm>
            <a:off x="5678640" y="3562200"/>
            <a:ext cx="30081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Recrui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41"/>
          <p:cNvSpPr/>
          <p:nvPr/>
        </p:nvSpPr>
        <p:spPr>
          <a:xfrm>
            <a:off x="5673600" y="4202280"/>
            <a:ext cx="3008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k-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AutoShape 43"/>
          <p:cNvSpPr/>
          <p:nvPr/>
        </p:nvSpPr>
        <p:spPr>
          <a:xfrm>
            <a:off x="731880" y="1417680"/>
            <a:ext cx="4846680" cy="4986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ng Outside Candi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480E-F4CC-46B6-A1D2-FFD7BDAD7B7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731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marL="4572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Recruiting via the Internet 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040" y="140328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ruiting via the Interne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vantages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effective way to publicize job open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applicants are attracted over a longer peri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diate applicant respon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ine pre-screening of applica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 to other job search si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ization of applicant tracking and evalu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5040" y="482760"/>
            <a:ext cx="8229600" cy="73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Recruiting via the Interne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cont) </a:t>
            </a:r>
            <a:br>
              <a:rPr sz="3200"/>
            </a:b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65040" y="158724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lvl="2" marL="900000" indent="-3682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isadvantages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eme number of unqualified applicant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information privacy concerns of applicant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C48F-CC78-4A5F-8AF2-A5C14DBFDAE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9B27-4291-4799-AF57-282AA7ACFE0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Advertising for Outside Candidates</a:t>
            </a:r>
            <a:endParaRPr b="1" lang="en-US" sz="30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65040" y="140292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Media Choic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of the best media depends on the positions for which the firm is recrui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pape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cal and specific labor marke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 journal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employe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job sit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labor marke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3FB0-D6C1-4616-8316-56A8207F131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63240" y="1218960"/>
            <a:ext cx="8443800" cy="50641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55680" indent="-3556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the main techniques used in employment planning and forecast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ly recruit job candidat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and describe the main internal sources of candidat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how to recruit a more diverse workfor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studying this chapter, you should be able to:</a:t>
            </a:r>
            <a:br>
              <a:rPr sz="3000"/>
            </a:br>
            <a:endParaRPr b="1" lang="en-US" sz="30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2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B74F-F484-4D51-97B8-294FB0AA0BD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36600" y="482760"/>
            <a:ext cx="8229600" cy="731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-Employment Agencie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grpSp>
        <p:nvGrpSpPr>
          <p:cNvPr id="275" name="Group 3"/>
          <p:cNvGrpSpPr/>
          <p:nvPr/>
        </p:nvGrpSpPr>
        <p:grpSpPr>
          <a:xfrm>
            <a:off x="981000" y="1587600"/>
            <a:ext cx="7457760" cy="3774240"/>
            <a:chOff x="981000" y="1587600"/>
            <a:chExt cx="7457760" cy="3774240"/>
          </a:xfrm>
        </p:grpSpPr>
        <p:sp>
          <p:nvSpPr>
            <p:cNvPr id="276" name="Text Box 4"/>
            <p:cNvSpPr/>
            <p:nvPr/>
          </p:nvSpPr>
          <p:spPr>
            <a:xfrm>
              <a:off x="981000" y="4104000"/>
              <a:ext cx="2174760" cy="125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vat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cie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Text Box 5"/>
            <p:cNvSpPr/>
            <p:nvPr/>
          </p:nvSpPr>
          <p:spPr>
            <a:xfrm>
              <a:off x="6264000" y="4104000"/>
              <a:ext cx="2174760" cy="125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iv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ruite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Oval 6"/>
            <p:cNvSpPr/>
            <p:nvPr/>
          </p:nvSpPr>
          <p:spPr>
            <a:xfrm>
              <a:off x="2638080" y="1587600"/>
              <a:ext cx="4050720" cy="14173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ypes of Employment Agencie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7"/>
            <p:cNvSpPr/>
            <p:nvPr/>
          </p:nvSpPr>
          <p:spPr>
            <a:xfrm>
              <a:off x="3611160" y="4104000"/>
              <a:ext cx="2174760" cy="125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mporary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cie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0" name="AutoShape 8"/>
            <p:cNvCxnSpPr>
              <a:stCxn id="278" idx="4"/>
              <a:endCxn id="276" idx="0"/>
            </p:cNvCxnSpPr>
            <p:nvPr/>
          </p:nvCxnSpPr>
          <p:spPr>
            <a:xfrm rot="5400000">
              <a:off x="2816640" y="2256840"/>
              <a:ext cx="1099800" cy="25956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8000"/>
              </a:solidFill>
              <a:miter/>
              <a:tailEnd len="lg" type="stealth" w="lg"/>
            </a:ln>
          </p:spPr>
        </p:cxnSp>
        <p:cxnSp>
          <p:nvCxnSpPr>
            <p:cNvPr id="281" name="AutoShape 9"/>
            <p:cNvCxnSpPr>
              <a:stCxn id="278" idx="4"/>
              <a:endCxn id="277" idx="0"/>
            </p:cNvCxnSpPr>
            <p:nvPr/>
          </p:nvCxnSpPr>
          <p:spPr>
            <a:xfrm flipH="1" rot="16200000">
              <a:off x="5457600" y="2210040"/>
              <a:ext cx="1099800" cy="26888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8000"/>
              </a:solidFill>
              <a:miter/>
              <a:tailEnd len="lg" type="stealth" w="lg"/>
            </a:ln>
          </p:spPr>
        </p:cxnSp>
        <p:cxnSp>
          <p:nvCxnSpPr>
            <p:cNvPr id="282" name="AutoShape 10"/>
            <p:cNvCxnSpPr>
              <a:stCxn id="278" idx="4"/>
              <a:endCxn id="279" idx="0"/>
            </p:cNvCxnSpPr>
            <p:nvPr/>
          </p:nvCxnSpPr>
          <p:spPr>
            <a:xfrm>
              <a:off x="4664160" y="3004560"/>
              <a:ext cx="36000" cy="109980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lg" type="stealth" w="lg"/>
            </a:ln>
          </p:spPr>
        </p:cxn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6600" y="390600"/>
            <a:ext cx="8229600" cy="73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Employment Agencies</a:t>
            </a:r>
            <a:br>
              <a:rPr sz="3000"/>
            </a:br>
            <a:endParaRPr b="1" lang="en-US" sz="30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65040" y="140292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Use a Private Employment Agenc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R department: firm lacks recruiting and screening capabili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ttract a pool of qualified applica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a particular opening quick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ttract a greater number of applica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ach currently employed individuals who are more comfortable dealing with a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0199-B681-4B8C-A257-2B38A11BF75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BDF9-9152-4A88-B6EF-578CB512901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390600"/>
            <a:ext cx="8229600" cy="73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Employment Agencies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cont)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65040" y="131076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ing Problems with Employment Agencie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95320" indent="-3636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he agency with accurate and complete job descrip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95320" indent="-3636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tests, application blanks, and interviews are part of the agency’s selection proc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95320" indent="-3636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agency for effectiveness in filling positions – check with other managers or HR for the most effective agenci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4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F4B9-F854-4D56-9588-03E0D18259E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64680" y="1495440"/>
            <a:ext cx="8139240" cy="4788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lnSpc>
                <a:spcPct val="10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On-Demand Recruiting Services (ODRS)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1137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rt-term specialized recruiting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d by the hour/projec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recruiting, analysis, and pre-scree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College Recruit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1137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-campus recruiting goal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if the candidate is worthy of further consider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55680" indent="-3556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ttract good candida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ide Sources of Candidate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cont)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1DAD-8C84-4F80-9D22-8C396F02558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lvl="2" marL="351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Walk-ins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k employment through a personal, direct approach to the employ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Outside Sources of Candidates (cont)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65040" y="39528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ide Sources of Candidate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con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2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798F-7A5D-4D6B-A4A0-AB174B8DCDB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Developing and Using Application Form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12720" y="3611520"/>
            <a:ext cx="1841400" cy="109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nt’s education and experi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781680" y="3611520"/>
            <a:ext cx="1933560" cy="1096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nt’s probability of suc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2638440" y="3611520"/>
            <a:ext cx="1947960" cy="1096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nt’s progress and grow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2925720" y="1600200"/>
            <a:ext cx="3273480" cy="1052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of Application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4756320" y="3611520"/>
            <a:ext cx="1841400" cy="10969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nt’s employment sta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3" name="AutoShape 9"/>
          <p:cNvCxnSpPr>
            <a:stCxn id="301" idx="4"/>
            <a:endCxn id="298" idx="0"/>
          </p:cNvCxnSpPr>
          <p:nvPr/>
        </p:nvCxnSpPr>
        <p:spPr>
          <a:xfrm rot="5400000">
            <a:off x="2568240" y="1617480"/>
            <a:ext cx="959400" cy="3029760"/>
          </a:xfrm>
          <a:prstGeom prst="bentConnector3">
            <a:avLst>
              <a:gd name="adj1" fmla="val 50000"/>
            </a:avLst>
          </a:prstGeom>
          <a:ln w="38160">
            <a:solidFill>
              <a:srgbClr val="008000"/>
            </a:solidFill>
            <a:miter/>
            <a:tailEnd len="lg" type="stealth" w="lg"/>
          </a:ln>
        </p:spPr>
      </p:cxnSp>
      <p:cxnSp>
        <p:nvCxnSpPr>
          <p:cNvPr id="304" name="AutoShape 10"/>
          <p:cNvCxnSpPr>
            <a:stCxn id="301" idx="4"/>
            <a:endCxn id="300" idx="0"/>
          </p:cNvCxnSpPr>
          <p:nvPr/>
        </p:nvCxnSpPr>
        <p:spPr>
          <a:xfrm rot="5400000">
            <a:off x="3607200" y="2656440"/>
            <a:ext cx="959400" cy="951840"/>
          </a:xfrm>
          <a:prstGeom prst="bentConnector3">
            <a:avLst>
              <a:gd name="adj1" fmla="val 50000"/>
            </a:avLst>
          </a:prstGeom>
          <a:ln w="38160">
            <a:solidFill>
              <a:srgbClr val="008000"/>
            </a:solidFill>
            <a:miter/>
            <a:tailEnd len="lg" type="stealth" w="lg"/>
          </a:ln>
        </p:spPr>
      </p:cxnSp>
      <p:cxnSp>
        <p:nvCxnSpPr>
          <p:cNvPr id="305" name="AutoShape 11"/>
          <p:cNvCxnSpPr>
            <a:stCxn id="301" idx="4"/>
            <a:endCxn id="299" idx="0"/>
          </p:cNvCxnSpPr>
          <p:nvPr/>
        </p:nvCxnSpPr>
        <p:spPr>
          <a:xfrm flipH="1" rot="16200000">
            <a:off x="5676120" y="1538640"/>
            <a:ext cx="959400" cy="3186720"/>
          </a:xfrm>
          <a:prstGeom prst="bentConnector3">
            <a:avLst>
              <a:gd name="adj1" fmla="val 50000"/>
            </a:avLst>
          </a:prstGeom>
          <a:ln w="38160">
            <a:solidFill>
              <a:srgbClr val="008000"/>
            </a:solidFill>
            <a:miter/>
            <a:tailEnd len="lg" type="stealth" w="lg"/>
          </a:ln>
        </p:spPr>
      </p:cxnSp>
      <p:cxnSp>
        <p:nvCxnSpPr>
          <p:cNvPr id="306" name="AutoShape 12"/>
          <p:cNvCxnSpPr>
            <a:stCxn id="301" idx="4"/>
            <a:endCxn id="302" idx="0"/>
          </p:cNvCxnSpPr>
          <p:nvPr/>
        </p:nvCxnSpPr>
        <p:spPr>
          <a:xfrm flipH="1" rot="16200000">
            <a:off x="4639320" y="2574720"/>
            <a:ext cx="959400" cy="1114920"/>
          </a:xfrm>
          <a:prstGeom prst="bentConnector3">
            <a:avLst>
              <a:gd name="adj1" fmla="val 50000"/>
            </a:avLst>
          </a:prstGeom>
          <a:ln w="38160">
            <a:solidFill>
              <a:srgbClr val="008000"/>
            </a:solidFill>
            <a:miter/>
            <a:tailEnd len="lg" type="stealth" w="lg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2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6F25-E570-494B-B003-73888E3FBCA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6b06"/>
                </a:solidFill>
                <a:latin typeface="Verdana"/>
              </a:rPr>
              <a:t>FIGURE 5-9</a:t>
            </a:r>
            <a:r>
              <a:rPr b="1" lang="en-US" sz="1600" spc="-1" strike="noStrike">
                <a:solidFill>
                  <a:srgbClr val="0099cc"/>
                </a:solidFill>
                <a:latin typeface="Verdan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loym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</a:t>
            </a:r>
            <a:endParaRPr b="1" lang="en-US" sz="1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365040" y="1235160"/>
            <a:ext cx="1281240" cy="0"/>
          </a:xfrm>
          <a:prstGeom prst="line">
            <a:avLst/>
          </a:prstGeom>
          <a:ln w="2844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7" descr="5-9 1"/>
          <p:cNvPicPr/>
          <p:nvPr/>
        </p:nvPicPr>
        <p:blipFill>
          <a:blip r:embed="rId1"/>
          <a:stretch/>
        </p:blipFill>
        <p:spPr>
          <a:xfrm>
            <a:off x="3108240" y="0"/>
            <a:ext cx="6035760" cy="63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Resource Information System (HRIS)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44440" y="1495080"/>
            <a:ext cx="8562960" cy="48798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oftware or online solution for the data management needed by the HR depart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data includes information about employee skills and qualifications, and their personal upd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so includes company-related documents such as safety guidelines, and other financial in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7D1B-9EFA-4EAE-896A-ECD457C9859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useful in facilitating the succession planning which helps companies to understand their available talent and identify who is available for transition into other posi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combined with career development, succession planning allows companies to build a talent pool and employees to stay committed to their career and employ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4ECA-F4FC-4AFD-A113-EB670AEAD67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Resource Information System (HRIS)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4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56AF-3F50-4A3D-B62F-0E1681436E3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63240" y="1565280"/>
            <a:ext cx="4057560" cy="4664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icant tracking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ication 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erized foreca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loyee recrui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loyment or personnel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b po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-demand recruiting services (OD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755960" y="1547640"/>
            <a:ext cx="3747960" cy="4664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ition replacement c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fications invento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tio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ruiting yield pyram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atter p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ion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nd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Key Term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242A-D859-45E1-80BE-9406F252D47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ruitment and Selection Process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4680" y="1218960"/>
            <a:ext cx="8442360" cy="49719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55680" indent="-3556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what positions to fill throug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nel planning and forecas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 pool of candidates for these jobs, b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rui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nal or external candida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candidates comple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form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erhaps go through initial screening interview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tool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as tests, background investigations, and physical exams to identify suitable candida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who to make an offer to, by having the supervisor and perhaps other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andida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5040" y="390600"/>
            <a:ext cx="8229600" cy="82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onnel Planning and Recruiting 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90"/>
                </a:solidFill>
                <a:latin typeface="Times New Roman"/>
                <a:ea typeface="ＭＳ Ｐゴシック"/>
              </a:rPr>
              <a:t>Recruiting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any activity carried on by the organization with the main purpose of identifying and attracting potential employe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0090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0090"/>
                </a:solidFill>
                <a:latin typeface="Times New Roman"/>
                <a:ea typeface="ＭＳ Ｐゴシック"/>
              </a:rPr>
              <a:t>Employment or Personnel Planning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3682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of deciding what positions the firm will have to fill, and how to fill the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6B71-6381-4427-8ABF-2E824E90854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2F8F-02E6-4855-B79A-28970EA43CC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65040" y="4827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lvl="2" marL="351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o Forecas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 personnel nee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pply of inside candidat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pply of outside candidat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64680" y="482400"/>
            <a:ext cx="8350200" cy="58006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lvl="1" marL="717480" indent="-336600">
              <a:lnSpc>
                <a:spcPct val="150000"/>
              </a:lnSpc>
              <a:spcBef>
                <a:spcPts val="1874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utside recruiting</a:t>
            </a:r>
            <a:r>
              <a:rPr b="0" i="1" lang="en-US" sz="3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:</a:t>
            </a:r>
            <a:r>
              <a:rPr b="0" lang="en-US" sz="3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33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s look outside the firm for people who have not worked at the firm befo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33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s advertise in newspapers, hold open houses, recruit at universities, and on the Intern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33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recruitment is difficult since many new jobs have specific skill nee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336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ulti-prong approach to external recruiting works b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336600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33660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2D49-DF9D-42C0-A90E-B684C3C8916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65040" y="4827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lvl="1" marL="717480" indent="-336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7480" indent="-336600">
              <a:lnSpc>
                <a:spcPct val="90000"/>
              </a:lnSpc>
              <a:spcBef>
                <a:spcPts val="1749"/>
              </a:spcBef>
              <a:buClr>
                <a:srgbClr val="6600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ternal Recruiting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ositions filled within the fi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rnal recruiting has several benefi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86688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ers know the firm’s cult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86688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s likely already know the candid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86688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development can motivate employe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CD20-056B-4A94-88B8-9F8AEC7DBB8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9B4F-B4A0-4E48-AE4A-90F901F3ACC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marL="1376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6b06"/>
                </a:solidFill>
                <a:latin typeface="Verdana"/>
              </a:rPr>
              <a:t>FIGURE 5-1</a:t>
            </a:r>
            <a:r>
              <a:rPr b="1" lang="en-US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99cc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eps in the Recruitment and Selection Process</a:t>
            </a:r>
            <a:endParaRPr b="1" lang="en-US" sz="1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65040" y="731880"/>
            <a:ext cx="6310440" cy="46080"/>
          </a:xfrm>
          <a:prstGeom prst="line">
            <a:avLst/>
          </a:prstGeom>
          <a:ln w="2844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8" descr="05-01"/>
          <p:cNvPicPr/>
          <p:nvPr/>
        </p:nvPicPr>
        <p:blipFill>
          <a:blip r:embed="rId1"/>
          <a:stretch/>
        </p:blipFill>
        <p:spPr>
          <a:xfrm>
            <a:off x="336600" y="1311120"/>
            <a:ext cx="837864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2"/>
          <p:cNvSpPr/>
          <p:nvPr/>
        </p:nvSpPr>
        <p:spPr>
          <a:xfrm>
            <a:off x="152280" y="6545160"/>
            <a:ext cx="331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6C4B-887C-473F-8F55-B2431E87AE8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marL="1376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6b06"/>
                </a:solidFill>
                <a:latin typeface="Verdana"/>
              </a:rPr>
              <a:t>FIGURE 5</a:t>
            </a:r>
            <a:r>
              <a:rPr b="1" lang="en-US" sz="1600" spc="-1" strike="noStrike">
                <a:solidFill>
                  <a:srgbClr val="ed6b06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ed6b06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king Employ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 Strategy to Plans</a:t>
            </a:r>
            <a:endParaRPr b="1" lang="en-US" sz="1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365040" y="685800"/>
            <a:ext cx="5121360" cy="0"/>
          </a:xfrm>
          <a:prstGeom prst="line">
            <a:avLst/>
          </a:prstGeom>
          <a:ln w="2844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7" descr="05-02"/>
          <p:cNvPicPr/>
          <p:nvPr/>
        </p:nvPicPr>
        <p:blipFill>
          <a:blip r:embed="rId1"/>
          <a:stretch/>
        </p:blipFill>
        <p:spPr>
          <a:xfrm>
            <a:off x="336600" y="1127160"/>
            <a:ext cx="81946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02:06:55Z</dcterms:created>
  <dc:creator>Charlie Cook, The University of West Alabama</dc:creator>
  <dc:description/>
  <dc:language>en-US</dc:language>
  <cp:lastModifiedBy>User</cp:lastModifiedBy>
  <dcterms:modified xsi:type="dcterms:W3CDTF">2014-06-21T12:04:19Z</dcterms:modified>
  <cp:revision>417</cp:revision>
  <dc:subject>Chapter 5</dc:subject>
  <dc:title>Human Resource Management 11e.</dc:title>
</cp:coreProperties>
</file>