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6.xml.rels" ContentType="application/vnd.openxmlformats-package.relationships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9.png" ContentType="image/png"/>
  <Override PartName="/ppt/media/image10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</p:sldIdLst>
  <p:sldSz cx="9144000" cy="6858000"/>
  <p:notesSz cx="69342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69336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052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4"/>
          </p:nvPr>
        </p:nvSpPr>
        <p:spPr>
          <a:xfrm>
            <a:off x="3929040" y="0"/>
            <a:ext cx="30052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Img"/>
          </p:nvPr>
        </p:nvSpPr>
        <p:spPr>
          <a:xfrm>
            <a:off x="114624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move the slide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body"/>
          </p:nvPr>
        </p:nvSpPr>
        <p:spPr>
          <a:xfrm>
            <a:off x="923400" y="441000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5"/>
          </p:nvPr>
        </p:nvSpPr>
        <p:spPr>
          <a:xfrm>
            <a:off x="0" y="8820000"/>
            <a:ext cx="30052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6"/>
          </p:nvPr>
        </p:nvSpPr>
        <p:spPr>
          <a:xfrm>
            <a:off x="3929040" y="8820000"/>
            <a:ext cx="30052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41F31C3F-E573-472D-B8F4-D612690E05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62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23400" y="441000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Source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kingabdullahcity.com/en/Downloads/EmploymentApplicationForm.doc, accessed October 12, 201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8208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4748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2992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4748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2992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C204D-437B-4F1B-933B-F03740E8715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0901F-5B4E-432A-B80F-5F6063540F5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23A24-8F42-4FFC-8404-6F399E8A40C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4B32A-579F-4BED-BE01-4A4C38ADA90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B50A0-E5E5-4704-9C10-AECC89031C3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2296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D8939-96D8-4723-86B9-08D3DAAD912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B5597-12DC-49A4-B88E-264D0442452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8208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D425F-A98C-4D0F-9289-597DF66B0E4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734F3-72D4-4D08-BE7C-6FF5C699DB0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E8D51-9B84-426C-9BD3-BBD02021A6B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8208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EE811-E3D4-4559-98CF-333717A95A3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4748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2992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4748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2992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DC8ED-B272-4062-97C4-0FB1432F02A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20E6-F5BB-4930-ACC6-2374A775B3C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DFEA-22D4-4CB6-9376-69046845CA6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BE02-0D35-4EE6-8076-9D6017DF2B8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AF8D-CB2A-4385-A5BB-06545451498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11F7-B15E-4DB4-9631-657D84639A7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2296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B780-E081-46C0-8654-3F6815821D5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BB00-9A97-4B78-8606-335F8ED2D1D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8208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CC9B-06B5-4E59-A9FF-824F4FA6A68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BC09-04D5-447B-8B43-9C4C68A458B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E4CD-6221-4A8F-A05F-A8711ED3A83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8208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91AF-3603-4453-A92C-692E6326009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14748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2992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14748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2992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53AA-0778-44B7-B700-19034CEA922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2296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8208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8208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14748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92992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14748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92992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2296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8208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5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4"/>
          <p:cNvSpPr/>
          <p:nvPr/>
        </p:nvSpPr>
        <p:spPr>
          <a:xfrm>
            <a:off x="0" y="6397560"/>
            <a:ext cx="9145440" cy="46044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" name="Picture 10" descr="Pearson_Bound_White"/>
          <p:cNvPicPr/>
          <p:nvPr/>
        </p:nvPicPr>
        <p:blipFill>
          <a:blip r:embed="rId2"/>
          <a:stretch/>
        </p:blipFill>
        <p:spPr>
          <a:xfrm>
            <a:off x="7488360" y="6356520"/>
            <a:ext cx="1655640" cy="493560"/>
          </a:xfrm>
          <a:prstGeom prst="rect">
            <a:avLst/>
          </a:prstGeom>
          <a:ln w="0">
            <a:noFill/>
          </a:ln>
        </p:spPr>
      </p:pic>
      <p:pic>
        <p:nvPicPr>
          <p:cNvPr id="2" name="Picture 12" descr="Pearson_Strap_Bound_White"/>
          <p:cNvPicPr/>
          <p:nvPr/>
        </p:nvPicPr>
        <p:blipFill>
          <a:blip r:embed="rId3"/>
          <a:stretch/>
        </p:blipFill>
        <p:spPr>
          <a:xfrm>
            <a:off x="0" y="6356520"/>
            <a:ext cx="1908000" cy="493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9" descr="Always_Learning_Text_Orange_RGB"/>
          <p:cNvPicPr/>
          <p:nvPr/>
        </p:nvPicPr>
        <p:blipFill>
          <a:blip r:embed="rId4"/>
          <a:stretch/>
        </p:blipFill>
        <p:spPr>
          <a:xfrm>
            <a:off x="957240" y="2330280"/>
            <a:ext cx="7211880" cy="1738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79280" indent="-17784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169920"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541440" indent="-189000"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11"/>
          <p:cNvSpPr/>
          <p:nvPr/>
        </p:nvSpPr>
        <p:spPr>
          <a:xfrm>
            <a:off x="0" y="6397560"/>
            <a:ext cx="9145440" cy="46044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79280" indent="-17784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169920"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541440" indent="-189000"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1"/>
          </p:nvPr>
        </p:nvSpPr>
        <p:spPr>
          <a:xfrm>
            <a:off x="152280" y="6544800"/>
            <a:ext cx="331920" cy="1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613F8-2058-4950-9DE1-F113626C5389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2" descr="Pearson_Bound_White"/>
          <p:cNvPicPr/>
          <p:nvPr/>
        </p:nvPicPr>
        <p:blipFill>
          <a:blip r:embed="rId2"/>
          <a:stretch/>
        </p:blipFill>
        <p:spPr>
          <a:xfrm>
            <a:off x="7488360" y="6356520"/>
            <a:ext cx="1655640" cy="493560"/>
          </a:xfrm>
          <a:prstGeom prst="rect">
            <a:avLst/>
          </a:prstGeom>
          <a:ln w="0">
            <a:noFill/>
          </a:ln>
        </p:spPr>
      </p:pic>
      <p:sp>
        <p:nvSpPr>
          <p:cNvPr id="47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© Pearson Education 2012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8"/>
          <p:cNvSpPr/>
          <p:nvPr/>
        </p:nvSpPr>
        <p:spPr>
          <a:xfrm>
            <a:off x="0" y="6397560"/>
            <a:ext cx="9145440" cy="46044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79280" indent="-17784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169920"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541440" indent="-189000"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2"/>
          </p:nvPr>
        </p:nvSpPr>
        <p:spPr>
          <a:xfrm>
            <a:off x="380520" y="6544800"/>
            <a:ext cx="4984920" cy="1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Presentation Title runs here  l  00/00/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3"/>
          </p:nvPr>
        </p:nvSpPr>
        <p:spPr>
          <a:xfrm>
            <a:off x="150840" y="6544800"/>
            <a:ext cx="331920" cy="1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F1035-C123-4998-8915-C99E66992E5A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9" descr="Pearson_Bound_White"/>
          <p:cNvPicPr/>
          <p:nvPr/>
        </p:nvPicPr>
        <p:blipFill>
          <a:blip r:embed="rId2"/>
          <a:stretch/>
        </p:blipFill>
        <p:spPr>
          <a:xfrm>
            <a:off x="7488360" y="6356520"/>
            <a:ext cx="1655640" cy="493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5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9"/>
          <p:cNvSpPr/>
          <p:nvPr/>
        </p:nvSpPr>
        <p:spPr>
          <a:xfrm>
            <a:off x="0" y="6397560"/>
            <a:ext cx="9145440" cy="46044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Picture 10" descr="Pearson_Bound_White"/>
          <p:cNvPicPr/>
          <p:nvPr/>
        </p:nvPicPr>
        <p:blipFill>
          <a:blip r:embed="rId2"/>
          <a:stretch/>
        </p:blipFill>
        <p:spPr>
          <a:xfrm>
            <a:off x="7488360" y="6356520"/>
            <a:ext cx="1655640" cy="4935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1" descr="Pearson_Strap_Bound_White"/>
          <p:cNvPicPr/>
          <p:nvPr/>
        </p:nvPicPr>
        <p:blipFill>
          <a:blip r:embed="rId3"/>
          <a:stretch/>
        </p:blipFill>
        <p:spPr>
          <a:xfrm>
            <a:off x="0" y="6356520"/>
            <a:ext cx="1908000" cy="49356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79280" indent="-17784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169920"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541440" indent="-189000"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1.png"/><Relationship Id="rId3" Type="http://schemas.openxmlformats.org/officeDocument/2006/relationships/image" Target="../media/image8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1.png"/><Relationship Id="rId3" Type="http://schemas.openxmlformats.org/officeDocument/2006/relationships/image" Target="../media/image6.pn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lide Number Placeholder 1"/>
          <p:cNvSpPr/>
          <p:nvPr/>
        </p:nvSpPr>
        <p:spPr>
          <a:xfrm>
            <a:off x="152280" y="6545160"/>
            <a:ext cx="331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1E181-90E6-4739-A9C4-1815A35C0A55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520200" y="1863720"/>
            <a:ext cx="7642440" cy="3022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pter 2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sonnel Planning and Recruiting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65040" y="394920"/>
            <a:ext cx="8229600" cy="6397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lIns="0" t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omplexities of Recruiting</a:t>
            </a:r>
            <a:endParaRPr b="1" lang="en-US" sz="32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65040" y="1402920"/>
            <a:ext cx="8229600" cy="466884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355680" indent="-355680"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ruitment efforts should make sense in terms of the company’s strategic plan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55680" indent="-355680"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 recruiting methods are better to others, depending on the type of job recruited for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55680" indent="-355680"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irm’s image affects its recruiting results.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or instanc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the better the image and reputation of a company, the more it will attract candidate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55680" indent="-355680"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152280" y="6545160"/>
            <a:ext cx="331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E5F33-01D6-49F1-B50F-6D693FF45723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Slide Number Placeholder 3"/>
          <p:cNvSpPr/>
          <p:nvPr/>
        </p:nvSpPr>
        <p:spPr>
          <a:xfrm>
            <a:off x="152280" y="6545160"/>
            <a:ext cx="331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7A62B-B22E-40CE-B948-1E3891A8CC3A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65040" y="394920"/>
            <a:ext cx="8229600" cy="8240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lIns="0" t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ective Recruiting</a:t>
            </a:r>
            <a:endParaRPr b="1" lang="en-US" sz="32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65040" y="1402920"/>
            <a:ext cx="8229600" cy="466884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dvantages of Centralizing Recruitment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00000" indent="-368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cilitates applying strategic prioriti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00000" indent="-368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ngthens employment bran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00000" indent="-368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uces duplication of HR activiti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00000" indent="-368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reads the cost of new HR technologi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00000" indent="-368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s teams of HR expert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00000" indent="-368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etter measurement of HR perform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00000" indent="-368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for sharing of applicant pool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00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65040" y="394920"/>
            <a:ext cx="8229600" cy="8240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lIns="0" t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ective Recruiting</a:t>
            </a:r>
            <a:endParaRPr b="1" lang="en-US" sz="32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65040" y="1495080"/>
            <a:ext cx="8229600" cy="45766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ecentralizing Recruitment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General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If the firm’s divisions are independent, or their recruitment needs are varied, it may be more sensible to decentralize the recruitment function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152280" y="6545160"/>
            <a:ext cx="331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5E719-BBE3-48C1-803A-095DF75D3C10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lide Number Placeholder 2"/>
          <p:cNvSpPr/>
          <p:nvPr/>
        </p:nvSpPr>
        <p:spPr>
          <a:xfrm>
            <a:off x="152280" y="6545160"/>
            <a:ext cx="331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99F7F-3C74-4DBF-AA18-5DD5BCC6E7C7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asuring Recruiting Effectiveness</a:t>
            </a:r>
            <a:endParaRPr b="1" lang="en-US" sz="3200" spc="-1" strike="noStrike">
              <a:solidFill>
                <a:srgbClr val="ed6b06"/>
              </a:solidFill>
              <a:latin typeface="Verdana"/>
            </a:endParaRPr>
          </a:p>
        </p:txBody>
      </p:sp>
      <p:grpSp>
        <p:nvGrpSpPr>
          <p:cNvPr id="210" name="Group 9"/>
          <p:cNvGrpSpPr/>
          <p:nvPr/>
        </p:nvGrpSpPr>
        <p:grpSpPr>
          <a:xfrm>
            <a:off x="1073160" y="1679040"/>
            <a:ext cx="7273440" cy="3867480"/>
            <a:chOff x="1073160" y="1679040"/>
            <a:chExt cx="7273440" cy="3867480"/>
          </a:xfrm>
        </p:grpSpPr>
        <p:sp>
          <p:nvSpPr>
            <p:cNvPr id="211" name="Text Box 3"/>
            <p:cNvSpPr/>
            <p:nvPr/>
          </p:nvSpPr>
          <p:spPr>
            <a:xfrm>
              <a:off x="1073160" y="4217760"/>
              <a:ext cx="2691720" cy="13114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What to Measure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2" name="Text Box 5"/>
            <p:cNvSpPr/>
            <p:nvPr/>
          </p:nvSpPr>
          <p:spPr>
            <a:xfrm>
              <a:off x="5654880" y="4235040"/>
              <a:ext cx="2691720" cy="1311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How to Measure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cxnSp>
          <p:nvCxnSpPr>
            <p:cNvPr id="213" name="AutoShape 6"/>
            <p:cNvCxnSpPr>
              <a:stCxn id="214" idx="0"/>
              <a:endCxn id="211" idx="0"/>
            </p:cNvCxnSpPr>
            <p:nvPr/>
          </p:nvCxnSpPr>
          <p:spPr>
            <a:xfrm flipH="1">
              <a:off x="2418120" y="1679040"/>
              <a:ext cx="2265480" cy="2539080"/>
            </a:xfrm>
            <a:prstGeom prst="straightConnector1">
              <a:avLst/>
            </a:prstGeom>
            <a:ln w="38160">
              <a:solidFill>
                <a:srgbClr val="008000"/>
              </a:solidFill>
              <a:miter/>
              <a:tailEnd len="lg" type="stealth" w="lg"/>
            </a:ln>
          </p:spPr>
        </p:cxnSp>
        <p:cxnSp>
          <p:nvCxnSpPr>
            <p:cNvPr id="215" name="AutoShape 7"/>
            <p:cNvCxnSpPr>
              <a:stCxn id="214" idx="0"/>
              <a:endCxn id="212" idx="0"/>
            </p:cNvCxnSpPr>
            <p:nvPr/>
          </p:nvCxnSpPr>
          <p:spPr>
            <a:xfrm>
              <a:off x="4683240" y="1679040"/>
              <a:ext cx="2317320" cy="2556360"/>
            </a:xfrm>
            <a:prstGeom prst="straightConnector1">
              <a:avLst/>
            </a:prstGeom>
            <a:ln w="38160">
              <a:solidFill>
                <a:srgbClr val="008000"/>
              </a:solidFill>
              <a:miter/>
              <a:tailEnd len="lg" type="stealth" w="lg"/>
            </a:ln>
          </p:spPr>
        </p:cxnSp>
        <p:sp>
          <p:nvSpPr>
            <p:cNvPr id="214" name="Oval 4"/>
            <p:cNvSpPr/>
            <p:nvPr/>
          </p:nvSpPr>
          <p:spPr>
            <a:xfrm>
              <a:off x="2278080" y="1679400"/>
              <a:ext cx="4811760" cy="174168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valuating Recruiting Effectiveness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Slide Number Placeholder 4"/>
          <p:cNvSpPr/>
          <p:nvPr/>
        </p:nvSpPr>
        <p:spPr>
          <a:xfrm>
            <a:off x="152280" y="6545160"/>
            <a:ext cx="331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8523E-2553-4EC8-8DB7-A424F9A14FB9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65040" y="394920"/>
            <a:ext cx="8229600" cy="7318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lIns="0" t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nal Candidates: Hiring from Within</a:t>
            </a:r>
            <a:endParaRPr b="1" lang="en-US" sz="32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19120" y="2047680"/>
            <a:ext cx="41148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182880" tIns="137160" anchor="t">
            <a:normAutofit/>
          </a:bodyPr>
          <a:p>
            <a:pPr marL="287280" indent="-2872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eknowledge of candidate’s strengths and weaknes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7280" indent="-2872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accurate view of candidate’s skil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7280" indent="-2872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didates have a stronger commitment to the compan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7280" indent="-2872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raining and orientation requir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7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843440" y="2139840"/>
            <a:ext cx="37130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182880" tIns="137160" anchor="t">
            <a:normAutofit/>
          </a:bodyPr>
          <a:p>
            <a:pPr marL="287280" indent="-2872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iled applicants become dissatisfi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7280" indent="-2872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 wasted interviewing inside candidates who will not be consider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Text Box 5"/>
          <p:cNvSpPr/>
          <p:nvPr/>
        </p:nvSpPr>
        <p:spPr>
          <a:xfrm>
            <a:off x="612720" y="1403280"/>
            <a:ext cx="2468520" cy="631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Text Box 5"/>
          <p:cNvSpPr/>
          <p:nvPr/>
        </p:nvSpPr>
        <p:spPr>
          <a:xfrm>
            <a:off x="5032440" y="1403280"/>
            <a:ext cx="2927160" cy="631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Slide Number Placeholder 2"/>
          <p:cNvSpPr/>
          <p:nvPr/>
        </p:nvSpPr>
        <p:spPr>
          <a:xfrm>
            <a:off x="152280" y="6545160"/>
            <a:ext cx="331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E0B0E-4A5B-475D-BFFF-0822BF2C5655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ding Internal Candidates</a:t>
            </a:r>
            <a:endParaRPr b="1" lang="en-US" sz="3200" spc="-1" strike="noStrike">
              <a:solidFill>
                <a:srgbClr val="ed6b06"/>
              </a:solidFill>
              <a:latin typeface="Verdana"/>
            </a:endParaRPr>
          </a:p>
        </p:txBody>
      </p:sp>
      <p:grpSp>
        <p:nvGrpSpPr>
          <p:cNvPr id="224" name="Group 3"/>
          <p:cNvGrpSpPr/>
          <p:nvPr/>
        </p:nvGrpSpPr>
        <p:grpSpPr>
          <a:xfrm>
            <a:off x="1073160" y="1495440"/>
            <a:ext cx="7089120" cy="4511160"/>
            <a:chOff x="1073160" y="1495440"/>
            <a:chExt cx="7089120" cy="4511160"/>
          </a:xfrm>
        </p:grpSpPr>
        <p:sp>
          <p:nvSpPr>
            <p:cNvPr id="225" name="_s1028"/>
            <p:cNvSpPr/>
            <p:nvPr/>
          </p:nvSpPr>
          <p:spPr>
            <a:xfrm flipV="1">
              <a:off x="5437440" y="2508120"/>
              <a:ext cx="1038240" cy="84708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6" name="_s1028"/>
            <p:cNvSpPr/>
            <p:nvPr/>
          </p:nvSpPr>
          <p:spPr>
            <a:xfrm flipH="1" flipV="1">
              <a:off x="2761560" y="2510640"/>
              <a:ext cx="1032480" cy="84420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7" name="_s1032"/>
            <p:cNvSpPr/>
            <p:nvPr/>
          </p:nvSpPr>
          <p:spPr>
            <a:xfrm>
              <a:off x="4604760" y="4119480"/>
              <a:ext cx="0" cy="67068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8" name="Text Box 7"/>
            <p:cNvSpPr/>
            <p:nvPr/>
          </p:nvSpPr>
          <p:spPr>
            <a:xfrm>
              <a:off x="3184200" y="3164760"/>
              <a:ext cx="2833920" cy="104220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Hiring from Within</a:t>
              </a:r>
              <a:endParaRPr b="0" lang="en-US" sz="2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9" name="Text Box 8"/>
            <p:cNvSpPr/>
            <p:nvPr/>
          </p:nvSpPr>
          <p:spPr>
            <a:xfrm>
              <a:off x="1073160" y="1495440"/>
              <a:ext cx="2833200" cy="10404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Job Posting</a:t>
              </a:r>
              <a:endParaRPr b="0" lang="en-US" sz="2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0" name="Text Box 9"/>
            <p:cNvSpPr/>
            <p:nvPr/>
          </p:nvSpPr>
          <p:spPr>
            <a:xfrm>
              <a:off x="3184200" y="4812840"/>
              <a:ext cx="2833920" cy="11937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uccession Planning (HRIS)</a:t>
              </a:r>
              <a:endParaRPr b="0" lang="en-US" sz="2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1" name="Text Box 10"/>
            <p:cNvSpPr/>
            <p:nvPr/>
          </p:nvSpPr>
          <p:spPr>
            <a:xfrm>
              <a:off x="5329080" y="1496520"/>
              <a:ext cx="2833200" cy="104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Rehiring Former Employees</a:t>
              </a:r>
              <a:endParaRPr b="0" lang="en-US" sz="2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Slide Number Placeholder 2"/>
          <p:cNvSpPr/>
          <p:nvPr/>
        </p:nvSpPr>
        <p:spPr>
          <a:xfrm>
            <a:off x="152280" y="6545160"/>
            <a:ext cx="331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167DE-5D63-455A-B670-6CD2B17AFE92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Outside Sources of Candidates</a:t>
            </a:r>
            <a:endParaRPr b="1" lang="en-US" sz="2800" spc="-1" strike="noStrike">
              <a:solidFill>
                <a:srgbClr val="ed6b06"/>
              </a:solidFill>
              <a:latin typeface="Verdana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1092240" y="1549440"/>
            <a:ext cx="782280" cy="1044000"/>
            <a:chOff x="1092240" y="1549440"/>
            <a:chExt cx="782280" cy="1044000"/>
          </a:xfrm>
        </p:grpSpPr>
        <p:sp>
          <p:nvSpPr>
            <p:cNvPr id="235" name="Freeform 4"/>
            <p:cNvSpPr/>
            <p:nvPr/>
          </p:nvSpPr>
          <p:spPr>
            <a:xfrm>
              <a:off x="1092240" y="1549440"/>
              <a:ext cx="782280" cy="909360"/>
            </a:xfrm>
            <a:prstGeom prst="pie">
              <a:avLst/>
            </a:prstGeom>
            <a:noFill/>
            <a:ln w="57240">
              <a:solidFill>
                <a:srgbClr val="006699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6" name="Oval 5"/>
            <p:cNvSpPr/>
            <p:nvPr/>
          </p:nvSpPr>
          <p:spPr>
            <a:xfrm>
              <a:off x="1204920" y="2320560"/>
              <a:ext cx="333720" cy="27288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37" name="Group 6"/>
          <p:cNvGrpSpPr/>
          <p:nvPr/>
        </p:nvGrpSpPr>
        <p:grpSpPr>
          <a:xfrm>
            <a:off x="1092240" y="2241720"/>
            <a:ext cx="782280" cy="1044360"/>
            <a:chOff x="1092240" y="2241720"/>
            <a:chExt cx="782280" cy="1044360"/>
          </a:xfrm>
        </p:grpSpPr>
        <p:sp>
          <p:nvSpPr>
            <p:cNvPr id="238" name="Freeform 7"/>
            <p:cNvSpPr/>
            <p:nvPr/>
          </p:nvSpPr>
          <p:spPr>
            <a:xfrm>
              <a:off x="1092240" y="2241720"/>
              <a:ext cx="782280" cy="909720"/>
            </a:xfrm>
            <a:prstGeom prst="pie">
              <a:avLst/>
            </a:prstGeom>
            <a:noFill/>
            <a:ln w="57240">
              <a:solidFill>
                <a:srgbClr val="006699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9" name="Oval 8"/>
            <p:cNvSpPr/>
            <p:nvPr/>
          </p:nvSpPr>
          <p:spPr>
            <a:xfrm>
              <a:off x="1204920" y="3013200"/>
              <a:ext cx="333720" cy="27288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40" name="Group 9"/>
          <p:cNvGrpSpPr/>
          <p:nvPr/>
        </p:nvGrpSpPr>
        <p:grpSpPr>
          <a:xfrm>
            <a:off x="1092240" y="2190600"/>
            <a:ext cx="782280" cy="1725480"/>
            <a:chOff x="1092240" y="2190600"/>
            <a:chExt cx="782280" cy="1725480"/>
          </a:xfrm>
        </p:grpSpPr>
        <p:sp>
          <p:nvSpPr>
            <p:cNvPr id="241" name="Freeform 10"/>
            <p:cNvSpPr/>
            <p:nvPr/>
          </p:nvSpPr>
          <p:spPr>
            <a:xfrm>
              <a:off x="1092240" y="2190600"/>
              <a:ext cx="782280" cy="1584000"/>
            </a:xfrm>
            <a:prstGeom prst="pie">
              <a:avLst/>
            </a:prstGeom>
            <a:noFill/>
            <a:ln w="57240">
              <a:solidFill>
                <a:srgbClr val="006699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2" name="Oval 11"/>
            <p:cNvSpPr/>
            <p:nvPr/>
          </p:nvSpPr>
          <p:spPr>
            <a:xfrm>
              <a:off x="1204920" y="3629880"/>
              <a:ext cx="333720" cy="2862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43" name="Freeform 13"/>
          <p:cNvSpPr/>
          <p:nvPr/>
        </p:nvSpPr>
        <p:spPr>
          <a:xfrm>
            <a:off x="1087560" y="2833560"/>
            <a:ext cx="782640" cy="1584360"/>
          </a:xfrm>
          <a:prstGeom prst="pie">
            <a:avLst/>
          </a:prstGeom>
          <a:noFill/>
          <a:ln w="57240">
            <a:solidFill>
              <a:srgbClr val="0066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Rectangle 18"/>
          <p:cNvSpPr/>
          <p:nvPr/>
        </p:nvSpPr>
        <p:spPr>
          <a:xfrm>
            <a:off x="1790640" y="2921040"/>
            <a:ext cx="30085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vertis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Rectangle 19"/>
          <p:cNvSpPr/>
          <p:nvPr/>
        </p:nvSpPr>
        <p:spPr>
          <a:xfrm>
            <a:off x="1790640" y="2273400"/>
            <a:ext cx="300852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ruiting via the Internet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Rectangle 20"/>
          <p:cNvSpPr/>
          <p:nvPr/>
        </p:nvSpPr>
        <p:spPr>
          <a:xfrm>
            <a:off x="1790640" y="3562200"/>
            <a:ext cx="300852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ployment Agenc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47" name="Group 23"/>
          <p:cNvGrpSpPr/>
          <p:nvPr/>
        </p:nvGrpSpPr>
        <p:grpSpPr>
          <a:xfrm>
            <a:off x="5046840" y="1549440"/>
            <a:ext cx="690120" cy="1044000"/>
            <a:chOff x="5046840" y="1549440"/>
            <a:chExt cx="690120" cy="1044000"/>
          </a:xfrm>
        </p:grpSpPr>
        <p:sp>
          <p:nvSpPr>
            <p:cNvPr id="248" name="Freeform 24"/>
            <p:cNvSpPr/>
            <p:nvPr/>
          </p:nvSpPr>
          <p:spPr>
            <a:xfrm>
              <a:off x="5046840" y="1549440"/>
              <a:ext cx="690120" cy="909360"/>
            </a:xfrm>
            <a:prstGeom prst="pie">
              <a:avLst/>
            </a:prstGeom>
            <a:noFill/>
            <a:ln w="57240">
              <a:solidFill>
                <a:srgbClr val="006699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9" name="Oval 25"/>
            <p:cNvSpPr/>
            <p:nvPr/>
          </p:nvSpPr>
          <p:spPr>
            <a:xfrm>
              <a:off x="5146200" y="2320560"/>
              <a:ext cx="294480" cy="27288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50" name="Group 26"/>
          <p:cNvGrpSpPr/>
          <p:nvPr/>
        </p:nvGrpSpPr>
        <p:grpSpPr>
          <a:xfrm>
            <a:off x="5046840" y="2241720"/>
            <a:ext cx="690120" cy="1044360"/>
            <a:chOff x="5046840" y="2241720"/>
            <a:chExt cx="690120" cy="1044360"/>
          </a:xfrm>
        </p:grpSpPr>
        <p:sp>
          <p:nvSpPr>
            <p:cNvPr id="251" name="Freeform 27"/>
            <p:cNvSpPr/>
            <p:nvPr/>
          </p:nvSpPr>
          <p:spPr>
            <a:xfrm>
              <a:off x="5046840" y="2241720"/>
              <a:ext cx="690120" cy="909720"/>
            </a:xfrm>
            <a:prstGeom prst="pie">
              <a:avLst/>
            </a:prstGeom>
            <a:noFill/>
            <a:ln w="57240">
              <a:solidFill>
                <a:srgbClr val="006699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2" name="Oval 28"/>
            <p:cNvSpPr/>
            <p:nvPr/>
          </p:nvSpPr>
          <p:spPr>
            <a:xfrm>
              <a:off x="5146200" y="3013200"/>
              <a:ext cx="294480" cy="27288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53" name="Group 29"/>
          <p:cNvGrpSpPr/>
          <p:nvPr/>
        </p:nvGrpSpPr>
        <p:grpSpPr>
          <a:xfrm>
            <a:off x="5046840" y="2190600"/>
            <a:ext cx="690120" cy="1725480"/>
            <a:chOff x="5046840" y="2190600"/>
            <a:chExt cx="690120" cy="1725480"/>
          </a:xfrm>
        </p:grpSpPr>
        <p:sp>
          <p:nvSpPr>
            <p:cNvPr id="254" name="Freeform 30"/>
            <p:cNvSpPr/>
            <p:nvPr/>
          </p:nvSpPr>
          <p:spPr>
            <a:xfrm>
              <a:off x="5046840" y="2190600"/>
              <a:ext cx="690120" cy="1584000"/>
            </a:xfrm>
            <a:prstGeom prst="pie">
              <a:avLst/>
            </a:prstGeom>
            <a:noFill/>
            <a:ln w="57240">
              <a:solidFill>
                <a:srgbClr val="006699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5" name="Oval 31"/>
            <p:cNvSpPr/>
            <p:nvPr/>
          </p:nvSpPr>
          <p:spPr>
            <a:xfrm>
              <a:off x="5146200" y="3629880"/>
              <a:ext cx="294480" cy="2862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56" name="Group 32"/>
          <p:cNvGrpSpPr/>
          <p:nvPr/>
        </p:nvGrpSpPr>
        <p:grpSpPr>
          <a:xfrm>
            <a:off x="5041800" y="2833560"/>
            <a:ext cx="690480" cy="1725480"/>
            <a:chOff x="5041800" y="2833560"/>
            <a:chExt cx="690480" cy="1725480"/>
          </a:xfrm>
        </p:grpSpPr>
        <p:sp>
          <p:nvSpPr>
            <p:cNvPr id="257" name="Freeform 33"/>
            <p:cNvSpPr/>
            <p:nvPr/>
          </p:nvSpPr>
          <p:spPr>
            <a:xfrm>
              <a:off x="5041800" y="2833560"/>
              <a:ext cx="690480" cy="1584000"/>
            </a:xfrm>
            <a:prstGeom prst="pie">
              <a:avLst/>
            </a:prstGeom>
            <a:noFill/>
            <a:ln w="57240">
              <a:solidFill>
                <a:srgbClr val="006699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8" name="Oval 34"/>
            <p:cNvSpPr/>
            <p:nvPr/>
          </p:nvSpPr>
          <p:spPr>
            <a:xfrm>
              <a:off x="5141160" y="4272840"/>
              <a:ext cx="294480" cy="2862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59" name="Rectangle 38"/>
          <p:cNvSpPr/>
          <p:nvPr/>
        </p:nvSpPr>
        <p:spPr>
          <a:xfrm>
            <a:off x="5678640" y="2921040"/>
            <a:ext cx="30081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Demand Recruiting Services (ODR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Rectangle 39"/>
          <p:cNvSpPr/>
          <p:nvPr/>
        </p:nvSpPr>
        <p:spPr>
          <a:xfrm>
            <a:off x="5678640" y="2273400"/>
            <a:ext cx="300816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ve Recruit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Rectangle 40"/>
          <p:cNvSpPr/>
          <p:nvPr/>
        </p:nvSpPr>
        <p:spPr>
          <a:xfrm>
            <a:off x="5678640" y="3562200"/>
            <a:ext cx="30081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lege Recruit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Rectangle 41"/>
          <p:cNvSpPr/>
          <p:nvPr/>
        </p:nvSpPr>
        <p:spPr>
          <a:xfrm>
            <a:off x="5673600" y="4202280"/>
            <a:ext cx="30085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lk-I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AutoShape 43"/>
          <p:cNvSpPr/>
          <p:nvPr/>
        </p:nvSpPr>
        <p:spPr>
          <a:xfrm>
            <a:off x="731880" y="1417680"/>
            <a:ext cx="4846680" cy="498600"/>
          </a:xfrm>
          <a:prstGeom prst="roundRect">
            <a:avLst>
              <a:gd name="adj" fmla="val 16667"/>
            </a:avLst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cating Outside Candidat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lide Number Placeholder 3"/>
          <p:cNvSpPr/>
          <p:nvPr/>
        </p:nvSpPr>
        <p:spPr>
          <a:xfrm>
            <a:off x="152280" y="6545160"/>
            <a:ext cx="331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DC9A5-A09B-4BFC-AED7-BB36D37C8C76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65040" y="394920"/>
            <a:ext cx="8229600" cy="7318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lIns="0" tIns="0" anchor="t">
            <a:noAutofit/>
          </a:bodyPr>
          <a:p>
            <a:pPr marL="45720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- Recruiting via the Internet </a:t>
            </a:r>
            <a:endParaRPr b="1" lang="en-US" sz="32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65040" y="1403280"/>
            <a:ext cx="8229600" cy="47880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457200" indent="-4572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ruiting via the Internet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900000" indent="-368280">
              <a:lnSpc>
                <a:spcPct val="90000"/>
              </a:lnSpc>
              <a:spcBef>
                <a:spcPts val="1125"/>
              </a:spcBef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Advantages: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255680" indent="-355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80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t-effective way to publicize job opening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255680" indent="-355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80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applicants are attracted over a longer perio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255680" indent="-355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80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mediate applicant respons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255680" indent="-355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80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ine pre-screening of applican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255680" indent="-355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80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ks to other job search sit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255680" indent="-355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80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uterization of applicant tracking and evaluat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255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65040" y="482760"/>
            <a:ext cx="8229600" cy="7365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lIns="0" t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- Recruiting via the Internet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cont) </a:t>
            </a:r>
            <a:br>
              <a:rPr sz="3200"/>
            </a:br>
            <a:endParaRPr b="1" lang="en-US" sz="32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365040" y="1587240"/>
            <a:ext cx="8229600" cy="37717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lvl="2" marL="900000" indent="-368280">
              <a:lnSpc>
                <a:spcPct val="90000"/>
              </a:lnSpc>
              <a:spcBef>
                <a:spcPts val="1125"/>
              </a:spcBef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Disadvantages: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255680" indent="-3556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reme number of unqualified applicant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255680" indent="-3556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sonal information privacy concerns of applicant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152280" y="6545160"/>
            <a:ext cx="331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5A8CC-8BFF-4840-944E-F5191BDA8C55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Slide Number Placeholder 3"/>
          <p:cNvSpPr/>
          <p:nvPr/>
        </p:nvSpPr>
        <p:spPr>
          <a:xfrm>
            <a:off x="152280" y="6545160"/>
            <a:ext cx="331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92F29-E1B9-4025-A666-412425C83195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65040" y="394920"/>
            <a:ext cx="8229600" cy="8240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lIns="0" t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 Advertising for Outside Candidates</a:t>
            </a:r>
            <a:endParaRPr b="1" lang="en-US" sz="30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65040" y="1402920"/>
            <a:ext cx="8229600" cy="466884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225"/>
              </a:spcBef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 Media Choice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00000" indent="-368280">
              <a:lnSpc>
                <a:spcPct val="100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ion of the best media depends on the positions for which the firm is recruiting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255680" indent="-355680">
              <a:lnSpc>
                <a:spcPct val="100000"/>
              </a:lnSpc>
              <a:spcBef>
                <a:spcPts val="1225"/>
              </a:spcBef>
              <a:buClr>
                <a:srgbClr val="000000"/>
              </a:buClr>
              <a:buSzPct val="80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paper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ocal and specific labor market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255680" indent="-355680">
              <a:lnSpc>
                <a:spcPct val="100000"/>
              </a:lnSpc>
              <a:spcBef>
                <a:spcPts val="1225"/>
              </a:spcBef>
              <a:buClr>
                <a:srgbClr val="000000"/>
              </a:buClr>
              <a:buSzPct val="80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fessional journals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alized employe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255680" indent="-355680">
              <a:lnSpc>
                <a:spcPct val="100000"/>
              </a:lnSpc>
              <a:spcBef>
                <a:spcPts val="1225"/>
              </a:spcBef>
              <a:buClr>
                <a:srgbClr val="000000"/>
              </a:buClr>
              <a:buSzPct val="80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net job sites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labor market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255680" indent="0">
              <a:lnSpc>
                <a:spcPct val="100000"/>
              </a:lnSpc>
              <a:spcBef>
                <a:spcPts val="12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3"/>
          <p:cNvSpPr/>
          <p:nvPr/>
        </p:nvSpPr>
        <p:spPr>
          <a:xfrm>
            <a:off x="152280" y="6545160"/>
            <a:ext cx="331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6AFF4-BA0E-40AD-9AAF-2C8A1F7B0B3C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63240" y="1218960"/>
            <a:ext cx="8443800" cy="50641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355680" indent="-35568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lain the main techniques used in employment planning and forecasting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55680" indent="-35568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ectively recruit job candidate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55680" indent="-35568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and describe the main internal sources of candidate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55680" indent="-35568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lain how to recruit a more diverse workforc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title"/>
          </p:nvPr>
        </p:nvSpPr>
        <p:spPr>
          <a:xfrm>
            <a:off x="365040" y="39492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ter studying this chapter, you should be able to:</a:t>
            </a:r>
            <a:br>
              <a:rPr sz="3000"/>
            </a:br>
            <a:endParaRPr b="1" lang="en-US" sz="3000" spc="-1" strike="noStrike">
              <a:solidFill>
                <a:srgbClr val="ed6b06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Slide Number Placeholder 2"/>
          <p:cNvSpPr/>
          <p:nvPr/>
        </p:nvSpPr>
        <p:spPr>
          <a:xfrm>
            <a:off x="152280" y="6545160"/>
            <a:ext cx="331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36D0C-7728-4B29-B31D-FABCCF8147F1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36600" y="482760"/>
            <a:ext cx="8229600" cy="7315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lIns="0" t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-Employment Agencies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grpSp>
        <p:nvGrpSpPr>
          <p:cNvPr id="275" name="Group 3"/>
          <p:cNvGrpSpPr/>
          <p:nvPr/>
        </p:nvGrpSpPr>
        <p:grpSpPr>
          <a:xfrm>
            <a:off x="981000" y="1587600"/>
            <a:ext cx="7457760" cy="3774240"/>
            <a:chOff x="981000" y="1587600"/>
            <a:chExt cx="7457760" cy="3774240"/>
          </a:xfrm>
        </p:grpSpPr>
        <p:sp>
          <p:nvSpPr>
            <p:cNvPr id="276" name="Text Box 4"/>
            <p:cNvSpPr/>
            <p:nvPr/>
          </p:nvSpPr>
          <p:spPr>
            <a:xfrm>
              <a:off x="981000" y="4104000"/>
              <a:ext cx="2174760" cy="1257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ivate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gencies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7" name="Text Box 5"/>
            <p:cNvSpPr/>
            <p:nvPr/>
          </p:nvSpPr>
          <p:spPr>
            <a:xfrm>
              <a:off x="6264000" y="4104000"/>
              <a:ext cx="2174760" cy="1257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xecutive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cruiters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8" name="Oval 6"/>
            <p:cNvSpPr/>
            <p:nvPr/>
          </p:nvSpPr>
          <p:spPr>
            <a:xfrm>
              <a:off x="2638080" y="1587600"/>
              <a:ext cx="4050720" cy="141732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ypes of Employment Agencies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" name="Text Box 7"/>
            <p:cNvSpPr/>
            <p:nvPr/>
          </p:nvSpPr>
          <p:spPr>
            <a:xfrm>
              <a:off x="3611160" y="4104000"/>
              <a:ext cx="2174760" cy="1257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emporary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gencies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cxnSp>
          <p:nvCxnSpPr>
            <p:cNvPr id="280" name="AutoShape 8"/>
            <p:cNvCxnSpPr>
              <a:stCxn id="278" idx="4"/>
              <a:endCxn id="276" idx="0"/>
            </p:cNvCxnSpPr>
            <p:nvPr/>
          </p:nvCxnSpPr>
          <p:spPr>
            <a:xfrm rot="5400000">
              <a:off x="2816640" y="2256840"/>
              <a:ext cx="1099800" cy="259560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</p:cxnSp>
        <p:cxnSp>
          <p:nvCxnSpPr>
            <p:cNvPr id="281" name="AutoShape 9"/>
            <p:cNvCxnSpPr>
              <a:stCxn id="278" idx="4"/>
              <a:endCxn id="277" idx="0"/>
            </p:cNvCxnSpPr>
            <p:nvPr/>
          </p:nvCxnSpPr>
          <p:spPr>
            <a:xfrm flipH="1" rot="16200000">
              <a:off x="5457600" y="2210040"/>
              <a:ext cx="1099800" cy="268884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</p:cxnSp>
        <p:cxnSp>
          <p:nvCxnSpPr>
            <p:cNvPr id="282" name="AutoShape 10"/>
            <p:cNvCxnSpPr>
              <a:stCxn id="278" idx="4"/>
              <a:endCxn id="279" idx="0"/>
            </p:cNvCxnSpPr>
            <p:nvPr/>
          </p:nvCxnSpPr>
          <p:spPr>
            <a:xfrm>
              <a:off x="4664160" y="3004560"/>
              <a:ext cx="36000" cy="1099800"/>
            </a:xfrm>
            <a:prstGeom prst="straightConnector1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</p:cxn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36600" y="390600"/>
            <a:ext cx="8229600" cy="7365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lIns="0" t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- Employment Agencies</a:t>
            </a:r>
            <a:br>
              <a:rPr sz="3000"/>
            </a:br>
            <a:endParaRPr b="1" lang="en-US" sz="30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65040" y="1402920"/>
            <a:ext cx="8229600" cy="466884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Use a Private Employment Agency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00000" indent="-368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HR department: firm lacks recruiting and screening capabiliti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00000" indent="-368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attract a pool of qualified applicant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00000" indent="-368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a particular opening quickly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00000" indent="-368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attract a greater number of applicant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00000" indent="-368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reach currently employed individuals who are more comfortable dealing with agen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152280" y="6545160"/>
            <a:ext cx="331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561BC-CDCD-470C-BF65-CE91DA2C89A4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Slide Number Placeholder 3"/>
          <p:cNvSpPr/>
          <p:nvPr/>
        </p:nvSpPr>
        <p:spPr>
          <a:xfrm>
            <a:off x="152280" y="6545160"/>
            <a:ext cx="331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5E4E4-3E56-47CA-8737-D83C2F274CC3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28760" y="390600"/>
            <a:ext cx="8229600" cy="7365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lIns="0" t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- Employment Agencies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cont)</a:t>
            </a:r>
            <a:endParaRPr b="1" lang="en-US" sz="28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65040" y="1310760"/>
            <a:ext cx="8229600" cy="50641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ing Problems with Employment Agencies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895320" indent="-36360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 the agency with accurate and complete job description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895320" indent="-36360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sure tests, application blanks, and interviews are part of the agency’s selection proces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895320" indent="-36360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een agency for effectiveness in filling positions – check with other managers or HR for the most effective agenci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Slide Number Placeholder 4"/>
          <p:cNvSpPr/>
          <p:nvPr/>
        </p:nvSpPr>
        <p:spPr>
          <a:xfrm>
            <a:off x="152280" y="6545160"/>
            <a:ext cx="331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6F728-C1D2-47CA-AB84-4409E9E1720D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/>
          </p:nvPr>
        </p:nvSpPr>
        <p:spPr>
          <a:xfrm>
            <a:off x="364680" y="1495440"/>
            <a:ext cx="8139240" cy="47880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343080" indent="0">
              <a:lnSpc>
                <a:spcPct val="100000"/>
              </a:lnSpc>
              <a:spcBef>
                <a:spcPts val="11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-On-Demand Recruiting Services (ODRS):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0000" indent="-368280">
              <a:lnSpc>
                <a:spcPct val="100000"/>
              </a:lnSpc>
              <a:spcBef>
                <a:spcPts val="1137"/>
              </a:spcBef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hort-term specialized recruiting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3" marL="1255680" indent="-3556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SzPct val="80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id by the hour/projec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3" marL="1255680" indent="-3556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SzPct val="80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ndles recruiting, analysis, and pre-screening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1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- College Recruit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0000" indent="-368280">
              <a:lnSpc>
                <a:spcPct val="100000"/>
              </a:lnSpc>
              <a:spcBef>
                <a:spcPts val="1137"/>
              </a:spcBef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n-campus recruiting goal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3" marL="1255680" indent="-3556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SzPct val="80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determine if the candidate is worthy of further consideratio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3" marL="1255680" indent="-3556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SzPct val="80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attract good candidat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title"/>
          </p:nvPr>
        </p:nvSpPr>
        <p:spPr>
          <a:xfrm>
            <a:off x="365040" y="394920"/>
            <a:ext cx="8229600" cy="8240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lIns="0" t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side Sources of Candidates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cont)</a:t>
            </a:r>
            <a:endParaRPr b="1" lang="en-US" sz="3200" spc="-1" strike="noStrike">
              <a:solidFill>
                <a:srgbClr val="ed6b06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Slide Number Placeholder 3"/>
          <p:cNvSpPr/>
          <p:nvPr/>
        </p:nvSpPr>
        <p:spPr>
          <a:xfrm>
            <a:off x="152280" y="6545160"/>
            <a:ext cx="331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D666C-BE1E-4FF6-B7D3-72CD341E8FA4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lvl="2" marL="3510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- Walk-ins: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16992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k employment through a personal, direct approach to the employer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Outside Sources of Candidates (cont)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95" name="Rectangle 4"/>
          <p:cNvSpPr/>
          <p:nvPr/>
        </p:nvSpPr>
        <p:spPr>
          <a:xfrm>
            <a:off x="365040" y="395280"/>
            <a:ext cx="8229600" cy="8240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side Sources of Candidates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cont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Slide Number Placeholder 2"/>
          <p:cNvSpPr/>
          <p:nvPr/>
        </p:nvSpPr>
        <p:spPr>
          <a:xfrm>
            <a:off x="152280" y="6545160"/>
            <a:ext cx="331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BDC82-7623-4266-85DF-749A6E668070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Developing and Using Application Forms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98" name="Text Box 4"/>
          <p:cNvSpPr/>
          <p:nvPr/>
        </p:nvSpPr>
        <p:spPr>
          <a:xfrm>
            <a:off x="612720" y="3611520"/>
            <a:ext cx="1841400" cy="10969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nt’s education and experienc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Text Box 5"/>
          <p:cNvSpPr/>
          <p:nvPr/>
        </p:nvSpPr>
        <p:spPr>
          <a:xfrm>
            <a:off x="6781680" y="3611520"/>
            <a:ext cx="1933560" cy="10969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nt’s probability of succes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Text Box 6"/>
          <p:cNvSpPr/>
          <p:nvPr/>
        </p:nvSpPr>
        <p:spPr>
          <a:xfrm>
            <a:off x="2638440" y="3611520"/>
            <a:ext cx="1947960" cy="109692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nt’s progress and growth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Oval 7"/>
          <p:cNvSpPr/>
          <p:nvPr/>
        </p:nvSpPr>
        <p:spPr>
          <a:xfrm>
            <a:off x="2925720" y="1600200"/>
            <a:ext cx="3273480" cy="105264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of Application Inform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Text Box 8"/>
          <p:cNvSpPr/>
          <p:nvPr/>
        </p:nvSpPr>
        <p:spPr>
          <a:xfrm>
            <a:off x="4756320" y="3611520"/>
            <a:ext cx="1841400" cy="109692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nt’s employment stabilit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303" name="AutoShape 9"/>
          <p:cNvCxnSpPr>
            <a:stCxn id="301" idx="4"/>
            <a:endCxn id="298" idx="0"/>
          </p:cNvCxnSpPr>
          <p:nvPr/>
        </p:nvCxnSpPr>
        <p:spPr>
          <a:xfrm rot="5400000">
            <a:off x="2568240" y="1617480"/>
            <a:ext cx="959400" cy="3029760"/>
          </a:xfrm>
          <a:prstGeom prst="bentConnector3">
            <a:avLst>
              <a:gd name="adj1" fmla="val 5000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304" name="AutoShape 10"/>
          <p:cNvCxnSpPr>
            <a:stCxn id="301" idx="4"/>
            <a:endCxn id="300" idx="0"/>
          </p:cNvCxnSpPr>
          <p:nvPr/>
        </p:nvCxnSpPr>
        <p:spPr>
          <a:xfrm rot="5400000">
            <a:off x="3607200" y="2656440"/>
            <a:ext cx="959400" cy="951840"/>
          </a:xfrm>
          <a:prstGeom prst="bentConnector3">
            <a:avLst>
              <a:gd name="adj1" fmla="val 5000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305" name="AutoShape 11"/>
          <p:cNvCxnSpPr>
            <a:stCxn id="301" idx="4"/>
            <a:endCxn id="299" idx="0"/>
          </p:cNvCxnSpPr>
          <p:nvPr/>
        </p:nvCxnSpPr>
        <p:spPr>
          <a:xfrm flipH="1" rot="16200000">
            <a:off x="5676120" y="1538640"/>
            <a:ext cx="959400" cy="3186720"/>
          </a:xfrm>
          <a:prstGeom prst="bentConnector3">
            <a:avLst>
              <a:gd name="adj1" fmla="val 5000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306" name="AutoShape 12"/>
          <p:cNvCxnSpPr>
            <a:stCxn id="301" idx="4"/>
            <a:endCxn id="302" idx="0"/>
          </p:cNvCxnSpPr>
          <p:nvPr/>
        </p:nvCxnSpPr>
        <p:spPr>
          <a:xfrm flipH="1" rot="16200000">
            <a:off x="4639320" y="2574720"/>
            <a:ext cx="959400" cy="1114920"/>
          </a:xfrm>
          <a:prstGeom prst="bentConnector3">
            <a:avLst>
              <a:gd name="adj1" fmla="val 5000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Slide Number Placeholder 2"/>
          <p:cNvSpPr/>
          <p:nvPr/>
        </p:nvSpPr>
        <p:spPr>
          <a:xfrm>
            <a:off x="152280" y="6545160"/>
            <a:ext cx="331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7F1FD-1B19-4C48-BC14-5B0A8EE13C24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65040" y="394920"/>
            <a:ext cx="8229600" cy="5223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d6b06"/>
                </a:solidFill>
                <a:latin typeface="Verdana"/>
              </a:rPr>
              <a:t>FIGURE 5-9</a:t>
            </a:r>
            <a:r>
              <a:rPr b="1" lang="en-US" sz="1600" spc="-1" strike="noStrike">
                <a:solidFill>
                  <a:srgbClr val="0099cc"/>
                </a:solidFill>
                <a:latin typeface="Verdana"/>
              </a:rPr>
              <a:t>	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mploymen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plication</a:t>
            </a:r>
            <a:endParaRPr b="1" lang="en-US" sz="16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09" name="Line 3"/>
          <p:cNvSpPr/>
          <p:nvPr/>
        </p:nvSpPr>
        <p:spPr>
          <a:xfrm>
            <a:off x="365040" y="1235160"/>
            <a:ext cx="1281240" cy="0"/>
          </a:xfrm>
          <a:prstGeom prst="line">
            <a:avLst/>
          </a:prstGeom>
          <a:ln w="28440">
            <a:solidFill>
              <a:srgbClr val="ed6b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0" name="Picture 7" descr="5-9 1"/>
          <p:cNvPicPr/>
          <p:nvPr/>
        </p:nvPicPr>
        <p:blipFill>
          <a:blip r:embed="rId1"/>
          <a:stretch/>
        </p:blipFill>
        <p:spPr>
          <a:xfrm>
            <a:off x="3108240" y="0"/>
            <a:ext cx="6035760" cy="635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65040" y="394920"/>
            <a:ext cx="8229600" cy="8240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lIns="0" t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man Resource Information System (HRIS)</a:t>
            </a:r>
            <a:endParaRPr b="1" lang="en-US" sz="28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244440" y="1495080"/>
            <a:ext cx="8562960" cy="48798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RI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software or online solution for the data management needed by the HR departmen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ch data includes information about employee skills and qualifications, and their personal updat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RI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lso includes company-related documents such as safety guidelines, and other financial informa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Slide Number Placeholder 3"/>
          <p:cNvSpPr/>
          <p:nvPr/>
        </p:nvSpPr>
        <p:spPr>
          <a:xfrm>
            <a:off x="152280" y="6545160"/>
            <a:ext cx="331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41061-4458-4E06-B8A1-C1B6C3607690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useful in facilitating the succession planning which helps companies to understand their available talent and identify who is available for transition into other positions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combined with career development, succession planning allows companies to build a talent pool and employees to stay committed to their career and employe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152280" y="6545160"/>
            <a:ext cx="331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3B1F0-4E0B-4744-9F54-B5E3CD5B6D1B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lIns="0" t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man Resource Information System (HRIS)</a:t>
            </a:r>
            <a:endParaRPr b="1" lang="en-US" sz="2800" spc="-1" strike="noStrike">
              <a:solidFill>
                <a:srgbClr val="ed6b0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Slide Number Placeholder 4"/>
          <p:cNvSpPr/>
          <p:nvPr/>
        </p:nvSpPr>
        <p:spPr>
          <a:xfrm>
            <a:off x="152280" y="6545160"/>
            <a:ext cx="331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885A7-3546-495A-84B9-5326C157A26E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/>
          </p:nvPr>
        </p:nvSpPr>
        <p:spPr>
          <a:xfrm>
            <a:off x="363240" y="1565280"/>
            <a:ext cx="4057560" cy="46641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pplicant tracking system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pplication for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puterized forecas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mployee recruit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mployment or personnel plann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ob post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n-demand recruiting services (ODR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755960" y="1547640"/>
            <a:ext cx="3747960" cy="46641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osition replacement car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qualifications inventor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atio analys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cruiting yield pyrami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catter plo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ccession plann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rend analys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ed6b06"/>
                </a:solidFill>
                <a:latin typeface="Verdana"/>
              </a:rPr>
              <a:t>Key Terms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lide Number Placeholder 3"/>
          <p:cNvSpPr/>
          <p:nvPr/>
        </p:nvSpPr>
        <p:spPr>
          <a:xfrm>
            <a:off x="152280" y="6545160"/>
            <a:ext cx="331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8589C-4D91-408E-84DC-37C6FC3086B2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65040" y="394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ecruitment and Selection Process</a:t>
            </a:r>
            <a:endParaRPr b="1" lang="en-US" sz="32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64680" y="1218960"/>
            <a:ext cx="8442360" cy="49719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355680" indent="-35568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ide what positions to fill through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sonnel planning and forecastin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55680" indent="-35568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 pool of candidates for these jobs, by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ruitin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ternal or external candidat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55680" indent="-35568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e candidates complete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form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perhaps go through initial screening interview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55680" indent="-35568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ion tool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uch as tests, background investigations, and physical exams to identify suitable candidat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55680" indent="-35568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ide who to make an offer to, by having the supervisor and perhaps others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view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 candidat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65040" y="390600"/>
            <a:ext cx="8229600" cy="8287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lIns="0" t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Personnel Planning and Recruiting </a:t>
            </a:r>
            <a:endParaRPr b="1" lang="en-US" sz="28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8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000" spc="-1" strike="noStrike">
                <a:solidFill>
                  <a:srgbClr val="000090"/>
                </a:solidFill>
                <a:latin typeface="Times New Roman"/>
                <a:ea typeface="ＭＳ Ｐゴシック"/>
              </a:rPr>
              <a:t>Recruiting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 any activity carried on by the organization with the main purpose of identifying and attracting potential employee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8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312"/>
              </a:spcBef>
              <a:buClr>
                <a:srgbClr val="000090"/>
              </a:buClr>
              <a:buSzPct val="80000"/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000" spc="-1" strike="noStrike">
                <a:solidFill>
                  <a:srgbClr val="000090"/>
                </a:solidFill>
                <a:latin typeface="Times New Roman"/>
                <a:ea typeface="ＭＳ Ｐゴシック"/>
              </a:rPr>
              <a:t>Employment or Personnel Planning: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900000" indent="-368280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cess of deciding what positions the firm will have to fill, and how to fill them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152280" y="6545160"/>
            <a:ext cx="331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3F37B-89C4-4BEB-B26B-EAD74DE7855A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Slide Number Placeholder 3"/>
          <p:cNvSpPr/>
          <p:nvPr/>
        </p:nvSpPr>
        <p:spPr>
          <a:xfrm>
            <a:off x="152280" y="6545160"/>
            <a:ext cx="331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44E6F-DDC4-431F-8950-2FB665591DB3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365040" y="482760"/>
            <a:ext cx="8229600" cy="55893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lvl="2" marL="35100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to Forecast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16992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verall personnel need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16992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upply of inside candidate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16992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upply of outside candidate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364680" y="482400"/>
            <a:ext cx="8350200" cy="58006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lvl="1" marL="717480" indent="-336600">
              <a:lnSpc>
                <a:spcPct val="150000"/>
              </a:lnSpc>
              <a:spcBef>
                <a:spcPts val="1874"/>
              </a:spcBef>
              <a:buClr>
                <a:srgbClr val="66003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Outside recruiting</a:t>
            </a:r>
            <a:r>
              <a:rPr b="0" i="1" lang="en-US" sz="30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:</a:t>
            </a:r>
            <a:r>
              <a:rPr b="0" lang="en-US" sz="30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17480" indent="-3366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s look outside the firm for people who have not worked at the firm befor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7480" indent="-3366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s advertise in newspapers, hold open houses, recruit at universities, and on the Interne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7480" indent="-3366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rnal recruitment is difficult since many new jobs have specific skill need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7480" indent="-3366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multi-prong approach to external recruiting works bes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7480" indent="-336600"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7480" indent="-336600">
              <a:lnSpc>
                <a:spcPct val="150000"/>
              </a:lnSpc>
              <a:spcBef>
                <a:spcPts val="17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541440" indent="-18900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152280" y="6545160"/>
            <a:ext cx="331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641A2-C40D-43C6-8348-4D6FE65A4B98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365040" y="482760"/>
            <a:ext cx="8229600" cy="55893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lvl="1" marL="717480" indent="-3366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7480" indent="-336600">
              <a:lnSpc>
                <a:spcPct val="90000"/>
              </a:lnSpc>
              <a:spcBef>
                <a:spcPts val="1749"/>
              </a:spcBef>
              <a:buClr>
                <a:srgbClr val="660033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Internal Recruiting</a:t>
            </a:r>
            <a:r>
              <a:rPr b="0" i="1" lang="en-US" sz="2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Positions filled within the fir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169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nternal recruiting has several benefit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866880" indent="-5144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kers know the firm’s cultur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866880" indent="-5144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s likely already know the candidat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866880" indent="-5144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nal development can motivate employe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152280" y="6545160"/>
            <a:ext cx="331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2E09C-7775-49C0-94F3-7D4DD83BF792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Slide Number Placeholder 2"/>
          <p:cNvSpPr/>
          <p:nvPr/>
        </p:nvSpPr>
        <p:spPr>
          <a:xfrm>
            <a:off x="152280" y="6545160"/>
            <a:ext cx="331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4F1FB-FE40-4154-B45F-B9F5A47AA73C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65040" y="394920"/>
            <a:ext cx="8229600" cy="5223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marL="1376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d6b06"/>
                </a:solidFill>
                <a:latin typeface="Verdana"/>
              </a:rPr>
              <a:t>FIGURE 5-1</a:t>
            </a:r>
            <a:r>
              <a:rPr b="1" lang="en-US" sz="2000" spc="-1" strike="noStrike">
                <a:solidFill>
                  <a:srgbClr val="0099cc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0099cc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teps in the Recruitment and Selection Process</a:t>
            </a:r>
            <a:endParaRPr b="1" lang="en-US" sz="16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93" name="Line 3"/>
          <p:cNvSpPr/>
          <p:nvPr/>
        </p:nvSpPr>
        <p:spPr>
          <a:xfrm flipV="1">
            <a:off x="365040" y="731880"/>
            <a:ext cx="6310440" cy="46080"/>
          </a:xfrm>
          <a:prstGeom prst="line">
            <a:avLst/>
          </a:prstGeom>
          <a:ln w="28440">
            <a:solidFill>
              <a:srgbClr val="ed6b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4" name="Picture 8" descr="05-01"/>
          <p:cNvPicPr/>
          <p:nvPr/>
        </p:nvPicPr>
        <p:blipFill>
          <a:blip r:embed="rId1"/>
          <a:stretch/>
        </p:blipFill>
        <p:spPr>
          <a:xfrm>
            <a:off x="336600" y="1311120"/>
            <a:ext cx="8378640" cy="469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Slide Number Placeholder 2"/>
          <p:cNvSpPr/>
          <p:nvPr/>
        </p:nvSpPr>
        <p:spPr>
          <a:xfrm>
            <a:off x="152280" y="6545160"/>
            <a:ext cx="331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DAE87-6FCD-40ED-B193-CB735BE0FDCF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65040" y="394920"/>
            <a:ext cx="8229600" cy="5223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marL="1376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d6b06"/>
                </a:solidFill>
                <a:latin typeface="Verdana"/>
              </a:rPr>
              <a:t>FIGURE 5</a:t>
            </a:r>
            <a:r>
              <a:rPr b="1" lang="en-US" sz="1600" spc="-1" strike="noStrike">
                <a:solidFill>
                  <a:srgbClr val="ed6b06"/>
                </a:solidFill>
                <a:latin typeface="Arial"/>
              </a:rPr>
              <a:t>-</a:t>
            </a:r>
            <a:r>
              <a:rPr b="1" lang="en-US" sz="1600" spc="-1" strike="noStrike">
                <a:solidFill>
                  <a:srgbClr val="ed6b06"/>
                </a:solidFill>
                <a:latin typeface="Verdana"/>
              </a:rPr>
              <a:t>2</a:t>
            </a:r>
            <a:r>
              <a:rPr b="1" lang="en-US" sz="1600" spc="-1" strike="noStrike">
                <a:solidFill>
                  <a:srgbClr val="0099cc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king Employ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 Strategy to Plans</a:t>
            </a:r>
            <a:endParaRPr b="1" lang="en-US" sz="16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97" name="Line 3"/>
          <p:cNvSpPr/>
          <p:nvPr/>
        </p:nvSpPr>
        <p:spPr>
          <a:xfrm>
            <a:off x="365040" y="685800"/>
            <a:ext cx="5121360" cy="0"/>
          </a:xfrm>
          <a:prstGeom prst="line">
            <a:avLst/>
          </a:prstGeom>
          <a:ln w="28440">
            <a:solidFill>
              <a:srgbClr val="ed6b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8" name="Picture 7" descr="05-02"/>
          <p:cNvPicPr/>
          <p:nvPr/>
        </p:nvPicPr>
        <p:blipFill>
          <a:blip r:embed="rId1"/>
          <a:stretch/>
        </p:blipFill>
        <p:spPr>
          <a:xfrm>
            <a:off x="336600" y="1127160"/>
            <a:ext cx="8194680" cy="4762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7T02:06:55Z</dcterms:created>
  <dc:creator>Charlie Cook, The University of West Alabama</dc:creator>
  <dc:description/>
  <dc:language>en-US</dc:language>
  <cp:lastModifiedBy>User</cp:lastModifiedBy>
  <dcterms:modified xsi:type="dcterms:W3CDTF">2014-06-21T12:04:19Z</dcterms:modified>
  <cp:revision>417</cp:revision>
  <dc:subject>Chapter 5</dc:subject>
  <dc:title>Human Resource Management 11e.</dc:title>
</cp:coreProperties>
</file>