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0D12-759F-4F6B-9DF2-177AF8C23F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93F0-5EDF-4913-9FAA-A445B6C08A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 Fayol outlined the four managerial functions in his book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eneral Industrial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0A1-E77B-4B78-85A6-25A917CB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1AA-CF52-47EA-B00E-8A8AFC3A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CD36-BBDB-4BE1-9C8B-7D6DEF68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499C-E154-4D24-8C03-B55F4E7B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6BF-D21A-4093-A8BF-A9C2C510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7700-E2C5-45A7-BF34-90047784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28DD-D621-4A22-AE3F-FDD039BE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955-5458-4287-B48E-80A65FDD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9367-D4A6-4349-B7DB-C86375C3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63E8-0844-420D-979D-2861D68F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F1E1-6C9F-4139-BCA7-A39FF322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BFC-74D4-496A-9F4E-17B4E2D6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9470-9473-43B3-9051-E5AD580C45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27"/>
          <p:cNvSpPr/>
          <p:nvPr/>
        </p:nvSpPr>
        <p:spPr>
          <a:xfrm>
            <a:off x="539640" y="1628640"/>
            <a:ext cx="7777440" cy="3973320"/>
          </a:xfrm>
          <a:prstGeom prst="rect">
            <a:avLst/>
          </a:prstGeom>
          <a:solidFill>
            <a:srgbClr val="dce6f2"/>
          </a:soli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hapter 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nagers and Manag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61800" y="1466640"/>
            <a:ext cx="838224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525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nning :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is the process used by managers to identify and select correct goals and courses of action for an organiz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600" indent="525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steps to good planning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3080" indent="-506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hich goals should be selec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3080" indent="-506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How should the goal be achiev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3080" indent="-506520">
              <a:lnSpc>
                <a:spcPct val="11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28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How should resources be alloc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5280" y="1773000"/>
            <a:ext cx="84247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e planning function determines how effective and efficient the organization is and determines the strategy of the organiza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ganiz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1628640"/>
            <a:ext cx="8424720" cy="481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ganizing, managers create the structure of working relationships between organizational members that best allows them to work together and achieve go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ers will group people into departments according to the tasks perform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ers will also lay out lines of authority and responsibility for me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ganiz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ganizational struc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outcome of organiz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is structure coordinates and motivates employees so that they work together to achieve go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523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95000" y="1314000"/>
            <a:ext cx="8077320" cy="516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leading, managers determine direction, state a clear vision for employees to follow, and help employees understand the role they play in attaining go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eadership involves a manager using power, influence, vision, persuasion, and communication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outcome of the leading function is a high level of motivation and commitment from employees to the organiz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ro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3812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controlling, managers evaluate how well the organization is achieving its goals and takes corrective action to improve perform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ers will check individuals, departments, and the organization to determine if desired performance has been reac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108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nagers will also take action to increase performance as requi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39640" y="1844280"/>
            <a:ext cx="81360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outcome of the controlling function is the accurate measurement of performance and regulation of efficiency and effective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ro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9BC6CA6-9A94-426D-8B8E-08C9E16916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Levels of Managemen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jon69447_0103"/>
          <p:cNvPicPr/>
          <p:nvPr/>
        </p:nvPicPr>
        <p:blipFill>
          <a:blip r:embed="rId1"/>
          <a:stretch/>
        </p:blipFill>
        <p:spPr>
          <a:xfrm>
            <a:off x="1332000" y="1523880"/>
            <a:ext cx="6335640" cy="45691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7093080" y="6021360"/>
            <a:ext cx="159840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869C18E-1553-45C1-92E5-5CC6DE1141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eas of Mana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47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part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managers and employees who work together and posses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skill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use the sa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, tool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4402080" y="3313080"/>
            <a:ext cx="3959280" cy="3029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nagement Key Concep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626840"/>
            <a:ext cx="8567640" cy="475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06520" indent="-439920">
              <a:lnSpc>
                <a:spcPct val="90000"/>
              </a:lnSpc>
              <a:spcBef>
                <a:spcPts val="1599"/>
              </a:spcBef>
              <a:spcAft>
                <a:spcPts val="1400"/>
              </a:spcAft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90015"/>
                </a:solidFill>
                <a:latin typeface="Calibri"/>
              </a:rPr>
              <a:t>Organizations</a:t>
            </a:r>
            <a:r>
              <a:rPr b="0" i="1" lang="en-US" sz="3200" spc="-1" strike="noStrike">
                <a:solidFill>
                  <a:srgbClr val="790015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orking together and coordinating their actions to achieve specific go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6520" indent="-439920">
              <a:lnSpc>
                <a:spcPct val="90000"/>
              </a:lnSpc>
              <a:spcBef>
                <a:spcPts val="799"/>
              </a:spcBef>
              <a:spcAft>
                <a:spcPts val="1400"/>
              </a:spcAft>
              <a:buClr>
                <a:srgbClr val="790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90015"/>
                </a:solidFill>
                <a:latin typeface="Calibri"/>
              </a:rPr>
              <a:t>Goal</a:t>
            </a:r>
            <a:r>
              <a:rPr b="0" i="1" lang="en-US" sz="3200" spc="-1" strike="noStrike">
                <a:solidFill>
                  <a:srgbClr val="790015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esired future condition that the organization seeks to achie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7E165B8-0F6D-4339-8F62-0F14FB87BD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vels of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7760" y="1681200"/>
            <a:ext cx="83106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rst line manage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Responsible for daily supervision of the non-managerial employees who perform many of the specific activities necessary to produce goods and servic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iddle manage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upervise first-line managers. Responsible for finding the best way to organize human and other resources to achieve organizational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22C355E-352A-4B62-A091-3916CE76E7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vels of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561680"/>
            <a:ext cx="842472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op managers –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ible for the performance of all departments and have cross-departmental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responsi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 organizational goals and monitor middle manag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de how different departments should inter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timately responsible for the success or failure of an organiz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4CE4160-1FDE-4687-9D1A-55E8FC8A20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vels of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ief executive officer (CEO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company’s most senior and important man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al concern is creation of a smoothly functioning top-management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nagerial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1390320"/>
            <a:ext cx="8424720" cy="50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365040">
              <a:spcBef>
                <a:spcPts val="649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ere are three skill sets that managers need to perform effectivel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en-US" sz="2500" spc="-1" strike="noStrike">
                <a:solidFill>
                  <a:srgbClr val="1f497d"/>
                </a:solidFill>
                <a:latin typeface="Calibri"/>
              </a:rPr>
              <a:t>Conceptual skills:</a:t>
            </a:r>
            <a:r>
              <a:rPr b="0" lang="en-US" sz="25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ability to analyze and diagnose a situation and find the cause and effec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en-US" sz="2500" spc="-1" strike="noStrike">
                <a:solidFill>
                  <a:srgbClr val="1f497d"/>
                </a:solidFill>
                <a:latin typeface="Calibri"/>
              </a:rPr>
              <a:t>Human skills:</a:t>
            </a:r>
            <a:r>
              <a:rPr b="0" lang="en-US" sz="25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ability to understand, lead, and control people’s behavio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en-US" sz="2500" spc="-1" strike="noStrike">
                <a:solidFill>
                  <a:srgbClr val="1f497d"/>
                </a:solidFill>
                <a:latin typeface="Calibri"/>
              </a:rPr>
              <a:t>Technical skills:</a:t>
            </a:r>
            <a:r>
              <a:rPr b="0" lang="en-US" sz="25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job-specific knowledge required to perform a task. Common examples include marketing, accounting, and manufacturing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All three skills are enhanced through formal training, reading, and practic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kill Types Need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jon69447_0105"/>
          <p:cNvPicPr/>
          <p:nvPr/>
        </p:nvPicPr>
        <p:blipFill>
          <a:blip r:embed="rId1"/>
          <a:stretch/>
        </p:blipFill>
        <p:spPr>
          <a:xfrm>
            <a:off x="539640" y="1562040"/>
            <a:ext cx="8209080" cy="4886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99680" y="1581120"/>
            <a:ext cx="8248680" cy="462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46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number of global organiz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46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competitive advantage through superior efficiency, quality, innovation, and responsive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46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performance while remaining ethical manag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46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ing an increasingly diverse work for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46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new technolog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6520" indent="-439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90015"/>
                </a:solidFill>
                <a:latin typeface="Calibri"/>
              </a:rPr>
              <a:t>  </a:t>
            </a:r>
            <a:r>
              <a:rPr b="1" i="1" lang="en-US" sz="3600" spc="-1" strike="noStrike" u="sng">
                <a:solidFill>
                  <a:srgbClr val="790015"/>
                </a:solidFill>
                <a:uFillTx/>
                <a:latin typeface="Calibri"/>
              </a:rPr>
              <a:t>Management</a:t>
            </a:r>
            <a:r>
              <a:rPr b="0" i="1" lang="en-US" sz="3600" spc="-1" strike="noStrike" u="sng">
                <a:solidFill>
                  <a:srgbClr val="790015"/>
                </a:solidFill>
                <a:uFillTx/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06520" indent="-43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process of using organizational resources to achieve the organization’s goals by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004760" indent="-38412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Planning, Organizing, Leading, and Controll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06520" indent="-43992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dditional Key Concep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66480" y="1512360"/>
            <a:ext cx="8451720" cy="465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277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ources are organizational assets which  includ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95560" indent="-4194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op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95560" indent="-4194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chin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95560" indent="-4194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aw materia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95560" indent="-4194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formation, skills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95560" indent="-419400">
              <a:lnSpc>
                <a:spcPct val="70000"/>
              </a:lnSpc>
              <a:spcBef>
                <a:spcPts val="901"/>
              </a:spcBef>
              <a:spcAft>
                <a:spcPts val="1125"/>
              </a:spcAft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nancial capit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na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Managers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Managers are the people responsible for supervising the use of an organization’s resources to meet its goal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rganizational Perform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447560"/>
            <a:ext cx="8588160" cy="51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ganizational Performance Measures how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efficient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effective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anagers use resources to satisfy customers and achieve go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90015"/>
                </a:solidFill>
                <a:latin typeface="Calibri"/>
              </a:rPr>
              <a:t>1. Efficiency</a:t>
            </a:r>
            <a:r>
              <a:rPr b="1" lang="en-US" sz="30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(</a:t>
            </a:r>
            <a:r>
              <a:rPr b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كفاءه</a:t>
            </a:r>
            <a:r>
              <a:rPr b="1" lang="en-US" sz="3000" spc="-1" strike="noStrike">
                <a:solidFill>
                  <a:srgbClr val="790015"/>
                </a:solidFill>
                <a:latin typeface="Calibri"/>
              </a:rPr>
              <a:t>:</a:t>
            </a:r>
            <a:r>
              <a:rPr b="0" lang="en-US" sz="30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“Doing things right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measure of how well resources are used to achieve a go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751"/>
              </a:spcBef>
              <a:spcAft>
                <a:spcPts val="938"/>
              </a:spcAft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ually, managers must try to minimize the input of resources to achieve the same go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rganizational Perform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177336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0015"/>
                </a:solidFill>
                <a:latin typeface="Calibri"/>
              </a:rPr>
              <a:t>2. Effectiveness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فعاليه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) 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)</a:t>
            </a:r>
            <a:r>
              <a:rPr b="1" lang="en-US" sz="2400" spc="-1" strike="noStrike">
                <a:solidFill>
                  <a:srgbClr val="790015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“Doing the right things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easure of the rightness of the goals chosen 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re these the right goals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and the degree to which they are achie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ganizations are more effective when managers choose the correct goals and then achieve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26091AB-C157-4BC4-BBDE-DA256F8BD8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nagerial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ers at all levels in all organizations perform each of the four essential managerial functions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n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ganiz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a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ol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6"/>
          <p:cNvSpPr/>
          <p:nvPr/>
        </p:nvSpPr>
        <p:spPr>
          <a:xfrm>
            <a:off x="1828800" y="2324160"/>
            <a:ext cx="5486400" cy="331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753320" cy="8190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Four Functions of Managemen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99600" y="1341360"/>
            <a:ext cx="117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257640" y="4973760"/>
            <a:ext cx="2558880" cy="1046160"/>
          </a:xfrm>
          <a:prstGeom prst="roundRect">
            <a:avLst>
              <a:gd name="adj" fmla="val 18764"/>
            </a:avLst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666720" y="3414600"/>
            <a:ext cx="2451240" cy="1043280"/>
          </a:xfrm>
          <a:prstGeom prst="roundRect">
            <a:avLst>
              <a:gd name="adj" fmla="val 18833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3257640" y="1800360"/>
            <a:ext cx="2558880" cy="1046160"/>
          </a:xfrm>
          <a:prstGeom prst="roundRect">
            <a:avLst>
              <a:gd name="adj" fmla="val 18764"/>
            </a:avLst>
          </a:prstGeom>
          <a:solidFill>
            <a:srgbClr val="1f497d"/>
          </a:solidFill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612960" y="1816200"/>
            <a:ext cx="1897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707640" y="2346480"/>
            <a:ext cx="1714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"/>
              </a:rPr>
              <a:t>Choose 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6059520" y="3414600"/>
            <a:ext cx="2451240" cy="1043280"/>
          </a:xfrm>
          <a:prstGeom prst="roundRect">
            <a:avLst>
              <a:gd name="adj" fmla="val 18833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6163200" y="3424320"/>
            <a:ext cx="23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6217920" y="3960720"/>
            <a:ext cx="219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"/>
              </a:rPr>
              <a:t>Working 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3698640" y="5008680"/>
            <a:ext cx="173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3782520" y="5568840"/>
            <a:ext cx="1572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Coord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680040" y="3468600"/>
            <a:ext cx="2350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601560" y="3975120"/>
            <a:ext cx="2507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</a:rPr>
              <a:t>Monitor &amp;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0T05:21:20Z</dcterms:created>
  <dc:creator>Richard T. Christoph</dc:creator>
  <dc:description/>
  <cp:keywords>Chapter 1 Irwin</cp:keywords>
  <dc:language>en-US</dc:language>
  <cp:lastModifiedBy>User</cp:lastModifiedBy>
  <cp:lastPrinted>1999-03-18T22:23:53Z</cp:lastPrinted>
  <dcterms:modified xsi:type="dcterms:W3CDTF">2014-09-09T16:27:40Z</dcterms:modified>
  <cp:revision>43</cp:revision>
  <dc:subject>Chapter 1</dc:subject>
  <dc:title>Irwin Management Book Presentations</dc:title>
</cp:coreProperties>
</file>