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9306-330F-41AF-884D-ACCB6EE74A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3D92-E6FF-454B-859E-4FAF579DEE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Fayol outlined the four managerial functions in his book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eral Industrial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6E1-9F6C-4DAA-804A-2F50A9C1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940-881E-4B5B-913A-223069BF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745-DC3C-4CC5-A929-D5A6020E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76D-41B6-41E8-8574-7CDE21CD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F08-D381-4E57-B35F-4F0680A1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E97-B5C0-4D83-869D-5F523B8A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6FA-488E-4E47-A842-7B20A09D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E46-FC25-415F-9C69-5010953E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82E-AEEA-41C1-92A4-E6228FEB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695-C76B-4FF7-8342-7DC6DF61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2E8-B4ED-480A-BA77-D70E2218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5F5-4893-4877-A213-58422B26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95D3-C80A-456F-BAE3-5C75D5263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7"/>
          <p:cNvSpPr/>
          <p:nvPr/>
        </p:nvSpPr>
        <p:spPr>
          <a:xfrm>
            <a:off x="539640" y="1628640"/>
            <a:ext cx="7777440" cy="3973320"/>
          </a:xfrm>
          <a:prstGeom prst="rect">
            <a:avLst/>
          </a:prstGeom>
          <a:solidFill>
            <a:srgbClr val="dce6f2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pter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nagers and Mana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61800" y="1466640"/>
            <a:ext cx="838224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525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 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is the process used by managers to identify and select correct goals and courses of action for an org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600" indent="525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steps to good planning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506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ich goals should be selec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506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How should the goal be achiev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50652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w should resources be al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1773000"/>
            <a:ext cx="8424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planning function determines how effective and efficient the organization is and determines the strategy of the organiza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ganiz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628640"/>
            <a:ext cx="8424720" cy="481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ganizing, managers create the structure of working relationships between organizational members that best allows them to work together and achieve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will group people into departments according to the tasks per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will also lay out lines of authority and responsibility for me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ganiz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ganizational struc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outcome of organiz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is structure coordinates and motivates employees so that they work together to achieve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5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5000" y="1314000"/>
            <a:ext cx="8077320" cy="51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leading, managers determine direction, state a clear vision for employees to follow, and help employees understand the role they play in attaining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adership involves a manager using power, influence, vision, persuasion, and communication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utcome of the leading function is a high level of motivation and commitment from employees to the org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3812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ontrolling, managers evaluate how well the organization is achieving its goals and takes corrective action to improve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will check individuals, departments, and the organization to determine if desired performance has been reac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108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nagers will also take action to increase performance as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1844280"/>
            <a:ext cx="81360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utcome of the controlling function is the accurate measurement of performance and regulation of efficiency and effective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A2740A6-5790-444D-A26F-F0C2BA18B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jon69447_0103"/>
          <p:cNvPicPr/>
          <p:nvPr/>
        </p:nvPicPr>
        <p:blipFill>
          <a:blip r:embed="rId1"/>
          <a:stretch/>
        </p:blipFill>
        <p:spPr>
          <a:xfrm>
            <a:off x="1332000" y="1523880"/>
            <a:ext cx="6335640" cy="4569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7093080" y="6021360"/>
            <a:ext cx="15984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C7DDFD3-B506-489A-B5EF-B30827BE2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eas of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par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managers and employees who work together and poss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skil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use the s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, tool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402080" y="3313080"/>
            <a:ext cx="3959280" cy="302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Key Concep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626840"/>
            <a:ext cx="8567640" cy="47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06520" indent="-439920">
              <a:lnSpc>
                <a:spcPct val="90000"/>
              </a:lnSpc>
              <a:spcBef>
                <a:spcPts val="1599"/>
              </a:spcBef>
              <a:spcAft>
                <a:spcPts val="1400"/>
              </a:spcAft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0015"/>
                </a:solidFill>
                <a:latin typeface="Calibri"/>
              </a:rPr>
              <a:t>Organizations</a:t>
            </a:r>
            <a:r>
              <a:rPr b="0" i="1" lang="en-US" sz="3200" spc="-1" strike="noStrike">
                <a:solidFill>
                  <a:srgbClr val="790015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together and coordinating their actions to achieve specific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6520" indent="-439920">
              <a:lnSpc>
                <a:spcPct val="90000"/>
              </a:lnSpc>
              <a:spcBef>
                <a:spcPts val="799"/>
              </a:spcBef>
              <a:spcAft>
                <a:spcPts val="1400"/>
              </a:spcAft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0015"/>
                </a:solidFill>
                <a:latin typeface="Calibri"/>
              </a:rPr>
              <a:t>Goal</a:t>
            </a:r>
            <a:r>
              <a:rPr b="0" i="1" lang="en-US" sz="3200" spc="-1" strike="noStrike">
                <a:solidFill>
                  <a:srgbClr val="790015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sired future condition that the organization seeks to achie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9932861-0E7C-4328-B6DA-DFFCC414D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7760" y="1681200"/>
            <a:ext cx="83106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rst line manag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Responsible for daily supervision of the non-managerial employees who perform many of the specific activities necessary to produce goods and servi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iddle manag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pervise first-line managers. Responsible for finding the best way to organize human and other resources to achieve organizational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411A252-B623-4E20-96C3-DCEAEC6CD4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561680"/>
            <a:ext cx="84247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op managers –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ible for the performance of all departments and have cross-departmental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esponsi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organizational goals and monitor middle mana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e how different departments should inter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imately responsible for the success or failure of an org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C58CD1B-8106-4D0F-9EB8-109955D38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ief executive officer (CEO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company’s most senior and important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 concern is creation of a smoothly functioning top-management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ial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390320"/>
            <a:ext cx="8424720" cy="50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365040">
              <a:spcBef>
                <a:spcPts val="64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re are three skill sets that managers need to perform effective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en-US" sz="2500" spc="-1" strike="noStrike">
                <a:solidFill>
                  <a:srgbClr val="1f497d"/>
                </a:solidFill>
                <a:latin typeface="Calibri"/>
              </a:rPr>
              <a:t>Conceptual skills:</a:t>
            </a:r>
            <a:r>
              <a:rPr b="0" lang="en-US" sz="25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bility to analyze and diagnose a situation and find the cause and effec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en-US" sz="2500" spc="-1" strike="noStrike">
                <a:solidFill>
                  <a:srgbClr val="1f497d"/>
                </a:solidFill>
                <a:latin typeface="Calibri"/>
              </a:rPr>
              <a:t>Human skills:</a:t>
            </a:r>
            <a:r>
              <a:rPr b="0" lang="en-US" sz="25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bility to understand, lead, and control people’s behavio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en-US" sz="2500" spc="-1" strike="noStrike">
                <a:solidFill>
                  <a:srgbClr val="1f497d"/>
                </a:solidFill>
                <a:latin typeface="Calibri"/>
              </a:rPr>
              <a:t>Technical skills:</a:t>
            </a:r>
            <a:r>
              <a:rPr b="0" lang="en-US" sz="25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job-specific knowledge required to perform a task. Common examples include marketing, accounting, and manufactur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All three skills are enhanced through formal training, reading, and practi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kill Types Need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jon69447_0105"/>
          <p:cNvPicPr/>
          <p:nvPr/>
        </p:nvPicPr>
        <p:blipFill>
          <a:blip r:embed="rId1"/>
          <a:stretch/>
        </p:blipFill>
        <p:spPr>
          <a:xfrm>
            <a:off x="539640" y="1562040"/>
            <a:ext cx="8209080" cy="488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1581120"/>
            <a:ext cx="8248680" cy="462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number of global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competitive advantage through superior efficiency, quality, innovation, and responsive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performance while remaining ethical mana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ing an increasingly diverse work fo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new technolog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6520" indent="-439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90015"/>
                </a:solidFill>
                <a:latin typeface="Calibri"/>
              </a:rPr>
              <a:t>  </a:t>
            </a:r>
            <a:r>
              <a:rPr b="1" i="1" lang="en-US" sz="3600" spc="-1" strike="noStrike" u="sng">
                <a:solidFill>
                  <a:srgbClr val="790015"/>
                </a:solidFill>
                <a:uFillTx/>
                <a:latin typeface="Calibri"/>
              </a:rPr>
              <a:t>Management</a:t>
            </a:r>
            <a:r>
              <a:rPr b="0" i="1" lang="en-US" sz="3600" spc="-1" strike="noStrike" u="sng">
                <a:solidFill>
                  <a:srgbClr val="790015"/>
                </a:solidFill>
                <a:uFillTx/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6520" indent="-43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rocess of using organizational resources to achieve the organization’s goals by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4760" indent="-384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Planning, Organizing, Leading, and Control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6520" indent="-4399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dditional Key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6480" y="1512360"/>
            <a:ext cx="8451720" cy="465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277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ources are organizational assets which  inclu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chin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w materi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formation, skills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spcAft>
                <a:spcPts val="1125"/>
              </a:spcAft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ancial capit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Managers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Managers are the people responsible for supervising the use of an organization’s resources to meet its goal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rganizational Perform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88160" cy="51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ational Performance Measures how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fficien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ffective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nagers use resources to satisfy customers and achieve go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90015"/>
                </a:solidFill>
                <a:latin typeface="Calibri"/>
              </a:rPr>
              <a:t>1. Efficiency</a:t>
            </a:r>
            <a:r>
              <a:rPr b="1" lang="en-US" sz="3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كفاءه</a:t>
            </a:r>
            <a:r>
              <a:rPr b="1" lang="en-US" sz="30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“Doing things right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measure of how well resources are used to achieve a go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ually, managers must try to minimize the input of resources to achieve the same go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rganizational Perform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7733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Calibri"/>
              </a:rPr>
              <a:t>2. Effectiveness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فعاليه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1" lang="en-US" sz="24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“Doing the right things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asure of the rightness of the goals chosen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re these the right goals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and the degree to which they are achie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ganizations are more effective when managers choose the correct goals and then achieve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5639DA1-2BA9-4FF9-BFC1-6CE069973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ial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at all levels in all organizations perform each of the four essential managerial functions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z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ol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6"/>
          <p:cNvSpPr/>
          <p:nvPr/>
        </p:nvSpPr>
        <p:spPr>
          <a:xfrm>
            <a:off x="1828800" y="2324160"/>
            <a:ext cx="5486400" cy="331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753320" cy="819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Four Functions of Managemen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99600" y="1341360"/>
            <a:ext cx="117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257640" y="4973760"/>
            <a:ext cx="2558880" cy="1046160"/>
          </a:xfrm>
          <a:prstGeom prst="roundRect">
            <a:avLst>
              <a:gd name="adj" fmla="val 18764"/>
            </a:avLst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666720" y="3414600"/>
            <a:ext cx="2451240" cy="1043280"/>
          </a:xfrm>
          <a:prstGeom prst="roundRect">
            <a:avLst>
              <a:gd name="adj" fmla="val 18833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3257640" y="1800360"/>
            <a:ext cx="2558880" cy="1046160"/>
          </a:xfrm>
          <a:prstGeom prst="roundRect">
            <a:avLst>
              <a:gd name="adj" fmla="val 18764"/>
            </a:avLst>
          </a:prstGeom>
          <a:solidFill>
            <a:srgbClr val="1f497d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612960" y="1816200"/>
            <a:ext cx="189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707640" y="2346480"/>
            <a:ext cx="171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"/>
              </a:rPr>
              <a:t>Choose 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059520" y="3414600"/>
            <a:ext cx="2451240" cy="1043280"/>
          </a:xfrm>
          <a:prstGeom prst="roundRect">
            <a:avLst>
              <a:gd name="adj" fmla="val 18833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163200" y="3424320"/>
            <a:ext cx="23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217920" y="3960720"/>
            <a:ext cx="219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"/>
              </a:rPr>
              <a:t>Working 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698640" y="5008680"/>
            <a:ext cx="173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3782520" y="5568840"/>
            <a:ext cx="1572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Coord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80040" y="3468600"/>
            <a:ext cx="235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601560" y="3975120"/>
            <a:ext cx="2507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Monitor &amp;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05:21:20Z</dcterms:created>
  <dc:creator>Richard T. Christoph</dc:creator>
  <dc:description/>
  <cp:keywords>Chapter 1 Irwin</cp:keywords>
  <dc:language>en-US</dc:language>
  <cp:lastModifiedBy>User</cp:lastModifiedBy>
  <cp:lastPrinted>1999-03-18T22:23:53Z</cp:lastPrinted>
  <dcterms:modified xsi:type="dcterms:W3CDTF">2014-09-09T16:27:40Z</dcterms:modified>
  <cp:revision>43</cp:revision>
  <dc:subject>Chapter 1</dc:subject>
  <dc:title>Irwin Management Book Presentations</dc:title>
</cp:coreProperties>
</file>