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DAB0-FB36-43E3-A031-F92871352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1A18-EC45-4E3D-B16C-29854E8B8BE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B821-54B0-4CAF-B916-CDD83743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51D2-CD96-4069-93FD-71DB22AA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145-DFAE-4578-9CD0-BDDA577D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ABB-3FC2-4722-AA5C-744EDF6D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404C-8CF3-4B87-88DA-C30A83A9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A69B-072B-42F0-A404-64A8C3A2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BE03-0081-44FD-8B0F-77B4F58B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19B8-C39F-47DC-9DF4-EF375BEB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2917-7B2D-4F29-BC5E-699465F2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6153-75F4-4175-B64E-D058098E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A157-1335-41FA-A658-6ECE1263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2562-F47C-42BD-BD37-FE5E1767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425D-1010-4829-A034-936AD280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24A4-60DF-49C1-9ACD-DD26A080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BD1A-2936-4BE7-8933-34F35F16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0BEE-3700-45D1-98C2-B98F1C4E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6C6E-C48F-4996-92AB-F758FE12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2D0-A3A4-4C78-B3A1-3812ECDE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934-0FE5-46E6-B0C8-CD6561B6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3EA-DFC7-4193-A3C4-30C2CCD7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47D6-9411-4240-8A87-D22A9D44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EAE1-02DF-4F90-AB30-268A49AD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C7C-199C-4597-8BF8-3E3CDE48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F41A-7A49-40CF-A433-2E4864D4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56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57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58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59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60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62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63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64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65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66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67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68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69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70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71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72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73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74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75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76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77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78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79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80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81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82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83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84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85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86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87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88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89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90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91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92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93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94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95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96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97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98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99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00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01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02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03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04F6-7D97-43B1-BAC8-5448E9B027C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3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5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6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8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9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1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5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9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0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3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5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6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7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8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9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30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31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32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33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34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35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36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37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38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39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40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41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42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43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45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46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47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48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49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50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51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53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55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56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57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58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59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60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61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62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63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64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65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66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67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68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69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70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71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72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73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74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75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76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77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78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79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80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81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82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83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84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85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86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87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88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89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90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91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92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93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94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95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96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97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98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99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00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01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02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08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0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F56C-E9DD-4FA0-AA5F-6D9EE112E6A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294920" y="2693520"/>
            <a:ext cx="723924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2d5c"/>
                </a:solidFill>
                <a:latin typeface="Times New Roman"/>
                <a:ea typeface="Times New Roman"/>
              </a:rPr>
              <a:t>Training and Developing Employees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1169640" y="1066680"/>
            <a:ext cx="738036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hapter 3</a:t>
            </a:r>
            <a:br>
              <a:rPr sz="4000"/>
            </a:b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F301-200A-4115-A8CD-9214EC6A82F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The ASK Concept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f we follow the GAP concept, training is simply a means to use activities to fill the gaps of performance between the actual results and the expected result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is GAP can be separated into 3 main topic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4" marL="1886040" indent="-343080">
              <a:spcBef>
                <a:spcPts val="700"/>
              </a:spcBef>
              <a:buClr>
                <a:srgbClr val="003366"/>
              </a:buClr>
              <a:buSzPct val="80000"/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titud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4" marL="1886040" indent="-343080">
              <a:spcBef>
                <a:spcPts val="700"/>
              </a:spcBef>
              <a:buClr>
                <a:srgbClr val="003366"/>
              </a:buClr>
              <a:buSzPct val="80000"/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kil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4" marL="1886040" indent="-343080">
              <a:spcBef>
                <a:spcPts val="700"/>
              </a:spcBef>
              <a:buClr>
                <a:srgbClr val="003366"/>
              </a:buClr>
              <a:buSzPct val="80000"/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owled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343400" y="4800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8C3F-8B45-4592-9297-A870A5B07A7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378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xercise 1 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ank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ASK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by difficulty to develop in peop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titud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kil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owledg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4419720" y="3200400"/>
            <a:ext cx="3657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Easy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oderately difficul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ost difficul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83C1-7B44-4C27-AF81-5A58F1DFE99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6201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A Systematic Approach to Training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2214360"/>
            <a:ext cx="8534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Key Concepts in Preparing a Training Pla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fore you train and develop people identify what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y must know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- before they can perform job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y should know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- to improve performa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ould be nice for them to know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– but not necessary to perform duti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FD3E-128B-45C8-9B18-BD3C049D3BD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Model of the Training Process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762120" y="1981080"/>
          <a:ext cx="8034120" cy="5332680"/>
        </p:xfrm>
        <a:graphic>
          <a:graphicData uri="http://schemas.openxmlformats.org/drawingml/2006/table">
            <a:tbl>
              <a:tblPr/>
              <a:tblGrid>
                <a:gridCol w="2728800"/>
                <a:gridCol w="2652840"/>
                <a:gridCol w="2652480"/>
              </a:tblGrid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ssessment Stag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raining Stag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valuation Stag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3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rganizational       Needs Assessmen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ask Need Assessmen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evelopment of Training Objectiv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esign &amp; Select Procedur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easure Training Result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evelopment of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riteria for Training Evalu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rai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ompare Results to Criteri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>
                      <a:noFill/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eedback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Line 159"/>
          <p:cNvSpPr/>
          <p:nvPr/>
        </p:nvSpPr>
        <p:spPr>
          <a:xfrm>
            <a:off x="2057400" y="3200400"/>
            <a:ext cx="0" cy="3049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Line 160"/>
          <p:cNvSpPr/>
          <p:nvPr/>
        </p:nvSpPr>
        <p:spPr>
          <a:xfrm>
            <a:off x="2057400" y="3886200"/>
            <a:ext cx="0" cy="3049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Line 161"/>
          <p:cNvSpPr/>
          <p:nvPr/>
        </p:nvSpPr>
        <p:spPr>
          <a:xfrm>
            <a:off x="2057400" y="4876920"/>
            <a:ext cx="0" cy="3045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Line 162"/>
          <p:cNvSpPr/>
          <p:nvPr/>
        </p:nvSpPr>
        <p:spPr>
          <a:xfrm>
            <a:off x="7467480" y="4876920"/>
            <a:ext cx="0" cy="3045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Line 163"/>
          <p:cNvSpPr/>
          <p:nvPr/>
        </p:nvSpPr>
        <p:spPr>
          <a:xfrm>
            <a:off x="3200400" y="4495680"/>
            <a:ext cx="53352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Line 164"/>
          <p:cNvSpPr/>
          <p:nvPr/>
        </p:nvSpPr>
        <p:spPr>
          <a:xfrm>
            <a:off x="5410080" y="5410080"/>
            <a:ext cx="83844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Line 165"/>
          <p:cNvSpPr/>
          <p:nvPr/>
        </p:nvSpPr>
        <p:spPr>
          <a:xfrm>
            <a:off x="3276720" y="5410080"/>
            <a:ext cx="9144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Line 166"/>
          <p:cNvSpPr/>
          <p:nvPr/>
        </p:nvSpPr>
        <p:spPr>
          <a:xfrm>
            <a:off x="4800600" y="4876920"/>
            <a:ext cx="0" cy="3045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Line 169"/>
          <p:cNvSpPr/>
          <p:nvPr/>
        </p:nvSpPr>
        <p:spPr>
          <a:xfrm flipV="1">
            <a:off x="5257800" y="4495320"/>
            <a:ext cx="1143000" cy="7621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Line 170"/>
          <p:cNvSpPr/>
          <p:nvPr/>
        </p:nvSpPr>
        <p:spPr>
          <a:xfrm>
            <a:off x="685800" y="2819520"/>
            <a:ext cx="0" cy="35049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Line 171"/>
          <p:cNvSpPr/>
          <p:nvPr/>
        </p:nvSpPr>
        <p:spPr>
          <a:xfrm>
            <a:off x="685800" y="6324480"/>
            <a:ext cx="68580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Line 172"/>
          <p:cNvSpPr/>
          <p:nvPr/>
        </p:nvSpPr>
        <p:spPr>
          <a:xfrm>
            <a:off x="685800" y="2819520"/>
            <a:ext cx="4572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Line 175"/>
          <p:cNvSpPr/>
          <p:nvPr/>
        </p:nvSpPr>
        <p:spPr>
          <a:xfrm flipV="1">
            <a:off x="7543800" y="5943600"/>
            <a:ext cx="0" cy="3808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B56B-17F2-4106-BC01-9EB209D9A8D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3785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Nine Steps in the Training Process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09640" y="2057400"/>
            <a:ext cx="8029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ssessing training nee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eparing training pla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pecifying training object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signing the training program(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lecting the instructional metho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mpleting the training pla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mplementing the training progra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valuating the train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lanning future train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5569-DBBB-4A78-BD07-BF5398C59FD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1) Assessing Training Needs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84582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duct a training needs analysis by either one, or both, of the follow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xternal approach (company, guests, society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ternal approach – using a staff opinion surve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0C0F-1BAE-4F83-993B-B6B64020EBE4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3785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xercise 2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magine you are the manager of a factory with 500 workers making ice cream for export to Europe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at information and evidence do you need before you can say the employees need training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ry to list 5 idea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D655-ACF2-457E-B303-2154A675507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Response to exercise 2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ccidents report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ick leave rep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mployee compensation statistic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oduct quality control rep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astage rep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fficiency rep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chinery out-of-order rep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taff discipline rep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taff enquiries &amp; complain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uests complain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fusal of orders mad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uality of product rep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rket needs &amp; trend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mographic data &amp; background of employe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4E94-35B8-4D59-9635-FE9EDDECBF0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2) Preparing Training Pla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sider whether to design a long (5-10 years), medium (3-5 years) or short (1 year) term pla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k your self “What are we going to achieve in the time period?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se a complete approach by using a calendar for inputting your training activiti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EE01-568F-4132-9ED8-2987FF40A43E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raining Calendar Example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762120" y="2743200"/>
          <a:ext cx="8076960" cy="3881520"/>
        </p:xfrm>
        <a:graphic>
          <a:graphicData uri="http://schemas.openxmlformats.org/drawingml/2006/table">
            <a:tbl>
              <a:tblPr/>
              <a:tblGrid>
                <a:gridCol w="3431880"/>
                <a:gridCol w="621000"/>
                <a:gridCol w="620640"/>
                <a:gridCol w="620640"/>
                <a:gridCol w="620640"/>
                <a:gridCol w="620640"/>
                <a:gridCol w="621000"/>
                <a:gridCol w="92052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..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ttitud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rain the trainer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Job competenc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ales technique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elephone manner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Text Box 86"/>
          <p:cNvSpPr/>
          <p:nvPr/>
        </p:nvSpPr>
        <p:spPr>
          <a:xfrm>
            <a:off x="918720" y="2133720"/>
            <a:ext cx="63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raining Area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      Month in the yea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7193-C232-4F62-A638-04B3DEFB488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opics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y do we Need Training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at is Training &amp; Training Principle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 Systematic Approach to Train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 Training Lesson Pla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79F0-CE7E-49C9-A758-891C3554578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16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0" lang="en-US" sz="3800" spc="-1" strike="noStrike">
                <a:solidFill>
                  <a:srgbClr val="800000"/>
                </a:solidFill>
                <a:latin typeface="Times New Roman"/>
              </a:rPr>
              <a:t>3) Specifying Training Objectives</a:t>
            </a:r>
            <a:endParaRPr b="0" lang="en-US" sz="3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81057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raining Objectives must be specific &amp; measurable. Why? Very difficult to measure effectiveness after course is finishe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at should trainees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be able to accomplish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after participating in the training program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at is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 desired level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of such accomplishment, according to industry or organizational standards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o you want to develop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ttitudes, skills, knowledge or some combination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of these three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2F87-1885-4CCE-BA89-55873A1F05C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4) Designing the Training Program(s)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8386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gram dur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gram structu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struction metho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rainers qualific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ature of traine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pport resources – materials, classroo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raining location &amp; environ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riteria &amp; methods for assessing participant learning and achieve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riteria &amp; methods for evaluating the progra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0FBF-43F2-4429-A3E4-5CAE785B05A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5) Selecting Instructional Methods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83343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n-the job-training (OJT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earn while you’re work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ff -the job-training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 house, training or classroo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ternal, consultancies or attending external class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dependent bodies, such as government tal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istance learning, from books or not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puter-assisted learn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teractive-video train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ideo conferencing, same as classroom except teachers and students are in different location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44E4-A9DE-4BAB-8428-BEEC2C81E92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xercise 3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magine you are the training manger of a hotel that will open next year. Your GM asks you to develop a training program that aims to increase the team spirit of the newly formed Executive Committee Membe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Your GM suggests you organize a two-day course in a resort location from 9 to 5 for both day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Your task is to suggest 3 training methods that suit the training theme described abov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Hint: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this is attitude, not skills nor knowledge train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305E-E4BA-4210-9018-0E691665678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Response to exercise 3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Remember your training theme was to change the individuals attitud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mploy exercises that trainees can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articipate i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act 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ovide feedback i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ceive inspiration to move 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uitable training methods you might have listed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ole-pl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am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imulation exercis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iscussion/debate forma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eriential exercis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elf evaluation (e.g. video tape trainees performance &amp; let them evaluate their own behaviors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5AF7-F8DA-4CAB-9D6C-37F41D04D50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912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6) Completing the Training Plan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pic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– Knowledge , skill or attitude ingredi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ethod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– direct (one way communication) or indirect (discussion, games, experimental exercises…). Important as evaluation of trainees usually lies on the perception on what they did in the training ses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ime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– length, period, breaks important to consid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ocation –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way from the office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9177-51DB-460A-8507-08685FF47DB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7) Implementing the Training Program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09640" y="2133720"/>
            <a:ext cx="79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esides trainers qualifications and experienc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articipant sele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Group comfort - physical &amp; psychologic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rainer enthusiasm &amp; skil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ffective communic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eedback mechanis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need to learn new training skil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eparation by train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21FA-CB52-4F6B-80A5-B06C05F44E1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912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8) Evaluating the Training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795348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hree Levels of Evaluation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mmediate Feedbac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rvey or interview directly after train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ost-Training Tes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rainee applying learned tasks in workplace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ost-Training Appraisa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nducted by immediate supervisors of traine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244C-D48F-4CA9-9C46-85B0F37E965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9) Planning Future Training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ast step in the training proces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fter taking all evaluated comments, trainers should modify the programs to keep good things and make suggested improvemen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member, even with the same topic for different trainees, trainers should address many parts of the training process again and consider new approach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733D-5A6E-42DC-ABBE-6D34B6F66DC4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.g. New Employee Orientatio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809640" y="2214720"/>
          <a:ext cx="7958160" cy="4657680"/>
        </p:xfrm>
        <a:graphic>
          <a:graphicData uri="http://schemas.openxmlformats.org/drawingml/2006/table">
            <a:tbl>
              <a:tblPr/>
              <a:tblGrid>
                <a:gridCol w="1933560"/>
                <a:gridCol w="2046240"/>
                <a:gridCol w="1839960"/>
                <a:gridCol w="2138400"/>
              </a:tblGrid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opic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ethod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:00-9:30 A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Welcome Speech by G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peech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alk &amp; hand shak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:30-10:00 A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tro to Company Backgroun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lide Present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lide Show &amp; Video Tap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:00-4:00 P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ire Safety Talk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ecurity Manage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ire Drill &amp; Equipmen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Freeform 55"/>
          <p:cNvSpPr/>
          <p:nvPr/>
        </p:nvSpPr>
        <p:spPr>
          <a:xfrm>
            <a:off x="838080" y="4800600"/>
            <a:ext cx="7925040" cy="330120"/>
          </a:xfrm>
          <a:custGeom>
            <a:avLst/>
            <a:gdLst/>
            <a:ahLst/>
            <a:rect l="l" t="t" r="r" b="b"/>
            <a:pathLst>
              <a:path w="4944" h="208">
                <a:moveTo>
                  <a:pt x="0" y="200"/>
                </a:moveTo>
                <a:cubicBezTo>
                  <a:pt x="120" y="152"/>
                  <a:pt x="240" y="104"/>
                  <a:pt x="336" y="104"/>
                </a:cubicBezTo>
                <a:cubicBezTo>
                  <a:pt x="432" y="104"/>
                  <a:pt x="456" y="208"/>
                  <a:pt x="576" y="200"/>
                </a:cubicBezTo>
                <a:cubicBezTo>
                  <a:pt x="696" y="192"/>
                  <a:pt x="904" y="56"/>
                  <a:pt x="1056" y="56"/>
                </a:cubicBezTo>
                <a:cubicBezTo>
                  <a:pt x="1208" y="56"/>
                  <a:pt x="1344" y="200"/>
                  <a:pt x="1488" y="200"/>
                </a:cubicBezTo>
                <a:cubicBezTo>
                  <a:pt x="1632" y="200"/>
                  <a:pt x="1744" y="64"/>
                  <a:pt x="1920" y="56"/>
                </a:cubicBezTo>
                <a:cubicBezTo>
                  <a:pt x="2096" y="48"/>
                  <a:pt x="2392" y="160"/>
                  <a:pt x="2544" y="152"/>
                </a:cubicBezTo>
                <a:cubicBezTo>
                  <a:pt x="2696" y="144"/>
                  <a:pt x="2680" y="0"/>
                  <a:pt x="2832" y="8"/>
                </a:cubicBezTo>
                <a:cubicBezTo>
                  <a:pt x="2984" y="16"/>
                  <a:pt x="3264" y="200"/>
                  <a:pt x="3456" y="200"/>
                </a:cubicBezTo>
                <a:cubicBezTo>
                  <a:pt x="3648" y="200"/>
                  <a:pt x="3824" y="8"/>
                  <a:pt x="3984" y="8"/>
                </a:cubicBezTo>
                <a:cubicBezTo>
                  <a:pt x="4144" y="8"/>
                  <a:pt x="4256" y="192"/>
                  <a:pt x="4416" y="200"/>
                </a:cubicBezTo>
                <a:cubicBezTo>
                  <a:pt x="4576" y="208"/>
                  <a:pt x="4872" y="56"/>
                  <a:pt x="4944" y="56"/>
                </a:cubicBezTo>
              </a:path>
            </a:pathLst>
          </a:custGeom>
          <a:noFill/>
          <a:ln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Freeform 77"/>
          <p:cNvSpPr/>
          <p:nvPr/>
        </p:nvSpPr>
        <p:spPr>
          <a:xfrm>
            <a:off x="838080" y="6248520"/>
            <a:ext cx="7925040" cy="330120"/>
          </a:xfrm>
          <a:custGeom>
            <a:avLst/>
            <a:gdLst/>
            <a:ahLst/>
            <a:rect l="l" t="t" r="r" b="b"/>
            <a:pathLst>
              <a:path w="4944" h="208">
                <a:moveTo>
                  <a:pt x="0" y="200"/>
                </a:moveTo>
                <a:cubicBezTo>
                  <a:pt x="120" y="152"/>
                  <a:pt x="240" y="104"/>
                  <a:pt x="336" y="104"/>
                </a:cubicBezTo>
                <a:cubicBezTo>
                  <a:pt x="432" y="104"/>
                  <a:pt x="456" y="208"/>
                  <a:pt x="576" y="200"/>
                </a:cubicBezTo>
                <a:cubicBezTo>
                  <a:pt x="696" y="192"/>
                  <a:pt x="904" y="56"/>
                  <a:pt x="1056" y="56"/>
                </a:cubicBezTo>
                <a:cubicBezTo>
                  <a:pt x="1208" y="56"/>
                  <a:pt x="1344" y="200"/>
                  <a:pt x="1488" y="200"/>
                </a:cubicBezTo>
                <a:cubicBezTo>
                  <a:pt x="1632" y="200"/>
                  <a:pt x="1744" y="64"/>
                  <a:pt x="1920" y="56"/>
                </a:cubicBezTo>
                <a:cubicBezTo>
                  <a:pt x="2096" y="48"/>
                  <a:pt x="2392" y="160"/>
                  <a:pt x="2544" y="152"/>
                </a:cubicBezTo>
                <a:cubicBezTo>
                  <a:pt x="2696" y="144"/>
                  <a:pt x="2680" y="0"/>
                  <a:pt x="2832" y="8"/>
                </a:cubicBezTo>
                <a:cubicBezTo>
                  <a:pt x="2984" y="16"/>
                  <a:pt x="3264" y="200"/>
                  <a:pt x="3456" y="200"/>
                </a:cubicBezTo>
                <a:cubicBezTo>
                  <a:pt x="3648" y="200"/>
                  <a:pt x="3824" y="8"/>
                  <a:pt x="3984" y="8"/>
                </a:cubicBezTo>
                <a:cubicBezTo>
                  <a:pt x="4144" y="8"/>
                  <a:pt x="4256" y="192"/>
                  <a:pt x="4416" y="200"/>
                </a:cubicBezTo>
                <a:cubicBezTo>
                  <a:pt x="4576" y="208"/>
                  <a:pt x="4872" y="56"/>
                  <a:pt x="4944" y="56"/>
                </a:cubicBezTo>
              </a:path>
            </a:pathLst>
          </a:custGeom>
          <a:noFill/>
          <a:ln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DE94-9460-4EFB-A744-2CEA7BEB8DE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Do Organizations Need Training</a:t>
            </a: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44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answer is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“YES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wever, we must know the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urpos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unction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of training before we can use it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C172-0A00-4C2C-A5E0-FBCAC24AC4D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37856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he Gap Concep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7" name="Line 4"/>
          <p:cNvSpPr/>
          <p:nvPr/>
        </p:nvSpPr>
        <p:spPr>
          <a:xfrm>
            <a:off x="2743200" y="2209680"/>
            <a:ext cx="0" cy="26672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2743200" y="4876920"/>
            <a:ext cx="510552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1143000" y="37339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erformance/Resul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4724280" y="4952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Arc 13"/>
          <p:cNvSpPr/>
          <p:nvPr/>
        </p:nvSpPr>
        <p:spPr>
          <a:xfrm flipV="1">
            <a:off x="3048120" y="2361960"/>
            <a:ext cx="3429000" cy="1828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Arc 14"/>
          <p:cNvSpPr/>
          <p:nvPr/>
        </p:nvSpPr>
        <p:spPr>
          <a:xfrm flipV="1">
            <a:off x="3505320" y="3199680"/>
            <a:ext cx="4114800" cy="1143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Text Box 15"/>
          <p:cNvSpPr/>
          <p:nvPr/>
        </p:nvSpPr>
        <p:spPr>
          <a:xfrm>
            <a:off x="4495680" y="2514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Expected Curv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781680" y="38098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ctual Curv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Text Box 17"/>
          <p:cNvSpPr/>
          <p:nvPr/>
        </p:nvSpPr>
        <p:spPr>
          <a:xfrm>
            <a:off x="6095880" y="2743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6172200" y="2971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Gap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1050840" y="5257800"/>
            <a:ext cx="7255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In training terms this means we need to develop programs to fill the Gap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Text Box 23"/>
          <p:cNvSpPr/>
          <p:nvPr/>
        </p:nvSpPr>
        <p:spPr>
          <a:xfrm>
            <a:off x="4038480" y="3200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1,000 Ca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Text Box 24"/>
          <p:cNvSpPr/>
          <p:nvPr/>
        </p:nvSpPr>
        <p:spPr>
          <a:xfrm>
            <a:off x="6781680" y="4191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800 Ca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41008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200 Ca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2B8D-EA93-4FC0-BB25-0A4209A2CA34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What is Training?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09640" y="2437920"/>
            <a:ext cx="7958160" cy="3581640"/>
          </a:xfrm>
          <a:prstGeom prst="rect">
            <a:avLst/>
          </a:prstGeom>
          <a:solidFill>
            <a:srgbClr val="cccc99"/>
          </a:solidFill>
          <a:ln w="381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raining is a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systematic proces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through which an organization’s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human resource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gain knowledg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develop skill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by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instruction and practical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activities that result in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improved corporate performanc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3D23-7E67-4CD7-ACC3-AE38F8B42AFD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8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Differences between Training &amp; Development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09640" y="2361960"/>
            <a:ext cx="7958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Training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s short term, task oriented and targeted on achieving a chang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f attitud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kill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nowledg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n a specific area. It is usually job relate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Development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s a long term investment in human resourc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2D4A-CE0F-4BB0-9A20-3BF6AAA86D5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raining Needs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686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reasons for not making the 1,000 car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ot enough resour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oor machi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oor staff skil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95320" y="2214720"/>
            <a:ext cx="441972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s training experts we must analyze the situation to determine if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xpected result too hig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arget achievab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s training the only way to make it happe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re there other facto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EDD5-B02B-4456-B4BC-97B190ABC58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378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Importance of Training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214360"/>
            <a:ext cx="815364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chieves high service standa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freshes memory of old employe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chieves learning about new things; technology, products / service deliver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duces mistakes - minimizing cos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portunity for staff to feedback / suggest improvemen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mproves communication &amp; relationships - better team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0491-EC5F-4BFD-9707-B2D42F2C9F0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3785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Benefits of Training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ost training is targeted to ensure trainees “learn” something they apply to their job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creased job satisfaction and morale among employe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creased employee motiva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creased capacity to adopt new technologies and method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duced employee turnove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creased efficiencies in processes, resulting in financial gai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7:04:12Z</dcterms:created>
  <dc:creator>bdewald</dc:creator>
  <dc:description/>
  <dc:language>en-US</dc:language>
  <cp:lastModifiedBy>User</cp:lastModifiedBy>
  <dcterms:modified xsi:type="dcterms:W3CDTF">2014-06-24T09:18:03Z</dcterms:modified>
  <cp:revision>9</cp:revision>
  <dc:subject/>
  <dc:title>Training &amp; Development</dc:title>
</cp:coreProperties>
</file>