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95CB-7736-4DC7-AEB9-EE23B74D2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4DA0-D049-4C80-823A-5CC0E35FB45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BF3-51DD-4672-9E12-C8FFFD83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F48-F937-4542-B251-2213E966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DB2-735F-4234-8DF3-12337B11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B89-D164-4BD6-9CEB-2DBA2E84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9108-5E73-4182-A545-3C98B336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2C23-142B-44BD-9841-E2E12248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CD67-BA99-4674-ADCD-2AEF4F1C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6E4F-73C3-4066-B43B-612FC01C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4A47-86EA-4401-BDD4-1218C828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81D8-00B6-4287-B4D2-8E769E94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6200-DD0D-4899-A5C7-1F861E85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6ED-2BC4-4C25-A962-C3C1F61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F4B4-3643-47A2-97C9-44F10FB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D8B6-84A6-4183-B0E2-6439E15C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584C-E37F-4697-883A-72D10E0E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8C4E-072B-4EFE-BFEE-AC624DDF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55E2-7B73-4BE6-A582-0542C39A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E72-A439-4DC9-A5CF-FE13E295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CFA-B2DB-4DB3-BEEB-AB19C92D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579-C03E-4DF9-B648-BCBA22E7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487-0D1A-4E64-8D50-1E5024D8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6C1-49EB-4293-82A2-8594475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82D-3771-4443-8C20-896FF579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EF6-167A-4332-9982-8FE94F4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9F79-3117-44DD-8E44-4D76B097429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AFD4-6E02-4024-95FA-A716F339BE1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294920" y="2693520"/>
            <a:ext cx="723924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2d5c"/>
                </a:solidFill>
                <a:latin typeface="Times New Roman"/>
                <a:ea typeface="Times New Roman"/>
              </a:rPr>
              <a:t>Training and Developing Employee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169640" y="1066680"/>
            <a:ext cx="73803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hapter 3</a:t>
            </a:r>
            <a:br>
              <a:rPr sz="4000"/>
            </a:b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EE2D-E05B-4EE8-8799-12E155B9205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he ASK Concept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we follow the GAP concept, training is simply a means to use activities to fill the gaps of performance between the actual results and the expected resul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s GAP can be separated into 3 main topic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1886040" indent="-34308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t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1886040" indent="-34308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ki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1886040" indent="-34308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wled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343400" y="4800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EB15-974D-4D6B-A925-FA0EA2257DC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ercise 1 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ank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SK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by difficulty to develop in peo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titu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wled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419720" y="3200400"/>
            <a:ext cx="3657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asy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oderately difficul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ost difficul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EABA-3533-4635-9FD3-30EBD2F847A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6201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 Systematic Approach to Training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2214360"/>
            <a:ext cx="853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Key Concepts in Preparing a Training Pl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fore you train and develop people identify what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y must know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- before they can perform job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y should know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- to improve performa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ould be nice for them to know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but not necessary to perform dut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FBCE-223F-4D32-9C24-ED98FEC3260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odel of the Training Process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762120" y="1981080"/>
          <a:ext cx="8034120" cy="5332680"/>
        </p:xfrm>
        <a:graphic>
          <a:graphicData uri="http://schemas.openxmlformats.org/drawingml/2006/table">
            <a:tbl>
              <a:tblPr/>
              <a:tblGrid>
                <a:gridCol w="2728800"/>
                <a:gridCol w="2652840"/>
                <a:gridCol w="265248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ssessment St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ining St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valuation St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rganizational       Needs Assess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ask Need Assess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velopment of Training Objectiv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sign &amp; Select Procedur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asure Training Result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velopment of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riteria for Training Evalu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mpare Results to Criter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Line 159"/>
          <p:cNvSpPr/>
          <p:nvPr/>
        </p:nvSpPr>
        <p:spPr>
          <a:xfrm>
            <a:off x="2057400" y="3200400"/>
            <a:ext cx="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Line 160"/>
          <p:cNvSpPr/>
          <p:nvPr/>
        </p:nvSpPr>
        <p:spPr>
          <a:xfrm>
            <a:off x="2057400" y="3886200"/>
            <a:ext cx="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Line 161"/>
          <p:cNvSpPr/>
          <p:nvPr/>
        </p:nvSpPr>
        <p:spPr>
          <a:xfrm>
            <a:off x="2057400" y="4876920"/>
            <a:ext cx="0" cy="3045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Line 162"/>
          <p:cNvSpPr/>
          <p:nvPr/>
        </p:nvSpPr>
        <p:spPr>
          <a:xfrm>
            <a:off x="7467480" y="4876920"/>
            <a:ext cx="0" cy="3045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Line 163"/>
          <p:cNvSpPr/>
          <p:nvPr/>
        </p:nvSpPr>
        <p:spPr>
          <a:xfrm>
            <a:off x="3200400" y="4495680"/>
            <a:ext cx="53352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Line 164"/>
          <p:cNvSpPr/>
          <p:nvPr/>
        </p:nvSpPr>
        <p:spPr>
          <a:xfrm>
            <a:off x="5410080" y="5410080"/>
            <a:ext cx="8384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Line 165"/>
          <p:cNvSpPr/>
          <p:nvPr/>
        </p:nvSpPr>
        <p:spPr>
          <a:xfrm>
            <a:off x="3276720" y="5410080"/>
            <a:ext cx="9144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Line 166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Line 169"/>
          <p:cNvSpPr/>
          <p:nvPr/>
        </p:nvSpPr>
        <p:spPr>
          <a:xfrm flipV="1">
            <a:off x="5257800" y="4495320"/>
            <a:ext cx="1143000" cy="7621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Line 170"/>
          <p:cNvSpPr/>
          <p:nvPr/>
        </p:nvSpPr>
        <p:spPr>
          <a:xfrm>
            <a:off x="685800" y="2819520"/>
            <a:ext cx="0" cy="35049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Line 171"/>
          <p:cNvSpPr/>
          <p:nvPr/>
        </p:nvSpPr>
        <p:spPr>
          <a:xfrm>
            <a:off x="685800" y="6324480"/>
            <a:ext cx="6858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Line 172"/>
          <p:cNvSpPr/>
          <p:nvPr/>
        </p:nvSpPr>
        <p:spPr>
          <a:xfrm>
            <a:off x="685800" y="2819520"/>
            <a:ext cx="4572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Line 175"/>
          <p:cNvSpPr/>
          <p:nvPr/>
        </p:nvSpPr>
        <p:spPr>
          <a:xfrm flipV="1">
            <a:off x="7543800" y="5943600"/>
            <a:ext cx="0" cy="3808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B957-8F03-45FE-821B-F4566016AE1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Nine Steps in the Training Proces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802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sessing training nee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eparing training p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ecifying training obje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signing the training program(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lecting the instructional metho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pleting the training p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mplementing the training progra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valuating the tr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anning future tr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CDB4-C443-40C3-9CE4-F72BA3F34D4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1) Assessing Training Need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4582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duct a training needs analysis by either one, or both, of the follow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ternal approach (company, guests, societ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ernal approach – using a staff opinion surve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8EC-203F-4005-BF24-685A97F508D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ercise 2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agine you are the manager of a factory with 500 workers making ice cream for export to Europe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information and evidence do you need before you can say the employees need train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y to list 5 idea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1AEB-2C32-4970-8E16-917F921F685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esponse to exercise 2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cidents repor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ick leave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mployee compensation statist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duct quality control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astage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fficiency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ry out-of-order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aff discipline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aff enquiries &amp; complai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uests complai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fusal of orders ma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uality of product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rket needs &amp; tren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mographic data &amp; background of employe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D0CC-4843-46FB-9AFA-8CA783DD4CE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2) Preparing Training Pla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der whether to design a long (5-10 years), medium (3-5 years) or short (1 year) term pla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k your self “What are we going to achieve in the time period?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se a complete approach by using a calendar for inputting your training activit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78B0-A0CB-4C86-B82F-F868BB3256A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raining Calendar Exampl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762120" y="2743200"/>
          <a:ext cx="8076960" cy="3881520"/>
        </p:xfrm>
        <a:graphic>
          <a:graphicData uri="http://schemas.openxmlformats.org/drawingml/2006/table">
            <a:tbl>
              <a:tblPr/>
              <a:tblGrid>
                <a:gridCol w="3431880"/>
                <a:gridCol w="621000"/>
                <a:gridCol w="620640"/>
                <a:gridCol w="620640"/>
                <a:gridCol w="620640"/>
                <a:gridCol w="620640"/>
                <a:gridCol w="621000"/>
                <a:gridCol w="92052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..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ttitud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in the traine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Job competenc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ales techniqu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elephone manne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Text Box 86"/>
          <p:cNvSpPr/>
          <p:nvPr/>
        </p:nvSpPr>
        <p:spPr>
          <a:xfrm>
            <a:off x="918720" y="2133720"/>
            <a:ext cx="63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ining Area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    Month in the ye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9ED9-3C47-48B4-9084-8831C9605EE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y do we Need Train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is Training &amp; Training Principle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Systematic Approach to Trai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Training Lesson Pl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29FB-7766-481E-AD12-D3B2F7AECF8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lang="en-US" sz="3800" spc="-1" strike="noStrike">
                <a:solidFill>
                  <a:srgbClr val="800000"/>
                </a:solidFill>
                <a:latin typeface="Times New Roman"/>
              </a:rPr>
              <a:t>3) Specifying Training Objectives</a:t>
            </a:r>
            <a:endParaRPr b="0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05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ing Objectives must be specific &amp; measurable. Why? Very difficult to measure effectiveness after course is finish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should trainees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e able to accomplish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fter participating in the training program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desired leve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f such accomplishment, according to industry or organizational standard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o you want to develop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ttitudes, skills, knowledge or some combinatio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f these three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C6B8-74A9-4479-9A7E-10E42DEE552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4) Designing the Training Program(s)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386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gram dur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gram struc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struction metho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ers qualifi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ature of traine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port resources – materials, classroo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ing location &amp; environ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riteria &amp; methods for assessing participant learning and achiev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riteria &amp; methods for evaluating the progra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6403-A888-40AE-8296-AFACD946770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5) Selecting Instructional Methods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-the job-training (OJT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earn while you’re work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ff -the job-training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 house, training or classroo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ternal, consultancies or attending external clas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pendent bodies, such as government tal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stance learning, from books or not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uter-assisted learn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teractive-video train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ideo conferencing, same as classroom except teachers and students are in different locatio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5D98-DDFD-41EC-9F36-F434F879CD1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ercise 3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magine you are the training manger of a hotel that will open next year. Your GM asks you to develop a training program that aims to increase the team spirit of the newly formed Executive Committee Memb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Your GM suggests you organize a two-day course in a resort location from 9 to 5 for both day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Your task is to suggest 3 training methods that suit the training theme described abov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int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this is attitude, not skills nor knowledge tr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FD99-B570-454F-9E13-7A6ECC5CD6B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esponse to exercise 3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emember your training theme was to change the individuals attitu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ploy exercises that trainees ca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rticipate 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act 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vide feedback 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ceive inspiration to move 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uitable training methods you might have liste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ole-pl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imulation exerci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scussion/debate forma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eriential exerci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lf evaluation (e.g. video tape trainees performance &amp; let them evaluate their own behavior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09DE-FEB0-4DA9-8389-2B74420D862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912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6) Completing the Training Plan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pi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Knowledge , skill or attitude ingredi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direct (one way communication) or indirect (discussion, games, experimental exercises…). Important as evaluation of trainees usually lies on the perception on what they did in the training ses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im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– length, period, breaks important to consid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cation –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way from the offic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7012-AC4F-4F55-9732-93D9B7DE861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7) Implementing the Training Program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09640" y="213372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sides trainers qualifications and experi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rticipant sele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roup comfort - physical &amp; psycholog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er enthusiasm &amp; ski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ffective communi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eedback mechanis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need to learn new training ski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eparation by train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7848-6095-4075-A6C3-D61B93E1665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912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8) Evaluating the Training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95348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ree Levels of Evaluation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mediate Feedba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rvey or interview directly after tr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ost-Training Te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ee applying learned tasks in workplac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ost-Training Apprais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ducted by immediate supervisors of traine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975B-7057-452B-BDA2-72DB7FEF585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9) Planning Future Training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ast step in the training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fter taking all evaluated comments, trainers should modify the programs to keep good things and make suggested improv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member, even with the same topic for different trainees, trainers should address many parts of the training process again and consider new approach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FE97-3E7A-48AE-8D70-B30BA7674A3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.g. New Employee Orient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809640" y="2214720"/>
          <a:ext cx="7958160" cy="4657680"/>
        </p:xfrm>
        <a:graphic>
          <a:graphicData uri="http://schemas.openxmlformats.org/drawingml/2006/table">
            <a:tbl>
              <a:tblPr/>
              <a:tblGrid>
                <a:gridCol w="1933560"/>
                <a:gridCol w="2046240"/>
                <a:gridCol w="1839960"/>
                <a:gridCol w="213840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:00-9:30 A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elcome Speech by G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peech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alk &amp; hand shak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:30-10:00 A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ro to Company Backgrou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lide Present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lide Show &amp; Video Tap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:00-4:00 P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ire Safety Tal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curity Manag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ire Drill &amp; Equip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Freeform 55"/>
          <p:cNvSpPr/>
          <p:nvPr/>
        </p:nvSpPr>
        <p:spPr>
          <a:xfrm>
            <a:off x="838080" y="4800600"/>
            <a:ext cx="7925040" cy="330120"/>
          </a:xfrm>
          <a:custGeom>
            <a:avLst/>
            <a:gdLst/>
            <a:ahLst/>
            <a:rect l="l" t="t" r="r" b="b"/>
            <a:pathLst>
              <a:path w="4944" h="208">
                <a:moveTo>
                  <a:pt x="0" y="200"/>
                </a:moveTo>
                <a:cubicBezTo>
                  <a:pt x="120" y="152"/>
                  <a:pt x="240" y="104"/>
                  <a:pt x="336" y="104"/>
                </a:cubicBezTo>
                <a:cubicBezTo>
                  <a:pt x="432" y="104"/>
                  <a:pt x="456" y="208"/>
                  <a:pt x="576" y="200"/>
                </a:cubicBezTo>
                <a:cubicBezTo>
                  <a:pt x="696" y="192"/>
                  <a:pt x="904" y="56"/>
                  <a:pt x="1056" y="56"/>
                </a:cubicBezTo>
                <a:cubicBezTo>
                  <a:pt x="1208" y="56"/>
                  <a:pt x="1344" y="200"/>
                  <a:pt x="1488" y="200"/>
                </a:cubicBezTo>
                <a:cubicBezTo>
                  <a:pt x="1632" y="200"/>
                  <a:pt x="1744" y="64"/>
                  <a:pt x="1920" y="56"/>
                </a:cubicBezTo>
                <a:cubicBezTo>
                  <a:pt x="2096" y="48"/>
                  <a:pt x="2392" y="160"/>
                  <a:pt x="2544" y="152"/>
                </a:cubicBezTo>
                <a:cubicBezTo>
                  <a:pt x="2696" y="144"/>
                  <a:pt x="2680" y="0"/>
                  <a:pt x="2832" y="8"/>
                </a:cubicBezTo>
                <a:cubicBezTo>
                  <a:pt x="2984" y="16"/>
                  <a:pt x="3264" y="200"/>
                  <a:pt x="3456" y="200"/>
                </a:cubicBezTo>
                <a:cubicBezTo>
                  <a:pt x="3648" y="200"/>
                  <a:pt x="3824" y="8"/>
                  <a:pt x="3984" y="8"/>
                </a:cubicBezTo>
                <a:cubicBezTo>
                  <a:pt x="4144" y="8"/>
                  <a:pt x="4256" y="192"/>
                  <a:pt x="4416" y="200"/>
                </a:cubicBezTo>
                <a:cubicBezTo>
                  <a:pt x="4576" y="208"/>
                  <a:pt x="4872" y="56"/>
                  <a:pt x="4944" y="56"/>
                </a:cubicBez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Freeform 77"/>
          <p:cNvSpPr/>
          <p:nvPr/>
        </p:nvSpPr>
        <p:spPr>
          <a:xfrm>
            <a:off x="838080" y="6248520"/>
            <a:ext cx="7925040" cy="330120"/>
          </a:xfrm>
          <a:custGeom>
            <a:avLst/>
            <a:gdLst/>
            <a:ahLst/>
            <a:rect l="l" t="t" r="r" b="b"/>
            <a:pathLst>
              <a:path w="4944" h="208">
                <a:moveTo>
                  <a:pt x="0" y="200"/>
                </a:moveTo>
                <a:cubicBezTo>
                  <a:pt x="120" y="152"/>
                  <a:pt x="240" y="104"/>
                  <a:pt x="336" y="104"/>
                </a:cubicBezTo>
                <a:cubicBezTo>
                  <a:pt x="432" y="104"/>
                  <a:pt x="456" y="208"/>
                  <a:pt x="576" y="200"/>
                </a:cubicBezTo>
                <a:cubicBezTo>
                  <a:pt x="696" y="192"/>
                  <a:pt x="904" y="56"/>
                  <a:pt x="1056" y="56"/>
                </a:cubicBezTo>
                <a:cubicBezTo>
                  <a:pt x="1208" y="56"/>
                  <a:pt x="1344" y="200"/>
                  <a:pt x="1488" y="200"/>
                </a:cubicBezTo>
                <a:cubicBezTo>
                  <a:pt x="1632" y="200"/>
                  <a:pt x="1744" y="64"/>
                  <a:pt x="1920" y="56"/>
                </a:cubicBezTo>
                <a:cubicBezTo>
                  <a:pt x="2096" y="48"/>
                  <a:pt x="2392" y="160"/>
                  <a:pt x="2544" y="152"/>
                </a:cubicBezTo>
                <a:cubicBezTo>
                  <a:pt x="2696" y="144"/>
                  <a:pt x="2680" y="0"/>
                  <a:pt x="2832" y="8"/>
                </a:cubicBezTo>
                <a:cubicBezTo>
                  <a:pt x="2984" y="16"/>
                  <a:pt x="3264" y="200"/>
                  <a:pt x="3456" y="200"/>
                </a:cubicBezTo>
                <a:cubicBezTo>
                  <a:pt x="3648" y="200"/>
                  <a:pt x="3824" y="8"/>
                  <a:pt x="3984" y="8"/>
                </a:cubicBezTo>
                <a:cubicBezTo>
                  <a:pt x="4144" y="8"/>
                  <a:pt x="4256" y="192"/>
                  <a:pt x="4416" y="200"/>
                </a:cubicBezTo>
                <a:cubicBezTo>
                  <a:pt x="4576" y="208"/>
                  <a:pt x="4872" y="56"/>
                  <a:pt x="4944" y="56"/>
                </a:cubicBez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6E15-BB7C-4026-858F-8653B978D66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Do Organizations Need Training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answer is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“YES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ever, we must know the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urpos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unction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of training before we can use i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D4C-1AC0-4337-9615-C73D67BF174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he Gap Concep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2743200" y="2209680"/>
            <a:ext cx="0" cy="26672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743200" y="4876920"/>
            <a:ext cx="51055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143000" y="37339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erformance/Resul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4724280" y="4952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Arc 13"/>
          <p:cNvSpPr/>
          <p:nvPr/>
        </p:nvSpPr>
        <p:spPr>
          <a:xfrm flipV="1">
            <a:off x="3048120" y="2361960"/>
            <a:ext cx="3429000" cy="1828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Arc 14"/>
          <p:cNvSpPr/>
          <p:nvPr/>
        </p:nvSpPr>
        <p:spPr>
          <a:xfrm flipV="1">
            <a:off x="3505320" y="3199680"/>
            <a:ext cx="4114800" cy="1143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4495680" y="2514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Expected Curv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781680" y="3809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ctual Curv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6095880" y="2743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17220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Gap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1050840" y="5257800"/>
            <a:ext cx="7255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In training terms this means we need to develop programs to fill the Gap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403848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,000 Ca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6781680" y="4191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800 Ca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41008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 Ca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768D-F81C-4EA7-9739-4A2E2D098D8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is Training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437920"/>
            <a:ext cx="7958160" cy="3581640"/>
          </a:xfrm>
          <a:prstGeom prst="rect">
            <a:avLst/>
          </a:prstGeom>
          <a:solidFill>
            <a:srgbClr val="cccc99"/>
          </a:solidFill>
          <a:ln w="381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aining is a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systematic proces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hrough which an organization’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human resourc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gain knowledg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develop skill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by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nstruction and practica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ctivities that result in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mproved corporate performanc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47B6-EBBF-4A1B-A2F7-A56C4FEB29E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Differences between Training &amp; Development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361960"/>
            <a:ext cx="7958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ining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short term, task oriented and targeted on achieving a chang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f attitud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kill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nowledg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n a specific area. It is usually job relat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evelopment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s a long term investment in human resourc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A7D3-E75F-4F71-B9F5-8EDCCD21F5C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raining Need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686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reasons for not making the 1,000 car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t enough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or machi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or staff ski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95320" y="2214720"/>
            <a:ext cx="441972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 training experts we must analyze the situation to determine if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pected result too hi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arget achieva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s training the only way to make it happ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e there other facto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9444-473B-4866-8928-DF2C3956D15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mportance of Training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214360"/>
            <a:ext cx="81536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hieves high service stand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freshes memory of old employe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hieves learning about new things; technology, products / service delive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duces mistakes - minimizing cos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portunity for staff to feedback / suggest improve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mproves communication &amp; relationships - better team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BE25-51F1-4726-8479-DC4E2749B43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Benefits of Training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st training is targeted to ensure trainees “learn” something they apply to their job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creased job satisfaction and morale among employe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creased employee motiv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creased capacity to adopt new technologies and method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duced employee turnov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creased efficiencies in processes, resulting in financial gai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7:04:12Z</dcterms:created>
  <dc:creator>bdewald</dc:creator>
  <dc:description/>
  <dc:language>en-US</dc:language>
  <cp:lastModifiedBy>User</cp:lastModifiedBy>
  <dcterms:modified xsi:type="dcterms:W3CDTF">2014-06-24T09:18:03Z</dcterms:modified>
  <cp:revision>9</cp:revision>
  <dc:subject/>
  <dc:title>Training &amp; Development</dc:title>
</cp:coreProperties>
</file>