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BCE2-EDC0-49D8-A604-39951D0D01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29B-88C7-4CBB-8B89-F49C39C865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63A7-7334-41CE-A81B-53A35510EB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C29-62A2-40A1-B92C-C651344F2A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1A83-8CD2-46E0-80DC-CE1582EE6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2E1E-4DD2-42D3-A591-C48F0DC0A8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B4CD-6624-4214-BF2E-E9B677EBCC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724-9A08-481B-838A-08377CDCA5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E93-3128-41ED-8719-0060EB10F8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214-66CB-47DA-9018-513538E3D8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4AB-EE9F-46EB-9B3C-958CA368AB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A086-41EA-4CCB-B707-B81A35E3E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C9E-3A6D-449E-BB8E-EF07A9ED17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7CC-EF4B-4266-B7A4-814DDD2672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BB8C-3B03-4CEC-9975-78ADD44D63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CA7-57C8-4199-8152-A681A62199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33C2-4E93-4731-97E3-52B66870B3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934-F71E-4F89-AC4F-F2CC88E3CD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B77-19A7-4F63-B811-C19BF13416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21C-4445-4AE7-8891-14AC0D11A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A68-920C-48E6-9B23-40B1245088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DFA-62B0-49FB-9BE0-428CCC53F7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EF4A-72BE-4841-90A2-CF356B5397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629-0381-4989-ACD3-9FC362932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F49-B767-4AE6-AC37-F48F03B76A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708-5949-49B3-9806-94CCF793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FD8-382D-4C58-88B3-D2FBB754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307-9801-4E04-BC65-A362C079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76D-7BD0-4163-A2A9-3D487997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37B-349F-4000-852A-528142E7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0577-CCA5-4C4E-A83D-33121BA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EC73-9495-43A5-8371-296D7EF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E91-E814-4FED-9400-AB3E04E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F13F-6B91-48AD-AA6F-0C3A7B42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63EA-0D01-407E-A4F6-36B4626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C2B-4101-4376-9AAF-2B80664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5F5-2AE4-4624-8280-4CE54A5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AE76-A009-4FD9-AB0E-B6F3962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D7A-B2B9-405C-8112-A33FF01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2699-A4ED-4F00-B8A0-A59EDC2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66F-F637-40EF-9AA9-8362294A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D6C3-9217-4E14-A168-225E7983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5E7-0AB8-4CB0-9B34-BC02466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C8B-C11E-4CCA-A87A-F2FB8ED6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7B0-FC57-4F36-9486-0AB8F683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DC0-89BC-4D92-B98E-4B4B73A5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960-C712-4D7C-B919-B75D77C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049-1ED8-4E90-AC0F-E752A7A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E08-799D-4D4E-8617-5456CEC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C65-5890-4D37-BDAF-FE55EAA2A76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CAC3-F3F8-41B1-97C6-3C675F74A2C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cf.berkeley.edu/~edy/genome/" TargetMode="External"/><Relationship Id="rId3" Type="http://schemas.openxmlformats.org/officeDocument/2006/relationships/hyperlink" Target="http://www.ocf.berkeley.edu/~edy/genome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raightlab.stanford.edu/images/science/picturesandmovies/ptk-gt100xdic30s-3.mov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cropsci.uiuc.edu/faculty/raybur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hyperlink" Target="http://www.biologyreference.com/Ce-Co/Chromosome-Eukaryo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6" descr="chromosomes"/>
          <p:cNvPicPr/>
          <p:nvPr/>
        </p:nvPicPr>
        <p:blipFill>
          <a:blip r:embed="rId1"/>
          <a:stretch/>
        </p:blipFill>
        <p:spPr>
          <a:xfrm>
            <a:off x="3228840" y="2305080"/>
            <a:ext cx="3791160" cy="3171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224160" y="5651640"/>
            <a:ext cx="43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© The Human Genome Project: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Biocomputing Admin Ed Yu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karyotypeX"/>
          <p:cNvPicPr/>
          <p:nvPr/>
        </p:nvPicPr>
        <p:blipFill>
          <a:blip r:embed="rId1"/>
          <a:stretch/>
        </p:blipFill>
        <p:spPr>
          <a:xfrm>
            <a:off x="822240" y="2617920"/>
            <a:ext cx="3749760" cy="28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karyotype"/>
          <p:cNvPicPr/>
          <p:nvPr/>
        </p:nvPicPr>
        <p:blipFill>
          <a:blip r:embed="rId2"/>
          <a:stretch/>
        </p:blipFill>
        <p:spPr>
          <a:xfrm>
            <a:off x="5219640" y="2583000"/>
            <a:ext cx="3240000" cy="2819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547640" y="5589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508720" y="5589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680440" y="637380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Down’s syndr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6" descr="Trisomy 21 Karyotype"/>
          <p:cNvPicPr/>
          <p:nvPr/>
        </p:nvPicPr>
        <p:blipFill>
          <a:blip r:embed="rId1"/>
          <a:stretch/>
        </p:blipFill>
        <p:spPr>
          <a:xfrm>
            <a:off x="3048120" y="1671480"/>
            <a:ext cx="3959280" cy="456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680440" y="637380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 and chromosomes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ifferences in chromosomes are associated with difference in the way we grow.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karyotypes of males and females are not the sam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emales have two large X chromosom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ales have a large X and a small Y chromosom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X and the Y chromosomes are called </a:t>
            </a:r>
            <a:r>
              <a:rPr b="1" lang="en-GB" sz="1900" spc="-1" strike="noStrike">
                <a:solidFill>
                  <a:srgbClr val="006666"/>
                </a:solidFill>
                <a:latin typeface="Verdana"/>
              </a:rPr>
              <a:t>sex chromosom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sex chromosomes are placed at the end of the karyotyp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nusual growth can be associated with </a:t>
            </a:r>
            <a:r>
              <a:rPr b="1" lang="en-GB" sz="1900" spc="-1" strike="noStrike">
                <a:solidFill>
                  <a:srgbClr val="006666"/>
                </a:solidFill>
                <a:latin typeface="Verdana"/>
              </a:rPr>
              <a:t>chromosome abnormaliti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e.g. People who develop Down’s syndrome have trisomy 2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Chromosomal abnormali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8" descr="Trisomy21"/>
          <p:cNvPicPr/>
          <p:nvPr/>
        </p:nvPicPr>
        <p:blipFill>
          <a:blip r:embed="rId1"/>
          <a:stretch/>
        </p:blipFill>
        <p:spPr>
          <a:xfrm>
            <a:off x="971640" y="2781360"/>
            <a:ext cx="3579840" cy="2212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Trisomy18(Edwards)"/>
          <p:cNvPicPr/>
          <p:nvPr/>
        </p:nvPicPr>
        <p:blipFill>
          <a:blip r:embed="rId2"/>
          <a:stretch/>
        </p:blipFill>
        <p:spPr>
          <a:xfrm>
            <a:off x="5148360" y="2492280"/>
            <a:ext cx="3463920" cy="277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900000" y="2637000"/>
            <a:ext cx="37432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5148360" y="2565360"/>
            <a:ext cx="352728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971640" y="544500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ysomy-21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Down’s syndr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932360" y="544032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ysomy-18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Edward’s syndr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639040" y="638964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2781360"/>
            <a:ext cx="7313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refore genetic information is found on our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721800"/>
            <a:ext cx="7313400" cy="7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 and cell divi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1195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ulticellular organisms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copy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their chromosomes before cell divis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 must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grow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o a mature siz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nucleus divides, distributing the chromosomes into two equal groups (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cytoplasm then divides (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cytokinesis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) each part taking a nucle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5810400" y="1860480"/>
            <a:ext cx="215640" cy="177480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774800"/>
              <a:gd name="textAreaBottom" fmla="*/ 1728720 h 177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41960" y="2544840"/>
            <a:ext cx="18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nter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ptk_gt100xdic30s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1560" y="3897360"/>
            <a:ext cx="2143080" cy="2679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36040" y="658332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ell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310440" y="3274920"/>
            <a:ext cx="244152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rst growth ph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Varies in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4470480" y="2313000"/>
            <a:ext cx="453960" cy="5540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862600" y="4938840"/>
            <a:ext cx="181296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pying of chromoso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405400" y="1720800"/>
            <a:ext cx="249408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ome cells may stay in this stage for over a 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149480" y="4008600"/>
            <a:ext cx="2020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cond growth ph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3433680" y="2867040"/>
            <a:ext cx="2505240" cy="229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3854520" y="2886120"/>
            <a:ext cx="198360" cy="42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4912920" y="2670120"/>
            <a:ext cx="2844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5573880" y="4282920"/>
            <a:ext cx="556920" cy="23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952880" y="4778280"/>
            <a:ext cx="206640" cy="596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183200" y="2530440"/>
            <a:ext cx="412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813280" y="3376440"/>
            <a:ext cx="53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457960" y="4835520"/>
            <a:ext cx="3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841480" y="3678120"/>
            <a:ext cx="586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978440" y="2359080"/>
            <a:ext cx="650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4713120" y="28684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746360" y="1755720"/>
            <a:ext cx="3176640" cy="6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ytokinesis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vision of the cytopla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WordArt 22"/>
          <p:cNvSpPr txBox="1"/>
          <p:nvPr/>
        </p:nvSpPr>
        <p:spPr>
          <a:xfrm>
            <a:off x="3840120" y="3959280"/>
            <a:ext cx="1685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NTERPH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23"/>
          <p:cNvSpPr txBox="1"/>
          <p:nvPr/>
        </p:nvSpPr>
        <p:spPr>
          <a:xfrm rot="20815200">
            <a:off x="4087440" y="3065400"/>
            <a:ext cx="781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Mitos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sp>
        <p:nvSpPr>
          <p:cNvPr id="180" name="Line 24"/>
          <p:cNvSpPr/>
          <p:nvPr/>
        </p:nvSpPr>
        <p:spPr>
          <a:xfrm flipH="1">
            <a:off x="4964040" y="2689200"/>
            <a:ext cx="123840" cy="171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800440" y="5981760"/>
            <a:ext cx="40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+ S + G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= INTERPHAS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ell cycles in different ce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0160" y="1785960"/>
          <a:ext cx="7313400" cy="4568760"/>
        </p:xfrm>
        <a:graphic>
          <a:graphicData uri="http://schemas.openxmlformats.org/drawingml/2006/table">
            <a:tbl>
              <a:tblPr/>
              <a:tblGrid>
                <a:gridCol w="4255920"/>
                <a:gridCol w="30574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3300"/>
                          </a:solidFill>
                          <a:latin typeface="Verdana"/>
                          <a:ea typeface="Times New Roman"/>
                        </a:rPr>
                        <a:t>Cell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3300"/>
                          </a:solidFill>
                          <a:latin typeface="Verdana"/>
                          <a:ea typeface="Times New Roman"/>
                        </a:rPr>
                        <a:t>Cell cycle /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an root t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inese hamster 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small intestine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oesophag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8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 and rep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hromosomes come in pairs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of the pair is maternal the other is paternal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en parents make sex cells the number of chromosomes must be halved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of each type of chromosome is tak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6"/>
          <p:cNvSpPr/>
          <p:nvPr/>
        </p:nvSpPr>
        <p:spPr>
          <a:xfrm>
            <a:off x="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116000" y="1484280"/>
            <a:ext cx="6985080" cy="4191120"/>
            <a:chOff x="1116000" y="1484280"/>
            <a:chExt cx="6985080" cy="4191120"/>
          </a:xfrm>
        </p:grpSpPr>
        <p:sp>
          <p:nvSpPr>
            <p:cNvPr id="191" name="AutoShape 25"/>
            <p:cNvSpPr/>
            <p:nvPr/>
          </p:nvSpPr>
          <p:spPr>
            <a:xfrm>
              <a:off x="1116000" y="1484280"/>
              <a:ext cx="698508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1118520" y="1573200"/>
              <a:ext cx="6894000" cy="3968640"/>
              <a:chOff x="1118520" y="1573200"/>
              <a:chExt cx="6894000" cy="3968640"/>
            </a:xfrm>
          </p:grpSpPr>
          <p:sp>
            <p:nvSpPr>
              <p:cNvPr id="193" name="Text Box 24"/>
              <p:cNvSpPr/>
              <p:nvPr/>
            </p:nvSpPr>
            <p:spPr>
              <a:xfrm>
                <a:off x="6587280" y="3496680"/>
                <a:ext cx="1425240" cy="50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Text Box 23"/>
              <p:cNvSpPr/>
              <p:nvPr/>
            </p:nvSpPr>
            <p:spPr>
              <a:xfrm>
                <a:off x="3109320" y="3507480"/>
                <a:ext cx="145728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Text Box 22"/>
              <p:cNvSpPr/>
              <p:nvPr/>
            </p:nvSpPr>
            <p:spPr>
              <a:xfrm>
                <a:off x="1587960" y="3497400"/>
                <a:ext cx="1423800" cy="477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Text Box 21"/>
              <p:cNvSpPr/>
              <p:nvPr/>
            </p:nvSpPr>
            <p:spPr>
              <a:xfrm>
                <a:off x="5000760" y="3507480"/>
                <a:ext cx="1467360" cy="47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Text Box 20"/>
              <p:cNvSpPr/>
              <p:nvPr/>
            </p:nvSpPr>
            <p:spPr>
              <a:xfrm>
                <a:off x="5500080" y="4149000"/>
                <a:ext cx="12405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Fertilis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4315320" y="5094000"/>
                <a:ext cx="978840" cy="44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ild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Text Box 18"/>
              <p:cNvSpPr/>
              <p:nvPr/>
            </p:nvSpPr>
            <p:spPr>
              <a:xfrm>
                <a:off x="5936400" y="1573200"/>
                <a:ext cx="1161720" cy="54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ather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4086360" y="4528080"/>
                <a:ext cx="1489320" cy="49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pairs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Text Box 16"/>
              <p:cNvSpPr/>
              <p:nvPr/>
            </p:nvSpPr>
            <p:spPr>
              <a:xfrm>
                <a:off x="1118520" y="3114720"/>
                <a:ext cx="978120" cy="33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x cell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15"/>
              <p:cNvSpPr/>
              <p:nvPr/>
            </p:nvSpPr>
            <p:spPr>
              <a:xfrm>
                <a:off x="4271760" y="2909520"/>
                <a:ext cx="12405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Meiosi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>
                <a:off x="3196080" y="2736360"/>
                <a:ext cx="402120" cy="7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Line 13"/>
              <p:cNvSpPr/>
              <p:nvPr/>
            </p:nvSpPr>
            <p:spPr>
              <a:xfrm flipH="1">
                <a:off x="2511360" y="2736360"/>
                <a:ext cx="478080" cy="74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12"/>
              <p:cNvSpPr/>
              <p:nvPr/>
            </p:nvSpPr>
            <p:spPr>
              <a:xfrm>
                <a:off x="4120200" y="3931920"/>
                <a:ext cx="48924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1"/>
              <p:cNvSpPr/>
              <p:nvPr/>
            </p:nvSpPr>
            <p:spPr>
              <a:xfrm>
                <a:off x="6740280" y="2714400"/>
                <a:ext cx="402120" cy="7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Line 10"/>
              <p:cNvSpPr/>
              <p:nvPr/>
            </p:nvSpPr>
            <p:spPr>
              <a:xfrm flipH="1">
                <a:off x="5935320" y="2725200"/>
                <a:ext cx="423720" cy="74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9"/>
              <p:cNvSpPr/>
              <p:nvPr/>
            </p:nvSpPr>
            <p:spPr>
              <a:xfrm flipH="1">
                <a:off x="5163480" y="3953880"/>
                <a:ext cx="412920" cy="59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Text Box 8"/>
              <p:cNvSpPr/>
              <p:nvPr/>
            </p:nvSpPr>
            <p:spPr>
              <a:xfrm>
                <a:off x="2478600" y="1615680"/>
                <a:ext cx="1261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her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Text Box 7"/>
              <p:cNvSpPr/>
              <p:nvPr/>
            </p:nvSpPr>
            <p:spPr>
              <a:xfrm>
                <a:off x="2359080" y="2192040"/>
                <a:ext cx="148968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pairs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Text Box 6"/>
              <p:cNvSpPr/>
              <p:nvPr/>
            </p:nvSpPr>
            <p:spPr>
              <a:xfrm>
                <a:off x="5784120" y="2192760"/>
                <a:ext cx="1458000" cy="53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pairs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" name="Rectangle 40"/>
          <p:cNvSpPr/>
          <p:nvPr/>
        </p:nvSpPr>
        <p:spPr>
          <a:xfrm>
            <a:off x="0" y="52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42" descr="sperm-antigen"/>
          <p:cNvPicPr/>
          <p:nvPr/>
        </p:nvPicPr>
        <p:blipFill>
          <a:blip r:embed="rId1"/>
          <a:stretch/>
        </p:blipFill>
        <p:spPr>
          <a:xfrm>
            <a:off x="6948360" y="4076640"/>
            <a:ext cx="1903680" cy="2305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4" descr="92"/>
          <p:cNvPicPr/>
          <p:nvPr/>
        </p:nvPicPr>
        <p:blipFill>
          <a:blip r:embed="rId2"/>
          <a:stretch/>
        </p:blipFill>
        <p:spPr>
          <a:xfrm>
            <a:off x="1042920" y="4076640"/>
            <a:ext cx="214308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Meiosis and fertilis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Text Box 4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3505680" y="647856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hromosomes in eukaryotes and prokaryotes are differ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70160" y="1827360"/>
          <a:ext cx="7313400" cy="4495680"/>
        </p:xfrm>
        <a:graphic>
          <a:graphicData uri="http://schemas.openxmlformats.org/drawingml/2006/table">
            <a:tbl>
              <a:tblPr/>
              <a:tblGrid>
                <a:gridCol w="3790800"/>
                <a:gridCol w="35226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chromosome plus plasm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y chrom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r chromo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ar chrom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only of 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of chromatin, a nucleoprotein (DNA coiled around histone protei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 in 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 in a 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its chromosome and divides immediately after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chromosomes, then the cell grows, then goes through mitosis to organise chromosomes in two equal 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i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 special type of cell di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Used to make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sex ce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eiosis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halves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the numbers of chrom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eiosis picks one chromosome from each pair at random and places them in a sex cell. This results in enormous variation amongst the sex cells.</a:t>
            </a:r>
            <a:r>
              <a:rPr b="0" lang="fr-FR" sz="29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inheritance of gender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Is it going to be a boy or a gir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122800" y="59468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University of New Mex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021207006"/>
          <p:cNvPicPr/>
          <p:nvPr/>
        </p:nvPicPr>
        <p:blipFill>
          <a:blip r:embed="rId1"/>
          <a:stretch/>
        </p:blipFill>
        <p:spPr>
          <a:xfrm>
            <a:off x="3598920" y="2608200"/>
            <a:ext cx="37432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6554880" y="3352680"/>
            <a:ext cx="124920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508200" y="3362400"/>
            <a:ext cx="1276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74760" y="3352680"/>
            <a:ext cx="124776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165640" y="3362400"/>
            <a:ext cx="12859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76360" y="4705200"/>
            <a:ext cx="14698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084720" y="4581360"/>
            <a:ext cx="1386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sible child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985000" y="1739880"/>
            <a:ext cx="1017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492360" y="4076640"/>
            <a:ext cx="246708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042920" y="3357720"/>
            <a:ext cx="10731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284720" y="278136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3584520" y="2685960"/>
            <a:ext cx="352440" cy="67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2984400" y="2685960"/>
            <a:ext cx="4190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6689880" y="2666880"/>
            <a:ext cx="352440" cy="67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5985000" y="2676600"/>
            <a:ext cx="371520" cy="65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19"/>
          <p:cNvSpPr/>
          <p:nvPr/>
        </p:nvSpPr>
        <p:spPr>
          <a:xfrm flipH="1">
            <a:off x="4932000" y="3781440"/>
            <a:ext cx="73836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2955960" y="1733400"/>
            <a:ext cx="11048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2851200" y="2247840"/>
            <a:ext cx="1305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851440" y="2247840"/>
            <a:ext cx="1278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5724360" y="3800520"/>
            <a:ext cx="1260720" cy="27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rc 24"/>
          <p:cNvSpPr/>
          <p:nvPr/>
        </p:nvSpPr>
        <p:spPr>
          <a:xfrm rot="10800000">
            <a:off x="2773440" y="3784320"/>
            <a:ext cx="812880" cy="1515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Freeform 25"/>
          <p:cNvSpPr/>
          <p:nvPr/>
        </p:nvSpPr>
        <p:spPr>
          <a:xfrm>
            <a:off x="3211560" y="3784680"/>
            <a:ext cx="979560" cy="1084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5076720" y="5805360"/>
            <a:ext cx="294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hance of a girl 50%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Chance of a boy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92360" y="4076640"/>
          <a:ext cx="2448000" cy="1487520"/>
        </p:xfrm>
        <a:graphic>
          <a:graphicData uri="http://schemas.openxmlformats.org/drawingml/2006/table">
            <a:tbl>
              <a:tblPr/>
              <a:tblGrid>
                <a:gridCol w="816120"/>
                <a:gridCol w="816120"/>
                <a:gridCol w="815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inheritance of gen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Sex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sex of many animals is determined by genes but on chromosomes called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sex chrom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other chromosomes are called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aut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sex is homogam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other sex is heterogam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Sex determination in different anima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0160" y="1827360"/>
          <a:ext cx="7313400" cy="3963960"/>
        </p:xfrm>
        <a:graphic>
          <a:graphicData uri="http://schemas.openxmlformats.org/drawingml/2006/table">
            <a:tbl>
              <a:tblPr/>
              <a:tblGrid>
                <a:gridCol w="2187360"/>
                <a:gridCol w="2243160"/>
                <a:gridCol w="28828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HOMOGAMETIC 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HETEROGAMETIC 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SEX DETER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ce of Y-chromosome = maleness (mammals and fis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ce of second X-chromosome = femaleness (Drosophila, the fruit f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rds, amphibians, reptiles, butterflies, moth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sshop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270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0" y="17229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 consists of a single molecule of DNA in the form of a closed loop. The chromosome is described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rcul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rokaryotic cell h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nly 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not circular, in other words it has two ends, like a sausage. Each chromosome contain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molecule of DNA for the first half or so of interphase, then the DNA replicates, and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NA molecules remain together (as sister-chromatids) in the same chromosome for the rest of interphase. This does not happen in prokaryotic cel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 cells hav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e than 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further difference: prokaryotic chromosomes consist only of a naked DNA molecule, bu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s also contain many molecule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mostly histones). The DNA is wound around these protei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-3463560" y="-320760"/>
            <a:ext cx="16071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acterial Chromosome Structure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800"/>
            </a:b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Prokaryotic cells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(bacteria) contain their chromosome as 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circular</a:t>
            </a:r>
            <a:r>
              <a:rPr b="1" lang="fr-FR" sz="1400" spc="-1" strike="noStrike">
                <a:solidFill>
                  <a:srgbClr val="3333ff"/>
                </a:solidFill>
                <a:latin typeface="Verdana"/>
              </a:rPr>
              <a:t> 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 DNA.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Usually the entire genome is a single circle, but often there are extra circles called 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plasmids.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he DNA is packaged by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NA-binding protein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3" descr="http://biology.kenyon.edu/courses/biol114/Chap01/bact_nucleoid.gif"/>
          <p:cNvPicPr/>
          <p:nvPr/>
        </p:nvPicPr>
        <p:blipFill>
          <a:blip r:embed="rId1"/>
          <a:stretch/>
        </p:blipFill>
        <p:spPr>
          <a:xfrm>
            <a:off x="2359080" y="3386160"/>
            <a:ext cx="4962600" cy="1962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319480" y="880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cterial Chromosome Struc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karyotic cel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acteria) contain their chromosome a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rcular  DN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Usually the entire genome is a single circle, but often there are extra circles call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smid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NA is packaged 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NA-binding protei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243160" y="438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acterial DNA is packaged in loops back and forth.  The bundled DNA is called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cleo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  It concentrates the DNA in part of the cell, but i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t separa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 a nuclear membrane (as in eukaryotes.)  The DNA does form loops back and forth to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in core, attached to the cell wal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http://biology.kenyon.edu/courses/biol114/Chap01/bact_expand.gif"/>
          <p:cNvPicPr/>
          <p:nvPr/>
        </p:nvPicPr>
        <p:blipFill>
          <a:blip r:embed="rId1"/>
          <a:stretch/>
        </p:blipFill>
        <p:spPr>
          <a:xfrm>
            <a:off x="1936800" y="3159000"/>
            <a:ext cx="4124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409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hromosomes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 eukaryotes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Found in the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ndensed and visible during cell divi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t the beginning of mitosis they can be seen to consist of two threads (sister chromatids) joined by a centrom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sister chromatids are identical cop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uring mitosis the sister chromatids separate and are placed into two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1940_fs"/>
          <p:cNvPicPr/>
          <p:nvPr/>
        </p:nvPicPr>
        <p:blipFill>
          <a:blip r:embed="rId1"/>
          <a:stretch/>
        </p:blipFill>
        <p:spPr>
          <a:xfrm>
            <a:off x="5557680" y="189000"/>
            <a:ext cx="3117960" cy="2155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680440" y="637380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umbers of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for each cell in the body (except sex cells which only have half set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throughout the life of an individual (you don’t lose or gain chromosom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for all members of a spec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p797-2a"/>
          <p:cNvPicPr/>
          <p:nvPr/>
        </p:nvPicPr>
        <p:blipFill>
          <a:blip r:embed="rId1"/>
          <a:stretch/>
        </p:blipFill>
        <p:spPr>
          <a:xfrm>
            <a:off x="2195640" y="1628640"/>
            <a:ext cx="21715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maizechromosomes"/>
          <p:cNvPicPr/>
          <p:nvPr/>
        </p:nvPicPr>
        <p:blipFill>
          <a:blip r:embed="rId2"/>
          <a:stretch/>
        </p:blipFill>
        <p:spPr>
          <a:xfrm>
            <a:off x="5580000" y="1628640"/>
            <a:ext cx="3095640" cy="2248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241128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299280" y="39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6423480" y="4340160"/>
            <a:ext cx="148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© A. Lane Raybur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727640" y="431316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47640" y="1773360"/>
          <a:ext cx="6096240" cy="4440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Organis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Chromosome numb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mpanz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Mou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1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romosomes1"/>
          <p:cNvPicPr/>
          <p:nvPr/>
        </p:nvPicPr>
        <p:blipFill>
          <a:blip r:embed="rId1"/>
          <a:stretch/>
        </p:blipFill>
        <p:spPr>
          <a:xfrm>
            <a:off x="2268360" y="1557360"/>
            <a:ext cx="5143680" cy="5086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Human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62520" y="657072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The chromosomes of a human fem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5" descr="karyotypeX"/>
          <p:cNvPicPr/>
          <p:nvPr/>
        </p:nvPicPr>
        <p:blipFill>
          <a:blip r:embed="rId1"/>
          <a:stretch/>
        </p:blipFill>
        <p:spPr>
          <a:xfrm>
            <a:off x="1979640" y="1844640"/>
            <a:ext cx="5040360" cy="3817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177160" y="645336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476280"/>
            <a:ext cx="73134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ying chromosom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99920"/>
            <a:ext cx="4425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hromosomes can be identified by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ir siz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ir shape (the position of the centromere)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B Chromosomes are flexi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Banding patterns produced by specific stains (Giem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hromosomes are analysed by organising them into a </a:t>
            </a:r>
            <a:r>
              <a:rPr b="1" lang="en-GB" sz="2100" spc="-1" strike="noStrike">
                <a:solidFill>
                  <a:srgbClr val="006666"/>
                </a:solidFill>
                <a:latin typeface="Verdana"/>
              </a:rPr>
              <a:t>KARYOTY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40360" y="182736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caryotyp"/>
          <p:cNvPicPr/>
          <p:nvPr/>
        </p:nvPicPr>
        <p:blipFill>
          <a:blip r:embed="rId1"/>
          <a:stretch/>
        </p:blipFill>
        <p:spPr>
          <a:xfrm>
            <a:off x="5867280" y="1844640"/>
            <a:ext cx="2845080" cy="2784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510600" y="474984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© Biologyreferenc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15:32Z</dcterms:created>
  <dc:creator>Billiet</dc:creator>
  <dc:description/>
  <dc:language>en-US</dc:language>
  <cp:lastModifiedBy>Registered User</cp:lastModifiedBy>
  <dcterms:modified xsi:type="dcterms:W3CDTF">2012-10-01T10:41:29Z</dcterms:modified>
  <cp:revision>50</cp:revision>
  <dc:subject/>
  <dc:title>CHROMOSOMES</dc:title>
</cp:coreProperties>
</file>