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4502-7328-4176-A656-26D7912893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8421-0316-41B0-9A2E-B23C2F91B8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3064-9CF0-4764-B628-DE0E31429F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B16C-A6E9-4B88-A088-AA1FEC858B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28CA-476D-4F3B-8BFD-DBACAC5497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729A-E6B7-4978-B872-13DE7B4821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C01C-9FD7-4EBE-AA1F-23FFBAB896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1148-D98F-401D-B626-ED822DCCC8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97FF-1A1B-4FAE-8E6D-92DCF6F535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2679-401A-454F-9C18-9FDA741494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0AE9-3FC6-4C23-9579-B3ADBC2729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E52A-27DB-4BF6-82C7-63FFA2D7C0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EDA8-4F34-44C9-96B4-406400A61D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CD96-65FD-40AB-B29A-6EBD792A09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C8B3-64EE-4272-8015-890B857C23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BA6F-3DAC-4F7B-8806-E4C3280875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D272-BB6D-4183-95AB-158AE79778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E368-16DC-4F07-94BB-3EC20234D0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ABDA-DCD3-4AD4-BBB6-3EC9F971B0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5CD0-F8B7-4FE7-97EF-D2ADF18547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C831-131E-4D35-AFBB-8C52B2C396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7DEB-349C-4D00-8FB0-AE2FAA34DA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7782-0089-42FC-86D4-4DEA099CB5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96FF-79C6-4F13-A947-8D9BF02FBE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AB01-DDED-41DE-B7DA-3090E58AF2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217-5D1A-4094-A344-502474F3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41D1-5D58-4F29-A150-E1CFC752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547-6B6D-451A-ABD1-C9E8B13F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27C-AA56-4877-A29C-28F18FBC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2C7A-E9D5-48CB-9DDD-20ECB85C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CC2A-E5B1-41C5-BCDB-605486A9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1F1E-8D9D-477C-AED9-A1B7906F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94ED-86A9-472D-B3DF-B96D38BA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4577-3A57-4FDE-95FD-B74791D4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4CD8-59EE-4F0F-9DCA-C38985B9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F904-4EAC-4643-8917-BD1B53C9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B2E-5FA3-49F1-907A-F04F6BF1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3309-0E11-44D7-957F-83EB1145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2A78-EB2A-401D-8031-4E40A816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02DA-9266-4053-9185-52B836EF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CBF9-1A10-4848-99D3-0D3582DB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665E-F208-42B3-B221-8AD0C016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8650-2AE6-4AC2-B563-23062633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9216-4A3A-4220-B731-572D6995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9435-EF1F-4551-8E31-2F5DB82E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63C3-D2B8-4F04-A39E-CAB37BCB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5E4-89AE-44CA-91C7-BCD6E2A4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C907-B952-4FA0-94AD-C164095F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A167-41CE-4C4D-8F10-769436D0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AE96-450C-4820-BDC9-E4AC3F289CAD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A03A-8A64-4457-AD80-BBCFF2749FB3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cf.berkeley.edu/~edy/genome/" TargetMode="External"/><Relationship Id="rId3" Type="http://schemas.openxmlformats.org/officeDocument/2006/relationships/hyperlink" Target="http://www.ocf.berkeley.edu/~edy/genome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traightlab.stanford.edu/images/science/picturesandmovies/ptk-gt100xdic30s-3.mov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saburchill.com/IBbiology/bio_hp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saburchill.com/IBbiology/bio_hp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cropsci.uiuc.edu/faculty/rayburn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saburchill.com/IBbiology/bio_hp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saburchill.com/IBbiology/bio_hp.html" TargetMode="External"/><Relationship Id="rId3" Type="http://schemas.openxmlformats.org/officeDocument/2006/relationships/hyperlink" Target="http://www.biologyreference.com/Ce-Co/Chromosome-Eukaryot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ROMOSOM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6" descr="chromosomes"/>
          <p:cNvPicPr/>
          <p:nvPr/>
        </p:nvPicPr>
        <p:blipFill>
          <a:blip r:embed="rId1"/>
          <a:stretch/>
        </p:blipFill>
        <p:spPr>
          <a:xfrm>
            <a:off x="3228840" y="2305080"/>
            <a:ext cx="3791160" cy="31719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3224160" y="5651640"/>
            <a:ext cx="437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ea typeface="Arial"/>
                <a:hlinkClick r:id="rId2"/>
              </a:rPr>
              <a:t>© The Human Genome Project: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ea typeface="Arial"/>
                <a:hlinkClick r:id="rId3"/>
              </a:rPr>
              <a:t>Biocomputing Admin Ed Yu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karyotypeX"/>
          <p:cNvPicPr/>
          <p:nvPr/>
        </p:nvPicPr>
        <p:blipFill>
          <a:blip r:embed="rId1"/>
          <a:stretch/>
        </p:blipFill>
        <p:spPr>
          <a:xfrm>
            <a:off x="822240" y="2617920"/>
            <a:ext cx="3749760" cy="2840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karyotype"/>
          <p:cNvPicPr/>
          <p:nvPr/>
        </p:nvPicPr>
        <p:blipFill>
          <a:blip r:embed="rId2"/>
          <a:stretch/>
        </p:blipFill>
        <p:spPr>
          <a:xfrm>
            <a:off x="5219640" y="2583000"/>
            <a:ext cx="3240000" cy="2819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1547640" y="5589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em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508720" y="5589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5680440" y="6373800"/>
            <a:ext cx="31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mages believed to be in the Public Dom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Down’s syndro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Picture 6" descr="Trisomy 21 Karyotype"/>
          <p:cNvPicPr/>
          <p:nvPr/>
        </p:nvPicPr>
        <p:blipFill>
          <a:blip r:embed="rId1"/>
          <a:stretch/>
        </p:blipFill>
        <p:spPr>
          <a:xfrm>
            <a:off x="3048120" y="1671480"/>
            <a:ext cx="3959280" cy="4565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5680440" y="637380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mage believed to be in the Public Dom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velopment and chromosomes</a:t>
            </a: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Differences in chromosomes are associated with difference in the way we grow.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The karyotypes of males and females are not the same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Females have two large X chromosomes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Males have a large X and a small Y chromosome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The X and the Y chromosomes are called </a:t>
            </a:r>
            <a:r>
              <a:rPr b="1" lang="en-GB" sz="1900" spc="-1" strike="noStrike">
                <a:solidFill>
                  <a:srgbClr val="006666"/>
                </a:solidFill>
                <a:latin typeface="Verdana"/>
              </a:rPr>
              <a:t>sex chromosomes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The sex chromosomes are placed at the end of the karyotype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Unusual growth can be associated with </a:t>
            </a:r>
            <a:r>
              <a:rPr b="1" lang="en-GB" sz="1900" spc="-1" strike="noStrike">
                <a:solidFill>
                  <a:srgbClr val="006666"/>
                </a:solidFill>
                <a:latin typeface="Verdana"/>
              </a:rPr>
              <a:t>chromosome abnormalities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e.g. People who develop Down’s syndrome have trisomy 21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Chromosomal abnormalit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Picture 8" descr="Trisomy21"/>
          <p:cNvPicPr/>
          <p:nvPr/>
        </p:nvPicPr>
        <p:blipFill>
          <a:blip r:embed="rId1"/>
          <a:stretch/>
        </p:blipFill>
        <p:spPr>
          <a:xfrm>
            <a:off x="971640" y="2781360"/>
            <a:ext cx="3579840" cy="2212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Trisomy18(Edwards)"/>
          <p:cNvPicPr/>
          <p:nvPr/>
        </p:nvPicPr>
        <p:blipFill>
          <a:blip r:embed="rId2"/>
          <a:stretch/>
        </p:blipFill>
        <p:spPr>
          <a:xfrm>
            <a:off x="5148360" y="2492280"/>
            <a:ext cx="3463920" cy="2772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0"/>
          <p:cNvSpPr/>
          <p:nvPr/>
        </p:nvSpPr>
        <p:spPr>
          <a:xfrm>
            <a:off x="900000" y="2637000"/>
            <a:ext cx="3743280" cy="25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5148360" y="2565360"/>
            <a:ext cx="3527280" cy="26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971640" y="544500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Trysomy-21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Down’s syndro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4932360" y="5440320"/>
            <a:ext cx="38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Trysomy-18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Edward’s syndro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5639040" y="6389640"/>
            <a:ext cx="31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mages believed to be in the Public Dom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2781360"/>
            <a:ext cx="7313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Therefore genetic information is found on our chromosom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721800"/>
            <a:ext cx="7313400" cy="72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romosomes and cell divi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5119560" cy="46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Multicellular organisms </a:t>
            </a: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copy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 their chromosomes before cell divisio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hey must </a:t>
            </a: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grow 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o a mature siz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he nucleus divides, distributing the chromosomes into two equal groups (</a:t>
            </a: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mitosis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he cytoplasm then divides (</a:t>
            </a: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cytokinesis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) each part taking a nucleu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5810400" y="1860480"/>
            <a:ext cx="215640" cy="1774800"/>
          </a:xfrm>
          <a:custGeom>
            <a:avLst/>
            <a:gdLst>
              <a:gd name="textAreaLeft" fmla="*/ 0 w 215640"/>
              <a:gd name="textAreaRight" fmla="*/ 77760 w 215640"/>
              <a:gd name="textAreaTop" fmla="*/ 46080 h 1774800"/>
              <a:gd name="textAreaBottom" fmla="*/ 1728720 h 177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141960" y="2544840"/>
            <a:ext cx="189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Interph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7" descr="ptk_gt100xdic30s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51560" y="3897360"/>
            <a:ext cx="2143080" cy="26794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936040" y="658332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mage believed to be in the Public Dom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cell cyc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310440" y="3274920"/>
            <a:ext cx="244152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irst growth pha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Varies in leng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4470480" y="2313000"/>
            <a:ext cx="453960" cy="55404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862600" y="4938840"/>
            <a:ext cx="1812960" cy="73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Copying of chromosom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5405400" y="1720800"/>
            <a:ext cx="2494080" cy="9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Some cells may stay in this stage for over a ye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149480" y="4008600"/>
            <a:ext cx="202068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Second growth ph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Oval 10"/>
          <p:cNvSpPr/>
          <p:nvPr/>
        </p:nvSpPr>
        <p:spPr>
          <a:xfrm>
            <a:off x="3433680" y="2867040"/>
            <a:ext cx="2505240" cy="2298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3854520" y="2886120"/>
            <a:ext cx="198360" cy="42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2"/>
          <p:cNvSpPr/>
          <p:nvPr/>
        </p:nvSpPr>
        <p:spPr>
          <a:xfrm flipH="1">
            <a:off x="4912920" y="2670120"/>
            <a:ext cx="28440" cy="43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5573880" y="4282920"/>
            <a:ext cx="556920" cy="230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4952880" y="4778280"/>
            <a:ext cx="206640" cy="596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4183200" y="2530440"/>
            <a:ext cx="412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5813280" y="3376440"/>
            <a:ext cx="532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5457960" y="4835520"/>
            <a:ext cx="325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841480" y="3678120"/>
            <a:ext cx="586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4978440" y="2359080"/>
            <a:ext cx="650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20"/>
          <p:cNvSpPr/>
          <p:nvPr/>
        </p:nvSpPr>
        <p:spPr>
          <a:xfrm>
            <a:off x="4713120" y="2868480"/>
            <a:ext cx="136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1746360" y="1755720"/>
            <a:ext cx="3176640" cy="67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ytokinesis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vision of the cytoplas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WordArt 22"/>
          <p:cNvSpPr txBox="1"/>
          <p:nvPr/>
        </p:nvSpPr>
        <p:spPr>
          <a:xfrm>
            <a:off x="3840120" y="3959280"/>
            <a:ext cx="168588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INTERPHA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WordArt 23"/>
          <p:cNvSpPr txBox="1"/>
          <p:nvPr/>
        </p:nvSpPr>
        <p:spPr>
          <a:xfrm rot="20815200">
            <a:off x="4087440" y="3065400"/>
            <a:ext cx="78120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Times New Roman"/>
              </a:rPr>
              <a:t>Mitosi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Times New Roman"/>
              <a:ea typeface="Times New Roman"/>
            </a:endParaRPr>
          </a:p>
        </p:txBody>
      </p:sp>
      <p:sp>
        <p:nvSpPr>
          <p:cNvPr id="180" name="Line 24"/>
          <p:cNvSpPr/>
          <p:nvPr/>
        </p:nvSpPr>
        <p:spPr>
          <a:xfrm flipH="1">
            <a:off x="4964040" y="2689200"/>
            <a:ext cx="123840" cy="171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2800440" y="5981760"/>
            <a:ext cx="4000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+ S + G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= INTERPHAS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cell cycles in different cel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70160" y="1785960"/>
          <a:ext cx="7313400" cy="4568760"/>
        </p:xfrm>
        <a:graphic>
          <a:graphicData uri="http://schemas.openxmlformats.org/drawingml/2006/table">
            <a:tbl>
              <a:tblPr/>
              <a:tblGrid>
                <a:gridCol w="4255920"/>
                <a:gridCol w="3057480"/>
              </a:tblGrid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663300"/>
                          </a:solidFill>
                          <a:latin typeface="Verdana"/>
                          <a:ea typeface="Times New Roman"/>
                        </a:rPr>
                        <a:t>Cell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663300"/>
                          </a:solidFill>
                          <a:latin typeface="Verdana"/>
                          <a:ea typeface="Times New Roman"/>
                        </a:rPr>
                        <a:t>Cell cycle / h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an root t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use 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hinese hamster 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use small intestine epithel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use oesophagus epithel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Text Box 86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romosomes and rep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Chromosomes come in pairs</a:t>
            </a:r>
            <a:br>
              <a:rPr sz="2900"/>
            </a:b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One of the pair is maternal the other is paternal</a:t>
            </a:r>
            <a:br>
              <a:rPr sz="2900"/>
            </a:b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When parents make sex cells the number of chromosomes must be halved</a:t>
            </a:r>
            <a:br>
              <a:rPr sz="2900"/>
            </a:b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One of each type of chromosome is tak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6"/>
          <p:cNvSpPr/>
          <p:nvPr/>
        </p:nvSpPr>
        <p:spPr>
          <a:xfrm>
            <a:off x="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1116000" y="1484280"/>
            <a:ext cx="6985080" cy="4191120"/>
            <a:chOff x="1116000" y="1484280"/>
            <a:chExt cx="6985080" cy="4191120"/>
          </a:xfrm>
        </p:grpSpPr>
        <p:sp>
          <p:nvSpPr>
            <p:cNvPr id="191" name="AutoShape 25"/>
            <p:cNvSpPr/>
            <p:nvPr/>
          </p:nvSpPr>
          <p:spPr>
            <a:xfrm>
              <a:off x="1116000" y="1484280"/>
              <a:ext cx="6985080" cy="41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1118520" y="1573200"/>
              <a:ext cx="6894000" cy="3968640"/>
              <a:chOff x="1118520" y="1573200"/>
              <a:chExt cx="6894000" cy="3968640"/>
            </a:xfrm>
          </p:grpSpPr>
          <p:sp>
            <p:nvSpPr>
              <p:cNvPr id="193" name="Text Box 24"/>
              <p:cNvSpPr/>
              <p:nvPr/>
            </p:nvSpPr>
            <p:spPr>
              <a:xfrm>
                <a:off x="6587280" y="3496680"/>
                <a:ext cx="1425240" cy="50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3 </a:t>
                </a:r>
                <a:r>
                  <a:rPr b="1" lang="fr-FR" sz="12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unpaired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chromosome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Text Box 23"/>
              <p:cNvSpPr/>
              <p:nvPr/>
            </p:nvSpPr>
            <p:spPr>
              <a:xfrm>
                <a:off x="3109320" y="3507480"/>
                <a:ext cx="1457280" cy="46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3 </a:t>
                </a:r>
                <a:r>
                  <a:rPr b="1" lang="fr-FR" sz="12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unpaired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chromosome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Text Box 22"/>
              <p:cNvSpPr/>
              <p:nvPr/>
            </p:nvSpPr>
            <p:spPr>
              <a:xfrm>
                <a:off x="1587960" y="3497400"/>
                <a:ext cx="1423800" cy="477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3 </a:t>
                </a:r>
                <a:r>
                  <a:rPr b="1" lang="fr-FR" sz="12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unpaired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chromosome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" name="Text Box 21"/>
              <p:cNvSpPr/>
              <p:nvPr/>
            </p:nvSpPr>
            <p:spPr>
              <a:xfrm>
                <a:off x="5000760" y="3507480"/>
                <a:ext cx="1467360" cy="47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3 </a:t>
                </a:r>
                <a:r>
                  <a:rPr b="1" lang="fr-FR" sz="12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unpaired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chromosome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" name="Text Box 20"/>
              <p:cNvSpPr/>
              <p:nvPr/>
            </p:nvSpPr>
            <p:spPr>
              <a:xfrm>
                <a:off x="5500080" y="4149000"/>
                <a:ext cx="12405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Fertilis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Text Box 19"/>
              <p:cNvSpPr/>
              <p:nvPr/>
            </p:nvSpPr>
            <p:spPr>
              <a:xfrm>
                <a:off x="4315320" y="5094000"/>
                <a:ext cx="978840" cy="44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hild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" name="Text Box 18"/>
              <p:cNvSpPr/>
              <p:nvPr/>
            </p:nvSpPr>
            <p:spPr>
              <a:xfrm>
                <a:off x="5936400" y="1573200"/>
                <a:ext cx="1161720" cy="542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ather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" name="Text Box 17"/>
              <p:cNvSpPr/>
              <p:nvPr/>
            </p:nvSpPr>
            <p:spPr>
              <a:xfrm>
                <a:off x="4086360" y="4528080"/>
                <a:ext cx="1489320" cy="499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3 </a:t>
                </a:r>
                <a:r>
                  <a:rPr b="1" lang="fr-FR" sz="12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pairs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of chromosome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" name="Text Box 16"/>
              <p:cNvSpPr/>
              <p:nvPr/>
            </p:nvSpPr>
            <p:spPr>
              <a:xfrm>
                <a:off x="1118520" y="3114720"/>
                <a:ext cx="978120" cy="33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ex cell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2" name="Text Box 15"/>
              <p:cNvSpPr/>
              <p:nvPr/>
            </p:nvSpPr>
            <p:spPr>
              <a:xfrm>
                <a:off x="4271760" y="2909520"/>
                <a:ext cx="1240560" cy="31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Meiosi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Line 14"/>
              <p:cNvSpPr/>
              <p:nvPr/>
            </p:nvSpPr>
            <p:spPr>
              <a:xfrm>
                <a:off x="3196080" y="2736360"/>
                <a:ext cx="402120" cy="771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" name="Line 13"/>
              <p:cNvSpPr/>
              <p:nvPr/>
            </p:nvSpPr>
            <p:spPr>
              <a:xfrm flipH="1">
                <a:off x="2511360" y="2736360"/>
                <a:ext cx="478080" cy="74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" name="Line 12"/>
              <p:cNvSpPr/>
              <p:nvPr/>
            </p:nvSpPr>
            <p:spPr>
              <a:xfrm>
                <a:off x="4120200" y="3931920"/>
                <a:ext cx="489240" cy="61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" name="Line 11"/>
              <p:cNvSpPr/>
              <p:nvPr/>
            </p:nvSpPr>
            <p:spPr>
              <a:xfrm>
                <a:off x="6740280" y="2714400"/>
                <a:ext cx="402120" cy="771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7" name="Line 10"/>
              <p:cNvSpPr/>
              <p:nvPr/>
            </p:nvSpPr>
            <p:spPr>
              <a:xfrm flipH="1">
                <a:off x="5935320" y="2725200"/>
                <a:ext cx="423720" cy="74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Line 9"/>
              <p:cNvSpPr/>
              <p:nvPr/>
            </p:nvSpPr>
            <p:spPr>
              <a:xfrm flipH="1">
                <a:off x="5163480" y="3953880"/>
                <a:ext cx="412920" cy="59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" name="Text Box 8"/>
              <p:cNvSpPr/>
              <p:nvPr/>
            </p:nvSpPr>
            <p:spPr>
              <a:xfrm>
                <a:off x="2478600" y="1615680"/>
                <a:ext cx="12618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other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" name="Text Box 7"/>
              <p:cNvSpPr/>
              <p:nvPr/>
            </p:nvSpPr>
            <p:spPr>
              <a:xfrm>
                <a:off x="2359080" y="2192040"/>
                <a:ext cx="148968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3 pairs of chromosome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" name="Text Box 6"/>
              <p:cNvSpPr/>
              <p:nvPr/>
            </p:nvSpPr>
            <p:spPr>
              <a:xfrm>
                <a:off x="5784120" y="2192760"/>
                <a:ext cx="1458000" cy="53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3 pairs of chromosome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2" name="Rectangle 40"/>
          <p:cNvSpPr/>
          <p:nvPr/>
        </p:nvSpPr>
        <p:spPr>
          <a:xfrm>
            <a:off x="0" y="526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42" descr="sperm-antigen"/>
          <p:cNvPicPr/>
          <p:nvPr/>
        </p:nvPicPr>
        <p:blipFill>
          <a:blip r:embed="rId1"/>
          <a:stretch/>
        </p:blipFill>
        <p:spPr>
          <a:xfrm>
            <a:off x="6948360" y="4076640"/>
            <a:ext cx="1903680" cy="2305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4" descr="92"/>
          <p:cNvPicPr/>
          <p:nvPr/>
        </p:nvPicPr>
        <p:blipFill>
          <a:blip r:embed="rId2"/>
          <a:stretch/>
        </p:blipFill>
        <p:spPr>
          <a:xfrm>
            <a:off x="1042920" y="4076640"/>
            <a:ext cx="2143080" cy="17146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Meiosis and fertilis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Text Box 46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47"/>
          <p:cNvSpPr/>
          <p:nvPr/>
        </p:nvSpPr>
        <p:spPr>
          <a:xfrm>
            <a:off x="3505680" y="6478560"/>
            <a:ext cx="31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mages believed to be in the Public Dom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Chromosomes in eukaryotes and prokaryotes are differen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370160" y="1827360"/>
          <a:ext cx="7313400" cy="4495680"/>
        </p:xfrm>
        <a:graphic>
          <a:graphicData uri="http://schemas.openxmlformats.org/drawingml/2006/table">
            <a:tbl>
              <a:tblPr/>
              <a:tblGrid>
                <a:gridCol w="3790800"/>
                <a:gridCol w="352260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PROKARYO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EUKARYO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chromosome plus plasm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y chromos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rcular chromos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ear chromos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de only of 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de of chromatin, a nucleoprotein (DNA coiled around histone protei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nd in cytopla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nd in a 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pies its chromosome and divides immediately afterw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pies chromosomes, then the cell grows, then goes through mitosis to organise chromosomes in two equal 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83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eio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A special type of cell divi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Used to make </a:t>
            </a:r>
            <a:r>
              <a:rPr b="1" lang="en-GB" sz="2900" spc="-1" strike="noStrike">
                <a:solidFill>
                  <a:srgbClr val="000000"/>
                </a:solidFill>
                <a:latin typeface="Verdana"/>
              </a:rPr>
              <a:t>sex cel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Meiosis </a:t>
            </a:r>
            <a:r>
              <a:rPr b="1" lang="en-GB" sz="2900" spc="-1" strike="noStrike">
                <a:solidFill>
                  <a:srgbClr val="000000"/>
                </a:solidFill>
                <a:latin typeface="Verdana"/>
              </a:rPr>
              <a:t>halves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 the numbers of chromosom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Meiosis picks one chromosome from each pair at random and places them in a sex cell. This results in enormous variation amongst the sex cells.</a:t>
            </a:r>
            <a:r>
              <a:rPr b="0" lang="fr-FR" sz="29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inheritance of gender</a:t>
            </a: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Verdana"/>
              </a:rPr>
              <a:t>Is it going to be a boy or a girl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122800" y="594684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University of New Mexic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7" descr="021207006"/>
          <p:cNvPicPr/>
          <p:nvPr/>
        </p:nvPicPr>
        <p:blipFill>
          <a:blip r:embed="rId1"/>
          <a:stretch/>
        </p:blipFill>
        <p:spPr>
          <a:xfrm>
            <a:off x="3598920" y="2608200"/>
            <a:ext cx="37432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5"/>
          <p:cNvSpPr/>
          <p:nvPr/>
        </p:nvSpPr>
        <p:spPr>
          <a:xfrm>
            <a:off x="6554880" y="3352680"/>
            <a:ext cx="124920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508200" y="3362400"/>
            <a:ext cx="127656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174760" y="3352680"/>
            <a:ext cx="124776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5165640" y="3362400"/>
            <a:ext cx="128592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476360" y="4705200"/>
            <a:ext cx="146988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Fertilis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6084720" y="4581360"/>
            <a:ext cx="1386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ossible child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985000" y="1739880"/>
            <a:ext cx="101736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492360" y="4076640"/>
            <a:ext cx="246708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1042920" y="3357720"/>
            <a:ext cx="107316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x cel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4284720" y="2781360"/>
            <a:ext cx="1295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ff"/>
                </a:solidFill>
                <a:latin typeface="Arial"/>
              </a:rPr>
              <a:t>Meio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Line 15"/>
          <p:cNvSpPr/>
          <p:nvPr/>
        </p:nvSpPr>
        <p:spPr>
          <a:xfrm>
            <a:off x="3584520" y="2685960"/>
            <a:ext cx="352440" cy="676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16"/>
          <p:cNvSpPr/>
          <p:nvPr/>
        </p:nvSpPr>
        <p:spPr>
          <a:xfrm flipH="1">
            <a:off x="2984400" y="2685960"/>
            <a:ext cx="419040" cy="65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Line 17"/>
          <p:cNvSpPr/>
          <p:nvPr/>
        </p:nvSpPr>
        <p:spPr>
          <a:xfrm>
            <a:off x="6689880" y="2666880"/>
            <a:ext cx="352440" cy="676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18"/>
          <p:cNvSpPr/>
          <p:nvPr/>
        </p:nvSpPr>
        <p:spPr>
          <a:xfrm flipH="1">
            <a:off x="5985000" y="2676600"/>
            <a:ext cx="371520" cy="65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Line 19"/>
          <p:cNvSpPr/>
          <p:nvPr/>
        </p:nvSpPr>
        <p:spPr>
          <a:xfrm flipH="1">
            <a:off x="4932000" y="3781440"/>
            <a:ext cx="73836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2955960" y="1733400"/>
            <a:ext cx="110484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2851200" y="2247840"/>
            <a:ext cx="130500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5851440" y="2247840"/>
            <a:ext cx="127800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23"/>
          <p:cNvSpPr/>
          <p:nvPr/>
        </p:nvSpPr>
        <p:spPr>
          <a:xfrm flipH="1">
            <a:off x="5724360" y="3800520"/>
            <a:ext cx="1260720" cy="27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rc 24"/>
          <p:cNvSpPr/>
          <p:nvPr/>
        </p:nvSpPr>
        <p:spPr>
          <a:xfrm rot="10800000">
            <a:off x="2773440" y="3784320"/>
            <a:ext cx="812880" cy="1515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Freeform 25"/>
          <p:cNvSpPr/>
          <p:nvPr/>
        </p:nvSpPr>
        <p:spPr>
          <a:xfrm>
            <a:off x="3211560" y="3784680"/>
            <a:ext cx="979560" cy="1084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5076720" y="5805360"/>
            <a:ext cx="2943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Chance of a girl 50%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Chance of a boy 5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492360" y="4076640"/>
          <a:ext cx="2448000" cy="1487520"/>
        </p:xfrm>
        <a:graphic>
          <a:graphicData uri="http://schemas.openxmlformats.org/drawingml/2006/table">
            <a:tbl>
              <a:tblPr/>
              <a:tblGrid>
                <a:gridCol w="816120"/>
                <a:gridCol w="816120"/>
                <a:gridCol w="815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inheritance of gend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Sex chromosom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The sex of many animals is determined by genes but on chromosomes called </a:t>
            </a:r>
            <a:r>
              <a:rPr b="1" lang="en-GB" sz="2900" spc="-1" strike="noStrike">
                <a:solidFill>
                  <a:srgbClr val="000000"/>
                </a:solidFill>
                <a:latin typeface="Verdana"/>
              </a:rPr>
              <a:t>sex chromosom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The other chromosomes are called </a:t>
            </a:r>
            <a:r>
              <a:rPr b="1" lang="en-GB" sz="2900" spc="-1" strike="noStrike">
                <a:solidFill>
                  <a:srgbClr val="000000"/>
                </a:solidFill>
                <a:latin typeface="Verdana"/>
              </a:rPr>
              <a:t>autosom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One sex is homogamet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The other sex is heterogamet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Sex determination in different animal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0160" y="1827360"/>
          <a:ext cx="7313400" cy="3963960"/>
        </p:xfrm>
        <a:graphic>
          <a:graphicData uri="http://schemas.openxmlformats.org/drawingml/2006/table">
            <a:tbl>
              <a:tblPr/>
              <a:tblGrid>
                <a:gridCol w="2187360"/>
                <a:gridCol w="2243160"/>
                <a:gridCol w="28828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00000"/>
                          </a:solidFill>
                          <a:latin typeface="Verdana"/>
                          <a:ea typeface="Times New Roman"/>
                        </a:rPr>
                        <a:t>HOMOGAMETIC S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00000"/>
                          </a:solidFill>
                          <a:latin typeface="Verdana"/>
                          <a:ea typeface="Times New Roman"/>
                        </a:rPr>
                        <a:t>HETEROGAMETIC S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00000"/>
                          </a:solidFill>
                          <a:latin typeface="Verdana"/>
                          <a:ea typeface="Times New Roman"/>
                        </a:rPr>
                        <a:t>SEX DETERMI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emale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le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sence of Y-chromosome = maleness (mammals and fis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sence of second X-chromosome = femaleness (Drosophila, the fruit fl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le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emale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rds, amphibians, reptiles, butterflies, moth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emale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le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asshopp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Text Box 270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0" y="172296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karyot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chromosome consists of a single molecule of DNA in the form of a closed loop. The chromosome is described a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ircula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 prokaryotic cell ha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nly o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chromosom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ukaryot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chromosome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inea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not circular, in other words it has two ends, like a sausage. Each chromosome contain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molecule of DNA for the first half or so of interphase, then the DNA replicates, and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w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DNA molecules remain together (as sister-chromatids) in the same chromosome for the rest of interphase. This does not happen in prokaryotic cell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ukaryotic cells hav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ore than o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chromosom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 further difference: prokaryotic chromosomes consist only of a naked DNA molecule, bu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ukaryot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chromosomes also contain many molecules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tei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(mostly histones). The DNA is wound around these protei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-3463560" y="-320760"/>
            <a:ext cx="160714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Bacterial Chromosome Structure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800"/>
            </a:br>
            <a:r>
              <a:rPr b="1" lang="fr-FR" sz="1400" spc="-1" strike="noStrike">
                <a:solidFill>
                  <a:srgbClr val="3333ff"/>
                </a:solidFill>
                <a:latin typeface="Times New Roman"/>
              </a:rPr>
              <a:t>Prokaryotic cells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(bacteria) contain their chromosome as </a:t>
            </a:r>
            <a:r>
              <a:rPr b="1" lang="fr-FR" sz="1400" spc="-1" strike="noStrike">
                <a:solidFill>
                  <a:srgbClr val="3333ff"/>
                </a:solidFill>
                <a:latin typeface="Times New Roman"/>
              </a:rPr>
              <a:t>circular</a:t>
            </a:r>
            <a:r>
              <a:rPr b="1" lang="fr-FR" sz="1400" spc="-1" strike="noStrike">
                <a:solidFill>
                  <a:srgbClr val="3333ff"/>
                </a:solidFill>
                <a:latin typeface="Verdana"/>
              </a:rPr>
              <a:t> </a:t>
            </a:r>
            <a:r>
              <a:rPr b="1" lang="fr-FR" sz="1400" spc="-1" strike="noStrike">
                <a:solidFill>
                  <a:srgbClr val="3333ff"/>
                </a:solidFill>
                <a:latin typeface="Times New Roman"/>
              </a:rPr>
              <a:t> DNA.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Usually the entire genome is a single circle, but often there are extra circles called </a:t>
            </a:r>
            <a:r>
              <a:rPr b="1" lang="fr-FR" sz="1400" spc="-1" strike="noStrike">
                <a:solidFill>
                  <a:srgbClr val="3333ff"/>
                </a:solidFill>
                <a:latin typeface="Times New Roman"/>
              </a:rPr>
              <a:t>plasmids.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The DNA is packaged by </a:t>
            </a:r>
            <a:r>
              <a:rPr b="1" lang="fr-FR" sz="1400" spc="-1" strike="noStrike">
                <a:solidFill>
                  <a:srgbClr val="ff0000"/>
                </a:solidFill>
                <a:latin typeface="Times New Roman"/>
              </a:rPr>
              <a:t>DNA-binding proteins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3" descr="http://biology.kenyon.edu/courses/biol114/Chap01/bact_nucleoid.gif"/>
          <p:cNvPicPr/>
          <p:nvPr/>
        </p:nvPicPr>
        <p:blipFill>
          <a:blip r:embed="rId1"/>
          <a:stretch/>
        </p:blipFill>
        <p:spPr>
          <a:xfrm>
            <a:off x="2359080" y="3386160"/>
            <a:ext cx="4962600" cy="1962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3"/>
          <p:cNvSpPr/>
          <p:nvPr/>
        </p:nvSpPr>
        <p:spPr>
          <a:xfrm>
            <a:off x="2319480" y="8809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cterial Chromosome Structur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karyotic cell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bacteria) contain their chromosome a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ircular  DN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 Usually the entire genome is a single circle, but often there are extra circles calle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asmids.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DNA is packaged by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NA-binding protein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"/>
          <p:cNvSpPr/>
          <p:nvPr/>
        </p:nvSpPr>
        <p:spPr>
          <a:xfrm>
            <a:off x="2243160" y="4381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bacterial DNA is packaged in loops back and forth.  The bundled DNA is called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ucleoi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  It concentrates the DNA in part of the cell, but it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not separat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y a nuclear membrane (as in eukaryotes.)  The DNA does form loops back and forth to 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tein core, attached to the cell wall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2" descr="http://biology.kenyon.edu/courses/biol114/Chap01/bact_expand.gif"/>
          <p:cNvPicPr/>
          <p:nvPr/>
        </p:nvPicPr>
        <p:blipFill>
          <a:blip r:embed="rId1"/>
          <a:stretch/>
        </p:blipFill>
        <p:spPr>
          <a:xfrm>
            <a:off x="1936800" y="3159000"/>
            <a:ext cx="41241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920" y="409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Chromosomes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in eukaryotes</a:t>
            </a: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Found in the nucle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Condensed and visible during cell divi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At the beginning of mitosis they can be seen to consist of two threads (sister chromatids) joined by a centrome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he sister chromatids are identical cop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During mitosis the sister chromatids separate and are placed into two nucle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1940_fs"/>
          <p:cNvPicPr/>
          <p:nvPr/>
        </p:nvPicPr>
        <p:blipFill>
          <a:blip r:embed="rId1"/>
          <a:stretch/>
        </p:blipFill>
        <p:spPr>
          <a:xfrm>
            <a:off x="5557680" y="189000"/>
            <a:ext cx="3117960" cy="21556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680440" y="637380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mage believed to be in the Public Dom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Numbers of chromosom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Constant for each cell in the body (except sex cells which only have half sets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Constant throughout the life of an individual (you don’t lose or gain chromosom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Constant for all members of a spec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4" descr="p797-2a"/>
          <p:cNvPicPr/>
          <p:nvPr/>
        </p:nvPicPr>
        <p:blipFill>
          <a:blip r:embed="rId1"/>
          <a:stretch/>
        </p:blipFill>
        <p:spPr>
          <a:xfrm>
            <a:off x="2195640" y="1628640"/>
            <a:ext cx="2171520" cy="1905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maizechromosomes"/>
          <p:cNvPicPr/>
          <p:nvPr/>
        </p:nvPicPr>
        <p:blipFill>
          <a:blip r:embed="rId2"/>
          <a:stretch/>
        </p:blipFill>
        <p:spPr>
          <a:xfrm>
            <a:off x="5580000" y="1628640"/>
            <a:ext cx="3095640" cy="22482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7"/>
          <p:cNvSpPr/>
          <p:nvPr/>
        </p:nvSpPr>
        <p:spPr>
          <a:xfrm>
            <a:off x="241128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6299280" y="39258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aiz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6423480" y="4340160"/>
            <a:ext cx="148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ea typeface="Arial"/>
                <a:hlinkClick r:id="rId3"/>
              </a:rPr>
              <a:t>© A. Lane Raybur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1727640" y="431316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mage believed to be in the Public Dom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547640" y="1773360"/>
          <a:ext cx="6096240" cy="44402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Organis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Chromosome numb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m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mpanze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 Mou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z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31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chromosomes1"/>
          <p:cNvPicPr/>
          <p:nvPr/>
        </p:nvPicPr>
        <p:blipFill>
          <a:blip r:embed="rId1"/>
          <a:stretch/>
        </p:blipFill>
        <p:spPr>
          <a:xfrm>
            <a:off x="2268360" y="1557360"/>
            <a:ext cx="5143680" cy="5086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Human chromosom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162520" y="657072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mage believed to be in the Public Dom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The chromosomes of a human fema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Picture 5" descr="karyotypeX"/>
          <p:cNvPicPr/>
          <p:nvPr/>
        </p:nvPicPr>
        <p:blipFill>
          <a:blip r:embed="rId1"/>
          <a:stretch/>
        </p:blipFill>
        <p:spPr>
          <a:xfrm>
            <a:off x="1979640" y="1844640"/>
            <a:ext cx="5040360" cy="38178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177160" y="6453360"/>
            <a:ext cx="30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mage believed to be in the Public Dom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476280"/>
            <a:ext cx="731340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Identifying chromosom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0160" y="1699920"/>
            <a:ext cx="44258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Chromosomes can be identified by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heir siz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heir shape (the position of the centromere) 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NB Chromosomes are flexib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Banding patterns produced by specific stains (Giem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Chromosomes are analysed by organising them into a </a:t>
            </a:r>
            <a:r>
              <a:rPr b="1" lang="en-GB" sz="2100" spc="-1" strike="noStrike">
                <a:solidFill>
                  <a:srgbClr val="006666"/>
                </a:solidFill>
                <a:latin typeface="Verdana"/>
              </a:rPr>
              <a:t>KARYOTYP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940360" y="1827360"/>
            <a:ext cx="2743200" cy="26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5" descr="caryotyp"/>
          <p:cNvPicPr/>
          <p:nvPr/>
        </p:nvPicPr>
        <p:blipFill>
          <a:blip r:embed="rId1"/>
          <a:stretch/>
        </p:blipFill>
        <p:spPr>
          <a:xfrm>
            <a:off x="5867280" y="1844640"/>
            <a:ext cx="2845080" cy="27846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510600" y="4749840"/>
            <a:ext cx="18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ea typeface="Arial"/>
                <a:hlinkClick r:id="rId3"/>
              </a:rPr>
              <a:t>© Biologyreferenc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5:15:32Z</dcterms:created>
  <dc:creator>Billiet</dc:creator>
  <dc:description/>
  <dc:language>en-US</dc:language>
  <cp:lastModifiedBy>Registered User</cp:lastModifiedBy>
  <dcterms:modified xsi:type="dcterms:W3CDTF">2012-10-01T10:41:29Z</dcterms:modified>
  <cp:revision>50</cp:revision>
  <dc:subject/>
  <dc:title>CHROMOSOMES</dc:title>
</cp:coreProperties>
</file>