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241-DD32-4B41-9425-7F25E597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5A-EDA9-4793-AF02-9169B81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A3E-D021-42F3-A632-0E63C27B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6ED-C448-4D31-9E74-7D06B557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0508-BA4A-449F-B6B1-E0F44D3F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51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D40-837E-4406-A097-F6DCFBC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516F-99B9-45C5-A1F0-BDBEC218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370E-6605-4AE7-AFC7-73E06EAE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345F-758C-48BB-9346-D21A2D6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7DC-665E-4ED4-A0EA-C972130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9588-8219-48B5-ACAF-5184664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51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561-344B-4697-9E72-5C7440AD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DBC-41AD-4A02-94C4-46FAF52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A9DA-B8CA-4CC4-9D17-432D6AC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79A7-1CFD-42CD-A5F4-176825DF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6D9-6CD0-4DE5-8F79-13C8E8F3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DA5-1AB1-4237-B324-477DCD83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90C-ECCD-4DE8-8E27-763E50C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83E-0913-4B6C-A5DC-2FA1455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D6C-BDBE-4350-809E-2123F1D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E64-C719-43D0-A5C0-668669F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10C-6547-490D-8642-A6F8078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D36-C285-49D2-95E7-E3733D3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4E2-0E87-4E27-A778-07613DE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67A-D7A1-4166-8574-5DF65F825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33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334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0"/>
            <a:ext cx="3043080" cy="6858000"/>
          </a:xfrm>
          <a:prstGeom prst="flowChartDelay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43240" y="19047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993333"/>
                </a:solidFill>
                <a:latin typeface="Verdana"/>
              </a:rPr>
              <a:t>Click to edit the title text format</a:t>
            </a:r>
            <a:endParaRPr b="0" lang="en-US" sz="12000" spc="-1" strike="noStrike">
              <a:solidFill>
                <a:srgbClr val="9933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33D-CE58-45D9-A8A1-DC740A3AD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33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480" y="5486400"/>
            <a:ext cx="6384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Human Anatomy &amp; Physiology, </a:t>
            </a:r>
            <a:r>
              <a:rPr b="1" i="1" lang="en-US" sz="2300" spc="-1" strike="noStrike">
                <a:solidFill>
                  <a:srgbClr val="0000cc"/>
                </a:solidFill>
                <a:latin typeface="Arial"/>
              </a:rPr>
              <a:t>Sixth Ed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760" y="5908680"/>
            <a:ext cx="21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aine N. Mari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9224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</a:rPr>
              <a:t>PowerPoint</a:t>
            </a:r>
            <a:r>
              <a:rPr b="0" lang="en-US" sz="1800" spc="-1" strike="noStrike" baseline="30000">
                <a:solidFill>
                  <a:srgbClr val="973a2b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973a2b"/>
                </a:solidFill>
                <a:latin typeface="Arial"/>
              </a:rPr>
              <a:t> Lecture Slides prepared by Vince Austin, University of Kentuc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88440" indent="0" algn="ctr">
              <a:spcBef>
                <a:spcPts val="1624"/>
              </a:spcBef>
              <a:spcAft>
                <a:spcPts val="7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24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568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55448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5544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5544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intrcond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cardcycl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actnpot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cardoutp.html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ardiovascular System: The Hea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lectrocardiography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729720"/>
            <a:ext cx="8610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ctrical activity is recorded by electrocardiogram (EC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 wave corresponds to depolarization of SA n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RS complex corresponds to ventricular depola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 wave corresponds to ventricular repola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al repolarization record is masked by the larger QRS compl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86728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Intrinsic Conduction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380880" y="594360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lectrocardiography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864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Sounds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sounds (lub-dup) are associated with closing of heart val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rst sound occurs as AV valves close and signifies beginning of syst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sound occurs when SL valves close at the beginning of ventricular diast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cycle refers to all events associated with blood flow through the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ystole – contraction of heart mus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astole – relaxation of heart mus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ntricular filling – mid-to-late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art blood pressure is low as blood enters atria and flows into ventric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V valves are open, then atrial systole occu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ntricular sy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tria relax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sing ventricular pressure results in closing of AV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sovolumetric contraction pha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ular ejection phase opens semilunar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ovolumetric relaxation – early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les rela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ackflow of blood in aorta and pulmonary trunk closes semilunar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crotic notch – brief rise in aortic pressure caused by backflow of blood rebounding off semilunar val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66760" y="685800"/>
            <a:ext cx="50896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Output (CO) and Reserv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is the amount of blood pumped by each ventricle in one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is the product of heart rate (HR) and stroke volume (S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R is the number of heart beats per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V is the amount of blood pumped out by a ventricle with each b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reserve is the difference between resting and maximal 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Output: Examp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(ml/min) = HR (75 beats/min) x SV (70 ml/bea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= 5250 ml/min (5.25 L/mi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Muscle Contrac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s stimulated by nerves and is self-excitable (automaticit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racts as a uni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long (250 ms) absolute refractory perio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muscle contraction is similar to skeletal muscl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V = end diastolic volume (EDV) minus end systolic volume (ES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V = amount of blood collected in a ventricle during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V = amount of blood remaining in a ventricle after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actors Affect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load – amount ventricles are stretched by contained bloo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actility – cardiac cell contractile force due to factors other than ED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fterload – back pressure exerted by blood in the large arteries leaving the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rank-Starling Law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load, or degree of stretch, of cardiac muscle cells before they contract is the critical factor controlling stroke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ow heartbeat and exercise increase venous return to the heart, increasing S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ood loss and extremely rapid heartbeat decrease S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reload and Afterload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9800" y="685800"/>
            <a:ext cx="829332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Factors Influenc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actility is the increase in contractile strength, independent of stretch and ED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 in contractility comes from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creased sympathetic stimul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ertain hormon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some dru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Factors Influenc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/factors that decrease contractility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cido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creased extracellular K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lcium channel block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ontractility and Norepinephrin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3200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ympathetic stimulation releases norepinephrine and initiates a cyclic AMP second-messenger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6507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4967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Heart Rat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itive chronotropic factors in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gative chronotropic factors de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ympathetic nervous system (SNS) stimulation is activated by stress, anxiety, excitement, or exerci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asympathetic nervous system (PNS) stimulation is mediated by acetylcholine and opposes the S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NS dominates the autonomic stimulation, slowing heart rate and causing vagal t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0666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Heart Rate: Autonomic Nervous System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Atrial (Bainbridge) Reflex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al (Bainbridge) reflex – a sympathetic reflex initiated by increased blood in the at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uses stimulation of the SA no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timulates baroreceptors in the atria, causing increased SNS stimul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Intrinsic Conduction System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utorhythmic cell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itiate action potential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ve unstable resting potentials called pacemaker potentia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se calcium influx (rather than sodium) for rising phase of the action potenti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Action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hemical Regulation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hormones epinephrine and thyroxine in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a- and extracellular ion concentrations must be maintained for normal heart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0666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actors Involved in Regulation of Cardiac Outpu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179360"/>
            <a:ext cx="8153280" cy="529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ongestive Heart Failure (CHF)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gestive heart failure (CHF) is caused b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ronary atherosclero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ersistent high blood press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ultiple myocardial infarc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lated cardiomyopathy (DCM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bryonic heart cha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nus venou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triu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ulbus cord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6324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2031840"/>
            <a:ext cx="8686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tal heart structures that bypass pulmonary circ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amen ovale connects the two atria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uctus arteriosus connects pulmonary trunk and the aor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amples of Congenital Heart Defects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31800"/>
            <a:ext cx="8763120" cy="42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Age-Related Changes Affecting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lerosis and thickening of valve fla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ine in cardiac rese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brosis of cardiac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acemaker and Action Potential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828720"/>
            <a:ext cx="769644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oatrial (SA) node generates impulses about 75 times/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oventricular (AV) node delays the impulse approximately 0.1 seco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ulse passes from atria to ventricles via the atrioventricular bundle (bundle of H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 bundle splits into two pathways in the interventricular septum (bundle branch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undle branches carry the impulse toward the apex of the hea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urkinje fibers carry the impulse to the heart apex and ventricular wal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Excitation Related to ECG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085840"/>
            <a:ext cx="861048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Innervation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is stimulated by the sympathetic cardioacceleratory cen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is inhibited by the parasympathetic cardioinhibitory ce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5400" y="762120"/>
            <a:ext cx="4257720" cy="58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96080" y="6507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6:42:31Z</dcterms:created>
  <dc:creator>Karl Miyajima</dc:creator>
  <dc:description/>
  <dc:language>en-US</dc:language>
  <cp:lastModifiedBy>ZonaNet</cp:lastModifiedBy>
  <dcterms:modified xsi:type="dcterms:W3CDTF">2008-05-03T02:44:35Z</dcterms:modified>
  <cp:revision>117</cp:revision>
  <dc:subject/>
  <dc:title>29</dc:title>
</cp:coreProperties>
</file>