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14DF-4904-4DFD-B630-0768F36AF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3786840"/>
            <a:ext cx="861048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E3D6-28B2-4D34-BD61-AB85B7D1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42015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080" y="762120"/>
            <a:ext cx="42015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786840"/>
            <a:ext cx="42015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7080" y="3786840"/>
            <a:ext cx="42015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F350-B2FE-45B2-8548-22E24490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27723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6240" y="762120"/>
            <a:ext cx="27723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7560" y="762120"/>
            <a:ext cx="27723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3786840"/>
            <a:ext cx="27723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6240" y="3786840"/>
            <a:ext cx="27723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7560" y="3786840"/>
            <a:ext cx="27723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4C3D-D49D-496E-A64B-F600CE054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A2C8-7225-4D84-92CE-80EB9272B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4920" y="7621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51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3978-DCAC-487C-83BF-FDED9046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C2CF-6331-428C-978D-03BACDFD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42015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7080" y="762120"/>
            <a:ext cx="42015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DF61-0D9C-45CB-8235-D9B89038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66C1-D26A-4283-B2A3-D9A813AF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04920" y="75960"/>
            <a:ext cx="8610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51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1418-B29D-4662-A509-A5099212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42015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762120"/>
            <a:ext cx="42015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786840"/>
            <a:ext cx="42015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CEF7-EEA2-4E90-9A33-8ED8B7D7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7621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51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924A-FD0C-4985-90AF-30321CA7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42015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762120"/>
            <a:ext cx="42015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7080" y="3786840"/>
            <a:ext cx="42015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7E39-8164-4E98-896E-27700444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42015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7080" y="762120"/>
            <a:ext cx="42015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786840"/>
            <a:ext cx="861048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393F-AC3F-43F3-8D2D-C0E995DE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4920" y="3786840"/>
            <a:ext cx="861048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E397-33AF-4476-8A40-46908BA4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42015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7080" y="762120"/>
            <a:ext cx="42015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04920" y="3786840"/>
            <a:ext cx="42015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7080" y="3786840"/>
            <a:ext cx="42015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DE24-1106-43BC-96C1-0FA93EF1A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27723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6240" y="762120"/>
            <a:ext cx="27723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27560" y="762120"/>
            <a:ext cx="27723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04920" y="3786840"/>
            <a:ext cx="27723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6240" y="3786840"/>
            <a:ext cx="27723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27560" y="3786840"/>
            <a:ext cx="27723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241D-F607-4C47-B840-D8ABE49CA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F02B-6C26-4E1E-B291-3E7DF87F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42015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7080" y="762120"/>
            <a:ext cx="42015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1948-01DD-4794-8E9D-FF997FE7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DD8A-8AF2-4DC5-A8D3-53227946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75960"/>
            <a:ext cx="8610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51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77CA-BCEC-48A7-A610-02B9650C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42015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080" y="762120"/>
            <a:ext cx="42015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3786840"/>
            <a:ext cx="42015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E2D8-8B78-43A3-ACCD-99002B10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42015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762120"/>
            <a:ext cx="42015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7080" y="3786840"/>
            <a:ext cx="42015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281B-9347-4919-8930-9FDD70F9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42015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762120"/>
            <a:ext cx="420156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3786840"/>
            <a:ext cx="861048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B886-9ADB-4CF1-8379-7A003891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7621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687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CA23-95D2-439C-801F-22FF2A8B0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09480"/>
            <a:ext cx="89917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5360" y="6537240"/>
            <a:ext cx="42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33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66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5334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4120" y="0"/>
            <a:ext cx="3043080" cy="6858000"/>
          </a:xfrm>
          <a:prstGeom prst="flowChartDelay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943240" y="190476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993333"/>
                </a:solidFill>
                <a:latin typeface="Verdana"/>
              </a:rPr>
              <a:t>Click to edit the title text format</a:t>
            </a:r>
            <a:endParaRPr b="0" lang="en-US" sz="12000" spc="-1" strike="noStrike">
              <a:solidFill>
                <a:srgbClr val="993333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2698-7434-4F4F-978F-BACBCE3FE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5360" y="6537240"/>
            <a:ext cx="42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33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480" y="5486400"/>
            <a:ext cx="63849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cc"/>
                </a:solidFill>
                <a:latin typeface="Arial"/>
              </a:rPr>
              <a:t>Human Anatomy &amp; Physiology, </a:t>
            </a:r>
            <a:r>
              <a:rPr b="1" i="1" lang="en-US" sz="2300" spc="-1" strike="noStrike">
                <a:solidFill>
                  <a:srgbClr val="0000cc"/>
                </a:solidFill>
                <a:latin typeface="Arial"/>
              </a:rPr>
              <a:t>Sixth Edi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0760" y="5908680"/>
            <a:ext cx="211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laine N. Marie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192240"/>
            <a:ext cx="79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73a2b"/>
                </a:solidFill>
                <a:latin typeface="Arial"/>
              </a:rPr>
              <a:t>PowerPoint</a:t>
            </a:r>
            <a:r>
              <a:rPr b="0" lang="en-US" sz="1800" spc="-1" strike="noStrike" baseline="30000">
                <a:solidFill>
                  <a:srgbClr val="973a2b"/>
                </a:solidFill>
                <a:latin typeface="Arial"/>
              </a:rPr>
              <a:t>®</a:t>
            </a:r>
            <a:r>
              <a:rPr b="0" lang="en-US" sz="1800" spc="-1" strike="noStrike">
                <a:solidFill>
                  <a:srgbClr val="973a2b"/>
                </a:solidFill>
                <a:latin typeface="Arial"/>
              </a:rPr>
              <a:t> Lecture Slides prepared by Vince Austin, University of Kentuc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1851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388440" indent="0" algn="ctr">
              <a:spcBef>
                <a:spcPts val="1624"/>
              </a:spcBef>
              <a:spcAft>
                <a:spcPts val="7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777240" algn="ctr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165680" algn="ctr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554480" algn="ctr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55448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55448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/../Animations/InterActive_Physiology/systems/intrcond.html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../../Animations/InterActive_Physiology/systems/cardcycl.html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../Animations/InterActive_Physiology/systems/actnpot.html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../../Animations/InterActive_Physiology/systems/cardoutp.html" TargetMode="External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66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80520" y="1905120"/>
            <a:ext cx="5715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1851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Cardiovascular System: The Hear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851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Electrocardiography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729720"/>
            <a:ext cx="861048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lectrical activity is recorded by electrocardiogram (ECG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 wave corresponds to depolarization of SA nod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QRS complex corresponds to ventricular depolar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 wave corresponds to ventricular repolar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trial repolarization record is masked by the larger QRS comple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5867280"/>
            <a:ext cx="761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3333"/>
                </a:solidFill>
                <a:latin typeface="Times New Roman"/>
              </a:rPr>
              <a:t>InterActive Physiology</a:t>
            </a:r>
            <a:r>
              <a:rPr b="1" lang="en-US" sz="1600" spc="-1" strike="noStrike" baseline="30000">
                <a:solidFill>
                  <a:srgbClr val="993333"/>
                </a:solidFill>
                <a:latin typeface="Times New Roman"/>
              </a:rPr>
              <a:t>®</a:t>
            </a:r>
            <a:r>
              <a:rPr b="1" lang="en-US" sz="1600" spc="-1" strike="noStrike">
                <a:solidFill>
                  <a:srgbClr val="993333"/>
                </a:solidFill>
                <a:latin typeface="Times New Roman"/>
              </a:rPr>
              <a:t>: </a:t>
            </a:r>
            <a:br>
              <a:rPr sz="1600"/>
            </a:br>
            <a:r>
              <a:rPr b="1" lang="en-US" sz="1600" spc="-1" strike="noStrike">
                <a:solidFill>
                  <a:srgbClr val="993333"/>
                </a:solidFill>
                <a:latin typeface="Times New Roman"/>
              </a:rPr>
              <a:t>Cardiovascular System: Intrinsic Conduction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"/>
          </p:cNvPr>
          <p:cNvSpPr/>
          <p:nvPr/>
        </p:nvSpPr>
        <p:spPr>
          <a:xfrm>
            <a:off x="380880" y="5943600"/>
            <a:ext cx="762120" cy="457200"/>
          </a:xfrm>
          <a:prstGeom prst="ellipse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Electrocardiography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15200" y="6324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8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548640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Heart Sounds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eart sounds (lub-dup) are associated with closing of heart valv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rst sound occurs as AV valves close and signifies beginning of systo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sound occurs when SL valves close at the beginning of ventricular diasto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Cardiac Cycle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ardiac cycle refers to all events associated with blood flow through the hea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ystole – contraction of heart musc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Diastole – relaxation of heart musc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Phases of the Cardiac Cycle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Ventricular filling – mid-to-late diasto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Heart blood pressure is low as blood enters atria and flows into ventricl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V valves are open, then atrial systole occur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Phases of the Cardiac Cycle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Ventricular systo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tria relax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Rising ventricular pressure results in closing of AV valv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sovolumetric contraction phas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Ventricular ejection phase opens semilunar valv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Phases of the Cardiac Cycle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ovolumetric relaxation – early diasto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Ventricles relax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ackflow of blood in aorta and pulmonary trunk closes semilunar valv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icrotic notch – brief rise in aortic pressure caused by backflow of blood rebounding off semilunar valv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19320" y="5791320"/>
            <a:ext cx="761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3333"/>
                </a:solidFill>
                <a:latin typeface="Times New Roman"/>
              </a:rPr>
              <a:t>InterActive Physiology</a:t>
            </a:r>
            <a:r>
              <a:rPr b="1" lang="en-US" sz="1600" spc="-1" strike="noStrike" baseline="30000">
                <a:solidFill>
                  <a:srgbClr val="993333"/>
                </a:solidFill>
                <a:latin typeface="Times New Roman"/>
              </a:rPr>
              <a:t>®</a:t>
            </a:r>
            <a:r>
              <a:rPr b="1" lang="en-US" sz="1600" spc="-1" strike="noStrike">
                <a:solidFill>
                  <a:srgbClr val="993333"/>
                </a:solidFill>
                <a:latin typeface="Times New Roman"/>
              </a:rPr>
              <a:t>: </a:t>
            </a:r>
            <a:br>
              <a:rPr sz="1600"/>
            </a:br>
            <a:r>
              <a:rPr b="1" lang="en-US" sz="1600" spc="-1" strike="noStrike">
                <a:solidFill>
                  <a:srgbClr val="993333"/>
                </a:solidFill>
                <a:latin typeface="Times New Roman"/>
              </a:rPr>
              <a:t>Cardiovascular System: Cardiac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1"/>
          </p:cNvPr>
          <p:cNvSpPr/>
          <p:nvPr/>
        </p:nvSpPr>
        <p:spPr>
          <a:xfrm>
            <a:off x="380880" y="5867280"/>
            <a:ext cx="762120" cy="457200"/>
          </a:xfrm>
          <a:prstGeom prst="ellipse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Phases of the Cardiac Cycle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15200" y="6324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8.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066760" y="685800"/>
            <a:ext cx="508968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Cardiac Output (CO) and Reserve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 is the amount of blood pumped by each ventricle in one minu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 is the product of heart rate (HR) and stroke volume (SV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R is the number of heart beats per minu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V is the amount of blood pumped out by a ventricle with each be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ardiac reserve is the difference between resting and maximal C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Cardiac Output: Example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 (ml/min) = HR (75 beats/min) x SV (70 ml/beat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 = 5250 ml/min (5.25 L/mi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Cardiac Muscle Contraction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eart musc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s stimulated by nerves and is self-excitable (automaticity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ontracts as a uni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Has a long (250 ms) absolute refractory period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ardiac muscle contraction is similar to skeletal muscle contr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Regulation of Stroke Volume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V = end diastolic volume (EDV) minus end systolic volume (ESV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DV = amount of blood collected in a ventricle during diasto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SV = amount of blood remaining in a ventricle after contr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Factors Affecting Stroke Volume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load – amount ventricles are stretched by contained blood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tractility – cardiac cell contractile force due to factors other than ED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fterload – back pressure exerted by blood in the large arteries leaving the hea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Frank-Starling Law of the Heart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load, or degree of stretch, of cardiac muscle cells before they contract is the critical factor controlling stroke volu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low heartbeat and exercise increase venous return to the heart, increasing S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lood loss and extremely rapid heartbeat decrease S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Preload and Afterload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15200" y="65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8.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69800" y="685800"/>
            <a:ext cx="8293320" cy="57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Extrinsic Factors Influencing Stroke Volume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tractility is the increase in contractile strength, independent of stretch and ED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crease in contractility comes from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ncreased sympathetic stimuli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ertain hormon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and some drug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Extrinsic Factors Influencing Stroke Volume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gents/factors that decrease contractility inclu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cidosi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ncreased extracellular K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alcium channel blocker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Contractility and Norepinephrine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3200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ympathetic stimulation releases norepinephrine and initiates a cyclic AMP second-messenger syst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67480" y="65070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8.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657600" y="762120"/>
            <a:ext cx="4967280" cy="57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Regulation of Heart Rate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sitive chronotropic factors increase heart r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egative chronotropic factors decrease heart r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ympathetic nervous system (SNS) stimulation is activated by stress, anxiety, excitement, or exercis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arasympathetic nervous system (PNS) stimulation is mediated by acetylcholine and opposes the SN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NS dominates the autonomic stimulation, slowing heart rate and causing vagal to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5335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1066680"/>
            <a:ext cx="89917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Regulation of Heart Rate: Autonomic Nervous System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Atrial (Bainbridge) Reflex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trial (Bainbridge) reflex – a sympathetic reflex initiated by increased blood in the atr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auses stimulation of the SA nod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timulates baroreceptors in the atria, causing increased SNS stimula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Heart Physiology: Intrinsic Conduction System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utorhythmic cell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nitiate action potentials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Have unstable resting potentials called pacemaker potential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Use calcium influx (rather than sodium) for rising phase of the action potentia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5791320"/>
            <a:ext cx="761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3333"/>
                </a:solidFill>
                <a:latin typeface="Times New Roman"/>
              </a:rPr>
              <a:t>InterActive Physiology</a:t>
            </a:r>
            <a:r>
              <a:rPr b="1" lang="en-US" sz="1600" spc="-1" strike="noStrike" baseline="30000">
                <a:solidFill>
                  <a:srgbClr val="993333"/>
                </a:solidFill>
                <a:latin typeface="Times New Roman"/>
              </a:rPr>
              <a:t>®</a:t>
            </a:r>
            <a:r>
              <a:rPr b="1" lang="en-US" sz="1600" spc="-1" strike="noStrike">
                <a:solidFill>
                  <a:srgbClr val="993333"/>
                </a:solidFill>
                <a:latin typeface="Times New Roman"/>
              </a:rPr>
              <a:t>: </a:t>
            </a:r>
            <a:br>
              <a:rPr sz="1600"/>
            </a:br>
            <a:r>
              <a:rPr b="1" lang="en-US" sz="1600" spc="-1" strike="noStrike">
                <a:solidFill>
                  <a:srgbClr val="993333"/>
                </a:solidFill>
                <a:latin typeface="Times New Roman"/>
              </a:rPr>
              <a:t>Cardiovascular System: Cardiac Action Poten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1"/>
          </p:cNvPr>
          <p:cNvSpPr/>
          <p:nvPr/>
        </p:nvSpPr>
        <p:spPr>
          <a:xfrm>
            <a:off x="380880" y="5867280"/>
            <a:ext cx="762120" cy="457200"/>
          </a:xfrm>
          <a:prstGeom prst="ellipse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Chemical Regulation of the Heart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hormones epinephrine and thyroxine increase heart r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tra- and extracellular ion concentrations must be maintained for normal heart fun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19320" y="5791320"/>
            <a:ext cx="761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3333"/>
                </a:solidFill>
                <a:latin typeface="Times New Roman"/>
              </a:rPr>
              <a:t>InterActive Physiology</a:t>
            </a:r>
            <a:r>
              <a:rPr b="1" lang="en-US" sz="1600" spc="-1" strike="noStrike" baseline="30000">
                <a:solidFill>
                  <a:srgbClr val="993333"/>
                </a:solidFill>
                <a:latin typeface="Times New Roman"/>
              </a:rPr>
              <a:t>®</a:t>
            </a:r>
            <a:r>
              <a:rPr b="1" lang="en-US" sz="1600" spc="-1" strike="noStrike">
                <a:solidFill>
                  <a:srgbClr val="993333"/>
                </a:solidFill>
                <a:latin typeface="Times New Roman"/>
              </a:rPr>
              <a:t>: </a:t>
            </a:r>
            <a:br>
              <a:rPr sz="1600"/>
            </a:br>
            <a:r>
              <a:rPr b="1" lang="en-US" sz="1600" spc="-1" strike="noStrike">
                <a:solidFill>
                  <a:srgbClr val="993333"/>
                </a:solidFill>
                <a:latin typeface="Times New Roman"/>
              </a:rPr>
              <a:t>Cardiovascular System: Cardiac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rId1"/>
          </p:cNvPr>
          <p:cNvSpPr/>
          <p:nvPr/>
        </p:nvSpPr>
        <p:spPr>
          <a:xfrm>
            <a:off x="380880" y="5867280"/>
            <a:ext cx="762120" cy="457200"/>
          </a:xfrm>
          <a:prstGeom prst="ellipse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5335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2280" y="1066680"/>
            <a:ext cx="89917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Factors Involved in Regulation of Cardiac Output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33520" y="1179360"/>
            <a:ext cx="8153280" cy="52977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315200" y="6324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8.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Congestive Heart Failure (CHF)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gestive heart failure (CHF) is caused b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oronary atherosclerosi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ersistent high blood pressur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ultiple myocardial infarc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Dilated cardiomyopathy (DCM)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Developmental Aspects of the Heart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mbryonic heart chamb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nus venou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trium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Ventric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ulbus cordi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Developmental Aspects of the Heart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96080" y="63244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8.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28600" y="2031840"/>
            <a:ext cx="868680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Developmental Aspects of the Heart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etal heart structures that bypass pulmonary circul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ramen ovale connects the two atria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Ductus arteriosus connects pulmonary trunk and the aorta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7315200" y="6324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8.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Examples of Congenital Heart Defects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52280" y="1531800"/>
            <a:ext cx="8763120" cy="425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Age-Related Changes Affecting the Heart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clerosis and thickening of valve flap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cline in cardiac reser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brosis of cardiac musc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theroscleros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Pacemaker and Action Potentials of the Heart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15200" y="65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8.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9480" y="828720"/>
            <a:ext cx="7696440" cy="57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Heart Physiology: Sequence of Excitation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noatrial (SA) node generates impulses about 75 times/minu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trioventricular (AV) node delays the impulse approximately 0.1 seco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mpulse passes from atria to ventricles via the atrioventricular bundle (bundle of Hi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Heart Physiology: Sequence of Excitation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V bundle splits into two pathways in the interventricular septum (bundle branche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undle branches carry the impulse toward the apex of the hear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spcAft>
                <a:spcPts val="726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urkinje fibers carry the impulse to the heart apex and ventricular wall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Heart Physiology: Sequence of Excitation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65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8.1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229600" cy="57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Heart Excitation Related to ECG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5200" y="6324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8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" y="2085840"/>
            <a:ext cx="8610480" cy="30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33"/>
                </a:solidFill>
                <a:latin typeface="Arial"/>
              </a:rPr>
              <a:t>Extrinsic Innervation of the Heart</a:t>
            </a:r>
            <a:endParaRPr b="1" lang="en-US" sz="2900" spc="-1" strike="noStrike">
              <a:solidFill>
                <a:srgbClr val="9933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3657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eart is stimulated by the sympathetic cardioacceleratory center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eart is inhibited by the parasympathetic cardioinhibitory cent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05400" y="762120"/>
            <a:ext cx="4257720" cy="5867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696080" y="65070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8.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6:42:31Z</dcterms:created>
  <dc:creator>Karl Miyajima</dc:creator>
  <dc:description/>
  <dc:language>en-US</dc:language>
  <cp:lastModifiedBy>ZonaNet</cp:lastModifiedBy>
  <dcterms:modified xsi:type="dcterms:W3CDTF">2008-05-03T02:44:35Z</dcterms:modified>
  <cp:revision>117</cp:revision>
  <dc:subject/>
  <dc:title>29</dc:title>
</cp:coreProperties>
</file>