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B60-7BF6-48A2-B1F1-5D732447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F28-1B59-410E-833B-6DF36733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4D11-D095-45BB-A987-08BA5430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F075-AA62-4544-ACCC-33681111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FB6-AF8C-4978-AC14-CC6D2B9D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033-7DCD-4B69-AF21-AE176EEA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489-CA17-4A61-8FD1-AEC85985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8ED-E06C-4799-AF1B-90285501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F6B-6BC5-45E2-B607-BAC10DA4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4017-A14B-4678-980E-AF863386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B54-AA09-44A5-8EF4-6AE0A332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F699-A74D-4B63-B8B3-269629FA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1271-2A74-4C00-81D8-651E16D37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Circulatory Syst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 Related Path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5560" y="1752480"/>
            <a:ext cx="71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herosclerosis- normal or pathologica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factorial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-related changes vs. Environ.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othelial Damage - platelet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rophage infiltration - “foam cell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Cell Proliferation (intima) - athe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osition of Lipids - dependent on serum 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DL vs. H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ibrous%2520plaque" descr=""/>
          <p:cNvPicPr/>
          <p:nvPr/>
        </p:nvPicPr>
        <p:blipFill>
          <a:blip r:embed="rId1"/>
          <a:stretch/>
        </p:blipFill>
        <p:spPr>
          <a:xfrm>
            <a:off x="1066680" y="1625760"/>
            <a:ext cx="655344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thstages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brous Pla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laque" descr=""/>
          <p:cNvPicPr/>
          <p:nvPr/>
        </p:nvPicPr>
        <p:blipFill>
          <a:blip r:embed="rId1"/>
          <a:stretch/>
        </p:blipFill>
        <p:spPr>
          <a:xfrm>
            <a:off x="1371600" y="1071720"/>
            <a:ext cx="6248520" cy="55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nfarct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848720" cy="5138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16120" y="228600"/>
            <a:ext cx="37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ocardial Infar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733920" y="762120"/>
            <a:ext cx="914400" cy="1523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914400"/>
            <a:ext cx="0" cy="1447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990720"/>
            <a:ext cx="838440" cy="2666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6720" y="2133720"/>
            <a:ext cx="8836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High blood cholester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specially LDL or "bad" cholesterol over 100 mg/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Cigarette smoking and exposure to tobacco smo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High blood press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Diabetes mellit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Obe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Physical inac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88920" y="1981080"/>
            <a:ext cx="721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tion of Blood Pressure with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olic/Diastolic e.g. 140/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of Arteriosclerosis/ Atherosclero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 kidney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risk for stroke, aneurysm, C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onary Artery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748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laque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733920" cy="3297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23920" y="1523880"/>
            <a:ext cx="3917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fficient blood flow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mus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chemic Hear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ocardial Infar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estive Heart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5080" y="2057400"/>
            <a:ext cx="8911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Insufficiency - heart too weak to pum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ough blood (decrease in cardiac outp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od pressure dr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od pools in v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dney function adversely aff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left ventricle most affected, blood pools on pulmonary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ing to pulmonary ed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4480" y="1397160"/>
            <a:ext cx="7652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ythrocytes - hemogl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ukocytes - immune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elets - clo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ts (electrolyt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tr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bumins, immunoglobulin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rin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6120" y="379440"/>
            <a:ext cx="51703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81200" y="379440"/>
            <a:ext cx="57801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4960" y="379440"/>
            <a:ext cx="807264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752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ymphat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ymph" descr=""/>
          <p:cNvPicPr/>
          <p:nvPr/>
        </p:nvPicPr>
        <p:blipFill>
          <a:blip r:embed="rId1"/>
          <a:stretch/>
        </p:blipFill>
        <p:spPr>
          <a:xfrm>
            <a:off x="3962520" y="0"/>
            <a:ext cx="47322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 Related Changes -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362320"/>
            <a:ext cx="7719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Few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arameters fairly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rinogen increases with age (25% by age 7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increase in visc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 in red bone m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cline in reserve capa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 Related Changes (Hear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8520" y="1676520"/>
            <a:ext cx="8747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ruc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Loss of muscle cells replaced with connective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Accumulation of lipofuscin (up to 7% of volu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Endocardium thickens, valves thicken and harden, calc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Little Change in Healthy Inds. At 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Decrease in Cardiac Reserve (capacity to exerc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ncrease in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 Related Changes (Vesse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2240" y="2048040"/>
            <a:ext cx="7304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Decrease Elasticity of Vessels (arteriosclero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 elastin, increase collag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crossbri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hickening of Arterial W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Decrease in lumen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ncrease in peripheral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trophy of left ventr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15:32:35Z</dcterms:created>
  <dc:creator>Kenneth Crawford</dc:creator>
  <dc:description/>
  <dc:language>en-US</dc:language>
  <cp:lastModifiedBy>WKU USER</cp:lastModifiedBy>
  <dcterms:modified xsi:type="dcterms:W3CDTF">2005-03-07T17:41:57Z</dcterms:modified>
  <cp:revision>20</cp:revision>
  <dc:subject/>
  <dc:title>Circulatory System</dc:title>
</cp:coreProperties>
</file>