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5FD-4560-4BC7-B6BF-5ECDE531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81F-2EBB-4F1D-9E7B-4408F2F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211-79D7-48E8-8396-DC09032A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635-505D-4751-912A-40514432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AA9-46C0-4173-87EA-CCC5E6BC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A8F-868B-428B-A0E0-522EC31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E84-A04F-43B2-9480-4FC46EF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D40-7FBD-4DAB-A88C-A42D553B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F58-7E2B-4D6D-9438-69E1F790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6E9-99DA-4228-9735-3F3B8CF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3F4-8F22-4F0D-8596-8658CBD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A72-3396-401E-8A51-D8F5A90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82E-4B8D-4C49-92BF-8E6FEB83A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Circulatory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Path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5560" y="1752480"/>
            <a:ext cx="71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rosclerosis- normal or pathologica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factoria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-related changes vs. Environ.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thelial Damage - platelet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phage infiltration - “foam cel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Cell Proliferation (intima) - athe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ion of Lipids - dependent on serum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DL vs. 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brous%2520plaque" descr=""/>
          <p:cNvPicPr/>
          <p:nvPr/>
        </p:nvPicPr>
        <p:blipFill>
          <a:blip r:embed="rId1"/>
          <a:stretch/>
        </p:blipFill>
        <p:spPr>
          <a:xfrm>
            <a:off x="1066680" y="1625760"/>
            <a:ext cx="655344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thstages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brous Pla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laque" descr=""/>
          <p:cNvPicPr/>
          <p:nvPr/>
        </p:nvPicPr>
        <p:blipFill>
          <a:blip r:embed="rId1"/>
          <a:stretch/>
        </p:blipFill>
        <p:spPr>
          <a:xfrm>
            <a:off x="1371600" y="1071720"/>
            <a:ext cx="624852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nfarct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13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6120" y="22860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33920" y="762120"/>
            <a:ext cx="914400" cy="1523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914400"/>
            <a:ext cx="0" cy="1447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990720"/>
            <a:ext cx="838440" cy="2666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720" y="2133720"/>
            <a:ext cx="883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High blood choleste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specially LDL or "bad" cholesterol over 100 mg/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igarette smoking and exposure to tobacco smo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High blood pres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Diabetes melli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Obe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hysical in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8920" y="1981080"/>
            <a:ext cx="721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ion of Blood Pressure with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olic/Diastolic e.g. 140/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Arteriosclerosis/ Atheroscle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kidney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risk for stroke, aneurysm, C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laque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733920" cy="329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23920" y="1523880"/>
            <a:ext cx="3917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blood fl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emic 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estive Heart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5080" y="2057400"/>
            <a:ext cx="891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nsufficiency - heart too weak to pum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ough blood (decrease in cardiac out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ressure d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ools in v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 function adversel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ft ventricle most affected, blood pools on pulmonary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ing to pulmonary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4480" y="1397160"/>
            <a:ext cx="765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ythrocytes - h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ukocytes - immun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- clo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ts (electroly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s, immunoglobulin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in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6120" y="379440"/>
            <a:ext cx="517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81200" y="379440"/>
            <a:ext cx="57801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4960" y="379440"/>
            <a:ext cx="80726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752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a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ymph" descr=""/>
          <p:cNvPicPr/>
          <p:nvPr/>
        </p:nvPicPr>
        <p:blipFill>
          <a:blip r:embed="rId1"/>
          <a:stretch/>
        </p:blipFill>
        <p:spPr>
          <a:xfrm>
            <a:off x="3962520" y="0"/>
            <a:ext cx="47322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Changes -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7719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Few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arameters fairly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inogen increases with age (25% by age 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crease in 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red bone m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cline in reserve 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Changes (He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1676520"/>
            <a:ext cx="874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oss of muscle cells replaced with connectiv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ccumulation of lipofuscin (up to 7% of volu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ndocardium thickens, valves thicken and harden, cal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Little Change in Healthy Inds. At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Decrease in Cardiac Reserve (capacity to exerc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ncrease in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Changes (Vesse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2048040"/>
            <a:ext cx="730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Decrease Elasticity of Vessels (arteriosclero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elastin, increase collag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cross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ickening of Arterial 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ecrease in lumen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ncrease in peripheral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rophy of lef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5:32:35Z</dcterms:created>
  <dc:creator>Kenneth Crawford</dc:creator>
  <dc:description/>
  <dc:language>en-US</dc:language>
  <cp:lastModifiedBy>WKU USER</cp:lastModifiedBy>
  <dcterms:modified xsi:type="dcterms:W3CDTF">2005-03-07T17:41:57Z</dcterms:modified>
  <cp:revision>20</cp:revision>
  <dc:subject/>
  <dc:title>Circulatory System</dc:title>
</cp:coreProperties>
</file>