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ACC9-9A5C-4FD3-A28D-F02F313DE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820A-4FB6-4B22-954B-D20E541EC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CB7F-105C-4D3F-B085-B56E85E37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B89E-A217-4495-A074-F62E692F5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C0966-DAF0-4597-BF55-E266F1E8E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BA845-86CE-47D1-8273-D0969494A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B08C1-C516-4711-9FE6-A24568570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3B831-5758-4B5D-9D3E-0C103E7E4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56123-510A-40FB-B05C-3F4EC0503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4C943-50FA-43F1-A716-AD519AD58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F48B7-5840-4C60-A16F-3A648292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9D86-986F-4098-A8F2-DA451AF04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11DFA-F2BB-435F-A1C2-1537A108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8C855-96A9-4A4C-BC37-D1197574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7AA0D-8C8A-4249-9C9D-CC8807A99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42286-CE2D-41B4-AFB6-82F5AA43A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20DDA-F526-4E7E-AC81-CAA70CD18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ED5303-1285-4C4C-9390-930C904FB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A390DF-7976-4BA4-8BED-4040A3FBE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7D0CBC-D94D-4798-8B1B-E695A2779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59846B-DD7B-42F6-ADA3-95DF6827B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3DA083-92A4-46AA-95CA-982F49016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A16B-853D-4962-A8AE-D53F3D090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B1E03F-DE74-44EE-B248-55E6A386F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5F8ED0-3E4D-410F-A9D9-9DE297DA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0E2284-85BC-4BD8-AA2B-C6FE4DCD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E08AA7-56BA-4602-AA3A-2740A6DF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893D0B-42CA-4C27-954C-0B883F9A7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38E954-AAD3-4EB6-8F0C-B995BAC28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4F5A39-44C8-427E-B0C5-7325B61A3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6617F-3D16-4834-8715-A600D956A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E63AD-0404-40CC-BC64-9E0BB2DE6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E30D7-0BBF-4423-88C2-DE3C3C991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C545-9F8C-4E84-B644-D3DC56FCA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73932-2EA7-4AD2-B012-F12A7B6CF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7F93A-5F00-46EF-902C-7102C6A7D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6958A-BE6E-45E8-AFFA-13DEE78FC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B30EF-5DA5-42FE-8382-A907918A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DA743-13D3-42B8-B112-E02D17B9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88E0C-998B-4F84-9E41-4759CDEA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02AFA-8FA1-4C2D-A122-A09A20054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EC429-2F93-414A-9B32-B195FCBB7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3152E-22FC-4B57-9DF7-83CF7941F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9645A4-8717-4165-9352-1A22E2F50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620C-D237-4CD7-AC11-925645CD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5E948A-50A3-486A-9942-38CF92C42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309C77-2FFC-43A5-992F-46A58624C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0FC30B-0DE5-427F-A832-8EDF12E8F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022286-F310-4E8D-8832-276A6B4BE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E3DAFE-7CBD-481C-88B2-3FAEF058F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26B809-9FDB-4E9B-8A59-5F0F1046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1FDEC0-0549-4A55-A0E3-1ADBFE48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86079D-7F5A-4811-A69D-855E7575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886FBF-C825-4CAF-A0DC-709328733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AEFB43-C511-4F4D-BA8A-A92EE4212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F39B-8F10-4779-999E-5F78D6CB5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1E34E7-704B-4BBC-9B0F-1216A1605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9633D-E4D0-46DA-8951-4B412AABF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B1FD7-68BB-4916-97CB-2B2A1F6CF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F5A98-EB57-413B-A1E0-14D3DDE08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ED5DD-75EF-4A7F-A76E-3588E42BB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541EEE-E977-416B-94C0-3F9CAB5B8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7FA49F-6344-495D-8101-CBC511323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16142-0372-4952-B78E-27975CDC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8B0BF-9BA7-4BE8-9D89-3979B27E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A5DDF-E994-4168-AFAE-2B588569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4895-3E44-4353-9FE0-90BAA90C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E1BB0-5C16-4B9F-87DC-AEE205716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21EB3-EEA3-4269-8735-54F9B6B75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9BFDD-A6DF-4862-870F-AD641CB41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4447-1B82-4C0C-B987-37BE6162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6ACD-8DF1-4A94-B3E1-6CA5C66A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718CBE-BFB6-496B-946C-07C395B0FBD9}" type="datetime">
              <a:rPr b="0" lang="en-US" sz="1400" spc="-1" strike="noStrike">
                <a:solidFill>
                  <a:srgbClr val="ebddc3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B54DEE-B852-4150-96CA-7B37D8C46C21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C6C74D-E2A8-4679-9C35-0431086EF56A}" type="datetime">
              <a:rPr b="0" lang="en-US" sz="2000" spc="-1" strike="noStrike">
                <a:solidFill>
                  <a:srgbClr val="ffffff"/>
                </a:solidFill>
                <a:latin typeface="Tw Cen MT"/>
              </a:rPr>
              <a:t>07/28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CB815C-8003-409F-9033-344D3EB711C0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C33AE5-AB59-476D-9C65-685F38BCF563}" type="datetime">
              <a:rPr b="0" lang="en-US" sz="1400" spc="-1" strike="noStrike">
                <a:solidFill>
                  <a:srgbClr val="ebddc3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D65930-766D-4CDE-82EC-8AE7051D8C31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8EAFB8-5936-4106-98DF-E54914F2C512}" type="datetime">
              <a:rPr b="0" lang="en-US" sz="1400" spc="-1" strike="noStrike">
                <a:solidFill>
                  <a:srgbClr val="ebddc3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6E1562-A1C3-43B8-81FE-3B335C6FFF6D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AB7E6E-B1B3-4A33-8D6C-0262C3F4AA57}" type="datetime">
              <a:rPr b="0" lang="en-US" sz="1400" spc="-1" strike="noStrike">
                <a:solidFill>
                  <a:srgbClr val="ebddc3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sldNum" idx="14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05F638-CDBD-4A0B-A5F3-311B345AB8AF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5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AE3F33-04F1-4BF2-857A-9CF743DE7A70}" type="datetime">
              <a:rPr b="0" lang="en-US" sz="1400" spc="-1" strike="noStrike">
                <a:solidFill>
                  <a:srgbClr val="ebddc3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665FBE-33DB-4A96-BE99-2BDF34E8B2BD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bddc3"/>
                </a:solidFill>
                <a:latin typeface="Comic Sans MS"/>
              </a:rPr>
              <a:t>QUANTITATIVE DETERMENATION OF GAMMA-GLUTAMYL TRANSFERASE ( </a:t>
            </a:r>
            <a:r>
              <a:rPr b="1" lang="en-GB" sz="2800" spc="-1" strike="noStrike">
                <a:solidFill>
                  <a:srgbClr val="ebddc3"/>
                </a:solidFill>
                <a:latin typeface="Lucida Grande"/>
              </a:rPr>
              <a:t>ϒ</a:t>
            </a:r>
            <a:r>
              <a:rPr b="1" lang="en-GB" sz="2800" spc="-1" strike="noStrike">
                <a:solidFill>
                  <a:srgbClr val="ebddc3"/>
                </a:solidFill>
                <a:latin typeface="Comic Sans MS"/>
              </a:rPr>
              <a:t>-GT)</a:t>
            </a:r>
            <a:br>
              <a:rPr sz="2800"/>
            </a:br>
            <a:endParaRPr b="0" lang="en-US" sz="28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CLS 431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ddc3"/>
                </a:solidFill>
                <a:latin typeface="Comic Sans MS"/>
              </a:rPr>
              <a:t>Principle of the method</a:t>
            </a:r>
            <a:endParaRPr b="0" lang="en-US" sz="2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Lucida Grande"/>
              </a:rPr>
              <a:t>ϒ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-Glutamyl-p-nitroanilide + Glycylglycine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30000">
                <a:solidFill>
                  <a:srgbClr val="ffffff"/>
                </a:solidFill>
                <a:latin typeface="Lucida Grande"/>
              </a:rPr>
              <a:t>                                                           </a:t>
            </a:r>
            <a:r>
              <a:rPr b="0" lang="en-GB" sz="2000" spc="-1" strike="noStrike" baseline="30000">
                <a:solidFill>
                  <a:srgbClr val="ffffff"/>
                </a:solidFill>
                <a:latin typeface="Lucida Grande"/>
              </a:rPr>
              <a:t>ϒ-G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Grande"/>
              </a:rPr>
              <a:t>ϒ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-Glutamyl-glycylglycine + p-nitroaniline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nzyme activity is proportional to the increase in absorbance of nitroaniline at 405 nm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6" name="Right Arrow 6"/>
          <p:cNvSpPr/>
          <p:nvPr/>
        </p:nvSpPr>
        <p:spPr>
          <a:xfrm>
            <a:off x="3200400" y="2629080"/>
            <a:ext cx="1752480" cy="2286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94b6d2"/>
          </a:solidFill>
          <a:ln w="10080">
            <a:solidFill>
              <a:srgbClr val="94b6d2"/>
            </a:solidFill>
            <a:miter/>
          </a:ln>
          <a:effectLst>
            <a:outerShdw dist="29880" dir="5400000" blurRad="0" rotWithShape="0">
              <a:srgbClr val="80808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ddc3"/>
                </a:solidFill>
                <a:latin typeface="Comic Sans MS"/>
              </a:rPr>
              <a:t>Clinical significance</a:t>
            </a:r>
            <a:endParaRPr b="0" lang="en-US" sz="2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und in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the kidney, pancreas, liver, brain and prostate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Used in the diagnosis and treatment of hepatobiliary diseases such biliary obstruction, cirrhosis or liver tumours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cute and chronic pancreatitis with biliary tract involvement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alignant neoplasm of liver and pancreas 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lcoholism 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ddc3"/>
                </a:solidFill>
                <a:latin typeface="Comic Sans MS"/>
              </a:rPr>
              <a:t>Procedure</a:t>
            </a:r>
            <a:endParaRPr b="0" lang="en-US" sz="2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12720" y="91404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Wavelength ......................... 405 nm. 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uvette ................................ 1cm. light path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onstant tempreture .................. 25C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Pipette into a cuvette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Mix, wait for 30 seconds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Read the absorbance against D.W. and start the stopwatch and read absorbance at 1 minute intervals thereafter for 2 minutes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alculate the difference between absorbance and the average absorbance differences per minute (Δ A/min)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1066680" y="2590920"/>
          <a:ext cx="6096240" cy="74268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WR(ml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1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ample (µL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fd3e4"/>
                </a:solidFill>
                <a:latin typeface="Comic Sans MS"/>
              </a:rPr>
              <a:t>Calculations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ΔA/min x 2121 = U/L of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ϒ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-GT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fd3e4"/>
                </a:solidFill>
                <a:latin typeface="Comic Sans MS"/>
              </a:rPr>
              <a:t>Reference values: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en 6-28 U/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omen 4-18 U/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17:50:29Z</dcterms:created>
  <dc:creator>Mac</dc:creator>
  <dc:description/>
  <dc:language>en-US</dc:language>
  <cp:lastModifiedBy>ksu</cp:lastModifiedBy>
  <dcterms:modified xsi:type="dcterms:W3CDTF">2014-04-30T07:04:15Z</dcterms:modified>
  <cp:revision>14</cp:revision>
  <dc:subject/>
  <dc:title>Quantitative determenation of gamma-glutamyl transferase ( ϒ-GT) </dc:title>
</cp:coreProperties>
</file>