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743-E8AF-4557-BDA2-724B6450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A42-048C-4E59-945E-315D92D7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7FA-A515-418D-9F6B-96821652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4A2-9BFB-4F43-B38A-9E0272AD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842E-D520-4E8A-9CCD-392BAC9F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21B-4102-47E9-A714-343153C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7820-4393-4DD7-969B-11996E1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CB02-B3B6-4A38-8F34-5B0E0AF0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CC9-5951-4D77-AA0F-943E544C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0EDA-BA18-4C7D-8A53-CD41F5B2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5B75-DA25-4950-B4B4-25DB81F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CBA-6D3D-4453-AD17-9A57910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EEAB-B638-4A2D-B2FB-A7E3222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E082-3154-4E4F-8BF4-316750DF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DACA-339C-4C53-AB18-4679BDD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E08D-DEB6-4693-AF4B-9771F5E7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58D7-E0FC-4A9B-BB42-64F82ED9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12D10-ABCA-48F7-A379-C40E2ECE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A679B-72FA-4740-AF54-0B8F671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93032-E3EC-457E-AD0F-B330B62E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7C3C4-B9B4-425D-8F91-14D2A542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71F3A-4E09-42FF-86F3-C263BD2B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EA7-D437-4FD5-84F0-56B082BC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A1A44-B237-4ED3-9055-D9985835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D1BB5-A40A-45B2-B1D2-A5CBB00B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D6738-8128-46D2-9E5A-75074579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B81CA-7BF4-4648-8864-77428C6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5C7ED-078A-46C3-A87F-EE80BB32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653DF-B235-4A8D-BBF9-21CA77F4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586C3-A664-4621-A212-05040408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3607-6874-475A-83E4-666DD164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2506-516D-48F3-9433-194BD80C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FD23-2FFC-489B-9709-6FDA7ED7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763-B7D7-42A5-B361-318AAEB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E3CC-A6C6-4EA9-99FF-C4E56A88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2169-F59C-45AA-B19E-C3BECC8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B6A5-4195-42EB-B2D9-09EEEE54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F2B1-F03E-45F9-879B-F75D6F85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136D-1954-4E50-9A55-AEB1102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3A27-35A3-4A1F-8E61-1C23054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1E82-79D2-499C-9466-5C8B4F12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D6FF-6835-4BD3-80E2-7B6DB41C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B7EA-3F33-4BD0-971D-70197241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5AA7F-CB60-43F9-A2A2-5178AEFB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20E-F8BC-44E9-8A33-747A074B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25272-5ED5-4F15-A96B-20BABBBB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A19B2-F3B9-426A-9627-084BAE23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74F0B-3DF3-4B78-B326-1134084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5FA4C-3BBC-45CE-A061-3DF0FDD9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815D4-719F-4A25-B8B0-2BCF2C08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7DFC4-C344-480B-A752-3350F399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D28E7-27E0-4182-ADEA-07A5352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D73D8-3D58-446A-8927-8BAE7B9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68E71-AB38-452D-8CF1-127D57B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7B930-73B8-4E78-8E97-8461173B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02E-2D91-466F-BB58-D5FAA0F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E6E34-7957-4EFD-B0AE-5AED3677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44FC-2A7B-4DD1-B081-24640A2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3405-17CC-4A49-B9ED-BF9BE1AD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9872-6472-4FA3-AE5F-F13A0305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ADFB-6BFD-4965-A819-5BA73343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2F5D9-6BC6-4030-9749-6DFB149D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1B75-E1C8-4B06-A880-E65CE47F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10264-B12C-4872-9534-498214E0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70758-D2DE-44A4-8FA6-F532EA48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66C1E-CF01-40E1-8610-E9ED150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3A1-12C1-4CA9-9DD1-BE0B6E2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2E94-699D-4C9F-9FB8-D59E9EF1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CB530-2372-4338-9628-1A2DFB88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05D00-D20D-4FCC-982B-59F0A784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A4A-4DB7-4BA4-878A-3342208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3DB-DCE6-42D5-826C-2DE28E2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0C033-CD92-4338-9080-ECAD767E1C70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04E1D-7310-4C75-9023-F47153D7DB3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38EE2-FE8D-480F-8F7D-06CA04A354F3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1C4B8-76B0-4722-8F98-E8CBD430A00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0A1EE-93E8-436F-B75C-5B4E460EF092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3FC67-D173-4883-AADA-8620A4985B4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F62A2-9EB4-4393-9F0A-205DCD573C67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5A90C-5911-4264-9F8B-A28705C317B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EC316-A274-4745-AFA0-0C750155DBEA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39C26-2F14-452B-A859-FD629EFCBAA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3FC77-C623-4DD2-89AC-B00FE52802CF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8661B-DB1E-4730-9ADF-5C68AC33994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bddc3"/>
                </a:solidFill>
                <a:latin typeface="Comic Sans MS"/>
              </a:rPr>
              <a:t>QUANTITATIVE DETERMENATION OF GAMMA-GLUTAMYL TRANSFERASE ( </a:t>
            </a:r>
            <a:r>
              <a:rPr b="1" lang="en-GB" sz="2800" spc="-1" strike="noStrike">
                <a:solidFill>
                  <a:srgbClr val="ebddc3"/>
                </a:solidFill>
                <a:latin typeface="Lucida Grande"/>
              </a:rPr>
              <a:t>ϒ</a:t>
            </a:r>
            <a:r>
              <a:rPr b="1" lang="en-GB" sz="2800" spc="-1" strike="noStrike">
                <a:solidFill>
                  <a:srgbClr val="ebddc3"/>
                </a:solidFill>
                <a:latin typeface="Comic Sans MS"/>
              </a:rPr>
              <a:t>-GT)</a:t>
            </a:r>
            <a:br>
              <a:rPr sz="2800"/>
            </a:b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LS 43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Comic Sans MS"/>
              </a:rPr>
              <a:t>Principle of the method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Lucida Grande"/>
              </a:rPr>
              <a:t>ϒ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Glutamyl-p-nitroanilide + Glycylglycin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ffffff"/>
                </a:solidFill>
                <a:latin typeface="Lucida Grande"/>
              </a:rPr>
              <a:t>                                                          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Lucida Grande"/>
              </a:rPr>
              <a:t>ϒ-G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Grande"/>
              </a:rPr>
              <a:t>ϒ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Glutamyl-glycylglycine + p-nitroanilin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zyme activity is proportional to the increase in absorbance of nitroaniline at 405 nm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Right Arrow 6"/>
          <p:cNvSpPr/>
          <p:nvPr/>
        </p:nvSpPr>
        <p:spPr>
          <a:xfrm>
            <a:off x="3200400" y="2629080"/>
            <a:ext cx="175248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Comic Sans MS"/>
              </a:rPr>
              <a:t>Clinical significance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nd in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he kidney, pancreas, liver, brain and prostate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ed in the diagnosis and treatment of hepatobiliary diseases such biliary obstruction, cirrhosis or liver tumour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cute and chronic pancreatitis with biliary tract involvement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lignant neoplasm of liver and pancreas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coholism 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27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avelength ......................... 405 nm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uvette ................................ 1cm. light path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nstant tempreture .................. 25C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ipette into a cuvet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ix, wait for 30 second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ad the absorbance against D.W. and start the stopwatch and read absorbance at 1 minute intervals thereafter for 2 minut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ulate the difference between absorbance and the average absorbance differences per minute (Δ A/mi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2590920"/>
          <a:ext cx="6096240" cy="742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R(m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ample (µ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d3e4"/>
                </a:solidFill>
                <a:latin typeface="Comic Sans MS"/>
              </a:rPr>
              <a:t>Calculation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ΔA/min x 2121 = U/L of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ϒ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G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d3e4"/>
                </a:solidFill>
                <a:latin typeface="Comic Sans MS"/>
              </a:rPr>
              <a:t>Reference values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n 6-28 U/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omen 4-18 U/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50:29Z</dcterms:created>
  <dc:creator>Mac</dc:creator>
  <dc:description/>
  <dc:language>en-US</dc:language>
  <cp:lastModifiedBy>ksu</cp:lastModifiedBy>
  <dcterms:modified xsi:type="dcterms:W3CDTF">2014-04-30T07:04:15Z</dcterms:modified>
  <cp:revision>14</cp:revision>
  <dc:subject/>
  <dc:title>Quantitative determenation of gamma-glutamyl transferase ( ϒ-GT) </dc:title>
</cp:coreProperties>
</file>