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B260-404A-434A-AABB-BE6F2EB6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0859-58B8-484E-AD70-4F90292D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34EC-3149-49BF-A3E9-4DC67901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FC3B-44CA-474A-964F-95AEC87F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2139-325C-417C-912C-504F1E56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3FF1-7D47-4A12-BD1D-5D2615C9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B8BE-F23D-4DC9-9F01-74DB9979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5785-9A89-4CD9-8E5C-A4649C06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F2B3-452E-44F9-A3C7-D0EC9876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A78B-B981-4EEA-93AA-57E4D5FF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CBC3-31F4-40FA-9D04-E197CF32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80A6-FD83-4A94-8E54-77EED96B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E78C-3EFD-4AFC-AD8F-B53BC386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9AFC-42CB-4C38-80BB-8A9F56AD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63CF-BB6F-4DA6-8DB3-6844E49E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A156-4C8C-4618-A4A5-183EEC37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9904-B3FE-428D-A511-CCCA78FA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61127-188D-4F5B-AAE4-32738992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0571E-48ED-4AA3-8E39-6F7A2587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C6430-D63A-45A8-BCB8-B8B107AE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A250A-29A1-4D18-8C74-D374B62A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22302-5B49-4736-B3E9-BED9D998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3D68-2295-4C60-8C43-0F9B452D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83155-4223-4413-A2EF-6DF2E2E2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83660-E93D-4DEC-9CAA-3CF77BC3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DCBF9-E678-4817-9D54-DC550F2F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BD6BB-0070-4D7E-88FF-90227D47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3CF29-B0FB-48C2-AB53-EC009346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88D0B-2AD6-4141-ABB9-2CB65F28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53796-6F3E-4280-AEE4-2F70A3ED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17D1A-465C-4093-9D71-BFA91A78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00BE7-2BD0-46C8-B524-EB9BE011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4D4E8-592B-4B48-87BD-5E46AED9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0733-F1B4-461F-8409-652C7C0B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1E4AD-F0F8-49F4-98FC-4251F5EA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1F533-214A-4116-922A-ADBBEE8F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484CA-E984-4FB5-A7C1-A2940A8C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3E79F-F351-4ED0-ABCE-56AF99DF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00B58-A801-4E62-B886-D88F511D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066FC-1EEA-4ADC-A4E7-3CDEFC69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9AD3B-7BE7-4584-9C64-F1D0B015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C9D51-0289-4D8B-9A69-F2EB95BD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307AA-C002-4A6F-A8A4-E02C1726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789B7-BD0D-4F80-9701-DBDC90B1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5465-B3C1-4181-8BF8-60D5CACA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73D56-FD6F-4CB3-85EA-A9DDC300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6703E-5D01-41E2-9359-A4078F5F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4C68A-7B10-4E37-BAC7-99DE42FE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E4902-1011-4C36-BF07-6F421349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AD585-BB31-4972-8A76-6D3C8FAA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7EBC8-671F-4855-A338-CE0AFD08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3F87D-D884-4810-9C52-92684724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82DE9-A3DB-4E45-948D-0DA2075D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EB6D7-80EF-4FEA-821C-9DB04C1F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C77FA-99E5-4D2F-8966-C5F0E96F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843D-9AF5-4774-8152-7EAB3AFF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EDCD3-D4D6-4AC9-9FC8-CDE7951D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6371-3D40-4D12-A22A-A0B14E1C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62C5-D53F-4A56-8597-2CAE29EB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F98D-1E1F-4917-A474-17CD2B39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04AE2-7023-45DE-A0BA-B1F47B878F4A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25AFD0-83FA-417D-B4C7-9F776B790BC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C1593-91B5-4E0A-A921-99955341259A}" type="datetime">
              <a:rPr b="0" lang="en-US" sz="1000" spc="-1" strike="noStrike">
                <a:solidFill>
                  <a:srgbClr val="ffffff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A460E-ED4E-45D8-AED1-CB8B7ECCE32A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9968B0-D7C9-401B-8658-F2ADA08C8375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AEBCE9-86D5-4907-9AFC-01785B6A51DD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17CD5-07DD-425B-911F-9AA88A8EE115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F584AB-E367-4495-BD30-028E691DBB2E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2100D-306F-4052-8AEF-49F559DCC5C9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899A4-4794-4FE7-AE92-35443753147A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119560" cy="3565440"/>
          </a:xfrm>
          <a:prstGeom prst="rect">
            <a:avLst/>
          </a:prstGeom>
          <a:ln w="0">
            <a:noFill/>
          </a:ln>
        </p:spPr>
      </p:pic>
      <p:pic>
        <p:nvPicPr>
          <p:cNvPr id="221" name="Subtitle 2" descr=""/>
          <p:cNvPicPr/>
          <p:nvPr/>
        </p:nvPicPr>
        <p:blipFill>
          <a:blip r:embed="rId2"/>
          <a:stretch/>
        </p:blipFill>
        <p:spPr>
          <a:xfrm>
            <a:off x="3346560" y="3981600"/>
            <a:ext cx="52974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8348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463760"/>
            <a:ext cx="72388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α-naphthylphosphate +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O       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rebuchet MS"/>
              </a:rPr>
              <a:t>ACP/pH=5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α-naphtol + phospha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α-naphtol  + Fast Red TR(diazoted compound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diazo dye (chromophore).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he α-naphtol released from the substrate α- naphthylphosphate by acid phosphatase is coupled with Fast Red TR to produced a colored complex which absorbs light at 405 nm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24" name="Straight Arrow Connector 4"/>
          <p:cNvCxnSpPr/>
          <p:nvPr/>
        </p:nvCxnSpPr>
        <p:spPr>
          <a:xfrm>
            <a:off x="5076360" y="2349000"/>
            <a:ext cx="1220040" cy="2520"/>
          </a:xfrm>
          <a:prstGeom prst="straightConnector1">
            <a:avLst/>
          </a:prstGeom>
          <a:ln w="399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225" name="Straight Arrow Connector 9"/>
          <p:cNvCxnSpPr/>
          <p:nvPr/>
        </p:nvCxnSpPr>
        <p:spPr>
          <a:xfrm>
            <a:off x="1447920" y="3580920"/>
            <a:ext cx="381600" cy="2520"/>
          </a:xfrm>
          <a:prstGeom prst="straightConnector1">
            <a:avLst/>
          </a:prstGeom>
          <a:ln w="39960">
            <a:solidFill>
              <a:srgbClr val="b83d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195120" y="317520"/>
            <a:ext cx="751068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_x001a_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CP activity is found the in the prostate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bone,liver, spleen, erythrocytes and platelet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he prostate is the richest source, with many times the activity found in other tissu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CP measurement has been used as an aid in the detection of prostatic carcinoma, particularly metastatic carcinoma of the prostat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755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066320"/>
            <a:ext cx="723888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Wavelength ........................405 nm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onstant tempreture ............... 37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85800" y="2068560"/>
          <a:ext cx="6334200" cy="3138480"/>
        </p:xfrm>
        <a:graphic>
          <a:graphicData uri="http://schemas.openxmlformats.org/drawingml/2006/table">
            <a:tbl>
              <a:tblPr/>
              <a:tblGrid>
                <a:gridCol w="3166920"/>
                <a:gridCol w="3167280"/>
              </a:tblGrid>
              <a:tr h="5425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- Total Acid phosphatas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c66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id Phos. Reg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c66b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.0 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c66bb"/>
                    </a:solidFill>
                  </a:tcPr>
                </a:tc>
              </a:tr>
              <a:tr h="49860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e-warm at 37C and then add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mp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 (µ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9147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x, incubate at 37C for 5 min, and then read the absorbance at 405 nm against D.W. every minute for 5 min. to determine ΔA/min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457200" y="1609560"/>
          <a:ext cx="7238880" cy="340056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- Non-Prostatic Acid Phosphatas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c66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cid Phos. Regt. / L. Tartrate rea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0 ml / 1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µ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x, warm at 37C and then add: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 (µ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916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x, incubate at 37C for 5 min, and then read the absorbance at 405 nm against D.W. every minute for 5 min. to determine ΔA/min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b13f9a"/>
                </a:solidFill>
                <a:latin typeface="Trebuchet MS"/>
              </a:rPr>
              <a:t>A-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rebuchet MS"/>
              </a:rPr>
              <a:t>Total Acid Phosphatase activity 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(U/L) = ΔA/min x 853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0680" indent="-220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b13f9a"/>
                </a:solidFill>
                <a:latin typeface="Trebuchet MS"/>
              </a:rPr>
              <a:t>B</a:t>
            </a:r>
            <a:r>
              <a:rPr b="1" lang="en-GB" sz="2600" spc="-1" strike="noStrike" u="sng">
                <a:solidFill>
                  <a:srgbClr val="b13f9a"/>
                </a:solidFill>
                <a:uFillTx/>
                <a:latin typeface="Trebuchet MS"/>
              </a:rPr>
              <a:t>-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rebuchet MS"/>
              </a:rPr>
              <a:t>Non-Prostatic Acid Phosphatase activity 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(U/L) = ΔA/min x 86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0680" indent="-220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b13f9a"/>
                </a:solidFill>
                <a:latin typeface="Trebuchet MS"/>
              </a:rPr>
              <a:t>C-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rebuchet MS"/>
              </a:rPr>
              <a:t>Prostatic Acid Phosphatas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0680" indent="-220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The value is obtained by subtracting the result of non-prostatic acid phosphatase assay (B) from the total acid phosphatase assay (A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0680" indent="-22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0680" indent="-22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0680" indent="-220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Total acid phosphatase: 0.0 - 12 U/L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Prostatic acid phosphatase 0.0 – 4.0 U/L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8:41:18Z</dcterms:created>
  <dc:creator>Mac</dc:creator>
  <dc:description/>
  <dc:language>en-US</dc:language>
  <cp:lastModifiedBy>ksu</cp:lastModifiedBy>
  <dcterms:modified xsi:type="dcterms:W3CDTF">2014-04-30T07:05:39Z</dcterms:modified>
  <cp:revision>32</cp:revision>
  <dc:subject/>
  <dc:title>Quantitative determination of amylase  (AMS) </dc:title>
</cp:coreProperties>
</file>