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CE6-E09C-4D86-8B95-F9D17826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A23-027F-4291-A82B-417AD7D6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2109-1E23-4D72-9C4B-8994D7C7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A1D7-D605-4614-B0A0-9AEB3E79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A66E-1539-402F-9ABF-77D19985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AD9A-C442-4266-93EE-2A47AD8F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DB15-39A2-45CD-83F9-1CE2F654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E566-CF95-46B3-B120-1658F252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14EF-CB0B-4EDB-91D3-7910C228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B0D6-F217-42A2-9DBA-1E67F987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8003-BAB0-412D-82CA-DD42B651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353-17DD-4710-9377-992EF189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9A52-8B4D-4A63-B908-673E7FFB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E8AF-C9A4-4253-A54B-52EA7721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3D60-43B8-4424-AA40-F81C43BB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1458-D7D0-4B24-9B0D-5DA4B762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DED6-492B-4F4A-8FA3-CB30EF3B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C6ED8-9C95-4E05-BEF5-0E709A29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C777E-3B45-4C0D-8219-37688168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DEB90-AB08-4699-A5DF-B8817D04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D5022-EFE6-4A49-9381-C99F2766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17224-6E56-4476-AF5E-D7BB4E2E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196-85F0-4537-9BC3-EA9D7926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D6C44-736E-47BD-8C05-7216E73E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6587A-2C38-4159-99E3-4C423AB0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E1B9D-8681-43BD-9326-EE020A69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E44FA-FD98-4D4B-9F40-151607C3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79AB6-9CBF-459A-BD8B-9099ACD2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DE253-771C-40DF-BFFC-D9A962E2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1C954-08AB-4847-8EA4-0708C43C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C9237-4B96-4A80-9EAD-449E2498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F8071-D590-40BC-8173-D4743BB9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C5FDD-EBFC-4771-B923-1D825E8D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B83-C82C-414E-BB25-0EC0BC17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025C7-3A53-4DC2-BBA1-0B1C4493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BBF2C-E26B-44F7-AE76-4D4AB9C9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1EF83-FE19-48DD-BE97-153AD372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BDB0B-8F38-42F8-9543-03F81BB8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9D669-64AF-4307-B691-B68419EA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34D14-26CA-45D6-B457-F39C4EBD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D2570-9F35-44E3-BFD3-DCA97250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70D3F-882E-411A-A209-65E31D13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1249E-CA79-4C79-80D4-DD073263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124B2-8D63-40A0-ACAB-F9A938C6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8D2F-EE67-480B-8F10-28D28092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C285D-8BE7-447A-A986-B2DA44B8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DE0AF-DE57-4811-81A6-9CD83A9E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E2F63-70EB-4F49-A6FD-E4A68AB8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1E49C-413E-4421-BDDE-E45F8B2F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D4D13-4A31-4F2B-8561-3C7A8175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84D7F-15E4-44F8-A9DD-6CE0B5A2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E8F4F-1BCA-48EE-B8A9-61A7C6E5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8877A-F336-47C2-9777-127C3DAC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2246A-4648-41B4-8C93-929CC31D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99D5E-8B2F-48D0-8423-20A2F2F5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B717-7398-42CD-9F80-8D434370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E3EB6-CF9B-4C38-9F72-1EFD7030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B198-CE49-4A4C-9C11-E42C1E96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52D-9DE5-4E2A-97ED-76D1C4A2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3E06-11C4-4397-B74B-A24C308A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03F04-3861-48C1-B628-4D0629606DAC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E5313-BDB5-4BC4-9F5D-E4478239AF7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43326-3C74-4E46-B796-6B86C2BDD8C6}" type="datetime">
              <a:rPr b="0" lang="en-US" sz="1000" spc="-1" strike="noStrike">
                <a:solidFill>
                  <a:srgbClr val="ffffff"/>
                </a:solidFill>
                <a:latin typeface="Trebuchet MS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7E770-326C-4C39-93D7-839B3124EED3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0F589-E064-4A41-9E73-39A79E27C5DE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4E976-0064-47C7-84A2-117A53E1BC6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4DFC5-099F-4A60-85F2-FBFFFF1DC14A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D66FE-2576-429C-B15C-92A1F44292C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9A05F-028C-41C8-9CF8-675C9DD1CE1A}" type="datetime">
              <a:rPr b="0" lang="en-US" sz="1000" spc="-1" strike="noStrike">
                <a:solidFill>
                  <a:srgbClr val="b13f9a"/>
                </a:solidFill>
                <a:latin typeface="Trebuchet MS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5AE7C-9E7B-43F4-9B5F-8A71D503ECF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19560" cy="3565440"/>
          </a:xfrm>
          <a:prstGeom prst="rect">
            <a:avLst/>
          </a:prstGeom>
          <a:ln w="0">
            <a:noFill/>
          </a:ln>
        </p:spPr>
      </p:pic>
      <p:pic>
        <p:nvPicPr>
          <p:cNvPr id="221" name="Subtitle 2" descr=""/>
          <p:cNvPicPr/>
          <p:nvPr/>
        </p:nvPicPr>
        <p:blipFill>
          <a:blip r:embed="rId2"/>
          <a:stretch/>
        </p:blipFill>
        <p:spPr>
          <a:xfrm>
            <a:off x="3346560" y="3981600"/>
            <a:ext cx="52974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7388280" cy="8348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463760"/>
            <a:ext cx="72388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α-naphthylphosphate +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O       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rebuchet MS"/>
              </a:rPr>
              <a:t>ACP/pH=5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α-naphtol + phospha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α-naphtol  + Fast Red TR(diazoted compound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diazo dye (chromophore).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he α-naphtol released from the substrate α- naphthylphosphate by acid phosphatase is coupled with Fast Red TR to produced a colored complex which absorbs light at 405 nm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24" name="Straight Arrow Connector 4"/>
          <p:cNvCxnSpPr/>
          <p:nvPr/>
        </p:nvCxnSpPr>
        <p:spPr>
          <a:xfrm>
            <a:off x="5076360" y="2349000"/>
            <a:ext cx="1220040" cy="2520"/>
          </a:xfrm>
          <a:prstGeom prst="straightConnector1">
            <a:avLst/>
          </a:prstGeom>
          <a:ln w="39960">
            <a:solidFill>
              <a:srgbClr val="b83d68"/>
            </a:solidFill>
            <a:miter/>
            <a:tailEnd len="med" type="arrow" w="med"/>
          </a:ln>
        </p:spPr>
      </p:cxnSp>
      <p:cxnSp>
        <p:nvCxnSpPr>
          <p:cNvPr id="225" name="Straight Arrow Connector 9"/>
          <p:cNvCxnSpPr/>
          <p:nvPr/>
        </p:nvCxnSpPr>
        <p:spPr>
          <a:xfrm>
            <a:off x="1447920" y="3580920"/>
            <a:ext cx="381600" cy="2520"/>
          </a:xfrm>
          <a:prstGeom prst="straightConnector1">
            <a:avLst/>
          </a:prstGeom>
          <a:ln w="3996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195120" y="317520"/>
            <a:ext cx="751068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_x001a_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CP activity is found the in the prostate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bone,liver, spleen, erythrocytes and platelet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The prostate is the richest source, with many times the activity found in other tissu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CP measurement has been used as an aid in the detection of prostatic carcinoma, particularly metastatic carcinoma of the prostat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755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Wavelength ........................405 nm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onstant tempreture ............... 37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85800" y="2068560"/>
          <a:ext cx="6334200" cy="3138480"/>
        </p:xfrm>
        <a:graphic>
          <a:graphicData uri="http://schemas.openxmlformats.org/drawingml/2006/table">
            <a:tbl>
              <a:tblPr/>
              <a:tblGrid>
                <a:gridCol w="3166920"/>
                <a:gridCol w="3167280"/>
              </a:tblGrid>
              <a:tr h="5425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- Total Acid phosphatas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66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id Phos. Reg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66b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.0 m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66bb"/>
                    </a:solidFill>
                  </a:tcPr>
                </a:tc>
              </a:tr>
              <a:tr h="49860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e-warm at 37C and then add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mp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 (µ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9147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x, incubate at 37C for 5 min, and then read the absorbance at 405 nm against D.W. every minute for 5 min. to determine ΔA/min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"/>
          <p:cNvGraphicFramePr/>
          <p:nvPr/>
        </p:nvGraphicFramePr>
        <p:xfrm>
          <a:off x="457200" y="1609560"/>
          <a:ext cx="7238880" cy="340056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- Non-Prostatic Acid Phosphatas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c66b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cid Phos. Regt. / L. Tartrate rea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0 ml / 1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µ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x, warm at 37C and then add: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 (µ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3d3e7"/>
                    </a:solidFill>
                  </a:tcPr>
                </a:tc>
              </a:tr>
              <a:tr h="916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ix, incubate at 37C for 5 min, and then read the absorbance at 405 nm against D.W. every minute for 5 min. to determine ΔA/min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a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b13f9a"/>
                </a:solidFill>
                <a:latin typeface="Trebuchet MS"/>
              </a:rPr>
              <a:t>A-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rebuchet MS"/>
              </a:rPr>
              <a:t>Total Acid Phosphatase activity 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(U/L) = ΔA/min x 853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0680" indent="-220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b13f9a"/>
                </a:solidFill>
                <a:latin typeface="Trebuchet MS"/>
              </a:rPr>
              <a:t>B</a:t>
            </a:r>
            <a:r>
              <a:rPr b="1" lang="en-GB" sz="2600" spc="-1" strike="noStrike" u="sng">
                <a:solidFill>
                  <a:srgbClr val="b13f9a"/>
                </a:solidFill>
                <a:uFillTx/>
                <a:latin typeface="Trebuchet MS"/>
              </a:rPr>
              <a:t>-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rebuchet MS"/>
              </a:rPr>
              <a:t>Non-Prostatic Acid Phosphatase activity </a:t>
            </a: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(U/L) = ΔA/min x 860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0680" indent="-220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b13f9a"/>
                </a:solidFill>
                <a:latin typeface="Trebuchet MS"/>
              </a:rPr>
              <a:t>C-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rebuchet MS"/>
              </a:rPr>
              <a:t>Prostatic Acid Phosphatase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0680" indent="-220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The value is obtained by subtracting the result of non-prostatic acid phosphatase assay (B) from the total acid phosphatase assay (A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0680" indent="-220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0680" indent="-2206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Total acid phosphatase: 0.0 - 12 U/L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rebuchet MS"/>
              </a:rPr>
              <a:t>Prostatic acid phosphatase 0.0 – 4.0 U/L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8:41:18Z</dcterms:created>
  <dc:creator>Mac</dc:creator>
  <dc:description/>
  <dc:language>en-US</dc:language>
  <cp:lastModifiedBy>ksu</cp:lastModifiedBy>
  <dcterms:modified xsi:type="dcterms:W3CDTF">2014-04-30T07:05:39Z</dcterms:modified>
  <cp:revision>32</cp:revision>
  <dc:subject/>
  <dc:title>Quantitative determination of amylase  (AMS) </dc:title>
</cp:coreProperties>
</file>