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4.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547B7-C724-4D82-A7DE-99D19E750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4276-E885-46AF-A1D7-8E587E13B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21544-CE70-43FB-8738-00ABA6F68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5946D-AF7A-48A3-A33A-5B3A4CC5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928B2-4E43-4A3D-AA22-76B161C4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5058E-FD23-4388-8EF7-BBF26C72A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68F70-EF59-4873-A838-F7D7E8F4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38681-3D50-4C2F-829B-613F2250D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986A-5270-4476-85D0-4D2C4824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FB86-EA28-41EE-858C-75D0E79CE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3E95-65F0-4770-9029-23B417010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FB1C-12C0-46FE-AD46-2E37ECC98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3A42-4BB7-4BCD-AC1A-B72E89EF1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914400" y="1447920"/>
            <a:ext cx="5105520" cy="432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Cluster Analys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41360" y="762120"/>
            <a:ext cx="5502240" cy="655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r output is obtained by first doing a hierarchical cluster analysis to find the number of clusters that exist in the data. These outputs are in Figs. 2 to 4 (Agglomeration schedule, vertical Icicle Plot and Dendrogram using Average Linkage, respectivel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cond stage is a K-means (quick cluster) output with a pre-determined number of clusters to be specified. In this case, the output is for 4 clusters. We will look at both stage 1 and stage 2 outputs to understand the interpretation of both stag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4937040" y="85485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57200" y="457200"/>
          <a:ext cx="5943600" cy="8290080"/>
        </p:xfrm>
        <a:graphic>
          <a:graphicData uri="http://schemas.openxmlformats.org/drawingml/2006/table">
            <a:tbl>
              <a:tblPr/>
              <a:tblGrid>
                <a:gridCol w="738360"/>
                <a:gridCol w="738000"/>
                <a:gridCol w="911160"/>
                <a:gridCol w="898560"/>
                <a:gridCol w="911160"/>
                <a:gridCol w="911160"/>
                <a:gridCol w="835200"/>
              </a:tblGrid>
              <a:tr h="369720">
                <a:tc gridSpan="7">
                  <a:txBody>
                    <a:bodyPr lIns="10800" rIns="10800" tIns="10800" bIns="10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g.2 - Agglomeration Schedule </a:t>
                      </a:r>
                      <a:endParaRPr b="0" lang="en-US" sz="1600" spc="-1" strike="noStrike">
                        <a:solidFill>
                          <a:srgbClr val="000000"/>
                        </a:solidFill>
                        <a:latin typeface="Times New Roman"/>
                      </a:endParaRPr>
                    </a:p>
                  </a:txBody>
                  <a:tcPr anchor="ctr" marL="10800" marR="1080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a:t>
                      </a:r>
                      <a:endParaRPr b="0" lang="en-US" sz="1600" spc="-1" strike="noStrike">
                        <a:solidFill>
                          <a:srgbClr val="000000"/>
                        </a:solidFill>
                        <a:latin typeface="Times New Roman"/>
                      </a:endParaRPr>
                    </a:p>
                  </a:txBody>
                  <a:tcPr anchor="b" marL="10800" marR="108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Combined</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efficient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 Cluster First Appear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xt Stage</a:t>
                      </a:r>
                      <a:endParaRPr b="0" lang="en-US" sz="1600" spc="-1" strike="noStrike">
                        <a:solidFill>
                          <a:srgbClr val="000000"/>
                        </a:solidFill>
                        <a:latin typeface="Times New Roman"/>
                      </a:endParaRPr>
                    </a:p>
                  </a:txBody>
                  <a:tcPr anchor="b" marL="10800" marR="108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9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w="13680">
                      <a:solidFill>
                        <a:srgbClr val="000000"/>
                      </a:solid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3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16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66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8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8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18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80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436680" y="1752480"/>
            <a:ext cx="5991120" cy="5867640"/>
          </a:xfrm>
          <a:prstGeom prst="rect">
            <a:avLst/>
          </a:prstGeom>
          <a:ln w="0">
            <a:noFill/>
          </a:ln>
        </p:spPr>
      </p:pic>
      <p:sp>
        <p:nvSpPr>
          <p:cNvPr id="64" name="Rectangle 2"/>
          <p:cNvSpPr/>
          <p:nvPr/>
        </p:nvSpPr>
        <p:spPr>
          <a:xfrm>
            <a:off x="1788840" y="762120"/>
            <a:ext cx="32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3: Vertical Icicle Pl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317520" y="1933560"/>
            <a:ext cx="6229440" cy="6372360"/>
          </a:xfrm>
          <a:prstGeom prst="rect">
            <a:avLst/>
          </a:prstGeom>
          <a:ln w="0">
            <a:noFill/>
          </a:ln>
        </p:spPr>
      </p:pic>
      <p:sp>
        <p:nvSpPr>
          <p:cNvPr id="66" name="Rectangle 1"/>
          <p:cNvSpPr/>
          <p:nvPr/>
        </p:nvSpPr>
        <p:spPr>
          <a:xfrm>
            <a:off x="1888560" y="990720"/>
            <a:ext cx="308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4: Average Lin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228600"/>
            <a:ext cx="5883120" cy="8323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A look at Fig 2, the agglomeration schedule, can help us to identify large differences in the coefficient (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olumn). The agglomeration schedule from top to bottom (stage 1 to 19) indicates the sequence in which cases get combined with others (or one cluster combines with another), until all 20 cases are combined together in one cluster at the last stage (stage 1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rPr>
              <a:t> Therefore, stage 19 represents a 1 cluster solution, stage 18 represents a 2 cluster solution, stage 17 represents a 3 cluster solution, and so on, going up from the last row to the first row. We have to identify how many clusters are in the data. We use the difference between rows in a measure called coefficient (also known as </a:t>
            </a:r>
            <a:r>
              <a:rPr b="1" lang="en-US" sz="2400" spc="-1" strike="noStrike">
                <a:solidFill>
                  <a:srgbClr val="000000"/>
                </a:solidFill>
                <a:latin typeface="Times New Roman"/>
              </a:rPr>
              <a:t>fusion coefficient</a:t>
            </a:r>
            <a:r>
              <a:rPr b="0" lang="en-US" sz="2400" spc="-1" strike="noStrike">
                <a:solidFill>
                  <a:srgbClr val="000000"/>
                </a:solidFill>
                <a:latin typeface="Times New Roman"/>
              </a:rPr>
              <a:t>) in column 4 to identify the number of clusters in the da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Text Box 3"/>
          <p:cNvSpPr/>
          <p:nvPr/>
        </p:nvSpPr>
        <p:spPr>
          <a:xfrm>
            <a:off x="6232680" y="7993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04920" y="609480"/>
            <a:ext cx="6553080" cy="83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We will look at this figure from the last row upwards, because we would like to have lowest possible number of clusters, for reasons of economy and ease of interpretation. We see that there is a difference of (56.804 – 53.182) in the coefficients between the 1 cluster solution (stage 19) and the 2 cluster solution (stage 18). This is a difference of 3.622. The next difference is of (53.182 – 51.00) which is equal to 2.182 (between stage 18, the 2 cluster solution and stage 17, the 3 cluster solution). The next one after that is (51-45.833), is 5.167, between stage 17 and stage 16. After this, the difference between the stages 16 and 15, is (45.833 – 42) or 3.833. Thereafter, the differences are smaller between subsequent rows of coeffici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4.</a:t>
            </a:r>
            <a:r>
              <a:rPr b="0" lang="en-US" sz="2000" spc="-1" strike="noStrike">
                <a:solidFill>
                  <a:srgbClr val="000000"/>
                </a:solidFill>
                <a:latin typeface="Times New Roman"/>
              </a:rPr>
              <a:t> A large difference in the coefficient values between any two rows indicates a solution pertaining to the number of clusters which the lower row represents. Ignoring the first difference of 3.622 which would indicate only 1 cluster in the data, we look at the next largest differences. 2.182 is the difference between row 2 from the bottom and row 3 from the bottom, indicating a 2 cluster solution. For a 3 cluster solution, the difference is 5.167. But  the  difference between stage 16 and 15, indicating a 4 cluster solution is 3.833. </a:t>
            </a:r>
            <a:r>
              <a:rPr b="0" lang="en-US" sz="2000" spc="-1" strike="noStrike">
                <a:solidFill>
                  <a:srgbClr val="ff0000"/>
                </a:solidFill>
                <a:latin typeface="Times New Roman"/>
              </a:rPr>
              <a:t>At this point, it is the judgment of the researcher, which should decide whether to go for a 2 cluster or a 4 cluster solution.</a:t>
            </a:r>
            <a:r>
              <a:rPr b="0" lang="en-US" sz="2000" spc="-1" strike="noStrike">
                <a:solidFill>
                  <a:srgbClr val="000000"/>
                </a:solidFill>
                <a:latin typeface="Times New Roman"/>
              </a:rPr>
              <a:t> Just for illustration, we will choose both the 4 and 2 cluster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534960" y="379440"/>
          <a:ext cx="5462640" cy="3492360"/>
        </p:xfrm>
        <a:graphic>
          <a:graphicData uri="http://schemas.openxmlformats.org/presentationml/2006/ole">
            <p:oleObj progId="Word.Document.12" r:id="rId1" spid="">
              <p:embed/>
              <p:pic>
                <p:nvPicPr>
                  <p:cNvPr id="72" name="Object 4" descr=""/>
                  <p:cNvPicPr/>
                  <p:nvPr/>
                </p:nvPicPr>
                <p:blipFill>
                  <a:blip r:embed="rId2"/>
                  <a:stretch/>
                </p:blipFill>
                <p:spPr>
                  <a:xfrm>
                    <a:off x="534960" y="379440"/>
                    <a:ext cx="5462640" cy="3492360"/>
                  </a:xfrm>
                  <a:prstGeom prst="rect">
                    <a:avLst/>
                  </a:prstGeom>
                  <a:ln w="0">
                    <a:noFill/>
                  </a:ln>
                </p:spPr>
              </p:pic>
            </p:oleObj>
          </a:graphicData>
        </a:graphic>
      </p:graphicFrame>
      <p:sp>
        <p:nvSpPr>
          <p:cNvPr id="73" name="Text Box 8"/>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 name="Text Box 13"/>
          <p:cNvSpPr/>
          <p:nvPr/>
        </p:nvSpPr>
        <p:spPr>
          <a:xfrm>
            <a:off x="229320" y="480060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5" name="Picture 9" descr=""/>
          <p:cNvPicPr/>
          <p:nvPr/>
        </p:nvPicPr>
        <p:blipFill>
          <a:blip r:embed="rId3"/>
          <a:stretch/>
        </p:blipFill>
        <p:spPr>
          <a:xfrm>
            <a:off x="347760" y="4038480"/>
            <a:ext cx="6041880" cy="393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1295280" y="1219320"/>
            <a:ext cx="4191120" cy="69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990720" y="914400"/>
          <a:ext cx="5333760" cy="7391520"/>
        </p:xfrm>
        <a:graphic>
          <a:graphicData uri="http://schemas.openxmlformats.org/drawingml/2006/table">
            <a:tbl>
              <a:tblPr/>
              <a:tblGrid>
                <a:gridCol w="1193760"/>
                <a:gridCol w="1035000"/>
                <a:gridCol w="1033560"/>
                <a:gridCol w="1036440"/>
                <a:gridCol w="1035000"/>
              </a:tblGrid>
              <a:tr h="411120">
                <a:tc gridSpan="5">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al Cluster Centers</a:t>
                      </a:r>
                      <a:endParaRPr b="0" lang="en-US" sz="1600" spc="-1" strike="noStrike">
                        <a:solidFill>
                          <a:srgbClr val="000000"/>
                        </a:solidFill>
                        <a:latin typeface="Times New Roman"/>
                      </a:endParaRPr>
                    </a:p>
                  </a:txBody>
                  <a:tcPr anchor="ctr" marL="13320" marR="1332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968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gridSpan="4">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3320" marR="1332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112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3320" marR="1332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3320" marR="1332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w="13680">
                      <a:solidFill>
                        <a:srgbClr val="000000"/>
                      </a:solid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609480" y="762120"/>
          <a:ext cx="5410440" cy="2743200"/>
        </p:xfrm>
        <a:graphic>
          <a:graphicData uri="http://schemas.openxmlformats.org/drawingml/2006/table">
            <a:tbl>
              <a:tblPr/>
              <a:tblGrid>
                <a:gridCol w="825480"/>
                <a:gridCol w="1146240"/>
                <a:gridCol w="1144800"/>
                <a:gridCol w="1147680"/>
                <a:gridCol w="1146240"/>
              </a:tblGrid>
              <a:tr h="457200">
                <a:tc gridSpan="5">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tances between Final Cluster Centers</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aphicFrame>
        <p:nvGraphicFramePr>
          <p:cNvPr id="79" name=""/>
          <p:cNvGraphicFramePr/>
          <p:nvPr/>
        </p:nvGraphicFramePr>
        <p:xfrm>
          <a:off x="1219320" y="4419720"/>
          <a:ext cx="4267080" cy="2774880"/>
        </p:xfrm>
        <a:graphic>
          <a:graphicData uri="http://schemas.openxmlformats.org/drawingml/2006/table">
            <a:tbl>
              <a:tblPr/>
              <a:tblGrid>
                <a:gridCol w="1353960"/>
                <a:gridCol w="1455840"/>
                <a:gridCol w="1457280"/>
              </a:tblGrid>
              <a:tr h="652320">
                <a:tc gridSpan="3">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umber of Cases in each Cluster</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3880">
                <a:tc rowSpan="4">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t" marL="19080" marR="19080">
                    <a:lnL w="13680">
                      <a:solidFill>
                        <a:srgbClr val="000000"/>
                      </a:solidFill>
                    </a:lnL>
                    <a:lnR>
                      <a:noFill/>
                    </a:lnR>
                    <a:lnT w="13680">
                      <a:solidFill>
                        <a:srgbClr val="000000"/>
                      </a:solidFill>
                    </a:lnT>
                    <a:lnB>
                      <a:noFill/>
                    </a:lnB>
                    <a:solidFill>
                      <a:srgbClr val="fffff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w="13680">
                      <a:solidFill>
                        <a:srgbClr val="000000"/>
                      </a:solidFill>
                    </a:lnT>
                    <a:lnB>
                      <a:noFill/>
                    </a:lnB>
                    <a:solidFill>
                      <a:srgbClr val="ffffff"/>
                    </a:solidFill>
                  </a:tcPr>
                </a:tc>
              </a:tr>
              <a:tr h="352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lid</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ssing</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568440" y="685800"/>
            <a:ext cx="588312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cluster, by definition, is a group of similar objects. Cluster analysis is a technique for grouping individuals or objects into groups. It differs from other methods of classification, such as discriminant analysis, in that in cluster analysis the number and characteristics of the groups are to be derived from the data and are not usually known prior to the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re could be clusters of people, brands or other objec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f clusters are formed of customers similar to one another, then cluster analysis can help marketers identify segments (clust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f clusters of brands are formed, this can be used to gain insights into brands that are perceived as similar to each other on a set of attribu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Cluster analysis is best performed when the variables are interval or ratio-scal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4479840" y="8091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 y="60480"/>
            <a:ext cx="6400800" cy="6951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final cluster centers (above) describe the mean value of each variable for each of the 4 clusters. For example, cluster 1 is described by the mean values of variable 1 = 1.6, variable 2 = 2.4, variable 3 = 3.6, variable 4 = 3.0 and so on.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We now go back to the original variables (in this case the 15 statements in our questionnaire), and interpret the clusters in terms of the 15 variables. For example, cluster 1 consists of people who are on the e-mail rather than writing conventional letters (variable 1 value = 1.60 which is equivalent to “agree” on the scale of 1 to 5).  They also agree (variable 2 value = 2.40) that quality products are always priced high – that is, they have a positive correlation in their minds about a product’s quality and pric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On these same variables, cluster 2 shows people who prefer conventional mail to e-mail (variable 1 value = 3.5 or close to “disagree”), people who do not necessarily associate high price with good quality (variable 2 value = 3.33) . In this way, when we compare final cluster center values on each of the 15 variables, for 1 cluster at a time, a complete picture of the clusters emer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Text Box 3"/>
          <p:cNvSpPr/>
          <p:nvPr/>
        </p:nvSpPr>
        <p:spPr>
          <a:xfrm>
            <a:off x="6080040" y="7489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49200" y="380880"/>
            <a:ext cx="6264360" cy="850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will briefly describe each of the 4 clusters as follow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users, feel quality comes at a price, not careful spenders, do not like television much, do not think a car is a necessity, do not like fast food and ready to use products, are more health-conscious today, think foreign companies have increased somewhat the efficiency of companies, disagree that women are active purchasing decision makers, feel that politicians can play an active role, do not enjoy watching movies, might consider settling abroad, tend to buy branded products, do  go out much on weekends and like to pay cash, rather than charging to their credit cards (if they have o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us a cluster exhibiting many traditional values, except that they have adapted to email use. They are also beginning to loosen their purse strings. </a:t>
            </a:r>
            <a:endParaRPr b="0" lang="en-US" sz="2400" spc="-1" strike="noStrike">
              <a:solidFill>
                <a:srgbClr val="000000"/>
              </a:solidFill>
              <a:latin typeface="Times New Roman"/>
            </a:endParaRPr>
          </a:p>
        </p:txBody>
      </p:sp>
      <p:sp>
        <p:nvSpPr>
          <p:cNvPr id="83" name="Text Box 3"/>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
          <p:cNvSpPr/>
          <p:nvPr/>
        </p:nvSpPr>
        <p:spPr>
          <a:xfrm>
            <a:off x="51656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244440" y="762120"/>
            <a:ext cx="647712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letter writers, bargain hunters or aggressive buyers, not too particular about thinking before spending, not so great valuers of TV, believe the car is a luxury, not too fond of fast food and convenience products, do not think people are very health conscious, feel foreign companies have done us good, think women are active purchasing decision makers, do not believe in politicians, do not like movies, do not want to settle abroad, do not stress on branded products, do not go out on weekends, but do prefer credit cards for pay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group which likes to use credit, spends more freely, believes in woman power, believe in economics rather than politics, and feel quality products can be cheap. Also, they seem to have a patriotic streak, as they do not want to settle abro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27160" y="685800"/>
            <a:ext cx="641664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quality measured by price, do not think twice before buying, like TV, car is a luxury to them, not too fond of fast food, agree that people are health conscious, do not think foreign companies have made us efficient, believe in woman power, neutral on politicians, do not enjoy watching movies, not willing to settle abroad, always buy branded products, go out on weekends,  prefer credit cards to ca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a free spending one, but health conscious,  more brand loyal to branded products, but outgoing compared to other groups, but not willing to go abroad to sett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
          <p:cNvSpPr/>
          <p:nvPr/>
        </p:nvSpPr>
        <p:spPr>
          <a:xfrm>
            <a:off x="58514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6"/>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04920" y="210960"/>
            <a:ext cx="632448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measure quality by price, free spending, do not enjoy watching TV, think a car is necessary, not fond of fast food, think people are not health conscious, think foreign companies have made us efficient, do not believe in woman power, somewhat positive about politicians, not movie watchers, do not want to settle abroad, indifferent to branding, not outgoing and not in favour of credit cards rather than ca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optimistic, free spending and not a good target for TV advertising, particularly consumer durables and entertainment. But they are not necessarily influenced by brands. They may want value for money, but if they see value, they may spend a 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mmary, the cluster analysis of this sample of respondents tells us a lot about the possible segments which exist in the target pop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228600"/>
          <a:ext cx="6019560" cy="8116920"/>
        </p:xfrm>
        <a:graphic>
          <a:graphicData uri="http://schemas.openxmlformats.org/drawingml/2006/table">
            <a:tbl>
              <a:tblPr/>
              <a:tblGrid>
                <a:gridCol w="1066680"/>
                <a:gridCol w="860400"/>
                <a:gridCol w="760320"/>
                <a:gridCol w="1051200"/>
                <a:gridCol w="760320"/>
                <a:gridCol w="760320"/>
                <a:gridCol w="760320"/>
              </a:tblGrid>
              <a:tr h="307800">
                <a:tc gridSpan="7">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OVA</a:t>
                      </a:r>
                      <a:endParaRPr b="0" lang="en-US" sz="1600" spc="-1" strike="noStrike">
                        <a:solidFill>
                          <a:srgbClr val="000000"/>
                        </a:solidFill>
                        <a:latin typeface="Times New Roman"/>
                      </a:endParaRPr>
                    </a:p>
                  </a:txBody>
                  <a:tcPr anchor="ctr" marL="11160" marR="1116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672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rror</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g</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b" marL="11160" marR="1116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2840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2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w="13680">
                      <a:solidFill>
                        <a:srgbClr val="000000"/>
                      </a:solid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6</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9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1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9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1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0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8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5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2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40</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4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1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68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57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4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1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10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5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7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6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8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9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7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5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9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1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72</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7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6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14</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64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8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3</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w="13680">
                      <a:solidFill>
                        <a:srgbClr val="000000"/>
                      </a:solidFill>
                    </a:lnB>
                    <a:solidFill>
                      <a:srgbClr val="ffffff"/>
                    </a:solidFill>
                  </a:tcPr>
                </a:tc>
              </a:tr>
              <a:tr h="1144440">
                <a:tc gridSpan="7">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 tests should be used only for descriptive purposes because the clusters have been chosen to maximize the differences among cases in different clusters. The observed significance levels are not corrected for this and thus cannot be interpreted as tests of the hypothesis that the cluster means are equal</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marL="11160" marR="1116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2"/>
          <p:cNvGraphicFramePr/>
          <p:nvPr/>
        </p:nvGraphicFramePr>
        <p:xfrm>
          <a:off x="689040" y="914400"/>
          <a:ext cx="5462640" cy="5700600"/>
        </p:xfrm>
        <a:graphic>
          <a:graphicData uri="http://schemas.openxmlformats.org/presentationml/2006/ole">
            <p:oleObj progId="Word.Document.12" r:id="rId1" spid="">
              <p:embed/>
              <p:pic>
                <p:nvPicPr>
                  <p:cNvPr id="92" name="Object 2" descr=""/>
                  <p:cNvPicPr/>
                  <p:nvPr/>
                </p:nvPicPr>
                <p:blipFill>
                  <a:blip r:embed="rId2"/>
                  <a:stretch/>
                </p:blipFill>
                <p:spPr>
                  <a:xfrm>
                    <a:off x="689040" y="914400"/>
                    <a:ext cx="5462640" cy="57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28600" y="304920"/>
            <a:ext cx="640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of SPSS for a 2 cluster analysis are presented below:</a:t>
            </a:r>
            <a:endParaRPr b="0" lang="en-US" sz="2400" spc="-1" strike="noStrike">
              <a:solidFill>
                <a:srgbClr val="000000"/>
              </a:solidFill>
              <a:latin typeface="Times New Roman"/>
            </a:endParaRPr>
          </a:p>
        </p:txBody>
      </p:sp>
      <p:pic>
        <p:nvPicPr>
          <p:cNvPr id="94" name="Picture 2" descr=""/>
          <p:cNvPicPr/>
          <p:nvPr/>
        </p:nvPicPr>
        <p:blipFill>
          <a:blip r:embed="rId1"/>
          <a:stretch/>
        </p:blipFill>
        <p:spPr>
          <a:xfrm>
            <a:off x="533520" y="1446120"/>
            <a:ext cx="2666880" cy="4334040"/>
          </a:xfrm>
          <a:prstGeom prst="rect">
            <a:avLst/>
          </a:prstGeom>
          <a:ln w="0">
            <a:noFill/>
          </a:ln>
        </p:spPr>
      </p:pic>
      <p:pic>
        <p:nvPicPr>
          <p:cNvPr id="95" name="Picture 3" descr=""/>
          <p:cNvPicPr/>
          <p:nvPr/>
        </p:nvPicPr>
        <p:blipFill>
          <a:blip r:embed="rId2"/>
          <a:stretch/>
        </p:blipFill>
        <p:spPr>
          <a:xfrm>
            <a:off x="3962520" y="1488960"/>
            <a:ext cx="2361960" cy="4291200"/>
          </a:xfrm>
          <a:prstGeom prst="rect">
            <a:avLst/>
          </a:prstGeom>
          <a:ln w="0">
            <a:noFill/>
          </a:ln>
        </p:spPr>
      </p:pic>
      <p:pic>
        <p:nvPicPr>
          <p:cNvPr id="96" name="Picture 4" descr=""/>
          <p:cNvPicPr/>
          <p:nvPr/>
        </p:nvPicPr>
        <p:blipFill>
          <a:blip r:embed="rId3"/>
          <a:stretch/>
        </p:blipFill>
        <p:spPr>
          <a:xfrm>
            <a:off x="4133880" y="6316560"/>
            <a:ext cx="1914480" cy="1379520"/>
          </a:xfrm>
          <a:prstGeom prst="rect">
            <a:avLst/>
          </a:prstGeom>
          <a:ln w="0">
            <a:noFill/>
          </a:ln>
        </p:spPr>
      </p:pic>
      <p:pic>
        <p:nvPicPr>
          <p:cNvPr id="97" name="Picture 5" descr=""/>
          <p:cNvPicPr/>
          <p:nvPr/>
        </p:nvPicPr>
        <p:blipFill>
          <a:blip r:embed="rId4"/>
          <a:stretch/>
        </p:blipFill>
        <p:spPr>
          <a:xfrm>
            <a:off x="685800" y="6324480"/>
            <a:ext cx="2362320" cy="1238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858960" y="1371600"/>
            <a:ext cx="507672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17680" y="76320"/>
            <a:ext cx="5959440" cy="804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Comments on Cluster Analysi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bject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looked at an example of classifying people. It is possible to classify objects such as brands, products, cities, etc. with cluster analysis. For example, which brands are clustered together in terms of consumer perceptions for a positioning exercise, or which cities are clustered together in terms of income, education and age profile of its residents.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main decisions of a researcher is to decide how many clusters are present in the data. In certain cases, if for example we have a prior hypothesis about how many clusters ought to be present, this decision may already be made. But otherwise, it tends to be a subjective decision. One of the criteria that can be used in addition to ones we have described is that every cluster must have a reasonable or minimum number of objects. Which means, if a cluster comes out with only one or two objects in it, look for another solution.</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ay be useful to experiment with two or three possible solutions before deciding on the 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Text Box 3"/>
          <p:cNvSpPr/>
          <p:nvPr/>
        </p:nvSpPr>
        <p:spPr>
          <a:xfrm>
            <a:off x="4784760" y="771192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17400" y="762120"/>
            <a:ext cx="5867640" cy="728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here are two major classes of cluster analysis techniques: hierarchical and non-hierarchic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In </a:t>
            </a:r>
            <a:r>
              <a:rPr b="1" lang="en-US" sz="2400" spc="-1" strike="noStrike">
                <a:solidFill>
                  <a:srgbClr val="000000"/>
                </a:solidFill>
                <a:latin typeface="Times New Roman"/>
              </a:rPr>
              <a:t>hierarchical clustering</a:t>
            </a:r>
            <a:r>
              <a:rPr b="0" lang="en-US" sz="2400" spc="-1" strike="noStrike">
                <a:solidFill>
                  <a:srgbClr val="000000"/>
                </a:solidFill>
                <a:latin typeface="Times New Roman"/>
              </a:rPr>
              <a:t>, some measure of distance is used to identify distances between all pairs of objects to be clustered. One of the popular distance measures used is Euclidean Distance. Another is the Squared Euclidean Dist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We begin with all objects in separate clusters. Say, we have ten objects in separate ten clusters. Two closest objects are joined to form a cluster. Now we have one cluster and the remaining 8 objects would remain separate. This is stage 1 of hierarchical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Text Box 4"/>
          <p:cNvSpPr/>
          <p:nvPr/>
        </p:nvSpPr>
        <p:spPr>
          <a:xfrm>
            <a:off x="3657600" y="8075520"/>
            <a:ext cx="2016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685800" y="1371600"/>
            <a:ext cx="53532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entioned briefly earlier, some statistical tests for cluster analysis are available. But their validity being questionable, caution is recommended in using either ANOVA or any other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caution about cluster analysis itself is that it tends to produce different results with different methods and some methods are quite vulnerable to errors in data. So, the stability of the clusters can be checked through splitting the sample and repeating the cluster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Text Box 3"/>
          <p:cNvSpPr/>
          <p:nvPr/>
        </p:nvSpPr>
        <p:spPr>
          <a:xfrm>
            <a:off x="519840" y="6238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533520" y="990720"/>
            <a:ext cx="59436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n stage 2, again the two closest objects form another cluster. Now, we have two clusters, and 6 unclustered objects. This means a total of eight clusters, two with two objects each, and six with one object eac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This process continues, until points join existing clusters (because they are closest to an existing cluster), and clusters join other clusters, based on the shortest distance criter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In this way, a range of possible solutions is formed, from a 10-cluster solution in the beginning, to a single cluster solution at the end (as an extreme c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We have to decide how many clusters the data seems to have, depending on either the </a:t>
            </a:r>
            <a:r>
              <a:rPr b="1" lang="en-US" sz="2000" spc="-1" strike="noStrike">
                <a:solidFill>
                  <a:srgbClr val="000000"/>
                </a:solidFill>
                <a:latin typeface="Times New Roman"/>
              </a:rPr>
              <a:t>agglomeration schedule</a:t>
            </a:r>
            <a:r>
              <a:rPr b="0" lang="en-US" sz="2000" spc="-1" strike="noStrike">
                <a:solidFill>
                  <a:srgbClr val="000000"/>
                </a:solidFill>
                <a:latin typeface="Times New Roman"/>
              </a:rPr>
              <a:t>, or the </a:t>
            </a:r>
            <a:r>
              <a:rPr b="1" lang="en-US" sz="2000" spc="-1" strike="noStrike">
                <a:solidFill>
                  <a:srgbClr val="000000"/>
                </a:solidFill>
                <a:latin typeface="Times New Roman"/>
              </a:rPr>
              <a:t>dendrogram</a:t>
            </a:r>
            <a:r>
              <a:rPr b="0" lang="en-US" sz="2000" spc="-1" strike="noStrike">
                <a:solidFill>
                  <a:srgbClr val="000000"/>
                </a:solidFill>
                <a:latin typeface="Times New Roman"/>
              </a:rPr>
              <a:t> to help make the decision. Both of these are computer outputs that describe in numbers or visually, the sequence of cluster formation. This decision is somewhat subjective, but there are some guidelines one can follow, as illustrated in the worked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480" y="685800"/>
            <a:ext cx="5807160" cy="765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In </a:t>
            </a:r>
            <a:r>
              <a:rPr b="1" lang="en-US" sz="2400" spc="-1" strike="noStrike">
                <a:solidFill>
                  <a:srgbClr val="000000"/>
                </a:solidFill>
                <a:latin typeface="Times New Roman"/>
              </a:rPr>
              <a:t>non-hierarchical clustering</a:t>
            </a:r>
            <a:r>
              <a:rPr b="0" lang="en-US" sz="2400" spc="-1" strike="noStrike">
                <a:solidFill>
                  <a:srgbClr val="000000"/>
                </a:solidFill>
                <a:latin typeface="Times New Roman"/>
              </a:rPr>
              <a:t> methods (also known as </a:t>
            </a:r>
            <a:r>
              <a:rPr b="1" lang="en-US" sz="2400" spc="-1" strike="noStrike">
                <a:solidFill>
                  <a:srgbClr val="000000"/>
                </a:solidFill>
                <a:latin typeface="Times New Roman"/>
              </a:rPr>
              <a:t>k-means clustering</a:t>
            </a:r>
            <a:r>
              <a:rPr b="0" lang="en-US" sz="2400" spc="-1" strike="noStrike">
                <a:solidFill>
                  <a:srgbClr val="000000"/>
                </a:solidFill>
                <a:latin typeface="Times New Roman"/>
              </a:rPr>
              <a:t> methods), we need to specify the number of clusters we want the objects to be clustered int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This can be done if we have a hypothesis that the objects will group into a certain number of clusters. Alternatively, we can first do a hierarchical clustering on the data, find the approximate number of clusters, and then perform a k-means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In our illustration, we have used both hierarchical and non-hierarchical methods in combination with one anoth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rPr>
              <a:t>Let us move on to our worked 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3"/>
          <p:cNvSpPr/>
          <p:nvPr/>
        </p:nvSpPr>
        <p:spPr>
          <a:xfrm>
            <a:off x="3870360" y="8624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380880" y="152280"/>
            <a:ext cx="6172200" cy="87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orked Out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blem:</a:t>
            </a:r>
            <a:r>
              <a:rPr b="0" lang="en-US" sz="2000" spc="-1" strike="noStrike">
                <a:solidFill>
                  <a:srgbClr val="000000"/>
                </a:solidFill>
                <a:latin typeface="Times New Roman"/>
              </a:rPr>
              <a:t> A major FMCG company wants to map the profile of its target market in terms of customers’ perceptions. The company's managers prepare, with the help of their marketing research team, a set of 15 statements, which they feel measure many of the variables of interest. These 15 statements are given below. The respondent had to agree or disagree (1 = Strongly Agree, 2 = Agree,  3 = Neither Agree nor Disagree, 4 = Disagree, 5 = Strongly Disagree) with each stat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prefer to use e-mail rather than write a lett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 feel that quality products are always priced hig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 think twice before I buy anyth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elevision is a major source of entertainmen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 car is a necessity rather than a luxur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I prefer fast food and ready to use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eople are more health conscious toda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Entry of foreign companies has increased the efficiency of compan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Women are active participants in purchase decision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I believe politicians can play a positive ro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I enjoy watching mov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If I get a chance, I would like to settle abroa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I always buy branded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 I frequently go out on weekend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I prefer to pay by credit card rather than in cas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Text Box 4"/>
          <p:cNvSpPr/>
          <p:nvPr/>
        </p:nvSpPr>
        <p:spPr>
          <a:xfrm>
            <a:off x="5318280" y="7365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5"/>
          <p:cNvGraphicFramePr/>
          <p:nvPr/>
        </p:nvGraphicFramePr>
        <p:xfrm>
          <a:off x="609480" y="380880"/>
          <a:ext cx="5488200" cy="1752840"/>
        </p:xfrm>
        <a:graphic>
          <a:graphicData uri="http://schemas.openxmlformats.org/presentationml/2006/ole">
            <p:oleObj progId="Word.Document.12" r:id="rId1" spid="">
              <p:embed/>
              <p:pic>
                <p:nvPicPr>
                  <p:cNvPr id="53" name="Object 5" descr=""/>
                  <p:cNvPicPr/>
                  <p:nvPr/>
                </p:nvPicPr>
                <p:blipFill>
                  <a:blip r:embed="rId2"/>
                  <a:stretch/>
                </p:blipFill>
                <p:spPr>
                  <a:xfrm>
                    <a:off x="609480" y="380880"/>
                    <a:ext cx="5488200" cy="1752840"/>
                  </a:xfrm>
                  <a:prstGeom prst="rect">
                    <a:avLst/>
                  </a:prstGeom>
                  <a:ln w="0">
                    <a:noFill/>
                  </a:ln>
                </p:spPr>
              </p:pic>
            </p:oleObj>
          </a:graphicData>
        </a:graphic>
      </p:graphicFrame>
      <p:graphicFrame>
        <p:nvGraphicFramePr>
          <p:cNvPr id="54" name="Object 10"/>
          <p:cNvGraphicFramePr/>
          <p:nvPr/>
        </p:nvGraphicFramePr>
        <p:xfrm>
          <a:off x="266760" y="2362320"/>
          <a:ext cx="6076800" cy="6172200"/>
        </p:xfrm>
        <a:graphic>
          <a:graphicData uri="http://schemas.openxmlformats.org/presentationml/2006/ole">
            <p:oleObj progId="Word.Document.12" r:id="rId3" spid="">
              <p:embed/>
              <p:pic>
                <p:nvPicPr>
                  <p:cNvPr id="55" name="Object 10" descr=""/>
                  <p:cNvPicPr/>
                  <p:nvPr/>
                </p:nvPicPr>
                <p:blipFill>
                  <a:blip r:embed="rId4"/>
                  <a:stretch/>
                </p:blipFill>
                <p:spPr>
                  <a:xfrm>
                    <a:off x="266760" y="2362320"/>
                    <a:ext cx="607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1024"/>
          <p:cNvGraphicFramePr/>
          <p:nvPr/>
        </p:nvGraphicFramePr>
        <p:xfrm>
          <a:off x="228600" y="1771560"/>
          <a:ext cx="6248520" cy="5619960"/>
        </p:xfrm>
        <a:graphic>
          <a:graphicData uri="http://schemas.openxmlformats.org/presentationml/2006/ole">
            <p:oleObj progId="Word.Document.12" r:id="rId1" spid="">
              <p:embed/>
              <p:pic>
                <p:nvPicPr>
                  <p:cNvPr id="57" name="Object 1024" descr=""/>
                  <p:cNvPicPr/>
                  <p:nvPr/>
                </p:nvPicPr>
                <p:blipFill>
                  <a:blip r:embed="rId2"/>
                  <a:stretch/>
                </p:blipFill>
                <p:spPr>
                  <a:xfrm>
                    <a:off x="228600" y="1771560"/>
                    <a:ext cx="6248520" cy="5619960"/>
                  </a:xfrm>
                  <a:prstGeom prst="rect">
                    <a:avLst/>
                  </a:prstGeom>
                  <a:ln w="0">
                    <a:noFill/>
                  </a:ln>
                </p:spPr>
              </p:pic>
            </p:oleObj>
          </a:graphicData>
        </a:graphic>
      </p:graphicFrame>
      <p:sp>
        <p:nvSpPr>
          <p:cNvPr id="58" name="Text Box 12"/>
          <p:cNvSpPr/>
          <p:nvPr/>
        </p:nvSpPr>
        <p:spPr>
          <a:xfrm>
            <a:off x="1737000" y="103176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1 con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457200" y="380880"/>
            <a:ext cx="57913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Hierarchical cluster – Select Var01 to Var15; Radio button Cluster:Cases; Display:Statistics, Plo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s: Select Agglomeration Schedule, Radio button; Cluster membership: 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s: Select Dendogram; Radio button Icicle: All clusters; Radio button Orientation: vertical;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Cluster Method: Between group linkage; Measure - Radio 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val: Squared Euclidean distanc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6:03:29Z</dcterms:created>
  <dc:creator>TMH</dc:creator>
  <dc:description/>
  <dc:language>en-US</dc:language>
  <cp:lastModifiedBy>User</cp:lastModifiedBy>
  <cp:lastPrinted>2015-11-26T09:40:40Z</cp:lastPrinted>
  <dcterms:modified xsi:type="dcterms:W3CDTF">2017-01-10T07:34:17Z</dcterms:modified>
  <cp:revision>61</cp:revision>
  <dc:subject/>
  <dc:title>No Slide Title</dc:title>
</cp:coreProperties>
</file>