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117440" y="413064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5768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45348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78952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111744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45348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578952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117440" y="609120"/>
            <a:ext cx="6909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5768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6480" y="6480"/>
            <a:ext cx="9118080" cy="6832440"/>
            <a:chOff x="6480" y="6480"/>
            <a:chExt cx="9118080" cy="6832440"/>
          </a:xfrm>
        </p:grpSpPr>
        <p:grpSp>
          <p:nvGrpSpPr>
            <p:cNvPr id="3" name=""/>
            <p:cNvGrpSpPr/>
            <p:nvPr/>
          </p:nvGrpSpPr>
          <p:grpSpPr>
            <a:xfrm>
              <a:off x="6480" y="5340240"/>
              <a:ext cx="673920" cy="673200"/>
              <a:chOff x="6480" y="5340240"/>
              <a:chExt cx="673920" cy="673200"/>
            </a:xfrm>
          </p:grpSpPr>
          <p:sp>
            <p:nvSpPr>
              <p:cNvPr id="4" name=""/>
              <p:cNvSpPr/>
              <p:nvPr/>
            </p:nvSpPr>
            <p:spPr>
              <a:xfrm>
                <a:off x="6480" y="5340240"/>
                <a:ext cx="673920" cy="673200"/>
              </a:xfrm>
              <a:prstGeom prst="ellipse">
                <a:avLst/>
              </a:prstGeom>
              <a:noFill/>
              <a:ln w="1260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58400" y="5492880"/>
                <a:ext cx="101160" cy="99720"/>
              </a:xfrm>
              <a:prstGeom prst="ellipse">
                <a:avLst/>
              </a:prstGeom>
              <a:solidFill>
                <a:srgbClr val="00ccff"/>
              </a:solidFill>
              <a:ln w="1260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" name=""/>
            <p:cNvGrpSpPr/>
            <p:nvPr/>
          </p:nvGrpSpPr>
          <p:grpSpPr>
            <a:xfrm>
              <a:off x="539640" y="5873760"/>
              <a:ext cx="293040" cy="291960"/>
              <a:chOff x="539640" y="5873760"/>
              <a:chExt cx="293040" cy="291960"/>
            </a:xfrm>
          </p:grpSpPr>
          <p:sp>
            <p:nvSpPr>
              <p:cNvPr id="7" name=""/>
              <p:cNvSpPr/>
              <p:nvPr/>
            </p:nvSpPr>
            <p:spPr>
              <a:xfrm>
                <a:off x="539640" y="5873760"/>
                <a:ext cx="293040" cy="291960"/>
              </a:xfrm>
              <a:prstGeom prst="ellipse">
                <a:avLst/>
              </a:prstGeom>
              <a:noFill/>
              <a:ln w="1260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05520" y="5940360"/>
                <a:ext cx="39240" cy="38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131760" y="6039000"/>
              <a:ext cx="445680" cy="444240"/>
              <a:chOff x="131760" y="6039000"/>
              <a:chExt cx="445680" cy="444240"/>
            </a:xfrm>
          </p:grpSpPr>
          <p:sp>
            <p:nvSpPr>
              <p:cNvPr id="10" name=""/>
              <p:cNvSpPr/>
              <p:nvPr/>
            </p:nvSpPr>
            <p:spPr>
              <a:xfrm>
                <a:off x="131760" y="6039000"/>
                <a:ext cx="445680" cy="444240"/>
              </a:xfrm>
              <a:prstGeom prst="ellipse">
                <a:avLst/>
              </a:prstGeom>
              <a:noFill/>
              <a:ln w="1260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33280" y="6140520"/>
                <a:ext cx="63000" cy="61920"/>
              </a:xfrm>
              <a:prstGeom prst="ellipse">
                <a:avLst/>
              </a:prstGeom>
              <a:solidFill>
                <a:srgbClr val="00ccff"/>
              </a:solidFill>
              <a:ln w="1260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" name=""/>
            <p:cNvGrpSpPr/>
            <p:nvPr/>
          </p:nvGrpSpPr>
          <p:grpSpPr>
            <a:xfrm>
              <a:off x="2476440" y="6470640"/>
              <a:ext cx="369360" cy="368280"/>
              <a:chOff x="2476440" y="6470640"/>
              <a:chExt cx="369360" cy="368280"/>
            </a:xfrm>
          </p:grpSpPr>
          <p:sp>
            <p:nvSpPr>
              <p:cNvPr id="13" name=""/>
              <p:cNvSpPr/>
              <p:nvPr/>
            </p:nvSpPr>
            <p:spPr>
              <a:xfrm>
                <a:off x="2476440" y="6470640"/>
                <a:ext cx="369360" cy="368280"/>
              </a:xfrm>
              <a:prstGeom prst="ellipse">
                <a:avLst/>
              </a:prstGeom>
              <a:noFill/>
              <a:ln w="1260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559240" y="6554880"/>
                <a:ext cx="51840" cy="50760"/>
              </a:xfrm>
              <a:prstGeom prst="ellipse">
                <a:avLst/>
              </a:prstGeom>
              <a:solidFill>
                <a:srgbClr val="00ccff"/>
              </a:solidFill>
              <a:ln w="1260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6480" y="4425840"/>
              <a:ext cx="369360" cy="368280"/>
              <a:chOff x="6480" y="4425840"/>
              <a:chExt cx="369360" cy="368280"/>
            </a:xfrm>
          </p:grpSpPr>
          <p:sp>
            <p:nvSpPr>
              <p:cNvPr id="16" name=""/>
              <p:cNvSpPr/>
              <p:nvPr/>
            </p:nvSpPr>
            <p:spPr>
              <a:xfrm>
                <a:off x="6480" y="4425840"/>
                <a:ext cx="369360" cy="368280"/>
              </a:xfrm>
              <a:prstGeom prst="ellipse">
                <a:avLst/>
              </a:prstGeom>
              <a:noFill/>
              <a:ln w="1260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90720" y="4510080"/>
                <a:ext cx="51840" cy="50760"/>
              </a:xfrm>
              <a:prstGeom prst="ellipse">
                <a:avLst/>
              </a:prstGeom>
              <a:solidFill>
                <a:srgbClr val="00ccff"/>
              </a:solidFill>
              <a:ln w="1260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6558120" y="6102360"/>
              <a:ext cx="674280" cy="673200"/>
              <a:chOff x="6558120" y="6102360"/>
              <a:chExt cx="674280" cy="673200"/>
            </a:xfrm>
          </p:grpSpPr>
          <p:sp>
            <p:nvSpPr>
              <p:cNvPr id="19" name=""/>
              <p:cNvSpPr/>
              <p:nvPr/>
            </p:nvSpPr>
            <p:spPr>
              <a:xfrm>
                <a:off x="6558120" y="6102360"/>
                <a:ext cx="674280" cy="673200"/>
              </a:xfrm>
              <a:prstGeom prst="ellipse">
                <a:avLst/>
              </a:prstGeom>
              <a:noFill/>
              <a:ln w="1260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6710400" y="6254640"/>
                <a:ext cx="101160" cy="100080"/>
              </a:xfrm>
              <a:prstGeom prst="ellipse">
                <a:avLst/>
              </a:prstGeom>
              <a:solidFill>
                <a:srgbClr val="00ccff"/>
              </a:solidFill>
              <a:ln w="1260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6177600" y="6407280"/>
              <a:ext cx="369360" cy="368280"/>
              <a:chOff x="6177600" y="6407280"/>
              <a:chExt cx="369360" cy="368280"/>
            </a:xfrm>
          </p:grpSpPr>
          <p:sp>
            <p:nvSpPr>
              <p:cNvPr id="22" name=""/>
              <p:cNvSpPr/>
              <p:nvPr/>
            </p:nvSpPr>
            <p:spPr>
              <a:xfrm>
                <a:off x="6177600" y="6407280"/>
                <a:ext cx="369360" cy="368280"/>
              </a:xfrm>
              <a:prstGeom prst="ellipse">
                <a:avLst/>
              </a:prstGeom>
              <a:noFill/>
              <a:ln w="1260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6261840" y="6491160"/>
                <a:ext cx="52200" cy="50760"/>
              </a:xfrm>
              <a:prstGeom prst="ellipse">
                <a:avLst/>
              </a:prstGeom>
              <a:solidFill>
                <a:srgbClr val="00ccff"/>
              </a:solidFill>
              <a:ln w="1260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" name=""/>
            <p:cNvGrpSpPr/>
            <p:nvPr/>
          </p:nvGrpSpPr>
          <p:grpSpPr>
            <a:xfrm>
              <a:off x="7244280" y="6102360"/>
              <a:ext cx="369360" cy="368280"/>
              <a:chOff x="7244280" y="6102360"/>
              <a:chExt cx="369360" cy="368280"/>
            </a:xfrm>
          </p:grpSpPr>
          <p:sp>
            <p:nvSpPr>
              <p:cNvPr id="25" name=""/>
              <p:cNvSpPr/>
              <p:nvPr/>
            </p:nvSpPr>
            <p:spPr>
              <a:xfrm>
                <a:off x="7244280" y="6102360"/>
                <a:ext cx="369360" cy="368280"/>
              </a:xfrm>
              <a:prstGeom prst="ellipse">
                <a:avLst/>
              </a:prstGeom>
              <a:noFill/>
              <a:ln w="1260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328520" y="6186600"/>
                <a:ext cx="51840" cy="50760"/>
              </a:xfrm>
              <a:prstGeom prst="ellipse">
                <a:avLst/>
              </a:prstGeom>
              <a:solidFill>
                <a:srgbClr val="00ccff"/>
              </a:solidFill>
              <a:ln w="1260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" name=""/>
            <p:cNvGrpSpPr/>
            <p:nvPr/>
          </p:nvGrpSpPr>
          <p:grpSpPr>
            <a:xfrm>
              <a:off x="8602560" y="1808280"/>
              <a:ext cx="522000" cy="520560"/>
              <a:chOff x="8602560" y="1808280"/>
              <a:chExt cx="522000" cy="520560"/>
            </a:xfrm>
          </p:grpSpPr>
          <p:sp>
            <p:nvSpPr>
              <p:cNvPr id="28" name=""/>
              <p:cNvSpPr/>
              <p:nvPr/>
            </p:nvSpPr>
            <p:spPr>
              <a:xfrm>
                <a:off x="8602560" y="1808280"/>
                <a:ext cx="522000" cy="520560"/>
              </a:xfrm>
              <a:prstGeom prst="ellipse">
                <a:avLst/>
              </a:prstGeom>
              <a:noFill/>
              <a:ln w="1260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720640" y="1927080"/>
                <a:ext cx="76320" cy="74880"/>
              </a:xfrm>
              <a:prstGeom prst="ellipse">
                <a:avLst/>
              </a:prstGeom>
              <a:solidFill>
                <a:srgbClr val="00ccff"/>
              </a:solidFill>
              <a:ln w="1260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" name=""/>
            <p:cNvGrpSpPr/>
            <p:nvPr/>
          </p:nvGrpSpPr>
          <p:grpSpPr>
            <a:xfrm>
              <a:off x="8691480" y="2521080"/>
              <a:ext cx="217080" cy="215640"/>
              <a:chOff x="8691480" y="2521080"/>
              <a:chExt cx="217080" cy="215640"/>
            </a:xfrm>
          </p:grpSpPr>
          <p:sp>
            <p:nvSpPr>
              <p:cNvPr id="31" name=""/>
              <p:cNvSpPr/>
              <p:nvPr/>
            </p:nvSpPr>
            <p:spPr>
              <a:xfrm>
                <a:off x="8691480" y="2521080"/>
                <a:ext cx="217080" cy="215640"/>
              </a:xfrm>
              <a:prstGeom prst="ellipse">
                <a:avLst/>
              </a:prstGeom>
              <a:noFill/>
              <a:ln w="1260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42240" y="2571840"/>
                <a:ext cx="26280" cy="25200"/>
              </a:xfrm>
              <a:prstGeom prst="ellipse">
                <a:avLst/>
              </a:prstGeom>
              <a:solidFill>
                <a:srgbClr val="00ccff"/>
              </a:solidFill>
              <a:ln w="1260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" name=""/>
            <p:cNvGrpSpPr/>
            <p:nvPr/>
          </p:nvGrpSpPr>
          <p:grpSpPr>
            <a:xfrm>
              <a:off x="1377720" y="6480"/>
              <a:ext cx="521640" cy="520560"/>
              <a:chOff x="1377720" y="6480"/>
              <a:chExt cx="521640" cy="520560"/>
            </a:xfrm>
          </p:grpSpPr>
          <p:sp>
            <p:nvSpPr>
              <p:cNvPr id="34" name=""/>
              <p:cNvSpPr/>
              <p:nvPr/>
            </p:nvSpPr>
            <p:spPr>
              <a:xfrm>
                <a:off x="1377720" y="6480"/>
                <a:ext cx="521640" cy="520560"/>
              </a:xfrm>
              <a:prstGeom prst="ellipse">
                <a:avLst/>
              </a:prstGeom>
              <a:noFill/>
              <a:ln w="1260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494720" y="123840"/>
                <a:ext cx="77400" cy="76320"/>
              </a:xfrm>
              <a:prstGeom prst="ellipse">
                <a:avLst/>
              </a:prstGeom>
              <a:solidFill>
                <a:srgbClr val="00ccff"/>
              </a:solidFill>
              <a:ln w="1260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" name=""/>
            <p:cNvGrpSpPr/>
            <p:nvPr/>
          </p:nvGrpSpPr>
          <p:grpSpPr>
            <a:xfrm>
              <a:off x="1910880" y="158760"/>
              <a:ext cx="369360" cy="368280"/>
              <a:chOff x="1910880" y="158760"/>
              <a:chExt cx="369360" cy="368280"/>
            </a:xfrm>
          </p:grpSpPr>
          <p:sp>
            <p:nvSpPr>
              <p:cNvPr id="37" name=""/>
              <p:cNvSpPr/>
              <p:nvPr/>
            </p:nvSpPr>
            <p:spPr>
              <a:xfrm>
                <a:off x="1910880" y="158760"/>
                <a:ext cx="369360" cy="368280"/>
              </a:xfrm>
              <a:prstGeom prst="ellipse">
                <a:avLst/>
              </a:prstGeom>
              <a:noFill/>
              <a:ln w="1260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995120" y="243000"/>
                <a:ext cx="52200" cy="50760"/>
              </a:xfrm>
              <a:prstGeom prst="ellipse">
                <a:avLst/>
              </a:prstGeom>
              <a:solidFill>
                <a:srgbClr val="00ccff"/>
              </a:solidFill>
              <a:ln w="1260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6908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imes New Roman"/>
              </a:rPr>
              <a:t>The Brain &amp; The Spinal Cord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1143000"/>
            <a:ext cx="3505320" cy="4572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I- The brai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1- The Mening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ura Matte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rachinoid Mat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ia Mat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2- The forebra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Cerebr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iencephal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4- The Hind Bra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P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Medul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Cerebell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ffff00"/>
                </a:solidFill>
                <a:uFillTx/>
                <a:latin typeface="Times New Roman"/>
              </a:rPr>
              <a:t>II- The spinal co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19920" y="2819520"/>
            <a:ext cx="2819160" cy="2133360"/>
          </a:xfrm>
          <a:prstGeom prst="cube">
            <a:avLst>
              <a:gd name="adj" fmla="val 25000"/>
            </a:avLst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Times New Roman"/>
              </a:rPr>
              <a:t>3- Midbr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18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Hindbrain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3911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9900"/>
                </a:solidFill>
                <a:uFillTx/>
                <a:latin typeface="Times New Roman"/>
              </a:rPr>
              <a:t>The fourth ventricle: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the cavity of the hindbrain and bounded in front by the pons and medulla and from behind by the cerebellum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is connected above to the third ventricle by the cerebral aqueduct, and below it is continuous with central canal of the spinal cord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communicate with subarachnoid space by three openings in the lower part of the roof, a median and two lateral openings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6908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imes New Roman"/>
              </a:rPr>
              <a:t>The Brain &amp; The Spinal Cord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1447920"/>
            <a:ext cx="3276360" cy="42670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I- The brai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1- The Mening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Dura Matte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Arachinoid Mat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Pia Mat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2- The forebra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Cerebr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Diencephal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3- Midbra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4- The Hind Bra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P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Medul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Cerebell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952880" y="2057400"/>
            <a:ext cx="3733920" cy="2819520"/>
          </a:xfrm>
          <a:prstGeom prst="cube">
            <a:avLst>
              <a:gd name="adj" fmla="val 25000"/>
            </a:avLst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 u="sng">
                <a:solidFill>
                  <a:srgbClr val="ffffff"/>
                </a:solidFill>
                <a:uFillTx/>
                <a:latin typeface="Times New Roman"/>
              </a:rPr>
              <a:t>II- The spinal co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4" dur="2000" fill="hold"/>
                                        <p:tgtEl>
                                          <p:spTgt spid="1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The spinal cord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213372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cylindrical in shape, begins at the foramen magnum and terminate inferiorly at the lower border of the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umber vertebra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rrounded by the three meninges, Dura, Arachnoid and Pia matter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SF fills the Subarachnoid space, add protection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1 pairs of spinal nerves are attached to the spinal cord by an anterior (motor) and posterio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sensory) roots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6908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The spinal cord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(cont)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9900"/>
                </a:solidFill>
                <a:uFillTx/>
                <a:latin typeface="Times New Roman"/>
              </a:rPr>
              <a:t>Structure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ist of a central mass of grey matter surrounding a central canal, a downward continuation of the fourth ventricle, enclosed in a cylindrical mass of white matter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nterior fissure and the posterior septum divide the cord into two halves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th the grey &amp; white matter are divided into anterior, lateral and posterior horns &amp; columns of cells and fibr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The spinal cord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(cont)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9900"/>
                </a:solidFill>
                <a:uFillTx/>
                <a:latin typeface="Times New Roman"/>
              </a:rPr>
              <a:t>Grey matter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-shaped, enlarged in the cervical and lumbosacral region due to increase in the number of the cells in the anterior horn roo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9900"/>
                </a:solidFill>
                <a:uFillTx/>
                <a:latin typeface="Times New Roman"/>
              </a:rPr>
              <a:t>White matter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ain three types of fibres, ascending, descending and intersegmental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Midbrain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8862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nnect the diencephalon to the pons and lies in the posterior cranial fossa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nsist of right and left halves each forming the cerebral peduncle,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ivided into ventral and dorsal part with a narrow cavity running through the dorsal part, the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aqueduc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419720" y="2008080"/>
            <a:ext cx="4724280" cy="31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6908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imes New Roman"/>
              </a:rPr>
              <a:t>The Brain &amp; The Spinal Cord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1447920"/>
            <a:ext cx="3276360" cy="41907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I- The brai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1- The Mening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ura Matte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rachinoid Mat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ia Mat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2- The forebra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Cerebr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iencephal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3- Midbra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ffff00"/>
                </a:solidFill>
                <a:uFillTx/>
                <a:latin typeface="Times New Roman"/>
              </a:rPr>
              <a:t>II_ The spinal co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00600" y="1600200"/>
            <a:ext cx="4191120" cy="40384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175e17"/>
              </a:gs>
              <a:gs pos="100000">
                <a:srgbClr val="33cc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Times New Roman"/>
              </a:rPr>
              <a:t>4- The Hind Br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Times New Roman"/>
              </a:rPr>
              <a:t>P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Times New Roman"/>
              </a:rPr>
              <a:t>Medul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Times New Roman"/>
              </a:rPr>
              <a:t>Cerebell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Hindbrain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340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9900"/>
                </a:solidFill>
                <a:uFillTx/>
                <a:latin typeface="Times New Roman"/>
              </a:rPr>
              <a:t>The Pons: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e on the anterior surface of the cerebellum below the midbrain and above the medulla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br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osed mainly of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rve fibres connecting the two halves of the cerebellum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scending and descending fibres connecting the forebrain, midbrain and spinal cord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The sensory and motor roots of the 5</a:t>
            </a:r>
            <a:r>
              <a:rPr b="0" lang="en-US" sz="2400" spc="-1" strike="noStrike" baseline="30000">
                <a:solidFill>
                  <a:srgbClr val="ff99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cranial nerv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2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3911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Hindbrain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739116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lls: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serve as relay stations while others form cranial nerve nuclei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ntine nuclei, relay station in the ventral surfac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5</a:t>
            </a:r>
            <a:r>
              <a:rPr b="1" lang="en-US" sz="2000" spc="-1" strike="noStrike" baseline="30000">
                <a:solidFill>
                  <a:srgbClr val="ffff00"/>
                </a:solidFill>
                <a:latin typeface="Times New Roman"/>
              </a:rPr>
              <a:t>th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– 8</a:t>
            </a:r>
            <a:r>
              <a:rPr b="1" lang="en-US" sz="2000" spc="-1" strike="noStrike" baseline="30000">
                <a:solidFill>
                  <a:srgbClr val="ffff00"/>
                </a:solidFill>
                <a:latin typeface="Times New Roman"/>
              </a:rPr>
              <a:t>th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cranial nerves nuclei, dorsal par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rigeminal, abducent, facial, vestibulotrochlear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Motor nucleus of the 5</a:t>
            </a:r>
            <a:r>
              <a:rPr b="1" lang="en-US" sz="2000" spc="-1" strike="noStrike" baseline="30000">
                <a:solidFill>
                  <a:srgbClr val="ff9900"/>
                </a:solidFill>
                <a:latin typeface="Times New Roman"/>
              </a:rPr>
              <a:t>th</a:t>
            </a: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  nerve, upper pon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ensory nucleus of the 5</a:t>
            </a:r>
            <a:r>
              <a:rPr b="1" lang="en-US" sz="2000" spc="-1" strike="noStrike" baseline="30000">
                <a:solidFill>
                  <a:srgbClr val="ff0000"/>
                </a:solidFill>
                <a:latin typeface="Times New Roman"/>
              </a:rPr>
              <a:t>th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nerve lateral to the motor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perior salivary nuclei (Parasympathetic), fibres join nervus intermedius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ferior salivary nucleus, fibres join glossopharyngeal N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380880"/>
            <a:ext cx="2133720" cy="160020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on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1" dur="2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" dur="2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6908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Hindbrain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9900"/>
                </a:solidFill>
                <a:uFillTx/>
                <a:latin typeface="Times New Roman"/>
              </a:rPr>
              <a:t>Medulla</a:t>
            </a:r>
            <a:r>
              <a:rPr b="0" i="1" lang="en-US" sz="3200" spc="-1" strike="noStrike" u="sng">
                <a:solidFill>
                  <a:srgbClr val="ff9900"/>
                </a:solidFill>
                <a:uFillTx/>
                <a:latin typeface="Times New Roman"/>
              </a:rPr>
              <a:t> oblongata: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ical in shape and lie vertically connecting the Pons to the spinal cord, passes through foramen magnum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yrami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 deep groove in the midline on the ventral surface, contain the corticospinal fibres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Oliv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nvex structure, lateral to the pyramid, contain the inferior salivary nucleu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ferior cerebellar peduncl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ehind  the olive, connect the medulla to the cerebellum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380880"/>
            <a:ext cx="1519200" cy="91440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edul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Hindbrain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ructures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ucleus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9</a:t>
            </a:r>
            <a:r>
              <a:rPr b="1" lang="en-US" sz="2000" spc="-1" strike="noStrike" baseline="30000">
                <a:solidFill>
                  <a:srgbClr val="ffff00"/>
                </a:solidFill>
                <a:latin typeface="Times New Roman"/>
              </a:rPr>
              <a:t>th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–12</a:t>
            </a:r>
            <a:r>
              <a:rPr b="1" lang="en-US" sz="2000" spc="-1" strike="noStrike" baseline="30000">
                <a:solidFill>
                  <a:srgbClr val="ffff00"/>
                </a:solidFill>
                <a:latin typeface="Times New Roman"/>
              </a:rPr>
              <a:t>th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cranial nerve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ticular formation: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s an irregular mass of cell and fibres that extend up into     the pons and down into the spinal cord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ells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rdiac and respiratory centers 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omiting center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emoreceptor trigger zone communicate with the cardiac and respiratory centers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629400" y="380880"/>
            <a:ext cx="1519200" cy="91440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edul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9" dur="2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" dur="2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" dur="2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5" dur="20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Hindbrain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20570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9900"/>
                </a:solidFill>
                <a:uFillTx/>
                <a:latin typeface="Times New Roman"/>
              </a:rPr>
              <a:t>Cerebellum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ccupy the posterior cranial fossa posterior to the pons and medull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ist of two hemisphere united in the midline by the vermis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ch hemisphere consist of a small anterior and a large posterior lobe separated by shallow groove, primary fissur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nected to the midbrain, pons and medulla by the superior, middle and inferior cerebellar peduncl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629400" y="380880"/>
            <a:ext cx="1828800" cy="114300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erebellum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7080" y="609120"/>
            <a:ext cx="36068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Hindbrain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8960" y="205740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9900"/>
                </a:solidFill>
                <a:uFillTx/>
                <a:latin typeface="Times New Roman"/>
              </a:rPr>
              <a:t>Structure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rface layer is the cortex of grey cells, with white matter internal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ortex is thrown into folds or folia, separated by transverse fissur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entate nucleus is a mass of grey matt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trol of muscle tone and co-ordination of muscle movement on the same side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0" y="838080"/>
            <a:ext cx="1828800" cy="114300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erebellum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0T09:07:19Z</dcterms:created>
  <dc:creator>Dr Abdin</dc:creator>
  <dc:description/>
  <dc:language>en-US</dc:language>
  <cp:lastModifiedBy>Helabdin</cp:lastModifiedBy>
  <dcterms:modified xsi:type="dcterms:W3CDTF">2004-12-10T08:15:32Z</dcterms:modified>
  <cp:revision>66</cp:revision>
  <dc:subject/>
  <dc:title>The Brain and the  Spinal cord </dc:title>
</cp:coreProperties>
</file>