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6480"/>
            <a:ext cx="9118080" cy="6832440"/>
            <a:chOff x="6480" y="6480"/>
            <a:chExt cx="9118080" cy="6832440"/>
          </a:xfrm>
        </p:grpSpPr>
        <p:grpSp>
          <p:nvGrpSpPr>
            <p:cNvPr id="3" name=""/>
            <p:cNvGrpSpPr/>
            <p:nvPr/>
          </p:nvGrpSpPr>
          <p:grpSpPr>
            <a:xfrm>
              <a:off x="6480" y="5340240"/>
              <a:ext cx="673920" cy="673200"/>
              <a:chOff x="6480" y="5340240"/>
              <a:chExt cx="673920" cy="673200"/>
            </a:xfrm>
          </p:grpSpPr>
          <p:sp>
            <p:nvSpPr>
              <p:cNvPr id="4" name=""/>
              <p:cNvSpPr/>
              <p:nvPr/>
            </p:nvSpPr>
            <p:spPr>
              <a:xfrm>
                <a:off x="6480" y="5340240"/>
                <a:ext cx="673920" cy="6732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8400" y="5492880"/>
                <a:ext cx="101160" cy="997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539640" y="5873760"/>
              <a:ext cx="293040" cy="291960"/>
              <a:chOff x="539640" y="5873760"/>
              <a:chExt cx="293040" cy="291960"/>
            </a:xfrm>
          </p:grpSpPr>
          <p:sp>
            <p:nvSpPr>
              <p:cNvPr id="7" name=""/>
              <p:cNvSpPr/>
              <p:nvPr/>
            </p:nvSpPr>
            <p:spPr>
              <a:xfrm>
                <a:off x="539640" y="5873760"/>
                <a:ext cx="293040" cy="29196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05520" y="594036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1760" y="6039000"/>
              <a:ext cx="445680" cy="444240"/>
              <a:chOff x="131760" y="6039000"/>
              <a:chExt cx="445680" cy="444240"/>
            </a:xfrm>
          </p:grpSpPr>
          <p:sp>
            <p:nvSpPr>
              <p:cNvPr id="10" name=""/>
              <p:cNvSpPr/>
              <p:nvPr/>
            </p:nvSpPr>
            <p:spPr>
              <a:xfrm>
                <a:off x="131760" y="6039000"/>
                <a:ext cx="445680" cy="44424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3280" y="6140520"/>
                <a:ext cx="63000" cy="619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476440" y="6470640"/>
              <a:ext cx="369360" cy="368280"/>
              <a:chOff x="2476440" y="6470640"/>
              <a:chExt cx="369360" cy="368280"/>
            </a:xfrm>
          </p:grpSpPr>
          <p:sp>
            <p:nvSpPr>
              <p:cNvPr id="13" name=""/>
              <p:cNvSpPr/>
              <p:nvPr/>
            </p:nvSpPr>
            <p:spPr>
              <a:xfrm>
                <a:off x="2476440" y="647064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559240" y="6554880"/>
                <a:ext cx="5184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480" y="4425840"/>
              <a:ext cx="369360" cy="368280"/>
              <a:chOff x="6480" y="4425840"/>
              <a:chExt cx="36936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6480" y="442584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0720" y="4510080"/>
                <a:ext cx="5184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558120" y="6102360"/>
              <a:ext cx="674280" cy="673200"/>
              <a:chOff x="6558120" y="6102360"/>
              <a:chExt cx="674280" cy="673200"/>
            </a:xfrm>
          </p:grpSpPr>
          <p:sp>
            <p:nvSpPr>
              <p:cNvPr id="19" name=""/>
              <p:cNvSpPr/>
              <p:nvPr/>
            </p:nvSpPr>
            <p:spPr>
              <a:xfrm>
                <a:off x="6558120" y="6102360"/>
                <a:ext cx="674280" cy="67320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710400" y="6254640"/>
                <a:ext cx="101160" cy="1000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177600" y="6407280"/>
              <a:ext cx="369360" cy="368280"/>
              <a:chOff x="6177600" y="6407280"/>
              <a:chExt cx="369360" cy="368280"/>
            </a:xfrm>
          </p:grpSpPr>
          <p:sp>
            <p:nvSpPr>
              <p:cNvPr id="22" name=""/>
              <p:cNvSpPr/>
              <p:nvPr/>
            </p:nvSpPr>
            <p:spPr>
              <a:xfrm>
                <a:off x="6177600" y="640728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261840" y="6491160"/>
                <a:ext cx="5220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7244280" y="6102360"/>
              <a:ext cx="369360" cy="368280"/>
              <a:chOff x="7244280" y="6102360"/>
              <a:chExt cx="36936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7244280" y="610236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328520" y="6186600"/>
                <a:ext cx="5184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8602560" y="1808280"/>
              <a:ext cx="522000" cy="520560"/>
              <a:chOff x="8602560" y="1808280"/>
              <a:chExt cx="522000" cy="520560"/>
            </a:xfrm>
          </p:grpSpPr>
          <p:sp>
            <p:nvSpPr>
              <p:cNvPr id="28" name=""/>
              <p:cNvSpPr/>
              <p:nvPr/>
            </p:nvSpPr>
            <p:spPr>
              <a:xfrm>
                <a:off x="8602560" y="1808280"/>
                <a:ext cx="522000" cy="52056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720640" y="1927080"/>
                <a:ext cx="76320" cy="748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91480" y="2521080"/>
              <a:ext cx="217080" cy="215640"/>
              <a:chOff x="8691480" y="2521080"/>
              <a:chExt cx="217080" cy="215640"/>
            </a:xfrm>
          </p:grpSpPr>
          <p:sp>
            <p:nvSpPr>
              <p:cNvPr id="31" name=""/>
              <p:cNvSpPr/>
              <p:nvPr/>
            </p:nvSpPr>
            <p:spPr>
              <a:xfrm>
                <a:off x="8691480" y="2521080"/>
                <a:ext cx="217080" cy="21564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42240" y="2571840"/>
                <a:ext cx="26280" cy="2520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1377720" y="6480"/>
              <a:ext cx="521640" cy="520560"/>
              <a:chOff x="1377720" y="6480"/>
              <a:chExt cx="521640" cy="520560"/>
            </a:xfrm>
          </p:grpSpPr>
          <p:sp>
            <p:nvSpPr>
              <p:cNvPr id="34" name=""/>
              <p:cNvSpPr/>
              <p:nvPr/>
            </p:nvSpPr>
            <p:spPr>
              <a:xfrm>
                <a:off x="1377720" y="6480"/>
                <a:ext cx="521640" cy="52056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94720" y="123840"/>
                <a:ext cx="77400" cy="7632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910880" y="158760"/>
              <a:ext cx="369360" cy="368280"/>
              <a:chOff x="1910880" y="158760"/>
              <a:chExt cx="369360" cy="368280"/>
            </a:xfrm>
          </p:grpSpPr>
          <p:sp>
            <p:nvSpPr>
              <p:cNvPr id="37" name=""/>
              <p:cNvSpPr/>
              <p:nvPr/>
            </p:nvSpPr>
            <p:spPr>
              <a:xfrm>
                <a:off x="1910880" y="158760"/>
                <a:ext cx="369360" cy="368280"/>
              </a:xfrm>
              <a:prstGeom prst="ellipse">
                <a:avLst/>
              </a:prstGeom>
              <a:noFill/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995120" y="243000"/>
                <a:ext cx="52200" cy="5076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The Brain &amp; The Spinal Cor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143000"/>
            <a:ext cx="3505320" cy="4572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- The br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- The Meni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ura Ma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achinoid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ia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- The fore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4- The Hind 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II- The spinal 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819520"/>
            <a:ext cx="2819160" cy="213336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3- Mid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he fourth ventricl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 cavity of the hindbrain and bounded in front by the pons and medulla and from behind by the cerebellum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connected above to the third ventricle by the cerebral aqueduct, and below it is continuous with central canal of the spinal cord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ommunicate with subarachnoid space by three openings in the lower part of the roof, a median and two lateral opening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The Brain &amp; The Spinal Cor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447920"/>
            <a:ext cx="3276360" cy="4267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- The br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1- The Meni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ura Ma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rachinoid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ia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2- The fore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3- Mid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4- The Hind 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2057400"/>
            <a:ext cx="3733920" cy="28195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II- The spinal 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spinal cor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ylindrical in shape, begins at the foramen magnum and terminate inferiorly at the lower border of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umber vertebra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ed by the three meninges, Dura, Arachnoid and Pia matte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F fills the Subarachnoid space, add protectio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 pairs of spinal nerves are attached to the spinal cord by an anterior (motor) and posteri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nsory) roo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spinal cor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cont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Structure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 of a central mass of grey matter surrounding a central canal, a downward continuation of the fourth ventricle, enclosed in a cylindrical mass of white matte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terior fissure and the posterior septum divide the cord into two halv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h the grey &amp; white matter are divided into anterior, lateral and posterior horns &amp; columns of cells and fibr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he spinal cor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(cont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Grey matt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-shaped, enlarged in the cervical and lumbosacral region due to increase in the number of the cells in the anterior horn roo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White matter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 three types of fibres, ascending, descending and intersegmental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idbrai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nect the diencephalon to the pons and lies in the posterior cranial fossa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ist of right and left halves each forming the cerebral peduncle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vided into ventral and dorsal part with a narrow cavity running through the dorsal part, th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queduc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2008080"/>
            <a:ext cx="47242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The Brain &amp; The Spinal Cor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447920"/>
            <a:ext cx="3276360" cy="4190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I- The bra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- The Meni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ura Ma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achinoid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ia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- The fore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- Mid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II_ The spinal 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600200"/>
            <a:ext cx="4191120" cy="40384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4- The Hind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Medu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Cerebel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he Pon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e on the anterior surface of the cerebellum below the midbrain and above the medull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b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ed mainly of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rve fibres connecting the two halves of the cerebellu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cending and descending fibres connecting the forebrain, midbrain and spinal co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he sensory and motor roots of the 5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cranial ner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3911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erve as relay stations while others form cranial nerve nuclei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ntine nuclei, relay station in the ventral surfa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 8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cranial nerves nuclei, dorsal pa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igeminal, abducent, facial, vestibulotrochlea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Motor nucleus of the 5</a:t>
            </a:r>
            <a:r>
              <a:rPr b="1" lang="en-US" sz="20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nerve, upper p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nsory nucleus of the 5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nerve lateral to the moto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ior salivary nuclei (Parasympathetic), fibres join nervus intermediu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erior salivary nucleus, fibres join glossopharyngeal 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380880"/>
            <a:ext cx="2133720" cy="16002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Medulla</a:t>
            </a:r>
            <a:r>
              <a:rPr b="0" i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 oblongata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ical in shape and lie vertically connecting the Pons to the spinal cord, passes through foramen magn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yram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deep groove in the midline on the ventral surface, contain the corticospinal fibre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l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vex structure, lateral to the pyramid, contain the inferior salivary nucle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ferior cerebellar pedunc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hind  the olive, connect the medulla to the cerebellum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80880"/>
            <a:ext cx="1519200" cy="9144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cleu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1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cranial nerv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cular formation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an irregular mass of cell and fibres that extend up into     the pons and down into the spinal co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ell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diac and respiratory centers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miting cent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moreceptor trigger zone communicate with the cardiac and respiratory center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80880"/>
            <a:ext cx="1519200" cy="9144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du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Cerebellum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py the posterior cranial fossa posterior to the pons and medull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st of two hemisphere united in the midline by the verm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hemisphere consist of a small anterior and a large posterior lobe separated by shallow groove, primary fiss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ed to the midbrain, pons and medulla by the superior, middle and inferior cerebellar pedunc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380880"/>
            <a:ext cx="1828800" cy="11430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ebell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7080" y="609120"/>
            <a:ext cx="3606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indbr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Structur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layer is the cortex of grey cells, with white matter interna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rtex is thrown into folds or folia, separated by transverse fiss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ntate nucleus is a mass of grey mat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muscle tone and co-ordination of muscle movement on the same sid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838080"/>
            <a:ext cx="1828800" cy="114300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ebellu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09:07:19Z</dcterms:created>
  <dc:creator>Dr Abdin</dc:creator>
  <dc:description/>
  <dc:language>en-US</dc:language>
  <cp:lastModifiedBy>Helabdin</cp:lastModifiedBy>
  <dcterms:modified xsi:type="dcterms:W3CDTF">2004-12-10T08:15:32Z</dcterms:modified>
  <cp:revision>66</cp:revision>
  <dc:subject/>
  <dc:title>The Brain and the  Spinal cord </dc:title>
</cp:coreProperties>
</file>