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603A-AE0B-4C39-9808-1658FC10B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4440" y="37936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D7ED-BE23-4E89-9404-CB075F79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0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8535-D328-4A07-BFB5-087DCF5E6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5108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772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1444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5108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772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0885-2F61-4306-9D62-8E7334665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E3AF-A0A0-4653-827D-1E117FB00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4B1B-C4C4-4681-A02F-24675F0F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5CC7-BF3D-46B7-9610-F9FBEDC9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EE3A-5AEA-43B1-8CA8-A459501C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C495E-6654-4154-AF87-E8CE7561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14440" y="685440"/>
            <a:ext cx="779760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3152-D969-4483-9C75-2D3280A5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D5A9-62BA-48BC-8D92-21101338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7D75-7B46-4869-BA84-188BD711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0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6185-9BC1-499E-8C91-A0419C3F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2BEE-276B-446F-B8FA-A3B5E2A1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4440" y="37936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66EB-1492-4789-97BF-7F66A832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0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F0DC-FDFD-4E1C-919B-3B41D6E56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5108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772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1444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5108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772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532BA-9E8E-443B-AA53-DFBBFFB86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69681-578C-4321-9A2D-D46D99B2A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E204D-7713-441B-A335-7FD360B2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620B9-6220-4602-8B6A-88E00A81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3A0EE-39A0-425C-8CBA-03C1BAD8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45802-A467-406A-8890-7EBD0E2B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C10B-779B-4FF7-A5FA-EE438EA7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514440" y="685440"/>
            <a:ext cx="779760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BB555-17A7-4519-808C-62BA41BF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9D80A-7AC9-4941-BB96-F643B358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10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14D98-7696-4580-8FC9-1D21D132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4A6CB-7A1C-4294-9355-251852F7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4440" y="37936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98677-7A58-4E4A-9685-4385A631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10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A3077-BE3F-41B1-B818-C93D25631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15108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78772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1444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15108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578772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6D2CA-90E0-41AA-A86A-CA2397AFD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F7B63-7330-4D5F-AB5F-973F5824E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20A5C-657C-424D-A747-84DC45DB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C586A-5E73-4AE8-BCFF-FE672007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2973-0A85-461A-8CBF-FD4CDA86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18F8B-7D16-4875-BCAB-A3AD086C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E45D7-8C83-4AB9-B215-0F03DF18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14440" y="685440"/>
            <a:ext cx="779760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83DDE-137B-4292-8CD4-834F7D8B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0A807-9E32-4F94-AE10-4FAA5DBA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10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187A9-77A9-4A24-A919-8FD0279F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4900B-112A-4314-B340-DBC832D2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4440" y="37936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F862B-0CF0-4D2F-A8E3-136EE3A7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10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E448C-B3ED-4D93-B401-076B3C87F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5108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78772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1444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5108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78772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E63B9-0F7E-4374-80AE-CE1552D51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39E7-FDFB-4E26-9FCE-657FE793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14440" y="685440"/>
            <a:ext cx="779760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44FB-6E22-47D8-A7EB-7D893B5E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5F12-9A56-4A8E-B010-E88C9D4D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0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638B-9BDC-44EF-8F58-3253FCC1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F723-2FF4-4C63-BBD9-CB5A3008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rickwork-SD-R1acrop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9"/>
          <p:cNvGrpSpPr/>
          <p:nvPr/>
        </p:nvGrpSpPr>
        <p:grpSpPr>
          <a:xfrm>
            <a:off x="-19080" y="0"/>
            <a:ext cx="9004320" cy="6643800"/>
            <a:chOff x="-19080" y="0"/>
            <a:chExt cx="9004320" cy="6643800"/>
          </a:xfrm>
        </p:grpSpPr>
        <p:grpSp>
          <p:nvGrpSpPr>
            <p:cNvPr id="2" name="Rectangle 10"/>
            <p:cNvGrpSpPr/>
            <p:nvPr/>
          </p:nvGrpSpPr>
          <p:grpSpPr>
            <a:xfrm>
              <a:off x="-19080" y="0"/>
              <a:ext cx="9004320" cy="6643800"/>
              <a:chOff x="-19080" y="0"/>
              <a:chExt cx="9004320" cy="6643800"/>
            </a:xfrm>
          </p:grpSpPr>
          <p:pic>
            <p:nvPicPr>
              <p:cNvPr id="3" name="Rectangle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19080" y="0"/>
                <a:ext cx="9004320" cy="664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8320" y="29520"/>
                <a:ext cx="8807040" cy="644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Rectangle 12"/>
            <p:cNvGrpSpPr/>
            <p:nvPr/>
          </p:nvGrpSpPr>
          <p:grpSpPr>
            <a:xfrm>
              <a:off x="58320" y="5461920"/>
              <a:ext cx="8604000" cy="756360"/>
              <a:chOff x="58320" y="5461920"/>
              <a:chExt cx="8604000" cy="756360"/>
            </a:xfrm>
          </p:grpSpPr>
          <p:pic>
            <p:nvPicPr>
              <p:cNvPr id="6" name="Rectangle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58320" y="5464080"/>
                <a:ext cx="8602200" cy="75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" name=""/>
              <p:cNvSpPr/>
              <p:nvPr/>
            </p:nvSpPr>
            <p:spPr>
              <a:xfrm>
                <a:off x="58320" y="5461920"/>
                <a:ext cx="8604000" cy="75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Freeform 11"/>
            <p:cNvSpPr/>
            <p:nvPr/>
          </p:nvSpPr>
          <p:spPr>
            <a:xfrm>
              <a:off x="39600" y="29520"/>
              <a:ext cx="8654400" cy="6225120"/>
            </a:xfrm>
            <a:custGeom>
              <a:avLst/>
              <a:gdLst/>
              <a:ahLst/>
              <a:rect l="l" t="t" r="r" b="b"/>
              <a:pathLst>
                <a:path w="11773291" h="6419514">
                  <a:moveTo>
                    <a:pt x="11750059" y="0"/>
                  </a:moveTo>
                  <a:lnTo>
                    <a:pt x="11773291" y="6419514"/>
                  </a:lnTo>
                  <a:lnTo>
                    <a:pt x="0" y="6411047"/>
                  </a:lnTo>
                </a:path>
              </a:pathLst>
            </a:custGeom>
            <a:noFill/>
            <a:ln w="82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80e0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6000"/>
          </a:bodyPr>
          <a:p>
            <a:pPr marL="21924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65808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2" marL="109728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53612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97496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974960" indent="-219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974960" indent="-219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473800" y="5757480"/>
            <a:ext cx="2838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514440" y="5757480"/>
            <a:ext cx="41241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4714920" y="5757480"/>
            <a:ext cx="6811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5c070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23F7-B5D0-4EC6-A490-1AB81BA07407}" type="slidenum">
              <a:rPr b="0" lang="en-US" sz="2800" spc="-1" strike="noStrike">
                <a:solidFill>
                  <a:srgbClr val="5c0708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3" descr="Brickwork-SD-R1acrop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1" name="Freeform 14"/>
          <p:cNvGrpSpPr/>
          <p:nvPr/>
        </p:nvGrpSpPr>
        <p:grpSpPr>
          <a:xfrm>
            <a:off x="-85680" y="-49320"/>
            <a:ext cx="8955000" cy="6662880"/>
            <a:chOff x="-85680" y="-49320"/>
            <a:chExt cx="8955000" cy="6662880"/>
          </a:xfrm>
        </p:grpSpPr>
        <p:pic>
          <p:nvPicPr>
            <p:cNvPr id="52" name="Freeform 14" descr=""/>
            <p:cNvPicPr/>
            <p:nvPr/>
          </p:nvPicPr>
          <p:blipFill>
            <a:blip r:embed="rId4"/>
            <a:stretch/>
          </p:blipFill>
          <p:spPr>
            <a:xfrm>
              <a:off x="-85680" y="-49320"/>
              <a:ext cx="8955000" cy="666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-7920" y="-17640"/>
              <a:ext cx="8753400" cy="645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Freeform 15"/>
          <p:cNvGrpSpPr/>
          <p:nvPr/>
        </p:nvGrpSpPr>
        <p:grpSpPr>
          <a:xfrm>
            <a:off x="-12600" y="4443480"/>
            <a:ext cx="8467560" cy="1719360"/>
            <a:chOff x="-12600" y="4443480"/>
            <a:chExt cx="8467560" cy="1719360"/>
          </a:xfrm>
        </p:grpSpPr>
        <p:pic>
          <p:nvPicPr>
            <p:cNvPr id="55" name="Freeform 15" descr=""/>
            <p:cNvPicPr/>
            <p:nvPr/>
          </p:nvPicPr>
          <p:blipFill>
            <a:blip r:embed="rId5"/>
            <a:stretch/>
          </p:blipFill>
          <p:spPr>
            <a:xfrm>
              <a:off x="-12600" y="4443480"/>
              <a:ext cx="8467560" cy="17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-11160" y="4444920"/>
              <a:ext cx="8466120" cy="17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Freeform 16"/>
          <p:cNvGrpSpPr/>
          <p:nvPr/>
        </p:nvGrpSpPr>
        <p:grpSpPr>
          <a:xfrm>
            <a:off x="0" y="0"/>
            <a:ext cx="5810040" cy="324000"/>
            <a:chOff x="0" y="0"/>
            <a:chExt cx="5810040" cy="324000"/>
          </a:xfrm>
        </p:grpSpPr>
        <p:pic>
          <p:nvPicPr>
            <p:cNvPr id="58" name="Freeform 16" descr=""/>
            <p:cNvPicPr/>
            <p:nvPr/>
          </p:nvPicPr>
          <p:blipFill>
            <a:blip r:embed="rId6"/>
            <a:stretch/>
          </p:blipFill>
          <p:spPr>
            <a:xfrm>
              <a:off x="2880" y="0"/>
              <a:ext cx="5807160" cy="3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0" y="0"/>
              <a:ext cx="58086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Freeform 17"/>
          <p:cNvSpPr/>
          <p:nvPr/>
        </p:nvSpPr>
        <p:spPr>
          <a:xfrm rot="21420000">
            <a:off x="-171360" y="212400"/>
            <a:ext cx="8480160" cy="5746680"/>
          </a:xfrm>
          <a:custGeom>
            <a:avLst/>
            <a:gdLst/>
            <a:ahLst/>
            <a:rect l="l" t="t" r="r" b="b"/>
            <a:pathLst>
              <a:path w="11307378" h="5746008">
                <a:moveTo>
                  <a:pt x="11270997" y="0"/>
                </a:moveTo>
                <a:lnTo>
                  <a:pt x="11307378" y="5746008"/>
                </a:lnTo>
                <a:lnTo>
                  <a:pt x="1" y="5743137"/>
                </a:lnTo>
              </a:path>
            </a:pathLst>
          </a:custGeom>
          <a:noFill/>
          <a:ln w="82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5-Point Star 18"/>
          <p:cNvSpPr/>
          <p:nvPr/>
        </p:nvSpPr>
        <p:spPr>
          <a:xfrm rot="21420000">
            <a:off x="3122640" y="5057280"/>
            <a:ext cx="514440" cy="514440"/>
          </a:xfrm>
          <a:custGeom>
            <a:avLst/>
            <a:gdLst/>
            <a:ahLst/>
            <a:rect l="l" t="t" r="r" b="b"/>
            <a:pathLst>
              <a:path w="514350" h="514350">
                <a:moveTo>
                  <a:pt x="1" y="196464"/>
                </a:moveTo>
                <a:lnTo>
                  <a:pt x="172322" y="161524"/>
                </a:lnTo>
                <a:lnTo>
                  <a:pt x="257175" y="0"/>
                </a:lnTo>
                <a:lnTo>
                  <a:pt x="342028" y="161524"/>
                </a:lnTo>
                <a:lnTo>
                  <a:pt x="514349" y="196464"/>
                </a:lnTo>
                <a:lnTo>
                  <a:pt x="394470" y="331231"/>
                </a:lnTo>
                <a:lnTo>
                  <a:pt x="416118" y="514349"/>
                </a:lnTo>
                <a:lnTo>
                  <a:pt x="257175" y="436115"/>
                </a:lnTo>
                <a:lnTo>
                  <a:pt x="98232" y="514349"/>
                </a:lnTo>
                <a:lnTo>
                  <a:pt x="119880" y="331231"/>
                </a:lnTo>
                <a:lnTo>
                  <a:pt x="1" y="196464"/>
                </a:lnTo>
                <a:close/>
              </a:path>
            </a:pathLst>
          </a:cu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80e0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6000"/>
          </a:bodyPr>
          <a:p>
            <a:pPr marL="21924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65808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2" marL="109728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53612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97496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974960" indent="-219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974960" indent="-219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 rot="21420000">
            <a:off x="3668040" y="4714560"/>
            <a:ext cx="46083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 rot="21420000">
            <a:off x="-12600" y="4954320"/>
            <a:ext cx="29876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 rot="21420000">
            <a:off x="7400520" y="3819240"/>
            <a:ext cx="6811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FCBC-F7D7-452A-B113-2BE2BAA5BF13}" type="slidenum"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Brickwork-SD-R1acrop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 9"/>
          <p:cNvGrpSpPr/>
          <p:nvPr/>
        </p:nvGrpSpPr>
        <p:grpSpPr>
          <a:xfrm>
            <a:off x="-19080" y="0"/>
            <a:ext cx="9004320" cy="6643800"/>
            <a:chOff x="-19080" y="0"/>
            <a:chExt cx="9004320" cy="6643800"/>
          </a:xfrm>
        </p:grpSpPr>
        <p:grpSp>
          <p:nvGrpSpPr>
            <p:cNvPr id="105" name="Rectangle 10"/>
            <p:cNvGrpSpPr/>
            <p:nvPr/>
          </p:nvGrpSpPr>
          <p:grpSpPr>
            <a:xfrm>
              <a:off x="-19080" y="0"/>
              <a:ext cx="9004320" cy="6643800"/>
              <a:chOff x="-19080" y="0"/>
              <a:chExt cx="9004320" cy="6643800"/>
            </a:xfrm>
          </p:grpSpPr>
          <p:pic>
            <p:nvPicPr>
              <p:cNvPr id="106" name="Rectangle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19080" y="0"/>
                <a:ext cx="9004320" cy="664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8320" y="29520"/>
                <a:ext cx="8807040" cy="644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Rectangle 12"/>
            <p:cNvGrpSpPr/>
            <p:nvPr/>
          </p:nvGrpSpPr>
          <p:grpSpPr>
            <a:xfrm>
              <a:off x="58320" y="5461920"/>
              <a:ext cx="8604000" cy="756360"/>
              <a:chOff x="58320" y="5461920"/>
              <a:chExt cx="8604000" cy="756360"/>
            </a:xfrm>
          </p:grpSpPr>
          <p:pic>
            <p:nvPicPr>
              <p:cNvPr id="109" name="Rectangle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58320" y="5464080"/>
                <a:ext cx="8602200" cy="75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58320" y="5461920"/>
                <a:ext cx="8604000" cy="75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Freeform 11"/>
            <p:cNvSpPr/>
            <p:nvPr/>
          </p:nvSpPr>
          <p:spPr>
            <a:xfrm>
              <a:off x="39600" y="29520"/>
              <a:ext cx="8654400" cy="6225120"/>
            </a:xfrm>
            <a:custGeom>
              <a:avLst/>
              <a:gdLst/>
              <a:ahLst/>
              <a:rect l="l" t="t" r="r" b="b"/>
              <a:pathLst>
                <a:path w="11773291" h="6419514">
                  <a:moveTo>
                    <a:pt x="11750059" y="0"/>
                  </a:moveTo>
                  <a:lnTo>
                    <a:pt x="11773291" y="6419514"/>
                  </a:lnTo>
                  <a:lnTo>
                    <a:pt x="0" y="6411047"/>
                  </a:lnTo>
                </a:path>
              </a:pathLst>
            </a:custGeom>
            <a:noFill/>
            <a:ln w="82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80e0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6000"/>
          </a:bodyPr>
          <a:p>
            <a:pPr marL="21924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65808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2" marL="109728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53612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97496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974960" indent="-219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974960" indent="-219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5473800" y="5757480"/>
            <a:ext cx="2838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514440" y="5757480"/>
            <a:ext cx="41241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5c070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4714920" y="5757480"/>
            <a:ext cx="6811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5c070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B84D-1A6E-4472-BB28-58F425D2956A}" type="slidenum">
              <a:rPr b="0" lang="en-US" sz="2800" spc="-1" strike="noStrike">
                <a:solidFill>
                  <a:srgbClr val="5c0708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7" descr="Brickwork-SD-R1acrop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4" name="Group 9"/>
          <p:cNvGrpSpPr/>
          <p:nvPr/>
        </p:nvGrpSpPr>
        <p:grpSpPr>
          <a:xfrm>
            <a:off x="-19080" y="0"/>
            <a:ext cx="9004320" cy="6643800"/>
            <a:chOff x="-19080" y="0"/>
            <a:chExt cx="9004320" cy="6643800"/>
          </a:xfrm>
        </p:grpSpPr>
        <p:grpSp>
          <p:nvGrpSpPr>
            <p:cNvPr id="155" name="Rectangle 10"/>
            <p:cNvGrpSpPr/>
            <p:nvPr/>
          </p:nvGrpSpPr>
          <p:grpSpPr>
            <a:xfrm>
              <a:off x="-19080" y="0"/>
              <a:ext cx="9004320" cy="6643800"/>
              <a:chOff x="-19080" y="0"/>
              <a:chExt cx="9004320" cy="6643800"/>
            </a:xfrm>
          </p:grpSpPr>
          <p:pic>
            <p:nvPicPr>
              <p:cNvPr id="156" name="Rectangle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19080" y="0"/>
                <a:ext cx="9004320" cy="664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"/>
              <p:cNvSpPr/>
              <p:nvPr/>
            </p:nvSpPr>
            <p:spPr>
              <a:xfrm>
                <a:off x="58320" y="29520"/>
                <a:ext cx="8807040" cy="644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Rectangle 12"/>
            <p:cNvGrpSpPr/>
            <p:nvPr/>
          </p:nvGrpSpPr>
          <p:grpSpPr>
            <a:xfrm>
              <a:off x="58320" y="5461920"/>
              <a:ext cx="8604000" cy="756360"/>
              <a:chOff x="58320" y="5461920"/>
              <a:chExt cx="8604000" cy="756360"/>
            </a:xfrm>
          </p:grpSpPr>
          <p:pic>
            <p:nvPicPr>
              <p:cNvPr id="159" name="Rectangle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58320" y="5464080"/>
                <a:ext cx="8602200" cy="75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>
                <a:off x="58320" y="5461920"/>
                <a:ext cx="8604000" cy="75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Freeform 11"/>
            <p:cNvSpPr/>
            <p:nvPr/>
          </p:nvSpPr>
          <p:spPr>
            <a:xfrm>
              <a:off x="39600" y="29520"/>
              <a:ext cx="8654400" cy="6225120"/>
            </a:xfrm>
            <a:custGeom>
              <a:avLst/>
              <a:gdLst/>
              <a:ahLst/>
              <a:rect l="l" t="t" r="r" b="b"/>
              <a:pathLst>
                <a:path w="11773291" h="6419514">
                  <a:moveTo>
                    <a:pt x="11750059" y="0"/>
                  </a:moveTo>
                  <a:lnTo>
                    <a:pt x="11773291" y="6419514"/>
                  </a:lnTo>
                  <a:lnTo>
                    <a:pt x="0" y="6411047"/>
                  </a:lnTo>
                </a:path>
              </a:pathLst>
            </a:custGeom>
            <a:noFill/>
            <a:ln w="82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TextBox 13"/>
          <p:cNvSpPr/>
          <p:nvPr/>
        </p:nvSpPr>
        <p:spPr>
          <a:xfrm>
            <a:off x="404640" y="88740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Box 14"/>
          <p:cNvSpPr/>
          <p:nvPr/>
        </p:nvSpPr>
        <p:spPr>
          <a:xfrm>
            <a:off x="7897680" y="2906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80e0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6000"/>
          </a:bodyPr>
          <a:p>
            <a:pPr marL="21924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65808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2" marL="109728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53612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97496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974960" indent="-219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974960" indent="-219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5473800" y="5757480"/>
            <a:ext cx="2838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514440" y="5757480"/>
            <a:ext cx="41241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4714920" y="5757480"/>
            <a:ext cx="6811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5c070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F82C-6CD6-4E49-BF92-EF095AD8217C}" type="slidenum">
              <a:rPr b="0" lang="en-US" sz="2800" spc="-1" strike="noStrike">
                <a:solidFill>
                  <a:srgbClr val="5c0708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22093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phingolipids and Myelin Structure</a:t>
            </a:r>
            <a:endParaRPr b="0" lang="en-US" sz="4000" spc="-1" strike="noStrike">
              <a:solidFill>
                <a:srgbClr val="b80e0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eramide</a:t>
            </a:r>
            <a:endParaRPr b="0" lang="en-US" sz="36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235" name="TextBox 3"/>
          <p:cNvSpPr/>
          <p:nvPr/>
        </p:nvSpPr>
        <p:spPr>
          <a:xfrm>
            <a:off x="380880" y="1576440"/>
            <a:ext cx="8305920" cy="37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ami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phingosine  +  Fatty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chain fatty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Group 16"/>
          <p:cNvGrpSpPr/>
          <p:nvPr/>
        </p:nvGrpSpPr>
        <p:grpSpPr>
          <a:xfrm>
            <a:off x="1696680" y="2509920"/>
            <a:ext cx="6202800" cy="2364840"/>
            <a:chOff x="1696680" y="2509920"/>
            <a:chExt cx="6202800" cy="2364840"/>
          </a:xfrm>
        </p:grpSpPr>
        <p:sp>
          <p:nvSpPr>
            <p:cNvPr id="237" name="TextBox 7"/>
            <p:cNvSpPr/>
            <p:nvPr/>
          </p:nvSpPr>
          <p:spPr>
            <a:xfrm>
              <a:off x="1696680" y="2509920"/>
              <a:ext cx="620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(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CH     CH     CH    CH 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Straight Connector 18"/>
            <p:cNvSpPr/>
            <p:nvPr/>
          </p:nvSpPr>
          <p:spPr>
            <a:xfrm>
              <a:off x="2301840" y="2738520"/>
              <a:ext cx="2286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Straight Connector 19"/>
            <p:cNvSpPr/>
            <p:nvPr/>
          </p:nvSpPr>
          <p:spPr>
            <a:xfrm>
              <a:off x="4221000" y="2754360"/>
              <a:ext cx="2286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Straight Connector 20"/>
            <p:cNvSpPr/>
            <p:nvPr/>
          </p:nvSpPr>
          <p:spPr>
            <a:xfrm>
              <a:off x="4221000" y="2708280"/>
              <a:ext cx="2286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Straight Connector 21"/>
            <p:cNvSpPr/>
            <p:nvPr/>
          </p:nvSpPr>
          <p:spPr>
            <a:xfrm>
              <a:off x="3505320" y="2738520"/>
              <a:ext cx="2286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Straight Connector 22"/>
            <p:cNvSpPr/>
            <p:nvPr/>
          </p:nvSpPr>
          <p:spPr>
            <a:xfrm>
              <a:off x="6553440" y="2768400"/>
              <a:ext cx="2286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Straight Connector 23"/>
            <p:cNvSpPr/>
            <p:nvPr/>
          </p:nvSpPr>
          <p:spPr>
            <a:xfrm>
              <a:off x="5807160" y="2768400"/>
              <a:ext cx="2286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Straight Connector 24"/>
            <p:cNvSpPr/>
            <p:nvPr/>
          </p:nvSpPr>
          <p:spPr>
            <a:xfrm>
              <a:off x="5029200" y="2768400"/>
              <a:ext cx="2286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Box 22"/>
            <p:cNvSpPr/>
            <p:nvPr/>
          </p:nvSpPr>
          <p:spPr>
            <a:xfrm>
              <a:off x="5278680" y="3144960"/>
              <a:ext cx="61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Straight Connector 26"/>
            <p:cNvSpPr/>
            <p:nvPr/>
          </p:nvSpPr>
          <p:spPr>
            <a:xfrm>
              <a:off x="5456160" y="2951280"/>
              <a:ext cx="0" cy="2286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Box 24"/>
            <p:cNvSpPr/>
            <p:nvPr/>
          </p:nvSpPr>
          <p:spPr>
            <a:xfrm>
              <a:off x="6024960" y="3149640"/>
              <a:ext cx="61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Straight Connector 28"/>
            <p:cNvSpPr/>
            <p:nvPr/>
          </p:nvSpPr>
          <p:spPr>
            <a:xfrm>
              <a:off x="6172200" y="2967120"/>
              <a:ext cx="0" cy="2286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Straight Connector 29"/>
            <p:cNvSpPr/>
            <p:nvPr/>
          </p:nvSpPr>
          <p:spPr>
            <a:xfrm>
              <a:off x="6172200" y="3576600"/>
              <a:ext cx="0" cy="2286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Box 16"/>
            <p:cNvSpPr/>
            <p:nvPr/>
          </p:nvSpPr>
          <p:spPr>
            <a:xfrm>
              <a:off x="5992200" y="37893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Straight Connector 31"/>
            <p:cNvSpPr/>
            <p:nvPr/>
          </p:nvSpPr>
          <p:spPr>
            <a:xfrm>
              <a:off x="6194520" y="4208760"/>
              <a:ext cx="0" cy="2286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Straight Connector 32"/>
            <p:cNvSpPr/>
            <p:nvPr/>
          </p:nvSpPr>
          <p:spPr>
            <a:xfrm>
              <a:off x="6156360" y="4216680"/>
              <a:ext cx="0" cy="2286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TextBox 28"/>
            <p:cNvSpPr/>
            <p:nvPr/>
          </p:nvSpPr>
          <p:spPr>
            <a:xfrm>
              <a:off x="5996520" y="44150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Straight Connector 34"/>
            <p:cNvSpPr/>
            <p:nvPr/>
          </p:nvSpPr>
          <p:spPr>
            <a:xfrm>
              <a:off x="5791320" y="4034160"/>
              <a:ext cx="2286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31"/>
            <p:cNvSpPr/>
            <p:nvPr/>
          </p:nvSpPr>
          <p:spPr>
            <a:xfrm>
              <a:off x="4864320" y="3800520"/>
              <a:ext cx="984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32"/>
            <p:cNvSpPr/>
            <p:nvPr/>
          </p:nvSpPr>
          <p:spPr>
            <a:xfrm>
              <a:off x="3974400" y="3821400"/>
              <a:ext cx="767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Straight Connector 37"/>
            <p:cNvSpPr/>
            <p:nvPr/>
          </p:nvSpPr>
          <p:spPr>
            <a:xfrm>
              <a:off x="4618080" y="4034160"/>
              <a:ext cx="2286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ounded Rectangular Callout 38"/>
            <p:cNvSpPr/>
            <p:nvPr/>
          </p:nvSpPr>
          <p:spPr>
            <a:xfrm>
              <a:off x="3962520" y="3699000"/>
              <a:ext cx="2971800" cy="114300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noFill/>
            <a:ln w="19080">
              <a:solidFill>
                <a:srgbClr val="8073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TextBox 27"/>
          <p:cNvSpPr/>
          <p:nvPr/>
        </p:nvSpPr>
        <p:spPr>
          <a:xfrm>
            <a:off x="116280" y="5638680"/>
            <a:ext cx="857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ramide play a key role in maintaining the skin’s water-permeability barri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reased ceramide levels are associated with a number of skin disea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hingomyelin</a:t>
            </a:r>
            <a:endParaRPr b="0" lang="en-US" sz="36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261" name="TextBox 3"/>
          <p:cNvSpPr/>
          <p:nvPr/>
        </p:nvSpPr>
        <p:spPr>
          <a:xfrm>
            <a:off x="380880" y="1576440"/>
            <a:ext cx="8305920" cy="38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hingomyel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eramide  +  Phosphorylcho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chain fatty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Group 39"/>
          <p:cNvGrpSpPr/>
          <p:nvPr/>
        </p:nvGrpSpPr>
        <p:grpSpPr>
          <a:xfrm>
            <a:off x="412560" y="2509920"/>
            <a:ext cx="8342280" cy="2364840"/>
            <a:chOff x="412560" y="2509920"/>
            <a:chExt cx="8342280" cy="2364840"/>
          </a:xfrm>
        </p:grpSpPr>
        <p:sp>
          <p:nvSpPr>
            <p:cNvPr id="263" name="TextBox 3"/>
            <p:cNvSpPr/>
            <p:nvPr/>
          </p:nvSpPr>
          <p:spPr>
            <a:xfrm>
              <a:off x="412560" y="2509920"/>
              <a:ext cx="5983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(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CH     CH    CH    CH 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Straight Connector 41"/>
            <p:cNvSpPr/>
            <p:nvPr/>
          </p:nvSpPr>
          <p:spPr>
            <a:xfrm>
              <a:off x="1006560" y="2738520"/>
              <a:ext cx="2286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Straight Connector 42"/>
            <p:cNvSpPr/>
            <p:nvPr/>
          </p:nvSpPr>
          <p:spPr>
            <a:xfrm>
              <a:off x="3035520" y="2754360"/>
              <a:ext cx="2286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Straight Connector 43"/>
            <p:cNvSpPr/>
            <p:nvPr/>
          </p:nvSpPr>
          <p:spPr>
            <a:xfrm>
              <a:off x="3032280" y="2692440"/>
              <a:ext cx="2286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Straight Connector 44"/>
            <p:cNvSpPr/>
            <p:nvPr/>
          </p:nvSpPr>
          <p:spPr>
            <a:xfrm>
              <a:off x="2209680" y="2738520"/>
              <a:ext cx="2286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Straight Connector 45"/>
            <p:cNvSpPr/>
            <p:nvPr/>
          </p:nvSpPr>
          <p:spPr>
            <a:xfrm>
              <a:off x="5257800" y="2768400"/>
              <a:ext cx="2286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Straight Connector 46"/>
            <p:cNvSpPr/>
            <p:nvPr/>
          </p:nvSpPr>
          <p:spPr>
            <a:xfrm>
              <a:off x="4511880" y="2768400"/>
              <a:ext cx="2286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Straight Connector 47"/>
            <p:cNvSpPr/>
            <p:nvPr/>
          </p:nvSpPr>
          <p:spPr>
            <a:xfrm>
              <a:off x="3810240" y="2768400"/>
              <a:ext cx="2286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TextBox 11"/>
            <p:cNvSpPr/>
            <p:nvPr/>
          </p:nvSpPr>
          <p:spPr>
            <a:xfrm>
              <a:off x="3983400" y="3144960"/>
              <a:ext cx="61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Straight Connector 49"/>
            <p:cNvSpPr/>
            <p:nvPr/>
          </p:nvSpPr>
          <p:spPr>
            <a:xfrm>
              <a:off x="4160880" y="2951280"/>
              <a:ext cx="0" cy="2286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Box 13"/>
            <p:cNvSpPr/>
            <p:nvPr/>
          </p:nvSpPr>
          <p:spPr>
            <a:xfrm>
              <a:off x="4729680" y="3149640"/>
              <a:ext cx="61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Straight Connector 51"/>
            <p:cNvSpPr/>
            <p:nvPr/>
          </p:nvSpPr>
          <p:spPr>
            <a:xfrm>
              <a:off x="4876920" y="2967120"/>
              <a:ext cx="0" cy="2286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Straight Connector 52"/>
            <p:cNvSpPr/>
            <p:nvPr/>
          </p:nvSpPr>
          <p:spPr>
            <a:xfrm>
              <a:off x="4876920" y="3576600"/>
              <a:ext cx="0" cy="2286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TextBox 16"/>
            <p:cNvSpPr/>
            <p:nvPr/>
          </p:nvSpPr>
          <p:spPr>
            <a:xfrm>
              <a:off x="4696920" y="37893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Straight Connector 54"/>
            <p:cNvSpPr/>
            <p:nvPr/>
          </p:nvSpPr>
          <p:spPr>
            <a:xfrm>
              <a:off x="4899240" y="4208760"/>
              <a:ext cx="0" cy="2286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Straight Connector 55"/>
            <p:cNvSpPr/>
            <p:nvPr/>
          </p:nvSpPr>
          <p:spPr>
            <a:xfrm>
              <a:off x="4846680" y="4200840"/>
              <a:ext cx="0" cy="2286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TextBox 19"/>
            <p:cNvSpPr/>
            <p:nvPr/>
          </p:nvSpPr>
          <p:spPr>
            <a:xfrm>
              <a:off x="4701240" y="44150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Straight Connector 57"/>
            <p:cNvSpPr/>
            <p:nvPr/>
          </p:nvSpPr>
          <p:spPr>
            <a:xfrm>
              <a:off x="4496040" y="4034160"/>
              <a:ext cx="2286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Rectangle 21"/>
            <p:cNvSpPr/>
            <p:nvPr/>
          </p:nvSpPr>
          <p:spPr>
            <a:xfrm>
              <a:off x="3568320" y="3800520"/>
              <a:ext cx="984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22"/>
            <p:cNvSpPr/>
            <p:nvPr/>
          </p:nvSpPr>
          <p:spPr>
            <a:xfrm>
              <a:off x="2678760" y="3821400"/>
              <a:ext cx="767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Straight Connector 60"/>
            <p:cNvSpPr/>
            <p:nvPr/>
          </p:nvSpPr>
          <p:spPr>
            <a:xfrm>
              <a:off x="3322800" y="4034160"/>
              <a:ext cx="2286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ounded Rectangular Callout 61"/>
            <p:cNvSpPr/>
            <p:nvPr/>
          </p:nvSpPr>
          <p:spPr>
            <a:xfrm>
              <a:off x="2666880" y="3699000"/>
              <a:ext cx="2971800" cy="114300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noFill/>
            <a:ln w="19080">
              <a:solidFill>
                <a:srgbClr val="8073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Straight Connector 62"/>
            <p:cNvSpPr/>
            <p:nvPr/>
          </p:nvSpPr>
          <p:spPr>
            <a:xfrm>
              <a:off x="6324840" y="2768400"/>
              <a:ext cx="2286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Box 63"/>
            <p:cNvSpPr/>
            <p:nvPr/>
          </p:nvSpPr>
          <p:spPr>
            <a:xfrm>
              <a:off x="6358320" y="2514600"/>
              <a:ext cx="239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Phosphorylchol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TextBox 2"/>
          <p:cNvSpPr/>
          <p:nvPr/>
        </p:nvSpPr>
        <p:spPr>
          <a:xfrm>
            <a:off x="929880" y="5786280"/>
            <a:ext cx="67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hingomyelin is the only significant sphingolipid in hum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erebrosides</a:t>
            </a:r>
            <a:endParaRPr b="0" lang="en-US" sz="36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289" name="TextBox 3"/>
          <p:cNvSpPr/>
          <p:nvPr/>
        </p:nvSpPr>
        <p:spPr>
          <a:xfrm>
            <a:off x="380880" y="1752480"/>
            <a:ext cx="8305920" cy="22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ebro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eramide  +  Monosacchar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Galactocerebro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2" descr="D:\Arun-Backup\project\Ferrier\Image_Bank\image_bank\images\jpg\figure_17.14.jpg"/>
          <p:cNvPicPr/>
          <p:nvPr/>
        </p:nvPicPr>
        <p:blipFill>
          <a:blip r:embed="rId1"/>
          <a:stretch/>
        </p:blipFill>
        <p:spPr>
          <a:xfrm>
            <a:off x="4265640" y="2270160"/>
            <a:ext cx="373536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Gangliosides</a:t>
            </a:r>
            <a:endParaRPr b="0" lang="en-US" sz="36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292" name="TextBox 3"/>
          <p:cNvSpPr/>
          <p:nvPr/>
        </p:nvSpPr>
        <p:spPr>
          <a:xfrm>
            <a:off x="380880" y="1828800"/>
            <a:ext cx="8305920" cy="28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nglio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eramide oligosacchar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Group 3"/>
          <p:cNvGrpSpPr/>
          <p:nvPr/>
        </p:nvGrpSpPr>
        <p:grpSpPr>
          <a:xfrm>
            <a:off x="6248520" y="1066680"/>
            <a:ext cx="2468520" cy="4480200"/>
            <a:chOff x="6248520" y="1066680"/>
            <a:chExt cx="2468520" cy="4480200"/>
          </a:xfrm>
        </p:grpSpPr>
        <p:pic>
          <p:nvPicPr>
            <p:cNvPr id="294" name="Picture 2" descr="D:\Arun-Backup\project\Ferrier\Image_Bank\image_bank\images\jpg\figure_17.15.jpg"/>
            <p:cNvPicPr/>
            <p:nvPr/>
          </p:nvPicPr>
          <p:blipFill>
            <a:blip r:embed="rId1"/>
            <a:stretch/>
          </p:blipFill>
          <p:spPr>
            <a:xfrm>
              <a:off x="6248520" y="1066680"/>
              <a:ext cx="2468520" cy="448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TextBox 2"/>
            <p:cNvSpPr/>
            <p:nvPr/>
          </p:nvSpPr>
          <p:spPr>
            <a:xfrm>
              <a:off x="7893720" y="5176080"/>
              <a:ext cx="61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(NANA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TextBox 2"/>
          <p:cNvSpPr/>
          <p:nvPr/>
        </p:nvSpPr>
        <p:spPr>
          <a:xfrm>
            <a:off x="609480" y="5638680"/>
            <a:ext cx="7802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G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M2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G=ganglioside; M=mono molecule of NANA; 2=the monomeric sequence of the carbohydrate attached to the ceram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hingolipids’ Synthesis</a:t>
            </a:r>
            <a:endParaRPr b="0" lang="en-US" sz="3600" spc="-1" strike="noStrike">
              <a:solidFill>
                <a:srgbClr val="b80e0f"/>
              </a:solidFill>
              <a:latin typeface="Impact"/>
            </a:endParaRPr>
          </a:p>
        </p:txBody>
      </p:sp>
      <p:pic>
        <p:nvPicPr>
          <p:cNvPr id="298" name="Picture 2" descr="D:\Arun-Backup\project\Ferrier\Image_Bank\image_bank\images\jpg\figure_17.18.jpg"/>
          <p:cNvPicPr/>
          <p:nvPr/>
        </p:nvPicPr>
        <p:blipFill>
          <a:blip r:embed="rId1"/>
          <a:stretch/>
        </p:blipFill>
        <p:spPr>
          <a:xfrm>
            <a:off x="152280" y="1951200"/>
            <a:ext cx="845028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yelin Structure</a:t>
            </a:r>
            <a:endParaRPr b="0" lang="en-US" sz="36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00" name="TextBox 3"/>
          <p:cNvSpPr/>
          <p:nvPr/>
        </p:nvSpPr>
        <p:spPr>
          <a:xfrm>
            <a:off x="380880" y="1752480"/>
            <a:ext cx="8305920" cy="36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yelin</a:t>
            </a:r>
            <a:r>
              <a:rPr b="0" lang="en-US" sz="24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specialized cell membrane that ensheathes an axon to form a myelinated nerve fi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yelin</a:t>
            </a:r>
            <a:r>
              <a:rPr b="0" lang="en-US" sz="24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produc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chwann cells:</a:t>
            </a:r>
            <a:r>
              <a:rPr b="0" lang="en-US" sz="20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Peripheral ner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ligodendrocytes:</a:t>
            </a:r>
            <a:r>
              <a:rPr b="0" lang="en-US" sz="20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C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yelin</a:t>
            </a:r>
            <a:r>
              <a:rPr b="0" lang="en-US" sz="24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Lipids (80%):</a:t>
            </a:r>
            <a:r>
              <a:rPr b="0" lang="en-US" sz="20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f25152"/>
                </a:solidFill>
                <a:latin typeface="Times New Roman"/>
                <a:ea typeface="Times New Roman"/>
              </a:rPr>
              <a:t>Main component:</a:t>
            </a:r>
            <a:r>
              <a:rPr b="0" lang="en-US" sz="20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erebros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                                                                        </a:t>
            </a:r>
            <a:r>
              <a:rPr b="0" lang="en-US" sz="2000" spc="-1" strike="noStrike">
                <a:solidFill>
                  <a:srgbClr val="f25152"/>
                </a:solidFill>
                <a:latin typeface="Times New Roman"/>
                <a:ea typeface="Times New Roman"/>
              </a:rPr>
              <a:t>Other component:</a:t>
            </a:r>
            <a:r>
              <a:rPr b="0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Sphingomyel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Proteins (20%):</a:t>
            </a:r>
            <a:r>
              <a:rPr b="0" lang="en-US" sz="20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e.g. Myelin basic pro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yelin Structure</a:t>
            </a:r>
            <a:endParaRPr b="0" lang="en-US" sz="36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02" name="TextBox 3"/>
          <p:cNvSpPr/>
          <p:nvPr/>
        </p:nvSpPr>
        <p:spPr>
          <a:xfrm>
            <a:off x="380880" y="1752480"/>
            <a:ext cx="830592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ty acid of Sphingomyel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yelin shea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ery long chain fatty ac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Lignoceric   24: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0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Nervonic     24:1(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yelin Structure and function</a:t>
            </a:r>
            <a:endParaRPr b="0" lang="en-US" sz="36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04" name="TextBox 3"/>
          <p:cNvSpPr/>
          <p:nvPr/>
        </p:nvSpPr>
        <p:spPr>
          <a:xfrm>
            <a:off x="380880" y="1676520"/>
            <a:ext cx="830592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elin sheath insulates the nerve axon to avoid signal leakage and greatly speeds up the transmission of impulses along ax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ultiple sclerosi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ro-degenerative, auto-immune dise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akdown of myelin sheath (demyelinatio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ective transmission of nerve impul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Group 2"/>
          <p:cNvGrpSpPr/>
          <p:nvPr/>
        </p:nvGrpSpPr>
        <p:grpSpPr>
          <a:xfrm>
            <a:off x="2251080" y="2590920"/>
            <a:ext cx="3943080" cy="1308600"/>
            <a:chOff x="2251080" y="2590920"/>
            <a:chExt cx="3943080" cy="1308600"/>
          </a:xfrm>
        </p:grpSpPr>
        <p:sp>
          <p:nvSpPr>
            <p:cNvPr id="306" name="Right Arrow 17"/>
            <p:cNvSpPr/>
            <p:nvPr/>
          </p:nvSpPr>
          <p:spPr>
            <a:xfrm>
              <a:off x="3514680" y="2979720"/>
              <a:ext cx="720720" cy="144360"/>
            </a:xfrm>
            <a:prstGeom prst="rightArrow">
              <a:avLst>
                <a:gd name="adj1" fmla="val 50000"/>
                <a:gd name="adj2" fmla="val 50041"/>
              </a:avLst>
            </a:prstGeom>
            <a:solidFill>
              <a:srgbClr val="a6987d"/>
            </a:solidFill>
            <a:ln w="19080">
              <a:solidFill>
                <a:srgbClr val="a698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" name="Group 1"/>
            <p:cNvGrpSpPr/>
            <p:nvPr/>
          </p:nvGrpSpPr>
          <p:grpSpPr>
            <a:xfrm>
              <a:off x="2251080" y="2590920"/>
              <a:ext cx="3943080" cy="1308600"/>
              <a:chOff x="2251080" y="2590920"/>
              <a:chExt cx="3943080" cy="1308600"/>
            </a:xfrm>
          </p:grpSpPr>
          <p:grpSp>
            <p:nvGrpSpPr>
              <p:cNvPr id="308" name="Group 26"/>
              <p:cNvGrpSpPr/>
              <p:nvPr/>
            </p:nvGrpSpPr>
            <p:grpSpPr>
              <a:xfrm>
                <a:off x="2251080" y="2899800"/>
                <a:ext cx="3943080" cy="999720"/>
                <a:chOff x="2251080" y="2899800"/>
                <a:chExt cx="3943080" cy="999720"/>
              </a:xfrm>
            </p:grpSpPr>
            <p:sp>
              <p:nvSpPr>
                <p:cNvPr id="309" name="Oval 4"/>
                <p:cNvSpPr/>
                <p:nvPr/>
              </p:nvSpPr>
              <p:spPr>
                <a:xfrm>
                  <a:off x="2251080" y="3078000"/>
                  <a:ext cx="685800" cy="68580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Straight Connector 5"/>
                <p:cNvSpPr/>
                <p:nvPr/>
              </p:nvSpPr>
              <p:spPr>
                <a:xfrm>
                  <a:off x="2925720" y="3363840"/>
                  <a:ext cx="2676600" cy="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Block Arc 6"/>
                <p:cNvSpPr/>
                <p:nvPr/>
              </p:nvSpPr>
              <p:spPr>
                <a:xfrm flipV="1" rot="5240400">
                  <a:off x="5371560" y="3084840"/>
                  <a:ext cx="971640" cy="628560"/>
                </a:xfrm>
                <a:custGeom>
                  <a:avLst/>
                  <a:gdLst/>
                  <a:ahLst/>
                  <a:rect l="l" t="t" r="r" b="b"/>
                  <a:pathLst>
                    <a:path w="1295400" h="837932">
                      <a:moveTo>
                        <a:pt x="0" y="418966"/>
                      </a:moveTo>
                      <a:cubicBezTo>
                        <a:pt x="0" y="187577"/>
                        <a:pt x="289985" y="0"/>
                        <a:pt x="647700" y="0"/>
                      </a:cubicBezTo>
                      <a:cubicBezTo>
                        <a:pt x="1005415" y="0"/>
                        <a:pt x="1295400" y="187577"/>
                        <a:pt x="1295400" y="418966"/>
                      </a:cubicBezTo>
                      <a:lnTo>
                        <a:pt x="1085917" y="418966"/>
                      </a:lnTo>
                      <a:cubicBezTo>
                        <a:pt x="1085917" y="303272"/>
                        <a:pt x="889721" y="209483"/>
                        <a:pt x="647700" y="209483"/>
                      </a:cubicBezTo>
                      <a:cubicBezTo>
                        <a:pt x="405679" y="209483"/>
                        <a:pt x="209483" y="303272"/>
                        <a:pt x="209483" y="418966"/>
                      </a:cubicBezTo>
                      <a:lnTo>
                        <a:pt x="0" y="41896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Snip Same Side Corner Rectangle 7"/>
                <p:cNvSpPr/>
                <p:nvPr/>
              </p:nvSpPr>
              <p:spPr>
                <a:xfrm>
                  <a:off x="3028680" y="3249360"/>
                  <a:ext cx="685800" cy="114120"/>
                </a:xfrm>
                <a:custGeom>
                  <a:avLst/>
                  <a:gdLst/>
                  <a:ahLst/>
                  <a:rect l="l" t="t" r="r" b="b"/>
                  <a:pathLst>
                    <a:path w="914108" h="152400">
                      <a:moveTo>
                        <a:pt x="25401" y="0"/>
                      </a:moveTo>
                      <a:lnTo>
                        <a:pt x="888707" y="0"/>
                      </a:lnTo>
                      <a:lnTo>
                        <a:pt x="914108" y="25401"/>
                      </a:lnTo>
                      <a:lnTo>
                        <a:pt x="914108" y="152400"/>
                      </a:lnTo>
                      <a:lnTo>
                        <a:pt x="914108" y="152400"/>
                      </a:lnTo>
                      <a:lnTo>
                        <a:pt x="0" y="152400"/>
                      </a:lnTo>
                      <a:lnTo>
                        <a:pt x="0" y="152400"/>
                      </a:lnTo>
                      <a:lnTo>
                        <a:pt x="0" y="25401"/>
                      </a:lnTo>
                      <a:lnTo>
                        <a:pt x="25401" y="0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Snip Same Side Corner Rectangle 8"/>
                <p:cNvSpPr/>
                <p:nvPr/>
              </p:nvSpPr>
              <p:spPr>
                <a:xfrm>
                  <a:off x="3840120" y="3249360"/>
                  <a:ext cx="685800" cy="114120"/>
                </a:xfrm>
                <a:custGeom>
                  <a:avLst/>
                  <a:gdLst/>
                  <a:ahLst/>
                  <a:rect l="l" t="t" r="r" b="b"/>
                  <a:pathLst>
                    <a:path w="914108" h="152400">
                      <a:moveTo>
                        <a:pt x="25401" y="0"/>
                      </a:moveTo>
                      <a:lnTo>
                        <a:pt x="888707" y="0"/>
                      </a:lnTo>
                      <a:lnTo>
                        <a:pt x="914108" y="25401"/>
                      </a:lnTo>
                      <a:lnTo>
                        <a:pt x="914108" y="152400"/>
                      </a:lnTo>
                      <a:lnTo>
                        <a:pt x="914108" y="152400"/>
                      </a:lnTo>
                      <a:lnTo>
                        <a:pt x="0" y="152400"/>
                      </a:lnTo>
                      <a:lnTo>
                        <a:pt x="0" y="152400"/>
                      </a:lnTo>
                      <a:lnTo>
                        <a:pt x="0" y="25401"/>
                      </a:lnTo>
                      <a:lnTo>
                        <a:pt x="25401" y="0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Snip Same Side Corner Rectangle 9"/>
                <p:cNvSpPr/>
                <p:nvPr/>
              </p:nvSpPr>
              <p:spPr>
                <a:xfrm>
                  <a:off x="4640400" y="3249360"/>
                  <a:ext cx="685800" cy="114120"/>
                </a:xfrm>
                <a:custGeom>
                  <a:avLst/>
                  <a:gdLst/>
                  <a:ahLst/>
                  <a:rect l="l" t="t" r="r" b="b"/>
                  <a:pathLst>
                    <a:path w="914108" h="152400">
                      <a:moveTo>
                        <a:pt x="25401" y="0"/>
                      </a:moveTo>
                      <a:lnTo>
                        <a:pt x="888707" y="0"/>
                      </a:lnTo>
                      <a:lnTo>
                        <a:pt x="914108" y="25401"/>
                      </a:lnTo>
                      <a:lnTo>
                        <a:pt x="914108" y="152400"/>
                      </a:lnTo>
                      <a:lnTo>
                        <a:pt x="914108" y="152400"/>
                      </a:lnTo>
                      <a:lnTo>
                        <a:pt x="0" y="152400"/>
                      </a:lnTo>
                      <a:lnTo>
                        <a:pt x="0" y="152400"/>
                      </a:lnTo>
                      <a:lnTo>
                        <a:pt x="0" y="25401"/>
                      </a:lnTo>
                      <a:lnTo>
                        <a:pt x="25401" y="0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Straight Connector 10"/>
                <p:cNvSpPr/>
                <p:nvPr/>
              </p:nvSpPr>
              <p:spPr>
                <a:xfrm flipH="1">
                  <a:off x="2925360" y="3443400"/>
                  <a:ext cx="2629080" cy="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Snip Same Side Corner Rectangle 11"/>
                <p:cNvSpPr/>
                <p:nvPr/>
              </p:nvSpPr>
              <p:spPr>
                <a:xfrm flipH="1" flipV="1">
                  <a:off x="3039120" y="3442680"/>
                  <a:ext cx="685800" cy="114120"/>
                </a:xfrm>
                <a:custGeom>
                  <a:avLst/>
                  <a:gdLst/>
                  <a:ahLst/>
                  <a:rect l="l" t="t" r="r" b="b"/>
                  <a:pathLst>
                    <a:path w="914108" h="152400">
                      <a:moveTo>
                        <a:pt x="25401" y="0"/>
                      </a:moveTo>
                      <a:lnTo>
                        <a:pt x="888707" y="0"/>
                      </a:lnTo>
                      <a:lnTo>
                        <a:pt x="914108" y="25401"/>
                      </a:lnTo>
                      <a:lnTo>
                        <a:pt x="914108" y="152400"/>
                      </a:lnTo>
                      <a:lnTo>
                        <a:pt x="914108" y="152400"/>
                      </a:lnTo>
                      <a:lnTo>
                        <a:pt x="0" y="152400"/>
                      </a:lnTo>
                      <a:lnTo>
                        <a:pt x="0" y="152400"/>
                      </a:lnTo>
                      <a:lnTo>
                        <a:pt x="0" y="25401"/>
                      </a:lnTo>
                      <a:lnTo>
                        <a:pt x="25401" y="0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Snip Same Side Corner Rectangle 12"/>
                <p:cNvSpPr/>
                <p:nvPr/>
              </p:nvSpPr>
              <p:spPr>
                <a:xfrm flipH="1" flipV="1">
                  <a:off x="3839400" y="3442680"/>
                  <a:ext cx="685800" cy="114120"/>
                </a:xfrm>
                <a:custGeom>
                  <a:avLst/>
                  <a:gdLst/>
                  <a:ahLst/>
                  <a:rect l="l" t="t" r="r" b="b"/>
                  <a:pathLst>
                    <a:path w="914108" h="152400">
                      <a:moveTo>
                        <a:pt x="25401" y="0"/>
                      </a:moveTo>
                      <a:lnTo>
                        <a:pt x="888707" y="0"/>
                      </a:lnTo>
                      <a:lnTo>
                        <a:pt x="914108" y="25401"/>
                      </a:lnTo>
                      <a:lnTo>
                        <a:pt x="914108" y="152400"/>
                      </a:lnTo>
                      <a:lnTo>
                        <a:pt x="914108" y="152400"/>
                      </a:lnTo>
                      <a:lnTo>
                        <a:pt x="0" y="152400"/>
                      </a:lnTo>
                      <a:lnTo>
                        <a:pt x="0" y="152400"/>
                      </a:lnTo>
                      <a:lnTo>
                        <a:pt x="0" y="25401"/>
                      </a:lnTo>
                      <a:lnTo>
                        <a:pt x="25401" y="0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Snip Same Side Corner Rectangle 13"/>
                <p:cNvSpPr/>
                <p:nvPr/>
              </p:nvSpPr>
              <p:spPr>
                <a:xfrm flipH="1" flipV="1">
                  <a:off x="4639680" y="3442680"/>
                  <a:ext cx="685800" cy="114120"/>
                </a:xfrm>
                <a:custGeom>
                  <a:avLst/>
                  <a:gdLst/>
                  <a:ahLst/>
                  <a:rect l="l" t="t" r="r" b="b"/>
                  <a:pathLst>
                    <a:path w="914108" h="152400">
                      <a:moveTo>
                        <a:pt x="25401" y="0"/>
                      </a:moveTo>
                      <a:lnTo>
                        <a:pt x="888707" y="0"/>
                      </a:lnTo>
                      <a:lnTo>
                        <a:pt x="914108" y="25401"/>
                      </a:lnTo>
                      <a:lnTo>
                        <a:pt x="914108" y="152400"/>
                      </a:lnTo>
                      <a:lnTo>
                        <a:pt x="914108" y="152400"/>
                      </a:lnTo>
                      <a:lnTo>
                        <a:pt x="0" y="152400"/>
                      </a:lnTo>
                      <a:lnTo>
                        <a:pt x="0" y="152400"/>
                      </a:lnTo>
                      <a:lnTo>
                        <a:pt x="0" y="25401"/>
                      </a:lnTo>
                      <a:lnTo>
                        <a:pt x="25401" y="0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Curved Up Arrow 14"/>
                <p:cNvSpPr/>
                <p:nvPr/>
              </p:nvSpPr>
              <p:spPr>
                <a:xfrm>
                  <a:off x="4618080" y="3371760"/>
                  <a:ext cx="742680" cy="34920"/>
                </a:xfrm>
                <a:custGeom>
                  <a:avLst/>
                  <a:gdLst>
                    <a:gd name="textAreaLeft" fmla="*/ 182160 w 742680"/>
                    <a:gd name="textAreaRight" fmla="*/ 555840 w 742680"/>
                    <a:gd name="textAreaTop" fmla="*/ 4680 h 34920"/>
                    <a:gd name="textAreaBottom" fmla="*/ 30240 h 3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10610" hR="21600" stAng="10800000" swAng="-5400000"/>
                      <a:lnTo>
                        <a:pt x="10864" y="21600"/>
                      </a:lnTo>
                      <a:arcTo wR="10610" hR="21600" stAng="5400000" swAng="-3736226"/>
                      <a:lnTo>
                        <a:pt x="21263" y="5400"/>
                      </a:lnTo>
                      <a:lnTo>
                        <a:pt x="21346" y="0"/>
                      </a:lnTo>
                      <a:lnTo>
                        <a:pt x="20755" y="5400"/>
                      </a:lnTo>
                      <a:lnTo>
                        <a:pt x="20882" y="5400"/>
                      </a:lnTo>
                      <a:arcTo wR="10610" hR="21600" stAng="1663774" swAng="3716013"/>
                      <a:lnTo>
                        <a:pt x="10737" y="21598"/>
                      </a:lnTo>
                      <a:arcTo wR="10610" hR="21600" stAng="5420214" swAng="5379786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10610" hR="21600" stAng="10800000" swAng="-5400000"/>
                      <a:lnTo>
                        <a:pt x="10864" y="21600"/>
                      </a:lnTo>
                      <a:arcTo wR="10610" hR="21600" stAng="5400000" swAng="20214"/>
                      <a:lnTo>
                        <a:pt x="10737" y="21598"/>
                      </a:lnTo>
                      <a:arcTo wR="10610" hR="21600" stAng="5420214" swAng="5379786"/>
                      <a:close/>
                    </a:path>
                  </a:pathLst>
                </a:custGeom>
                <a:solidFill>
                  <a:srgbClr val="92d050"/>
                </a:solidFill>
                <a:ln w="19080">
                  <a:solidFill>
                    <a:srgbClr val="92d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Curved Up Arrow 15"/>
                <p:cNvSpPr/>
                <p:nvPr/>
              </p:nvSpPr>
              <p:spPr>
                <a:xfrm>
                  <a:off x="3828960" y="3371760"/>
                  <a:ext cx="742680" cy="34920"/>
                </a:xfrm>
                <a:custGeom>
                  <a:avLst/>
                  <a:gdLst>
                    <a:gd name="textAreaLeft" fmla="*/ 182160 w 742680"/>
                    <a:gd name="textAreaRight" fmla="*/ 555840 w 742680"/>
                    <a:gd name="textAreaTop" fmla="*/ 4680 h 34920"/>
                    <a:gd name="textAreaBottom" fmla="*/ 30240 h 3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10610" hR="21600" stAng="10800000" swAng="-5400000"/>
                      <a:lnTo>
                        <a:pt x="10864" y="21600"/>
                      </a:lnTo>
                      <a:arcTo wR="10610" hR="21600" stAng="5400000" swAng="-3736226"/>
                      <a:lnTo>
                        <a:pt x="21263" y="5400"/>
                      </a:lnTo>
                      <a:lnTo>
                        <a:pt x="21346" y="0"/>
                      </a:lnTo>
                      <a:lnTo>
                        <a:pt x="20755" y="5400"/>
                      </a:lnTo>
                      <a:lnTo>
                        <a:pt x="20882" y="5400"/>
                      </a:lnTo>
                      <a:arcTo wR="10610" hR="21600" stAng="1663774" swAng="3716013"/>
                      <a:lnTo>
                        <a:pt x="10737" y="21598"/>
                      </a:lnTo>
                      <a:arcTo wR="10610" hR="21600" stAng="5420214" swAng="5379786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10610" hR="21600" stAng="10800000" swAng="-5400000"/>
                      <a:lnTo>
                        <a:pt x="10864" y="21600"/>
                      </a:lnTo>
                      <a:arcTo wR="10610" hR="21600" stAng="5400000" swAng="20214"/>
                      <a:lnTo>
                        <a:pt x="10737" y="21598"/>
                      </a:lnTo>
                      <a:arcTo wR="10610" hR="21600" stAng="5420214" swAng="5379786"/>
                      <a:close/>
                    </a:path>
                  </a:pathLst>
                </a:custGeom>
                <a:solidFill>
                  <a:srgbClr val="92d050"/>
                </a:solidFill>
                <a:ln w="19080">
                  <a:solidFill>
                    <a:srgbClr val="92d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Curved Up Arrow 16"/>
                <p:cNvSpPr/>
                <p:nvPr/>
              </p:nvSpPr>
              <p:spPr>
                <a:xfrm>
                  <a:off x="3016080" y="3360600"/>
                  <a:ext cx="744480" cy="33120"/>
                </a:xfrm>
                <a:custGeom>
                  <a:avLst/>
                  <a:gdLst>
                    <a:gd name="textAreaLeft" fmla="*/ 182880 w 744480"/>
                    <a:gd name="textAreaRight" fmla="*/ 557280 w 744480"/>
                    <a:gd name="textAreaTop" fmla="*/ 4320 h 33120"/>
                    <a:gd name="textAreaBottom" fmla="*/ 28800 h 33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10619" hR="21600" stAng="10800000" swAng="-5400000"/>
                      <a:lnTo>
                        <a:pt x="10861" y="21600"/>
                      </a:lnTo>
                      <a:arcTo wR="10619" hR="21600" stAng="5400000" swAng="-3737427"/>
                      <a:lnTo>
                        <a:pt x="21263" y="5400"/>
                      </a:lnTo>
                      <a:lnTo>
                        <a:pt x="21358" y="0"/>
                      </a:lnTo>
                      <a:lnTo>
                        <a:pt x="20779" y="5400"/>
                      </a:lnTo>
                      <a:lnTo>
                        <a:pt x="20900" y="5400"/>
                      </a:lnTo>
                      <a:arcTo wR="10619" hR="21600" stAng="1662573" swAng="3718168"/>
                      <a:lnTo>
                        <a:pt x="10740" y="21599"/>
                      </a:lnTo>
                      <a:arcTo wR="10619" hR="21600" stAng="5419259" swAng="5380741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10619" hR="21600" stAng="10800000" swAng="-5400000"/>
                      <a:lnTo>
                        <a:pt x="10861" y="21600"/>
                      </a:lnTo>
                      <a:arcTo wR="10619" hR="21600" stAng="5400000" swAng="19259"/>
                      <a:lnTo>
                        <a:pt x="10740" y="21599"/>
                      </a:lnTo>
                      <a:arcTo wR="10619" hR="21600" stAng="5419259" swAng="5380741"/>
                      <a:close/>
                    </a:path>
                  </a:pathLst>
                </a:custGeom>
                <a:solidFill>
                  <a:srgbClr val="92d050"/>
                </a:solidFill>
                <a:ln w="19080">
                  <a:solidFill>
                    <a:srgbClr val="92d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2" name="TextBox 5"/>
              <p:cNvSpPr/>
              <p:nvPr/>
            </p:nvSpPr>
            <p:spPr>
              <a:xfrm>
                <a:off x="2580840" y="2590920"/>
                <a:ext cx="3059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0c0"/>
                    </a:solidFill>
                    <a:latin typeface="Times New Roman"/>
                    <a:ea typeface="Times New Roman"/>
                  </a:rPr>
                  <a:t>Direction of nerve impuls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hingolipidosEs</a:t>
            </a:r>
            <a:endParaRPr b="0" lang="en-US" sz="36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24" name="TextBox 3"/>
          <p:cNvSpPr/>
          <p:nvPr/>
        </p:nvSpPr>
        <p:spPr>
          <a:xfrm>
            <a:off x="380880" y="2209680"/>
            <a:ext cx="830592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artial or total missing of a specific lysosomal acid hydrolase leads to accumulation of a sphingolip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ysosomal lipid storage diseases caused by these deficiencies are call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hingolipido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Box 3"/>
          <p:cNvSpPr/>
          <p:nvPr/>
        </p:nvSpPr>
        <p:spPr>
          <a:xfrm>
            <a:off x="380880" y="1981080"/>
            <a:ext cx="830592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thesis 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(Normal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Degradation 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(Defectiv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rate accumulates in organs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essive, early de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enotypic and genotypic varia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somal recessive 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(mostly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re, 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Except 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hkenazi Je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Box 2"/>
          <p:cNvSpPr/>
          <p:nvPr/>
        </p:nvSpPr>
        <p:spPr>
          <a:xfrm>
            <a:off x="380880" y="563868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ually only a single sphingolipid accumulates in the involved organs in each dis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HINGOLIPIDOSE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Cont’d</a:t>
            </a:r>
            <a:r>
              <a:rPr b="1" i="1" lang="is-IS" sz="32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3200" spc="-1" strike="noStrike">
              <a:solidFill>
                <a:srgbClr val="b80e0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utlines</a:t>
            </a:r>
            <a:endParaRPr b="0" lang="en-US" sz="36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207" name="TextBox 3"/>
          <p:cNvSpPr/>
          <p:nvPr/>
        </p:nvSpPr>
        <p:spPr>
          <a:xfrm>
            <a:off x="380880" y="2438280"/>
            <a:ext cx="830592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c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c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gr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c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princi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c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 home mess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3"/>
          <p:cNvSpPr/>
          <p:nvPr/>
        </p:nvSpPr>
        <p:spPr>
          <a:xfrm>
            <a:off x="380880" y="1523880"/>
            <a:ext cx="830592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Diagno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 enzyme activ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5152"/>
                </a:solidFill>
                <a:latin typeface="Times New Roman"/>
                <a:ea typeface="Times New Roman"/>
              </a:rPr>
              <a:t>Cultured fibroblasts or peripheral leukocy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5152"/>
                </a:solidFill>
                <a:latin typeface="Times New Roman"/>
                <a:ea typeface="Times New Roman"/>
              </a:rPr>
              <a:t>Cultured amniocytes or chorionic villi (prenat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logic examin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analy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Treatment: </a:t>
            </a:r>
            <a:r>
              <a:rPr b="1" lang="en-US" sz="2400" spc="-1" strike="noStrike">
                <a:solidFill>
                  <a:srgbClr val="f25152"/>
                </a:solidFill>
                <a:latin typeface="Times New Roman"/>
              </a:rPr>
              <a:t>e.g. for Gaucher dise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lacement Therapy (e.g. recombinant human enzym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ne marrow transplan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HINGOLIPIDOSE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Cont’d</a:t>
            </a:r>
            <a:r>
              <a:rPr b="1" i="1" lang="is-IS" sz="32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3200" spc="-1" strike="noStrike">
              <a:solidFill>
                <a:srgbClr val="b80e0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 rot="18515400">
            <a:off x="-693000" y="2035800"/>
            <a:ext cx="4783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hingolipidosEs</a:t>
            </a:r>
            <a:endParaRPr b="0" lang="en-US" sz="3600" spc="-1" strike="noStrike">
              <a:solidFill>
                <a:srgbClr val="b80e0f"/>
              </a:solidFill>
              <a:latin typeface="Impact"/>
            </a:endParaRPr>
          </a:p>
        </p:txBody>
      </p:sp>
      <p:grpSp>
        <p:nvGrpSpPr>
          <p:cNvPr id="331" name="Group 7"/>
          <p:cNvGrpSpPr/>
          <p:nvPr/>
        </p:nvGrpSpPr>
        <p:grpSpPr>
          <a:xfrm>
            <a:off x="3809880" y="76320"/>
            <a:ext cx="4554720" cy="5486400"/>
            <a:chOff x="3809880" y="76320"/>
            <a:chExt cx="4554720" cy="5486400"/>
          </a:xfrm>
        </p:grpSpPr>
        <p:grpSp>
          <p:nvGrpSpPr>
            <p:cNvPr id="332" name="Group 2"/>
            <p:cNvGrpSpPr/>
            <p:nvPr/>
          </p:nvGrpSpPr>
          <p:grpSpPr>
            <a:xfrm>
              <a:off x="3809880" y="76320"/>
              <a:ext cx="4554720" cy="5486400"/>
              <a:chOff x="3809880" y="76320"/>
              <a:chExt cx="4554720" cy="5486400"/>
            </a:xfrm>
          </p:grpSpPr>
          <p:pic>
            <p:nvPicPr>
              <p:cNvPr id="333" name="Picture 2" descr="D:\Arun-Backup\project\Ferrier\Image_Bank\image_bank\images\jpg\figure_17.20.jpg"/>
              <p:cNvPicPr/>
              <p:nvPr/>
            </p:nvPicPr>
            <p:blipFill>
              <a:blip r:embed="rId1"/>
              <a:stretch/>
            </p:blipFill>
            <p:spPr>
              <a:xfrm>
                <a:off x="3809880" y="76320"/>
                <a:ext cx="4554720" cy="548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" name="Oval 1"/>
              <p:cNvSpPr/>
              <p:nvPr/>
            </p:nvSpPr>
            <p:spPr>
              <a:xfrm>
                <a:off x="5419440" y="1990800"/>
                <a:ext cx="874800" cy="29196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Oval 5"/>
              <p:cNvSpPr/>
              <p:nvPr/>
            </p:nvSpPr>
            <p:spPr>
              <a:xfrm>
                <a:off x="6026040" y="3861000"/>
                <a:ext cx="876240" cy="29196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Oval 6"/>
              <p:cNvSpPr/>
              <p:nvPr/>
            </p:nvSpPr>
            <p:spPr>
              <a:xfrm>
                <a:off x="6273720" y="4400640"/>
                <a:ext cx="876240" cy="18540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" name="Rounded Rectangle 2"/>
            <p:cNvSpPr/>
            <p:nvPr/>
          </p:nvSpPr>
          <p:spPr>
            <a:xfrm>
              <a:off x="3889080" y="631800"/>
              <a:ext cx="788760" cy="11736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4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Rounded Rectangle 12"/>
            <p:cNvSpPr/>
            <p:nvPr/>
          </p:nvSpPr>
          <p:spPr>
            <a:xfrm>
              <a:off x="3889080" y="2052720"/>
              <a:ext cx="726840" cy="10152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4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Rounded Rectangle 14"/>
            <p:cNvSpPr/>
            <p:nvPr/>
          </p:nvSpPr>
          <p:spPr>
            <a:xfrm>
              <a:off x="7286760" y="3597480"/>
              <a:ext cx="912600" cy="17460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4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iemann-pick disease</a:t>
            </a:r>
            <a:endParaRPr b="0" lang="en-US" sz="3600" spc="-1" strike="noStrike">
              <a:solidFill>
                <a:srgbClr val="b80e0f"/>
              </a:solidFill>
              <a:latin typeface="Impact"/>
            </a:endParaRPr>
          </a:p>
        </p:txBody>
      </p:sp>
      <p:pic>
        <p:nvPicPr>
          <p:cNvPr id="341" name="Picture 2" descr="D:\Arun-Backup\project\Ferrier\Image_Bank\image_bank\images\jpg\figure_17.12.jpg"/>
          <p:cNvPicPr/>
          <p:nvPr/>
        </p:nvPicPr>
        <p:blipFill>
          <a:blip r:embed="rId1"/>
          <a:stretch/>
        </p:blipFill>
        <p:spPr>
          <a:xfrm>
            <a:off x="2755800" y="1371600"/>
            <a:ext cx="3645000" cy="4206960"/>
          </a:xfrm>
          <a:prstGeom prst="rect">
            <a:avLst/>
          </a:prstGeom>
          <a:ln w="0">
            <a:noFill/>
          </a:ln>
        </p:spPr>
      </p:pic>
      <p:sp>
        <p:nvSpPr>
          <p:cNvPr id="342" name="Oval 3"/>
          <p:cNvSpPr/>
          <p:nvPr/>
        </p:nvSpPr>
        <p:spPr>
          <a:xfrm>
            <a:off x="4038480" y="4114800"/>
            <a:ext cx="2057400" cy="434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Gaucher disease</a:t>
            </a:r>
            <a:endParaRPr b="0" lang="en-US" sz="3600" spc="-1" strike="noStrike">
              <a:solidFill>
                <a:srgbClr val="b80e0f"/>
              </a:solidFill>
              <a:latin typeface="Impact"/>
            </a:endParaRPr>
          </a:p>
        </p:txBody>
      </p:sp>
      <p:pic>
        <p:nvPicPr>
          <p:cNvPr id="344" name="Picture 2" descr="D:\Arun-Backup\project\Ferrier\Image_Bank\image_bank\images\jpg\figure_17.19.jpg"/>
          <p:cNvPicPr/>
          <p:nvPr/>
        </p:nvPicPr>
        <p:blipFill>
          <a:blip r:embed="rId1"/>
          <a:stretch/>
        </p:blipFill>
        <p:spPr>
          <a:xfrm>
            <a:off x="2603520" y="1371600"/>
            <a:ext cx="364500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ke home messages</a:t>
            </a:r>
            <a:endParaRPr b="0" lang="en-US" sz="36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46" name="TextBox 3"/>
          <p:cNvSpPr/>
          <p:nvPr/>
        </p:nvSpPr>
        <p:spPr>
          <a:xfrm>
            <a:off x="380880" y="1523880"/>
            <a:ext cx="830592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hingolipids are complex lipids that includes sphingo-phospholipids and glycolipi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1199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ramide is the precursor of all sphingolipi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1199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hingolipids are present mainly in nerve tissue, but they are also found extra-ne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1199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elin sheath insulates the nerve axon to avoid signal leakage and speed up impulse transmi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1199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hingolipidoses are rare genetic diseases due to defective degeneration of sphingolipi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eference</a:t>
            </a:r>
            <a:endParaRPr b="0" lang="en-US" sz="36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48" name="TextBox 3"/>
          <p:cNvSpPr/>
          <p:nvPr/>
        </p:nvSpPr>
        <p:spPr>
          <a:xfrm>
            <a:off x="380880" y="24462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ppincott Illustrated Review of Biochemistry, 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dition, 2014, Unit 3, Chapter 17, Pages 201-21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</a:t>
            </a:r>
            <a:endParaRPr b="0" lang="en-US" sz="36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209" name="TextBox 3"/>
          <p:cNvSpPr/>
          <p:nvPr/>
        </p:nvSpPr>
        <p:spPr>
          <a:xfrm>
            <a:off x="380880" y="1523880"/>
            <a:ext cx="83059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the end of this lecture, the students should be abl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c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gnize the Sphingolipids class of lipids as regard their chemical structure, tissue distribution and 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c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familiar with the biochemical structure and function of myel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c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rn the basics of biosynthesis of sphingolipi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c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introduced to Sphingolipido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ACKGROUND</a:t>
            </a:r>
            <a:endParaRPr b="0" lang="en-US" sz="36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211" name="TextBox 3"/>
          <p:cNvSpPr/>
          <p:nvPr/>
        </p:nvSpPr>
        <p:spPr>
          <a:xfrm>
            <a:off x="380880" y="2209680"/>
            <a:ext cx="83059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 are two classes of phospholipids based on the backb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1800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ycerol (from gluco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1800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hingosine (from serine and palmitat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380880" y="1600200"/>
            <a:ext cx="8305920" cy="35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component of membra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1199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ndant in nervous tiss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1199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exist extra-nervous tiss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Receptors fo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lera tox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phtheria tox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u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ACKGROUN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Cont’d</a:t>
            </a:r>
            <a:r>
              <a:rPr b="1" i="1" lang="is-IS" sz="32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3200" spc="-1" strike="noStrike">
              <a:solidFill>
                <a:srgbClr val="b80e0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3"/>
          <p:cNvSpPr/>
          <p:nvPr/>
        </p:nvSpPr>
        <p:spPr>
          <a:xfrm>
            <a:off x="380880" y="1905120"/>
            <a:ext cx="8305920" cy="35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tion of growth and develop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1199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antigen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od group ant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bryonic ant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mor ant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1199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 trans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ACKGROUN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Cont’d</a:t>
            </a:r>
            <a:r>
              <a:rPr b="1" i="1" lang="is-IS" sz="32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3200" spc="-1" strike="noStrike">
              <a:solidFill>
                <a:srgbClr val="b80e0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Key Principles</a:t>
            </a:r>
            <a:endParaRPr b="0" lang="en-US" sz="36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217" name="TextBox 3"/>
          <p:cNvSpPr/>
          <p:nvPr/>
        </p:nvSpPr>
        <p:spPr>
          <a:xfrm>
            <a:off x="380880" y="1905120"/>
            <a:ext cx="830592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structure of Sphingolipi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1199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ycosphingolipids (Glycolipid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hingophospholipids, e.g. Sphingomyel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1199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elin structure and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1199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hingolipido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hingolipid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tructure and types</a:t>
            </a:r>
            <a:endParaRPr b="0" lang="en-US" sz="3600" spc="-1" strike="noStrike">
              <a:solidFill>
                <a:srgbClr val="b80e0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hingosine</a:t>
            </a:r>
            <a:endParaRPr b="0" lang="en-US" sz="36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220" name="TextBox 3"/>
          <p:cNvSpPr/>
          <p:nvPr/>
        </p:nvSpPr>
        <p:spPr>
          <a:xfrm>
            <a:off x="380880" y="1600200"/>
            <a:ext cx="8305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chain, unsaturated amino 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Group 3"/>
          <p:cNvGrpSpPr/>
          <p:nvPr/>
        </p:nvGrpSpPr>
        <p:grpSpPr>
          <a:xfrm>
            <a:off x="1396800" y="2405160"/>
            <a:ext cx="6202800" cy="1149840"/>
            <a:chOff x="1396800" y="2405160"/>
            <a:chExt cx="6202800" cy="1149840"/>
          </a:xfrm>
        </p:grpSpPr>
        <p:sp>
          <p:nvSpPr>
            <p:cNvPr id="222" name="TextBox 7"/>
            <p:cNvSpPr/>
            <p:nvPr/>
          </p:nvSpPr>
          <p:spPr>
            <a:xfrm>
              <a:off x="1396800" y="2405160"/>
              <a:ext cx="620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(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CH     CH     CH    CH 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Straight Connector 5"/>
            <p:cNvSpPr/>
            <p:nvPr/>
          </p:nvSpPr>
          <p:spPr>
            <a:xfrm>
              <a:off x="2001960" y="2633760"/>
              <a:ext cx="2286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Straight Connector 6"/>
            <p:cNvSpPr/>
            <p:nvPr/>
          </p:nvSpPr>
          <p:spPr>
            <a:xfrm>
              <a:off x="3921120" y="2649600"/>
              <a:ext cx="2286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Straight Connector 7"/>
            <p:cNvSpPr/>
            <p:nvPr/>
          </p:nvSpPr>
          <p:spPr>
            <a:xfrm>
              <a:off x="3921120" y="2603520"/>
              <a:ext cx="2286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Straight Connector 8"/>
            <p:cNvSpPr/>
            <p:nvPr/>
          </p:nvSpPr>
          <p:spPr>
            <a:xfrm>
              <a:off x="3205080" y="2633760"/>
              <a:ext cx="2286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Straight Connector 9"/>
            <p:cNvSpPr/>
            <p:nvPr/>
          </p:nvSpPr>
          <p:spPr>
            <a:xfrm>
              <a:off x="6253200" y="2663640"/>
              <a:ext cx="2286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Straight Connector 10"/>
            <p:cNvSpPr/>
            <p:nvPr/>
          </p:nvSpPr>
          <p:spPr>
            <a:xfrm>
              <a:off x="5506920" y="2663640"/>
              <a:ext cx="2286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Straight Connector 11"/>
            <p:cNvSpPr/>
            <p:nvPr/>
          </p:nvSpPr>
          <p:spPr>
            <a:xfrm>
              <a:off x="4729320" y="2663640"/>
              <a:ext cx="2286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Box 22"/>
            <p:cNvSpPr/>
            <p:nvPr/>
          </p:nvSpPr>
          <p:spPr>
            <a:xfrm>
              <a:off x="4978800" y="3040200"/>
              <a:ext cx="61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Straight Connector 13"/>
            <p:cNvSpPr/>
            <p:nvPr/>
          </p:nvSpPr>
          <p:spPr>
            <a:xfrm>
              <a:off x="5156280" y="2846520"/>
              <a:ext cx="0" cy="2286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Box 24"/>
            <p:cNvSpPr/>
            <p:nvPr/>
          </p:nvSpPr>
          <p:spPr>
            <a:xfrm>
              <a:off x="5732280" y="304488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Straight Connector 15"/>
            <p:cNvSpPr/>
            <p:nvPr/>
          </p:nvSpPr>
          <p:spPr>
            <a:xfrm>
              <a:off x="5872320" y="2862360"/>
              <a:ext cx="0" cy="2286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eem</dc:creator>
  <dc:description/>
  <dc:language>en-US</dc:language>
  <cp:lastModifiedBy>Ahmed Mujamammi</cp:lastModifiedBy>
  <dcterms:modified xsi:type="dcterms:W3CDTF">2017-09-20T04:27:59Z</dcterms:modified>
  <cp:revision>180</cp:revision>
  <dc:subject/>
  <dc:title>PowerPoint Presentation</dc:title>
</cp:coreProperties>
</file>