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EB7-6895-449B-8D0D-D575B324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520-A48A-4C10-98E6-EDDCCC81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640-FF71-450E-872B-0BE1C248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0F2-6F3D-4055-9610-265FF527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5CD8-CDD6-41CB-B744-9D9632C6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D641-B14E-49A8-9DE3-68E3C4F6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903F-A343-4EA1-9630-25D718C1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19BD-8CF7-4757-84E1-A7E07811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EF41-D626-4E39-BAA8-9EB0BAE5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60DA-FBFC-4261-B2B3-55112AF8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6BC5-CAA6-4B3A-9363-F14D11E0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E4D-20A1-4A9F-B34B-76E22884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8538-8F64-46EF-B839-CD2AC6F9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6152-90FA-443D-AEC2-F568511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29CF-483E-4BF4-AD2F-148EB271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D902-4A1E-4BB0-B945-6366A020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723E-5096-411E-9C9B-1D2D2DA8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65D2-33B9-40EF-959A-7586C76B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2AFD-AF19-472D-A260-01A2F138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BB14-DDB8-4A87-8FAC-48AEC949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A146-12FA-47F2-BB91-CD627795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B6BD-4E8F-484B-8CE6-36238A6C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EBD-6033-48C8-A050-195566F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C6E7-9C90-4D76-92B9-BEF1D2EA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B26B-3791-47B5-8588-B1BF950E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7A62-6575-44E5-A2A2-2269496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9ADD-5A0F-401A-8615-1C982C28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673B-512A-40E7-961E-E54ABD04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637B-C7FF-4EFA-B7CF-5588A8EE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369A-04BC-4AE2-AAC5-1FF1211D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E62B-E8F0-4EAF-815D-C2E848CF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73E33-E3F2-4A94-906F-424C0B97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ADFB9-BB6F-41DB-9CE4-F102D2B0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68E-670F-4598-9F11-43F6E579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8809-C29C-489B-8CEB-CC1CDF6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F496-2F86-4F4B-8077-E7AFC75D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90683-794C-44C2-8707-E4A031AC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D5C3-0B13-4BBA-A1B1-4442C414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48711-9AF1-4302-9EC2-CC16C31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7A70-47CE-4AD4-B98F-C5C525A8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2761-1DBE-472A-91F8-57CCB472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48B8-F296-48B0-9330-C638D135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5108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7720" y="20638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44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5108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7720" y="3793680"/>
            <a:ext cx="251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84C9-CB47-4394-8F66-477FF77D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E71-5FA3-420E-BCBE-1389CF82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685440"/>
            <a:ext cx="779760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AB9-30C7-4112-9737-8C65CB6D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9B0-ED2E-4141-8E16-6541ADE1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0440" y="37936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48F-F168-48C4-B7F7-95D98EA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0440" y="2063880"/>
            <a:ext cx="38052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3793680"/>
            <a:ext cx="7797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2EF-16DD-436D-A57E-D4C95721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2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6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D648-7F47-49E7-AE22-83CC5B3EEECF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14"/>
          <p:cNvGrpSpPr/>
          <p:nvPr/>
        </p:nvGrpSpPr>
        <p:grpSpPr>
          <a:xfrm>
            <a:off x="-85680" y="-49320"/>
            <a:ext cx="8955000" cy="6662880"/>
            <a:chOff x="-85680" y="-49320"/>
            <a:chExt cx="8955000" cy="6662880"/>
          </a:xfrm>
        </p:grpSpPr>
        <p:pic>
          <p:nvPicPr>
            <p:cNvPr id="52" name="Freeform 14" descr=""/>
            <p:cNvPicPr/>
            <p:nvPr/>
          </p:nvPicPr>
          <p:blipFill>
            <a:blip r:embed="rId4"/>
            <a:stretch/>
          </p:blipFill>
          <p:spPr>
            <a:xfrm>
              <a:off x="-85680" y="-49320"/>
              <a:ext cx="8955000" cy="66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7920" y="-17640"/>
              <a:ext cx="875340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Freeform 15"/>
          <p:cNvGrpSpPr/>
          <p:nvPr/>
        </p:nvGrpSpPr>
        <p:grpSpPr>
          <a:xfrm>
            <a:off x="-12600" y="4443480"/>
            <a:ext cx="8467560" cy="1719360"/>
            <a:chOff x="-12600" y="4443480"/>
            <a:chExt cx="8467560" cy="1719360"/>
          </a:xfrm>
        </p:grpSpPr>
        <p:pic>
          <p:nvPicPr>
            <p:cNvPr id="55" name="Freeform 15" descr=""/>
            <p:cNvPicPr/>
            <p:nvPr/>
          </p:nvPicPr>
          <p:blipFill>
            <a:blip r:embed="rId5"/>
            <a:stretch/>
          </p:blipFill>
          <p:spPr>
            <a:xfrm>
              <a:off x="-12600" y="4443480"/>
              <a:ext cx="8467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-11160" y="4444920"/>
              <a:ext cx="846612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Freeform 16"/>
          <p:cNvGrpSpPr/>
          <p:nvPr/>
        </p:nvGrpSpPr>
        <p:grpSpPr>
          <a:xfrm>
            <a:off x="0" y="0"/>
            <a:ext cx="5810040" cy="324000"/>
            <a:chOff x="0" y="0"/>
            <a:chExt cx="5810040" cy="324000"/>
          </a:xfrm>
        </p:grpSpPr>
        <p:pic>
          <p:nvPicPr>
            <p:cNvPr id="58" name="Freeform 16" descr=""/>
            <p:cNvPicPr/>
            <p:nvPr/>
          </p:nvPicPr>
          <p:blipFill>
            <a:blip r:embed="rId6"/>
            <a:stretch/>
          </p:blipFill>
          <p:spPr>
            <a:xfrm>
              <a:off x="2880" y="0"/>
              <a:ext cx="58071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5808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Freeform 17"/>
          <p:cNvSpPr/>
          <p:nvPr/>
        </p:nvSpPr>
        <p:spPr>
          <a:xfrm rot="21420000">
            <a:off x="-171360" y="212400"/>
            <a:ext cx="8480160" cy="5746680"/>
          </a:xfrm>
          <a:custGeom>
            <a:avLst/>
            <a:gdLst/>
            <a:ahLst/>
            <a:rect l="l" t="t" r="r" b="b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5-Point Star 18"/>
          <p:cNvSpPr/>
          <p:nvPr/>
        </p:nvSpPr>
        <p:spPr>
          <a:xfrm rot="21420000">
            <a:off x="3122640" y="5057280"/>
            <a:ext cx="51444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72322" y="161524"/>
                </a:lnTo>
                <a:lnTo>
                  <a:pt x="257175" y="0"/>
                </a:lnTo>
                <a:lnTo>
                  <a:pt x="342028" y="161524"/>
                </a:lnTo>
                <a:lnTo>
                  <a:pt x="514349" y="196464"/>
                </a:lnTo>
                <a:lnTo>
                  <a:pt x="394470" y="331231"/>
                </a:lnTo>
                <a:lnTo>
                  <a:pt x="416118" y="514349"/>
                </a:lnTo>
                <a:lnTo>
                  <a:pt x="257175" y="436115"/>
                </a:lnTo>
                <a:lnTo>
                  <a:pt x="98232" y="514349"/>
                </a:lnTo>
                <a:lnTo>
                  <a:pt x="119880" y="331231"/>
                </a:lnTo>
                <a:lnTo>
                  <a:pt x="1" y="196464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 rot="21420000">
            <a:off x="3668040" y="4714560"/>
            <a:ext cx="4608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 rot="21420000">
            <a:off x="-12600" y="4954320"/>
            <a:ext cx="29876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 rot="21420000">
            <a:off x="7400520" y="3819240"/>
            <a:ext cx="681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6C8F-6072-4E07-AD9A-92DCF74EA066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0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0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0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A7C7-C426-47B0-B1FB-5ED0945C3657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-19080" y="0"/>
            <a:ext cx="9004320" cy="6643800"/>
            <a:chOff x="-19080" y="0"/>
            <a:chExt cx="9004320" cy="6643800"/>
          </a:xfrm>
        </p:grpSpPr>
        <p:grpSp>
          <p:nvGrpSpPr>
            <p:cNvPr id="155" name="Rectangle 10"/>
            <p:cNvGrpSpPr/>
            <p:nvPr/>
          </p:nvGrpSpPr>
          <p:grpSpPr>
            <a:xfrm>
              <a:off x="-19080" y="0"/>
              <a:ext cx="9004320" cy="6643800"/>
              <a:chOff x="-19080" y="0"/>
              <a:chExt cx="9004320" cy="6643800"/>
            </a:xfrm>
          </p:grpSpPr>
          <p:pic>
            <p:nvPicPr>
              <p:cNvPr id="15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43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8320" y="29520"/>
                <a:ext cx="8807040" cy="64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Rectangle 12"/>
            <p:cNvGrpSpPr/>
            <p:nvPr/>
          </p:nvGrpSpPr>
          <p:grpSpPr>
            <a:xfrm>
              <a:off x="58320" y="5461920"/>
              <a:ext cx="8604000" cy="756360"/>
              <a:chOff x="58320" y="5461920"/>
              <a:chExt cx="8604000" cy="756360"/>
            </a:xfrm>
          </p:grpSpPr>
          <p:pic>
            <p:nvPicPr>
              <p:cNvPr id="159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20" y="5464080"/>
                <a:ext cx="8602200" cy="7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58320" y="5461920"/>
                <a:ext cx="8604000" cy="7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Freeform 11"/>
            <p:cNvSpPr/>
            <p:nvPr/>
          </p:nvSpPr>
          <p:spPr>
            <a:xfrm>
              <a:off x="39600" y="29520"/>
              <a:ext cx="8654400" cy="622512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Box 13"/>
          <p:cNvSpPr/>
          <p:nvPr/>
        </p:nvSpPr>
        <p:spPr>
          <a:xfrm>
            <a:off x="404640" y="88740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7897680" y="2906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7797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14440" y="2063880"/>
            <a:ext cx="7797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5473800" y="5757480"/>
            <a:ext cx="2838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514440" y="5757480"/>
            <a:ext cx="412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4714920" y="5757480"/>
            <a:ext cx="681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FFB6-A160-4123-85EA-F6DDB7A31708}" type="slidenum">
              <a:rPr b="0" lang="en-US" sz="28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hingolipids and Myelin Structure</a:t>
            </a:r>
            <a:endParaRPr b="0" lang="en-US" sz="40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eramid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380880" y="1576440"/>
            <a:ext cx="83059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m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phingosine  + 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chain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16"/>
          <p:cNvGrpSpPr/>
          <p:nvPr/>
        </p:nvGrpSpPr>
        <p:grpSpPr>
          <a:xfrm>
            <a:off x="1696680" y="2509920"/>
            <a:ext cx="6202800" cy="2364840"/>
            <a:chOff x="1696680" y="2509920"/>
            <a:chExt cx="6202800" cy="2364840"/>
          </a:xfrm>
        </p:grpSpPr>
        <p:sp>
          <p:nvSpPr>
            <p:cNvPr id="237" name="TextBox 7"/>
            <p:cNvSpPr/>
            <p:nvPr/>
          </p:nvSpPr>
          <p:spPr>
            <a:xfrm>
              <a:off x="1696680" y="2509920"/>
              <a:ext cx="620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CH     CH     CH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8"/>
            <p:cNvSpPr/>
            <p:nvPr/>
          </p:nvSpPr>
          <p:spPr>
            <a:xfrm>
              <a:off x="2301840" y="2738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Straight Connector 19"/>
            <p:cNvSpPr/>
            <p:nvPr/>
          </p:nvSpPr>
          <p:spPr>
            <a:xfrm>
              <a:off x="4221000" y="27543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Straight Connector 20"/>
            <p:cNvSpPr/>
            <p:nvPr/>
          </p:nvSpPr>
          <p:spPr>
            <a:xfrm>
              <a:off x="4221000" y="270828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Straight Connector 21"/>
            <p:cNvSpPr/>
            <p:nvPr/>
          </p:nvSpPr>
          <p:spPr>
            <a:xfrm>
              <a:off x="3505320" y="2738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Straight Connector 22"/>
            <p:cNvSpPr/>
            <p:nvPr/>
          </p:nvSpPr>
          <p:spPr>
            <a:xfrm>
              <a:off x="655344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Straight Connector 23"/>
            <p:cNvSpPr/>
            <p:nvPr/>
          </p:nvSpPr>
          <p:spPr>
            <a:xfrm>
              <a:off x="580716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Straight Connector 24"/>
            <p:cNvSpPr/>
            <p:nvPr/>
          </p:nvSpPr>
          <p:spPr>
            <a:xfrm>
              <a:off x="502920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Box 22"/>
            <p:cNvSpPr/>
            <p:nvPr/>
          </p:nvSpPr>
          <p:spPr>
            <a:xfrm>
              <a:off x="5278680" y="314496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Straight Connector 26"/>
            <p:cNvSpPr/>
            <p:nvPr/>
          </p:nvSpPr>
          <p:spPr>
            <a:xfrm>
              <a:off x="5456160" y="295128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Box 24"/>
            <p:cNvSpPr/>
            <p:nvPr/>
          </p:nvSpPr>
          <p:spPr>
            <a:xfrm>
              <a:off x="6024960" y="314964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Straight Connector 28"/>
            <p:cNvSpPr/>
            <p:nvPr/>
          </p:nvSpPr>
          <p:spPr>
            <a:xfrm>
              <a:off x="6172200" y="296712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Straight Connector 29"/>
            <p:cNvSpPr/>
            <p:nvPr/>
          </p:nvSpPr>
          <p:spPr>
            <a:xfrm>
              <a:off x="6172200" y="357660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5992200" y="378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Straight Connector 31"/>
            <p:cNvSpPr/>
            <p:nvPr/>
          </p:nvSpPr>
          <p:spPr>
            <a:xfrm>
              <a:off x="6194520" y="420876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Straight Connector 32"/>
            <p:cNvSpPr/>
            <p:nvPr/>
          </p:nvSpPr>
          <p:spPr>
            <a:xfrm>
              <a:off x="6156360" y="421668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Box 28"/>
            <p:cNvSpPr/>
            <p:nvPr/>
          </p:nvSpPr>
          <p:spPr>
            <a:xfrm>
              <a:off x="5996520" y="4415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Straight Connector 34"/>
            <p:cNvSpPr/>
            <p:nvPr/>
          </p:nvSpPr>
          <p:spPr>
            <a:xfrm>
              <a:off x="5791320" y="40341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4864320" y="3800520"/>
              <a:ext cx="98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3974400" y="3821400"/>
              <a:ext cx="76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Straight Connector 37"/>
            <p:cNvSpPr/>
            <p:nvPr/>
          </p:nvSpPr>
          <p:spPr>
            <a:xfrm>
              <a:off x="4618080" y="40341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ounded Rectangular Callout 38"/>
            <p:cNvSpPr/>
            <p:nvPr/>
          </p:nvSpPr>
          <p:spPr>
            <a:xfrm>
              <a:off x="3962520" y="3699000"/>
              <a:ext cx="2971800" cy="11430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noFill/>
            <a:ln w="19080">
              <a:solidFill>
                <a:srgbClr val="8073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Box 27"/>
          <p:cNvSpPr/>
          <p:nvPr/>
        </p:nvSpPr>
        <p:spPr>
          <a:xfrm>
            <a:off x="116280" y="5638680"/>
            <a:ext cx="857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amide play a key role in maintaining the skin’s water-permeability barr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d ceramide levels are associated with a number of skin dis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myelin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380880" y="1576440"/>
            <a:ext cx="830592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gomye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eramide  +  Phosphorylch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chain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39"/>
          <p:cNvGrpSpPr/>
          <p:nvPr/>
        </p:nvGrpSpPr>
        <p:grpSpPr>
          <a:xfrm>
            <a:off x="412560" y="2509920"/>
            <a:ext cx="8342280" cy="2364840"/>
            <a:chOff x="412560" y="2509920"/>
            <a:chExt cx="8342280" cy="2364840"/>
          </a:xfrm>
        </p:grpSpPr>
        <p:sp>
          <p:nvSpPr>
            <p:cNvPr id="263" name="TextBox 3"/>
            <p:cNvSpPr/>
            <p:nvPr/>
          </p:nvSpPr>
          <p:spPr>
            <a:xfrm>
              <a:off x="412560" y="2509920"/>
              <a:ext cx="598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CH     CH    CH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Straight Connector 41"/>
            <p:cNvSpPr/>
            <p:nvPr/>
          </p:nvSpPr>
          <p:spPr>
            <a:xfrm>
              <a:off x="1006560" y="2738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Straight Connector 42"/>
            <p:cNvSpPr/>
            <p:nvPr/>
          </p:nvSpPr>
          <p:spPr>
            <a:xfrm>
              <a:off x="3035520" y="27543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Straight Connector 43"/>
            <p:cNvSpPr/>
            <p:nvPr/>
          </p:nvSpPr>
          <p:spPr>
            <a:xfrm>
              <a:off x="3032280" y="269244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Straight Connector 44"/>
            <p:cNvSpPr/>
            <p:nvPr/>
          </p:nvSpPr>
          <p:spPr>
            <a:xfrm>
              <a:off x="2209680" y="2738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45"/>
            <p:cNvSpPr/>
            <p:nvPr/>
          </p:nvSpPr>
          <p:spPr>
            <a:xfrm>
              <a:off x="525780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46"/>
            <p:cNvSpPr/>
            <p:nvPr/>
          </p:nvSpPr>
          <p:spPr>
            <a:xfrm>
              <a:off x="451188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47"/>
            <p:cNvSpPr/>
            <p:nvPr/>
          </p:nvSpPr>
          <p:spPr>
            <a:xfrm>
              <a:off x="381024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Box 11"/>
            <p:cNvSpPr/>
            <p:nvPr/>
          </p:nvSpPr>
          <p:spPr>
            <a:xfrm>
              <a:off x="3983400" y="314496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49"/>
            <p:cNvSpPr/>
            <p:nvPr/>
          </p:nvSpPr>
          <p:spPr>
            <a:xfrm>
              <a:off x="4160880" y="295128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Box 13"/>
            <p:cNvSpPr/>
            <p:nvPr/>
          </p:nvSpPr>
          <p:spPr>
            <a:xfrm>
              <a:off x="4729680" y="314964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51"/>
            <p:cNvSpPr/>
            <p:nvPr/>
          </p:nvSpPr>
          <p:spPr>
            <a:xfrm>
              <a:off x="4876920" y="296712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52"/>
            <p:cNvSpPr/>
            <p:nvPr/>
          </p:nvSpPr>
          <p:spPr>
            <a:xfrm>
              <a:off x="4876920" y="357660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Box 16"/>
            <p:cNvSpPr/>
            <p:nvPr/>
          </p:nvSpPr>
          <p:spPr>
            <a:xfrm>
              <a:off x="4696920" y="378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54"/>
            <p:cNvSpPr/>
            <p:nvPr/>
          </p:nvSpPr>
          <p:spPr>
            <a:xfrm>
              <a:off x="4899240" y="420876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55"/>
            <p:cNvSpPr/>
            <p:nvPr/>
          </p:nvSpPr>
          <p:spPr>
            <a:xfrm>
              <a:off x="4846680" y="420084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Box 19"/>
            <p:cNvSpPr/>
            <p:nvPr/>
          </p:nvSpPr>
          <p:spPr>
            <a:xfrm>
              <a:off x="4701240" y="4415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Straight Connector 57"/>
            <p:cNvSpPr/>
            <p:nvPr/>
          </p:nvSpPr>
          <p:spPr>
            <a:xfrm>
              <a:off x="4496040" y="40341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21"/>
            <p:cNvSpPr/>
            <p:nvPr/>
          </p:nvSpPr>
          <p:spPr>
            <a:xfrm>
              <a:off x="3568320" y="3800520"/>
              <a:ext cx="98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2678760" y="3821400"/>
              <a:ext cx="76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Straight Connector 60"/>
            <p:cNvSpPr/>
            <p:nvPr/>
          </p:nvSpPr>
          <p:spPr>
            <a:xfrm>
              <a:off x="3322800" y="40341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ounded Rectangular Callout 61"/>
            <p:cNvSpPr/>
            <p:nvPr/>
          </p:nvSpPr>
          <p:spPr>
            <a:xfrm>
              <a:off x="2666880" y="3699000"/>
              <a:ext cx="2971800" cy="11430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noFill/>
            <a:ln w="19080">
              <a:solidFill>
                <a:srgbClr val="8073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62"/>
            <p:cNvSpPr/>
            <p:nvPr/>
          </p:nvSpPr>
          <p:spPr>
            <a:xfrm>
              <a:off x="6324840" y="27684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Box 63"/>
            <p:cNvSpPr/>
            <p:nvPr/>
          </p:nvSpPr>
          <p:spPr>
            <a:xfrm>
              <a:off x="6358320" y="2514600"/>
              <a:ext cx="239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hosphorylcho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TextBox 2"/>
          <p:cNvSpPr/>
          <p:nvPr/>
        </p:nvSpPr>
        <p:spPr>
          <a:xfrm>
            <a:off x="929880" y="5786280"/>
            <a:ext cx="67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hingomyelin is the only significant sphingolipid in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erebrosid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380880" y="1752480"/>
            <a:ext cx="830592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o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eramide  +  Monosacchar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Galactocerebro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" descr="D:\Arun-Backup\project\Ferrier\Image_Bank\image_bank\images\jpg\figure_17.14.jpg"/>
          <p:cNvPicPr/>
          <p:nvPr/>
        </p:nvPicPr>
        <p:blipFill>
          <a:blip r:embed="rId1"/>
          <a:stretch/>
        </p:blipFill>
        <p:spPr>
          <a:xfrm>
            <a:off x="4265640" y="2270160"/>
            <a:ext cx="3735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angliosid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380880" y="1828800"/>
            <a:ext cx="830592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glio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eramide oligosacchar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6248520" y="1066680"/>
            <a:ext cx="2468520" cy="4480200"/>
            <a:chOff x="6248520" y="1066680"/>
            <a:chExt cx="2468520" cy="4480200"/>
          </a:xfrm>
        </p:grpSpPr>
        <p:pic>
          <p:nvPicPr>
            <p:cNvPr id="294" name="Picture 2" descr="D:\Arun-Backup\project\Ferrier\Image_Bank\image_bank\images\jpg\figure_17.15.jpg"/>
            <p:cNvPicPr/>
            <p:nvPr/>
          </p:nvPicPr>
          <p:blipFill>
            <a:blip r:embed="rId1"/>
            <a:stretch/>
          </p:blipFill>
          <p:spPr>
            <a:xfrm>
              <a:off x="6248520" y="1066680"/>
              <a:ext cx="2468520" cy="448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Box 2"/>
            <p:cNvSpPr/>
            <p:nvPr/>
          </p:nvSpPr>
          <p:spPr>
            <a:xfrm>
              <a:off x="7893720" y="517608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(NAN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TextBox 2"/>
          <p:cNvSpPr/>
          <p:nvPr/>
        </p:nvSpPr>
        <p:spPr>
          <a:xfrm>
            <a:off x="609480" y="5638680"/>
            <a:ext cx="7802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G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M2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G=ganglioside; M=mono molecule of NANA; 2=the monomeric sequence of the carbohydrate attached to the ceram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s’ Synthesi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298" name="Picture 2" descr="D:\Arun-Backup\project\Ferrier\Image_Bank\image_bank\images\jpg\figure_17.18.jpg"/>
          <p:cNvPicPr/>
          <p:nvPr/>
        </p:nvPicPr>
        <p:blipFill>
          <a:blip r:embed="rId1"/>
          <a:stretch/>
        </p:blipFill>
        <p:spPr>
          <a:xfrm>
            <a:off x="152280" y="1951200"/>
            <a:ext cx="84502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yelin Structur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00" name="TextBox 3"/>
          <p:cNvSpPr/>
          <p:nvPr/>
        </p:nvSpPr>
        <p:spPr>
          <a:xfrm>
            <a:off x="380880" y="1752480"/>
            <a:ext cx="830592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yelin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specialized cell membrane that ensheathes an axon to form a myelinated nerve fi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yelin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rodu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hwann cells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eripheral ner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ligodendrocytes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yelin</a:t>
            </a: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pids (80%)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25152"/>
                </a:solidFill>
                <a:latin typeface="Times New Roman"/>
                <a:ea typeface="Times New Roman"/>
              </a:rPr>
              <a:t>Main component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rebro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r>
              <a:rPr b="0" lang="en-US" sz="2000" spc="-1" strike="noStrike">
                <a:solidFill>
                  <a:srgbClr val="f25152"/>
                </a:solidFill>
                <a:latin typeface="Times New Roman"/>
                <a:ea typeface="Times New Roman"/>
              </a:rPr>
              <a:t>Other component: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Sphingomy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teins (20%):</a:t>
            </a: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e.g. Myelin basic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yelin Structur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380880" y="1752480"/>
            <a:ext cx="83059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ty acid of Sphingomyel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yelin she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ong chain fatty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ignoceric   24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ervonic     24:1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yelin Structure and function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380880" y="1676520"/>
            <a:ext cx="83059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elin sheath insulates the nerve axon to avoid signal leakage and greatly speeds up the transmission of impulses along ax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e scleros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-degenerative, auto-immune dis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down of myelin sheath (demyelin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ive transmission of nerve impul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2"/>
          <p:cNvGrpSpPr/>
          <p:nvPr/>
        </p:nvGrpSpPr>
        <p:grpSpPr>
          <a:xfrm>
            <a:off x="2251080" y="2590920"/>
            <a:ext cx="3943080" cy="1308600"/>
            <a:chOff x="2251080" y="2590920"/>
            <a:chExt cx="3943080" cy="1308600"/>
          </a:xfrm>
        </p:grpSpPr>
        <p:sp>
          <p:nvSpPr>
            <p:cNvPr id="306" name="Right Arrow 17"/>
            <p:cNvSpPr/>
            <p:nvPr/>
          </p:nvSpPr>
          <p:spPr>
            <a:xfrm>
              <a:off x="3514680" y="2979720"/>
              <a:ext cx="720720" cy="144360"/>
            </a:xfrm>
            <a:prstGeom prst="rightArrow">
              <a:avLst>
                <a:gd name="adj1" fmla="val 50000"/>
                <a:gd name="adj2" fmla="val 50041"/>
              </a:avLst>
            </a:prstGeom>
            <a:solidFill>
              <a:srgbClr val="a6987d"/>
            </a:solidFill>
            <a:ln w="19080">
              <a:solidFill>
                <a:srgbClr val="a69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1"/>
            <p:cNvGrpSpPr/>
            <p:nvPr/>
          </p:nvGrpSpPr>
          <p:grpSpPr>
            <a:xfrm>
              <a:off x="2251080" y="2590920"/>
              <a:ext cx="3943080" cy="1308600"/>
              <a:chOff x="2251080" y="2590920"/>
              <a:chExt cx="3943080" cy="1308600"/>
            </a:xfrm>
          </p:grpSpPr>
          <p:grpSp>
            <p:nvGrpSpPr>
              <p:cNvPr id="308" name="Group 26"/>
              <p:cNvGrpSpPr/>
              <p:nvPr/>
            </p:nvGrpSpPr>
            <p:grpSpPr>
              <a:xfrm>
                <a:off x="2251080" y="2899800"/>
                <a:ext cx="3943080" cy="999720"/>
                <a:chOff x="2251080" y="2899800"/>
                <a:chExt cx="3943080" cy="999720"/>
              </a:xfrm>
            </p:grpSpPr>
            <p:sp>
              <p:nvSpPr>
                <p:cNvPr id="309" name="Oval 4"/>
                <p:cNvSpPr/>
                <p:nvPr/>
              </p:nvSpPr>
              <p:spPr>
                <a:xfrm>
                  <a:off x="2251080" y="3078000"/>
                  <a:ext cx="685800" cy="685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Straight Connector 5"/>
                <p:cNvSpPr/>
                <p:nvPr/>
              </p:nvSpPr>
              <p:spPr>
                <a:xfrm>
                  <a:off x="2925720" y="3363840"/>
                  <a:ext cx="26766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Block Arc 6"/>
                <p:cNvSpPr/>
                <p:nvPr/>
              </p:nvSpPr>
              <p:spPr>
                <a:xfrm flipV="1" rot="5240400">
                  <a:off x="5371560" y="3084840"/>
                  <a:ext cx="971640" cy="628560"/>
                </a:xfrm>
                <a:custGeom>
                  <a:avLst/>
                  <a:gdLst/>
                  <a:ahLst/>
                  <a:rect l="l" t="t" r="r" b="b"/>
                  <a:pathLst>
                    <a:path w="1295400" h="837932">
                      <a:moveTo>
                        <a:pt x="0" y="418966"/>
                      </a:moveTo>
                      <a:cubicBezTo>
                        <a:pt x="0" y="187577"/>
                        <a:pt x="289985" y="0"/>
                        <a:pt x="647700" y="0"/>
                      </a:cubicBezTo>
                      <a:cubicBezTo>
                        <a:pt x="1005415" y="0"/>
                        <a:pt x="1295400" y="187577"/>
                        <a:pt x="1295400" y="418966"/>
                      </a:cubicBezTo>
                      <a:lnTo>
                        <a:pt x="1085917" y="418966"/>
                      </a:lnTo>
                      <a:cubicBezTo>
                        <a:pt x="1085917" y="303272"/>
                        <a:pt x="889721" y="209483"/>
                        <a:pt x="647700" y="209483"/>
                      </a:cubicBezTo>
                      <a:cubicBezTo>
                        <a:pt x="405679" y="209483"/>
                        <a:pt x="209483" y="303272"/>
                        <a:pt x="209483" y="418966"/>
                      </a:cubicBezTo>
                      <a:lnTo>
                        <a:pt x="0" y="41896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Snip Same Side Corner Rectangle 7"/>
                <p:cNvSpPr/>
                <p:nvPr/>
              </p:nvSpPr>
              <p:spPr>
                <a:xfrm>
                  <a:off x="3028680" y="324936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Snip Same Side Corner Rectangle 8"/>
                <p:cNvSpPr/>
                <p:nvPr/>
              </p:nvSpPr>
              <p:spPr>
                <a:xfrm>
                  <a:off x="3840120" y="324936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Snip Same Side Corner Rectangle 9"/>
                <p:cNvSpPr/>
                <p:nvPr/>
              </p:nvSpPr>
              <p:spPr>
                <a:xfrm>
                  <a:off x="4640400" y="324936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Straight Connector 10"/>
                <p:cNvSpPr/>
                <p:nvPr/>
              </p:nvSpPr>
              <p:spPr>
                <a:xfrm flipH="1">
                  <a:off x="2925360" y="3443400"/>
                  <a:ext cx="262908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Snip Same Side Corner Rectangle 11"/>
                <p:cNvSpPr/>
                <p:nvPr/>
              </p:nvSpPr>
              <p:spPr>
                <a:xfrm flipH="1" flipV="1">
                  <a:off x="3039120" y="344268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Snip Same Side Corner Rectangle 12"/>
                <p:cNvSpPr/>
                <p:nvPr/>
              </p:nvSpPr>
              <p:spPr>
                <a:xfrm flipH="1" flipV="1">
                  <a:off x="3839400" y="344268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Snip Same Side Corner Rectangle 13"/>
                <p:cNvSpPr/>
                <p:nvPr/>
              </p:nvSpPr>
              <p:spPr>
                <a:xfrm flipH="1" flipV="1">
                  <a:off x="4639680" y="3442680"/>
                  <a:ext cx="685800" cy="114120"/>
                </a:xfrm>
                <a:custGeom>
                  <a:avLst/>
                  <a:gdLst/>
                  <a:ahLst/>
                  <a:rect l="l" t="t" r="r" b="b"/>
                  <a:pathLst>
                    <a:path w="914108" h="152400">
                      <a:moveTo>
                        <a:pt x="25401" y="0"/>
                      </a:moveTo>
                      <a:lnTo>
                        <a:pt x="888707" y="0"/>
                      </a:lnTo>
                      <a:lnTo>
                        <a:pt x="914108" y="25401"/>
                      </a:lnTo>
                      <a:lnTo>
                        <a:pt x="914108" y="152400"/>
                      </a:lnTo>
                      <a:lnTo>
                        <a:pt x="914108" y="152400"/>
                      </a:lnTo>
                      <a:lnTo>
                        <a:pt x="0" y="152400"/>
                      </a:lnTo>
                      <a:lnTo>
                        <a:pt x="0" y="152400"/>
                      </a:lnTo>
                      <a:lnTo>
                        <a:pt x="0" y="25401"/>
                      </a:lnTo>
                      <a:lnTo>
                        <a:pt x="25401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Curved Up Arrow 14"/>
                <p:cNvSpPr/>
                <p:nvPr/>
              </p:nvSpPr>
              <p:spPr>
                <a:xfrm>
                  <a:off x="4618080" y="3371760"/>
                  <a:ext cx="742680" cy="34920"/>
                </a:xfrm>
                <a:custGeom>
                  <a:avLst/>
                  <a:gdLst>
                    <a:gd name="textAreaLeft" fmla="*/ 182160 w 742680"/>
                    <a:gd name="textAreaRight" fmla="*/ 555840 w 742680"/>
                    <a:gd name="textAreaTop" fmla="*/ 4680 h 34920"/>
                    <a:gd name="textAreaBottom" fmla="*/ 30240 h 3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10610" hR="21600" stAng="10800000" swAng="-5400000"/>
                      <a:lnTo>
                        <a:pt x="10864" y="21600"/>
                      </a:lnTo>
                      <a:arcTo wR="10610" hR="21600" stAng="5400000" swAng="-3736226"/>
                      <a:lnTo>
                        <a:pt x="21263" y="5400"/>
                      </a:lnTo>
                      <a:lnTo>
                        <a:pt x="21346" y="0"/>
                      </a:lnTo>
                      <a:lnTo>
                        <a:pt x="20755" y="5400"/>
                      </a:lnTo>
                      <a:lnTo>
                        <a:pt x="20882" y="5400"/>
                      </a:lnTo>
                      <a:arcTo wR="10610" hR="21600" stAng="1663774" swAng="3716013"/>
                      <a:lnTo>
                        <a:pt x="10737" y="21598"/>
                      </a:lnTo>
                      <a:arcTo wR="10610" hR="21600" stAng="5420214" swAng="5379786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10610" hR="21600" stAng="10800000" swAng="-5400000"/>
                      <a:lnTo>
                        <a:pt x="10864" y="21600"/>
                      </a:lnTo>
                      <a:arcTo wR="10610" hR="21600" stAng="5400000" swAng="20214"/>
                      <a:lnTo>
                        <a:pt x="10737" y="21598"/>
                      </a:lnTo>
                      <a:arcTo wR="10610" hR="21600" stAng="5420214" swAng="5379786"/>
                      <a:close/>
                    </a:path>
                  </a:pathLst>
                </a:custGeom>
                <a:solidFill>
                  <a:srgbClr val="92d050"/>
                </a:soli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Curved Up Arrow 15"/>
                <p:cNvSpPr/>
                <p:nvPr/>
              </p:nvSpPr>
              <p:spPr>
                <a:xfrm>
                  <a:off x="3828960" y="3371760"/>
                  <a:ext cx="742680" cy="34920"/>
                </a:xfrm>
                <a:custGeom>
                  <a:avLst/>
                  <a:gdLst>
                    <a:gd name="textAreaLeft" fmla="*/ 182160 w 742680"/>
                    <a:gd name="textAreaRight" fmla="*/ 555840 w 742680"/>
                    <a:gd name="textAreaTop" fmla="*/ 4680 h 34920"/>
                    <a:gd name="textAreaBottom" fmla="*/ 30240 h 3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10610" hR="21600" stAng="10800000" swAng="-5400000"/>
                      <a:lnTo>
                        <a:pt x="10864" y="21600"/>
                      </a:lnTo>
                      <a:arcTo wR="10610" hR="21600" stAng="5400000" swAng="-3736226"/>
                      <a:lnTo>
                        <a:pt x="21263" y="5400"/>
                      </a:lnTo>
                      <a:lnTo>
                        <a:pt x="21346" y="0"/>
                      </a:lnTo>
                      <a:lnTo>
                        <a:pt x="20755" y="5400"/>
                      </a:lnTo>
                      <a:lnTo>
                        <a:pt x="20882" y="5400"/>
                      </a:lnTo>
                      <a:arcTo wR="10610" hR="21600" stAng="1663774" swAng="3716013"/>
                      <a:lnTo>
                        <a:pt x="10737" y="21598"/>
                      </a:lnTo>
                      <a:arcTo wR="10610" hR="21600" stAng="5420214" swAng="5379786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10610" hR="21600" stAng="10800000" swAng="-5400000"/>
                      <a:lnTo>
                        <a:pt x="10864" y="21600"/>
                      </a:lnTo>
                      <a:arcTo wR="10610" hR="21600" stAng="5400000" swAng="20214"/>
                      <a:lnTo>
                        <a:pt x="10737" y="21598"/>
                      </a:lnTo>
                      <a:arcTo wR="10610" hR="21600" stAng="5420214" swAng="5379786"/>
                      <a:close/>
                    </a:path>
                  </a:pathLst>
                </a:custGeom>
                <a:solidFill>
                  <a:srgbClr val="92d050"/>
                </a:soli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Curved Up Arrow 16"/>
                <p:cNvSpPr/>
                <p:nvPr/>
              </p:nvSpPr>
              <p:spPr>
                <a:xfrm>
                  <a:off x="3016080" y="3360600"/>
                  <a:ext cx="744480" cy="33120"/>
                </a:xfrm>
                <a:custGeom>
                  <a:avLst/>
                  <a:gdLst>
                    <a:gd name="textAreaLeft" fmla="*/ 182880 w 744480"/>
                    <a:gd name="textAreaRight" fmla="*/ 557280 w 744480"/>
                    <a:gd name="textAreaTop" fmla="*/ 4320 h 33120"/>
                    <a:gd name="textAreaBottom" fmla="*/ 28800 h 33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10619" hR="21600" stAng="10800000" swAng="-5400000"/>
                      <a:lnTo>
                        <a:pt x="10861" y="21600"/>
                      </a:lnTo>
                      <a:arcTo wR="10619" hR="21600" stAng="5400000" swAng="-3737427"/>
                      <a:lnTo>
                        <a:pt x="21263" y="5400"/>
                      </a:lnTo>
                      <a:lnTo>
                        <a:pt x="21358" y="0"/>
                      </a:lnTo>
                      <a:lnTo>
                        <a:pt x="20779" y="5400"/>
                      </a:lnTo>
                      <a:lnTo>
                        <a:pt x="20900" y="5400"/>
                      </a:lnTo>
                      <a:arcTo wR="10619" hR="21600" stAng="1662573" swAng="3718168"/>
                      <a:lnTo>
                        <a:pt x="10740" y="21599"/>
                      </a:lnTo>
                      <a:arcTo wR="10619" hR="21600" stAng="5419259" swAng="5380741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10619" hR="21600" stAng="10800000" swAng="-5400000"/>
                      <a:lnTo>
                        <a:pt x="10861" y="21600"/>
                      </a:lnTo>
                      <a:arcTo wR="10619" hR="21600" stAng="5400000" swAng="19259"/>
                      <a:lnTo>
                        <a:pt x="10740" y="21599"/>
                      </a:lnTo>
                      <a:arcTo wR="10619" hR="21600" stAng="5419259" swAng="5380741"/>
                      <a:close/>
                    </a:path>
                  </a:pathLst>
                </a:custGeom>
                <a:solidFill>
                  <a:srgbClr val="92d050"/>
                </a:soli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TextBox 5"/>
              <p:cNvSpPr/>
              <p:nvPr/>
            </p:nvSpPr>
            <p:spPr>
              <a:xfrm>
                <a:off x="2580840" y="2590920"/>
                <a:ext cx="305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0c0"/>
                    </a:solidFill>
                    <a:latin typeface="Times New Roman"/>
                    <a:ea typeface="Times New Roman"/>
                  </a:rPr>
                  <a:t>Direction of nerve impul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os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380880" y="2209680"/>
            <a:ext cx="83059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al or total missing of a specific lysosomal acid hydrolase leads to accumulation of a sphingolip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al lipid storage diseases caused by these deficiencie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golipid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380880" y="1981080"/>
            <a:ext cx="830592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hes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(Norma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Degradation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(Defectiv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rate accumulates in organ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ve, early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enotypic and genotypic vari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somal recessive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(mostl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re,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Except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hkenazi Je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380880" y="56386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only a single sphingolipid accumulates in the involved organs in each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’d</a:t>
            </a:r>
            <a:r>
              <a:rPr b="1" i="1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32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380880" y="2438280"/>
            <a:ext cx="83059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princ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home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380880" y="1523880"/>
            <a:ext cx="83059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Diagno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enzyme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152"/>
                </a:solidFill>
                <a:latin typeface="Times New Roman"/>
                <a:ea typeface="Times New Roman"/>
              </a:rPr>
              <a:t>Cultured fibroblasts or peripheral leukoc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5152"/>
                </a:solidFill>
                <a:latin typeface="Times New Roman"/>
                <a:ea typeface="Times New Roman"/>
              </a:rPr>
              <a:t>Cultured amniocytes or chorionic villi (prena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logic exa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Treatment: </a:t>
            </a:r>
            <a:r>
              <a:rPr b="1" lang="en-US" sz="2400" spc="-1" strike="noStrike">
                <a:solidFill>
                  <a:srgbClr val="f25152"/>
                </a:solidFill>
                <a:latin typeface="Times New Roman"/>
              </a:rPr>
              <a:t>e.g. for Gaucher dise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ment Therapy (e.g. recombinant human enzy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marrow transpla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’d</a:t>
            </a:r>
            <a:r>
              <a:rPr b="1" i="1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32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 rot="18515400">
            <a:off x="-693000" y="2035800"/>
            <a:ext cx="478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os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3809880" y="76320"/>
            <a:ext cx="4554720" cy="5486400"/>
            <a:chOff x="3809880" y="76320"/>
            <a:chExt cx="4554720" cy="5486400"/>
          </a:xfrm>
        </p:grpSpPr>
        <p:grpSp>
          <p:nvGrpSpPr>
            <p:cNvPr id="332" name="Group 2"/>
            <p:cNvGrpSpPr/>
            <p:nvPr/>
          </p:nvGrpSpPr>
          <p:grpSpPr>
            <a:xfrm>
              <a:off x="3809880" y="76320"/>
              <a:ext cx="4554720" cy="5486400"/>
              <a:chOff x="3809880" y="76320"/>
              <a:chExt cx="4554720" cy="5486400"/>
            </a:xfrm>
          </p:grpSpPr>
          <p:pic>
            <p:nvPicPr>
              <p:cNvPr id="333" name="Picture 2" descr="D:\Arun-Backup\project\Ferrier\Image_Bank\image_bank\images\jpg\figure_17.20.jpg"/>
              <p:cNvPicPr/>
              <p:nvPr/>
            </p:nvPicPr>
            <p:blipFill>
              <a:blip r:embed="rId1"/>
              <a:stretch/>
            </p:blipFill>
            <p:spPr>
              <a:xfrm>
                <a:off x="3809880" y="76320"/>
                <a:ext cx="45547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Oval 1"/>
              <p:cNvSpPr/>
              <p:nvPr/>
            </p:nvSpPr>
            <p:spPr>
              <a:xfrm>
                <a:off x="5419440" y="1990800"/>
                <a:ext cx="874800" cy="291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5"/>
              <p:cNvSpPr/>
              <p:nvPr/>
            </p:nvSpPr>
            <p:spPr>
              <a:xfrm>
                <a:off x="6026040" y="3861000"/>
                <a:ext cx="876240" cy="291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6"/>
              <p:cNvSpPr/>
              <p:nvPr/>
            </p:nvSpPr>
            <p:spPr>
              <a:xfrm>
                <a:off x="6273720" y="4400640"/>
                <a:ext cx="876240" cy="1854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ounded Rectangle 2"/>
            <p:cNvSpPr/>
            <p:nvPr/>
          </p:nvSpPr>
          <p:spPr>
            <a:xfrm>
              <a:off x="3889080" y="631800"/>
              <a:ext cx="788760" cy="1173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ounded Rectangle 12"/>
            <p:cNvSpPr/>
            <p:nvPr/>
          </p:nvSpPr>
          <p:spPr>
            <a:xfrm>
              <a:off x="3889080" y="2052720"/>
              <a:ext cx="726840" cy="1015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ounded Rectangle 14"/>
            <p:cNvSpPr/>
            <p:nvPr/>
          </p:nvSpPr>
          <p:spPr>
            <a:xfrm>
              <a:off x="7286760" y="3597480"/>
              <a:ext cx="912600" cy="174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iemann-pick diseas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341" name="Picture 2" descr="D:\Arun-Backup\project\Ferrier\Image_Bank\image_bank\images\jpg\figure_17.12.jpg"/>
          <p:cNvPicPr/>
          <p:nvPr/>
        </p:nvPicPr>
        <p:blipFill>
          <a:blip r:embed="rId1"/>
          <a:stretch/>
        </p:blipFill>
        <p:spPr>
          <a:xfrm>
            <a:off x="2755800" y="1371600"/>
            <a:ext cx="3645000" cy="4206960"/>
          </a:xfrm>
          <a:prstGeom prst="rect">
            <a:avLst/>
          </a:prstGeom>
          <a:ln w="0">
            <a:noFill/>
          </a:ln>
        </p:spPr>
      </p:pic>
      <p:sp>
        <p:nvSpPr>
          <p:cNvPr id="342" name="Oval 3"/>
          <p:cNvSpPr/>
          <p:nvPr/>
        </p:nvSpPr>
        <p:spPr>
          <a:xfrm>
            <a:off x="4038480" y="4114800"/>
            <a:ext cx="2057400" cy="434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aucher diseas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pic>
        <p:nvPicPr>
          <p:cNvPr id="344" name="Picture 2" descr="D:\Arun-Backup\project\Ferrier\Image_Bank\image_bank\images\jpg\figure_17.19.jpg"/>
          <p:cNvPicPr/>
          <p:nvPr/>
        </p:nvPicPr>
        <p:blipFill>
          <a:blip r:embed="rId1"/>
          <a:stretch/>
        </p:blipFill>
        <p:spPr>
          <a:xfrm>
            <a:off x="2603520" y="1371600"/>
            <a:ext cx="3645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ke home messag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380880" y="1523880"/>
            <a:ext cx="83059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ingolipids are complex lipids that includes sphingo-phospholipids and glyc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amide is the precursor of all sphing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ingolipids are present mainly in nerve tissue, but they are also found extra-ne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in sheath insulates the nerve axon to avoid signal leakage and speed up impulse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ingolipidoses are rare genetic diseases due to defective degeneration of sphing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380880" y="2446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ppincott Illustrated Review of Biochemistry,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ition, 2014, Unit 3, Chapter 17, Pages 201-2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380880" y="1523880"/>
            <a:ext cx="8305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the students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Sphingolipids class of lipids as regard their chemical structure, tissue distribution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familiar with the biochemical structure and function of mye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the basics of biosynthesis of sphing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introduced to Sphingolipid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380880" y="2209680"/>
            <a:ext cx="83059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two classes of phospholipids based on the backb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 (from gluc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gosine (from serine and palmit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80880" y="1600200"/>
            <a:ext cx="83059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component of membr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ndant in nervous t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exist extra-nervous tiss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Receptors f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htheria tox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CKGROU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’d</a:t>
            </a:r>
            <a:r>
              <a:rPr b="1" i="1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32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380880" y="1905120"/>
            <a:ext cx="83059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ion of growth and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antigen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group an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yonic an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or an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trans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CKGROU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Cont’d</a:t>
            </a:r>
            <a:r>
              <a:rPr b="1" i="1" lang="is-IS" sz="32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32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ey Principl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380880" y="1905120"/>
            <a:ext cx="830592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structure of Sphingolip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sphingolipids (Glycolipi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gophospholipids, e.g. Sphingomye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in structure and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ingolipid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lipid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ure and types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hingosine</a:t>
            </a:r>
            <a:endParaRPr b="0" lang="en-US" sz="36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380880" y="16002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chain, unsaturated amino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1396800" y="2405160"/>
            <a:ext cx="6202800" cy="1149840"/>
            <a:chOff x="1396800" y="2405160"/>
            <a:chExt cx="6202800" cy="1149840"/>
          </a:xfrm>
        </p:grpSpPr>
        <p:sp>
          <p:nvSpPr>
            <p:cNvPr id="222" name="TextBox 7"/>
            <p:cNvSpPr/>
            <p:nvPr/>
          </p:nvSpPr>
          <p:spPr>
            <a:xfrm>
              <a:off x="1396800" y="2405160"/>
              <a:ext cx="620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(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CH     CH     CH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Straight Connector 5"/>
            <p:cNvSpPr/>
            <p:nvPr/>
          </p:nvSpPr>
          <p:spPr>
            <a:xfrm>
              <a:off x="2001960" y="26337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Straight Connector 6"/>
            <p:cNvSpPr/>
            <p:nvPr/>
          </p:nvSpPr>
          <p:spPr>
            <a:xfrm>
              <a:off x="3921120" y="264960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Straight Connector 7"/>
            <p:cNvSpPr/>
            <p:nvPr/>
          </p:nvSpPr>
          <p:spPr>
            <a:xfrm>
              <a:off x="3921120" y="260352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Straight Connector 8"/>
            <p:cNvSpPr/>
            <p:nvPr/>
          </p:nvSpPr>
          <p:spPr>
            <a:xfrm>
              <a:off x="3205080" y="263376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Straight Connector 9"/>
            <p:cNvSpPr/>
            <p:nvPr/>
          </p:nvSpPr>
          <p:spPr>
            <a:xfrm>
              <a:off x="6253200" y="266364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Straight Connector 10"/>
            <p:cNvSpPr/>
            <p:nvPr/>
          </p:nvSpPr>
          <p:spPr>
            <a:xfrm>
              <a:off x="5506920" y="266364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Straight Connector 11"/>
            <p:cNvSpPr/>
            <p:nvPr/>
          </p:nvSpPr>
          <p:spPr>
            <a:xfrm>
              <a:off x="4729320" y="2663640"/>
              <a:ext cx="2286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Box 22"/>
            <p:cNvSpPr/>
            <p:nvPr/>
          </p:nvSpPr>
          <p:spPr>
            <a:xfrm>
              <a:off x="4978800" y="304020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>
              <a:off x="5156280" y="284652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Box 24"/>
            <p:cNvSpPr/>
            <p:nvPr/>
          </p:nvSpPr>
          <p:spPr>
            <a:xfrm>
              <a:off x="5732280" y="30448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>
              <a:off x="5872320" y="2862360"/>
              <a:ext cx="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em</dc:creator>
  <dc:description/>
  <dc:language>en-US</dc:language>
  <cp:lastModifiedBy>Ahmed Mujamammi</cp:lastModifiedBy>
  <dcterms:modified xsi:type="dcterms:W3CDTF">2017-09-20T04:27:59Z</dcterms:modified>
  <cp:revision>180</cp:revision>
  <dc:subject/>
  <dc:title>PowerPoint Presentation</dc:title>
</cp:coreProperties>
</file>