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551F-4D43-46DB-A387-34746514E4D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2D57-23C3-4413-86C3-BBD288E0E61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693A-29D7-4A45-968B-4C474B95ABF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E303-293B-49D7-B914-359D409DB54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B267-A9D5-44EF-B866-C8F30A43236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86B8-7568-4995-B129-D77E8E88F70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9EA0-B060-47BD-A3F6-DCE859F9793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1AE0-96A2-4457-ADEF-F0095394CA2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9C65-893B-46E0-BE7F-47FC30F01B0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17E5-BA61-4875-8E80-0A1341AD2DE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4D52-433D-42CF-85C8-6B182533F97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E341-3DDF-45C8-A049-2DD44C518A4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D2EA-DD97-4D1D-AA4D-73762E12C1C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224A-342F-432C-919D-20F0C7F412D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38B2-6AD7-4F29-A9F4-36CFA384E4F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AD2-D4D8-4395-B7F6-04910E1B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331-AD53-4E12-9EA6-BE7DB12E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888-D8F8-418A-B71A-23C5F724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5F4C-F1B1-44EF-91BE-A34CFC1D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991F-1D70-4724-8C8F-C44B5351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0FC9-F1FD-4B17-9165-F98E6851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198D-48AB-4C41-A535-25CCF0AF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5AC7-CD07-46BC-8300-C2073CE8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CFB6-8827-477A-99E4-B782E390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2E73-7F39-42AE-80BB-B2E318B7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608A-D766-43F3-A85D-ABFBAEC3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B6C-06D0-4967-A9B6-8E7B754F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0148-91CB-4EEB-BE61-8469CBCE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9DF2-AD10-4D20-83D7-1060CBD3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7E92-95A6-488C-AB6A-95A05AFD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9707-EBF8-444F-9869-8F38A10E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DAC9-6743-42DB-8F0B-1CCA1907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F34-8ECC-42E8-A8CC-D99BDE17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42E-00EC-43C8-9A29-37FB8127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186-B067-46D1-9FFF-05D47706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1B41-A124-429B-8BC6-2539B7AB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F34-A50D-4444-B296-15D8F422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7E7-C314-44AF-829E-6AAD5973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CA3-71B0-4DA3-B1A2-D9758F8B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A425-FE70-4313-AA1A-EF892814D41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E8E3-6B05-45FB-9343-2C491340DB3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14320" y="86148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CNS Depressants 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91960" y="2470320"/>
            <a:ext cx="524844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b #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assification of Barbiturate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60520" y="1395360"/>
            <a:ext cx="7531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the  duration of 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Ultrashort ac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15 minutes) e.g. Thiop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hort ac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2-4 hours) e.g. Pentobarbital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Intermediate ac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-6 hours) e.g. Amoba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Long ac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6-8 hours): e.g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enoba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edative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that cause sedation and to calm the patient down without inducing sle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dos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reas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y will induce sle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loral Hyd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loroethanol is the active metabolite of chloral hydrat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loroacetic acid is the toxic metabolit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ranquilizer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drugs which used to relieve mental anxiety and st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lorpromazine (CP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y </a:t>
            </a:r>
            <a:r>
              <a:rPr b="1" i="1" lang="en-US" sz="2400" spc="-1" strike="noStrike" u="sng">
                <a:solidFill>
                  <a:srgbClr val="004f9e"/>
                </a:solidFill>
                <a:uFillTx/>
                <a:latin typeface="Arial"/>
              </a:rPr>
              <a:t>blocking dopamine (D   )rece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501240" y="2976480"/>
            <a:ext cx="30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4f9e"/>
                </a:solidFill>
                <a:uFillTx/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Righting reflex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e ability of the mice to assume optimal posi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t lost:   (-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Phenobarbi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ghting reflex –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Chloral hydr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sedative dose the righting reflex is +ve , when the dose repeated it will induce sleep and the righting reflex will be –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chlorpromaz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ighting reflex is +ve and still +ve even  the dose is repeate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hlorpromazine 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PZ</a:t>
            </a: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33360" y="139536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injection of CPZ  we can observe signs a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xic gait: loss of muscle coordina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epsy : rigid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sping test (CPZ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trying to put the mice on the cord, the mice will fall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alculate the dose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52480" y="1409760"/>
          <a:ext cx="7145280" cy="2106720"/>
        </p:xfrm>
        <a:graphic>
          <a:graphicData uri="http://schemas.openxmlformats.org/drawingml/2006/table">
            <a:tbl>
              <a:tblPr/>
              <a:tblGrid>
                <a:gridCol w="1785960"/>
                <a:gridCol w="2138400"/>
                <a:gridCol w="1435320"/>
                <a:gridCol w="1785600"/>
              </a:tblGrid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 (g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e (mg/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no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barb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al Hyd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quiliz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promaz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2" name="Group 53"/>
          <p:cNvGrpSpPr/>
          <p:nvPr/>
        </p:nvGrpSpPr>
        <p:grpSpPr>
          <a:xfrm>
            <a:off x="647640" y="4749840"/>
            <a:ext cx="8038080" cy="825480"/>
            <a:chOff x="647640" y="4749840"/>
            <a:chExt cx="8038080" cy="825480"/>
          </a:xfrm>
        </p:grpSpPr>
        <p:sp>
          <p:nvSpPr>
            <p:cNvPr id="123" name="Text Box 54"/>
            <p:cNvSpPr/>
            <p:nvPr/>
          </p:nvSpPr>
          <p:spPr>
            <a:xfrm>
              <a:off x="647640" y="4902120"/>
              <a:ext cx="481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jection volume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55"/>
            <p:cNvGrpSpPr/>
            <p:nvPr/>
          </p:nvGrpSpPr>
          <p:grpSpPr>
            <a:xfrm>
              <a:off x="2933640" y="4749840"/>
              <a:ext cx="5752080" cy="825480"/>
              <a:chOff x="2933640" y="4749840"/>
              <a:chExt cx="5752080" cy="825480"/>
            </a:xfrm>
          </p:grpSpPr>
          <p:sp>
            <p:nvSpPr>
              <p:cNvPr id="125" name="Line 56"/>
              <p:cNvSpPr/>
              <p:nvPr/>
            </p:nvSpPr>
            <p:spPr>
              <a:xfrm>
                <a:off x="2933640" y="5130720"/>
                <a:ext cx="419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57"/>
              <p:cNvSpPr/>
              <p:nvPr/>
            </p:nvSpPr>
            <p:spPr>
              <a:xfrm>
                <a:off x="2936520" y="4749840"/>
                <a:ext cx="406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ose (mg/Kg) x Body weight in Gra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58"/>
              <p:cNvSpPr/>
              <p:nvPr/>
            </p:nvSpPr>
            <p:spPr>
              <a:xfrm>
                <a:off x="3546000" y="5207040"/>
                <a:ext cx="210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nc g%   x 10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59"/>
              <p:cNvSpPr/>
              <p:nvPr/>
            </p:nvSpPr>
            <p:spPr>
              <a:xfrm>
                <a:off x="7430400" y="4902120"/>
                <a:ext cx="125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= xxxxx m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bjectiv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emonstrate the effect of different types of CNS depressants a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neral anaesth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ypnotic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نو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dative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سك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ranquilizer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هدئا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how to distinguish between their signs if they are given as unknown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Introduction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S depressants are drugs that can be used to slow down brain activity or func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umerous CNS depressants; most act on the brain by affecting the neurotransmitter gamma-aminobutyric acid (GA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BA works by decreasing brain ac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S depressants have ability to increase GABA activity that they produce a drowsy or calming effect that is beneficial to those suffering from anxiety or sleep  disor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General Anaesthetic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120" y="1395360"/>
            <a:ext cx="6735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drugs which produce reversible loss of consciousnes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وع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Mechanism of ac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y alter chloride channel opening cause                           hyperpolarization so they decrease fi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y facilitate the inhibitory effects of GAB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ages Of Anesthesia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buClr>
                <a:srgbClr val="8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tage of analgesi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 feeling of pain but the patient is still consci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8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tage of exciteme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irium , respiration is irregular and the consciousness is lost but the feeling of severe pain is 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8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tage of surgical anesthesi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ular respiration, relaxation of the skeletal muscles and the feeling of surgery is l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Up Arrow Callout 4"/>
          <p:cNvSpPr/>
          <p:nvPr/>
        </p:nvSpPr>
        <p:spPr>
          <a:xfrm>
            <a:off x="2882880" y="4830840"/>
            <a:ext cx="5048280" cy="1311120"/>
          </a:xfrm>
          <a:prstGeom prst="upArrowCallout">
            <a:avLst>
              <a:gd name="adj1" fmla="val 25030"/>
              <a:gd name="adj2" fmla="val 25009"/>
              <a:gd name="adj3" fmla="val 25000"/>
              <a:gd name="adj4" fmla="val 70041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637440" y="5506920"/>
            <a:ext cx="3477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arge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ages Of Anesthesia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V.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tage of medullary depres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vere depression in vasomotor center in the medulla and respiratory center. Without full circulatory and respiratory support the result is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Classification of General Anesthetics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types of General Anesthetics ag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aled Anesthe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venous Anesthe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A- Inhaled 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e liqui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Halothane, Isoflurane, Enflurane, Desflurane, Sevoflurane and Methoxyflur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G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Nitrous oxid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B- IV 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 short acting Barbiturates ( e.g. Thiopental), Ketamine, Propofol, Midazolam (Benzodiazepines) and Fentanyl ( Opio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605640" y="223920"/>
            <a:ext cx="213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Hypnotic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drugs that induce sleep in case of insomnia. e.g. Barbiturates and Benzodiazep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rbiturates &amp; Benzodiazep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act by  enhance the actions of GA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3:40:34Z</dcterms:created>
  <dc:creator>sultan4ever</dc:creator>
  <dc:description/>
  <dc:language>en-US</dc:language>
  <cp:lastModifiedBy>User</cp:lastModifiedBy>
  <dcterms:modified xsi:type="dcterms:W3CDTF">2015-05-10T10:43:06Z</dcterms:modified>
  <cp:revision>40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9511033</vt:lpwstr>
  </property>
</Properties>
</file>