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DAE5-7640-4FC4-BAC9-ED3791CC1D2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D18B-F3A3-4119-AC33-6C828FC0DCA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0883-27C8-4F0C-AB2F-512F7FBBDC3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5240-2534-4838-B8FF-EA505476103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5243-B69E-4C38-80EE-82BA250D161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BE4E-2C83-4F64-97BF-0374862279C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94F2-C9A3-4209-B43C-1EF129CDC7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73FA-52E4-445A-AB50-610A7DF235F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1717-46CA-4928-BABA-37815A68B7E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717F-4F62-4118-AD72-F78588C81F4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B769-36E4-4A94-AF1C-0F11D838C39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DE33-031D-4D28-AF96-C9B8B435A7D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DDA0-E4E0-41D6-8B4E-B2D7253D414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6138-997C-4EF4-BA5A-8BFC578189A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8EA6-5309-4B6B-8264-D33867CEC35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811-4E70-46A9-A732-330E43E6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E0B-4812-4D64-8EB0-2252BD29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09E-B052-47E1-A66F-A98AB769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10F7-E636-409D-834F-352552EA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1716-0668-4418-A201-02FB4F9E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5C31-70F2-4422-9743-D7EF1505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3224-7B6A-4E25-B868-AFB530E6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AD14-C9B9-4AE6-AF51-DB61B735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09EE-34F4-4245-8BA6-D87F2A4E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6328-231F-4B18-B585-ECB26F2F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181B-4087-48A4-9DA0-CE0C4773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015-30FA-4225-8F18-DE037638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EFFB-5BC6-4065-9D67-3FC3350E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5E84-9D70-489E-8C21-49F8AB5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2D60-2E51-4437-BD8D-A8EA5585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7324-060F-46D7-BD65-431DD2A11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A547-1916-42FE-8522-175F3A92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DDB-AC50-450B-BBB5-A3BD5ADD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862-2857-4AE2-8589-119B1779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9542-2B69-49A4-88AB-15B11D52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CE3-08B8-45C0-B578-77273F41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C3A-B809-4B0E-9B1D-A9F7C428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BBB-7608-4090-9751-F3F505A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275-D37F-4E90-8F2E-5A8CF04F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E04A-643B-4FE7-AFC2-DE16A097B15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CDEB-C5C1-4DED-A561-11F958B7640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14320" y="86148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NS Depressants 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47032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b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assification of Barbiturate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0520" y="1395360"/>
            <a:ext cx="753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e  duration of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ltrashort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15 minutes) e.g. Thiop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hort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2-4 hours) e.g. Pentobarbita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Intermediate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-6 hours) e.g. Am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Long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6-8 hours): 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en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edative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that cause sedation and to calm the patient down without inducing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dos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will induce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oral Hyd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oethanol is the active metabolite of chloral hydrat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oacetic acid is the toxic metabolit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ranquilizer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which used to relieve mental anxiety and st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orpromazine (CP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y </a:t>
            </a:r>
            <a:r>
              <a:rPr b="1" i="1" lang="en-US" sz="2400" spc="-1" strike="noStrike" u="sng">
                <a:solidFill>
                  <a:srgbClr val="004f9e"/>
                </a:solidFill>
                <a:uFillTx/>
                <a:latin typeface="Arial"/>
              </a:rPr>
              <a:t>blocking dopamine (D   )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501240" y="2976480"/>
            <a:ext cx="30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4f9e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Righting reflex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ability of the mice to assume optimal posi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lost:   (-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Phenobarb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ing reflex –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hloral hydr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sedative dose the righting reflex is +ve , when the dose repeated it will induce sleep and the righting reflex will be –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hlorpromaz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ighting reflex is +ve and still +ve even  the dose is repeat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hlorpromazine 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PZ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360" y="139536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injection of CPZ  we can observe signs 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xic gait: loss of muscle coordin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epsy : rigi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ping test (CPZ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ying to put the mice on the cord, the mice will fall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alculate the dose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52480" y="1409760"/>
          <a:ext cx="7145280" cy="2106720"/>
        </p:xfrm>
        <a:graphic>
          <a:graphicData uri="http://schemas.openxmlformats.org/drawingml/2006/table">
            <a:tbl>
              <a:tblPr/>
              <a:tblGrid>
                <a:gridCol w="1785960"/>
                <a:gridCol w="2138400"/>
                <a:gridCol w="1435320"/>
                <a:gridCol w="178560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 (g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 (mg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no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barb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al Hyd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quiliz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prom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Group 53"/>
          <p:cNvGrpSpPr/>
          <p:nvPr/>
        </p:nvGrpSpPr>
        <p:grpSpPr>
          <a:xfrm>
            <a:off x="647640" y="4749840"/>
            <a:ext cx="8038080" cy="825480"/>
            <a:chOff x="647640" y="4749840"/>
            <a:chExt cx="8038080" cy="825480"/>
          </a:xfrm>
        </p:grpSpPr>
        <p:sp>
          <p:nvSpPr>
            <p:cNvPr id="123" name="Text Box 54"/>
            <p:cNvSpPr/>
            <p:nvPr/>
          </p:nvSpPr>
          <p:spPr>
            <a:xfrm>
              <a:off x="647640" y="4902120"/>
              <a:ext cx="48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jection volume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55"/>
            <p:cNvGrpSpPr/>
            <p:nvPr/>
          </p:nvGrpSpPr>
          <p:grpSpPr>
            <a:xfrm>
              <a:off x="2933640" y="4749840"/>
              <a:ext cx="5752080" cy="825480"/>
              <a:chOff x="2933640" y="4749840"/>
              <a:chExt cx="5752080" cy="825480"/>
            </a:xfrm>
          </p:grpSpPr>
          <p:sp>
            <p:nvSpPr>
              <p:cNvPr id="125" name="Line 56"/>
              <p:cNvSpPr/>
              <p:nvPr/>
            </p:nvSpPr>
            <p:spPr>
              <a:xfrm>
                <a:off x="2933640" y="5130720"/>
                <a:ext cx="419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57"/>
              <p:cNvSpPr/>
              <p:nvPr/>
            </p:nvSpPr>
            <p:spPr>
              <a:xfrm>
                <a:off x="2936520" y="4749840"/>
                <a:ext cx="406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se (mg/Kg) x Body weight in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58"/>
              <p:cNvSpPr/>
              <p:nvPr/>
            </p:nvSpPr>
            <p:spPr>
              <a:xfrm>
                <a:off x="3546000" y="5207040"/>
                <a:ext cx="210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c g%   x 10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59"/>
              <p:cNvSpPr/>
              <p:nvPr/>
            </p:nvSpPr>
            <p:spPr>
              <a:xfrm>
                <a:off x="7430400" y="4902120"/>
                <a:ext cx="125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= xxxxx 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bjectiv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monstrate the effect of different types of CNS depressants a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neral an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ypnotic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نو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dative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سك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ranquilizer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هدئا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how to distinguish between their signs if they are given as unknown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Introduction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depressants are drugs that can be used to slow down brain activity or func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umerous CNS depressants; most act on the brain by affecting the neurotransmitter gamma-aminobutyric acid (GA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BA works by decreasing brain ac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depressants have ability to increase GABA activity that they produce a drowsy or calming effect that is beneficial to those suffering from anxiety or sleep  disor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General Anaesthetic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which produce reversible loss of consciousnes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وع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Mechanism of ac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y alter chloride channel opening cause                           hyperpolarization so they decrease fi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y facilitate the inhibitory effects of GAB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ges Of Anesthesia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analges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 feeling of pain but the patient is still consc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excit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irium , respiration is irregular and the consciousness is lost but the feeling of severe pain is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surgical anesthes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respiration, relaxation of the skeletal muscles and the feeling of surgery is l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Up Arrow Callout 4"/>
          <p:cNvSpPr/>
          <p:nvPr/>
        </p:nvSpPr>
        <p:spPr>
          <a:xfrm>
            <a:off x="2882880" y="4830840"/>
            <a:ext cx="5048280" cy="1311120"/>
          </a:xfrm>
          <a:prstGeom prst="upArrowCallout">
            <a:avLst>
              <a:gd name="adj1" fmla="val 25030"/>
              <a:gd name="adj2" fmla="val 25009"/>
              <a:gd name="adj3" fmla="val 25000"/>
              <a:gd name="adj4" fmla="val 70041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637440" y="5506920"/>
            <a:ext cx="3477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arge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ges Of Anesthesia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V.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medullary depres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e depression in vasomotor center in the medulla and respiratory center. Without full circulatory and respiratory support the result is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lassification of General Anesthetic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ypes of General Anesthetics ag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ed Anesthe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Anesthe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- Inhaled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e liqui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alothane, Isoflurane, Enflurane, Desflurane, Sevoflurane and Methoxyflu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G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Nitrous oxi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B- IV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 short acting Barbiturates ( e.g. Thiopental), Ketamine, Propofol, Midazolam (Benzodiazepines) and Fentanyl ( Opio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Hypnotic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that induce sleep in case of insomnia. e.g. Barbiturates and Benzodiazep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rbiturates &amp; Benzodiazep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ct by  enhance the actions of GA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3:40:34Z</dcterms:created>
  <dc:creator>sultan4ever</dc:creator>
  <dc:description/>
  <dc:language>en-US</dc:language>
  <cp:lastModifiedBy>User</cp:lastModifiedBy>
  <dcterms:modified xsi:type="dcterms:W3CDTF">2015-05-10T10:43:06Z</dcterms:modified>
  <cp:revision>4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