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61A1-F49E-4392-AAEF-6149ADC2254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3B8B-3E39-403E-B1D7-1A326995419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EB4-DCCE-47EA-A499-A56EF8C7FB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88A1-C38F-4141-9E8F-B09872EBB22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B34-F0FC-4E04-8E2F-6A1C30A4D32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4C21-1414-4897-A7EF-CEB4ED09A66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DE9E-A177-4517-956B-51185290EA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42FA-0689-4066-875E-A808EBD40FC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85F2-A186-44F9-8184-5EAF283D48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116C-FCE2-43BD-A6AF-148E9D3B7F2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2773-283C-4F0A-A209-21062682DD1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34ED-A84E-49D9-9E17-68F20E404D6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EB7-D8E8-434A-AD36-652206FFACD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236-62B3-429B-AD47-A344424F865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5C22-7BD7-44EB-BDB7-63325CADE70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968-B2C2-4372-8570-89EF4159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245-6988-44E1-BCC3-8E5D9698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C90-9AD0-4862-9710-BC4BE9E3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44E-7C2C-470A-B2BB-085882F99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A6FB-F2B4-4FAB-AAD4-7DF52A61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BA5E-8716-446E-80AC-48A81960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7B3-AB79-4F5F-A08B-105E234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BEBA-A4A5-46B2-8A91-0A267D0E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58C2-0594-4B29-B837-99790EB3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37B1-EFC0-449D-BF08-5ECDB965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B8A1-01E3-4202-9C7A-92BBEA97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C45-B262-48AC-B4C2-C5314D5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0DDC-605F-4858-B095-6C7925C1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D048-D3E5-4CAF-A3F5-4FD5A1E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6D4B-D4FC-499F-B54E-42A8163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CAA4-BB7A-40E1-8F0D-2DF259B7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E647-6A9F-48CC-82A7-996D5EEA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ECE-6144-4BB6-9CCA-B4F80F0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2D8-25CE-46A7-8521-F33757AD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6E6-A5B5-4C0B-A634-53E001D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811-81DA-4BA7-8193-4A74F0F0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DE6-2903-4465-8E02-B5BAA0DD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7F8-BD9A-4755-978C-E8547F57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4A6-A59D-4C0D-8F3F-38D5104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F70C-B181-4F34-9CD4-39676392680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BD92-4C97-4E83-B5B9-9719D7DB5AC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14320" y="86148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Tahoma"/>
              </a:rPr>
              <a:t>CNS Depressants </a:t>
            </a:r>
            <a:endParaRPr b="1" lang="en-US" sz="5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91960" y="247032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b 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assification of Barbiturat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0520" y="1395360"/>
            <a:ext cx="7531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 duration of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Ultra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15 minutes) e.g. Thiop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hort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2-4 hours) e.g. Pentobarb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ntermediate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4-6 hours) e.g. Am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ong act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6-8 hours): 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enoba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edative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that cause sedation and to calm the patient down without inducing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dos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crea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y will induce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al Hyd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ethanol is the active metabolite of chloral hydra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hloroacetic acid is the toxic metabolit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ranquilizer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used to relieve mental anxiety and 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lorpromazine (CPZ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y </a:t>
            </a:r>
            <a:r>
              <a:rPr b="1" i="1" lang="en-US" sz="2400" spc="-1" strike="noStrike" u="sng">
                <a:solidFill>
                  <a:srgbClr val="004f9e"/>
                </a:solidFill>
                <a:uFillTx/>
                <a:latin typeface="Arial"/>
              </a:rPr>
              <a:t>blocking dopamine (D   )rece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501240" y="2976480"/>
            <a:ext cx="307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4f9e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ighting reflex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e ability of the mice to assume optimal posi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t lost:   (-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Phenobarbi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ing reflex –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al hydra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edative dose the righting reflex is +ve , when the dose repeated it will induce sleep and the righting reflex will be –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hlorpromaz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ghting reflex is +ve and still +ve even  the dose is repeate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hlorpromazine 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CPZ</a:t>
            </a: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33360" y="139536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injection of CPZ  we can observe signs a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axic gait: loss of muscle coordin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epsy : rigid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sping test (CP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ying to put the mice on the cord, the mice will fall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alculate the dose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52480" y="1409760"/>
          <a:ext cx="7145280" cy="2106720"/>
        </p:xfrm>
        <a:graphic>
          <a:graphicData uri="http://schemas.openxmlformats.org/drawingml/2006/table">
            <a:tbl>
              <a:tblPr/>
              <a:tblGrid>
                <a:gridCol w="1785960"/>
                <a:gridCol w="2138400"/>
                <a:gridCol w="1435320"/>
                <a:gridCol w="178560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 (g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e (mg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no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obarb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al Hyd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quiliz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prom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2" name="Group 53"/>
          <p:cNvGrpSpPr/>
          <p:nvPr/>
        </p:nvGrpSpPr>
        <p:grpSpPr>
          <a:xfrm>
            <a:off x="647640" y="4749840"/>
            <a:ext cx="8038080" cy="825480"/>
            <a:chOff x="647640" y="4749840"/>
            <a:chExt cx="8038080" cy="825480"/>
          </a:xfrm>
        </p:grpSpPr>
        <p:sp>
          <p:nvSpPr>
            <p:cNvPr id="123" name="Text Box 54"/>
            <p:cNvSpPr/>
            <p:nvPr/>
          </p:nvSpPr>
          <p:spPr>
            <a:xfrm>
              <a:off x="647640" y="4902120"/>
              <a:ext cx="48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jection volume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55"/>
            <p:cNvGrpSpPr/>
            <p:nvPr/>
          </p:nvGrpSpPr>
          <p:grpSpPr>
            <a:xfrm>
              <a:off x="2933640" y="4749840"/>
              <a:ext cx="5752080" cy="825480"/>
              <a:chOff x="2933640" y="4749840"/>
              <a:chExt cx="5752080" cy="825480"/>
            </a:xfrm>
          </p:grpSpPr>
          <p:sp>
            <p:nvSpPr>
              <p:cNvPr id="125" name="Line 56"/>
              <p:cNvSpPr/>
              <p:nvPr/>
            </p:nvSpPr>
            <p:spPr>
              <a:xfrm>
                <a:off x="2933640" y="5130720"/>
                <a:ext cx="419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57"/>
              <p:cNvSpPr/>
              <p:nvPr/>
            </p:nvSpPr>
            <p:spPr>
              <a:xfrm>
                <a:off x="2936520" y="4749840"/>
                <a:ext cx="40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se (mg/Kg) x Body weight in Gra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58"/>
              <p:cNvSpPr/>
              <p:nvPr/>
            </p:nvSpPr>
            <p:spPr>
              <a:xfrm>
                <a:off x="3546000" y="5207040"/>
                <a:ext cx="210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c g%   x 10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59"/>
              <p:cNvSpPr/>
              <p:nvPr/>
            </p:nvSpPr>
            <p:spPr>
              <a:xfrm>
                <a:off x="7430400" y="4902120"/>
                <a:ext cx="125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 xxxxx 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Objective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monstrate the effect of different types of CNS depressants as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neral anaesth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ypnotic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ن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dative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سك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ranquilizer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مهدئ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how to distinguish between their signs if they are given as unknown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Introduction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are drugs that can be used to slow down brain activity or func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numerous CNS depressants; most act on the brain by affecting the neurotransmitter gamma-aminobutyric acid (GA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A works by decreasing brain ac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NS depressants have ability to increase GABA activity that they produce a drowsy or calming effect that is beneficial to those suffering from anxiety or sleep  disor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eneral Anaesthe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which produce reversible loss of consciousnes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وع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echanism of ac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alter chloride channel opening cause                           hyperpolarization so they decrease f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y facilitate the inhibitory effects of GAB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analg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 feeling of pain but the patient is still consc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excit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rium , respiration is irregular and the consciousness is lost but the feeling of severe pain is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8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surgical anesthesi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r respiration, relaxation of the skeletal muscles and the feeling of surgery is l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Up Arrow Callout 4"/>
          <p:cNvSpPr/>
          <p:nvPr/>
        </p:nvSpPr>
        <p:spPr>
          <a:xfrm>
            <a:off x="2882880" y="4830840"/>
            <a:ext cx="5048280" cy="1311120"/>
          </a:xfrm>
          <a:prstGeom prst="upArrowCallout">
            <a:avLst>
              <a:gd name="adj1" fmla="val 25030"/>
              <a:gd name="adj2" fmla="val 25009"/>
              <a:gd name="adj3" fmla="val 25000"/>
              <a:gd name="adj4" fmla="val 70041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637440" y="5506920"/>
            <a:ext cx="3477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ges Of Anesthesia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V. </a:t>
            </a: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tage of medullary depres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depression in vasomotor center in the medulla and respiratory center. Without full circulatory and respiratory support the result is d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lassification of General Anesthetic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types of General Anesthetics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ed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- Inhaled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e liqui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alothane, Isoflurane, Enflurane, Desflurane, Sevoflurane and Methoxyflu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G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Nitrous oxid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B- IV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 short acting Barbiturates ( e.g. Thiopental), Ketamine, Propofol, Midazolam (Benzodiazepines) and Fentanyl ( Opio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12800" y="3265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Hypnotics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drugs that induce sleep in case of insomnia. e.g. Barbiturates and Benzodiazep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rbiturates &amp; Benzodiazepi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ct by  enhance the actions of GA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3:40:34Z</dcterms:created>
  <dc:creator>sultan4ever</dc:creator>
  <dc:description/>
  <dc:language>en-US</dc:language>
  <cp:lastModifiedBy>MTL</cp:lastModifiedBy>
  <dcterms:modified xsi:type="dcterms:W3CDTF">2015-04-30T08:47:24Z</dcterms:modified>
  <cp:revision>42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