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C783-C8B0-4DBD-AAF0-FEC497CD8A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3259-8B93-4758-A1C1-BB9829B406C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A27C-6AD3-4D17-BE12-8A26540AF96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2606-7B64-45B4-8AE4-F0C335DD00C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93FA-379E-4342-9168-D8DCEC471BF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5618-A3B2-4A6E-AE24-BB646A5C05F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ACA8-5284-402E-91E0-1C54ACCB68F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0CE8-519E-4990-B403-969D45F3652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A73C-570D-4D2A-A561-B5D7EF80F18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5CA4-437C-4568-97B0-1CD03442851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29B6-9D01-472A-91F5-7E50D5B51E6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5997-6583-406E-86F5-F734E9D0D1C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B9A0-B92B-4682-BC48-57598688961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91E6-7791-4919-A66A-7C6CD01CDAA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5843-CD64-4889-A47D-8F3B28C8ACB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F00-3F56-407B-90AE-96A8E751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16B-CB81-4965-967D-C88B802C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E9A-8B33-4B44-96A7-73A7F640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868-9DDB-48DB-AECD-2595AAF8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51EA-0B3E-445C-A6F6-AF6461AC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5985-7395-467B-B903-B76CC77E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192A-755F-4228-A107-85C46A70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C49F-0568-487A-9D93-EEF6A0FA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4555-7E3B-44CF-A656-2362F73D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AF0C-85D1-452C-BA07-30461AF4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65E8-E772-464D-A8EC-9A2F52A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CA7-AFDE-4609-84F7-CAEF441D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BB3F-A0FE-4572-BCF8-F2119A5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3D32-BF1C-47F8-B13F-330C8CD8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E823-8FF1-4522-9ABD-AB676ECE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64B6-BE7F-46BB-BC5A-186DAF27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0B43-9F8A-4D07-BD0D-0022F5FC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2F2-3A27-4548-9721-579BDEDE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769-0721-420E-90F5-5A49C961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777-BF1C-4CE2-9FC6-A232C2F4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7A6-E4FF-4B1C-9ABB-4C7FBF1F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287-E3CE-4A5D-AB36-27074797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26F-A20C-4F8D-83CA-0C3FAB4B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45C-2817-41C0-AB68-E4DF80B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98E7-42F8-4D92-834A-A9016058408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EE11-DB75-4E7C-A348-9F30994D6E6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14320" y="86148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NS Depressants 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91960" y="247032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b 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assification of Barbiturate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0520" y="1395360"/>
            <a:ext cx="7531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he  duration of 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ltrashort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15 minutes) e.g. Thiop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hort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2-4 hours) e.g. Pentobarbita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Intermediate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-6 hours) e.g. Amoba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Long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6-8 hours): 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enoba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edative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that cause sedation and to calm the patient down without inducing sl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dos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rea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will induce sl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loral Hyd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loroethanol is the active metabolite of chloral hydrat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loroacetic acid is the toxic metabolit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ranquilizer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which used to relieve mental anxiety and st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lorpromazine (CP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y </a:t>
            </a:r>
            <a:r>
              <a:rPr b="1" i="1" lang="en-US" sz="2400" spc="-1" strike="noStrike" u="sng">
                <a:solidFill>
                  <a:srgbClr val="004f9e"/>
                </a:solidFill>
                <a:uFillTx/>
                <a:latin typeface="Arial"/>
              </a:rPr>
              <a:t>blocking dopamine (D   )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501240" y="2976480"/>
            <a:ext cx="30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4f9e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Righting reflex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ability of the mice to assume optimal posi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lost:   (-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Phenobarb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ing reflex –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hloral hydr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sedative dose the righting reflex is +ve , when the dose repeated it will induce sleep and the righting reflex will be –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hlorpromaz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ighting reflex is +ve and still +ve even  the dose is repeat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hlorpromazine 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PZ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33360" y="139536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injection of CPZ  we can observe signs 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xic gait: loss of muscle coordin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epsy : rigid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sping test (CPZ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trying to put the mice on the cord, the mice will fall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alculate the dose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52480" y="1409760"/>
          <a:ext cx="7145280" cy="2106720"/>
        </p:xfrm>
        <a:graphic>
          <a:graphicData uri="http://schemas.openxmlformats.org/drawingml/2006/table">
            <a:tbl>
              <a:tblPr/>
              <a:tblGrid>
                <a:gridCol w="1785960"/>
                <a:gridCol w="2138400"/>
                <a:gridCol w="1435320"/>
                <a:gridCol w="1785600"/>
              </a:tblGrid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 (g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 (mg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no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barb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al Hyd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quiliz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prom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2" name="Group 53"/>
          <p:cNvGrpSpPr/>
          <p:nvPr/>
        </p:nvGrpSpPr>
        <p:grpSpPr>
          <a:xfrm>
            <a:off x="647640" y="4749840"/>
            <a:ext cx="8038080" cy="825480"/>
            <a:chOff x="647640" y="4749840"/>
            <a:chExt cx="8038080" cy="825480"/>
          </a:xfrm>
        </p:grpSpPr>
        <p:sp>
          <p:nvSpPr>
            <p:cNvPr id="123" name="Text Box 54"/>
            <p:cNvSpPr/>
            <p:nvPr/>
          </p:nvSpPr>
          <p:spPr>
            <a:xfrm>
              <a:off x="647640" y="4902120"/>
              <a:ext cx="48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jection volume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55"/>
            <p:cNvGrpSpPr/>
            <p:nvPr/>
          </p:nvGrpSpPr>
          <p:grpSpPr>
            <a:xfrm>
              <a:off x="2933640" y="4749840"/>
              <a:ext cx="5752080" cy="825480"/>
              <a:chOff x="2933640" y="4749840"/>
              <a:chExt cx="5752080" cy="825480"/>
            </a:xfrm>
          </p:grpSpPr>
          <p:sp>
            <p:nvSpPr>
              <p:cNvPr id="125" name="Line 56"/>
              <p:cNvSpPr/>
              <p:nvPr/>
            </p:nvSpPr>
            <p:spPr>
              <a:xfrm>
                <a:off x="2933640" y="5130720"/>
                <a:ext cx="419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57"/>
              <p:cNvSpPr/>
              <p:nvPr/>
            </p:nvSpPr>
            <p:spPr>
              <a:xfrm>
                <a:off x="2936520" y="4749840"/>
                <a:ext cx="406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ose (mg/Kg) x Body weight in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58"/>
              <p:cNvSpPr/>
              <p:nvPr/>
            </p:nvSpPr>
            <p:spPr>
              <a:xfrm>
                <a:off x="3546000" y="5207040"/>
                <a:ext cx="210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c g%   x 10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59"/>
              <p:cNvSpPr/>
              <p:nvPr/>
            </p:nvSpPr>
            <p:spPr>
              <a:xfrm>
                <a:off x="7430400" y="4902120"/>
                <a:ext cx="125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= xxxxx 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bjectiv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emonstrate the effect of different types of CNS depressants a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neral an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ypnotic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نو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dative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سك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ranquilizer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هدئا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how to distinguish between their signs if they are given as unknown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Introduction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 depressants are drugs that can be used to slow down brain activity or func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umerous CNS depressants; most act on the brain by affecting the neurotransmitter gamma-aminobutyric acid (GA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BA works by decreasing brain ac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 depressants have ability to increase GABA activity that they produce a drowsy or calming effect that is beneficial to those suffering from anxiety or sleep  disor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General Anaesthetic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which produce reversible loss of consciousnes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وع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Mechanism of ac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y alter chloride channel opening cause                           hyperpolarization so they decrease fi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y facilitate the inhibitory effects of GAB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ages Of Anesthesia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analgesi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 feeling of pain but the patient is still consc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excite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irium , respiration is irregular and the consciousness is lost but the feeling of severe pain is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surgical anesthesi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 respiration, relaxation of the skeletal muscles and the feeling of surgery is l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Up Arrow Callout 4"/>
          <p:cNvSpPr/>
          <p:nvPr/>
        </p:nvSpPr>
        <p:spPr>
          <a:xfrm>
            <a:off x="2882880" y="4830840"/>
            <a:ext cx="5048280" cy="1311120"/>
          </a:xfrm>
          <a:prstGeom prst="upArrowCallout">
            <a:avLst>
              <a:gd name="adj1" fmla="val 25030"/>
              <a:gd name="adj2" fmla="val 25009"/>
              <a:gd name="adj3" fmla="val 25000"/>
              <a:gd name="adj4" fmla="val 70041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637440" y="5506920"/>
            <a:ext cx="3477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arge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ages Of Anesthesia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V.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medullary depres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vere depression in vasomotor center in the medulla and respiratory center. Without full circulatory and respiratory support the result is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Classification of General Anesthetics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types of General Anesthetics ag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ed Anesthe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Anesthe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- Inhaled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e liqui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alothane, Isoflurane, Enflurane, Desflurane, Sevoflurane and Methoxyflu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G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Nitrous oxid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B- IV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 short acting Barbiturates ( e.g. Thiopental), Ketamine, Propofol, Midazolam (Benzodiazepines) and Fentanyl ( Opio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2800" y="326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Hypnotic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that induce sleep in case of insomnia. e.g. Barbiturates and Benzodiazep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rbiturates &amp; Benzodiazep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act by  enhance the actions of GA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3:40:34Z</dcterms:created>
  <dc:creator>sultan4ever</dc:creator>
  <dc:description/>
  <dc:language>en-US</dc:language>
  <cp:lastModifiedBy>MTL</cp:lastModifiedBy>
  <dcterms:modified xsi:type="dcterms:W3CDTF">2015-04-30T08:47:24Z</dcterms:modified>
  <cp:revision>42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