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F4E-23C7-44CA-8587-29DED29F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FB1-07B3-4182-AAB3-505A87A6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9F7-3BB0-4902-9145-1DE67CDC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38A-8626-4819-B6EE-9703B510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1321F-AAC1-4133-9561-CE9FD485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F13B6-276C-413B-B578-72A5B28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50021-E995-40E7-BAFC-7AD80784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87B2D-D501-4674-9DB0-1DD2F5E3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0E357-9D8A-4825-88F8-3E3C8292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909CA-E190-47BA-AD09-FBBA42EB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AB4FE-C29B-4FB9-8F9E-D5AD232F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CFD-8BC0-435D-B531-E864A61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7E88E-CF7E-40D5-8789-14F765E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AC848-0DD2-4F81-9583-5493D80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89E52-A3CD-4896-AC26-2D2397A5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E1E04-A50C-4DF5-8847-25D1C2BE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148F6-5732-4B87-8D80-40BF8749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75F-CA07-40BB-8025-CB471C9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77F-1A14-48A6-8805-59C18B8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0F9-8D4A-4F91-933F-9860B7EB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781-1ADB-42C6-BB71-C00CED1B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663-0F0E-431E-B1E6-FEA9E35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4E0-F0A4-495D-A80C-62CB70F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B00-AD5C-467F-ADD0-2D9DA32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BB92-55F5-4E85-98E9-61310E4642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1157-592A-4D70-98A4-734A30820E2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L. 3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. Khairy M A Zohe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nk 4" descr=""/>
          <p:cNvPicPr/>
          <p:nvPr/>
        </p:nvPicPr>
        <p:blipFill>
          <a:blip r:embed="rId1"/>
          <a:stretch/>
        </p:blipFill>
        <p:spPr>
          <a:xfrm>
            <a:off x="4503600" y="4172040"/>
            <a:ext cx="157320" cy="15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s and sympto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Elevate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Increase Motor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Increase Aler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Decrease need for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ase of overdose lead to convulsion and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A of 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Block neurotransmitters reupta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ost reuptake inhibitors affect either NE or 5-HT(Serotonin) : Coc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Promote neurotransmitters release 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mphetam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Block Metabolism - MAO inhibitors (monoamine oxidase):ex.  Phenelz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antagonize the effect of inhibitory neurotransmitter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icrotox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rychn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Image117"/>
          <p:cNvPicPr/>
          <p:nvPr/>
        </p:nvPicPr>
        <p:blipFill>
          <a:blip r:embed="rId1"/>
          <a:stretch/>
        </p:blipFill>
        <p:spPr>
          <a:xfrm>
            <a:off x="666720" y="2060640"/>
            <a:ext cx="60483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468360" y="1413000"/>
          <a:ext cx="7848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848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be divided based on their site of ac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rebral stimulants (amphetamin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Medullary stimulants (pic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pinal stimulants (strychn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b Work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jectiv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To demonstrate effects of some CNS stimulant on m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After the lab, you should able to handle and inject the mice correc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You should able to differentiate between amphetamine,picrotoxin and strychinine regarding the symptoms that induced by each of th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the reuptake of norepinephrine and dopamine into the presynaptic neuron and increase the release of these monoamines into the extraneuronal spac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- Clinical 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Narcoleps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ttention-deficit hyperactivity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rse eff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ovascular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ension (7% to 22%, pediatric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ndocrine metabol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 loss (4% to 9%, pediatric; 11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Gastrointestinal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ominal pain (11% to 14%, pediatrics ), Loss of appetite (22% to 36%), Xerostomia (35%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Neurolog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ache (26% ), Insomnia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ر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 to 17%, pediatric; 27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Psychiatr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 nervous (6%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inject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ice with amphetamine you well noti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Hair e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cking, gnaw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ereo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niff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rotoxin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competitive antagonist of GABA recep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picrotoxin you we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 by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Asym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Intermit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Spontane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ordin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- CNS Stimulants Drug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ychinin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 antagonist of the glycin receptor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Strychinine you 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ymmetr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Reflex in ori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ntinu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Uncoord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rvous System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can be classified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entral Nervous System (CN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ain and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eripheral Nervous System (PN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outside of the brain and spinal co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ipheral Nervo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yste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PN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divided 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division(a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receptors to the CNS and Informs the CNS of the state of the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division(e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CNS to effectors orga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or division is also divid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somatic nervous system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(generally) Somatic nerve fibers that conduct impulses from the CNS to skeleta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autonomic nervous syste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(generally) Conducts impulses from the CNS to smooth muscle, cardiac muscle, and g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uron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basic functional unit of the nervous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three major par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ll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nd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x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f0429-01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urotransmitters C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be classified into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ita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h, glutamate, aspartate , serotonin and N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Inhibitory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BA , glyci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imulants are a substance which tends to increase behavioral activity when administer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0:57:46Z</dcterms:created>
  <dc:creator>user</dc:creator>
  <dc:description/>
  <dc:language>en-US</dc:language>
  <cp:lastModifiedBy>User</cp:lastModifiedBy>
  <dcterms:modified xsi:type="dcterms:W3CDTF">2016-02-15T07:54:47Z</dcterms:modified>
  <cp:revision>22</cp:revision>
  <dc:subject/>
  <dc:title>CNS Stimulants Drugs</dc:title>
</cp:coreProperties>
</file>