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A666-9740-41BD-B76A-D41D3AF5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A02-D78C-4909-A35E-A520C75A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ADB-E686-46E2-9F0C-60D8C4BF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D6B-D71C-4F76-A96B-8283A882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0C0C7-810B-4C6A-A067-93A5AC01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169A5-FDBC-4AE0-AD05-68B48F89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2F810-62C6-4AC3-A6A5-99B8C5E8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96D45-3757-41F5-9B54-1E5D1BD3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66D9F-28E7-4CB9-AA9B-5893B6A6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F0FF7-4064-466F-AD0F-C1FF5710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ADD47-C2B1-4914-A0C6-08882A0C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87B-C3EA-4CC7-811B-984EB1B3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767CD-34C5-4064-AD78-27E3692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7B9D3-1EC7-4B32-9005-37D0BF27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90136-2880-483F-8825-42AE8DC6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53462-A3F6-430D-9DC1-826A9016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3D94A-C5CA-4532-A70C-B71231DE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629-9142-4D16-A274-2035667A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880-B374-49F0-9291-A79E95FA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C26-D17F-44D5-92D0-8FC19609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6A88-FA92-486A-8C02-D243D769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31C-7DE6-4172-B305-461E37D1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224-1852-4A90-A476-AA41AF5A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0CC6-0401-4549-8CF8-8D89532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A8B0-D7F1-4C3E-A62B-5A9938E34D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A318-F024-46B5-A2CA-E9CEE864668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L. 32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ed 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r. Khairy M A Zohe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Ink 4" descr=""/>
          <p:cNvPicPr/>
          <p:nvPr/>
        </p:nvPicPr>
        <p:blipFill>
          <a:blip r:embed="rId1"/>
          <a:stretch/>
        </p:blipFill>
        <p:spPr>
          <a:xfrm>
            <a:off x="4503600" y="4172040"/>
            <a:ext cx="157320" cy="15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gns and sympto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Elevate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Increase Motor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 Increase Aler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 Decrease need for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ase of overdose lead to convulsion and d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A of 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Block neurotransmitters reupta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Most reuptake inhibitors affect either NE or 5-HT(Serotonin) : Coc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Promote neurotransmitters release 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mphetam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Block Metabolism - MAO inhibitors (monoamine oxidase):ex.  Phenelz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antagonize the effect of inhibitory neurotransmitter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icrotox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rychn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nal Synap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Image117"/>
          <p:cNvPicPr/>
          <p:nvPr/>
        </p:nvPicPr>
        <p:blipFill>
          <a:blip r:embed="rId1"/>
          <a:stretch/>
        </p:blipFill>
        <p:spPr>
          <a:xfrm>
            <a:off x="666720" y="2060640"/>
            <a:ext cx="604836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nal Synap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468360" y="1413000"/>
          <a:ext cx="784872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78487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be divided based on their site of ac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rebral stimulants (amphetamine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Medullary stimulants (pic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Spinal stimulants (strychni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b Work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bjectiv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To demonstrate effects of some CNS stimulant on m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After the lab, you should able to handle and inject the mice correct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You should able to differentiate between amphetamine,picrotoxin and strychinine regarding the symptoms that induced by each of th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- 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k the reuptake of norepinephrine and dopamine into the presynaptic neuron and increase the release of these monoamines into the extraneuronal spac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- Clinical u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Narcoleps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Attention-deficit hyperactivity dis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erse effec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Cardiovascular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tension (7% to 22%, pediatric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ndocrine metabol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 loss (4% to 9%, pediatric; 11%, adults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Gastrointestinal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dominal pain (11% to 14%, pediatrics ), Loss of appetite (22% to 36%), Xerostomia (35%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Neurolog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ache (26% ), Insomnia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ر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% to 17%, pediatric; 27%, adults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Psychiatr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ling nervous (6%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injecting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mice with amphetamine you well notic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Hair e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Licking, gnaw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tereo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niff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rotoxin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competitive antagonist of GABA recep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picrotoxin you we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 by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Asymmet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Intermit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Spontane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Coordin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- CNS Stimulants Drug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ychinine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ive antagonist of the glycin receptor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Strychinine you 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Symmetr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Reflex in ori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Continu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Uncoordin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rvous System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can be classified 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Central Nervous System (CN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rain and spinal 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eripheral Nervous System (PNS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outside of the brain and spinal cor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ipheral Nervo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Syste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PN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divided in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sory division(a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receptors to the CNS and Informs the CNS of the state of the bod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or division(e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CNS to effectors orga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tor Neur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or division is also divided i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somatic nervous system 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ARY (generally) Somatic nerve fibers that conduct impulses from the CNS to skeletal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autonomic nervous syste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UNTARY (generally) Conducts impulses from the CNS to smooth muscle, cardiac muscle, and gla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uron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the basic functional unit of the nervous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three major part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ll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ndr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ax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f0429-01"/>
          <p:cNvPicPr/>
          <p:nvPr/>
        </p:nvPicPr>
        <p:blipFill>
          <a:blip r:embed="rId1"/>
          <a:stretch/>
        </p:blipFill>
        <p:spPr>
          <a:xfrm>
            <a:off x="611280" y="1773360"/>
            <a:ext cx="756108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urotransmitters CN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be classified into 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itat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ch, glutamate, aspartate , serotonin and N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 Inhibitory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GABA , glyci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imulants are a substance which tends to increase behavioral activity when administer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0:57:46Z</dcterms:created>
  <dc:creator>user</dc:creator>
  <dc:description/>
  <dc:language>en-US</dc:language>
  <cp:lastModifiedBy>User</cp:lastModifiedBy>
  <dcterms:modified xsi:type="dcterms:W3CDTF">2016-02-15T07:54:47Z</dcterms:modified>
  <cp:revision>22</cp:revision>
  <dc:subject/>
  <dc:title>CNS Stimulants Drugs</dc:title>
</cp:coreProperties>
</file>