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71DD-334C-45DB-8EEB-CC23B22B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042-8FFC-489E-B704-7D91174C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DC3-2BDD-4162-B1C0-E1597B59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75AC-B2C0-4D4C-8415-3C7F4AAB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F4A4E-3FFF-4487-B40B-095AC658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10EC4-EE3B-4C23-9267-6E3E53BF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1E56E-B312-4EDF-A9DA-14B80E08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DD15A-8F91-4F5D-8C24-24686267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3789A-216E-4B46-B416-C5654F45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1DA4C-CEB8-4A2F-B3B7-20CFFEF6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AFF57-294F-45FC-A3B2-B90B91D8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463-695D-4B2D-8A5F-8EC88B96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7034F-CFE7-44F4-AB84-A5742D51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57878-5992-4BDE-BBED-28B30B6E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FA294-29E3-4307-A784-82367FC3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362FF-05C5-4E05-AC21-263C2B53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3E28B-43F6-4E50-9A6E-2214432D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5C0-698D-408E-87E4-B8C984E5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8708-87EF-4C93-A543-6DA93571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76B-DD3D-4499-8330-C3532645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9B3-243F-4529-985E-B155179C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558A-AA86-4BCA-928F-BA17BAE8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CE4-8955-4EED-9910-26F93A7A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CB0-91B0-46A8-BA47-FCDE2604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8CA4-8AA2-4830-B21D-BF95AA58E9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2032-4ABC-4A97-B8AE-15CB059AB46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HL. 322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Ink 4" descr=""/>
          <p:cNvPicPr/>
          <p:nvPr/>
        </p:nvPicPr>
        <p:blipFill>
          <a:blip r:embed="rId1"/>
          <a:stretch/>
        </p:blipFill>
        <p:spPr>
          <a:xfrm>
            <a:off x="4503600" y="4172040"/>
            <a:ext cx="157320" cy="15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gns and symptom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 Elevate M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- Increase Motor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 Increase Alert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- Decrease need for Sle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ase of overdose lead to convulsion and dea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A of CNS Stimula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 Block neurotransmitters reuptak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Most reuptake inhibitors affect either NE or 5-HT(Serotonin) : Coca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- Promote neurotransmitters release 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mphetam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- Block Metabolism - MAO inhibitors (monoamine oxidase):ex.  Phenelzi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antagonize the effect of inhibitory neurotransmitter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icrotox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trychn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nal Synaps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Image117"/>
          <p:cNvPicPr/>
          <p:nvPr/>
        </p:nvPicPr>
        <p:blipFill>
          <a:blip r:embed="rId1"/>
          <a:stretch/>
        </p:blipFill>
        <p:spPr>
          <a:xfrm>
            <a:off x="666720" y="2060640"/>
            <a:ext cx="604836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uronal Synap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468360" y="1413000"/>
          <a:ext cx="784872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3000"/>
                    <a:ext cx="784872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NS Stimulan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hey can be divided based on their site of ac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Cerebral stimulants (amphetamine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Medullary stimulants (picrotox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Spinal stimulants (strychni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Lab Work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bjectiv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 To demonstrate effects of some CNS stimulant on m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- After the lab, you should able to handle and inject the mice correctl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- You should able to differentiate between amphetamine,picrotoxin and strychinine regarding the symptoms that induced by each of them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- Amphetam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A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ck the reuptake of norepinephrine and dopamine into the presynaptic neuron and increase the release of these monoamines into the extraneuronal space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- Clinical u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Narcoleps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Attention-deficit hyperactivity dis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mphetam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erse effec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Cardiovascular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tension (7% to 22%, pediatric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Endocrine metabolic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ght loss (4% to 9%, pediatric; 11%, adults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Gastrointestinal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dominal pain (11% to 14%, pediatrics ), Loss of appetite (22% to 36%), Xerostomia (35%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Neurologic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dache (26% ), Insomnia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ر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% to 17%, pediatric; 27%, adults 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Psychiatric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eling nervous (6% 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mphetami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injecting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mice with amphetamine you well notic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Hair er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Licking, gnaw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tereoty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niff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rotoxin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-competitive antagonist of GABA recep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injecting the mice with picrotoxin you we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lonic convul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racterized by 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Asymmetr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Intermit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Spontaneo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Coordin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- CNS Stimulants Drugs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ychinine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etitive antagonist of the glycin receptor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injecting the mice with Strychinine you w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nic convul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haracterized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Symmetr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Reflex in orig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Continuo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Uncoordina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rvous System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rvous system can be classified i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Central Nervous System (CNS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rain and spinal c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eripheral Nervous System (PNS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rvous system outside of the brain and spinal cord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ipheral Nervo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Syste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PNS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be divided int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1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nsory division(affre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s impulses from receptors to the CNS and Informs the CNS of the state of the bod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tor division(effren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ucts impulses from CNS to effectors orga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tor Neur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tor division is also divided i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-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somatic nervous system 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UNTARY (generally) Somatic nerve fibers that conduct impulses from the CNS to skeletal mus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 autonomic nervous syste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VOLUNTARY (generally) Conducts impulses from the CNS to smooth muscle, cardiac muscle, and gla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uron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the basic functional unit of the nervous system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ontain three major part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cell bo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dendri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axon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ruc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f0429-01"/>
          <p:cNvPicPr/>
          <p:nvPr/>
        </p:nvPicPr>
        <p:blipFill>
          <a:blip r:embed="rId1"/>
          <a:stretch/>
        </p:blipFill>
        <p:spPr>
          <a:xfrm>
            <a:off x="611280" y="1773360"/>
            <a:ext cx="7561080" cy="39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urotransmitters CN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be classified into 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Exitator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Ach, glutamate, aspartate , serotonin and NE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. Inhibitory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GABA , glycin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NS Stimulants</a:t>
            </a:r>
            <a:r>
              <a:rPr b="0" lang="ar-SA" sz="40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f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imulants are a substance which tends to increase behavioral activity when administer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10:57:46Z</dcterms:created>
  <dc:creator>user</dc:creator>
  <dc:description/>
  <dc:language>en-US</dc:language>
  <cp:lastModifiedBy>MTL</cp:lastModifiedBy>
  <dcterms:modified xsi:type="dcterms:W3CDTF">2016-02-16T09:31:33Z</dcterms:modified>
  <cp:revision>21</cp:revision>
  <dc:subject/>
  <dc:title>CNS Stimulants Drugs</dc:title>
</cp:coreProperties>
</file>