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92E-6785-435E-8CCD-3D0C0665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5CE-8F03-45CB-9DAF-A597B838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88C-A3F4-40E0-9EE5-C9AC45E1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DB2-4BBF-4B78-942F-9FD76DEB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EF478-4302-44EB-8332-098C662E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910D-7493-4D6C-9CB1-9A115B0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9161-B680-4F17-9693-1659BA3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7EC4-36C2-4E4D-8761-F781F8D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CA93C-0743-442F-A83A-DD401D8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F6DCB-BF21-433E-BF9A-DD7A88E4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17D0A-CE3D-4C40-AEE8-166620B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739-0F92-4AEF-AB95-DCE6D56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D6CA6-9B26-4247-B106-7C76A0B3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3BDD-A61A-4D8A-9080-D49288E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2E1D3-7E3D-4ADA-B4DE-669A4E2F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CFC42-F4D2-4261-9C3D-905132A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F54AC-7EEC-41D9-91EF-A5208AA2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D29-8FAF-4534-9D0B-DFA5822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EC5-271D-4C56-A966-B37E5E7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2BF-483B-4DE2-B0D2-4C326B72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5FB-5932-4501-994A-140778D6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384-B479-4253-A0CB-B0D5E6C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42C-5287-4067-906A-F74CF69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4EE-EE6C-45B4-9E7B-BAF94C2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52BC-B560-46B4-814A-402CCF419F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93F-C2D0-4BCC-B685-C6BF567ED7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: C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mphetam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:ex.  Phenelz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icrotox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ychn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Image117"/>
          <p:cNvPicPr/>
          <p:nvPr/>
        </p:nvPicPr>
        <p:blipFill>
          <a:blip r:embed="rId1"/>
          <a:stretch/>
        </p:blipFill>
        <p:spPr>
          <a:xfrm>
            <a:off x="666720" y="206064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should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should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(7% to 22%, pediatric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 (4% to 9%, pediatric; 11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 (11% to 14%, pediatrics ), Loss of appetite (22% to 36%), Xerostomia (35%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(26% ), Insomnia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ر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 to 17%, pediatric; 27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(6%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e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MTL</cp:lastModifiedBy>
  <dcterms:modified xsi:type="dcterms:W3CDTF">2016-02-16T09:31:33Z</dcterms:modified>
  <cp:revision>21</cp:revision>
  <dc:subject/>
  <dc:title>CNS Stimulants Drugs</dc:title>
</cp:coreProperties>
</file>