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20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D9DE-8AF9-43F7-B3FC-ECA588EBB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23E6-120D-446A-B327-E096FA081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CE6-5891-49D8-9B99-9A8B95F6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79F-E83A-462B-A3EE-E2A370A5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F802-1C61-4295-A933-1E9F7767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3C1-CDCB-44F7-B803-498A1D30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4595-E91C-4735-A856-E1A6DE35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19EE-DDDD-41C6-9726-F854219A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9653-D030-4F4F-A918-DB9CE65D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6D3A-D222-4035-BA3F-83EB0CB6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D235-E020-4C61-A5B9-34ADEFEF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10E7-6579-45B6-A65B-6C82F0EF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77FF-40B9-49A9-945A-DE992F71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45C-18D4-4D07-874F-634BAD62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D625F-CD51-4476-9272-577C6884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9DC0-421E-43D5-A2D6-E98BCAF7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DCCA-48CC-42E7-A797-AE32EBB9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C3C5-FA46-456C-B1E7-E5A0A4A1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E799-7876-47E2-A733-F1E8FB78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435EC-8E17-449F-9495-E7471F6F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C3D5-5D3B-41DF-94F6-BB0D922CA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9BC72-D7F2-4D5C-B6D8-29E2299B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34CB-B7AA-446C-8E17-99912134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6BEE-6F58-49C8-B45F-50763797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EBE-4A54-442B-AF89-2AA2BAE1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7B225-7558-4F75-9E76-B9EAA738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A53E-FE23-49C2-82DB-B8E99BD2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0647-86CA-4585-B9A1-39C1A887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7F06-1F14-4FE9-95FE-477F001C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C704-BA65-4AFE-8CC2-5DF0D8C4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9ADC-3DC9-4A2B-94CE-937E6E36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6BE17-F84E-4663-A280-867F179E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0995-1676-4E8E-9B59-490C9479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0E759-0E59-403C-9BCB-4F6AA5B9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B09B0-DE8B-44AE-B127-061C297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435B-D490-4DFA-803A-E1869D50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3E34-4CAC-46D5-B748-C93D6473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45572-624F-4592-96F3-FC40185D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55B3D-1B38-4E23-8B8B-C18F50D9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FB22-19ED-4D18-BADF-AD409D10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6EC54-8CF2-4A0F-BE84-F59242CD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64E9-A766-40AF-9606-DE7A56D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2C32-E7B8-4EBC-85E5-B9067556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8BE14-815A-4449-A4F1-F53EFE98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C3724-E962-430C-97AB-2B4FAE96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77B68-F9F0-4F1D-9F56-8AE07327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B4D-1C2B-44EC-A500-7940FEF7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068AA-9922-4A3F-92E9-BD07EE01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6F4FA-BCF5-4815-9BF9-F0824F45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C1BE-B0AA-4826-9944-336D500D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88317-CF0F-45AF-B70A-DB3D5ACA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44EB-1201-4B07-AC60-9F4CFF5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E21FF-3CF4-40C9-A07F-F8F937D0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D67CB-7C45-439A-8878-B2CEE1DF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98B7-F450-4E06-BC3E-B91EE4C3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16A32-0FD1-4824-A298-4B15AD48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5A130-FA3E-4419-8AE8-81CC1B1C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787-0E85-4250-A9C8-8CD7B0BE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EE4CF-583D-4A14-B8C5-177839C9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47371-CC6E-4C5A-9C4D-85F8D15F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0FD83-6C6D-4EB6-85E6-1E39D417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FC10E-5912-482D-A61F-22E0B7EA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64A9-DBEB-4002-8ED6-7EC4BAF2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FD221-3FA4-4FD5-A651-C860FC34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CDE98-76F6-46AA-AEC9-46678787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82541-F52F-4FA2-80C8-AEDBC1BA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56432-1CFF-440A-B817-9340D320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42D2-935A-4EC0-B157-8E210D9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52A-B807-4A3B-B938-0AFA4A4E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AE7F6-4983-488A-8F57-FC89F3CA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48421-D534-4EC4-A76B-DBADF169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67CB-206F-4366-8019-208E7D37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9A8-0DAB-485E-9DA4-C570E0B4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6C2-69A8-4C0A-9C5F-019676C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F1DB-1A1D-4EB8-B0F0-510C3EF0A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B742-DD73-48B7-8975-7312256C9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F575-CA48-45C1-B6A1-0AD66E137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B96E-52FF-4298-AAC5-05D0D387155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7BF2-08F9-4028-81A2-5E5CE32C1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125C-69C2-4A99-90F1-74287183DB0D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Bodoni MT"/>
              </a:rPr>
              <a:t>Therapeutic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66320" y="1267920"/>
            <a:ext cx="8077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Bodoni MT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140360" y="2349360"/>
            <a:ext cx="46796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634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Goals of  Self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195640" y="1600200"/>
            <a:ext cx="64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lows an individual to interact with other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omfortab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ccept the differe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s and to observe each person’s right to respect and dign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 awareness allows you to observe, pay attention to, and understand the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ubtle responses and reac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clients when interacting with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mprove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nag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appropriate goals, manage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771280" y="134136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differences between you and oth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why others react to you the way they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 your communication to others’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interpers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1000" indent="-39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w to Become Self Aware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771280" y="1628640"/>
            <a:ext cx="637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641b"/>
                </a:solidFill>
                <a:latin typeface="Arial"/>
                <a:ea typeface="Times New Roman"/>
              </a:rPr>
              <a:t>Self exami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o examine personal beliefs, attitudes, and moti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Self-Conf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strong sense of one’s self-worth and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Accurate Self-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nowing one’s strengths and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Emotional Self-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cognizing one’s e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641b"/>
                </a:solidFill>
                <a:latin typeface="Arial"/>
                <a:ea typeface="Times New Roman"/>
              </a:rPr>
              <a:t>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king feedback from your supervisors ,friends, family and your sel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ng With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590920" cy="2808360"/>
          </a:xfrm>
          <a:prstGeom prst="rect">
            <a:avLst/>
          </a:prstGeom>
          <a:ln w="0">
            <a:noFill/>
          </a:ln>
        </p:spPr>
      </p:pic>
      <p:sp>
        <p:nvSpPr>
          <p:cNvPr id="286" name="مستطيل 4"/>
          <p:cNvSpPr/>
          <p:nvPr/>
        </p:nvSpPr>
        <p:spPr>
          <a:xfrm>
            <a:off x="3276720" y="1773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ositive self-talk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aying positive thoughts aloud; thinking, saying and hearing positive statements about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مستطيل 5"/>
          <p:cNvSpPr/>
          <p:nvPr/>
        </p:nvSpPr>
        <p:spPr>
          <a:xfrm>
            <a:off x="3564000" y="407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Negative self-talk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lf-destruc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Your self-image is lowered by your own critic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2057400" y="2514600"/>
            <a:ext cx="6629400" cy="3352680"/>
          </a:xfrm>
          <a:prstGeom prst="rect">
            <a:avLst/>
          </a:prstGeom>
          <a:gradFill rotWithShape="0">
            <a:gsLst>
              <a:gs pos="0">
                <a:srgbClr val="154b58"/>
              </a:gs>
              <a:gs pos="50000">
                <a:srgbClr val="2da2bf"/>
              </a:gs>
              <a:gs pos="100000">
                <a:srgbClr val="154b5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17160" y="52560"/>
            <a:ext cx="8637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Intelligence compon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2743200" y="1790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Personal Compe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172200" y="17906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Social Compe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685800" y="2971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Awar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8380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 flipV="1">
            <a:off x="5410080" y="2514240"/>
            <a:ext cx="0" cy="335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2057400" y="411480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2057400" y="25750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Bold"/>
                <a:ea typeface="Times New Roman"/>
              </a:rPr>
              <a:t>Self-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Bold"/>
                <a:ea typeface="Times New Roman"/>
              </a:rPr>
              <a:t>Knowing one’s internal states, preferences, resources, and intu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2057400" y="4175280"/>
            <a:ext cx="33526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Self-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Managing one’s internal states, impulses, and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5486400" y="257508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Social 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Awareness of others feelings, needs or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5486400" y="411480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Relationship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Adeptness at inducing desirable responses in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32"/>
          <p:cNvGrpSpPr/>
          <p:nvPr/>
        </p:nvGrpSpPr>
        <p:grpSpPr>
          <a:xfrm>
            <a:off x="2361960" y="2666880"/>
            <a:ext cx="3353040" cy="1676520"/>
            <a:chOff x="2361960" y="2666880"/>
            <a:chExt cx="3353040" cy="1676520"/>
          </a:xfrm>
        </p:grpSpPr>
        <p:sp>
          <p:nvSpPr>
            <p:cNvPr id="301" name="AutoShape 27"/>
            <p:cNvSpPr/>
            <p:nvPr/>
          </p:nvSpPr>
          <p:spPr>
            <a:xfrm>
              <a:off x="5257800" y="2666880"/>
              <a:ext cx="457200" cy="152640"/>
            </a:xfrm>
            <a:prstGeom prst="rightArrow">
              <a:avLst>
                <a:gd name="adj1" fmla="val 50000"/>
                <a:gd name="adj2" fmla="val 74882"/>
              </a:avLst>
            </a:prstGeom>
            <a:solidFill>
              <a:srgbClr val="def5f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AutoShape 28"/>
            <p:cNvSpPr/>
            <p:nvPr/>
          </p:nvSpPr>
          <p:spPr>
            <a:xfrm rot="5400000">
              <a:off x="2209320" y="403848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def5f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AutoShape 30"/>
          <p:cNvSpPr/>
          <p:nvPr/>
        </p:nvSpPr>
        <p:spPr>
          <a:xfrm rot="5400000">
            <a:off x="8076600" y="396216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def5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31"/>
          <p:cNvSpPr/>
          <p:nvPr/>
        </p:nvSpPr>
        <p:spPr>
          <a:xfrm>
            <a:off x="5105520" y="4267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def5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16360" y="274320"/>
            <a:ext cx="576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Tahoma"/>
              </a:rPr>
              <a:t>Definition of communic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195640" y="2205000"/>
            <a:ext cx="680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Is the art of transferring or exchanging information  ideas  or thoughts easily and correctly through verbal or non-verbal languag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he Communication proces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5400" y="1197000"/>
            <a:ext cx="8226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The communication process could be defined as a sending-receiving proces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comm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ents Righ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492000" y="1981080"/>
            <a:ext cx="43196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nity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ic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tialit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ity of car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n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6732720" y="2060640"/>
            <a:ext cx="1914480" cy="3816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62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Goals of therapeutic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Establishing a therapeutic provider-client relationship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Identify client’s concerns and problem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Assess client’s perception of the problem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Recognize client’s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Guide client towards a satisfying and socially acceptable solution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41767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244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Qualities of a Good communicat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268360" y="1916280"/>
            <a:ext cx="6413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Respect and empathy for the clie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Good communication skill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Tolerance of values and beliefs different from one’s ow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Unbiased attitud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Patienc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Awareness of gender issues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Arial Unicode M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032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99640" y="-243000"/>
            <a:ext cx="79218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  <a:ea typeface="Tahoma"/>
              </a:rPr>
              <a:t>Objective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556000" y="1341360"/>
            <a:ext cx="64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ff"/>
                </a:solidFill>
                <a:latin typeface="Bodoni MT"/>
              </a:rPr>
              <a:t>By the end of the session the student will be able t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doni MT"/>
              </a:rPr>
              <a:t>Aware of self by Communicate with your self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doni M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Define the communic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Explain the communication proc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tate factors affecting communication proc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1728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Types of communic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1- Non-verbal commun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hat is observed and sen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often more important than verbal commun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it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anguage :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tone of voice , stream of talk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sis :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all body languages and facial movement 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emies :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the distance between the sender and the receiver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c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arte facts :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the way a person dressed , make up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59767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2- Verbal communication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hat is said and hear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the content of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 appropriate tone of voic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verbal encouragement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question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clarif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35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9744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mmunication techniques and skills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66320" y="213336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Bodoni MT"/>
              </a:rPr>
              <a:t>1-Talking Techniques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Questioning and general lead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Make broad opening statement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Paraphrase , reward or summarize what has been sai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Reflect feeling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Re-state or repeat the client</a:t>
            </a:r>
            <a:r>
              <a:rPr b="0" lang="ar-SA" sz="2800" spc="-1" strike="noStrike">
                <a:solidFill>
                  <a:srgbClr val="66ffff"/>
                </a:solidFill>
                <a:latin typeface="Bodoni MT"/>
              </a:rPr>
              <a:t>’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s state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Clarif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Focus and re-focus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212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Bodoni MT"/>
              </a:rPr>
              <a:t>2Non talking techniques 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Feed back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ctive liste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Focu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Reflec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Drawing ou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Acceptanc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il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Conflict manag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095640" cy="2718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095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843280" y="304920"/>
            <a:ext cx="630072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ools for Effective 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347640" y="1600200"/>
            <a:ext cx="5334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a2bf"/>
                </a:solidFill>
                <a:latin typeface="Bodoni MT"/>
              </a:rPr>
              <a:t>Communication skill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Effective of verbal and non-verbal communic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ctive liste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Questio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Use of simple languag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Reflecting feeling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Paraphras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il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40360" y="274320"/>
            <a:ext cx="4541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tive listening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6669000"/>
          </a:xfrm>
          <a:prstGeom prst="rect">
            <a:avLst/>
          </a:prstGeom>
          <a:ln w="0">
            <a:noFill/>
          </a:ln>
        </p:spPr>
      </p:pic>
      <p:sp>
        <p:nvSpPr>
          <p:cNvPr id="339" name="مستطيل 3"/>
          <p:cNvSpPr/>
          <p:nvPr/>
        </p:nvSpPr>
        <p:spPr>
          <a:xfrm>
            <a:off x="3348000" y="1700280"/>
            <a:ext cx="525636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t facing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pen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ean forward towards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stablish eye 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lax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haracteristics of a successful      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000" y="1628280"/>
            <a:ext cx="8142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ommunication is successful when the person has a feeling of being understood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s feeling is the result of and dependent upon the presence of 4 characteristic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nest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priaten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icien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ibilit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54380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842920" y="260280"/>
            <a:ext cx="58388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Use talking and non talking therapeutic technique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948360" y="1241280"/>
            <a:ext cx="1906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ontents</a:t>
            </a:r>
            <a:r>
              <a:rPr b="0" i="1" lang="en-US" sz="29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32000" y="1699920"/>
            <a:ext cx="748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Bodoni MT"/>
              </a:rPr>
              <a:t>Self awareness( definition , goal, how to be self aware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Definition of communication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Clients Rights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The communication process 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82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Goals of therapeutic communication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Bodoni MT"/>
              </a:rPr>
              <a:t>Qualities of a Good communicator . </a:t>
            </a:r>
            <a:r>
              <a:rPr b="0" lang="en-US" sz="22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979280" y="189000"/>
            <a:ext cx="69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Types of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Communication skills and techniqu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Tools for effective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Factors effecting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Characteristics of successful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Introduction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124000" y="1628640"/>
            <a:ext cx="7020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Establishing a therapeutic relationship is one of the most important responsibility of the team when working with client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700360" y="476280"/>
            <a:ext cx="59817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developmen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elf-aware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will enhance the objectivity and foster a nonjudgmental attitude, which is so important 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Times New Roman"/>
              </a:rPr>
              <a:t>in building and maintain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rust throughout the 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Times New Roman"/>
              </a:rPr>
              <a:t>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771640" y="1916280"/>
            <a:ext cx="5910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Self-awareness</a:t>
            </a:r>
            <a:r>
              <a:rPr b="1" lang="en-US" sz="2400" spc="-1" strike="noStrike">
                <a:solidFill>
                  <a:srgbClr val="464646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the process of understanding one’s own beliefs, thoughts, motivation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 limitations and recognizing how  they affect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30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0:31:22Z</dcterms:created>
  <dc:creator>first</dc:creator>
  <dc:description/>
  <dc:language>en-US</dc:language>
  <cp:lastModifiedBy>Elham Fayad</cp:lastModifiedBy>
  <cp:lastPrinted>2015-02-05T05:12:54Z</cp:lastPrinted>
  <dcterms:modified xsi:type="dcterms:W3CDTF">2015-08-30T05:23:25Z</dcterms:modified>
  <cp:revision>256</cp:revision>
  <dc:subject/>
  <dc:title>الشريحة 1</dc:title>
</cp:coreProperties>
</file>