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23EB-A88C-41E3-97C3-3796D2A3F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8870-CDCE-4652-9450-A37B1FCB0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F5B-877C-489C-A583-C50E40FB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133-0B10-4E86-8864-2F9B6EDB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523-8C39-4909-BE88-36902BF8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3EF-C16A-47A4-8B3D-AF044F18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CAB9-2A88-4E74-8A87-D0C5A023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6C7E-858A-42F2-A648-AFCAEA53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D235-9A88-44A1-B473-9FEF6B0C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FD38-CD21-4B29-BDF3-6342B6A0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CEEA-694B-416A-8AF2-3B3624B6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5AF9-B272-4D82-BC13-6C3246E6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CAAA-C34F-4DD3-B575-E2F7ACA8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FAE-F7DB-4DE2-8924-D7BBE619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3772-910A-4389-ADCF-14E3A7D5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46B1-1B28-4717-883F-FE1B9161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516C-546A-41FB-9B8C-A444D106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3D5E-0CE0-484D-917C-CFED5A02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5944-66CA-4D0D-88AE-1219000F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194C2-3EA4-4F0C-AF03-4F656890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DE567-027A-4205-B7CB-B645633C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8D9EA-609B-477C-892D-5CECD828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CB37-0B8E-4DCB-8E5A-295ED42B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0821E-C75E-4473-BBAC-5BDBC472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2DD-E096-4383-9B55-1508A7EB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6B795-D6D4-4615-B5B3-4F106776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7DB0-C0DA-42D8-868B-719A9711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E70FE-FB45-42F0-9965-D5B67649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BF1DC-5B5A-4605-9E77-FB0F3D71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5E98E-ECF4-4691-AC12-7E27EE6F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E18F-5B62-4366-A531-66E4765D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8F1A-1666-4DF1-88E0-34BFF6BE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D42B6-9573-4695-9D4D-E62318D5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85C9E-5FDE-4B13-969F-BC374356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58A0C-B098-4895-A2ED-9CB6CFA8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64A-F1F5-4C38-A9F0-A0689E92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47506-A27C-436A-A522-A13695CA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5EF3E-3EC0-46B3-BC98-E9F863D3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DD4D3-6A33-40FD-8D3B-F63CE421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5BDDB-2F7C-46F0-8203-8D8BC8DC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EF817-4143-4315-A394-9E182EF3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6A870-AB58-4692-9E2D-1F994FDA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13E19-37F5-43ED-BD74-4F8286D4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850D1-EFF8-4524-8344-54E1DC6B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4F425-9A0D-4B1F-AB04-41A89D60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D2E10-084B-4B37-A3D1-1F90EFBF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E2A-AA88-42A7-844C-036BA0F4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EF052-7D85-4C8C-8A56-C5562DC5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BE7D-7791-4356-94A8-47E206E8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1CC3E-28B4-4A6B-9909-FB8F55DD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D2CD8-BAEA-4631-A352-E90BD49E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A4AF2-C2D9-4F84-9ECF-738F4CA7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1E223-94D3-480E-B8C6-F7EB4C53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81129-D29E-4498-B3DD-4A3AFE90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CD348-105F-4CEA-9856-428DE4D8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9EBDA-B900-4406-8B44-5E34873C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8F5CB-AE0D-45F8-9CF1-A5B5F5E0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61D-E1B2-4577-A0B2-F0FB1697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0E2B8-A672-4F4D-861C-D30D8F33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B7007-A90B-41D7-94C7-1B5DFDB2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0EB0B-2094-4F54-9212-4137D433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B6FF9-5669-4B06-9D06-C0ADB268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D9D00-0BD4-45E1-8AB1-7EA486C6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15ABE-F6F9-4F9C-97B4-16136642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127BB-1C8E-4334-A455-22349DD7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A6F53-0B18-4CB3-A57C-1F2354FC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D0BA5-4C82-4E84-AC1E-9CCA4829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93B3C-91CE-4898-93BD-A1FD939B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817-3196-48F4-BF94-DEC13B33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5CAE8-7C53-4AB4-AE64-AAF9040E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17CA6-32B8-4603-8585-388999B6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F53B6-D4F6-41CB-B7FD-06C27C51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42F-37D8-44A3-8589-112A3E77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9E0-2F1D-4BEF-AA7C-DEBE6386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DF66-37EA-4CBC-9D8B-9A2C80991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8B3C-7AC1-4359-AA06-7C823DF53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C2F0-344D-45D3-8C7B-DEDB849899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5EA5-D02A-4C07-9655-13F932BC303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722B-E51B-42FD-A94C-AECAD927B5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0EA2-D171-4646-8962-88240D38686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Bodoni MT"/>
              </a:rPr>
              <a:t>Therapeutic Commun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66320" y="1267920"/>
            <a:ext cx="8077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Bodoni M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140360" y="2349360"/>
            <a:ext cx="4679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6342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Goals of  Self aware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195640" y="1600200"/>
            <a:ext cx="64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allows an individual to interact with other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comfortab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o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ccept the differen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s and to observe each person’s right to respect and dign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 awareness allows you to observe, pay attention to, and understand the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subtle responses and reacti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clients when interacting with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mprove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anag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appropriate goals, manage 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771280" y="134136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nderstand differences between you and other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2040" indent="-273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why others react to you the way they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2040" indent="-273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 your communication to others’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2040" indent="-273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interpers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1000" indent="-39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9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ow to Become Self Aware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771280" y="1628640"/>
            <a:ext cx="6372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641b"/>
                </a:solidFill>
                <a:latin typeface="Arial"/>
                <a:ea typeface="Times New Roman"/>
              </a:rPr>
              <a:t>Self examin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o examine personal beliefs, attitudes, and moti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119"/>
                </a:solidFill>
                <a:latin typeface="Arial"/>
                <a:ea typeface="Times New Roman"/>
              </a:rPr>
              <a:t>Self-Conf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 strong sense of one’s self-worth and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119"/>
                </a:solidFill>
                <a:latin typeface="Arial"/>
                <a:ea typeface="Times New Roman"/>
              </a:rPr>
              <a:t>Accurate Self-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nowing one’s strengths and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119"/>
                </a:solidFill>
                <a:latin typeface="Arial"/>
                <a:ea typeface="Times New Roman"/>
              </a:rPr>
              <a:t>Emotional Self-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cognizing one’s e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641b"/>
                </a:solidFill>
                <a:latin typeface="Arial"/>
                <a:ea typeface="Times New Roman"/>
              </a:rPr>
              <a:t>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king feedback from your supervisors ,friends, family and your sel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cating With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590920" cy="2808360"/>
          </a:xfrm>
          <a:prstGeom prst="rect">
            <a:avLst/>
          </a:prstGeom>
          <a:ln w="0">
            <a:noFill/>
          </a:ln>
        </p:spPr>
      </p:pic>
      <p:sp>
        <p:nvSpPr>
          <p:cNvPr id="286" name="مستطيل 4"/>
          <p:cNvSpPr/>
          <p:nvPr/>
        </p:nvSpPr>
        <p:spPr>
          <a:xfrm>
            <a:off x="3276720" y="1773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ositive self-talk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ying positive thoughts aloud; thinking, saying and hearing positive statements about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مستطيل 5"/>
          <p:cNvSpPr/>
          <p:nvPr/>
        </p:nvSpPr>
        <p:spPr>
          <a:xfrm>
            <a:off x="3564000" y="4076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egative self-talk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lf-destructi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self-image is lowered by your own critic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2057400" y="2514600"/>
            <a:ext cx="6629400" cy="3352680"/>
          </a:xfrm>
          <a:prstGeom prst="rect">
            <a:avLst/>
          </a:prstGeom>
          <a:gradFill rotWithShape="0">
            <a:gsLst>
              <a:gs pos="0">
                <a:srgbClr val="154b58"/>
              </a:gs>
              <a:gs pos="50000">
                <a:srgbClr val="2da2bf"/>
              </a:gs>
              <a:gs pos="100000">
                <a:srgbClr val="154b5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17160" y="52560"/>
            <a:ext cx="86374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al Intelligence compon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2743200" y="17906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ScalaSansLF-Regular"/>
                <a:ea typeface="Times New Roman"/>
              </a:rPr>
              <a:t>Personal Compe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172200" y="179064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ScalaSansLF-Regular"/>
                <a:ea typeface="Times New Roman"/>
              </a:rPr>
              <a:t>Social Compe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685800" y="2971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ScalaSansLF-Regular"/>
                <a:ea typeface="Times New Roman"/>
              </a:rPr>
              <a:t>Awar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83808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ScalaSansLF-Regular"/>
                <a:ea typeface="Times New Roman"/>
              </a:rPr>
              <a:t>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 flipV="1">
            <a:off x="5410080" y="2514240"/>
            <a:ext cx="0" cy="335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2057400" y="4114800"/>
            <a:ext cx="6629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22"/>
          <p:cNvSpPr/>
          <p:nvPr/>
        </p:nvSpPr>
        <p:spPr>
          <a:xfrm>
            <a:off x="2057400" y="257508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ScalaSansLF-Bold"/>
                <a:ea typeface="Times New Roman"/>
              </a:rPr>
              <a:t>Self-Awar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calaSansLF-Bold"/>
                <a:ea typeface="Times New Roman"/>
              </a:rPr>
              <a:t>Knowing one’s internal states, preferences, resources, and intu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2057400" y="4175280"/>
            <a:ext cx="33526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ScalaSansLF-Regular"/>
                <a:ea typeface="Times New Roman"/>
              </a:rPr>
              <a:t>Self-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calaSansLF-Regular"/>
                <a:ea typeface="Times New Roman"/>
              </a:rPr>
              <a:t>Managing one’s internal states, impulses, and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5486400" y="2575080"/>
            <a:ext cx="3200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ScalaSansLF-Regular"/>
                <a:ea typeface="Times New Roman"/>
              </a:rPr>
              <a:t>Social Awar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calaSansLF-Regular"/>
                <a:ea typeface="Times New Roman"/>
              </a:rPr>
              <a:t>Awareness of others feelings, needs or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5486400" y="411480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ScalaSansLF-Regular"/>
                <a:ea typeface="Times New Roman"/>
              </a:rPr>
              <a:t>Relationship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calaSansLF-Regular"/>
                <a:ea typeface="Times New Roman"/>
              </a:rPr>
              <a:t>Adeptness at inducing desirable responses in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32"/>
          <p:cNvGrpSpPr/>
          <p:nvPr/>
        </p:nvGrpSpPr>
        <p:grpSpPr>
          <a:xfrm>
            <a:off x="2361960" y="2666880"/>
            <a:ext cx="3353040" cy="1676520"/>
            <a:chOff x="2361960" y="2666880"/>
            <a:chExt cx="3353040" cy="1676520"/>
          </a:xfrm>
        </p:grpSpPr>
        <p:sp>
          <p:nvSpPr>
            <p:cNvPr id="301" name="AutoShape 27"/>
            <p:cNvSpPr/>
            <p:nvPr/>
          </p:nvSpPr>
          <p:spPr>
            <a:xfrm>
              <a:off x="5257800" y="2666880"/>
              <a:ext cx="457200" cy="152640"/>
            </a:xfrm>
            <a:prstGeom prst="rightArrow">
              <a:avLst>
                <a:gd name="adj1" fmla="val 50000"/>
                <a:gd name="adj2" fmla="val 74882"/>
              </a:avLst>
            </a:prstGeom>
            <a:solidFill>
              <a:srgbClr val="def5f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AutoShape 28"/>
            <p:cNvSpPr/>
            <p:nvPr/>
          </p:nvSpPr>
          <p:spPr>
            <a:xfrm rot="5400000">
              <a:off x="2209320" y="403848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def5f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AutoShape 30"/>
          <p:cNvSpPr/>
          <p:nvPr/>
        </p:nvSpPr>
        <p:spPr>
          <a:xfrm rot="5400000">
            <a:off x="8076600" y="396216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def5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31"/>
          <p:cNvSpPr/>
          <p:nvPr/>
        </p:nvSpPr>
        <p:spPr>
          <a:xfrm>
            <a:off x="5105520" y="42670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def5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16360" y="274320"/>
            <a:ext cx="5765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Tahoma"/>
              </a:rPr>
              <a:t>Definition of communication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195640" y="2205000"/>
            <a:ext cx="6804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Is the art of transferring or exchanging information  ideas  or thoughts easily and correctly through verbal or non-verbal language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he Communication proces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5400" y="1197000"/>
            <a:ext cx="8226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The communication process could be defined as a sending-receiving proces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" descr="comm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304920"/>
            <a:ext cx="771048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lients Righ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492000" y="1981080"/>
            <a:ext cx="43196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nity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ic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cy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dentiality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ity of car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nio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6732720" y="2060640"/>
            <a:ext cx="1914480" cy="3816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2629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Goals of therapeutic communic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Establishing a therapeutic provider-client relationship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Identify client’s concerns and problem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Assess client’s perception of the problem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Recognize client’s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Guide client towards a satisfying and socially acceptable solution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4176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00000" y="304560"/>
            <a:ext cx="8244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 Qualities of a Good communicator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268360" y="1916280"/>
            <a:ext cx="64137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Respect and empathy for the clien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Good communication skill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Tolerance of values and beliefs different from one’s ow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Unbiased attitud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Patienc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Awareness of gender issues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  <a:ea typeface="Arial Unicode MS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0322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99640" y="-243000"/>
            <a:ext cx="79218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  <a:ea typeface="Tahoma"/>
              </a:rPr>
              <a:t>Objective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556000" y="1341360"/>
            <a:ext cx="64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ff"/>
                </a:solidFill>
                <a:latin typeface="Bodoni MT"/>
              </a:rPr>
              <a:t>By the end of the session the student will be able to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doni MT"/>
              </a:rPr>
              <a:t>Aware of self by Communicate with your self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doni MT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Define the communica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Explain the communication proces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State factors affecting communication proces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1728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Types of communication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95280" y="907920"/>
            <a:ext cx="8748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1- Non-verbal commun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what is observed and sen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*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often more important than verbal commun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it inclu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language :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(tone of voice , stream of talk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esis : 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(all body languages and facial movement )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xemies :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(the distance between the sender and the receiver 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ch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arte facts :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(the way a person dressed , make up 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2843280" y="476280"/>
            <a:ext cx="59767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2- Verbal communication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what is said and hear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is the content of communic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n appropriate tone of voic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verbal encouragement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question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phras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 clarif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35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97440" cy="14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ommunication techniques and skills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66320" y="2133360"/>
            <a:ext cx="7543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ffff"/>
                </a:solidFill>
                <a:uFillTx/>
                <a:latin typeface="Bodoni MT"/>
              </a:rPr>
              <a:t>1-Talking Techniques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Questioning and general lead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Make broad opening statement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Paraphrase , reward or summarize what has been said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Reflect feeling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Re-state or repeat the client</a:t>
            </a:r>
            <a:r>
              <a:rPr b="0" lang="ar-SA" sz="2800" spc="-1" strike="noStrike">
                <a:solidFill>
                  <a:srgbClr val="66ffff"/>
                </a:solidFill>
                <a:latin typeface="Bodoni MT"/>
              </a:rPr>
              <a:t>’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s statement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Clarif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Focus and re-focus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212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ff"/>
                </a:solidFill>
                <a:uFillTx/>
                <a:latin typeface="Bodoni MT"/>
              </a:rPr>
              <a:t>2Non talking techniques 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Feed back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Active listen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       </a:t>
            </a: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- Focu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         </a:t>
            </a: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- Reflect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         </a:t>
            </a: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- Drawing out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         </a:t>
            </a: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- Acceptanc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Silenc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Conflict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095640" cy="2718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4932360" y="981000"/>
            <a:ext cx="3095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43280" y="304920"/>
            <a:ext cx="630072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ools for Effective commun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347640" y="1600200"/>
            <a:ext cx="53341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a2bf"/>
                </a:solidFill>
                <a:latin typeface="Bodoni MT"/>
              </a:rPr>
              <a:t>Communication skill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Effective of verbal and non-verbal communica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Active listen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Question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Use of simple languag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Reflecting feeling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Paraphras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Silenc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40360" y="274320"/>
            <a:ext cx="4541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tive listening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6669000"/>
          </a:xfrm>
          <a:prstGeom prst="rect">
            <a:avLst/>
          </a:prstGeom>
          <a:ln w="0">
            <a:noFill/>
          </a:ln>
        </p:spPr>
      </p:pic>
      <p:sp>
        <p:nvSpPr>
          <p:cNvPr id="339" name="مستطيل 3"/>
          <p:cNvSpPr/>
          <p:nvPr/>
        </p:nvSpPr>
        <p:spPr>
          <a:xfrm>
            <a:off x="3348000" y="1700280"/>
            <a:ext cx="525636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t facing the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pen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Lean forward towards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stablish eye 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lax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5327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haracteristics of a successful       communic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000" y="1628280"/>
            <a:ext cx="8142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Communication is successful when the person has a feeling of being understood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This feeling is the result of and dependent upon the presence of 4 characteristic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nest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priatenes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icienc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exibilit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543800" cy="30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ank you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842920" y="260280"/>
            <a:ext cx="58388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Use talking and non talking therapeutic technique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948360" y="1241280"/>
            <a:ext cx="19065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ontents</a:t>
            </a:r>
            <a:r>
              <a:rPr b="0" i="1" lang="en-US" sz="29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332000" y="1699920"/>
            <a:ext cx="7488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Bodoni MT"/>
              </a:rPr>
              <a:t>Self awareness( definition , goal, how to be self aware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odoni MT"/>
              </a:rPr>
              <a:t>Definition of communication 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odoni MT"/>
              </a:rPr>
              <a:t>Clients Rights 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odoni MT"/>
              </a:rPr>
              <a:t>The communication process 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odoni MT"/>
              </a:rPr>
              <a:t>Goals of therapeutic communication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odoni MT"/>
              </a:rPr>
              <a:t>Qualities of a Good communicator . </a:t>
            </a:r>
            <a:r>
              <a:rPr b="0" lang="en-US" sz="2200" spc="-1" strike="noStrike">
                <a:solidFill>
                  <a:srgbClr val="ffffff"/>
                </a:solidFill>
                <a:latin typeface="Bodoni MT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979280" y="189000"/>
            <a:ext cx="698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Types of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Communication skills and techniqu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Tools for effective communica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Factors effecting communica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Characteristics of successful communica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Introduction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124000" y="1628640"/>
            <a:ext cx="7020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Establishing a therapeutic relationship is one of the most important responsibility of the team when working with client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700360" y="476280"/>
            <a:ext cx="59817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development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self-aware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will enhance the objectivity and foster a nonjudgmental attitude, which is so important </a:t>
            </a:r>
            <a:r>
              <a:rPr b="0" lang="en-US" sz="3200" spc="-1" strike="noStrike">
                <a:solidFill>
                  <a:srgbClr val="da1f28"/>
                </a:solidFill>
                <a:latin typeface="Arial"/>
                <a:ea typeface="Times New Roman"/>
              </a:rPr>
              <a:t>in building and maintain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rust throughout the </a:t>
            </a:r>
            <a:r>
              <a:rPr b="0" lang="en-US" sz="3200" spc="-1" strike="noStrike">
                <a:solidFill>
                  <a:srgbClr val="da1f28"/>
                </a:solidFill>
                <a:latin typeface="Arial"/>
                <a:ea typeface="Times New Roman"/>
              </a:rPr>
              <a:t>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 aware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771640" y="1916280"/>
            <a:ext cx="5910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Self-awareness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the process of understanding one’s own beliefs, thoughts, motivatio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 limitations and recognizing how  they affect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230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00:31:22Z</dcterms:created>
  <dc:creator>first</dc:creator>
  <dc:description/>
  <dc:language>en-US</dc:language>
  <cp:lastModifiedBy>Elham Fayad</cp:lastModifiedBy>
  <cp:lastPrinted>2015-02-05T05:12:54Z</cp:lastPrinted>
  <dcterms:modified xsi:type="dcterms:W3CDTF">2015-08-30T05:23:25Z</dcterms:modified>
  <cp:revision>256</cp:revision>
  <dc:subject/>
  <dc:title>الشريحة 1</dc:title>
</cp:coreProperties>
</file>