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3458-C473-4F85-BC43-44DAA9200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78D3-B232-48F6-BD18-D1BBF2CA60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765-0CAD-4AE6-9D5F-1307381E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E9B-807B-41AB-BEDD-4285E1BF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997-CEA6-4E13-B97D-CF26723E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E53-9E06-4289-ACEF-D5AF9ACD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2CB2-4A13-467C-9272-09D0C497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F493-0ABB-4668-A8A0-9195B1F1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9C28-E6BC-4686-B35B-F3B9C696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583B-EF4D-4660-98E5-5C7CE72C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9DE3-3CC0-4E17-AFFC-E662442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BEB8-1413-4E4D-8543-999260E4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E756-5590-4CD0-9FE7-905D74EA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B90C-CF70-4C8E-86DC-C61554BA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D327-0375-4E57-A4FB-9B6BA7A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7653-1D90-4E9A-A4CB-84CB5020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C5C7-EFD1-47DD-9B0F-19DB9029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0D49-8FF2-422D-8FEA-B6EECB03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04D9-6730-4340-944D-25E80BB9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98CF1-448D-4738-BC3E-48BDC720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03312-CAD1-4C00-928D-0E6C0DD2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00F0-3DD4-4469-BBAB-6323473C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CDDE9-4893-4581-859C-6984B391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9DDC7-C789-447B-8C74-E1D73211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C58-9F42-4AF7-90C2-1B568D07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D2012-0223-40C0-9AE6-47DD529A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6209-BD0E-45EB-9CDD-C1A823FE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897E-ECA7-4D9C-B323-96302B95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D6192-39C1-4413-8CDF-ADBADC25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91D7-689B-4EB0-95C2-A23773A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13B4-D9BD-44D3-B3FA-D5447939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65E8-958C-4342-AF42-D01B59E5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97D4-162F-4B44-B123-4794968C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8114B-153F-4207-8400-31DCC66F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14A09-B1BB-4CD9-8E5A-F28EEB37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D30D-480B-4873-8D9F-A70011D7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AD74C-DEDE-46C6-B546-7B1C1A1B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80D3-08AB-401B-B122-87692001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D6A79-B77A-46DB-94CC-1ACB9BB9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118D-5790-4279-82CA-A37F30E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F465-173D-4B61-9097-2C64B0D6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E1E6D-F3F1-4381-830A-BFE338F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AFAE6-535A-4FA3-83FC-EA3A1061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74A7-42A9-44CB-B5A6-2FE399FC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120E-7169-470F-A94D-7607BA88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30F0-8172-4787-A41B-5E63F17A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3109-0208-4558-A21D-B8D6511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711ED-9D20-4B95-AC29-A447215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7BE71-979A-41DC-AC8B-9ACFD70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C513-2AEB-4F18-ABB0-872E9184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48407-63B8-492A-AF2D-A51E911E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A2384-4C5C-4B43-9495-E422B393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CF75A-5E22-4E4A-A692-B0896552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079C1-E49F-43A0-A043-E77F62F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76CF4-51AB-4A85-B45D-606DD099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4241-DC6C-4E1F-A8C5-9A9B798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906B0-BCBC-4F10-9EC3-A46FD230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80B7-D3D1-4EB8-9881-60A15012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3BC40-D49D-417B-9A17-BE57026D8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8D4A6-B179-4E0E-8F29-81DAB9A8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07116-FB34-4A41-9CC8-BC6C10C8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14E73-BC4A-43F9-AFF7-33647D0C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60D8C-B1C6-4D2F-BCFE-9BBFA37C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9AA83-CBFB-4D39-B32B-CDA23770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5400" y="2743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F834-88D9-4C69-A6D3-2368D00B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F419-07E1-4302-980B-903F82BB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87EE5-138E-490F-AF66-7846028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A9349-94EF-4F16-936B-BEBB3FF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B35E-5814-442D-BEBB-3125F3C6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CCB49-89DE-4188-A647-BA4F42AA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5EC63-C1D9-43B5-90D4-6902BB00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18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540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6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18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7A17-C790-4518-A99A-6FA9B6B3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16E-5C84-4883-84AD-1AF24F84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64320"/>
            <a:ext cx="8226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757D-1043-404F-B2F8-FA3C8359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7F4-47E1-457A-A269-03A678A21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235-3C7C-4472-8D38-CCA45DDC4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2675-EF40-483F-A09D-7B29C78C0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53A1-0262-4510-9573-A4D9D90129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57AE-8F45-4FDB-94E7-9302AB1C2B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36440" y="136440"/>
            <a:ext cx="8866440" cy="6581880"/>
          </a:xfrm>
          <a:prstGeom prst="rect">
            <a:avLst/>
          </a:prstGeom>
          <a:solidFill>
            <a:srgbClr val="46464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ham fay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03E1-5311-402E-A7C2-28C0E689104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Bodoni MT"/>
              </a:rPr>
              <a:t>Therapeutic Commun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Rectangle 3" descr=""/>
          <p:cNvPicPr/>
          <p:nvPr/>
        </p:nvPicPr>
        <p:blipFill>
          <a:blip r:embed="rId1"/>
          <a:stretch/>
        </p:blipFill>
        <p:spPr>
          <a:xfrm>
            <a:off x="1060560" y="1158840"/>
            <a:ext cx="8089920" cy="45831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2627280" y="2465280"/>
            <a:ext cx="4824360" cy="3051360"/>
          </a:xfrm>
          <a:prstGeom prst="rect">
            <a:avLst/>
          </a:prstGeom>
          <a:ln w="0">
            <a:noFill/>
          </a:ln>
        </p:spPr>
      </p:pic>
      <p:sp>
        <p:nvSpPr>
          <p:cNvPr id="2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63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Goals of  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195640" y="1600200"/>
            <a:ext cx="64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allows an individual to interact with other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omfortab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o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ccept the differ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s and to observe each person’s right to respect and dign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 awareness allows you to observe, pay attention to, and understand the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ubtle responses and reactio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lients when interacting with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improve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anag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appropriate goals, manage st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92480" indent="-369720">
              <a:spcBef>
                <a:spcPts val="6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771280" y="134136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understand differences between you and oth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why others react to you the way they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pt your communication to others’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42040" indent="-273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interpers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1000" indent="-39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w to Become Self Aware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771280" y="1628640"/>
            <a:ext cx="63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Self examin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o examine personal beliefs, attitudes, and moti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 strong sense of one’s self-worth and cap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Accurate Self-Assess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nowing one’s strengths and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Arial"/>
                <a:ea typeface="Times New Roman"/>
              </a:rPr>
              <a:t>Emotional Self-Awar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cognizing one’s e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641b"/>
                </a:solidFill>
                <a:latin typeface="Arial"/>
                <a:ea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king feedback from your supervisors ,friends, family and your sel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771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cating With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2590920" cy="2808360"/>
          </a:xfrm>
          <a:prstGeom prst="rect">
            <a:avLst/>
          </a:prstGeom>
          <a:ln w="0">
            <a:noFill/>
          </a:ln>
        </p:spPr>
      </p:pic>
      <p:sp>
        <p:nvSpPr>
          <p:cNvPr id="298" name="مستطيل 4"/>
          <p:cNvSpPr/>
          <p:nvPr/>
        </p:nvSpPr>
        <p:spPr>
          <a:xfrm>
            <a:off x="3276720" y="17733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si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ing positive thoughts aloud; thinking, saying and hearing positive statements about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مستطيل 5"/>
          <p:cNvSpPr/>
          <p:nvPr/>
        </p:nvSpPr>
        <p:spPr>
          <a:xfrm>
            <a:off x="3564000" y="4076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gative self-talk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f-destructi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elf-image is lowered by your own critici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2057400" y="2514600"/>
            <a:ext cx="6629400" cy="3352680"/>
          </a:xfrm>
          <a:prstGeom prst="rect">
            <a:avLst/>
          </a:prstGeom>
          <a:gradFill rotWithShape="0">
            <a:gsLst>
              <a:gs pos="0">
                <a:srgbClr val="154b58"/>
              </a:gs>
              <a:gs pos="50000">
                <a:srgbClr val="2da2bf"/>
              </a:gs>
              <a:gs pos="100000">
                <a:srgbClr val="154b5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Intelligence compon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2743200" y="1790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Person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6172200" y="179064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Social Compe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685800" y="2971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war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8380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8119"/>
                </a:solidFill>
                <a:latin typeface="ScalaSansLF-Regular"/>
                <a:ea typeface="Times New Roman"/>
              </a:rPr>
              <a:t>A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0"/>
          <p:cNvSpPr/>
          <p:nvPr/>
        </p:nvSpPr>
        <p:spPr>
          <a:xfrm flipV="1">
            <a:off x="5410080" y="2514240"/>
            <a:ext cx="0" cy="3352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1"/>
          <p:cNvSpPr/>
          <p:nvPr/>
        </p:nvSpPr>
        <p:spPr>
          <a:xfrm>
            <a:off x="2057400" y="4114800"/>
            <a:ext cx="6629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2057400" y="25750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Bold"/>
                <a:ea typeface="Times New Roman"/>
              </a:rPr>
              <a:t>Self-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Bold"/>
                <a:ea typeface="Times New Roman"/>
              </a:rPr>
              <a:t>Knowing one’s internal states, preferences, resources, and intu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4"/>
          <p:cNvSpPr/>
          <p:nvPr/>
        </p:nvSpPr>
        <p:spPr>
          <a:xfrm>
            <a:off x="2057400" y="4175280"/>
            <a:ext cx="33526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elf-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Managing one’s internal states, impulses, and resou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5"/>
          <p:cNvSpPr/>
          <p:nvPr/>
        </p:nvSpPr>
        <p:spPr>
          <a:xfrm>
            <a:off x="5486400" y="257508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Social Aware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wareness of others feelings, needs or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6"/>
          <p:cNvSpPr/>
          <p:nvPr/>
        </p:nvSpPr>
        <p:spPr>
          <a:xfrm>
            <a:off x="5486400" y="4114800"/>
            <a:ext cx="3124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41b"/>
                </a:solidFill>
                <a:latin typeface="ScalaSansLF-Regular"/>
                <a:ea typeface="Times New Roman"/>
              </a:rPr>
              <a:t>Relationship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calaSansLF-Regular"/>
                <a:ea typeface="Times New Roman"/>
              </a:rPr>
              <a:t>Adeptness at inducing desirable responses in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2"/>
          <p:cNvGrpSpPr/>
          <p:nvPr/>
        </p:nvGrpSpPr>
        <p:grpSpPr>
          <a:xfrm>
            <a:off x="2361960" y="2666880"/>
            <a:ext cx="3353040" cy="1676520"/>
            <a:chOff x="2361960" y="2666880"/>
            <a:chExt cx="3353040" cy="1676520"/>
          </a:xfrm>
        </p:grpSpPr>
        <p:sp>
          <p:nvSpPr>
            <p:cNvPr id="314" name="AutoShape 27"/>
            <p:cNvSpPr/>
            <p:nvPr/>
          </p:nvSpPr>
          <p:spPr>
            <a:xfrm>
              <a:off x="5257800" y="2666880"/>
              <a:ext cx="457200" cy="152640"/>
            </a:xfrm>
            <a:prstGeom prst="rightArrow">
              <a:avLst>
                <a:gd name="adj1" fmla="val 50000"/>
                <a:gd name="adj2" fmla="val 74882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AutoShape 28"/>
            <p:cNvSpPr/>
            <p:nvPr/>
          </p:nvSpPr>
          <p:spPr>
            <a:xfrm rot="5400000">
              <a:off x="2209320" y="4038480"/>
              <a:ext cx="457200" cy="152280"/>
            </a:xfrm>
            <a:prstGeom prst="rightArrow">
              <a:avLst>
                <a:gd name="adj1" fmla="val 50000"/>
                <a:gd name="adj2" fmla="val 75059"/>
              </a:avLst>
            </a:prstGeom>
            <a:solidFill>
              <a:srgbClr val="def5f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AutoShape 30"/>
          <p:cNvSpPr/>
          <p:nvPr/>
        </p:nvSpPr>
        <p:spPr>
          <a:xfrm rot="5400000">
            <a:off x="8076600" y="396216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1"/>
          <p:cNvSpPr/>
          <p:nvPr/>
        </p:nvSpPr>
        <p:spPr>
          <a:xfrm>
            <a:off x="5105520" y="42670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def5f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ooter Placeholder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916360" y="274320"/>
            <a:ext cx="5765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  <a:ea typeface="Tahoma"/>
              </a:rPr>
              <a:t>Definition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95640" y="2205000"/>
            <a:ext cx="68040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Is the art of transferring or exchanging information  ideas  or thoughts easily and correctly through verbal or non-verbal language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e Communication proces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5400" y="1197000"/>
            <a:ext cx="822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could be defined as a sending-receiving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4" descr="comm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3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71048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lients Righ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492000" y="1981080"/>
            <a:ext cx="43196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gnity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i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vac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identiality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ity of car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nion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6732720" y="2060640"/>
            <a:ext cx="1914480" cy="381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629080" cy="381636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Goals of therapeutic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Establishing a therapeutic provider-client relationship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Identify client’s concerns and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Assess client’s perception of the problem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Recognize client’s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Guide client towards a satisfying and socially acceptable solution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4176720" cy="278136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304560"/>
            <a:ext cx="824400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The Qualities of a Good communicat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68360" y="1916280"/>
            <a:ext cx="64137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Respect and empathy for the clien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Good communication skill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Tolerance of values and beliefs different from one’s ow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Unbiased attitud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Patien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  <a:ea typeface="Arial Unicode MS"/>
              </a:rPr>
              <a:t>Awareness of gender issues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2032200" cy="5373720"/>
          </a:xfrm>
          <a:prstGeom prst="rect">
            <a:avLst/>
          </a:prstGeom>
          <a:ln w="0">
            <a:noFill/>
          </a:ln>
        </p:spPr>
      </p:pic>
      <p:sp>
        <p:nvSpPr>
          <p:cNvPr id="3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99640" y="-243000"/>
            <a:ext cx="79218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  <a:ea typeface="Tahoma"/>
              </a:rPr>
              <a:t>Objectives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556000" y="1341360"/>
            <a:ext cx="640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ff"/>
                </a:solidFill>
                <a:latin typeface="Bodoni MT"/>
              </a:rPr>
              <a:t>By the end of the session the student will be able to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Aware of self by Communicate with your self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Bodoni MT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efine the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xplain the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tate factors affecting communication proc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233440" cy="5256360"/>
          </a:xfrm>
          <a:prstGeom prst="rect">
            <a:avLst/>
          </a:prstGeom>
          <a:ln w="0">
            <a:noFill/>
          </a:ln>
        </p:spPr>
      </p:pic>
      <p:sp>
        <p:nvSpPr>
          <p:cNvPr id="2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Types of communication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95280" y="907920"/>
            <a:ext cx="87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1- Non-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observed and sen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often more important than verbal communic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it includ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language :  </a:t>
            </a: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(tone of voice , stream of talk 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nesis :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all body languages and facial movement )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xemies :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distance between the sender and the receiver 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uch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arte facts :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(the way a person dressed , make up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5976720" cy="6381720"/>
          </a:xfrm>
          <a:prstGeom prst="rect">
            <a:avLst/>
          </a:prstGeom>
          <a:ln w="0">
            <a:noFill/>
          </a:ln>
        </p:spPr>
      </p:pic>
      <p:sp>
        <p:nvSpPr>
          <p:cNvPr id="34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Arial"/>
              </a:rPr>
              <a:t>2- Verbal communication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what is said and heard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is the content of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n appropriate tone of voic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verbal encouragement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k question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phr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 clarific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359080" cy="2879640"/>
          </a:xfrm>
          <a:prstGeom prst="rect">
            <a:avLst/>
          </a:prstGeom>
          <a:ln w="0">
            <a:noFill/>
          </a:ln>
        </p:spPr>
      </p:pic>
      <p:sp>
        <p:nvSpPr>
          <p:cNvPr id="3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69744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mmunication techniques and skills </a:t>
            </a: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66320" y="213336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66ffff"/>
                </a:solidFill>
                <a:uFillTx/>
                <a:latin typeface="Bodoni MT"/>
              </a:rPr>
              <a:t>1-Talking Techniques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Questioning and general lead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Make broad opening statement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Paraphrase , reward or summarize what has been said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flect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Re-state or repeat the client</a:t>
            </a:r>
            <a:r>
              <a:rPr b="0" lang="ar-SA" sz="2800" spc="-1" strike="noStrike">
                <a:solidFill>
                  <a:srgbClr val="66ffff"/>
                </a:solidFill>
                <a:latin typeface="Bodoni MT"/>
              </a:rPr>
              <a:t>’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s statement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Clarif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      </a:t>
            </a:r>
            <a:r>
              <a:rPr b="0" lang="en-US" sz="2800" spc="-1" strike="noStrike">
                <a:solidFill>
                  <a:srgbClr val="66ffff"/>
                </a:solidFill>
                <a:latin typeface="Bodoni MT"/>
              </a:rPr>
              <a:t>- Focus and re-focus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2124000" cy="259236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ffff"/>
                </a:solidFill>
                <a:uFillTx/>
                <a:latin typeface="Bodoni MT"/>
              </a:rPr>
              <a:t>2Non talking techniques 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Feed back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Focu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Reflec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Drawing ou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         </a:t>
            </a:r>
            <a:r>
              <a:rPr b="0" lang="en-US" sz="2400" spc="-1" strike="noStrike">
                <a:solidFill>
                  <a:srgbClr val="66ffff"/>
                </a:solidFill>
                <a:latin typeface="Bodoni MT"/>
              </a:rPr>
              <a:t>- Acceptance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095640" cy="2718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095640" cy="287964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843280" y="304920"/>
            <a:ext cx="6300720" cy="117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ools for Effective 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347640" y="1600200"/>
            <a:ext cx="53341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a2bf"/>
                </a:solidFill>
                <a:latin typeface="Bodoni MT"/>
              </a:rPr>
              <a:t>Communication skill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Effective of verbal and non-verbal communication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ctive liste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Question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se of simple languag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Reflecting feeling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araphrasing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Sil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40360" y="274320"/>
            <a:ext cx="4541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tive listening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مستطيل 3"/>
          <p:cNvSpPr/>
          <p:nvPr/>
        </p:nvSpPr>
        <p:spPr>
          <a:xfrm>
            <a:off x="3348000" y="1700280"/>
            <a:ext cx="5256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it facing the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pen Pos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Lean forward towards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stablish eye 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lax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6669000"/>
          </a:xfrm>
          <a:prstGeom prst="rect">
            <a:avLst/>
          </a:prstGeom>
          <a:ln w="0">
            <a:noFill/>
          </a:ln>
        </p:spPr>
      </p:pic>
      <p:sp>
        <p:nvSpPr>
          <p:cNvPr id="3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540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haracteristics of a successful       communicatio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000" y="1628280"/>
            <a:ext cx="8142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Communication is successful when the person has a feeling of being understood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</a:rPr>
              <a:t>This feeling is the result of and dependent upon the presence of 4 characteristic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es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priatenes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c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ility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980640"/>
            <a:ext cx="7543800" cy="30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Thank you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842920" y="260280"/>
            <a:ext cx="58388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Use talking and non talking therapeutic techniqu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6948360" y="1241280"/>
            <a:ext cx="1906560" cy="5616720"/>
          </a:xfrm>
          <a:prstGeom prst="rect">
            <a:avLst/>
          </a:prstGeom>
          <a:ln w="0">
            <a:noFill/>
          </a:ln>
        </p:spPr>
      </p:pic>
      <p:sp>
        <p:nvSpPr>
          <p:cNvPr id="26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Contents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332000" y="1699920"/>
            <a:ext cx="7488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doni MT"/>
              </a:rPr>
              <a:t>Self awareness( definition , goal, how to be self awar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Definition of communication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Clients Right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The communication proces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Goals of therapeutic communica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Qualities of a Good communicator . </a:t>
            </a: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79280" y="189000"/>
            <a:ext cx="6985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ypes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ommunication skills and techniques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Tools for effective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Factors effecting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"/>
              </a:rPr>
              <a:t>Characteristics of successful communicatio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4680"/>
            <a:ext cx="822636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Arial"/>
              </a:rPr>
              <a:t>Introduction 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124000" y="1628640"/>
            <a:ext cx="70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odoni MT"/>
              </a:rPr>
              <a:t>Establishing a therapeutic relationship is one of the most important responsibility of the team when working with client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700360" y="476280"/>
            <a:ext cx="59817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developmen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elf-aware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will enhance the objectivity and foster a nonjudgmental attitude, which is so important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in building and maintain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rust throughout the </a:t>
            </a:r>
            <a:r>
              <a:rPr b="0" lang="en-US" sz="3200" spc="-1" strike="noStrike">
                <a:solidFill>
                  <a:srgbClr val="da1f28"/>
                </a:solidFill>
                <a:latin typeface="Arial"/>
                <a:ea typeface="Times New Roman"/>
              </a:rPr>
              <a:t>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43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 awaren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2771640" y="1916280"/>
            <a:ext cx="6121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Self-awareness</a:t>
            </a:r>
            <a:r>
              <a:rPr b="1" lang="en-US" sz="3200" spc="-1" strike="noStrike">
                <a:solidFill>
                  <a:srgbClr val="46464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 the process of understanding one’s own beliefs, thoughts, motivations,  and limitations and recognizing how  they affect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2305080" cy="4321080"/>
          </a:xfrm>
          <a:prstGeom prst="rect">
            <a:avLst/>
          </a:prstGeom>
          <a:ln w="0">
            <a:noFill/>
          </a:ln>
        </p:spPr>
      </p:pic>
      <p:sp>
        <p:nvSpPr>
          <p:cNvPr id="28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lham fay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00:31:22Z</dcterms:created>
  <dc:creator>first</dc:creator>
  <dc:description/>
  <dc:language>en-US</dc:language>
  <cp:lastModifiedBy>sony</cp:lastModifiedBy>
  <dcterms:modified xsi:type="dcterms:W3CDTF">2008-02-16T23:11:46Z</dcterms:modified>
  <cp:revision>257</cp:revision>
  <dc:subject/>
  <dc:title>الشريحة 1</dc:title>
</cp:coreProperties>
</file>