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27.xml.rels" ContentType="application/vnd.openxmlformats-package.relationships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3.png" ContentType="image/png"/>
  <Override PartName="/ppt/media/image8.png" ContentType="image/png"/>
  <Override PartName="/ppt/media/image6.jpeg" ContentType="image/jpeg"/>
  <Override PartName="/ppt/media/image10.png" ContentType="image/png"/>
  <Override PartName="/ppt/media/image4.png" ContentType="image/png"/>
  <Override PartName="/ppt/media/image3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2.jpeg" ContentType="image/jpeg"/>
  <Override PartName="/ppt/media/image1.jpeg" ContentType="image/jpeg"/>
  <Override PartName="/ppt/media/image5.png" ContentType="image/png"/>
  <Override PartName="/ppt/media/image2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D797C-0C8F-4A3E-B8F6-2F726D19D2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AF921-89A8-4D1E-AAA5-B01E1B7A49C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9904E-FC61-44F2-AD69-EE25638C6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5400" y="396432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84540-1582-457D-AE20-F6DBE7CBF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0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EA91A-701A-4249-91E9-FBA07ED96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676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12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540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676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12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54C16-DD46-4E46-9884-2CEAB756F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91EA3-6240-423E-8198-E036D604E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3E4A9-DEDA-410A-920C-1DE751364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CE600-EB5F-4FE1-B05C-922FFAA35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CFB43-FA24-49DC-84B1-8F479D3A5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99E7E-9BCD-4C8E-87A9-A55D0AABB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5400" y="2743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02240-37BD-4067-909B-7EF1E6E75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4FD8F-F195-4E03-8E01-D27FAD031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0BFFC-3D8F-4096-9FF2-79485AE2F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10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05A23-9254-4588-92F1-9377C9913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FC00F-6415-40C7-B264-4A217379E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5400" y="396432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D3F82-2F7E-4F2A-BB30-9000735E7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10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23C06-F829-423F-978E-78425EA60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676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1812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540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676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1812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0B81C-F4FB-4362-BD6B-B7D242331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9E052F-7FB4-49A6-87AA-26EEDAF00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7D3E94-9903-49CD-811B-D0920B612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B9FC83-3AF7-4EF9-BBFB-2AA128796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5C0606-CAC8-478D-956A-5F83C9FD0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6E39FF-A79E-4CAB-B703-58677549C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27596-28D0-4C51-BD23-4BFD89F37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5400" y="2743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D128CA-3D32-4344-91A9-6F485911F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23539E-7BB4-4448-B1C6-FD961ED75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10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15CAC4-FB4C-4FF8-BDD9-6808BCF56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D2B5BF-97CB-4609-823F-80FF43543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5400" y="396432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BE7B49-9C58-43E5-8B0B-D76E664A0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10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BACF82-DD4E-4E16-9AEA-D03BEBF89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676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1812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540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676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1812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E428B7-F27B-4F98-BD0D-E14195021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35CDC6-C6C4-4932-8EDB-F66FBF043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377B7B-F5FD-47EE-B691-A5B79E57E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DFA725-2921-447F-A1D6-C9E208530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5803D-6CD8-4D38-ABDF-2AC9E7A01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2A9389-1BF3-4079-9CD0-38A645997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890DBF-4829-49C5-9032-59F93FB9F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5400" y="2743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F9DF80-0D64-48B7-B3A6-7448FE7F1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27D7FF-DE91-4F80-8B8D-1D36EC3CE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10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8589A5-21C9-400B-B789-4137F91B2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F17252-5A10-4F49-874F-FE4173DFF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5400" y="396432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84B1D4-3B63-414A-983B-F090D2586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10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4E777B-1F03-4E6C-B331-7FE8B1864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676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1812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540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676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1812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AA1B62-7360-40E8-BF0E-B676B8DB9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AA9366-A65B-488C-8C6C-58D3AC253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95760-BCCD-4EB7-89F6-BE165867A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933635-0A73-488D-9B22-A8110EC72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124AFC-0A8B-41CD-BCA6-0C10E54B3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375A02-6558-4BDE-BC7B-3A410F757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61DDB5-65EE-44AE-A759-DB1235B8C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455400" y="2743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9302CD-CEF8-411C-A42D-0FB9749F9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7AFDFD-1059-412D-81D1-B6F29E6DB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10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228A1B-1299-4395-BC7D-CA2E4A7E4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C93794-463C-4CB0-BD49-C0726134B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55400" y="396432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F12EBD-C3B4-4D01-A51D-F9D1A8B84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10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2096B1-7DD9-4E3E-80CF-F038A68F9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5400" y="2743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6B9A2-60DB-4EEE-9282-1066228A2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23676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1812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5540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23676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1812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289171-A152-4DEB-B1AB-8CBFCB668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712858-8365-4283-BE58-4265E6EDB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5084B1-C85D-45DD-8A12-03983C160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8F7DC7-51D3-47C2-9B69-0A01748C2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F442EE-9DF8-48DE-84BB-6A1A6C398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D94775-DBDD-4D56-A321-2842C389B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455400" y="2743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FE3421-9756-485D-80B3-9308C6770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17A47A-9919-40BD-9069-693625529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10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CF93C1-76CD-4E12-BE8C-A248B7D74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D008FD-A905-4FC9-BB12-FECEAF6C8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10B48-A78B-4F7E-B6BD-343BD5501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55400" y="396432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8E535E-527D-4108-AE0C-42C63A200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10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4AD5C8-FF11-423A-ADCB-F23C27EAB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3676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1812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5540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3676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1812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B8519B-C508-4D19-8993-D05ADDE76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0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18A15-4036-4469-8D0C-21FEA6A38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BFBFD-040D-4543-9ACB-79B772021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lham fay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940DC-6340-4B29-ADF3-78E459B675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46464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lham fay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D5126-1258-49B9-9F8C-1E1DA55B43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elham faya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F901D-F562-4828-B8B7-A543F6D262A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lham fay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EA2EF-4039-44DC-98C3-F7970AF3677E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2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46464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elham faya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0FF24-DD7E-48C7-AA74-2C0DC2D7745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2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46464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elham fay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F2DB2-4B70-4F2E-BD80-4FEA13A1981F}" type="slidenum"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5089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00"/>
                </a:solidFill>
                <a:latin typeface="Bodoni MT"/>
              </a:rPr>
              <a:t>Therapeutic Communicatio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7" name="Rectangle 3" descr=""/>
          <p:cNvPicPr/>
          <p:nvPr/>
        </p:nvPicPr>
        <p:blipFill>
          <a:blip r:embed="rId1"/>
          <a:stretch/>
        </p:blipFill>
        <p:spPr>
          <a:xfrm>
            <a:off x="1060560" y="1158840"/>
            <a:ext cx="8089920" cy="458316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2" descr=""/>
          <p:cNvPicPr/>
          <p:nvPr/>
        </p:nvPicPr>
        <p:blipFill>
          <a:blip r:embed="rId2"/>
          <a:stretch/>
        </p:blipFill>
        <p:spPr>
          <a:xfrm>
            <a:off x="2627280" y="2465280"/>
            <a:ext cx="4824360" cy="3051360"/>
          </a:xfrm>
          <a:prstGeom prst="rect">
            <a:avLst/>
          </a:prstGeom>
          <a:ln w="0">
            <a:noFill/>
          </a:ln>
        </p:spPr>
      </p:pic>
      <p:sp>
        <p:nvSpPr>
          <p:cNvPr id="259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lham faya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2339640" y="274320"/>
            <a:ext cx="63421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c000"/>
                </a:solidFill>
                <a:latin typeface="Arial"/>
              </a:rPr>
              <a:t>Goals of  Self awarenes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2195640" y="1600200"/>
            <a:ext cx="6486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492480" indent="-369720">
              <a:spcBef>
                <a:spcPts val="601"/>
              </a:spcBef>
              <a:buClr>
                <a:srgbClr val="f9f9f9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t allows an individual to interact with others 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comfortab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to 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accept the difference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others and to observe each person’s right to respect and dignity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92480" indent="-369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92480" indent="-369720">
              <a:lnSpc>
                <a:spcPct val="90000"/>
              </a:lnSpc>
              <a:spcBef>
                <a:spcPts val="601"/>
              </a:spcBef>
              <a:buClr>
                <a:srgbClr val="f9f9f9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lf awareness allows you to observe, pay attention to, and understand the 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subtle responses and reactions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f clients when interacting with th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92480" indent="-369720">
              <a:lnSpc>
                <a:spcPct val="90000"/>
              </a:lnSpc>
              <a:spcBef>
                <a:spcPts val="601"/>
              </a:spcBef>
              <a:buClr>
                <a:srgbClr val="f9f9f9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improve perform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92480" indent="-369720">
              <a:lnSpc>
                <a:spcPct val="90000"/>
              </a:lnSpc>
              <a:spcBef>
                <a:spcPts val="601"/>
              </a:spcBef>
              <a:buClr>
                <a:srgbClr val="f9f9f9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92480" indent="-369720">
              <a:lnSpc>
                <a:spcPct val="90000"/>
              </a:lnSpc>
              <a:spcBef>
                <a:spcPts val="601"/>
              </a:spcBef>
              <a:buClr>
                <a:srgbClr val="f9f9f9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manage yoursel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81200" indent="-2541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t appropriate goals, manage str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81200" indent="-2541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92480" indent="-369720">
              <a:spcBef>
                <a:spcPts val="601"/>
              </a:spcBef>
              <a:buClr>
                <a:srgbClr val="f9f9f9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92480" indent="-369720">
              <a:spcBef>
                <a:spcPts val="601"/>
              </a:spcBef>
              <a:buClr>
                <a:srgbClr val="f9f9f9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2124000" cy="6858000"/>
          </a:xfrm>
          <a:prstGeom prst="rect">
            <a:avLst/>
          </a:prstGeom>
          <a:ln w="0">
            <a:noFill/>
          </a:ln>
        </p:spPr>
      </p:pic>
      <p:sp>
        <p:nvSpPr>
          <p:cNvPr id="287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lham faya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 txBox="1"/>
          <p:nvPr/>
        </p:nvSpPr>
        <p:spPr>
          <a:xfrm>
            <a:off x="2771280" y="1341360"/>
            <a:ext cx="576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31000" indent="-398520">
              <a:lnSpc>
                <a:spcPct val="90000"/>
              </a:lnSpc>
              <a:spcBef>
                <a:spcPts val="799"/>
              </a:spcBef>
              <a:buClr>
                <a:srgbClr val="f9f9f9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understand differences between you and others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42040" indent="-2739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derstand why others react to you the way they d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42040" indent="-2739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apt your communication to others’ nee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42040" indent="-2739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velop interpersonal ski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1000" indent="-39852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2916360" cy="6858000"/>
          </a:xfrm>
          <a:prstGeom prst="rect">
            <a:avLst/>
          </a:prstGeom>
          <a:ln w="0">
            <a:noFill/>
          </a:ln>
        </p:spPr>
      </p:pic>
      <p:sp>
        <p:nvSpPr>
          <p:cNvPr id="290" name="Footer Placeholder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lham faya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131640" y="259920"/>
            <a:ext cx="55436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How to Become Self Aware?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2771280" y="1628640"/>
            <a:ext cx="637236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641b"/>
                </a:solidFill>
                <a:latin typeface="Arial"/>
                <a:ea typeface="Times New Roman"/>
              </a:rPr>
              <a:t>Self examinatio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: to examine personal beliefs, attitudes, and motiv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8119"/>
                </a:solidFill>
                <a:latin typeface="Arial"/>
                <a:ea typeface="Times New Roman"/>
              </a:rPr>
              <a:t>Self-Confid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 strong sense of one’s self-worth and capabilit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8119"/>
                </a:solidFill>
                <a:latin typeface="Arial"/>
                <a:ea typeface="Times New Roman"/>
              </a:rPr>
              <a:t>Accurate Self-Assess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Knowing one’s strengths and limi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8119"/>
                </a:solidFill>
                <a:latin typeface="Arial"/>
                <a:ea typeface="Times New Roman"/>
              </a:rPr>
              <a:t>Emotional Self-Awaren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Recognizing one’s emo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641b"/>
                </a:solidFill>
                <a:latin typeface="Arial"/>
                <a:ea typeface="Times New Roman"/>
              </a:rPr>
              <a:t>Feedbac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aking feedback from your supervisors ,friends, family and your self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2771640" cy="6858000"/>
          </a:xfrm>
          <a:prstGeom prst="rect">
            <a:avLst/>
          </a:prstGeom>
          <a:ln w="0">
            <a:noFill/>
          </a:ln>
        </p:spPr>
      </p:pic>
      <p:sp>
        <p:nvSpPr>
          <p:cNvPr id="294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lham faya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777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mmunicating With Yoursel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6" name="Picture 3" descr=""/>
          <p:cNvPicPr/>
          <p:nvPr/>
        </p:nvPicPr>
        <p:blipFill>
          <a:blip r:embed="rId1"/>
          <a:stretch/>
        </p:blipFill>
        <p:spPr>
          <a:xfrm>
            <a:off x="395280" y="4076640"/>
            <a:ext cx="2664000" cy="259236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2" descr=""/>
          <p:cNvPicPr/>
          <p:nvPr/>
        </p:nvPicPr>
        <p:blipFill>
          <a:blip r:embed="rId2"/>
          <a:stretch/>
        </p:blipFill>
        <p:spPr>
          <a:xfrm>
            <a:off x="468360" y="1341360"/>
            <a:ext cx="2590920" cy="2808360"/>
          </a:xfrm>
          <a:prstGeom prst="rect">
            <a:avLst/>
          </a:prstGeom>
          <a:ln w="0">
            <a:noFill/>
          </a:ln>
        </p:spPr>
      </p:pic>
      <p:sp>
        <p:nvSpPr>
          <p:cNvPr id="298" name="مستطيل 4"/>
          <p:cNvSpPr/>
          <p:nvPr/>
        </p:nvSpPr>
        <p:spPr>
          <a:xfrm>
            <a:off x="3276720" y="1773360"/>
            <a:ext cx="4572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Positive self-talk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aying positive thoughts aloud; thinking, saying and hearing positive statements about yoursel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مستطيل 5"/>
          <p:cNvSpPr/>
          <p:nvPr/>
        </p:nvSpPr>
        <p:spPr>
          <a:xfrm>
            <a:off x="3564000" y="4076640"/>
            <a:ext cx="45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Negative self-talk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lf-destructive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our self-image is lowered by your own criticis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Footer Placeholder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lham faya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2"/>
          <p:cNvSpPr/>
          <p:nvPr/>
        </p:nvSpPr>
        <p:spPr>
          <a:xfrm>
            <a:off x="2057400" y="2514600"/>
            <a:ext cx="6629400" cy="3352680"/>
          </a:xfrm>
          <a:prstGeom prst="rect">
            <a:avLst/>
          </a:prstGeom>
          <a:gradFill rotWithShape="0">
            <a:gsLst>
              <a:gs pos="0">
                <a:srgbClr val="154b58"/>
              </a:gs>
              <a:gs pos="50000">
                <a:srgbClr val="2da2bf"/>
              </a:gs>
              <a:gs pos="100000">
                <a:srgbClr val="154b58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17160" y="52560"/>
            <a:ext cx="8637480" cy="1000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motional Intelligence componen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Text Box 15"/>
          <p:cNvSpPr/>
          <p:nvPr/>
        </p:nvSpPr>
        <p:spPr>
          <a:xfrm>
            <a:off x="2743200" y="179064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8119"/>
                </a:solidFill>
                <a:latin typeface="ScalaSansLF-Regular"/>
                <a:ea typeface="Times New Roman"/>
              </a:rPr>
              <a:t>Personal Compete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Text Box 16"/>
          <p:cNvSpPr/>
          <p:nvPr/>
        </p:nvSpPr>
        <p:spPr>
          <a:xfrm>
            <a:off x="6172200" y="179064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8119"/>
                </a:solidFill>
                <a:latin typeface="ScalaSansLF-Regular"/>
                <a:ea typeface="Times New Roman"/>
              </a:rPr>
              <a:t>Social Compete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Text Box 17"/>
          <p:cNvSpPr/>
          <p:nvPr/>
        </p:nvSpPr>
        <p:spPr>
          <a:xfrm>
            <a:off x="685800" y="297180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8119"/>
                </a:solidFill>
                <a:latin typeface="ScalaSansLF-Regular"/>
                <a:ea typeface="Times New Roman"/>
              </a:rPr>
              <a:t>Awarene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Text Box 18"/>
          <p:cNvSpPr/>
          <p:nvPr/>
        </p:nvSpPr>
        <p:spPr>
          <a:xfrm>
            <a:off x="838080" y="457200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8119"/>
                </a:solidFill>
                <a:latin typeface="ScalaSansLF-Regular"/>
                <a:ea typeface="Times New Roman"/>
              </a:rPr>
              <a:t>Ac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Line 20"/>
          <p:cNvSpPr/>
          <p:nvPr/>
        </p:nvSpPr>
        <p:spPr>
          <a:xfrm flipV="1">
            <a:off x="5410080" y="2514240"/>
            <a:ext cx="0" cy="3352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Line 21"/>
          <p:cNvSpPr/>
          <p:nvPr/>
        </p:nvSpPr>
        <p:spPr>
          <a:xfrm>
            <a:off x="2057400" y="4114800"/>
            <a:ext cx="6629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Rectangle 22"/>
          <p:cNvSpPr/>
          <p:nvPr/>
        </p:nvSpPr>
        <p:spPr>
          <a:xfrm>
            <a:off x="2057400" y="2575080"/>
            <a:ext cx="33526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b641b"/>
                </a:solidFill>
                <a:latin typeface="ScalaSansLF-Bold"/>
                <a:ea typeface="Times New Roman"/>
              </a:rPr>
              <a:t>Self-Awaren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ScalaSansLF-Bold"/>
                <a:ea typeface="Times New Roman"/>
              </a:rPr>
              <a:t>Knowing one’s internal states, preferences, resources, and intui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Text Box 24"/>
          <p:cNvSpPr/>
          <p:nvPr/>
        </p:nvSpPr>
        <p:spPr>
          <a:xfrm>
            <a:off x="2057400" y="4175280"/>
            <a:ext cx="335268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b641b"/>
                </a:solidFill>
                <a:latin typeface="ScalaSansLF-Regular"/>
                <a:ea typeface="Times New Roman"/>
              </a:rPr>
              <a:t>Self-Manage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ScalaSansLF-Regular"/>
                <a:ea typeface="Times New Roman"/>
              </a:rPr>
              <a:t>Managing one’s internal states, impulses, and resourc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Text Box 25"/>
          <p:cNvSpPr/>
          <p:nvPr/>
        </p:nvSpPr>
        <p:spPr>
          <a:xfrm>
            <a:off x="5486400" y="2575080"/>
            <a:ext cx="320040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b641b"/>
                </a:solidFill>
                <a:latin typeface="ScalaSansLF-Regular"/>
                <a:ea typeface="Times New Roman"/>
              </a:rPr>
              <a:t>Social Awaren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ScalaSansLF-Regular"/>
                <a:ea typeface="Times New Roman"/>
              </a:rPr>
              <a:t>Awareness of others feelings, needs or concer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Text Box 26"/>
          <p:cNvSpPr/>
          <p:nvPr/>
        </p:nvSpPr>
        <p:spPr>
          <a:xfrm>
            <a:off x="5486400" y="4114800"/>
            <a:ext cx="31240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b641b"/>
                </a:solidFill>
                <a:latin typeface="ScalaSansLF-Regular"/>
                <a:ea typeface="Times New Roman"/>
              </a:rPr>
              <a:t>Relationship Manage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ScalaSansLF-Regular"/>
                <a:ea typeface="Times New Roman"/>
              </a:rPr>
              <a:t>Adeptness at inducing desirable responses in oth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3" name="Group 32"/>
          <p:cNvGrpSpPr/>
          <p:nvPr/>
        </p:nvGrpSpPr>
        <p:grpSpPr>
          <a:xfrm>
            <a:off x="2361960" y="2666880"/>
            <a:ext cx="3353040" cy="1676520"/>
            <a:chOff x="2361960" y="2666880"/>
            <a:chExt cx="3353040" cy="1676520"/>
          </a:xfrm>
        </p:grpSpPr>
        <p:sp>
          <p:nvSpPr>
            <p:cNvPr id="314" name="AutoShape 27"/>
            <p:cNvSpPr/>
            <p:nvPr/>
          </p:nvSpPr>
          <p:spPr>
            <a:xfrm>
              <a:off x="5257800" y="2666880"/>
              <a:ext cx="457200" cy="152640"/>
            </a:xfrm>
            <a:prstGeom prst="rightArrow">
              <a:avLst>
                <a:gd name="adj1" fmla="val 50000"/>
                <a:gd name="adj2" fmla="val 74882"/>
              </a:avLst>
            </a:prstGeom>
            <a:solidFill>
              <a:srgbClr val="def5f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AutoShape 28"/>
            <p:cNvSpPr/>
            <p:nvPr/>
          </p:nvSpPr>
          <p:spPr>
            <a:xfrm rot="5400000">
              <a:off x="2209320" y="4038480"/>
              <a:ext cx="457200" cy="152280"/>
            </a:xfrm>
            <a:prstGeom prst="rightArrow">
              <a:avLst>
                <a:gd name="adj1" fmla="val 50000"/>
                <a:gd name="adj2" fmla="val 75059"/>
              </a:avLst>
            </a:prstGeom>
            <a:solidFill>
              <a:srgbClr val="def5f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6" name="AutoShape 30"/>
          <p:cNvSpPr/>
          <p:nvPr/>
        </p:nvSpPr>
        <p:spPr>
          <a:xfrm rot="5400000">
            <a:off x="8076600" y="3962160"/>
            <a:ext cx="457200" cy="152280"/>
          </a:xfrm>
          <a:prstGeom prst="rightArrow">
            <a:avLst>
              <a:gd name="adj1" fmla="val 50000"/>
              <a:gd name="adj2" fmla="val 75059"/>
            </a:avLst>
          </a:prstGeom>
          <a:solidFill>
            <a:srgbClr val="def5f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AutoShape 31"/>
          <p:cNvSpPr/>
          <p:nvPr/>
        </p:nvSpPr>
        <p:spPr>
          <a:xfrm>
            <a:off x="5105520" y="4267080"/>
            <a:ext cx="457200" cy="152640"/>
          </a:xfrm>
          <a:prstGeom prst="rightArrow">
            <a:avLst>
              <a:gd name="adj1" fmla="val 50000"/>
              <a:gd name="adj2" fmla="val 74882"/>
            </a:avLst>
          </a:prstGeom>
          <a:solidFill>
            <a:srgbClr val="def5f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Footer Placeholder 18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lham faya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9" dur="2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2916360" y="274320"/>
            <a:ext cx="5765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Arial"/>
                <a:ea typeface="Tahoma"/>
              </a:rPr>
              <a:t>Definition of communication 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2195640" y="2205000"/>
            <a:ext cx="6804000" cy="26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doni MT"/>
              </a:rPr>
              <a:t>  </a:t>
            </a:r>
            <a:r>
              <a:rPr b="0" lang="en-US" sz="3600" spc="-1" strike="noStrike">
                <a:solidFill>
                  <a:srgbClr val="ffffff"/>
                </a:solidFill>
                <a:latin typeface="Bodoni MT"/>
              </a:rPr>
              <a:t>Is the art of transferring or exchanging information  ideas  or thoughts easily and correctly through verbal or non-verbal language 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2340000" cy="6858000"/>
          </a:xfrm>
          <a:prstGeom prst="rect">
            <a:avLst/>
          </a:prstGeom>
          <a:ln w="0">
            <a:noFill/>
          </a:ln>
        </p:spPr>
      </p:pic>
      <p:sp>
        <p:nvSpPr>
          <p:cNvPr id="322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lham faya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5400" y="274680"/>
            <a:ext cx="8226360" cy="9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The Communication process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455400" y="1197000"/>
            <a:ext cx="822636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doni MT"/>
              </a:rPr>
              <a:t>The communication process could be defined as a sending-receiving process 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5" name="Picture 4" descr="comm"/>
          <p:cNvPicPr/>
          <p:nvPr/>
        </p:nvPicPr>
        <p:blipFill>
          <a:blip r:embed="rId1"/>
          <a:stretch/>
        </p:blipFill>
        <p:spPr>
          <a:xfrm>
            <a:off x="0" y="2565360"/>
            <a:ext cx="9144000" cy="4292640"/>
          </a:xfrm>
          <a:prstGeom prst="rect">
            <a:avLst/>
          </a:prstGeom>
          <a:ln w="0">
            <a:noFill/>
          </a:ln>
        </p:spPr>
      </p:pic>
      <p:sp>
        <p:nvSpPr>
          <p:cNvPr id="326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lham faya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00000" y="304920"/>
            <a:ext cx="7710480" cy="117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00"/>
                </a:solidFill>
                <a:latin typeface="Arial"/>
              </a:rPr>
              <a:t>Clients Rights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492000" y="1981080"/>
            <a:ext cx="431964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gnity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formation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oice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ivacy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fidentiality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tinuity of care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pinion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Picture 2" descr=""/>
          <p:cNvPicPr/>
          <p:nvPr/>
        </p:nvPicPr>
        <p:blipFill>
          <a:blip r:embed="rId1"/>
          <a:stretch/>
        </p:blipFill>
        <p:spPr>
          <a:xfrm>
            <a:off x="6732720" y="2060640"/>
            <a:ext cx="1914480" cy="381636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3" descr=""/>
          <p:cNvPicPr/>
          <p:nvPr/>
        </p:nvPicPr>
        <p:blipFill>
          <a:blip r:embed="rId2"/>
          <a:stretch/>
        </p:blipFill>
        <p:spPr>
          <a:xfrm>
            <a:off x="395280" y="2060640"/>
            <a:ext cx="2629080" cy="3816360"/>
          </a:xfrm>
          <a:prstGeom prst="rect">
            <a:avLst/>
          </a:prstGeom>
          <a:ln w="0">
            <a:noFill/>
          </a:ln>
        </p:spPr>
      </p:pic>
      <p:sp>
        <p:nvSpPr>
          <p:cNvPr id="331" name="Foot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lham faya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963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Goals of therapeutic communication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doni MT"/>
              </a:rPr>
              <a:t>Establishing a therapeutic provider-client relationship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doni MT"/>
              </a:rPr>
              <a:t>Identify client’s concerns and problem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doni MT"/>
              </a:rPr>
              <a:t>Assess client’s perception of the problem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doni MT"/>
              </a:rPr>
              <a:t>Recognize client’s need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doni MT"/>
              </a:rPr>
              <a:t>Guide client towards a satisfying and socially acceptable solution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4" name="Picture 2" descr=""/>
          <p:cNvPicPr/>
          <p:nvPr/>
        </p:nvPicPr>
        <p:blipFill>
          <a:blip r:embed="rId1"/>
          <a:stretch/>
        </p:blipFill>
        <p:spPr>
          <a:xfrm>
            <a:off x="3132000" y="4076640"/>
            <a:ext cx="4176720" cy="2781360"/>
          </a:xfrm>
          <a:prstGeom prst="rect">
            <a:avLst/>
          </a:prstGeom>
          <a:ln w="0">
            <a:noFill/>
          </a:ln>
        </p:spPr>
      </p:pic>
      <p:sp>
        <p:nvSpPr>
          <p:cNvPr id="335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lham faya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00000" y="304560"/>
            <a:ext cx="8244000" cy="820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The Qualities of a Good communicator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2268360" y="1916280"/>
            <a:ext cx="641376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doni MT"/>
                <a:ea typeface="Arial Unicode MS"/>
              </a:rPr>
              <a:t>Respect and empathy for the client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doni MT"/>
                <a:ea typeface="Arial Unicode MS"/>
              </a:rPr>
              <a:t>Good communication skills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doni MT"/>
                <a:ea typeface="Arial Unicode MS"/>
              </a:rPr>
              <a:t>Tolerance of values and beliefs different from one’s own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doni MT"/>
                <a:ea typeface="Arial Unicode MS"/>
              </a:rPr>
              <a:t>Unbiased attitudes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doni MT"/>
                <a:ea typeface="Arial Unicode MS"/>
              </a:rPr>
              <a:t>Patience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doni MT"/>
                <a:ea typeface="Arial Unicode MS"/>
              </a:rPr>
              <a:t>Awareness of gender issues</a:t>
            </a:r>
            <a:r>
              <a:rPr b="0" lang="en-US" sz="2400" spc="-1" strike="noStrike">
                <a:solidFill>
                  <a:srgbClr val="ffffff"/>
                </a:solidFill>
                <a:latin typeface="Bodoni MT"/>
                <a:ea typeface="Arial Unicode MS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Bodoni MT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8" name="Picture 6" descr=""/>
          <p:cNvPicPr/>
          <p:nvPr/>
        </p:nvPicPr>
        <p:blipFill>
          <a:blip r:embed="rId1"/>
          <a:stretch/>
        </p:blipFill>
        <p:spPr>
          <a:xfrm>
            <a:off x="179280" y="1484280"/>
            <a:ext cx="2032200" cy="5373720"/>
          </a:xfrm>
          <a:prstGeom prst="rect">
            <a:avLst/>
          </a:prstGeom>
          <a:ln w="0">
            <a:noFill/>
          </a:ln>
        </p:spPr>
      </p:pic>
      <p:sp>
        <p:nvSpPr>
          <p:cNvPr id="339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lham faya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99640" y="-243000"/>
            <a:ext cx="7921800" cy="143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00"/>
                </a:solidFill>
                <a:latin typeface="Arial"/>
                <a:ea typeface="Tahoma"/>
              </a:rPr>
              <a:t>Objectives 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2556000" y="1341360"/>
            <a:ext cx="640872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ffff"/>
                </a:solidFill>
                <a:latin typeface="Bodoni MT"/>
              </a:rPr>
              <a:t>By the end of the session the student will be able to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Bodoni MT"/>
              </a:rPr>
              <a:t>Aware of self by Communicate with your self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Bodoni MT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doni MT"/>
              </a:rPr>
              <a:t>Define the communication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doni MT"/>
              </a:rPr>
              <a:t>Explain the communication process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doni MT"/>
              </a:rPr>
              <a:t>State factors affecting communication process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2" name="Picture 2" descr=""/>
          <p:cNvPicPr/>
          <p:nvPr/>
        </p:nvPicPr>
        <p:blipFill>
          <a:blip r:embed="rId1"/>
          <a:stretch/>
        </p:blipFill>
        <p:spPr>
          <a:xfrm>
            <a:off x="250920" y="1125360"/>
            <a:ext cx="2233440" cy="5256360"/>
          </a:xfrm>
          <a:prstGeom prst="rect">
            <a:avLst/>
          </a:prstGeom>
          <a:ln w="0">
            <a:noFill/>
          </a:ln>
        </p:spPr>
      </p:pic>
      <p:sp>
        <p:nvSpPr>
          <p:cNvPr id="263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lham faya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400" y="274680"/>
            <a:ext cx="8226360" cy="706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Arial"/>
              </a:rPr>
              <a:t>Types of communication 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95280" y="907920"/>
            <a:ext cx="874872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66ffff"/>
                </a:solidFill>
                <a:uFillTx/>
                <a:latin typeface="Arial"/>
              </a:rPr>
              <a:t>1- Non-verbal communicat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 what is observed and send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66ffff"/>
                </a:solidFill>
                <a:latin typeface="Arial"/>
              </a:rPr>
              <a:t>*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Is often more important than verbal communicat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66ffff"/>
                </a:solidFill>
                <a:latin typeface="Arial"/>
              </a:rPr>
              <a:t>it includ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ralanguage :  </a:t>
            </a:r>
            <a:r>
              <a:rPr b="0" lang="en-US" sz="2400" spc="-1" strike="noStrike">
                <a:solidFill>
                  <a:srgbClr val="66ffff"/>
                </a:solidFill>
                <a:latin typeface="Arial"/>
              </a:rPr>
              <a:t>(tone of voice , stream of talk 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inesis :   </a:t>
            </a:r>
            <a:r>
              <a:rPr b="0" lang="en-US" sz="3200" spc="-1" strike="noStrike">
                <a:solidFill>
                  <a:srgbClr val="66ffff"/>
                </a:solidFill>
                <a:latin typeface="Arial"/>
              </a:rPr>
              <a:t>(all body languages and facial movement )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xemies :  </a:t>
            </a:r>
            <a:r>
              <a:rPr b="0" lang="en-US" sz="3200" spc="-1" strike="noStrike">
                <a:solidFill>
                  <a:srgbClr val="66ffff"/>
                </a:solidFill>
                <a:latin typeface="Arial"/>
              </a:rPr>
              <a:t>(the distance between the sender and the receiver 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uch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ultural arte facts : </a:t>
            </a:r>
            <a:r>
              <a:rPr b="0" lang="en-US" sz="3200" spc="-1" strike="noStrike">
                <a:solidFill>
                  <a:srgbClr val="66ffff"/>
                </a:solidFill>
                <a:latin typeface="Arial"/>
              </a:rPr>
              <a:t>(the way a person dressed , make up )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Footer Placeholder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lham faya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Picture 4" descr=""/>
          <p:cNvPicPr/>
          <p:nvPr/>
        </p:nvPicPr>
        <p:blipFill>
          <a:blip r:embed="rId1"/>
          <a:stretch/>
        </p:blipFill>
        <p:spPr>
          <a:xfrm>
            <a:off x="2843280" y="476280"/>
            <a:ext cx="5976720" cy="6381720"/>
          </a:xfrm>
          <a:prstGeom prst="rect">
            <a:avLst/>
          </a:prstGeom>
          <a:ln w="0">
            <a:noFill/>
          </a:ln>
        </p:spPr>
      </p:pic>
      <p:sp>
        <p:nvSpPr>
          <p:cNvPr id="344" name="Footer Placeholder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lham faya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66ffff"/>
                </a:solidFill>
                <a:uFillTx/>
                <a:latin typeface="Arial"/>
              </a:rPr>
              <a:t>2- Verbal communication: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 what is said and heard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ff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66ffff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It is the content of communication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 an appropriate tone of voice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ive verbal encouragement 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k questions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raphrase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ek clarific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7" name="Picture 2" descr=""/>
          <p:cNvPicPr/>
          <p:nvPr/>
        </p:nvPicPr>
        <p:blipFill>
          <a:blip r:embed="rId1"/>
          <a:stretch/>
        </p:blipFill>
        <p:spPr>
          <a:xfrm>
            <a:off x="6084720" y="3645000"/>
            <a:ext cx="2359080" cy="2879640"/>
          </a:xfrm>
          <a:prstGeom prst="rect">
            <a:avLst/>
          </a:prstGeom>
          <a:ln w="0">
            <a:noFill/>
          </a:ln>
        </p:spPr>
      </p:pic>
      <p:sp>
        <p:nvSpPr>
          <p:cNvPr id="348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lham faya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697440" cy="1425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Communication techniques and skills </a:t>
            </a:r>
            <a:r>
              <a:rPr b="1" i="1" lang="en-US" sz="3600" spc="-1" strike="noStrike">
                <a:solidFill>
                  <a:srgbClr val="ffff00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1066320" y="2133360"/>
            <a:ext cx="754380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66ffff"/>
                </a:solidFill>
                <a:uFillTx/>
                <a:latin typeface="Bodoni MT"/>
              </a:rPr>
              <a:t>1-Talking Techniques 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doni MT"/>
              </a:rPr>
              <a:t>Questioning and general leads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doni MT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Bodoni MT"/>
              </a:rPr>
              <a:t> </a:t>
            </a:r>
            <a:r>
              <a:rPr b="0" lang="en-US" sz="2800" spc="-1" strike="noStrike">
                <a:solidFill>
                  <a:srgbClr val="66ffff"/>
                </a:solidFill>
                <a:latin typeface="Bodoni MT"/>
              </a:rPr>
              <a:t>- Make broad opening statements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Bodoni MT"/>
              </a:rPr>
              <a:t>      </a:t>
            </a:r>
            <a:r>
              <a:rPr b="0" lang="en-US" sz="2800" spc="-1" strike="noStrike">
                <a:solidFill>
                  <a:srgbClr val="66ffff"/>
                </a:solidFill>
                <a:latin typeface="Bodoni MT"/>
              </a:rPr>
              <a:t>- Paraphrase , reward or summarize what has been said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Bodoni MT"/>
              </a:rPr>
              <a:t>      </a:t>
            </a:r>
            <a:r>
              <a:rPr b="0" lang="en-US" sz="2800" spc="-1" strike="noStrike">
                <a:solidFill>
                  <a:srgbClr val="66ffff"/>
                </a:solidFill>
                <a:latin typeface="Bodoni MT"/>
              </a:rPr>
              <a:t>- Reflect feelings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Bodoni MT"/>
              </a:rPr>
              <a:t>      </a:t>
            </a:r>
            <a:r>
              <a:rPr b="0" lang="en-US" sz="2800" spc="-1" strike="noStrike">
                <a:solidFill>
                  <a:srgbClr val="66ffff"/>
                </a:solidFill>
                <a:latin typeface="Bodoni MT"/>
              </a:rPr>
              <a:t>- Re-state or repeat the client</a:t>
            </a:r>
            <a:r>
              <a:rPr b="0" lang="ar-SA" sz="2800" spc="-1" strike="noStrike">
                <a:solidFill>
                  <a:srgbClr val="66ffff"/>
                </a:solidFill>
                <a:latin typeface="Bodoni MT"/>
              </a:rPr>
              <a:t>’</a:t>
            </a:r>
            <a:r>
              <a:rPr b="0" lang="en-US" sz="2800" spc="-1" strike="noStrike">
                <a:solidFill>
                  <a:srgbClr val="66ffff"/>
                </a:solidFill>
                <a:latin typeface="Bodoni MT"/>
              </a:rPr>
              <a:t>s statement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Bodoni MT"/>
              </a:rPr>
              <a:t>      </a:t>
            </a:r>
            <a:r>
              <a:rPr b="0" lang="en-US" sz="2800" spc="-1" strike="noStrike">
                <a:solidFill>
                  <a:srgbClr val="66ffff"/>
                </a:solidFill>
                <a:latin typeface="Bodoni MT"/>
              </a:rPr>
              <a:t>- Clarify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Bodoni MT"/>
              </a:rPr>
              <a:t>      </a:t>
            </a:r>
            <a:r>
              <a:rPr b="0" lang="en-US" sz="2800" spc="-1" strike="noStrike">
                <a:solidFill>
                  <a:srgbClr val="66ffff"/>
                </a:solidFill>
                <a:latin typeface="Bodoni MT"/>
              </a:rPr>
              <a:t>- Focus and re-focus 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1" name="Picture 2" descr=""/>
          <p:cNvPicPr/>
          <p:nvPr/>
        </p:nvPicPr>
        <p:blipFill>
          <a:blip r:embed="rId1"/>
          <a:stretch/>
        </p:blipFill>
        <p:spPr>
          <a:xfrm>
            <a:off x="7020000" y="189000"/>
            <a:ext cx="2124000" cy="2592360"/>
          </a:xfrm>
          <a:prstGeom prst="rect">
            <a:avLst/>
          </a:prstGeom>
          <a:ln w="0">
            <a:noFill/>
          </a:ln>
        </p:spPr>
      </p:pic>
      <p:sp>
        <p:nvSpPr>
          <p:cNvPr id="352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lham faya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66ffff"/>
                </a:solidFill>
                <a:uFillTx/>
                <a:latin typeface="Bodoni MT"/>
              </a:rPr>
              <a:t>2Non talking techniques :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doni MT"/>
              </a:rPr>
              <a:t>Feed back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doni MT"/>
              </a:rPr>
              <a:t>Active listening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doni MT"/>
              </a:rPr>
              <a:t>        </a:t>
            </a:r>
            <a:r>
              <a:rPr b="0" lang="en-US" sz="2400" spc="-1" strike="noStrike">
                <a:solidFill>
                  <a:srgbClr val="66ffff"/>
                </a:solidFill>
                <a:latin typeface="Bodoni MT"/>
              </a:rPr>
              <a:t>- Focus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Bodoni MT"/>
              </a:rPr>
              <a:t>         </a:t>
            </a:r>
            <a:r>
              <a:rPr b="0" lang="en-US" sz="2400" spc="-1" strike="noStrike">
                <a:solidFill>
                  <a:srgbClr val="66ffff"/>
                </a:solidFill>
                <a:latin typeface="Bodoni MT"/>
              </a:rPr>
              <a:t>- Reflect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doni MT"/>
              </a:rPr>
              <a:t>         </a:t>
            </a:r>
            <a:r>
              <a:rPr b="0" lang="en-US" sz="2400" spc="-1" strike="noStrike">
                <a:solidFill>
                  <a:srgbClr val="66ffff"/>
                </a:solidFill>
                <a:latin typeface="Bodoni MT"/>
              </a:rPr>
              <a:t>- Drawing out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Bodoni MT"/>
              </a:rPr>
              <a:t>         </a:t>
            </a:r>
            <a:r>
              <a:rPr b="0" lang="en-US" sz="2400" spc="-1" strike="noStrike">
                <a:solidFill>
                  <a:srgbClr val="66ffff"/>
                </a:solidFill>
                <a:latin typeface="Bodoni MT"/>
              </a:rPr>
              <a:t>- Acceptance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doni MT"/>
              </a:rPr>
              <a:t>Silence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5" name="Picture 2" descr=""/>
          <p:cNvPicPr/>
          <p:nvPr/>
        </p:nvPicPr>
        <p:blipFill>
          <a:blip r:embed="rId1"/>
          <a:stretch/>
        </p:blipFill>
        <p:spPr>
          <a:xfrm>
            <a:off x="4932360" y="3933720"/>
            <a:ext cx="3095640" cy="271800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3" descr=""/>
          <p:cNvPicPr/>
          <p:nvPr/>
        </p:nvPicPr>
        <p:blipFill>
          <a:blip r:embed="rId2"/>
          <a:stretch/>
        </p:blipFill>
        <p:spPr>
          <a:xfrm>
            <a:off x="4932360" y="981000"/>
            <a:ext cx="3095640" cy="2879640"/>
          </a:xfrm>
          <a:prstGeom prst="rect">
            <a:avLst/>
          </a:prstGeom>
          <a:ln w="0">
            <a:noFill/>
          </a:ln>
        </p:spPr>
      </p:pic>
      <p:sp>
        <p:nvSpPr>
          <p:cNvPr id="357" name="Foot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lham faya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2843280" y="304920"/>
            <a:ext cx="6300720" cy="117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Tools for Effective communica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3347640" y="1600200"/>
            <a:ext cx="533412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da2bf"/>
                </a:solidFill>
                <a:latin typeface="Bodoni MT"/>
              </a:rPr>
              <a:t>Communication skills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doni MT"/>
              </a:rPr>
              <a:t>Effective of verbal and non-verbal communication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doni MT"/>
              </a:rPr>
              <a:t>Active listening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doni MT"/>
              </a:rPr>
              <a:t>Questioning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doni MT"/>
              </a:rPr>
              <a:t>Use of simple language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doni MT"/>
              </a:rPr>
              <a:t>Reflecting feelings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doni MT"/>
              </a:rPr>
              <a:t>Paraphrasing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doni MT"/>
              </a:rPr>
              <a:t>Silence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0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2843280" cy="6858000"/>
          </a:xfrm>
          <a:prstGeom prst="rect">
            <a:avLst/>
          </a:prstGeom>
          <a:ln w="0">
            <a:noFill/>
          </a:ln>
        </p:spPr>
      </p:pic>
      <p:sp>
        <p:nvSpPr>
          <p:cNvPr id="361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lham faya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140360" y="274320"/>
            <a:ext cx="4541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Active listening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مستطيل 3"/>
          <p:cNvSpPr/>
          <p:nvPr/>
        </p:nvSpPr>
        <p:spPr>
          <a:xfrm>
            <a:off x="3348000" y="1700280"/>
            <a:ext cx="5256360" cy="344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Sit facing the cli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Open Pos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L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Lean forward towards cli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Establish eye conta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Relax!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3276720" cy="6669000"/>
          </a:xfrm>
          <a:prstGeom prst="rect">
            <a:avLst/>
          </a:prstGeom>
          <a:ln w="0">
            <a:noFill/>
          </a:ln>
        </p:spPr>
      </p:pic>
      <p:sp>
        <p:nvSpPr>
          <p:cNvPr id="365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lham faya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 txBox="1"/>
          <p:nvPr/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lham faya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11280" y="476280"/>
            <a:ext cx="8532720" cy="1224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Characteristics of a successful       communication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468000" y="1628280"/>
            <a:ext cx="81421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ff"/>
                </a:solidFill>
                <a:latin typeface="Arial"/>
              </a:rPr>
              <a:t>Communication is successful when the person has a feeling of being understood 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ff"/>
                </a:solidFill>
                <a:latin typeface="Arial"/>
              </a:rPr>
              <a:t>This feeling is the result of and dependent upon the presence of 4 characteristics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onesty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ppropriateness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fficiency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lexibility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Footer Placeholder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lham faya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066320" y="980640"/>
            <a:ext cx="7543800" cy="302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Thank you 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Footer Placeholder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lham faya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2842920" y="260280"/>
            <a:ext cx="583884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doni MT"/>
              </a:rPr>
              <a:t>Use talking and non talking therapeutic techniques 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5" name="Picture 2" descr=""/>
          <p:cNvPicPr/>
          <p:nvPr/>
        </p:nvPicPr>
        <p:blipFill>
          <a:blip r:embed="rId1"/>
          <a:stretch/>
        </p:blipFill>
        <p:spPr>
          <a:xfrm>
            <a:off x="6948360" y="1241280"/>
            <a:ext cx="1906560" cy="5616720"/>
          </a:xfrm>
          <a:prstGeom prst="rect">
            <a:avLst/>
          </a:prstGeom>
          <a:ln w="0">
            <a:noFill/>
          </a:ln>
        </p:spPr>
      </p:pic>
      <p:sp>
        <p:nvSpPr>
          <p:cNvPr id="266" name="Footer Placeholder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lham faya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066320" y="304920"/>
            <a:ext cx="7543800" cy="67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00"/>
                </a:solidFill>
                <a:latin typeface="Arial"/>
              </a:rPr>
              <a:t>Contents</a:t>
            </a:r>
            <a:r>
              <a:rPr b="0" i="1" lang="en-US" sz="3200" spc="-1" strike="noStrike">
                <a:solidFill>
                  <a:srgbClr val="ffff00"/>
                </a:solidFill>
                <a:latin typeface="Arial"/>
              </a:rPr>
              <a:t>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1332000" y="1699920"/>
            <a:ext cx="74880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Bodoni MT"/>
              </a:rPr>
              <a:t>Self awareness( definition , goal, how to be self aware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doni MT"/>
              </a:rPr>
              <a:t>Definition of communication 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doni MT"/>
              </a:rPr>
              <a:t>Clients Rights 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doni MT"/>
              </a:rPr>
              <a:t>The communication process 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doni MT"/>
              </a:rPr>
              <a:t>Goals of therapeutic communication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doni MT"/>
              </a:rPr>
              <a:t>Qualities of a Good communicator . </a:t>
            </a:r>
            <a:r>
              <a:rPr b="0" lang="en-US" sz="2400" spc="-1" strike="noStrike">
                <a:solidFill>
                  <a:srgbClr val="ffffff"/>
                </a:solidFill>
                <a:latin typeface="Bodoni MT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Footer Placeholder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lham faya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 txBox="1"/>
          <p:nvPr/>
        </p:nvSpPr>
        <p:spPr>
          <a:xfrm>
            <a:off x="1979280" y="189000"/>
            <a:ext cx="698508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doni MT"/>
              </a:rPr>
              <a:t>Types of commun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doni MT"/>
              </a:rPr>
              <a:t>Communication skills and techniques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doni MT"/>
              </a:rPr>
              <a:t>Tools for effective communication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doni MT"/>
              </a:rPr>
              <a:t>Factors effecting communication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doni MT"/>
              </a:rPr>
              <a:t>Characteristics of successful communication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Footer Placeholder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lham faya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5400" y="274680"/>
            <a:ext cx="8226360" cy="9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00"/>
                </a:solidFill>
                <a:latin typeface="Arial"/>
              </a:rPr>
              <a:t>Introduction 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2124000" y="1628640"/>
            <a:ext cx="702000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doni MT"/>
              </a:rPr>
              <a:t>  </a:t>
            </a:r>
            <a:r>
              <a:rPr b="0" lang="en-US" sz="3600" spc="-1" strike="noStrike">
                <a:solidFill>
                  <a:srgbClr val="ffffff"/>
                </a:solidFill>
                <a:latin typeface="Bodoni MT"/>
              </a:rPr>
              <a:t>Establishing a therapeutic relationship is one of the most important responsibility of the team when working with client 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Footer Placeholder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lham faya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2700360" y="476280"/>
            <a:ext cx="598176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The development of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self-awarenes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will enhance the objectivity and foster a nonjudgmental attitude, which is so important </a:t>
            </a:r>
            <a:r>
              <a:rPr b="0" lang="en-US" sz="3200" spc="-1" strike="noStrike">
                <a:solidFill>
                  <a:srgbClr val="da1f28"/>
                </a:solidFill>
                <a:latin typeface="Arial"/>
                <a:ea typeface="Times New Roman"/>
              </a:rPr>
              <a:t>in building and maintaining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trust throughout the </a:t>
            </a:r>
            <a:r>
              <a:rPr b="0" lang="en-US" sz="3200" spc="-1" strike="noStrike">
                <a:solidFill>
                  <a:srgbClr val="da1f28"/>
                </a:solidFill>
                <a:latin typeface="Arial"/>
                <a:ea typeface="Times New Roman"/>
              </a:rPr>
              <a:t>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Footer Placeholder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lham faya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9" name="Footer Placeholder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lham faya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lf awarenes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2771640" y="1916280"/>
            <a:ext cx="612144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Times New Roman"/>
              </a:rPr>
              <a:t>     </a:t>
            </a: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Times New Roman"/>
              </a:rPr>
              <a:t>Self-awareness</a:t>
            </a:r>
            <a:r>
              <a:rPr b="1" lang="en-US" sz="3200" spc="-1" strike="noStrike">
                <a:solidFill>
                  <a:srgbClr val="464646"/>
                </a:solidFill>
                <a:latin typeface="Arial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is the process of understanding one’s own beliefs, thoughts, motivations,  and limitations and recognizing how  they affect oth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2" name="Picture 2" descr=""/>
          <p:cNvPicPr/>
          <p:nvPr/>
        </p:nvPicPr>
        <p:blipFill>
          <a:blip r:embed="rId1"/>
          <a:stretch/>
        </p:blipFill>
        <p:spPr>
          <a:xfrm>
            <a:off x="250920" y="1916280"/>
            <a:ext cx="2305080" cy="4321080"/>
          </a:xfrm>
          <a:prstGeom prst="rect">
            <a:avLst/>
          </a:prstGeom>
          <a:ln w="0">
            <a:noFill/>
          </a:ln>
        </p:spPr>
      </p:pic>
      <p:sp>
        <p:nvSpPr>
          <p:cNvPr id="283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lham faya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9T00:31:22Z</dcterms:created>
  <dc:creator>first</dc:creator>
  <dc:description/>
  <dc:language>en-US</dc:language>
  <cp:lastModifiedBy>sony</cp:lastModifiedBy>
  <dcterms:modified xsi:type="dcterms:W3CDTF">2008-02-16T23:11:46Z</dcterms:modified>
  <cp:revision>257</cp:revision>
  <dc:subject/>
  <dc:title>الشريحة 1</dc:title>
</cp:coreProperties>
</file>