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9028113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028800" cy="70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11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16320" y="-360"/>
            <a:ext cx="3911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744640" y="529920"/>
            <a:ext cx="35388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6723000"/>
            <a:ext cx="39117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1632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08D6-F5F7-4FF9-BC4A-BEC92557F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E94-CC44-4C37-837B-7705F8F1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D79-A217-47A0-ABE8-B8EA217AE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227D-EDD4-4353-AFCB-A160F7EB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988-79C1-4E3E-8E68-0FA8D1DA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39BA-110C-4C96-957B-9E35A36A8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1D8-D471-4B39-88AF-B459C46D1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5F6-8741-43E5-9074-07737F28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5EB-E5F8-4EA7-B49C-978D7B10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5C0-3659-4FC0-88D9-2C529F33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A4C1-F922-475B-BFB9-FE42CF00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112-E527-4827-83D4-3DF6AAD8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0A6-F496-4102-A71A-281C53A0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038C-4331-46AD-BA75-ED306AF8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7C5E-E231-406C-8164-335DB5F7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Bank’s average ratio of equity to assets were 11.4 percent in 2010; implying that 88.6 percent of assets were funded by debt, either deposits or borrowed f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971-607A-461B-B55C-9F06424E0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3853-90E9-470B-BFA6-F12CE830B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7D5-90E4-40C3-BFD5-9FB0344D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F1E9-BA67-46EA-8B3A-236FAD445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93BE-CB51-4861-8796-7EDF79CB0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3DA5-2B44-40F9-AA35-4A98BA8FC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244D-282B-4080-874C-CD82FE569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F0C-54F2-46E4-8273-476A920AAD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0D6-1AA1-4CE1-B77A-B5E313952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AFD-237A-4B6D-9666-D606C20C0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4D4-A8B8-42BF-AB94-66BBADE113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BAC-8F4B-4A6D-AFCB-E4D9A8523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389-CB4A-4132-80F7-9F28643006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28D-662D-4CD6-8CB4-54CFD21E8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AF80-30D4-4B6D-88F1-CAF4F4B82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E68-AFD9-4820-B129-BA0FC3F875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631-B60D-4FD5-BD44-33E2D6721D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3F8-5610-48FE-BA5A-074DFAE54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8EE-031F-42F2-A158-9D0DA1603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C25-0751-456D-96FF-83721605C8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B29D3-9340-4DD9-B0CB-0FDB10A49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C888A-C749-44E3-A01E-F75C5EC69A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5513-7EC6-43A9-AF10-ABF6E6BCFD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22ECB-10B8-49DC-9C45-91869AED7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1CBD8-DC1C-4B62-9DDF-1083C4213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5D54-6BC2-4405-AD2A-FE59AB2902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EC2F6-8176-4CB8-BC6F-61C61DEEC6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EA8C3-15F3-420D-9FC3-AF6BE997AB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AFAFE-688F-4BAF-83AB-B56C083CA4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2121-F681-483A-974D-9A81201500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2EC8-B4BA-4880-BBF7-516BA6096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D8CEA-2EC2-4810-A776-BDFE4A6090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90042-6651-44B2-92D8-14A19EA48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35AB-C384-4419-8743-F6FF7E46D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A2B7-D302-41D7-8372-A7E3579F4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DCD4-0A78-4236-BDF0-27E5D1B05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4FB5-0F54-4245-A90D-1BC4CFAC5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23B3-89C7-42FF-817D-2AD9C7DA5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71DD-500D-47B3-ADE4-F4F762A01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95D7886-547E-4B75-B233-38E92D8CFC5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2A45768-CBC1-488E-82CD-04CF753EC92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E46461C-654F-4F94-A9EA-ED439A57156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BFC6361-C805-448C-A4E0-81706FE499F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50796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17272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648240"/>
            <a:ext cx="83059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1 Define what a commercial bank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2 Identify the  main assets held by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3 Identify the main liabilities held by commercial banks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4 Understand the types of off-balance sheet activities that commercial banks under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5 Discuss which factors have motivated the signifiant decrease in the number of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6 Evaluate the performance of the commercial banking industry in recent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7 Know the main regulators of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8 Lis the world’s biggest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27CA2CA-BDF1-4A96-A057-7221BE073EC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Size, Structure and Composition of the Industry: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The number of banks in the USA is decreasing: 6,676 banks in 20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0000"/>
                </a:solidFill>
                <a:latin typeface="Times New Roman"/>
              </a:rPr>
              <a:t>Strict regulations imposed on commercial banks </a:t>
            </a:r>
            <a:r>
              <a:rPr b="0" lang="tr-TR" sz="1900" spc="-1" strike="noStrike" u="sng">
                <a:solidFill>
                  <a:srgbClr val="ff0000"/>
                </a:solidFill>
                <a:uFillTx/>
                <a:latin typeface="Times New Roman"/>
              </a:rPr>
              <a:t>limited</a:t>
            </a:r>
            <a:r>
              <a:rPr b="0" lang="tr-TR" sz="1900" spc="-1" strike="noStrike">
                <a:solidFill>
                  <a:srgbClr val="ff0000"/>
                </a:solidFill>
                <a:latin typeface="Times New Roman"/>
              </a:rPr>
              <a:t> geographical diversification opportuniti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EA64F91-BFBA-487D-9A26-F84E29508D3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42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tail banking</a:t>
            </a:r>
            <a:r>
              <a:rPr b="1" lang="tr-TR" sz="1700" spc="-1" strike="noStrike">
                <a:solidFill>
                  <a:srgbClr val="000000"/>
                </a:solidFill>
                <a:latin typeface="Times New Roman"/>
              </a:rPr>
              <a:t> /community banks (small or community banks with less than 1 billion in asset size)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specializes in retail or consumer banki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y provide residential and consumer loans and accepting smaller deposit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arge banks in terms of  their assets size are call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me of the very biggest banks are classified as being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ney center banks tha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ly heavily on no deposit or borrowed sources of funds often borrowed in th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ederal fund market: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 interbank market for short term borrowing and lending of bank reserv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ney center banks are also major participants in foreign currency markets and are therefore subject to foreign exchange ris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6FB5EC6-24EF-4F4E-A368-F47296888AC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important to note that asset or lending size does not necessarily make a bank a money center ban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 as a money center bank is based in part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location of the bank. Specifically, a money center bank is a bank located in a major financial center (e.g., New Y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the bank’s heavy reliance on non-deposit or borrowed sources of funds that heavily relies on both national and international money markets for its source of fu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1A4F018-73B3-49FF-A235-BF80DE41ED2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differences between small banks and large ba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banks generally hold fewer off-balance-sheet assets and liabilities than large ba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use more purchased funds (such as fed funds) and have fewer core deposits than smal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lend to larger corporations which means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et interest margins are usually narrower than those of smaller banks because the risk is lower in large corporation than small busin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C54EFFB-46B6-4514-9619-9DA1E3A60D5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Activities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than small ba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0281B28-073E-4E68-9D54-E79E97416F9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FDIC+OCC+FRS+State Autho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national banks /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s can be either nationally or state char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rters and regulate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gencie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rter and regulat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who are members of the Federal Reser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5C9ECAA-CE5E-460B-8C52-A3005471D78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ersify the risk of its earnings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economies of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its average operating costs by expanding its activities beyond domestic bounda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distribute new product innovations interna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pportunity to find the cheapest and most available sources of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regulatory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 activity restrictions and reserve requirements or taxes impose constraints, with globalization they can operate in low-regulatory, low-tax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6D041E6-A0ED-4582-8BB2-E65E5EE713A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76CAFBD1-C950-40B1-9FDB-F38FC351981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/ 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Depository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C3E72A5-9D4B-4BEA-BC59-EBD2F8E4281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lance Sheet Structures of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 vs. Nonfinancial Firm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105840" rIns="105840" tIns="62640" bIns="62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758880" y="2013120"/>
            <a:ext cx="507060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4087800" y="5019840"/>
            <a:ext cx="4172040" cy="1076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32EB2AD-CBC6-44A9-951F-E48C102ADB0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Loans in 4 broad cla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usiness or commercial and industrial loan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ommercial and residential real estate loan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dividual loans (for auto purchases and credit card loa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ll other loans (like the loans to emerging market count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ercia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(interest bearing deposits purchased from other Fıs, Fed Funds sold to other banks, RePOs, Treasury securities, municipal securities, mortgage backed securities and other debts and securiti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EE81D79-9507-4F56-8BB1-06ADE0FB6F2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and Ris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level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7E33778-3C78-481A-9C06-FC48FCCC01C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Liabilities</a:t>
            </a:r>
            <a:br>
              <a:rPr sz="3600"/>
            </a:br>
            <a:r>
              <a:rPr b="0" lang="tr-TR" sz="2000" spc="-1" strike="noStrike">
                <a:solidFill>
                  <a:srgbClr val="cc0000"/>
                </a:solidFill>
                <a:latin typeface="Times New Roman"/>
              </a:rPr>
              <a:t>deposits + borrowed or other liability funds+owner equity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usehold (retail) savings and time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avings account is an interest-bearing deposit account held at a bank or another financial institution that provides a modest interest rate. Banks or financial institutions may limit the number of withdrawals you can make from your savings account each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Main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tiable CDs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whic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fixed-maturity interest-bearing deposits with face values of $100,000 or more that can be resold in the secondary market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80B4ED5-5F14-40BF-AFEE-42E5300BEB8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s (s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es and bonds (s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94A5AFE-585A-4BAF-9BB9-7B023A31C38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The balance sheet itself does not reflect the total scope of bank activiti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Under current accounting standards, such activities are not shown on the current balance shee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Times New Roman"/>
              </a:rPr>
              <a:t>Off balance sheet asset or liability will we a part of asset or liability after an activity or event occurs</a:t>
            </a: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Banks’ intention is to earn fee income and avoid regulatory “tax avoidance” as these activities do have tax avoidance incentiv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09E3AB6-5121-4437-8F83-130695B4D3D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en an event occu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is item moves onto the asset side of the balance she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income is realized on the 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en an event occu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is item moves onto the liability side of the balance shee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an expense is realized on the 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Nouf Saleh Alabdulkarim</cp:lastModifiedBy>
  <cp:lastPrinted>2016-12-08T04:45:33Z</cp:lastPrinted>
  <dcterms:modified xsi:type="dcterms:W3CDTF">2016-12-08T04:55:21Z</dcterms:modified>
  <cp:revision>279</cp:revision>
  <dc:subject/>
  <dc:title>FINANCIAL MARKETS AND INSTITIUTIONS: A Modern Perspective</dc:title>
</cp:coreProperties>
</file>