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9028113" cy="7077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028800" cy="70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117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5116320" y="-360"/>
            <a:ext cx="3911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2744640" y="529920"/>
            <a:ext cx="353880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6723000"/>
            <a:ext cx="39117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511632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9E14-82B3-4FBB-825A-D744E7055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FEA7-7660-4BC6-B2EB-EBE68562C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F13A-941C-4542-8F10-8F4347995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291F-DE20-4803-88DD-07A52AF99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13CA-2A0C-4C55-B313-F12BC542E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D01C-9A8D-43F3-A172-DB12558C4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537B-F980-46FA-B1A7-B05E34BC0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DA46-D07F-466C-9F70-DEE38ED50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1D2C-0E8F-4620-9C99-3A3C58924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91ED-FDFA-4BA5-8A4B-F4636B661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8339-13F4-48F5-8599-D320083E5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81B5-AED3-4A39-9EAF-56D21D616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9172-47D0-470F-A4D6-CDB7F81DC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02E2-EC74-418E-AF2D-EC1F7722D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964F-110B-47FF-9464-86DB8855F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Bank’s average ratio of equity to assets were 11.4 percent in 2010; implying that 88.6 percent of assets were funded by debt, either deposits or borrowed f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3949-62D0-4A36-8B01-15CEE033A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8CF7-8BB2-438A-9ADA-B2653FB36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116680" y="6723000"/>
            <a:ext cx="391140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E357-6CBD-4471-B69B-47E1072F7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744640" y="53028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03120" y="3362400"/>
            <a:ext cx="6621480" cy="31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9CF39-28C5-45C9-A969-3B54EA005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3138-8F48-4F57-AC9C-3054391FB9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65E7-D9E2-473E-90E1-3C4EBC7EB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67E17-DCE7-431D-A534-FDE977EB0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6764-3869-40C6-A7CB-59827AD896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ECB-CF71-46E3-AC90-4A8A64E6DA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E20-F2BB-4480-8F06-4C143A9D9A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167-7C78-49AB-BDAF-4522F96503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0EC-591E-4832-9D67-CEF4E677D2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148-39C6-4FFA-88D2-DE2792E2BF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C945-9412-479D-8F0E-9EDF76693E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F8F3-7ED6-40CC-B59D-5F1074D15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4339-0BF4-4BB4-A19C-38CCF3776E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CF5F-E583-44DC-9F3D-5052562019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76CE-804F-4EE7-9BD7-16788AB43A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D5C-628F-48A9-9D87-FC0B243AC9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48AC-50B8-4A12-B146-5FC41911CC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48CF5-75EC-4E0F-9135-48B1095546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145C7-3EE2-47F0-96C5-95C54E0AA0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956226-297C-4456-8F3B-FCCB0849E7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6EB2C-9E67-4D36-9D13-D8F1D04202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3F016-75E0-46BF-B789-D0DF5DAB44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0A33-0AB5-4D56-BEE3-2350DA0342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7AADD-46E7-4CA5-9881-AE61D8B2BC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227CF-4E9C-42BA-B02F-7A4CA9DA27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4BD0F-5134-485B-A8EA-BFCF952FEA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D5202-8FC5-4AF9-AAD9-01B52259D7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F0B0C-9598-4684-A137-7D3A40DABB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B938A-F59A-40F0-BD6A-92CF4B884F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F54107-89FA-45D2-BB93-C262837DAD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72FC-66A9-4F35-BA43-656AEF097A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D1487-D949-4DAE-BCC1-4333C3B51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F2E5-0820-49EF-BED4-43ED3D5C9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DCA9-3492-4D64-A605-4B303C1FB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EBEE-9487-484A-A4FF-3A7CC97BD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D195-B590-4652-9680-DE809F448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674692C2-D7F3-4457-86B8-96A2C85EDA2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465133AF-A75F-457E-B93A-E90DBD6F810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D5977E9E-7CB5-437C-BB15-84B5115FCF3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55577502-4BC9-4810-A8F4-D26B5AD0075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50796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Ele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90760" y="172728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mmercial Banks: Industr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3648240"/>
            <a:ext cx="830592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Arial"/>
              </a:rPr>
              <a:t>Learning Go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1 Define what a commercial bank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2 Identify the  main assets held by commercial ban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3 Identify the main liabilities held by commercial banks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4 Understand the types of off-balance sheet activities that commercial banks undert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5 Discuss which factors have motivated the signifiant decrease in the number of commercial ban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6 Evaluate the performance of the commercial banking industry in recent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7 Know the main regulators of commercial ban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LG 11-8 Lis the world’s biggest ban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E0814274-A01A-4670-B702-CD26196445E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Size, Structure and Composition of the Industry: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Times New Roman"/>
              </a:rPr>
              <a:t>The number of banks in the USA is decreasing: 6,676 banks in 2010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,483 banks with some 60,000 branches in 19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,350 banks with some 83,000 branches in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ff0000"/>
                </a:solidFill>
                <a:latin typeface="Times New Roman"/>
              </a:rPr>
              <a:t>Strict regulations imposed on commercial banks </a:t>
            </a:r>
            <a:r>
              <a:rPr b="0" lang="tr-TR" sz="1900" spc="-1" strike="noStrike" u="sng">
                <a:solidFill>
                  <a:srgbClr val="ff0000"/>
                </a:solidFill>
                <a:uFillTx/>
                <a:latin typeface="Times New Roman"/>
              </a:rPr>
              <a:t>limited</a:t>
            </a:r>
            <a:r>
              <a:rPr b="0" lang="tr-TR" sz="1900" spc="-1" strike="noStrike">
                <a:solidFill>
                  <a:srgbClr val="ff0000"/>
                </a:solidFill>
                <a:latin typeface="Times New Roman"/>
              </a:rPr>
              <a:t> geographical diversification opportuniti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087A6E5-D991-44EA-AF78-801C20C9EB5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Bank Size and Concentratio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842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Retail banking</a:t>
            </a:r>
            <a:r>
              <a:rPr b="1" lang="tr-TR" sz="1700" spc="-1" strike="noStrike">
                <a:solidFill>
                  <a:srgbClr val="000000"/>
                </a:solidFill>
                <a:latin typeface="Times New Roman"/>
              </a:rPr>
              <a:t> /community banks (small or community banks with less than 1 billion in asset size)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d specializes in retail or consumer banking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ey provide residential and consumer loans and accepting smaller deposit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Large banks in terms of  their assets size are calle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Wholesale banking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is commerce-orien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mmercial and industrial loans are often funded with purchased fun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ome of the very biggest banks are classified as being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oney center banks that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ly heavily on no deposit or borrowed sources of funds often borrowed in the 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ederal funds mark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ederal fund market: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an interbank market for short term borrowing and lending of bank reserv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oney center banks are also major participants in foreign currency markets and are therefore subject to foreign exchange risk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F54B817F-9F68-43F7-8F4E-FAAC3D283DA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Bank Size and Concentratio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important to note that asset or lending size does not necessarily make a bank a money center bank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ification as a money center bank is based in part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location of the bank. Specifically, a money center bank is a bank located in a major financial center (e.g., New Y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the bank’s heavy reliance on non-deposit or borrowed sources of funds that heavily relies on both national and international money markets for its source of fu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B8A33F6-F636-4D25-AF26-11CCEBF1022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Bank Size and Concentration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 differences between small banks and large bank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banks generally hold fewer off-balance-sheet assets and liabilities than large ban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anks tend to use more purchased funds (such as fed funds) and have fewer core deposits than small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anks lend to larger corporations which means tha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 rate sprea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net interest margins are usually narrower than those of smaller banks because the risk is lower in large corporation than small busin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 rate sprea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difference between lending and deposit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E0F3DE9D-3CDF-463F-83B7-EFC947A45A7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Bank Size and Activities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anks tend to pay higher salaries and invest more in buildings and premises than small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anks tend to diversify their operations more than small ban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615894FA-2FA0-4CAD-8302-488535F9A31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ors</a:t>
            </a:r>
            <a:br>
              <a:rPr sz="3600"/>
            </a:b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FDIC+OCC+FRS+State Author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Deposit Insurance Corporation (FDI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sures the deposits of commercial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.S. h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al banking system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: national banks / state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s can be either nationally or state char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fice of the Comptroller of the Currency (OC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harters and regulate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national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 agencie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harter and regulat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state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ederal Reserve System (FR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regulatory power over nationally chartered banks and their holding companies and state banks who are members of the Federal Reserv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E5471137-2E2F-4C6C-AD16-2FBCB80769F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br>
              <a:rPr sz="3600"/>
            </a:b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Advantag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lvl="1" marL="896040" indent="-44784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ersify the risk of its earnings flow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economies of sc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its average operating costs by expanding its activities beyond domestic bounda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distribute new product innovations internation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opportunity to find the cheapest and most available sources of fu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regulatory 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s activity restrictions and reserve requirements or taxes impose constraints, with globalization they can operate in low-regulatory, low-tax cou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E32E91AB-C9A6-421C-91A5-67FFC3C9544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br>
              <a:rPr sz="3600"/>
            </a:b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Disadvantag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nd monitoring costs are generally higher in foreign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BC716B8-959F-46B7-9085-566F7AC674E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/ </a:t>
            </a:r>
            <a:br>
              <a:rPr sz="3600"/>
            </a:b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Depository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ban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largest group of financial institutions in terms of to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assets are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liabilities are deposits—thus, they are conside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ository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services essential to financi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 a key role in the transmission of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paym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maturity inter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 are regulat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protect against disruptions to the services they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4CC9B9B1-3B8E-49CC-BDE3-CA14DFA7931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lance Sheet Structures of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 vs. Nonfinancial Firm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105840" rIns="105840" tIns="62640" bIns="626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1"/>
          <a:stretch/>
        </p:blipFill>
        <p:spPr>
          <a:xfrm>
            <a:off x="758880" y="2013120"/>
            <a:ext cx="5070600" cy="312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/>
          <p:cNvPicPr/>
          <p:nvPr/>
        </p:nvPicPr>
        <p:blipFill>
          <a:blip r:embed="rId2"/>
          <a:stretch/>
        </p:blipFill>
        <p:spPr>
          <a:xfrm>
            <a:off x="4087800" y="5019840"/>
            <a:ext cx="4172040" cy="1076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4C01A810-31FA-493F-8481-680F4D83641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Ass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Loans in 4 broad class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business or commercial and industrial loan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commercial and residential real estate loan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ndividual loans (for auto purchases and credit card loan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ll other loans (like the loans to emerging market countr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a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generate revenue for banks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rcial and industrial loans are declining because of nonbank substitutes such as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mmercial pa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tgages are increasing in impor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vestment securitie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 revenue and provide banks with liquidity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(interest bearing deposits purchased from other Fıs, Fed Funds sold to other banks, RePOs, Treasury securities, municipal securities, mortgage backed securities and other debts and securitie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sh asse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e held to meet reserve requirements and to provide liquid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 asset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 premises and equipment, other real estate owned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8EB6042C-0387-4D07-94DC-A5F46C04E2E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Assets</a:t>
            </a: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and Ris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 face unique risks because of their asse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(default)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loans are not re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quidity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depositors will demand more cash than banks can immediately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rate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interest rate changes erode net 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, liquidity, and interest rate risk all contribute to a commercial bank</a:t>
            </a: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level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solvency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1BB414AC-0B03-4F8D-9E0D-7E5B29E6CE7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Liabilities</a:t>
            </a:r>
            <a:br>
              <a:rPr sz="3600"/>
            </a:br>
            <a:r>
              <a:rPr b="0" lang="tr-TR" sz="2000" spc="-1" strike="noStrike">
                <a:solidFill>
                  <a:srgbClr val="cc0000"/>
                </a:solidFill>
                <a:latin typeface="Times New Roman"/>
              </a:rPr>
              <a:t>deposits + borrowed or other liability funds+owner equity</a:t>
            </a:r>
            <a:endParaRPr b="0" lang="en-US" sz="20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nsaction account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the sum of noninterest-bearing demand deposits and interest-bearing checking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bearing deposit accounts are calle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gotiable order of withdrawal (NOW) acc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ousehold (retail) savings and time depos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avings account is an interest-bearing deposit account held at a bank or another financial institution that provides a modest interest rate. Banks or financial institutions may limit the number of withdrawals you can make from your savings account each mon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rge time depos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Mainl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gotiable CDs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whic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 fixed-maturity interest-bearing deposits with face values of $100,000 or more that can be resold in the secondary market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C3DCE586-1037-4464-A323-298320517D1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Times New Roman"/>
              </a:rPr>
              <a:t>Liabilities &amp; Equity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deposit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 funds purch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os (sel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es and bonds (sel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level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re required by regulators to act as a buffer agains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d preferred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plus or additional paid-in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87DFCF58-3A3F-47D7-8587-37A522433EA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ff-Balance-Sheet Activ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Times New Roman"/>
              </a:rPr>
              <a:t>The balance sheet itself does not reflect the total scope of bank activitie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Times New Roman"/>
              </a:rPr>
              <a:t>Under current accounting standards, such activities are not shown on the current balance sheet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0000"/>
                </a:solidFill>
                <a:latin typeface="Times New Roman"/>
              </a:rPr>
              <a:t>Off balance sheet asset or liability will we a part of asset or liability after an activity or event occurs</a:t>
            </a:r>
            <a:r>
              <a:rPr b="0" lang="tr-TR" sz="27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000000"/>
                </a:solidFill>
                <a:latin typeface="Times New Roman"/>
              </a:rPr>
              <a:t>Banks’ intention is to earn fee income and avoid regulatory “tax avoidance” as these activities do have tax avoidance incentive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4C93774B-6509-493B-B2FA-3A83FAD6750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ff-Balance-Sheet Activ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f-balance-sheet asset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when an event occu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is item moves onto the asset side of the balance shee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income is realized on the income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f-balance-sheet liability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when an event occu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this item moves onto the liability side of the balance sheet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an expense is realized on the income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Nouf Saleh Alabdulkarim</cp:lastModifiedBy>
  <cp:lastPrinted>2016-12-08T04:45:33Z</cp:lastPrinted>
  <dcterms:modified xsi:type="dcterms:W3CDTF">2016-12-08T04:55:21Z</dcterms:modified>
  <cp:revision>279</cp:revision>
  <dc:subject/>
  <dc:title>FINANCIAL MARKETS AND INSTITIUTIONS: A Modern Perspective</dc:title>
</cp:coreProperties>
</file>