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248-322C-4294-BB4C-86B750B1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92D-BA14-41F8-9BE6-F44CAE8C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848-A99A-469C-B585-CC50FE27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7FB-8436-48D8-9007-BDA803FD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2E3-0CCE-4A39-8497-F471222A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45B-72B4-468E-9038-B0DE328B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0B0-BE8C-45C5-ACD9-45035A93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E94-2EA2-4977-A5EB-24D19D38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DD0-8D1E-46CF-8D21-CD9B9334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3D3-E62E-4A9B-A4E6-8F087369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2E3-4C63-459A-BE9C-AF492320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B67-D886-4757-A7AF-5FE47653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8099-1765-4FD9-B506-19B9A4D52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 adult fractur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xial skeleton (Pelvi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aleed M. Awwad, MD. FRC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ssistant professor and Consulta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rthopedic Surgery depar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2d2f2b"/>
                </a:solidFill>
                <a:latin typeface="Calibri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13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ABCDE</a:t>
            </a:r>
            <a:r>
              <a:rPr b="0" lang="ja-JP" sz="2200" spc="-1" strike="noStrike">
                <a:solidFill>
                  <a:srgbClr val="2d2f2b"/>
                </a:solidFill>
                <a:latin typeface="Calibri"/>
                <a:ea typeface="ＭＳ 明朝"/>
              </a:rPr>
              <a:t>’</a:t>
            </a:r>
            <a:r>
              <a:rPr b="0" lang="en-US" sz="2200" spc="-1" strike="noStrike">
                <a:solidFill>
                  <a:srgbClr val="2d2f2b"/>
                </a:solidFill>
                <a:latin typeface="Calibri"/>
                <a:ea typeface="ＭＳ 明朝"/>
              </a:rPr>
              <a:t>s must be assessed first and treated appropriatel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Patients should be examined with spinal collar until spinal pathology is exclud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Careful log rolling keeping the head, neck and pelvis in line should be done to examine the spine properl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Pelvic stability test (AP-LC only onc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Massive flank or buttock contus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Palpation of posterior aspect, symphysis and perineu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Digital rectal and vaginal exam in any pelvic ring fractu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2d2f2b"/>
                </a:solidFill>
                <a:latin typeface="Calibri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13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f2b"/>
                </a:solidFill>
                <a:latin typeface="Calibri"/>
              </a:rPr>
              <a:t>Hemodynamic statu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2d2f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f2b"/>
                </a:solidFill>
                <a:latin typeface="Calibri"/>
              </a:rPr>
              <a:t>Usual cause of retroperitoneal hemorrhage is venou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2d2f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f2b"/>
                </a:solidFill>
                <a:latin typeface="Calibri"/>
              </a:rPr>
              <a:t>Arterial blee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Small vessels: embo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Large vessels: immediate surgical explor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f2b"/>
                </a:solidFill>
                <a:latin typeface="Calibri"/>
              </a:rPr>
              <a:t>At emergency: open book pelvic fracture.</a:t>
            </a:r>
            <a:r>
              <a:rPr b="0" lang="en-US" sz="3000" spc="-1" strike="noStrike">
                <a:solidFill>
                  <a:srgbClr val="2d2f2b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2d2f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f2b"/>
                </a:solidFill>
                <a:latin typeface="Calibri"/>
              </a:rPr>
              <a:t>Pelvic wrapping at the level of G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2d2f2b"/>
                </a:solidFill>
                <a:latin typeface="Calibri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662360" y="2678040"/>
            <a:ext cx="3990960" cy="2679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28480" y="2678040"/>
            <a:ext cx="397692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2d2f2b"/>
                </a:solidFill>
                <a:latin typeface="Calibri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open book.jpg"/>
          <p:cNvPicPr/>
          <p:nvPr/>
        </p:nvPicPr>
        <p:blipFill>
          <a:blip r:embed="rId1"/>
          <a:stretch/>
        </p:blipFill>
        <p:spPr>
          <a:xfrm>
            <a:off x="1849320" y="2085840"/>
            <a:ext cx="5492880" cy="41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ociated inju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676520"/>
            <a:ext cx="777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rological: Lumbosacral plexus and nerve ro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itourinar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adder: 20% incide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traperitoneal: foley if unable to pas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peritoneal: surgical repa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rethral:10% incidence. male &gt; fema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ood at meatus or catheterization, high ridding prosta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y clinical suspicio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etrograde urethrogr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wel: perforation (open injury), rarely entrap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ting colostom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graphic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 pelvic 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let and outlet vie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turator and iliac oblique views if acetabular fra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d tomograp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(limited clinical util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graphic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female-pelvis"/>
          <p:cNvPicPr/>
          <p:nvPr/>
        </p:nvPicPr>
        <p:blipFill>
          <a:blip r:embed="rId1"/>
          <a:stretch/>
        </p:blipFill>
        <p:spPr>
          <a:xfrm>
            <a:off x="384120" y="1438200"/>
            <a:ext cx="3284640" cy="2463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inlet"/>
          <p:cNvPicPr/>
          <p:nvPr/>
        </p:nvPicPr>
        <p:blipFill>
          <a:blip r:embed="rId2"/>
          <a:stretch/>
        </p:blipFill>
        <p:spPr>
          <a:xfrm>
            <a:off x="5473800" y="1438200"/>
            <a:ext cx="3276360" cy="2463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outlet"/>
          <p:cNvPicPr/>
          <p:nvPr/>
        </p:nvPicPr>
        <p:blipFill>
          <a:blip r:embed="rId3"/>
          <a:srcRect l="0" t="5910" r="0" b="11905"/>
          <a:stretch/>
        </p:blipFill>
        <p:spPr>
          <a:xfrm>
            <a:off x="6064200" y="3976560"/>
            <a:ext cx="268596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209680"/>
            <a:ext cx="77709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 on severity and st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225520" y="2847960"/>
            <a:ext cx="47530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209680"/>
            <a:ext cx="77709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end on severity and stabil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stabile: protected weight bearing and serial X-r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unstab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rnal fix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al fix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solute surgical indic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n pelvic fractur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n book pelvic fracture or vertical unst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etabul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per 100,000 population /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logical injury up to 30% (peroneal division more than tibia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erior and posterior colum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etabular dome (weight bearing are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elvic fractur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turator and iliac oblique view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iac oblique: posterior column, iliac wing and anterior wall of the acetabu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turator oblique: anterior column and posterior wall of the acetabu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065320" y="2108160"/>
            <a:ext cx="52894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85800" y="3236760"/>
            <a:ext cx="5418000" cy="3573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6724800" y="66600"/>
            <a:ext cx="2323800" cy="349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711840" y="3592440"/>
            <a:ext cx="23274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209320"/>
            <a:ext cx="777096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al of treatment is anatomic restoration of articular surface to prevent post traumatic arthrit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 operative treatmen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 displaced fracture or less than 2mm displac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ss than 20% posterior wall frac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rgical treatmen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placement &gt;2m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 posterior wall fragme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a-articular frag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reducible fracture dislo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erior instab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2f2b"/>
                </a:solidFill>
                <a:latin typeface="Calibri"/>
              </a:rPr>
              <a:t>37 cases per 100,000 / year at U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f2b"/>
                </a:solidFill>
                <a:latin typeface="Calibri"/>
              </a:rPr>
              <a:t>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d2f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f2b"/>
                </a:solidFill>
                <a:latin typeface="Calibri"/>
              </a:rPr>
              <a:t>Young: high energy mechanis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d2f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f2b"/>
                </a:solidFill>
                <a:latin typeface="Calibri"/>
              </a:rPr>
              <a:t>Elderly: minimal trau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f2b"/>
                </a:solidFill>
                <a:latin typeface="Calibri"/>
              </a:rPr>
              <a:t>Male are more commonly affected before the age of 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685800" y="1992240"/>
            <a:ext cx="3941640" cy="3256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060880" y="1992240"/>
            <a:ext cx="375912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173160" y="1438200"/>
            <a:ext cx="88120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130320" y="2719440"/>
            <a:ext cx="4019400" cy="27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4202280" y="2719440"/>
            <a:ext cx="48463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female-pelvis"/>
          <p:cNvPicPr/>
          <p:nvPr/>
        </p:nvPicPr>
        <p:blipFill>
          <a:blip r:embed="rId1"/>
          <a:stretch/>
        </p:blipFill>
        <p:spPr>
          <a:xfrm>
            <a:off x="1409760" y="1957320"/>
            <a:ext cx="62341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vic s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10880"/>
            <a:ext cx="777096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tational or vertic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croiliac displacement 5m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erior fracture ga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mphysis diastas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cific injury pattern (direction of force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xternal rotation of hemipelvis,  spring op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C  (T-bone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terior half of iliu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terior half of iliac w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eater trochanteric reg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ternal rotation and abduction, shear for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vic fracture patter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685800" y="1438200"/>
            <a:ext cx="3909960" cy="266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48040" y="1438200"/>
            <a:ext cx="3224520" cy="266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2843280" y="4184640"/>
            <a:ext cx="35049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8:58:37Z</dcterms:created>
  <dc:creator>alzahem</dc:creator>
  <dc:description/>
  <dc:language>en-US</dc:language>
  <cp:lastModifiedBy>alzahem</cp:lastModifiedBy>
  <dcterms:modified xsi:type="dcterms:W3CDTF">2014-02-19T09:02:17Z</dcterms:modified>
  <cp:revision>1</cp:revision>
  <dc:subject/>
  <dc:title>Common adult fractures Axial skeleton (Pelvis)</dc:title>
</cp:coreProperties>
</file>