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CBCE-FA4B-48BA-A5DB-1457519252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F0F-E47A-42FC-8CC0-D8E53F2AD7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9BDF-397E-40E5-9BA9-9E73397D16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1B4-A479-46AB-A3DD-B6D72970C56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2DA-B0A4-4127-A922-D7338FA885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C2C1-6A33-4075-94AD-B57D1BC602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DE83-B7EA-48EE-963C-CD979F5DAC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335C-0965-4D1F-9301-E89C75750D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BF8-B935-4100-820F-5A7D9F0B7E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932D-3544-4657-8484-3E5717F82A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B25F-8525-4BF5-83DC-B43EFD63E3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4D12-6E11-4A2D-A639-292F69290E5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72FC-D909-486F-A2B8-B24151DDA4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61FF-9B69-4C41-9598-3B2AADD9EF0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035-6EB3-44A1-A3D4-8E57EC226C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ACF-3A09-49ED-AC78-7838EA2F20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0E95-67D2-4443-94CD-EC2FAF917F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549-C7B9-42F3-8C24-CD2E0F0131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6A78-C312-4129-8EC6-D2989346A3A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A35F-5CC3-4FEC-A0D4-6DBAB03D7E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3E9-7BCE-4A22-9733-77E35E0DC0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161-A0C2-4DA4-A45A-BE99D91B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34CA-F788-4DC2-B95C-883C6A08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A97-6AD5-499A-B48D-E8F8D8C2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B3D-25E3-44B3-8B54-2E7F2C0C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EC0-778A-4292-BFAB-E59768F2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350A-DB3D-457F-AEE2-06FD3A36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8EF-5934-485F-AA4E-5D34A04E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BCD0-AB6C-4C61-BE77-05EED3FF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3F8-DC1E-43A1-AB29-7E92DC32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AE0B-3B0C-45AF-ACC3-EB981C71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4810-76B6-475E-BC33-AC66E26D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8C9-6240-436F-B363-BEF7916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ED54-0CBF-4F23-82CE-9676654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6EB6-C040-4731-9AA7-20203A83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1E78-2E2B-4A91-AE4E-8513B53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154-8D2C-4CF4-86F2-33FB9990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F521-16F6-4631-B15C-0EA5A96A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495-3079-40CC-830F-4E3371F8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A60-B62D-45E6-AE1A-B050AFB4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303F-C4CD-4AAF-B962-56439E8C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7C1-23EC-47C1-B573-F9D686D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969-B3E4-462C-9486-E4BD9525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81FF-B9C9-47B6-9B89-C07C337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540-2385-49BB-8E25-2614C86E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F67-8D0F-4397-B77E-5334AEFD5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AA7-3E21-4049-AB7B-C5B59B6A54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static.flatworldknowledge.com/sites/all/files/51239/fwk-richmond-fig05_00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71280" y="3573000"/>
            <a:ext cx="784692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ION in Nur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Ahmad Alafafsh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شعار الكلية"/>
          <p:cNvPicPr/>
          <p:nvPr/>
        </p:nvPicPr>
        <p:blipFill>
          <a:blip r:embed="rId1"/>
          <a:stretch/>
        </p:blipFill>
        <p:spPr>
          <a:xfrm>
            <a:off x="0" y="1413000"/>
            <a:ext cx="1763640" cy="1584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2340000" y="177336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Concepts of Nurs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UR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stening and Observ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 and observing are two of the most valuable skills a nurse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skills are used to gather the subjective and objective data for the nursing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tive Listen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of hearing spoken words and noting nonverbal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listening takes energy and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apeutic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 communicatio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is purposeful and goal-oriented, creating a beneficial outcome for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als of Therapeutic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obtain or provid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velop 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how c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 fee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nhancing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7295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Disclo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uine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athy (the capacity to understand anothe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feeling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nce an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munication Techniqu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ing/valid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ing open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indirect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phra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rriers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reassu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mental respo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nsive ref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urse-Client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very nurse-client interaction should involve therapeutic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-client communication is influenced by both the nurse and the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Phases of Nurse-Client Communic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15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: Fairly short; expectations clarified; mutual goal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: Major portion of the interaction; used to accomplish goals outlined in introduction; feedback from client ess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: Nurse asks if client has questions; summarizing the topic is another way to indicate clo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t Factors in Communica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33200" y="2205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rs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nding and receiving of a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ommunication Process Examp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ant Factors in 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3200" y="206028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i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communication is affec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of Ill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, Hearing and Speech 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Pro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pects of Communication (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er - the one who conveys the message to another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- the thought, idea, or emotion convey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- how the message is 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spects of Communication (ii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r - physiological/ psychological compon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the receiv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response to the s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- Culture, education, emotions and other factors invol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nicomm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thods of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3200" y="1989000"/>
            <a:ext cx="7729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- Speaking, Listening, Writing,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verbal - Gestures, Facial Expressions, Posture and Gait, Tone of Voice, Touch, Eye Contact,  Body Position, Physical Appea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PatientThankingLa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fluences on Commun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844640"/>
            <a:ext cx="397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3840" y="1844640"/>
            <a:ext cx="3979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gruency of Messag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33200" y="2133360"/>
            <a:ext cx="772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66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al and nonverbal communication must b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r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in agre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22:02:46Z</dcterms:created>
  <dc:creator>Karen Levine/Alan Gelb</dc:creator>
  <dc:description/>
  <dc:language>en-US</dc:language>
  <cp:lastModifiedBy>Thamer Alwadani</cp:lastModifiedBy>
  <dcterms:modified xsi:type="dcterms:W3CDTF">2014-03-30T23:30:15Z</dcterms:modified>
  <cp:revision>61</cp:revision>
  <dc:subject/>
  <dc:title>PowerPoint Presentation</dc:title>
</cp:coreProperties>
</file>