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AA87-E45F-4ABF-8FBE-5A5138A92EC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E028-47DA-49D2-9496-1B3D2BE533D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53C1-6BE0-4712-A262-2976A9C0E5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0586-E34C-445C-B64F-FDA669775E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27F-CB17-442E-86F4-6F5D5B2959D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A5D7-7AB5-4FED-A0AA-23330F7DCC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116-37A0-4854-9E5C-D3984BCD91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414D-019C-47C6-8D20-B6D813EB3D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0191-D2BA-4092-A9BD-DA7B6E8D8B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DFD4-0A8A-41AA-A7EB-E0FFAF8712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DDCC-750A-492B-BC4F-E12B70CE72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CEE-22D5-4C01-8501-7F161C4924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2EDD-0771-4AA5-85EB-20DB0F71CC1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E6F4-0785-4DCA-869A-9A6CAB2F4D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CB0-49F5-4026-8F60-545B0051657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C18-A591-49B9-8EB1-DA1601B2B5F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F840-0D58-4E49-BCF1-05E3D033F7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9D2C-0139-4D23-888C-D215226B0E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B74-E4AB-4FD1-9774-FDFBB814C8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B2AB-1A70-49FE-9B44-958336EFFA9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C56-E05B-460F-A643-8152B1B63D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0E9-A831-4EB5-BF56-2E3C45A6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35E-4E47-465F-9923-F154BF7F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13C-319D-4CC8-BC78-4F0217FC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BB3-8D7D-4FC1-8004-3D1DC3E2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FAF1-F642-4D27-B4D3-2DEB55C5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322A-7465-4C8D-A5A6-8D0EBF49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56CB-1702-40F4-A420-D8806E8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5D8-AAB8-4CE7-8149-8DCAB0F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3506-1421-4DAD-898B-2116D8D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7669-7F3B-4ABD-98F0-BD55B6AF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8E2-992F-4B03-8806-05F7C70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216-2893-41E6-AC12-AF7F9DE4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CC84-2052-46B6-A0B5-B3A7547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F984-7BBD-4CFC-B108-6BB82E12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AC57-F54E-4784-AD34-5E26CC34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A3EB-5528-4888-ADA6-CD5FAD8F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34C3-2A3B-451D-9DB1-76356D22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251-9F31-4C1A-A54E-A1695633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828-AF76-47E8-8060-6182AB1B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6D5-D8F1-428F-BC3F-9A868477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EBC-A150-4EED-83FF-53605243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B5B-BDED-402C-848B-9C0C9C3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943-B7EE-4E4A-A32E-629ED47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34D-CC31-440B-8627-172C7B9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3776-7BD0-4CFA-BFC7-422EF7F99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F764-A2BC-49B5-953B-47AC118F5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static.flatworldknowledge.com/sites/all/files/51239/fwk-richmond-fig05_00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3573000"/>
            <a:ext cx="78469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 in Nu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Ahmad Alafafsh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شعار الكلية"/>
          <p:cNvPicPr/>
          <p:nvPr/>
        </p:nvPicPr>
        <p:blipFill>
          <a:blip r:embed="rId1"/>
          <a:stretch/>
        </p:blipFill>
        <p:spPr>
          <a:xfrm>
            <a:off x="0" y="1413000"/>
            <a:ext cx="1763640" cy="158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2340000" y="177336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 of Nurs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R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stening and Observ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 and observing are two of the most valuable skills a nurse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skills are used to gather the subjective and objective data for the nursing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ve Listen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hearing spoken words and noting nonverbal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istening takes energy and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apeutic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 communic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purposeful and goal-oriented, creating a beneficial outcome for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 of Therapeutic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btain or provid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w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hancing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7295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Disclo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uin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athy (the capacity to understand anoth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feeling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an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unication Techniq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ing/valid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open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indirect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rriers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reassu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al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ive ref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urse-Client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 nurse-client interaction should involve therapeutic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-client communication is influenced by both the nurse and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Phases of Nurse-Client Commun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5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Fairly short; expectations clarified; mutual goal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: Major portion of the interaction; used to accomplish goals outlined in introduction; feedback from client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: Nurse asks if client has questions; summarizing the topic is another way to indicate 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t Factors in Communic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rs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ding and receiving of a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Communication Process Exam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t Factors in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i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of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Hearing and Speech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pects of Communication (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- the one who conveys the message to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- the thought, idea, or emotion conv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- how the message is 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pects of Communication (i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- physiological/ psychological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- the recei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sponse to the s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- Culture, education, emotions and other factors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icomm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thods of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3200" y="1989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- Speaking, Listening, Writing,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erbal - Gestures, Facial Expressions, Posture and Gait, Tone of Voice, Touch, Eye Contact,  Body Position, Physical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atientThankingLa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fluences on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3840" y="1844640"/>
            <a:ext cx="3979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gruency of Mess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66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and nonverbal communication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in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22:02:46Z</dcterms:created>
  <dc:creator>Karen Levine/Alan Gelb</dc:creator>
  <dc:description/>
  <dc:language>en-US</dc:language>
  <cp:lastModifiedBy>Thamer Alwadani</cp:lastModifiedBy>
  <dcterms:modified xsi:type="dcterms:W3CDTF">2014-03-30T23:30:15Z</dcterms:modified>
  <cp:revision>61</cp:revision>
  <dc:subject/>
  <dc:title>PowerPoint Presentation</dc:title>
</cp:coreProperties>
</file>