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646-8699-4C50-B1F3-5FE36328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B53-E7B8-4C79-A64D-A2F9C617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E30-44F7-4AB2-B5D0-A8799BF7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F814-FCBA-4034-983C-3E1E8FF9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228C-E5AD-4331-A9EF-3C4541811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0EAF-04C3-41E9-ACB5-33E9E6E4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F8EA-BA7D-42CD-8DDD-E07599CB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7135-F5A8-4D80-A15B-95D01542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FD45-1DF9-4E1B-B5AC-24D2EBFE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B62-1B32-4CEC-8C57-72E49B94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E43-CFA9-4438-B817-3762D4B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832-4D96-4F36-A933-1E8F670F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907F-6FF7-47C8-9020-22D5FAA9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E7B5-035D-4FC6-B70E-83F1638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730F-622B-4647-BDDF-D95862A0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9459-8C25-472E-9F9B-898B5D3A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ED8C-CF9B-4A9D-9A63-E5CA0127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CC8-7E63-4A2C-9426-B34F0AD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EE3-9FFA-46E8-958F-3F0BF273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E80-0853-408A-8531-CE74343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E28-7F97-4ED7-847E-32417399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943-51DF-4F6F-B884-4B9E88C6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5CF-290F-4764-9800-FC9E9F1C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74DA-538D-4D7E-A345-07450233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0E89-1942-4489-B7BE-B1CC0A758741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A57F-1A57-4B54-9A88-58F29777BA88}" type="slidenum">
              <a:rPr b="0" lang="ar-S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IENT – PRACTITIONER RELATIONSH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the guidance-cooperation model physician has an opportunity to recreate the “Pygmalion complex”. Thus, the physician can mold others into his own imag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e mutual participation, the physician's gratification cannot stem from pow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doctor-patient relationship must change according to patient health progr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hysician’s inner needs are most likely to interfere with what is “best” for the pati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“GOOD MEDICINE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”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OD means whether or not the object under consideration satisfies u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activity-passivity model and guidance-cooperation, the treatment means whatever the physician do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mutual participation the treatment means an abstraction of one aspect of the relationship, embodying the activities of both participa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PATIENT – PRACTITIONER RELATIONSHIP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 human relationsh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ree basic models of the doctor-patient relationship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activity-passivit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guidance-cooper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del of mutual particip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basic models and the psychology of the physicia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“good medicine”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human relationship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ditionally concerned with “ things”, e.g. bacteria ,anatomical structur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modern times include the concept of “function”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hat is a human relationship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ther it is an abstraction, appropriate for the description and handling of certain observational fact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t is an abstraction embodying the activities of two interacting systems (persons)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model of activity-passivity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oldest conceptual mode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ased on the effect of one person on another, who is unable to contribute actively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Underlies the application of some of the outstanding advances of modern medicine (e.g. surgery, antibiotics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 of guidance-cooper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erlies much of medical practi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t is employed in situation which are less desperate than those previously mentioned (e.g. acute infectio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tient is expected to “look up to” and to “obey” his docto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model of mutual particip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ed on that equality among human beings is desirabl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participants 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ve approximately equal pow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 mutually interdepende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age in activity that will be in some ways satisfying to bot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s of the doctor-patient relationship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08000" y="1600200"/>
          <a:ext cx="8928000" cy="4933800"/>
        </p:xfrm>
        <a:graphic>
          <a:graphicData uri="http://schemas.openxmlformats.org/drawingml/2006/table">
            <a:tbl>
              <a:tblPr/>
              <a:tblGrid>
                <a:gridCol w="1727280"/>
                <a:gridCol w="1873080"/>
                <a:gridCol w="1655640"/>
                <a:gridCol w="194472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YSICIAN’S R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TEINT’S RO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INICAL APPLICATION OF MOD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TOTYPE OF MOD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ivity-passiv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oes something to pat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cipient (unable to respon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esthesia ,acute trauma, coma ,etc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ent-inf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Guidance-coope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lls patient what to d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operator (obeys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ute infectious processes,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ent-chil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tual particip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lps patient to help himself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icipant in “partnership”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st  chronic illnesses, psycho-analysis,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dult-adul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ree basic model and the psychology of the physicia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 physician is simply motivated by a wish to help others, no scientific study of the subject can be undertak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 the activity-passivity model physician contributes  to feelings of superiority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09:48:00Z</dcterms:created>
  <dc:creator>acer</dc:creator>
  <dc:description/>
  <dc:language>en-US</dc:language>
  <cp:lastModifiedBy>A</cp:lastModifiedBy>
  <dcterms:modified xsi:type="dcterms:W3CDTF">2008-04-20T10:49:50Z</dcterms:modified>
  <cp:revision>4</cp:revision>
  <dc:subject/>
  <dc:title>COMMUNICATION SKILLS</dc:title>
</cp:coreProperties>
</file>