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74D-7F1C-4B7B-8940-E1F861C1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644-D9D4-4DD9-8A6A-CA8685B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0B5-7393-433D-B5CE-63EB7341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6D0-D18F-4986-B61D-97621D7C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98B-971F-4225-B391-440E5F54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FCA9-CAEF-4304-BB9A-3D98150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9F2C-0F34-455A-B1D6-9ACC466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62B9-52E9-4627-94A5-8BAFDEB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8AB0-2C91-44B0-94B6-BCA84A4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580-6CDE-45E3-A728-19DBDB90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4FEE-8442-4643-A8EF-EC03EFE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77B-3770-4BC1-82A4-50ED0937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3A1-90FC-462A-A684-003A50F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C42-56E8-4B60-B12F-09D3188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FC9-334C-4590-BE4E-021C59F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EE6-DA91-4E55-B9AF-69AD944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951-8519-4DAD-A190-E032EC49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A1D-7ACE-42B5-90D4-AF6D775F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4ED-90A9-4AA5-A956-D95834ED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344-339C-44EE-8277-454A899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F31-78F0-4395-9B28-325C74F0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535-C51B-453D-9D0B-AA90B6A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289-6171-4311-8237-1BD92CC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6A9-2592-4FFB-B8E4-88323D2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358-42B2-4259-9304-EF8B63F3DC6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130-9A2D-45A9-84F4-7EBE6F08513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IENT – PRACTITIONER RELATION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the guidance-cooperation model physician has an opportunity to recreate the “Pygmalion complex”. Thus, the physician can mold others into his own imag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mutual participation, the physician's gratification cannot stem from pow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octor-patient relationship must change according to patient health prog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hysician’s inner needs are most likely to interfere with what is “best” for the pat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“GOOD MEDICINE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”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means whether or not the object under consideration satisfies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activity-passivity model and guidance-cooperation, the treatment means whatever the physician 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mutual participation the treatment means an abstraction of one aspect of the relationship, embodying the activities of both particip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PATIENT – PRACTITIONER RELATIONSHIP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human relationsh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 basic models of the doctor-patient relationsh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activity-passiv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guidance-coope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mutual particip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sic models and the psychology of the physici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“good medicine”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human relationship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ditionally concerned with “ things”, e.g. bacteria ,anatomical structur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modern times include the concept of “function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human relationship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ther it is an abstraction, appropriate for the description and handling of certain observational fact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 is an abstraction embodying the activities of two interacting systems (persons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model of activity-passivity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oldest conceptual mode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ased on the effect of one person on another, who is unable to contribute actively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lies the application of some of the outstanding advances of modern medicine (e.g. surgery, antibiotics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 of guidance-coope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erlies much of medical prac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employed in situation which are less desperate than those previously mentioned (e.g. acute infectio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ient is expected to “look up to” and to “obey” his doct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 of mutual particip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ed on that equality among human beings is desir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rticipants 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approximately equal pow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mutually interdepend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age in activity that will be in some ways satisfying to bo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000" y="1600200"/>
          <a:ext cx="8928000" cy="4933800"/>
        </p:xfrm>
        <a:graphic>
          <a:graphicData uri="http://schemas.openxmlformats.org/drawingml/2006/table">
            <a:tbl>
              <a:tblPr/>
              <a:tblGrid>
                <a:gridCol w="1727280"/>
                <a:gridCol w="1873080"/>
                <a:gridCol w="1655640"/>
                <a:gridCol w="194472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IAN’S R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EINT’S R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ICAL APPLICATION OF MOD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OTYPE OF MOD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ty-pass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es something to pat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ipient (unable to respon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esthesia ,acute trauma, coma ,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ent-inf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ance-coope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lls patient what to 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perator (obeys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ute infectious processes,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ent-chil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tual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s patient to help himsel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cipant in “partnership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st  chronic illnesses, psycho-analysis,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ult-adu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 physician is simply motivated by a wish to help others, no scientific study of the subject can be undertak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the activity-passivity model physician contributes  to feelings of superiori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09:48:00Z</dcterms:created>
  <dc:creator>acer</dc:creator>
  <dc:description/>
  <dc:language>en-US</dc:language>
  <cp:lastModifiedBy>A</cp:lastModifiedBy>
  <dcterms:modified xsi:type="dcterms:W3CDTF">2008-04-20T10:49:50Z</dcterms:modified>
  <cp:revision>4</cp:revision>
  <dc:subject/>
  <dc:title>COMMUNICATION SKILLS</dc:title>
</cp:coreProperties>
</file>