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98346-FDBE-4D43-9479-664C22718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6E94-C4FA-4870-B5A5-0E07FCC4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3C701-B91C-4DE4-969D-3C6B3FB4B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56FAD-9674-41F8-BA3D-5C29F350D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78706-B698-410B-A3F4-0EDDFFD5F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C5610-84B3-4974-941F-44BB3DA3A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EC6A5-76D2-4A1F-A69B-1FE69AE3C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0DEFC-64C7-4200-95F1-C14451320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03485-F8C1-4899-A8B1-C20DF072B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F35B2-E30E-41F5-9B60-9AB9CEF6C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6F70D-E107-4305-84AB-2CE7839C2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B0F9-526E-48B0-B4F5-0C09D46EB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E16E9-37B3-41CD-9560-91B5E6C8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7C6D-8AE3-47F6-8D43-8CAE01488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410AD-222B-483B-B506-DF4346C5B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76E57-3A1C-43E0-87E0-7F2D0C644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E8DC4-DF12-4C37-B0AC-5B1B5EA99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D656A1-922D-42EF-9F70-971DA5C3E2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8E555-BEEA-4AB8-BFF7-992E84741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C4F68-6ABD-4DB2-8965-FE9FC7667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FD1D0-C06C-4BBD-906C-C1E17C278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EC9E1-89FD-41C5-880A-78C9C33F4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78BBA-2B07-4B67-B4CA-761B0CEB0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50F56-1EF7-4C5B-8A3D-CD5E022BF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0112C-13F1-44E6-9880-36B960EA5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7CD47-A9ED-4FD4-933A-EF0320BC0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582BE-C12C-441F-B3FB-F26E12958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9EF1B-C07C-4247-82B7-71F6C21CF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EC31F-8CEE-4E1C-8750-005A44F794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64760-A88C-4A29-B01D-ADAA567A7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76B781-4C00-4EC2-81D6-CC90F55C4F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2C34B-3222-475A-9259-973DFA1B8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18042-8894-4BC2-8731-9082D5845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6B519-2583-4AA2-BD6C-FFE38E3A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999D8-6148-4356-B058-6FEA4C120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B9B9B-C277-434B-BD49-408A4732F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23FA7-D327-4057-9FAB-44899AD23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F7F95-2872-487F-AC59-685EBA87E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D5443-555E-4E70-BE41-6EE05BAC2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7A978-8602-4F03-A7CB-A1A078662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9BF7E-7500-41A1-83D3-A838C02E3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814F8A-50BE-4B03-A42B-A3462FA5C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F3447-F391-4601-B4A1-0C38AB4034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99A80-013F-40B2-8C3B-8FC8860AE1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1E823-D126-4FF6-954F-E1DE18ED6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85F8A-2F18-4F45-806E-48C8D8D86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29696-CC05-40DB-B088-A7DBFB99D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46518-678D-4ADF-9E98-4012A0B44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6EF87-9910-415E-A447-B1E49D6CF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7F0BD-A418-4D09-97FB-630C952F4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E336C-6721-4E15-AE42-2B093FC51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1D433-1BD1-49D9-B7A2-D1EDA9AA9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0FF3A-B40B-4DFE-8441-025F09485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388AE-793C-47AD-B3DE-8EB9FEB5C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C53CC-E9BA-4871-AFA8-3C7821089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D6B42-CC52-435F-8824-690F32E7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798020-85BD-47BF-A749-93A154B43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CE8C9-F5BD-442A-B668-0DB68353F5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51BE69-CB2C-41A2-A0B0-EEDB1B845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9567E-DE1D-4BC4-A9D5-51F352B3F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56DE7-9E84-4451-9FA5-1887138C0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3EA98-3D92-4CEC-BE2E-04096AAC3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67A525-C6BB-4570-A987-F02F0EFA5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D613C-92C6-4F19-9FB9-178A4EBDD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833EA-7F5A-4B64-BAE5-89548BE3D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83702-46C9-4B45-9292-D0C9037C0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92D0-A2CC-4FE4-B3E3-6B16C1871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E3273-8B85-459A-B392-A8D5C6DC3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B1BFB-33F1-4708-AEC1-52CB4AB8BF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820AAE-A8B6-4187-A028-AF5D3E534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46B2EC-9657-458F-8C30-C0CFE7A7A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F13D3-431D-401F-9B64-E8A314CA6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AEF60-8A8C-4DE4-8F5E-34893F317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2A8DB8-586A-40F0-B40D-2D8067D9B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99225-5606-49CC-B8FA-11A68E4AF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65AAA-2801-4672-A763-122AB5EAD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1BC54-62DE-4617-A7EC-E53C7E49F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F5A8-BE43-4FD2-9750-3AB4D79B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185D6-8C02-435A-A6F1-ECF567091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DBE7F-179F-4956-A9CE-0A1BA27CB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0C3CAB-7D39-42E8-BAD2-B087F4803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D74492-0564-4F3D-8B82-FB6DE3BE92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A6948-7A27-48A3-B519-531E0F9F6D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AE5E-52C6-450A-80EA-1E15BC05A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2919-99D7-4F0F-AF2B-60DFE72BBAC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3E00-C1FE-4F7C-A603-0A751A5B5A0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D02C-E9CB-48AC-9B87-1DE76DE30F4A}"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B5D7-8387-4C40-92EA-3F60CB9063DE}"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9B1E-3851-4023-A8B8-71265BF5DC00}"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C602-60EC-4E9B-AFAF-70A6B9BE9521}"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90320" y="121752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77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90320" y="128232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43320" y="137016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777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43320" y="143496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95200" y="147312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77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95200" y="153792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B1D0-C87A-40A4-96D6-F47E1436A3DE}"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266688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8"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 may be the only presenting symptom in elderly patients, leading to a delay in diagnosis.</a:t>
            </a:r>
            <a:endParaRPr b="0" lang="en-US" sz="2800" spc="-1" strike="noStrike">
              <a:solidFill>
                <a:srgbClr val="ffffff"/>
              </a:solidFill>
              <a:latin typeface="Arial"/>
            </a:endParaRPr>
          </a:p>
        </p:txBody>
      </p:sp>
      <p:sp>
        <p:nvSpPr>
          <p:cNvPr id="389" name="Rectangle 3"/>
          <p:cNvSpPr/>
          <p:nvPr/>
        </p:nvSpPr>
        <p:spPr>
          <a:xfrm>
            <a:off x="685800" y="6019920"/>
            <a:ext cx="7988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rPr>
              <a:t>Waterer GW, Kessler LA, Wunderin RG. Delayed administration of antibiotics and atypical presentation in communityacquired pneumonia. Chest 2006;130:1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1"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ltrates on radiographs may also be subtl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radiologists reading the same chest radiograph disagree in 10% of cases.</a:t>
            </a:r>
            <a:endParaRPr b="0" lang="en-US" sz="2800" spc="-1" strike="noStrike">
              <a:solidFill>
                <a:srgbClr val="ffffff"/>
              </a:solidFill>
              <a:latin typeface="Arial"/>
            </a:endParaRPr>
          </a:p>
        </p:txBody>
      </p:sp>
      <p:sp>
        <p:nvSpPr>
          <p:cNvPr id="392" name="Rectangle 3"/>
          <p:cNvSpPr/>
          <p:nvPr/>
        </p:nvSpPr>
        <p:spPr>
          <a:xfrm>
            <a:off x="685800" y="6019920"/>
            <a:ext cx="7988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baum MN, Hill LC, Murphy M, et al. Interobserver reliability of the chest radiograph in community-acquired pneumonia. Chest 1996;110:343-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4"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ITIAL MANAGEMENT</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 of Antibiotic Therapy</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ntibiotic therapy</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t of testing to determine the cause of the pneumonia</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location of treatment (home, inpatient floor, or IC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6"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to appropriate therapy is adequate coverage of Streptococcus pneumoniae and the atypical bacterial pathogens (mycoplasma, chlamydophila, and legion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8"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outpatients, the coverage of atypical bacterial pathogens is most important, especially for young adult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rolides, doxycycline, and fluoroquinolones are the most appropriate agents for the atypical bacterial pathoge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0"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 first-line treatment with either a respiratory fluoroquinolone (moxifloxacin at a dose of 400 mg per day or levofloxacin at a dose of 750 mg per day) or the combination of a second-generation or third-generation cephalosporin and a macrol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2"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S. pneumoniae remains the most common cause of severe community-acquired pneumonia requiring ICU admission, combination therapy consisting of a cephalosporin with either a fluoroquinolone or a macrolide is recommended. </a:t>
            </a:r>
            <a:endParaRPr b="0" lang="en-US" sz="2800" spc="-1" strike="noStrike">
              <a:solidFill>
                <a:srgbClr val="ffffff"/>
              </a:solidFill>
              <a:latin typeface="Arial"/>
            </a:endParaRPr>
          </a:p>
        </p:txBody>
      </p:sp>
      <p:sp>
        <p:nvSpPr>
          <p:cNvPr id="403" name="Rectangle 5"/>
          <p:cNvSpPr/>
          <p:nvPr/>
        </p:nvSpPr>
        <p:spPr>
          <a:xfrm>
            <a:off x="685800" y="6019920"/>
            <a:ext cx="79884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Narrow"/>
              </a:rPr>
              <a:t>Mandell LA, Wunderink RG, Anzueto A, et al. Infectious Diseases Society of America/American Thoracic Society consensus guidelines on the management of community-acquired pneumonia in adults. Clin Infect Dis 2007;44:Suppl 2:S27-S7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5"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atients in shock; antibiotics should be given within the first hour after the onset of hypoten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servational study involving patients with septic shock showed a decrease in survival rates of 8% for each hour of delay.</a:t>
            </a:r>
            <a:endParaRPr b="0" lang="en-US" sz="2800" spc="-1" strike="noStrike">
              <a:solidFill>
                <a:srgbClr val="ffffff"/>
              </a:solidFill>
              <a:latin typeface="Arial"/>
            </a:endParaRPr>
          </a:p>
        </p:txBody>
      </p:sp>
      <p:sp>
        <p:nvSpPr>
          <p:cNvPr id="406" name="Rectangle 3"/>
          <p:cNvSpPr/>
          <p:nvPr/>
        </p:nvSpPr>
        <p:spPr>
          <a:xfrm>
            <a:off x="685800" y="571500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Kumar A, Roberts D, Wood KE, et al. Duration of hypotension before initiation of effective antimicrobial therapy is the critical determinant of survival in human septic shock. Crit Care Med 2006;34:1589- 9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1371600" y="990720"/>
            <a:ext cx="6858000" cy="54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9" name=""/>
          <p:cNvSpPr txBox="1"/>
          <p:nvPr/>
        </p:nvSpPr>
        <p:spPr>
          <a:xfrm>
            <a:off x="914400" y="1784520"/>
            <a:ext cx="7772400" cy="3854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ration of Antibiotic Treatment</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urrently recommended duration of antibiotic therapy for community-acquired pneumonia is 5 to 7 days.</a:t>
            </a:r>
            <a:endParaRPr b="0" lang="en-US" sz="2800" spc="-1" strike="noStrike">
              <a:solidFill>
                <a:srgbClr val="ffffff"/>
              </a:solidFill>
              <a:latin typeface="Arial"/>
            </a:endParaRPr>
          </a:p>
        </p:txBody>
      </p:sp>
      <p:sp>
        <p:nvSpPr>
          <p:cNvPr id="410" name="Rectangle 4"/>
          <p:cNvSpPr/>
          <p:nvPr/>
        </p:nvSpPr>
        <p:spPr>
          <a:xfrm>
            <a:off x="685800" y="579132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Mandell LA, Wunderink RG, Anzueto A, et al. Infectious Diseases Society of America/American Thoracic Society consensus guidelines on the management of community-acquired pneumonia in adults. Clin Infect Dis 2007;44:Suppl 2:S27-S7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0"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12" name=""/>
          <p:cNvSpPr txBox="1"/>
          <p:nvPr/>
        </p:nvSpPr>
        <p:spPr>
          <a:xfrm>
            <a:off x="914400" y="3124080"/>
            <a:ext cx="7772400" cy="464832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associated pneumonia has been categorized as a discrete entity, with the goal of identifying patients with pneumonia that develops outside the hospital yet is caused by pathogens usually associated with hospital-acquired pneumonia or even ventilator-associated pneumonia, including methicillin-resistant Staphylococcus aureus (MRSA) and multidrug-resistant (MDR) gram-negative pathogens.</a:t>
            </a:r>
            <a:endParaRPr b="0" lang="en-US" sz="2400" spc="-1" strike="noStrike">
              <a:solidFill>
                <a:srgbClr val="ffffff"/>
              </a:solidFill>
              <a:latin typeface="Arial"/>
            </a:endParaRPr>
          </a:p>
        </p:txBody>
      </p:sp>
      <p:sp>
        <p:nvSpPr>
          <p:cNvPr id="413" name="Content Placeholder 2"/>
          <p:cNvSpPr/>
          <p:nvPr/>
        </p:nvSpPr>
        <p:spPr>
          <a:xfrm>
            <a:off x="914400" y="1371600"/>
            <a:ext cx="7772400" cy="882720"/>
          </a:xfrm>
          <a:prstGeom prst="rect">
            <a:avLst/>
          </a:prstGeom>
          <a:noFill/>
          <a:ln w="0">
            <a:noFill/>
          </a:ln>
        </p:spPr>
        <p:style>
          <a:lnRef idx="0"/>
          <a:fillRef idx="0"/>
          <a:effectRef idx="0"/>
          <a:fontRef idx="minor"/>
        </p:style>
        <p:txBody>
          <a:bodyPr lIns="90000" rIns="90000" tIns="46800" bIns="46800" anchor="t">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haroni"/>
              </a:rPr>
              <a:t>TREATMENT OF PATIENTS AT RISK FOR RESISTANT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1371600" y="762120"/>
            <a:ext cx="6934320" cy="557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16" name=""/>
          <p:cNvSpPr txBox="1"/>
          <p:nvPr/>
        </p:nvSpPr>
        <p:spPr>
          <a:xfrm>
            <a:off x="914400" y="228600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broad-spectrum therapy with dual coverage for Pseudomonas aeruginosa and routine MRSA coverage</a:t>
            </a:r>
            <a:endParaRPr b="0" lang="en-US" sz="2800" spc="-1" strike="noStrike">
              <a:solidFill>
                <a:srgbClr val="ffffff"/>
              </a:solidFill>
              <a:latin typeface="Arial"/>
            </a:endParaRPr>
          </a:p>
        </p:txBody>
      </p:sp>
      <p:sp>
        <p:nvSpPr>
          <p:cNvPr id="417" name="Rectangle 4"/>
          <p:cNvSpPr/>
          <p:nvPr/>
        </p:nvSpPr>
        <p:spPr>
          <a:xfrm>
            <a:off x="685800" y="601992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American Thoracic Society, Infectious Diseases Society of America. Guidelines for the management of adults with hospital-acquired, ventilator-associated, and healthcare-associated pneumonia. Am J Respir Crit Care Med 2005; 171:388-416.</a:t>
            </a:r>
            <a:endParaRPr b="0" lang="en-US" sz="1600" spc="-1" strike="noStrike">
              <a:solidFill>
                <a:srgbClr val="ffffff"/>
              </a:solidFill>
              <a:latin typeface="Arial"/>
            </a:endParaRPr>
          </a:p>
        </p:txBody>
      </p:sp>
      <p:sp>
        <p:nvSpPr>
          <p:cNvPr id="418" name="Content Placeholder 2"/>
          <p:cNvSpPr/>
          <p:nvPr/>
        </p:nvSpPr>
        <p:spPr>
          <a:xfrm>
            <a:off x="1371600" y="1523880"/>
            <a:ext cx="7772400" cy="882720"/>
          </a:xfrm>
          <a:prstGeom prst="rect">
            <a:avLst/>
          </a:prstGeom>
          <a:noFill/>
          <a:ln w="0">
            <a:noFill/>
          </a:ln>
        </p:spPr>
        <p:style>
          <a:lnRef idx="0"/>
          <a:fillRef idx="0"/>
          <a:effectRef idx="0"/>
          <a:fontRef idx="minor"/>
        </p:style>
        <p:txBody>
          <a:bodyPr lIns="90000" rIns="90000" tIns="46800" bIns="46800" anchor="t">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haroni"/>
              </a:rPr>
              <a:t>TREATMENT OF PATIENTS AT RISK FOR RESISTANT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20"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SA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toxin production by this strain (as well as by the methicillin-sensitive variant) results in characteristic presenting features (Tabl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1447920" y="838080"/>
            <a:ext cx="693396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23"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SA</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recommended with antibiotics that suppress toxin production, such as linezolid or clindamycin (added to vancomycin); these regimens have been associated with reduced mortality.</a:t>
            </a:r>
            <a:endParaRPr b="0" lang="en-US" sz="2800" spc="-1" strike="noStrike">
              <a:solidFill>
                <a:srgbClr val="ffffff"/>
              </a:solidFill>
              <a:latin typeface="Arial"/>
            </a:endParaRPr>
          </a:p>
        </p:txBody>
      </p:sp>
      <p:sp>
        <p:nvSpPr>
          <p:cNvPr id="424" name="Rectangle 3"/>
          <p:cNvSpPr/>
          <p:nvPr/>
        </p:nvSpPr>
        <p:spPr>
          <a:xfrm>
            <a:off x="685800" y="571500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icot N, Khanafer N, Meyssonnier V, et al. Methicillin resistance is not a predictor of severity in community-acquired Staphylococcus aureus necrotizing pneumonia: results of a prospective observational study. Clin Microbiol Infect 2013; 19:E142-E14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6" name="Picture 1" descr="KSU_Logo2[1]"/>
          <p:cNvPicPr/>
          <p:nvPr/>
        </p:nvPicPr>
        <p:blipFill>
          <a:blip r:embed="rId1"/>
          <a:stretch/>
        </p:blipFill>
        <p:spPr>
          <a:xfrm>
            <a:off x="8381880" y="0"/>
            <a:ext cx="762120" cy="990720"/>
          </a:xfrm>
          <a:prstGeom prst="rect">
            <a:avLst/>
          </a:prstGeom>
          <a:ln w="0">
            <a:noFill/>
          </a:ln>
        </p:spPr>
      </p:pic>
      <p:graphicFrame>
        <p:nvGraphicFramePr>
          <p:cNvPr id="427" name=""/>
          <p:cNvGraphicFramePr/>
          <p:nvPr/>
        </p:nvGraphicFramePr>
        <p:xfrm>
          <a:off x="228600" y="1143000"/>
          <a:ext cx="8915400" cy="5207040"/>
        </p:xfrm>
        <a:graphic>
          <a:graphicData uri="http://schemas.openxmlformats.org/drawingml/2006/table">
            <a:tbl>
              <a:tblPr/>
              <a:tblGrid>
                <a:gridCol w="1828800"/>
                <a:gridCol w="2133720"/>
                <a:gridCol w="495288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882800">
                <a:tc rowSpan="2">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Previously healthy, no antimicrobials in last 3 mo</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oxycycline 100 mg PO bid</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haroni"/>
                        </a:rPr>
                        <a:t>level III evidenc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eferred for adolescent/young adult when likelihood of mycoplasma is high; variable activity vs. </a:t>
                      </a:r>
                      <a:r>
                        <a:rPr b="0" i="1" lang="en-US" sz="2400" spc="-1" strike="noStrike">
                          <a:solidFill>
                            <a:srgbClr val="ffffff"/>
                          </a:solidFill>
                          <a:latin typeface="Arial"/>
                          <a:ea typeface="Times New Roman"/>
                        </a:rPr>
                        <a:t>S. pneumoniae.</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r>
              <a:tr h="2584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zithromycin</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haroni"/>
                        </a:rPr>
                        <a:t>level I evidence)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marL="343080" indent="-34308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 typical bacterial and atypical. </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ariety of dosing regimens: </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00 mg once then 250 mg od for * 4 500 mg PO daily for 3 days</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g extended release suspen. once. </a:t>
                      </a:r>
                      <a:endParaRPr b="0" lang="en-US" sz="2400" spc="-1" strike="noStrike">
                        <a:solidFill>
                          <a:srgbClr val="ffffff"/>
                        </a:solidFill>
                        <a:latin typeface="Arial"/>
                      </a:endParaRPr>
                    </a:p>
                    <a:p>
                      <a:pPr marL="343080" indent="-34308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n substitute clarithromycin.</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r>
            </a:tbl>
          </a:graphicData>
        </a:graphic>
      </p:graphicFrame>
      <p:sp>
        <p:nvSpPr>
          <p:cNvPr id="428" name="PlaceHolder 1"/>
          <p:cNvSpPr>
            <a:spLocks noGrp="1"/>
          </p:cNvSpPr>
          <p:nvPr>
            <p:ph type="title"/>
          </p:nvPr>
        </p:nvSpPr>
        <p:spPr>
          <a:xfrm>
            <a:off x="609480" y="151920"/>
            <a:ext cx="6858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Outpatient Treatment</a:t>
            </a: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0" name="Picture 1" descr="KSU_Logo2[1]"/>
          <p:cNvPicPr/>
          <p:nvPr/>
        </p:nvPicPr>
        <p:blipFill>
          <a:blip r:embed="rId1"/>
          <a:stretch/>
        </p:blipFill>
        <p:spPr>
          <a:xfrm>
            <a:off x="8381880" y="0"/>
            <a:ext cx="762120" cy="990720"/>
          </a:xfrm>
          <a:prstGeom prst="rect">
            <a:avLst/>
          </a:prstGeom>
          <a:ln w="0">
            <a:noFill/>
          </a:ln>
        </p:spPr>
      </p:pic>
      <p:graphicFrame>
        <p:nvGraphicFramePr>
          <p:cNvPr id="431" name=""/>
          <p:cNvGraphicFramePr/>
          <p:nvPr/>
        </p:nvGraphicFramePr>
        <p:xfrm>
          <a:off x="685800" y="914400"/>
          <a:ext cx="8458200" cy="5478480"/>
        </p:xfrm>
        <a:graphic>
          <a:graphicData uri="http://schemas.openxmlformats.org/drawingml/2006/table">
            <a:tbl>
              <a:tblPr/>
              <a:tblGrid>
                <a:gridCol w="1905120"/>
                <a:gridCol w="1981080"/>
                <a:gridCol w="45720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46412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morbidities, or antimicrobials in last 3 mo</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vofloxacin 750 mg PO daily for 5 days</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n substitute moxifloxacin or gemifloxacin.</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46412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eats common typical and atypical bacterial pathogens; active vs. DRSP. Use if recently received β-lactam or macrolid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efpodoxime 200 mg PO bid + azithromycin 500 mg PO daily</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se if recently received fluoroquinolones. Can substitute cefdinir, cefprozil, or amoxicillin/clavulanate for cefpodoxime. Variable activity against DRS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32" name="PlaceHolder 1"/>
          <p:cNvSpPr>
            <a:spLocks noGrp="1"/>
          </p:cNvSpPr>
          <p:nvPr>
            <p:ph type="title"/>
          </p:nvPr>
        </p:nvSpPr>
        <p:spPr>
          <a:xfrm>
            <a:off x="609480" y="151920"/>
            <a:ext cx="6858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Outpatient Treatment</a:t>
            </a:r>
            <a:endParaRPr b="0" lang="en-US" sz="2400" spc="-1" strike="noStrike">
              <a:solidFill>
                <a:srgbClr val="f4f1da"/>
              </a:solidFill>
              <a:latin typeface="Arial"/>
            </a:endParaRPr>
          </a:p>
        </p:txBody>
      </p:sp>
      <p:sp>
        <p:nvSpPr>
          <p:cNvPr id="433" name="Rectangle 1"/>
          <p:cNvSpPr/>
          <p:nvPr/>
        </p:nvSpPr>
        <p:spPr>
          <a:xfrm>
            <a:off x="4152960" y="1676520"/>
            <a:ext cx="10616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I </a:t>
            </a:r>
            <a:endParaRPr b="0" lang="en-US" sz="2400" spc="-1" strike="noStrike">
              <a:solidFill>
                <a:srgbClr val="ffffff"/>
              </a:solidFill>
              <a:latin typeface="Arial"/>
            </a:endParaRPr>
          </a:p>
        </p:txBody>
      </p:sp>
      <p:sp>
        <p:nvSpPr>
          <p:cNvPr id="434" name="Rectangle 7"/>
          <p:cNvSpPr/>
          <p:nvPr/>
        </p:nvSpPr>
        <p:spPr>
          <a:xfrm>
            <a:off x="3360240" y="4419720"/>
            <a:ext cx="11455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6" name="Picture 1" descr="KSU_Logo2[1]"/>
          <p:cNvPicPr/>
          <p:nvPr/>
        </p:nvPicPr>
        <p:blipFill>
          <a:blip r:embed="rId1"/>
          <a:stretch/>
        </p:blipFill>
        <p:spPr>
          <a:xfrm>
            <a:off x="8381880" y="0"/>
            <a:ext cx="762120" cy="990720"/>
          </a:xfrm>
          <a:prstGeom prst="rect">
            <a:avLst/>
          </a:prstGeom>
          <a:ln w="0">
            <a:noFill/>
          </a:ln>
        </p:spPr>
      </p:pic>
      <p:graphicFrame>
        <p:nvGraphicFramePr>
          <p:cNvPr id="437" name=""/>
          <p:cNvGraphicFramePr/>
          <p:nvPr/>
        </p:nvGraphicFramePr>
        <p:xfrm>
          <a:off x="609480" y="1143000"/>
          <a:ext cx="8229600" cy="4365720"/>
        </p:xfrm>
        <a:graphic>
          <a:graphicData uri="http://schemas.openxmlformats.org/drawingml/2006/table">
            <a:tbl>
              <a:tblPr/>
              <a:tblGrid>
                <a:gridCol w="2743200"/>
                <a:gridCol w="2743200"/>
                <a:gridCol w="27432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mmunity-acquired, nonimmunocompromised</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eftriaxone 1 g q24h + azithromycin 500 mg q24h IV or PO</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uld substitute cefotaxime, ampicillin-sulbactam, or ertapenem for ceftriaxon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espiratory fluoroquinolone (levofloxacin 750 mg IV q24h or moxifloxacin 400 mg IV q24h)</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eats most common bacterial and atypical pathogens. Active vs. DRS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38"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
        <p:nvSpPr>
          <p:cNvPr id="439" name="Rectangle 6"/>
          <p:cNvSpPr/>
          <p:nvPr/>
        </p:nvSpPr>
        <p:spPr>
          <a:xfrm>
            <a:off x="3359160" y="1828800"/>
            <a:ext cx="10616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1" name="Picture 1" descr="KSU_Logo2[1]"/>
          <p:cNvPicPr/>
          <p:nvPr/>
        </p:nvPicPr>
        <p:blipFill>
          <a:blip r:embed="rId1"/>
          <a:stretch/>
        </p:blipFill>
        <p:spPr>
          <a:xfrm>
            <a:off x="8381880" y="0"/>
            <a:ext cx="762120" cy="990720"/>
          </a:xfrm>
          <a:prstGeom prst="rect">
            <a:avLst/>
          </a:prstGeom>
          <a:ln w="0">
            <a:noFill/>
          </a:ln>
        </p:spPr>
      </p:pic>
      <p:graphicFrame>
        <p:nvGraphicFramePr>
          <p:cNvPr id="442" name=""/>
          <p:cNvGraphicFramePr/>
          <p:nvPr/>
        </p:nvGraphicFramePr>
        <p:xfrm>
          <a:off x="533520" y="1143000"/>
          <a:ext cx="8229600" cy="5207040"/>
        </p:xfrm>
        <a:graphic>
          <a:graphicData uri="http://schemas.openxmlformats.org/drawingml/2006/table">
            <a:tbl>
              <a:tblPr/>
              <a:tblGrid>
                <a:gridCol w="1828800"/>
                <a:gridCol w="2209680"/>
                <a:gridCol w="4191120"/>
              </a:tblGrid>
              <a:tr h="66924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LINICAL SETTING</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ANTIBIOTIC REGIMEN</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OMMENTS</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6383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evere pneumonia (ICU)</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eftriaxone 1 g IV q24h + levofloxacin 750 mg IV q24h + vancomycin 1 g IV q12h</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n substitute cefotaxime, cefepime, ertapenem, or β-lactam/β-lactamase inhibitor for ceftriaxone. Can substitute moxifloxacin for levofloxacin. Can substitute linezolid for vancomycin.</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28998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Health care–associated pneumonia or severe pneumonia with neutropenia, bronchiectasis (risk for </a:t>
                      </a:r>
                      <a:r>
                        <a:rPr b="0" i="1" lang="en-US" sz="1800" spc="-1" strike="noStrike">
                          <a:solidFill>
                            <a:srgbClr val="ffff00"/>
                          </a:solidFill>
                          <a:latin typeface="Arial"/>
                          <a:ea typeface="Times New Roman"/>
                        </a:rPr>
                        <a:t>Pseudomonas</a:t>
                      </a:r>
                      <a:r>
                        <a:rPr b="0" lang="en-US" sz="1800" spc="-1" strike="noStrike">
                          <a:solidFill>
                            <a:srgbClr val="ffff00"/>
                          </a:solidFill>
                          <a:latin typeface="Arial"/>
                          <a:ea typeface="Times New Roman"/>
                        </a:rPr>
                        <a:t>)</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efepime 2 g IV q12h + ciprofloxacin 500 mg IV q12h + vancomycin 1 g IV q12h</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n substitute other antipseudomonal β-lactam, such as piperacillin-tazobactam, imipenem, or meropenem, for cefepime. Can substitute aminoglycoside plus macrolide for ciprofloxacin.</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43"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2"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373"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5" name="Picture 1" descr="KSU_Logo2[1]"/>
          <p:cNvPicPr/>
          <p:nvPr/>
        </p:nvPicPr>
        <p:blipFill>
          <a:blip r:embed="rId1"/>
          <a:stretch/>
        </p:blipFill>
        <p:spPr>
          <a:xfrm>
            <a:off x="8381880" y="0"/>
            <a:ext cx="762120" cy="990720"/>
          </a:xfrm>
          <a:prstGeom prst="rect">
            <a:avLst/>
          </a:prstGeom>
          <a:ln w="0">
            <a:noFill/>
          </a:ln>
        </p:spPr>
      </p:pic>
      <p:graphicFrame>
        <p:nvGraphicFramePr>
          <p:cNvPr id="446" name=""/>
          <p:cNvGraphicFramePr/>
          <p:nvPr/>
        </p:nvGraphicFramePr>
        <p:xfrm>
          <a:off x="685800" y="2057400"/>
          <a:ext cx="8229600" cy="3254400"/>
        </p:xfrm>
        <a:graphic>
          <a:graphicData uri="http://schemas.openxmlformats.org/drawingml/2006/table">
            <a:tbl>
              <a:tblPr/>
              <a:tblGrid>
                <a:gridCol w="1905120"/>
                <a:gridCol w="2438280"/>
                <a:gridCol w="38862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251604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resumed PC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imethoprim-sulfamethoxazole 240/1200 mg IV q6h</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dd ceftriaxone to TMP/SMX if severe, until PCP confirmed. Alternatives for sulfa allergy include pentamidine + third-generation cephalosporin; clindamycin + primaquine; or atovaquone + ceftriaxon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47"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49" name=""/>
          <p:cNvSpPr txBox="1"/>
          <p:nvPr/>
        </p:nvSpPr>
        <p:spPr>
          <a:xfrm>
            <a:off x="914400" y="1523880"/>
            <a:ext cx="7772400" cy="41148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GNOSTIC TESTING</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of testing that is warranted to identify the causative microorganism in community acquired pneumonia is controversial.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recommended antibiotic regimens are effective for the majority of patients, diagnostic testing will rarely affect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1"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 testing in the appropriate season is the diagnostic test that is most likely to affect treatment.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current local influenza rates, antiviral treatments may be started empirically and stopped if testing is negative, or they may be started only in response to a positive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3" name=""/>
          <p:cNvSpPr txBox="1"/>
          <p:nvPr/>
        </p:nvSpPr>
        <p:spPr>
          <a:xfrm>
            <a:off x="914400" y="1523520"/>
            <a:ext cx="7772400" cy="1143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TE OF CAR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Admi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5"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ring systems that predict short-term mortality, such as the Pneumonia Severity Index (PSI)35 and the CURB-65 score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he PSI results in fewer admissions of patients with mild illness, with no increase in adverse outcome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ing the PSI score is complex</a:t>
            </a:r>
            <a:endParaRPr b="0" lang="en-US" sz="2800" spc="-1" strike="noStrike">
              <a:solidFill>
                <a:srgbClr val="ffffff"/>
              </a:solidFill>
              <a:latin typeface="Arial"/>
            </a:endParaRPr>
          </a:p>
        </p:txBody>
      </p:sp>
      <p:sp>
        <p:nvSpPr>
          <p:cNvPr id="456" name="Rectangle 3"/>
          <p:cNvSpPr/>
          <p:nvPr/>
        </p:nvSpPr>
        <p:spPr>
          <a:xfrm>
            <a:off x="685800" y="495288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aly DM, Auble TE, Stone RA, et al. Effect of increasing the intensity of implementing pneumonia guidelines: a randomized, controlled trial. Ann Intern</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Med 2005;143:881-94.</a:t>
            </a:r>
            <a:endParaRPr b="0" lang="en-US" sz="1800" spc="-1" strike="noStrike">
              <a:solidFill>
                <a:srgbClr val="ffffff"/>
              </a:solidFill>
              <a:latin typeface="Arial"/>
            </a:endParaRPr>
          </a:p>
        </p:txBody>
      </p:sp>
      <p:sp>
        <p:nvSpPr>
          <p:cNvPr id="457" name="Rectangle 3"/>
          <p:cNvSpPr/>
          <p:nvPr/>
        </p:nvSpPr>
        <p:spPr>
          <a:xfrm>
            <a:off x="685800" y="593424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Lim WS, van der Eerden MM, Laing R, et al. Defining community acquired pneumoniaseverity on presentation to hospital: an international derivation and validation study. Thorax 2003;58:377-8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9" name=""/>
          <p:cNvSpPr txBox="1"/>
          <p:nvPr/>
        </p:nvSpPr>
        <p:spPr>
          <a:xfrm>
            <a:off x="914400" y="1523880"/>
            <a:ext cx="7772400" cy="4114800"/>
          </a:xfrm>
          <a:prstGeom prst="rect">
            <a:avLst/>
          </a:prstGeom>
          <a:noFill/>
          <a:ln w="0">
            <a:noFill/>
          </a:ln>
        </p:spPr>
        <p:txBody>
          <a:bodyPr anchor="t">
            <a:normAutofit fontScale="82000"/>
          </a:bodyPr>
          <a:p>
            <a:pPr marL="5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B-65 score </a:t>
            </a:r>
            <a:r>
              <a:rPr b="0" lang="en-US" sz="2800" spc="-1" strike="noStrike">
                <a:solidFill>
                  <a:srgbClr val="ffffff"/>
                </a:solidFill>
                <a:latin typeface="Arial"/>
              </a:rPr>
              <a:t>(which assigns 1 point each for </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emia [blood urea nitrogen ≥20 mg/dl]</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30 breaths per minute,</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P &lt;90 mm Hg or DBP ≤60 mm Hg</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65 years</a:t>
            </a:r>
            <a:endParaRPr b="0" lang="en-US" sz="2800" spc="-1" strike="noStrike">
              <a:solidFill>
                <a:srgbClr val="ffffff"/>
              </a:solidFill>
              <a:latin typeface="Arial"/>
            </a:endParaRPr>
          </a:p>
          <a:p>
            <a:pPr marL="5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core ≥3 indicating the need for hospitalization </a:t>
            </a:r>
            <a:endParaRPr b="0" lang="en-US" sz="32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remember and calculate but has not been as well validated as the PSI sc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1"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decisions that are inconsistent with the score are often made for legitimate reas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r>
              <a:rPr b="0" lang="en-US" sz="2800" spc="-1" strike="noStrike">
                <a:solidFill>
                  <a:srgbClr val="ffff00"/>
                </a:solidFill>
                <a:latin typeface="Arial"/>
              </a:rPr>
              <a:t>objective</a:t>
            </a:r>
            <a:r>
              <a:rPr b="0" lang="en-US" sz="2800" spc="-1" strike="noStrike">
                <a:solidFill>
                  <a:srgbClr val="ffffff"/>
                </a:solidFill>
                <a:latin typeface="Arial"/>
              </a:rPr>
              <a:t> (e.g., low arterial saturations)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r>
              <a:rPr b="0" lang="en-US" sz="2800" spc="-1" strike="noStrike">
                <a:solidFill>
                  <a:srgbClr val="ffff00"/>
                </a:solidFill>
                <a:latin typeface="Arial"/>
              </a:rPr>
              <a:t>subjective</a:t>
            </a:r>
            <a:r>
              <a:rPr b="0" lang="en-US" sz="2800" spc="-1" strike="noStrike">
                <a:solidFill>
                  <a:srgbClr val="ffffff"/>
                </a:solidFill>
                <a:latin typeface="Arial"/>
              </a:rPr>
              <a:t> (e.g., unreliable home support and concern regarding adherence to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
          <p:cNvPicPr/>
          <p:nvPr/>
        </p:nvPicPr>
        <p:blipFill>
          <a:blip r:embed="rId1"/>
          <a:stretch/>
        </p:blipFill>
        <p:spPr>
          <a:xfrm>
            <a:off x="1295280" y="838080"/>
            <a:ext cx="7162920" cy="5191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4" name=""/>
          <p:cNvSpPr txBox="1"/>
          <p:nvPr/>
        </p:nvSpPr>
        <p:spPr>
          <a:xfrm>
            <a:off x="914400" y="1523880"/>
            <a:ext cx="7772400" cy="41148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CU Admission</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regarding initial admission to the ICU of patients with community-acquired pneumonia and questionable cardiopulmonary stability probably have the greatest potential effect on mort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6"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ality-improvement study showed that increased attention in the emergency department resulted in a decrease in mortality (from 23 to 6%)</a:t>
            </a:r>
            <a:endParaRPr b="0" lang="en-US" sz="2800" spc="-1" strike="noStrike">
              <a:solidFill>
                <a:srgbClr val="ffffff"/>
              </a:solidFill>
              <a:latin typeface="Arial"/>
            </a:endParaRPr>
          </a:p>
        </p:txBody>
      </p:sp>
      <p:sp>
        <p:nvSpPr>
          <p:cNvPr id="467" name="Rectangle 3"/>
          <p:cNvSpPr/>
          <p:nvPr/>
        </p:nvSpPr>
        <p:spPr>
          <a:xfrm>
            <a:off x="685800" y="6019920"/>
            <a:ext cx="79884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Narrow"/>
              </a:rPr>
              <a:t>Lim HF, Phua J, Mukhopadhyay A, et al. IDSA/ATS minor criteria aided pre-ICU resuscitation in severe community-acquired pneumonia. Eur Respir J 2013 October 31 (Epub ahead of prin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5"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CLINICAL PROBLEM</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otten killer.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estimates that lower respiratory tract infection is the most common infectious cause of death in the world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most common cause overall</a:t>
            </a:r>
            <a:endParaRPr b="0" lang="en-US" sz="2800" spc="-1" strike="noStrike">
              <a:solidFill>
                <a:srgbClr val="ffffff"/>
              </a:solidFill>
              <a:latin typeface="Arial"/>
            </a:endParaRPr>
          </a:p>
        </p:txBody>
      </p:sp>
      <p:sp>
        <p:nvSpPr>
          <p:cNvPr id="376" name="Rectangle 3"/>
          <p:cNvSpPr/>
          <p:nvPr/>
        </p:nvSpPr>
        <p:spPr>
          <a:xfrm>
            <a:off x="685800" y="6019920"/>
            <a:ext cx="7988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The top 10 causes of death. Geneva: World Health Organization, 2013 (http:// www.who.int/mediacentre/factsheets/ fs310/en/index.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9" name=""/>
          <p:cNvSpPr txBox="1"/>
          <p:nvPr/>
        </p:nvSpPr>
        <p:spPr>
          <a:xfrm>
            <a:off x="914400" y="1523880"/>
            <a:ext cx="7772400" cy="4114800"/>
          </a:xfrm>
          <a:prstGeom prst="rect">
            <a:avLst/>
          </a:prstGeom>
          <a:noFill/>
          <a:ln w="0">
            <a:noFill/>
          </a:ln>
        </p:spPr>
        <p:txBody>
          <a:bodyPr anchor="t">
            <a:normAutofit fontScale="96000"/>
          </a:bodyPr>
          <a:p>
            <a:pPr marL="65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useful interventions include </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fluid resuscitation</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 initiation of appropriate antibiotics</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ate measurement for borderline hypotension</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coexisting illnesses (e.g., administration of bronchodilators for asthma and COPD) </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essment after such interventions</a:t>
            </a:r>
            <a:endParaRPr b="0" lang="en-US" sz="2800" spc="-1" strike="noStrike">
              <a:solidFill>
                <a:srgbClr val="ffffff"/>
              </a:solidFill>
              <a:latin typeface="Arial"/>
            </a:endParaRPr>
          </a:p>
        </p:txBody>
      </p:sp>
      <p:sp>
        <p:nvSpPr>
          <p:cNvPr id="470" name="Rectangle 4"/>
          <p:cNvSpPr/>
          <p:nvPr/>
        </p:nvSpPr>
        <p:spPr>
          <a:xfrm>
            <a:off x="685800" y="6019920"/>
            <a:ext cx="79884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Lim HF, Phua J, Mukhopadhyay A, et al. IDSA/ATS minor criteria aided pre-ICU resuscitation in severe community-acquired pneumonia. Eur Respir J 2013 October 31 (Epub ahead of prin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1143000" y="83808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4"/>
          <p:cNvSpPr/>
          <p:nvPr/>
        </p:nvSpPr>
        <p:spPr>
          <a:xfrm>
            <a:off x="152280" y="2666880"/>
            <a:ext cx="4572000" cy="3506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 30 breaths/min</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O2/FiO2 ratio  250</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lobar infiltrates</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disorientation</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Uremia (BUN level, 20 mg/dL)</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kopeniac (WBC &lt;4000 cells/mm3)</a:t>
            </a:r>
            <a:endParaRPr b="0" lang="en-US" sz="2800" spc="-1" strike="noStrike">
              <a:solidFill>
                <a:srgbClr val="ffffff"/>
              </a:solidFill>
              <a:latin typeface="Arial"/>
            </a:endParaRPr>
          </a:p>
        </p:txBody>
      </p:sp>
      <p:pic>
        <p:nvPicPr>
          <p:cNvPr id="473" name="Picture 1" descr="KSU_Logo2[1]"/>
          <p:cNvPicPr/>
          <p:nvPr/>
        </p:nvPicPr>
        <p:blipFill>
          <a:blip r:embed="rId1"/>
          <a:stretch/>
        </p:blipFill>
        <p:spPr>
          <a:xfrm>
            <a:off x="8381880" y="0"/>
            <a:ext cx="762120" cy="990720"/>
          </a:xfrm>
          <a:prstGeom prst="rect">
            <a:avLst/>
          </a:prstGeom>
          <a:ln w="0">
            <a:noFill/>
          </a:ln>
        </p:spPr>
      </p:pic>
      <p:sp>
        <p:nvSpPr>
          <p:cNvPr id="4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neumonia</a:t>
            </a:r>
            <a:endParaRPr b="0" lang="en-US" sz="4000" spc="-1" strike="noStrike">
              <a:solidFill>
                <a:srgbClr val="f4f1da"/>
              </a:solidFill>
              <a:latin typeface="Arial"/>
            </a:endParaRPr>
          </a:p>
        </p:txBody>
      </p:sp>
      <p:sp>
        <p:nvSpPr>
          <p:cNvPr id="475" name="Rectangle 2"/>
          <p:cNvSpPr/>
          <p:nvPr/>
        </p:nvSpPr>
        <p:spPr>
          <a:xfrm>
            <a:off x="4648320" y="2666880"/>
            <a:ext cx="4572000" cy="3506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telet count, &lt;100,000 cells/mm3)</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rmia (&lt;36C)</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ension </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asive mechanical ventilation</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tic shock with the need for vasopressors</a:t>
            </a:r>
            <a:endParaRPr b="0" lang="en-US" sz="2800" spc="-1" strike="noStrike">
              <a:solidFill>
                <a:srgbClr val="ffffff"/>
              </a:solidFill>
              <a:latin typeface="Arial"/>
            </a:endParaRPr>
          </a:p>
        </p:txBody>
      </p:sp>
      <p:sp>
        <p:nvSpPr>
          <p:cNvPr id="476" name="Rectangle 3"/>
          <p:cNvSpPr/>
          <p:nvPr/>
        </p:nvSpPr>
        <p:spPr>
          <a:xfrm>
            <a:off x="380880" y="12762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iteria for severe community-acquired pneumon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78"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one MRSA-specific risk factor (prior MRSA infection or colonization, long-term hemodialysis, or heart failure) may warrant MRSA coverag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but not dual antipseudomonal antibiotics)</a:t>
            </a:r>
            <a:endParaRPr b="0" lang="en-US" sz="2800" spc="-1" strike="noStrike">
              <a:solidFill>
                <a:srgbClr val="ffffff"/>
              </a:solidFill>
              <a:latin typeface="Arial"/>
            </a:endParaRPr>
          </a:p>
        </p:txBody>
      </p:sp>
      <p:sp>
        <p:nvSpPr>
          <p:cNvPr id="479" name="Rectangle 5"/>
          <p:cNvSpPr/>
          <p:nvPr/>
        </p:nvSpPr>
        <p:spPr>
          <a:xfrm>
            <a:off x="685800" y="5562720"/>
            <a:ext cx="7988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rPr>
              <a:t>Shindo Y, Ito R, Kobayashi D, et al. Risk factors for drug-resistant pathogens in community-acquired and healthcareassociated pneumonia. Am J Respir Crit Care Med 2013;188:985-9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1"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3"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484"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6"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8"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489"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1" name=""/>
          <p:cNvSpPr txBox="1"/>
          <p:nvPr/>
        </p:nvSpPr>
        <p:spPr>
          <a:xfrm>
            <a:off x="914400" y="2514240"/>
            <a:ext cx="7772400" cy="380988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B-65 score of 4</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 from inpatient therapy.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at least four minor criteria for severe CAP (confusion, respiratory rate ≥30 breaths per minute, multilobar infiltrates, and uremia).</a:t>
            </a:r>
            <a:endParaRPr b="0" lang="en-US" sz="2800" spc="-1" strike="noStrike">
              <a:solidFill>
                <a:srgbClr val="ffffff"/>
              </a:solidFill>
              <a:latin typeface="Arial"/>
            </a:endParaRPr>
          </a:p>
        </p:txBody>
      </p:sp>
      <p:sp>
        <p:nvSpPr>
          <p:cNvPr id="492" name="Rectangle 4"/>
          <p:cNvSpPr/>
          <p:nvPr/>
        </p:nvSpPr>
        <p:spPr>
          <a:xfrm>
            <a:off x="627480" y="1695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4" name=""/>
          <p:cNvSpPr txBox="1"/>
          <p:nvPr/>
        </p:nvSpPr>
        <p:spPr>
          <a:xfrm>
            <a:off x="914400" y="2819160"/>
            <a:ext cx="7772400" cy="3809880"/>
          </a:xfrm>
          <a:prstGeom prst="rect">
            <a:avLst/>
          </a:prstGeom>
          <a:noFill/>
          <a:ln w="0">
            <a:noFill/>
          </a:ln>
        </p:spPr>
        <p:txBody>
          <a:bodyPr anchor="t">
            <a:normAutofit fontScale="98000"/>
          </a:bodyPr>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nursing home resident, </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meets the current criteria for health care–associated pneumonia. </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neumonia-specific MDR risk factors but does have risk factors for severe CAP,</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ould initiate treatment with </a:t>
            </a:r>
            <a:r>
              <a:rPr b="0" lang="en-US" sz="2800" spc="-1" strike="noStrike">
                <a:solidFill>
                  <a:srgbClr val="ffff00"/>
                </a:solidFill>
                <a:latin typeface="Arial"/>
              </a:rPr>
              <a:t>ceftriaxone and azithromycin.</a:t>
            </a:r>
            <a:endParaRPr b="0" lang="en-US" sz="2800" spc="-1" strike="noStrike">
              <a:solidFill>
                <a:srgbClr val="ffffff"/>
              </a:solidFill>
              <a:latin typeface="Arial"/>
            </a:endParaRPr>
          </a:p>
        </p:txBody>
      </p:sp>
      <p:sp>
        <p:nvSpPr>
          <p:cNvPr id="495" name="Rectangle 3"/>
          <p:cNvSpPr/>
          <p:nvPr/>
        </p:nvSpPr>
        <p:spPr>
          <a:xfrm>
            <a:off x="627480" y="1695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8" name=""/>
          <p:cNvSpPr txBox="1"/>
          <p:nvPr/>
        </p:nvSpPr>
        <p:spPr>
          <a:xfrm>
            <a:off x="914400" y="1371240"/>
            <a:ext cx="7772400" cy="3854520"/>
          </a:xfrm>
          <a:prstGeom prst="rect">
            <a:avLst/>
          </a:prstGeom>
          <a:noFill/>
          <a:ln w="0">
            <a:noFill/>
          </a:ln>
        </p:spPr>
        <p:txBody>
          <a:bodyPr anchor="t">
            <a:normAutofit fontScale="89000"/>
          </a:bodyPr>
          <a:p>
            <a:pPr marL="60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RATEGIES AND EVIDENCE</a:t>
            </a:r>
            <a:endParaRPr b="0" lang="en-US" sz="2800" spc="-1" strike="noStrike">
              <a:solidFill>
                <a:srgbClr val="ffffff"/>
              </a:solidFill>
              <a:latin typeface="Arial"/>
            </a:endParaRPr>
          </a:p>
          <a:p>
            <a:pPr marL="6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GNOSIS</a:t>
            </a:r>
            <a:endParaRPr b="0" lang="en-US" sz="2800" spc="-1" strike="noStrike">
              <a:solidFill>
                <a:srgbClr val="ffffff"/>
              </a:solidFill>
              <a:latin typeface="Arial"/>
            </a:endParaRPr>
          </a:p>
          <a:p>
            <a:pPr marL="6084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nosis in patients who do not have underlying cardiopulmonary disease. </a:t>
            </a:r>
            <a:endParaRPr b="0" lang="en-US" sz="2800" spc="-1" strike="noStrike">
              <a:solidFill>
                <a:srgbClr val="ffffff"/>
              </a:solidFill>
              <a:latin typeface="Arial"/>
            </a:endParaRPr>
          </a:p>
          <a:p>
            <a:pPr marL="6084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lung cancer, pulmonary fibrosis or other chronic infiltrative lung disease, or congestive heart failure, the diagnosis of community-acquired pneumonia can be very diffic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7" name=""/>
          <p:cNvSpPr txBox="1"/>
          <p:nvPr/>
        </p:nvSpPr>
        <p:spPr>
          <a:xfrm>
            <a:off x="914400" y="1828440"/>
            <a:ext cx="7772400" cy="426708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 testing if she has presented during the appropriate seas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oseltamivir started if the local influenza rate is high.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lood cultures nor sputum cultures because of the low likelihood of the presence of pathogens resistant to usual treatment for C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905120"/>
            <a:ext cx="8229600" cy="452592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B-65 Pneumonia Severity Index (PSI), can be used to identify patients with CAP who may be candidates for outpatient treatment.</a:t>
            </a: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Strong recommendation; level I evidence.)</a:t>
            </a:r>
            <a:endParaRPr b="0" lang="en-US" sz="3000" spc="-1" strike="noStrike">
              <a:solidFill>
                <a:srgbClr val="ffffff"/>
              </a:solidFill>
              <a:latin typeface="Arial"/>
            </a:endParaRPr>
          </a:p>
        </p:txBody>
      </p:sp>
      <p:sp>
        <p:nvSpPr>
          <p:cNvPr id="499" name="PlaceHolder 1"/>
          <p:cNvSpPr>
            <a:spLocks noGrp="1"/>
          </p:cNvSpPr>
          <p:nvPr>
            <p:ph type="title"/>
          </p:nvPr>
        </p:nvSpPr>
        <p:spPr>
          <a:xfrm>
            <a:off x="380880" y="3805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fectious Diseases Society of America/American Thoracic Society Consensus Guidelines on the Management of Community-Acquired Pneumonia in Adults</a:t>
            </a:r>
            <a:endParaRPr b="0" lang="en-US" sz="2800" spc="-1" strike="noStrike">
              <a:solidFill>
                <a:srgbClr val="f4f1da"/>
              </a:solidFill>
              <a:latin typeface="Arial"/>
            </a:endParaRPr>
          </a:p>
        </p:txBody>
      </p:sp>
      <p:pic>
        <p:nvPicPr>
          <p:cNvPr id="50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rly treatment (within 48 h of the onset of symptoms) with oseltamivir or zanamivir is recommended for influenza A. </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ng recommendation; level I evidence.)</a:t>
            </a:r>
            <a:endParaRPr b="0" lang="en-US" sz="3000" spc="-1" strike="noStrike">
              <a:solidFill>
                <a:srgbClr val="ffffff"/>
              </a:solidFill>
              <a:latin typeface="Arial"/>
            </a:endParaRPr>
          </a:p>
        </p:txBody>
      </p:sp>
      <p:sp>
        <p:nvSpPr>
          <p:cNvPr id="502" name="Title 1"/>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Infectious Diseases Society of America/American Thoracic Society Consensus Guidelines on the Management of Community-Acquired Pneumonia in Adults</a:t>
            </a:r>
            <a:endParaRPr b="0" lang="en-US" sz="2800" spc="-1" strike="noStrike">
              <a:solidFill>
                <a:srgbClr val="ffffff"/>
              </a:solidFill>
              <a:latin typeface="Arial"/>
            </a:endParaRPr>
          </a:p>
        </p:txBody>
      </p:sp>
      <p:pic>
        <p:nvPicPr>
          <p:cNvPr id="50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of oseltamivir and zanamivir is not recommended for patients with uncomplicated influenza (level I evidence), </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drugs may be used to reduce viral shedding in hospitalized patients or for influenza pneumonia. </a:t>
            </a: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Moderate recommendation; level III evidence.)</a:t>
            </a:r>
            <a:endParaRPr b="0" lang="en-US" sz="3000" spc="-1" strike="noStrike">
              <a:solidFill>
                <a:srgbClr val="ffffff"/>
              </a:solidFill>
              <a:latin typeface="Arial"/>
            </a:endParaRPr>
          </a:p>
        </p:txBody>
      </p:sp>
      <p:sp>
        <p:nvSpPr>
          <p:cNvPr id="505"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Infectious Diseases Society of America/American Thoracic Society Consensus Guidelines on the Management of Community-Acquired Pneumonia in Adults</a:t>
            </a:r>
            <a:endParaRPr b="0" lang="en-US" sz="2800" spc="-1" strike="noStrike">
              <a:solidFill>
                <a:srgbClr val="ffffff"/>
              </a:solidFill>
              <a:latin typeface="Arial"/>
            </a:endParaRPr>
          </a:p>
        </p:txBody>
      </p:sp>
      <p:pic>
        <p:nvPicPr>
          <p:cNvPr id="50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2819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0"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hospitalized patients can be treated with either a respiratory fluoroquinolone or a combination of cephalosporin and a macrol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2" name=""/>
          <p:cNvSpPr txBox="1"/>
          <p:nvPr/>
        </p:nvSpPr>
        <p:spPr>
          <a:xfrm>
            <a:off x="914400" y="1784520"/>
            <a:ext cx="7772400" cy="3854160"/>
          </a:xfrm>
          <a:prstGeom prst="rect">
            <a:avLst/>
          </a:prstGeom>
          <a:noFill/>
          <a:ln w="0">
            <a:noFill/>
          </a:ln>
        </p:spPr>
        <p:txBody>
          <a:bodyPr anchor="t">
            <a:normAutofit fontScale="80000"/>
          </a:bodyPr>
          <a:p>
            <a:pPr marL="54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54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antibiotic should be based on the presence of multiple risk factors </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risks (e.g., structural lung disease)</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quely characteristic syndromes (e.g., the toxin-mediated</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acquired, methicillin-resistant Staphylococcus aureus syndrome).</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antibiotic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4"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three or more minor criteria for severe community-acquired pneumonia (e.g., elevated blood urea nitrogen, confusion, and a high respiratory rate) should receive extensive intervention in the emergency department and be considered for admission to the intensive care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6" name=""/>
          <p:cNvSpPr txBox="1"/>
          <p:nvPr/>
        </p:nvSpPr>
        <p:spPr>
          <a:xfrm>
            <a:off x="914400" y="1784520"/>
            <a:ext cx="7772400" cy="3854160"/>
          </a:xfrm>
          <a:prstGeom prst="rect">
            <a:avLst/>
          </a:prstGeom>
          <a:noFill/>
          <a:ln w="0">
            <a:noFill/>
          </a:ln>
        </p:spPr>
        <p:txBody>
          <a:bodyPr anchor="t">
            <a:normAutofit fontScale="91000"/>
          </a:bodyPr>
          <a:p>
            <a:pPr marL="61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triad accurately identifies a patient with community-acquired pneumonia</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of infection (fever or chills and leukocytosis), </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or symptoms localized to the respiratory system (cough, increased sputum production, shortness of breath, chest pain, or abnormal pulmonary examination), and </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w or changed infiltrate in xr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Dr.Zohair</cp:lastModifiedBy>
  <dcterms:modified xsi:type="dcterms:W3CDTF">2015-08-30T09:34:23Z</dcterms:modified>
  <cp:revision>182</cp:revision>
  <dc:subject/>
  <dc:title>Slide 1</dc:title>
</cp:coreProperties>
</file>