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0.xml" ContentType="application/vnd.openxmlformats-officedocument.presentationml.notesSlide+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61.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35.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8000" y="0"/>
            <a:ext cx="3043080" cy="46512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430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8000" y="8842320"/>
            <a:ext cx="304308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5ADA-568C-4AF6-B372-2005B9074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84400" y="698400"/>
            <a:ext cx="4654440" cy="3490920"/>
          </a:xfrm>
          <a:prstGeom prst="rect">
            <a:avLst/>
          </a:prstGeom>
          <a:ln w="0">
            <a:noFill/>
          </a:ln>
        </p:spPr>
      </p:sp>
      <p:sp>
        <p:nvSpPr>
          <p:cNvPr id="76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7E3BB-7701-4CF0-9813-484C982A6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84400" y="698400"/>
            <a:ext cx="4654440" cy="3490920"/>
          </a:xfrm>
          <a:prstGeom prst="rect">
            <a:avLst/>
          </a:prstGeom>
          <a:ln w="0">
            <a:noFill/>
          </a:ln>
        </p:spPr>
      </p:sp>
      <p:sp>
        <p:nvSpPr>
          <p:cNvPr id="77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122EB-D6D0-46C5-938C-AA9F26ABA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84400" y="698400"/>
            <a:ext cx="4654440" cy="3490920"/>
          </a:xfrm>
          <a:prstGeom prst="rect">
            <a:avLst/>
          </a:prstGeom>
          <a:ln w="0">
            <a:noFill/>
          </a:ln>
        </p:spPr>
      </p:sp>
      <p:sp>
        <p:nvSpPr>
          <p:cNvPr id="77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EFBC-0724-43EB-9388-CABBE83BB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84400" y="698400"/>
            <a:ext cx="4654440" cy="3490920"/>
          </a:xfrm>
          <a:prstGeom prst="rect">
            <a:avLst/>
          </a:prstGeom>
          <a:ln w="0">
            <a:noFill/>
          </a:ln>
        </p:spPr>
      </p:sp>
      <p:sp>
        <p:nvSpPr>
          <p:cNvPr id="77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093CD-33E2-4594-9723-513C14FF5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84400" y="698400"/>
            <a:ext cx="4654440" cy="3490920"/>
          </a:xfrm>
          <a:prstGeom prst="rect">
            <a:avLst/>
          </a:prstGeom>
          <a:ln w="0">
            <a:noFill/>
          </a:ln>
        </p:spPr>
      </p:sp>
      <p:sp>
        <p:nvSpPr>
          <p:cNvPr id="77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D7D6-13F5-4312-A02F-4306A5B24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84400" y="698400"/>
            <a:ext cx="4654440" cy="3490920"/>
          </a:xfrm>
          <a:prstGeom prst="rect">
            <a:avLst/>
          </a:prstGeom>
          <a:ln w="0">
            <a:noFill/>
          </a:ln>
        </p:spPr>
      </p:sp>
      <p:sp>
        <p:nvSpPr>
          <p:cNvPr id="78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F51D-D594-4D9F-BF64-36340C87A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84400" y="698400"/>
            <a:ext cx="4654440" cy="3490920"/>
          </a:xfrm>
          <a:prstGeom prst="rect">
            <a:avLst/>
          </a:prstGeom>
          <a:ln w="0">
            <a:noFill/>
          </a:ln>
        </p:spPr>
      </p:sp>
      <p:sp>
        <p:nvSpPr>
          <p:cNvPr id="78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9B5E8-7EB9-4918-A328-190794BFA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84400" y="698400"/>
            <a:ext cx="4654440" cy="3490920"/>
          </a:xfrm>
          <a:prstGeom prst="rect">
            <a:avLst/>
          </a:prstGeom>
          <a:ln w="0">
            <a:noFill/>
          </a:ln>
        </p:spPr>
      </p:sp>
      <p:sp>
        <p:nvSpPr>
          <p:cNvPr id="78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D220-3E31-4B0D-94BD-8658C4F1D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84400" y="698400"/>
            <a:ext cx="4654440" cy="3490920"/>
          </a:xfrm>
          <a:prstGeom prst="rect">
            <a:avLst/>
          </a:prstGeom>
          <a:ln w="0">
            <a:noFill/>
          </a:ln>
        </p:spPr>
      </p:sp>
      <p:sp>
        <p:nvSpPr>
          <p:cNvPr id="79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B9EE-BCA2-4F51-973F-FE0BFAFB7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84400" y="698400"/>
            <a:ext cx="4654440" cy="3490920"/>
          </a:xfrm>
          <a:prstGeom prst="rect">
            <a:avLst/>
          </a:prstGeom>
          <a:ln w="0">
            <a:noFill/>
          </a:ln>
        </p:spPr>
      </p:sp>
      <p:sp>
        <p:nvSpPr>
          <p:cNvPr id="79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F80B-F80F-43C1-AAF1-C12649AD4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84400" y="698400"/>
            <a:ext cx="4654440" cy="3490920"/>
          </a:xfrm>
          <a:prstGeom prst="rect">
            <a:avLst/>
          </a:prstGeom>
          <a:ln w="0">
            <a:noFill/>
          </a:ln>
        </p:spPr>
      </p:sp>
      <p:sp>
        <p:nvSpPr>
          <p:cNvPr id="79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436B-931A-48FB-8330-A32E300D3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84400" y="698400"/>
            <a:ext cx="4654440" cy="3490920"/>
          </a:xfrm>
          <a:prstGeom prst="rect">
            <a:avLst/>
          </a:prstGeom>
          <a:ln w="0">
            <a:noFill/>
          </a:ln>
        </p:spPr>
      </p:sp>
      <p:sp>
        <p:nvSpPr>
          <p:cNvPr id="80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0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FF4F-2CB7-42A2-8B5D-DD792A5BE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84400" y="698400"/>
            <a:ext cx="4654440" cy="3490920"/>
          </a:xfrm>
          <a:prstGeom prst="rect">
            <a:avLst/>
          </a:prstGeom>
          <a:ln w="0">
            <a:noFill/>
          </a:ln>
        </p:spPr>
      </p:sp>
      <p:sp>
        <p:nvSpPr>
          <p:cNvPr id="80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0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3116C-2DFB-4960-939C-D2A0DB9DA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84400" y="698400"/>
            <a:ext cx="4654440" cy="3490920"/>
          </a:xfrm>
          <a:prstGeom prst="rect">
            <a:avLst/>
          </a:prstGeom>
          <a:ln w="0">
            <a:noFill/>
          </a:ln>
        </p:spPr>
      </p:sp>
      <p:sp>
        <p:nvSpPr>
          <p:cNvPr id="80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0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3675D-7785-4F9A-A689-522053E9B4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84400" y="698400"/>
            <a:ext cx="4654440" cy="3490920"/>
          </a:xfrm>
          <a:prstGeom prst="rect">
            <a:avLst/>
          </a:prstGeom>
          <a:ln w="0">
            <a:noFill/>
          </a:ln>
        </p:spPr>
      </p:sp>
      <p:sp>
        <p:nvSpPr>
          <p:cNvPr id="80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1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DAFA-631F-490C-A6F5-4FCDC9D56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84400" y="698400"/>
            <a:ext cx="4654440" cy="3490920"/>
          </a:xfrm>
          <a:prstGeom prst="rect">
            <a:avLst/>
          </a:prstGeom>
          <a:ln w="0">
            <a:noFill/>
          </a:ln>
        </p:spPr>
      </p:sp>
      <p:sp>
        <p:nvSpPr>
          <p:cNvPr id="81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1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268EA-B48C-4BFB-A4AE-96865DA2D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84400" y="698400"/>
            <a:ext cx="4654440" cy="3490920"/>
          </a:xfrm>
          <a:prstGeom prst="rect">
            <a:avLst/>
          </a:prstGeom>
          <a:ln w="0">
            <a:noFill/>
          </a:ln>
        </p:spPr>
      </p:sp>
      <p:sp>
        <p:nvSpPr>
          <p:cNvPr id="81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1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F04E-0B2C-4828-B50D-3015E390A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84400" y="698400"/>
            <a:ext cx="4654440" cy="3490920"/>
          </a:xfrm>
          <a:prstGeom prst="rect">
            <a:avLst/>
          </a:prstGeom>
          <a:ln w="0">
            <a:noFill/>
          </a:ln>
        </p:spPr>
      </p:sp>
      <p:sp>
        <p:nvSpPr>
          <p:cNvPr id="81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1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1ECB1-7CFF-40D1-9953-D55C48E65E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4400" y="698400"/>
            <a:ext cx="4654440" cy="3490920"/>
          </a:xfrm>
          <a:prstGeom prst="rect">
            <a:avLst/>
          </a:prstGeom>
          <a:ln w="0">
            <a:noFill/>
          </a:ln>
        </p:spPr>
      </p:sp>
      <p:sp>
        <p:nvSpPr>
          <p:cNvPr id="82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2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69F86-3161-4508-85C3-63755733C5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84400" y="698400"/>
            <a:ext cx="4654440" cy="3490920"/>
          </a:xfrm>
          <a:prstGeom prst="rect">
            <a:avLst/>
          </a:prstGeom>
          <a:ln w="0">
            <a:noFill/>
          </a:ln>
        </p:spPr>
      </p:sp>
      <p:sp>
        <p:nvSpPr>
          <p:cNvPr id="82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2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0CF3-D49B-4B3F-93F2-D3B2F751F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4400" y="698400"/>
            <a:ext cx="4654440" cy="3490920"/>
          </a:xfrm>
          <a:prstGeom prst="rect">
            <a:avLst/>
          </a:prstGeom>
          <a:ln w="0">
            <a:noFill/>
          </a:ln>
        </p:spPr>
      </p:sp>
      <p:sp>
        <p:nvSpPr>
          <p:cNvPr id="82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2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3AFC-0C6F-429E-8CFC-323B3A755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4400" y="698400"/>
            <a:ext cx="4654440" cy="3490920"/>
          </a:xfrm>
          <a:prstGeom prst="rect">
            <a:avLst/>
          </a:prstGeom>
          <a:ln w="0">
            <a:noFill/>
          </a:ln>
        </p:spPr>
      </p:sp>
      <p:sp>
        <p:nvSpPr>
          <p:cNvPr id="83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3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4D0C5-0DFB-4957-9E7D-AB3592798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4400" y="698400"/>
            <a:ext cx="4654440" cy="3490920"/>
          </a:xfrm>
          <a:prstGeom prst="rect">
            <a:avLst/>
          </a:prstGeom>
          <a:ln w="0">
            <a:noFill/>
          </a:ln>
        </p:spPr>
      </p:sp>
      <p:sp>
        <p:nvSpPr>
          <p:cNvPr id="83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3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9E969-4585-4551-AAE2-CB091DEBA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84400" y="698400"/>
            <a:ext cx="4654440" cy="3490920"/>
          </a:xfrm>
          <a:prstGeom prst="rect">
            <a:avLst/>
          </a:prstGeom>
          <a:ln w="0">
            <a:noFill/>
          </a:ln>
        </p:spPr>
      </p:sp>
      <p:sp>
        <p:nvSpPr>
          <p:cNvPr id="83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3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7103-EE75-459A-88CE-9868A6FEC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4400" y="698400"/>
            <a:ext cx="4654440" cy="3490920"/>
          </a:xfrm>
          <a:prstGeom prst="rect">
            <a:avLst/>
          </a:prstGeom>
          <a:ln w="0">
            <a:noFill/>
          </a:ln>
        </p:spPr>
      </p:sp>
      <p:sp>
        <p:nvSpPr>
          <p:cNvPr id="83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4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9C971-2ADA-42D6-A17C-77822160D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84400" y="698400"/>
            <a:ext cx="4654440" cy="3490920"/>
          </a:xfrm>
          <a:prstGeom prst="rect">
            <a:avLst/>
          </a:prstGeom>
          <a:ln w="0">
            <a:noFill/>
          </a:ln>
        </p:spPr>
      </p:sp>
      <p:sp>
        <p:nvSpPr>
          <p:cNvPr id="84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4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2F70B-90F0-4AB8-A65E-A2CA47F84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4400" y="698400"/>
            <a:ext cx="4654440" cy="3490920"/>
          </a:xfrm>
          <a:prstGeom prst="rect">
            <a:avLst/>
          </a:prstGeom>
          <a:ln w="0">
            <a:noFill/>
          </a:ln>
        </p:spPr>
      </p:sp>
      <p:sp>
        <p:nvSpPr>
          <p:cNvPr id="84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4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BC3F-CAF4-4931-8CFC-A6AA46A2E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84400" y="698400"/>
            <a:ext cx="4654440" cy="3490920"/>
          </a:xfrm>
          <a:prstGeom prst="rect">
            <a:avLst/>
          </a:prstGeom>
          <a:ln w="0">
            <a:noFill/>
          </a:ln>
        </p:spPr>
      </p:sp>
      <p:sp>
        <p:nvSpPr>
          <p:cNvPr id="84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4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6AE2B-7037-4A98-B5BD-488F48738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84400" y="698400"/>
            <a:ext cx="4654440" cy="3490920"/>
          </a:xfrm>
          <a:prstGeom prst="rect">
            <a:avLst/>
          </a:prstGeom>
          <a:ln w="0">
            <a:noFill/>
          </a:ln>
        </p:spPr>
      </p:sp>
      <p:sp>
        <p:nvSpPr>
          <p:cNvPr id="85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5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59DF-39D3-4AD9-B0D7-14D0881E3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BA2D6-A4B8-49D5-B495-C455736E2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55497-29A6-4DFD-8627-C3D8CCA78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F28CF-16C0-4F38-A237-3193E13C8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AB5BC-F7FC-4632-B4FB-00735BDD6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86095-B394-4508-B0C7-26E85DBAC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4E6E9-103F-4E57-96D0-EA2E1EB38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D1C72-82FF-47E6-A878-123A09D6E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568A2-5E4C-467A-979B-38A703044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C74E7-BA70-4174-89E4-5F5D9A322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93FE5-FB19-428A-8884-8E18C05A1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BB24C-014C-4D7C-A1BC-81E2DB843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05EEB-EAF2-4D7C-99CE-E10638F73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BF05-54B8-4373-8AC4-E2896965BA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5000760" y="203400"/>
            <a:ext cx="40734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7"/>
          <p:cNvSpPr/>
          <p:nvPr/>
        </p:nvSpPr>
        <p:spPr>
          <a:xfrm>
            <a:off x="714240" y="1357200"/>
            <a:ext cx="7704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Foundations of Community Health Nursing </a:t>
            </a:r>
            <a:endParaRPr b="0" lang="en-US" sz="4000" spc="-1" strike="noStrike">
              <a:solidFill>
                <a:srgbClr val="000000"/>
              </a:solidFill>
              <a:latin typeface="Arial"/>
            </a:endParaRPr>
          </a:p>
        </p:txBody>
      </p:sp>
      <p:sp>
        <p:nvSpPr>
          <p:cNvPr id="5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Group 6"/>
          <p:cNvGrpSpPr/>
          <p:nvPr/>
        </p:nvGrpSpPr>
        <p:grpSpPr>
          <a:xfrm>
            <a:off x="8648640" y="498600"/>
            <a:ext cx="306360" cy="122040"/>
            <a:chOff x="8648640" y="498600"/>
            <a:chExt cx="306360" cy="122040"/>
          </a:xfrm>
        </p:grpSpPr>
        <p:sp>
          <p:nvSpPr>
            <p:cNvPr id="14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5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TextBox 14"/>
          <p:cNvSpPr/>
          <p:nvPr/>
        </p:nvSpPr>
        <p:spPr>
          <a:xfrm>
            <a:off x="285840" y="157176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Many different professionals work in community health to form a complex team. The city planner designing an urban renewal project necessarily becomes involved in community health. The social worker providing counseling about child abuse or the use of chemical substances among adolescents is involved in community health. A physician treating clients affected by a sudden outbreak of hepatitis and seeking to find the source is engaged in community health practice. Prenatal clinics, meals for the elderly, genetic counseling centers, and educational programs for the early detection of cancer all are part of the community health eff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6"/>
          <p:cNvGrpSpPr/>
          <p:nvPr/>
        </p:nvGrpSpPr>
        <p:grpSpPr>
          <a:xfrm>
            <a:off x="8648640" y="498600"/>
            <a:ext cx="306360" cy="122040"/>
            <a:chOff x="8648640" y="498600"/>
            <a:chExt cx="306360" cy="122040"/>
          </a:xfrm>
        </p:grpSpPr>
        <p:sp>
          <p:nvSpPr>
            <p:cNvPr id="1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6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TextBox 14"/>
          <p:cNvSpPr/>
          <p:nvPr/>
        </p:nvSpPr>
        <p:spPr>
          <a:xfrm>
            <a:off x="285840" y="157176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e professional nurse is an integral member of this team, a linchpin and a liaison between physicians, social workers, government officials, and law enforcement officers. Community health nurses work in every conceivable kind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munity agency, from a state public health department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community-based advocacy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6"/>
          <p:cNvGrpSpPr/>
          <p:nvPr/>
        </p:nvGrpSpPr>
        <p:grpSpPr>
          <a:xfrm>
            <a:off x="8648640" y="498600"/>
            <a:ext cx="306360" cy="122040"/>
            <a:chOff x="8648640" y="498600"/>
            <a:chExt cx="306360" cy="122040"/>
          </a:xfrm>
        </p:grpSpPr>
        <p:sp>
          <p:nvSpPr>
            <p:cNvPr id="17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7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TextBox 14"/>
          <p:cNvSpPr/>
          <p:nvPr/>
        </p:nvSpPr>
        <p:spPr>
          <a:xfrm>
            <a:off x="285840" y="164304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eir duties range from examining infants in a well-baby clinic, or teaching elderly stroke victims in their homes, to carrying out epidemiologic research or engaging in health policy analysis and decision mak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Despite its breadth, however, community health nursing is a specialized practice. It combines all of the basic elements of professional clinical nursing with public health and community pract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Group 6"/>
          <p:cNvGrpSpPr/>
          <p:nvPr/>
        </p:nvGrpSpPr>
        <p:grpSpPr>
          <a:xfrm>
            <a:off x="8648640" y="498600"/>
            <a:ext cx="306360" cy="122040"/>
            <a:chOff x="8648640" y="498600"/>
            <a:chExt cx="306360" cy="122040"/>
          </a:xfrm>
        </p:grpSpPr>
        <p:sp>
          <p:nvSpPr>
            <p:cNvPr id="1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8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TextBox 14"/>
          <p:cNvSpPr/>
          <p:nvPr/>
        </p:nvSpPr>
        <p:spPr>
          <a:xfrm>
            <a:off x="285840" y="164304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munity health and public health share many feat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Both are organized community efforts aimed at the promotion, protection, and preservation of the public’s health. Historically, as a field of practice, public health has been associated primarily with the efforts of official or government entities—for example, federal, state, or local tax supported health agencies that target the whole range of health issues. In contrast, private health efforts, such as those of the American Lung Association or the American Cancer Society, work toward solving selected health problems. The latter augments the former. Currently, public health practice encompasses both approaches and works collaboratively with all health agencies and efforts, public or private, that are concerned with the  public’s heal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Group 6"/>
          <p:cNvGrpSpPr/>
          <p:nvPr/>
        </p:nvGrpSpPr>
        <p:grpSpPr>
          <a:xfrm>
            <a:off x="8648640" y="498600"/>
            <a:ext cx="306360" cy="122040"/>
            <a:chOff x="8648640" y="498600"/>
            <a:chExt cx="306360" cy="122040"/>
          </a:xfrm>
        </p:grpSpPr>
        <p:sp>
          <p:nvSpPr>
            <p:cNvPr id="19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9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TextBox 14"/>
          <p:cNvSpPr/>
          <p:nvPr/>
        </p:nvSpPr>
        <p:spPr>
          <a:xfrm>
            <a:off x="285840" y="1643040"/>
            <a:ext cx="8643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ublic health is the science and art of preventing  disease, prolonging life, and promoting health and efficiency through organized community efforts for the sanitation of the environment, the control of communicable infections,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ducation of the individual in personal hygiene, the organization of medical and nursing services for the early diagnosis and preventive treatment of disease, and the development of the social machinery to insure everyone a standard of living adequate for the maintenance of health, 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rganizing these benefits as to enable every citizen to realize his birthright of health and longevity (Pickett &amp; Hanlon, 1990, p.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2" name="Group 6"/>
          <p:cNvGrpSpPr/>
          <p:nvPr/>
        </p:nvGrpSpPr>
        <p:grpSpPr>
          <a:xfrm>
            <a:off x="8648640" y="498600"/>
            <a:ext cx="306360" cy="122040"/>
            <a:chOff x="8648640" y="498600"/>
            <a:chExt cx="306360" cy="122040"/>
          </a:xfrm>
        </p:grpSpPr>
        <p:sp>
          <p:nvSpPr>
            <p:cNvPr id="20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20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Box 14"/>
          <p:cNvSpPr/>
          <p:nvPr/>
        </p:nvSpPr>
        <p:spPr>
          <a:xfrm>
            <a:off x="285840" y="1643040"/>
            <a:ext cx="864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Community health is the </a:t>
            </a:r>
            <a:r>
              <a:rPr b="0" lang="en-US" sz="2400" spc="-1" strike="noStrike">
                <a:solidFill>
                  <a:srgbClr val="000000"/>
                </a:solidFill>
                <a:latin typeface="Tempus Sans ITC"/>
              </a:rPr>
              <a:t>identification of needs and the protection and improvement of collective health within a geographically defined ar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Group 6"/>
          <p:cNvGrpSpPr/>
          <p:nvPr/>
        </p:nvGrpSpPr>
        <p:grpSpPr>
          <a:xfrm>
            <a:off x="8648640" y="498600"/>
            <a:ext cx="306360" cy="122040"/>
            <a:chOff x="8648640" y="498600"/>
            <a:chExt cx="306360" cy="122040"/>
          </a:xfrm>
        </p:grpSpPr>
        <p:sp>
          <p:nvSpPr>
            <p:cNvPr id="2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2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Box 14"/>
          <p:cNvSpPr/>
          <p:nvPr/>
        </p:nvSpPr>
        <p:spPr>
          <a:xfrm>
            <a:off x="285840" y="164304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ne of the challenges community health practice faces is to remain responsive to the community’s health needs. As a result, its structure is complex; numerous health services and programs are currently available or will be developed. Examples include health education, family planning, accid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prevention, environmental protection, immunization, nutrition, early periodic screening and developmental testing, school programs, mental health services, occupational health programs, and the care of vulnerable populations. A community health and safety service developed in the  aftermath of the terrorist attack on New York City and Washington, DC, on September 11, 2001, is the Department of Homeland Secu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6" name="Group 6"/>
          <p:cNvGrpSpPr/>
          <p:nvPr/>
        </p:nvGrpSpPr>
        <p:grpSpPr>
          <a:xfrm>
            <a:off x="8648640" y="498600"/>
            <a:ext cx="306360" cy="122040"/>
            <a:chOff x="8648640" y="498600"/>
            <a:chExt cx="306360" cy="122040"/>
          </a:xfrm>
        </p:grpSpPr>
        <p:sp>
          <p:nvSpPr>
            <p:cNvPr id="22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COMMUNITY</a:t>
            </a:r>
            <a:r>
              <a:rPr b="1" lang="en-US" sz="3200" spc="-1" strike="noStrike">
                <a:solidFill>
                  <a:srgbClr val="000000"/>
                </a:solidFill>
                <a:latin typeface="Tempus Sans ITC"/>
              </a:rPr>
              <a:t> </a:t>
            </a:r>
            <a:r>
              <a:rPr b="1" lang="en-US" sz="3200" spc="-1" strike="noStrike">
                <a:solidFill>
                  <a:srgbClr val="000000"/>
                </a:solidFill>
                <a:latin typeface="Tempus Sans ITC"/>
              </a:rPr>
              <a:t> </a:t>
            </a:r>
            <a:endParaRPr b="0" lang="en-US" sz="3200" spc="-1" strike="noStrike">
              <a:solidFill>
                <a:srgbClr val="000000"/>
              </a:solidFill>
              <a:latin typeface="Arial"/>
            </a:endParaRPr>
          </a:p>
        </p:txBody>
      </p:sp>
      <p:sp>
        <p:nvSpPr>
          <p:cNvPr id="23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TextBox 14"/>
          <p:cNvSpPr/>
          <p:nvPr/>
        </p:nvSpPr>
        <p:spPr>
          <a:xfrm>
            <a:off x="285840" y="164304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 </a:t>
            </a:r>
            <a:r>
              <a:rPr b="0" lang="en-US" sz="2400" spc="-1" strike="noStrike">
                <a:solidFill>
                  <a:srgbClr val="000000"/>
                </a:solidFill>
                <a:latin typeface="Tempus Sans ITC"/>
              </a:rPr>
              <a:t>A community is a collection of people who share some important feature of their live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 </a:t>
            </a:r>
            <a:r>
              <a:rPr b="0" lang="en-US" sz="2400" spc="-1" strike="noStrike">
                <a:solidFill>
                  <a:srgbClr val="000000"/>
                </a:solidFill>
                <a:latin typeface="Tempus Sans ITC"/>
              </a:rPr>
              <a:t>A collection of people who interact with one another and whose common interests or characteristics form the basis for a sense of unity or belonging. It can be a socie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f people holding common rights and privileges (eg, citize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f a town), sharing common interests (eg, a community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farmers), or living under the same laws and regulations (e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prison community).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e function of any community includes its members’  collective sense of belonging and their shared identity, values, norms, communication, and common interests and concer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 name="Group 6"/>
          <p:cNvGrpSpPr/>
          <p:nvPr/>
        </p:nvGrpSpPr>
        <p:grpSpPr>
          <a:xfrm>
            <a:off x="8648640" y="498600"/>
            <a:ext cx="306360" cy="122040"/>
            <a:chOff x="8648640" y="498600"/>
            <a:chExt cx="306360" cy="122040"/>
          </a:xfrm>
        </p:grpSpPr>
        <p:sp>
          <p:nvSpPr>
            <p:cNvPr id="2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Geographic  Community </a:t>
            </a:r>
            <a:endParaRPr b="0" lang="en-US" sz="3200" spc="-1" strike="noStrike">
              <a:solidFill>
                <a:srgbClr val="000000"/>
              </a:solidFill>
              <a:latin typeface="Arial"/>
            </a:endParaRPr>
          </a:p>
        </p:txBody>
      </p:sp>
      <p:sp>
        <p:nvSpPr>
          <p:cNvPr id="2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TextBox 14"/>
          <p:cNvSpPr/>
          <p:nvPr/>
        </p:nvSpPr>
        <p:spPr>
          <a:xfrm>
            <a:off x="285840" y="1357200"/>
            <a:ext cx="864396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community often is defined by its geographic boundar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nd thus is called a </a:t>
            </a:r>
            <a:r>
              <a:rPr b="1" lang="en-US" sz="2400" spc="-1" strike="noStrike">
                <a:solidFill>
                  <a:srgbClr val="000000"/>
                </a:solidFill>
                <a:latin typeface="Tempus Sans ITC"/>
              </a:rPr>
              <a:t>geographic community. A city, town, 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neighborhood is a geographic commun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e population has certain identifiable characteristics, such 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ge and sex ratios, and its size fluctuates with the seas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Riady is a social system as well as a geographic lo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e families, schools, hospital, </a:t>
            </a:r>
            <a:r>
              <a:rPr b="1" lang="en-US" sz="2400" spc="-1" strike="noStrike">
                <a:solidFill>
                  <a:srgbClr val="000000"/>
                </a:solidFill>
                <a:latin typeface="Tempus Sans ITC"/>
              </a:rPr>
              <a:t>masques</a:t>
            </a:r>
            <a:r>
              <a:rPr b="0" lang="en-US" sz="2400" spc="-1" strike="noStrike">
                <a:solidFill>
                  <a:srgbClr val="000000"/>
                </a:solidFill>
                <a:latin typeface="Tempus Sans ITC"/>
              </a:rPr>
              <a:t>, stores, and government institutions are linked in a complex network. This community, like others, has an informal power structure. It has a communication system that includes gossip, the newspap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e “co-op” store bulletin board, and the radio st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In one sense, then, a community consists of a collection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people located in a specific place and is made up of  institutions organized into a social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6"/>
          <p:cNvGrpSpPr/>
          <p:nvPr/>
        </p:nvGrpSpPr>
        <p:grpSpPr>
          <a:xfrm>
            <a:off x="8648640" y="498600"/>
            <a:ext cx="306360" cy="122040"/>
            <a:chOff x="8648640" y="498600"/>
            <a:chExt cx="306360" cy="122040"/>
          </a:xfrm>
        </p:grpSpPr>
        <p:sp>
          <p:nvSpPr>
            <p:cNvPr id="2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Common-Interest Community</a:t>
            </a:r>
            <a:endParaRPr b="0" lang="en-US" sz="3200" spc="-1" strike="noStrike">
              <a:solidFill>
                <a:srgbClr val="000000"/>
              </a:solidFill>
              <a:latin typeface="Arial"/>
            </a:endParaRPr>
          </a:p>
        </p:txBody>
      </p:sp>
      <p:sp>
        <p:nvSpPr>
          <p:cNvPr id="2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community also can be identified by a common interest 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goal. A collection of people, even if they are widely scatte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geographically, can have an interest or goal that binds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members togeth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Exam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e members of a national professional organiz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women who have had mastectomies are all common-intere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m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6"/>
          <p:cNvGrpSpPr/>
          <p:nvPr/>
        </p:nvGrpSpPr>
        <p:grpSpPr>
          <a:xfrm>
            <a:off x="8648640" y="498600"/>
            <a:ext cx="306360" cy="122040"/>
            <a:chOff x="8648640" y="498600"/>
            <a:chExt cx="306360" cy="122040"/>
          </a:xfrm>
        </p:grpSpPr>
        <p:sp>
          <p:nvSpPr>
            <p:cNvPr id="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Text Box 17"/>
          <p:cNvSpPr/>
          <p:nvPr/>
        </p:nvSpPr>
        <p:spPr>
          <a:xfrm>
            <a:off x="714240" y="1357200"/>
            <a:ext cx="7704360" cy="531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Chapter One</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1</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Opportunities and Challenges of Community Health Nursing</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What is Community Health Nursing   </a:t>
            </a:r>
            <a:endParaRPr b="0" lang="en-US" sz="4000" spc="-1" strike="noStrike">
              <a:solidFill>
                <a:srgbClr val="000000"/>
              </a:solidFill>
              <a:latin typeface="Arial"/>
            </a:endParaRPr>
          </a:p>
        </p:txBody>
      </p:sp>
      <p:sp>
        <p:nvSpPr>
          <p:cNvPr id="68" name="Text Box 19"/>
          <p:cNvSpPr/>
          <p:nvPr/>
        </p:nvSpPr>
        <p:spPr>
          <a:xfrm>
            <a:off x="684360" y="4357800"/>
            <a:ext cx="77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 name="Group 6"/>
          <p:cNvGrpSpPr/>
          <p:nvPr/>
        </p:nvGrpSpPr>
        <p:grpSpPr>
          <a:xfrm>
            <a:off x="8648640" y="498600"/>
            <a:ext cx="306360" cy="122040"/>
            <a:chOff x="8648640" y="498600"/>
            <a:chExt cx="306360" cy="122040"/>
          </a:xfrm>
        </p:grpSpPr>
        <p:sp>
          <p:nvSpPr>
            <p:cNvPr id="2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Community of Solution</a:t>
            </a:r>
            <a:endParaRPr b="0" lang="en-US" sz="3200" spc="-1" strike="noStrike">
              <a:solidFill>
                <a:srgbClr val="000000"/>
              </a:solidFill>
              <a:latin typeface="Arial"/>
            </a:endParaRPr>
          </a:p>
        </p:txBody>
      </p:sp>
      <p:sp>
        <p:nvSpPr>
          <p:cNvPr id="26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type of community encountered frequently in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health practice is a group of people who come together to solve a problem that affects all of them. The shape of this community varies with the nature of the problem, the size of the geographic area affected, and the number of resources needed to address the problem. Such a community has been called a </a:t>
            </a:r>
            <a:r>
              <a:rPr b="1" lang="en-US" sz="2400" spc="-1" strike="noStrike">
                <a:solidFill>
                  <a:srgbClr val="000000"/>
                </a:solidFill>
                <a:latin typeface="Tempus Sans ITC"/>
              </a:rPr>
              <a:t>community of sol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Exam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water pollution problem may involve several counties whose agencies and personnel must work together to control upstream water supply, industrial waste disposal, and city water treat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 name="Group 6"/>
          <p:cNvGrpSpPr/>
          <p:nvPr/>
        </p:nvGrpSpPr>
        <p:grpSpPr>
          <a:xfrm>
            <a:off x="8648640" y="498600"/>
            <a:ext cx="306360" cy="122040"/>
            <a:chOff x="8648640" y="498600"/>
            <a:chExt cx="306360" cy="122040"/>
          </a:xfrm>
        </p:grpSpPr>
        <p:sp>
          <p:nvSpPr>
            <p:cNvPr id="2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Populations and Aggregates</a:t>
            </a:r>
            <a:endParaRPr b="0" lang="en-US" sz="3200" spc="-1" strike="noStrike">
              <a:solidFill>
                <a:srgbClr val="000000"/>
              </a:solidFill>
              <a:latin typeface="Arial"/>
            </a:endParaRPr>
          </a:p>
        </p:txBody>
      </p:sp>
      <p:sp>
        <p:nvSpPr>
          <p:cNvPr id="28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TextBox 14"/>
          <p:cNvSpPr/>
          <p:nvPr/>
        </p:nvSpPr>
        <p:spPr>
          <a:xfrm>
            <a:off x="285840" y="135720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population refers to all of the people occupying 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rea, or to all of those who share one or population may  more characteristic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be defined geographically, such as the population of the United States or a city’s population. This designation of a population is useful in community health for epidemiologic study and for collecting demographic data f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purposes such as health plann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population also may be defined by common qualities or characteristics, such as the elderly population or the homeless population. In community health, this meaning becomes useful when a specific group of people (eg, homeless individuals) is targeted for intervention: the population’s common  characteristics (eg, the health-related problems of  homelessness) become a major focus of the interven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Group 6"/>
          <p:cNvGrpSpPr/>
          <p:nvPr/>
        </p:nvGrpSpPr>
        <p:grpSpPr>
          <a:xfrm>
            <a:off x="8648640" y="498600"/>
            <a:ext cx="306360" cy="122040"/>
            <a:chOff x="8648640" y="498600"/>
            <a:chExt cx="306360" cy="122040"/>
          </a:xfrm>
        </p:grpSpPr>
        <p:sp>
          <p:nvSpPr>
            <p:cNvPr id="2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Populations and Aggregates</a:t>
            </a:r>
            <a:endParaRPr b="0" lang="en-US" sz="3200" spc="-1" strike="noStrike">
              <a:solidFill>
                <a:srgbClr val="000000"/>
              </a:solidFill>
              <a:latin typeface="Arial"/>
            </a:endParaRPr>
          </a:p>
        </p:txBody>
      </p:sp>
      <p:sp>
        <p:nvSpPr>
          <p:cNvPr id="29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Aggregate refers to a mass or grouping </a:t>
            </a:r>
            <a:r>
              <a:rPr b="0" lang="en-US" sz="2400" spc="-1" strike="noStrike">
                <a:solidFill>
                  <a:srgbClr val="000000"/>
                </a:solidFill>
                <a:latin typeface="Tempus Sans ITC"/>
              </a:rPr>
              <a:t>of distinct individuals who are considered as a whole and who are loosely associated with one anoth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It is a broader term that encompasses many different-sized groups. Both communities and populations are types of aggregates. The aggregate focus, or a concern for groupings of people in contrast to individual health care, becomes a distinguishing feature of community health pract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6"/>
          <p:cNvGrpSpPr/>
          <p:nvPr/>
        </p:nvGrpSpPr>
        <p:grpSpPr>
          <a:xfrm>
            <a:off x="8648640" y="498600"/>
            <a:ext cx="306360" cy="122040"/>
            <a:chOff x="8648640" y="498600"/>
            <a:chExt cx="306360" cy="122040"/>
          </a:xfrm>
        </p:grpSpPr>
        <p:sp>
          <p:nvSpPr>
            <p:cNvPr id="29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HEAL</a:t>
            </a:r>
            <a:r>
              <a:rPr b="0" lang="en-US" sz="3200" spc="-1" strike="noStrike">
                <a:solidFill>
                  <a:srgbClr val="000000"/>
                </a:solidFill>
                <a:latin typeface="Arial"/>
              </a:rPr>
              <a:t>TH</a:t>
            </a:r>
            <a:endParaRPr b="0" lang="en-US" sz="3200" spc="-1" strike="noStrike">
              <a:solidFill>
                <a:srgbClr val="000000"/>
              </a:solidFill>
              <a:latin typeface="Arial"/>
            </a:endParaRPr>
          </a:p>
        </p:txBody>
      </p:sp>
      <p:sp>
        <p:nvSpPr>
          <p:cNvPr id="30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t>
            </a:r>
            <a:r>
              <a:rPr b="0" lang="en-US" sz="2400" spc="-1" strike="noStrike">
                <a:solidFill>
                  <a:srgbClr val="000000"/>
                </a:solidFill>
                <a:latin typeface="Tempus Sans ITC"/>
              </a:rPr>
              <a:t>a state of complete physical, mental, and social well-being and not merely the absence of disease or infirm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holistic state of well-being, which includes soundness of mind, body, and spirit. Community health practitioners place a strong emphasis on </a:t>
            </a:r>
            <a:r>
              <a:rPr b="1" lang="en-US" sz="2400" spc="-1" strike="noStrike">
                <a:solidFill>
                  <a:srgbClr val="000000"/>
                </a:solidFill>
                <a:latin typeface="Tempus Sans ITC"/>
              </a:rPr>
              <a:t>wellness, which includes the definition of health just </a:t>
            </a:r>
            <a:r>
              <a:rPr b="0" lang="en-US" sz="2400" spc="-1" strike="noStrike">
                <a:solidFill>
                  <a:srgbClr val="000000"/>
                </a:solidFill>
                <a:latin typeface="Tempus Sans ITC"/>
              </a:rPr>
              <a:t>mentioned but incorporates the capacity to develop a person’s potential to lead a fulfilling and productive life, one that can be measured in terms of quality of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0" name="Group 6"/>
          <p:cNvGrpSpPr/>
          <p:nvPr/>
        </p:nvGrpSpPr>
        <p:grpSpPr>
          <a:xfrm>
            <a:off x="8648640" y="498600"/>
            <a:ext cx="306360" cy="122040"/>
            <a:chOff x="8648640" y="498600"/>
            <a:chExt cx="306360" cy="122040"/>
          </a:xfrm>
        </p:grpSpPr>
        <p:sp>
          <p:nvSpPr>
            <p:cNvPr id="31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HEAL</a:t>
            </a:r>
            <a:r>
              <a:rPr b="0" lang="en-US" sz="3200" spc="-1" strike="noStrike">
                <a:solidFill>
                  <a:srgbClr val="000000"/>
                </a:solidFill>
                <a:latin typeface="Arial"/>
              </a:rPr>
              <a:t>TH</a:t>
            </a:r>
            <a:endParaRPr b="0" lang="en-US" sz="3200" spc="-1" strike="noStrike">
              <a:solidFill>
                <a:srgbClr val="000000"/>
              </a:solidFill>
              <a:latin typeface="Arial"/>
            </a:endParaRPr>
          </a:p>
        </p:txBody>
      </p:sp>
      <p:sp>
        <p:nvSpPr>
          <p:cNvPr id="31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TextBox 14"/>
          <p:cNvSpPr/>
          <p:nvPr/>
        </p:nvSpPr>
        <p:spPr>
          <a:xfrm>
            <a:off x="285840" y="128592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ere is increasing awareness of the strong relationshi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f health to environment. This is not a new concept. Almo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150 years ago, Florence Nightingale explored the health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illness connection with the environment. She believed that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person’s health was greatly influenced by ventilation, noi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light, cleanliness, diet, and a restful bed. She laid down si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rules about maintaining and obtaining “health,” whi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were written for lay women caring for family members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t>
            </a:r>
            <a:r>
              <a:rPr b="0" lang="en-US" sz="2400" spc="-1" strike="noStrike">
                <a:solidFill>
                  <a:srgbClr val="000000"/>
                </a:solidFill>
                <a:latin typeface="Tempus Sans ITC"/>
              </a:rPr>
              <a:t>put the constitution in such a state as that it will have no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Nightingale, 1859, pref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2" name="Group 6"/>
          <p:cNvGrpSpPr/>
          <p:nvPr/>
        </p:nvGrpSpPr>
        <p:grpSpPr>
          <a:xfrm>
            <a:off x="8648640" y="498600"/>
            <a:ext cx="306360" cy="122040"/>
            <a:chOff x="8648640" y="498600"/>
            <a:chExt cx="306360" cy="122040"/>
          </a:xfrm>
        </p:grpSpPr>
        <p:sp>
          <p:nvSpPr>
            <p:cNvPr id="32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alth Continuum: Wellness–Illness</a:t>
            </a:r>
            <a:endParaRPr b="0" lang="en-US" sz="3200" spc="-1" strike="noStrike">
              <a:solidFill>
                <a:srgbClr val="000000"/>
              </a:solidFill>
              <a:latin typeface="Arial"/>
            </a:endParaRPr>
          </a:p>
        </p:txBody>
      </p:sp>
      <p:sp>
        <p:nvSpPr>
          <p:cNvPr id="32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Box 14"/>
          <p:cNvSpPr/>
          <p:nvPr/>
        </p:nvSpPr>
        <p:spPr>
          <a:xfrm>
            <a:off x="285840" y="135720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Society suggests a polarized or “either/or” way of think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bout health: people either are well or they are ill. Yet well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is a relative concept, not an absolute, and </a:t>
            </a:r>
            <a:r>
              <a:rPr b="1" lang="en-US" sz="2400" spc="-1" strike="noStrike">
                <a:solidFill>
                  <a:srgbClr val="000000"/>
                </a:solidFill>
                <a:latin typeface="Tempus Sans ITC"/>
              </a:rPr>
              <a:t>illness is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state of being </a:t>
            </a:r>
            <a:r>
              <a:rPr b="0" i="1" lang="en-US" sz="2400" spc="-1" strike="noStrike">
                <a:solidFill>
                  <a:srgbClr val="000000"/>
                </a:solidFill>
                <a:latin typeface="Tempus Sans ITC"/>
              </a:rPr>
              <a:t>relatively unhealthy. There are many level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degrees of wellness and ill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4" name="Group 6"/>
          <p:cNvGrpSpPr/>
          <p:nvPr/>
        </p:nvGrpSpPr>
        <p:grpSpPr>
          <a:xfrm>
            <a:off x="8648640" y="498600"/>
            <a:ext cx="306360" cy="122040"/>
            <a:chOff x="8648640" y="498600"/>
            <a:chExt cx="306360" cy="122040"/>
          </a:xfrm>
        </p:grpSpPr>
        <p:sp>
          <p:nvSpPr>
            <p:cNvPr id="3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alth Continuum: Wellness–Illness</a:t>
            </a:r>
            <a:endParaRPr b="0" lang="en-US" sz="3200" spc="-1" strike="noStrike">
              <a:solidFill>
                <a:srgbClr val="000000"/>
              </a:solidFill>
              <a:latin typeface="Arial"/>
            </a:endParaRPr>
          </a:p>
        </p:txBody>
      </p:sp>
      <p:sp>
        <p:nvSpPr>
          <p:cNvPr id="34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2" name="Picture 13" descr="http://www.thewellspring.com/template_images/Illness-WellnessContinuumW.jpg"/>
          <p:cNvPicPr/>
          <p:nvPr/>
        </p:nvPicPr>
        <p:blipFill>
          <a:blip r:embed="rId1"/>
          <a:stretch/>
        </p:blipFill>
        <p:spPr>
          <a:xfrm>
            <a:off x="0" y="1643040"/>
            <a:ext cx="9144000" cy="4643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6"/>
          <p:cNvGrpSpPr/>
          <p:nvPr/>
        </p:nvGrpSpPr>
        <p:grpSpPr>
          <a:xfrm>
            <a:off x="8648640" y="498600"/>
            <a:ext cx="306360" cy="122040"/>
            <a:chOff x="8648640" y="498600"/>
            <a:chExt cx="306360" cy="122040"/>
          </a:xfrm>
        </p:grpSpPr>
        <p:sp>
          <p:nvSpPr>
            <p:cNvPr id="34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35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TextBox 14"/>
          <p:cNvSpPr/>
          <p:nvPr/>
        </p:nvSpPr>
        <p:spPr>
          <a:xfrm>
            <a:off x="285840" y="135720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is </a:t>
            </a:r>
            <a:r>
              <a:rPr b="1" lang="en-US" sz="2400" spc="-1" strike="noStrike">
                <a:solidFill>
                  <a:srgbClr val="000000"/>
                </a:solidFill>
                <a:latin typeface="Tempus Sans ITC"/>
              </a:rPr>
              <a:t>health continuum </a:t>
            </a:r>
            <a:r>
              <a:rPr b="0" lang="en-US" sz="2400" spc="-1" strike="noStrike">
                <a:solidFill>
                  <a:srgbClr val="000000"/>
                </a:solidFill>
                <a:latin typeface="Tempus Sans ITC"/>
              </a:rPr>
              <a:t>applies not only to individuals but also to families and communities. A nurse might speak of a dysfunctional family, meaning one that is experiencing a relative degree of illness; or a healthy family might be described as one that exhibits many wellness characteristics, such as effective communication and conflict resolution, as well as the ability to work together and use resources appropriately. Likewise, a community, as a collection of people, may be described in terms of degrees of wellness or illness. The health of an individual, family, group, or  community moves back and forth along this continuum throughout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Group 6"/>
          <p:cNvGrpSpPr/>
          <p:nvPr/>
        </p:nvGrpSpPr>
        <p:grpSpPr>
          <a:xfrm>
            <a:off x="8648640" y="498600"/>
            <a:ext cx="306360" cy="122040"/>
            <a:chOff x="8648640" y="498600"/>
            <a:chExt cx="306360" cy="122040"/>
          </a:xfrm>
        </p:grpSpPr>
        <p:sp>
          <p:nvSpPr>
            <p:cNvPr id="3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36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healthy community, first described by Cottrell (1976) as a competent community, is one in which the various organiz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groups, and aggregates of people making up the community do at least four thin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1. They collaborate effectively in identifying the problems and needs of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2. They achieve a working consensus on goals and priorit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3. They agree on ways and means to implement the agreed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goa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4. They collaborate effectively in the required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Group 6"/>
          <p:cNvGrpSpPr/>
          <p:nvPr/>
        </p:nvGrpSpPr>
        <p:grpSpPr>
          <a:xfrm>
            <a:off x="8648640" y="498600"/>
            <a:ext cx="306360" cy="122040"/>
            <a:chOff x="8648640" y="498600"/>
            <a:chExt cx="306360" cy="122040"/>
          </a:xfrm>
        </p:grpSpPr>
        <p:sp>
          <p:nvSpPr>
            <p:cNvPr id="3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37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TextBox 14"/>
          <p:cNvSpPr/>
          <p:nvPr/>
        </p:nvSpPr>
        <p:spPr>
          <a:xfrm>
            <a:off x="285840" y="135720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munity health practice ranges over the entire continuum; it always works to improve the degree of health in individuals, families, groups, and communities. In particular, community health practice emphasizes the promotion and preservation of wellness and the prevention of illness or dis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Group 6"/>
          <p:cNvGrpSpPr/>
          <p:nvPr/>
        </p:nvGrpSpPr>
        <p:grpSpPr>
          <a:xfrm>
            <a:off x="8648640" y="498600"/>
            <a:ext cx="306360" cy="122040"/>
            <a:chOff x="8648640" y="498600"/>
            <a:chExt cx="306360" cy="122040"/>
          </a:xfrm>
        </p:grpSpPr>
        <p:sp>
          <p:nvSpPr>
            <p:cNvPr id="7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7"/>
          <p:cNvSpPr/>
          <p:nvPr/>
        </p:nvSpPr>
        <p:spPr>
          <a:xfrm>
            <a:off x="285840" y="928800"/>
            <a:ext cx="8858160" cy="76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empus Sans ITC"/>
              </a:rPr>
              <a:t>Objectives</a:t>
            </a:r>
            <a:r>
              <a:rPr b="1" lang="en-US" sz="4000" spc="-1" strike="noStrike">
                <a:solidFill>
                  <a:srgbClr val="ff0000"/>
                </a:solidFill>
                <a:latin typeface="Tempus Sans ITC"/>
              </a:rPr>
              <a:t> </a:t>
            </a:r>
            <a:endParaRPr b="0" lang="en-US" sz="4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ff0000"/>
                </a:solidFill>
                <a:latin typeface="Tempus Sans ITC"/>
              </a:rPr>
              <a:t>After completion the lecture the students enable to:</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fine community health and distinguish from public health</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Explain the concept of the community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scribe three types of communities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iagram the health continuum</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ifferentiate among the three levels of prevention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Analyze the six components of community health practice</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scribe the eight characteristics  of community health nursing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Text Box 19"/>
          <p:cNvSpPr/>
          <p:nvPr/>
        </p:nvSpPr>
        <p:spPr>
          <a:xfrm>
            <a:off x="684360" y="4357800"/>
            <a:ext cx="77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2" name="Group 6"/>
          <p:cNvGrpSpPr/>
          <p:nvPr/>
        </p:nvGrpSpPr>
        <p:grpSpPr>
          <a:xfrm>
            <a:off x="8648640" y="498600"/>
            <a:ext cx="306360" cy="122040"/>
            <a:chOff x="8648640" y="498600"/>
            <a:chExt cx="306360" cy="122040"/>
          </a:xfrm>
        </p:grpSpPr>
        <p:sp>
          <p:nvSpPr>
            <p:cNvPr id="38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6"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Health as a State of Being</a:t>
            </a:r>
            <a:endParaRPr b="0" lang="en-US" sz="3200" spc="-1" strike="noStrike">
              <a:solidFill>
                <a:srgbClr val="000000"/>
              </a:solidFill>
              <a:latin typeface="Arial"/>
            </a:endParaRPr>
          </a:p>
        </p:txBody>
      </p:sp>
      <p:sp>
        <p:nvSpPr>
          <p:cNvPr id="38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TextBox 14"/>
          <p:cNvSpPr/>
          <p:nvPr/>
        </p:nvSpPr>
        <p:spPr>
          <a:xfrm>
            <a:off x="285840" y="1357200"/>
            <a:ext cx="8643960" cy="761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Health refers to a state of being, including many differ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qualities and characteristics. An individual might be describ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in terms such as energetic, outgoing, enthusiastic, beautiful, caring, loving, and intense. Together, these qualities become the essence of a person’s existence; they describe a state of be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Similarly, a specific geographic community, such as a neighborhood, has many characteristics. It might be  characterized by the terms congested, deteriora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unattractive, dirty, and disorganized. These characteristics suggest diminishing degrees of vitali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ealth balanc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s a state of well-being that results from healthy interaction between a person’s body , mind, spirit and environm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ant to avoid illness and its  consequences.</a:t>
            </a:r>
            <a:r>
              <a:rPr b="1" lang="en-US" sz="2400" spc="-1" strike="noStrike">
                <a:solidFill>
                  <a:srgbClr val="000099"/>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6"/>
          <p:cNvGrpSpPr/>
          <p:nvPr/>
        </p:nvGrpSpPr>
        <p:grpSpPr>
          <a:xfrm>
            <a:off x="8648640" y="498600"/>
            <a:ext cx="306360" cy="122040"/>
            <a:chOff x="8648640" y="498600"/>
            <a:chExt cx="306360" cy="122040"/>
          </a:xfrm>
        </p:grpSpPr>
        <p:sp>
          <p:nvSpPr>
            <p:cNvPr id="39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Health as a State of Being</a:t>
            </a:r>
            <a:endParaRPr b="0" lang="en-US" sz="3200" spc="-1" strike="noStrike">
              <a:solidFill>
                <a:srgbClr val="000000"/>
              </a:solidFill>
              <a:latin typeface="Arial"/>
            </a:endParaRPr>
          </a:p>
        </p:txBody>
      </p:sp>
      <p:sp>
        <p:nvSpPr>
          <p:cNvPr id="4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Health involves the total person or community. All of the dimensions of life affecting everyday functioning determine an individual’s or a community’s health, including physical, psychological, spiritual, economic, and sociocultural experiences. All of these factors must be considered when dealing with the health of an individual or community. The approach should be holistic. A client’s placement o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health continuum can be known only if the nurse consid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ll facets of the client’s life, including not only physical stat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but also the status of home, family, and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Group 6"/>
          <p:cNvGrpSpPr/>
          <p:nvPr/>
        </p:nvGrpSpPr>
        <p:grpSpPr>
          <a:xfrm>
            <a:off x="8648640" y="498600"/>
            <a:ext cx="306360" cy="122040"/>
            <a:chOff x="8648640" y="498600"/>
            <a:chExt cx="306360" cy="122040"/>
          </a:xfrm>
        </p:grpSpPr>
        <p:sp>
          <p:nvSpPr>
            <p:cNvPr id="4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 Box 17"/>
          <p:cNvSpPr/>
          <p:nvPr/>
        </p:nvSpPr>
        <p:spPr>
          <a:xfrm>
            <a:off x="357120" y="785880"/>
            <a:ext cx="77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Subjective and Objective Dimensions of Health</a:t>
            </a:r>
            <a:endParaRPr b="0" lang="en-US" sz="2800" spc="-1" strike="noStrike">
              <a:solidFill>
                <a:srgbClr val="000000"/>
              </a:solidFill>
              <a:latin typeface="Arial"/>
            </a:endParaRPr>
          </a:p>
        </p:txBody>
      </p:sp>
      <p:sp>
        <p:nvSpPr>
          <p:cNvPr id="41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TextBox 14"/>
          <p:cNvSpPr/>
          <p:nvPr/>
        </p:nvSpPr>
        <p:spPr>
          <a:xfrm>
            <a:off x="285840" y="135720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involves both subjective and objective dimen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is, it involves both how people feel (subjective) and how well they can function in their environment (objec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y people are full of life and vigor, capable of hysical and mental productivity. They feel minimal discomfort and displeasure with the world around them. Again, people experience varying degrees of vitality and well-be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also involves the objective dimension of ability to function. A healthy individual or community carries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cessary activities and achieves enriching goals. unhealth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ople not only feel ill but are limited, to some degree,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ir ability to carry out daily activities. Indeed, levels of illness or wellness are measured largely in terms of ability to function (Roach, 2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Group 6"/>
          <p:cNvGrpSpPr/>
          <p:nvPr/>
        </p:nvGrpSpPr>
        <p:grpSpPr>
          <a:xfrm>
            <a:off x="8648640" y="498600"/>
            <a:ext cx="306360" cy="122040"/>
            <a:chOff x="8648640" y="498600"/>
            <a:chExt cx="306360" cy="122040"/>
          </a:xfrm>
        </p:grpSpPr>
        <p:sp>
          <p:nvSpPr>
            <p:cNvPr id="4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17"/>
          <p:cNvSpPr/>
          <p:nvPr/>
        </p:nvSpPr>
        <p:spPr>
          <a:xfrm>
            <a:off x="357120" y="785880"/>
            <a:ext cx="77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Subjective and Objective Dimensions of Health</a:t>
            </a:r>
            <a:endParaRPr b="0" lang="en-US" sz="2800" spc="-1" strike="noStrike">
              <a:solidFill>
                <a:srgbClr val="000000"/>
              </a:solidFill>
              <a:latin typeface="Arial"/>
            </a:endParaRPr>
          </a:p>
        </p:txBody>
      </p:sp>
      <p:sp>
        <p:nvSpPr>
          <p:cNvPr id="42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ubjective dimension (feeling well or ill) and the objective dimension (functioning) together provide a clearer picture of people’s health. When they feel well and demonstrate functional ability, they are close to the wellness end of the health continuum. Even those with a disease such as arthritis or diabetes may feel well and perform well within their capacity. These people can be considered healthy or closer to the wellness end of the continuum. Figure 1–3 depicts the relationships between the subjective and objective views of heal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 name="Group 6"/>
          <p:cNvGrpSpPr/>
          <p:nvPr/>
        </p:nvGrpSpPr>
        <p:grpSpPr>
          <a:xfrm>
            <a:off x="8648640" y="498600"/>
            <a:ext cx="306360" cy="122040"/>
            <a:chOff x="8648640" y="498600"/>
            <a:chExt cx="306360" cy="122040"/>
          </a:xfrm>
        </p:grpSpPr>
        <p:sp>
          <p:nvSpPr>
            <p:cNvPr id="43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Text Box 17"/>
          <p:cNvSpPr/>
          <p:nvPr/>
        </p:nvSpPr>
        <p:spPr>
          <a:xfrm>
            <a:off x="357120" y="785880"/>
            <a:ext cx="864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ONENTS OF COMMUNITY HEALTH PRACTI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1111"/>
                </a:solidFill>
                <a:latin typeface="Comic Sans MS"/>
              </a:rPr>
              <a:t>Mission of the CH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TextBox 14"/>
          <p:cNvSpPr/>
          <p:nvPr/>
        </p:nvSpPr>
        <p:spPr>
          <a:xfrm>
            <a:off x="285840" y="228600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se components are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of health problems,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atment of disorde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rehabilit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evaluation,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resear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6"/>
          <p:cNvGrpSpPr/>
          <p:nvPr/>
        </p:nvGrpSpPr>
        <p:grpSpPr>
          <a:xfrm>
            <a:off x="8648640" y="498600"/>
            <a:ext cx="306360" cy="122040"/>
            <a:chOff x="8648640" y="498600"/>
            <a:chExt cx="306360" cy="122040"/>
          </a:xfrm>
        </p:grpSpPr>
        <p:sp>
          <p:nvSpPr>
            <p:cNvPr id="44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44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TextBox 14"/>
          <p:cNvSpPr/>
          <p:nvPr/>
        </p:nvSpPr>
        <p:spPr>
          <a:xfrm>
            <a:off x="285840" y="1357200"/>
            <a:ext cx="8643960" cy="359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related to lifestyles and choices that maintain  or enhance a populations health (WHO)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combination of educational, organizational, economic, and environmental supports for behavior and conditions of living conductive to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4" name="Group 6"/>
          <p:cNvGrpSpPr/>
          <p:nvPr/>
        </p:nvGrpSpPr>
        <p:grpSpPr>
          <a:xfrm>
            <a:off x="8648640" y="498600"/>
            <a:ext cx="306360" cy="122040"/>
            <a:chOff x="8648640" y="498600"/>
            <a:chExt cx="306360" cy="122040"/>
          </a:xfrm>
        </p:grpSpPr>
        <p:sp>
          <p:nvSpPr>
            <p:cNvPr id="45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46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ion of health is recognized as one of the most important components of public health and community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a:t>
            </a:r>
            <a:r>
              <a:rPr b="0" lang="en-US" sz="2400" spc="-1" strike="noStrike">
                <a:solidFill>
                  <a:srgbClr val="000000"/>
                </a:solidFill>
                <a:latin typeface="Comic Sans MS"/>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 promotion includes all effort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seek to move people closer to optimal well-be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higher levels of wellness. Nursing, in particular, has a soci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date for engaging in health promoti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motion programs and activities includ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forms of health education—for example, teaching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gers of drug use, demonstrating healthful practices suc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regular exercise, and providing more health-promo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s such as heart-healthy menu sel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Group 6"/>
          <p:cNvGrpSpPr/>
          <p:nvPr/>
        </p:nvGrpSpPr>
        <p:grpSpPr>
          <a:xfrm>
            <a:off x="8648640" y="498600"/>
            <a:ext cx="306360" cy="122040"/>
            <a:chOff x="8648640" y="498600"/>
            <a:chExt cx="306360" cy="122040"/>
          </a:xfrm>
        </p:grpSpPr>
        <p:sp>
          <p:nvSpPr>
            <p:cNvPr id="46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47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omotion, then, encompasses the development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of preventive health care services that are responsiv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munity health needs. Wellness programs i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and industry are examples; they are useful when the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ccompanied by desire, opportunity, and resources tha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more healthful pract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8" name="Group 6"/>
          <p:cNvGrpSpPr/>
          <p:nvPr/>
        </p:nvGrpSpPr>
        <p:grpSpPr>
          <a:xfrm>
            <a:off x="8648640" y="498600"/>
            <a:ext cx="306360" cy="122040"/>
            <a:chOff x="8648640" y="498600"/>
            <a:chExt cx="306360" cy="122040"/>
          </a:xfrm>
        </p:grpSpPr>
        <p:sp>
          <p:nvSpPr>
            <p:cNvPr id="47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48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health promotion is to raise levels of welln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dividuals, families, populations, and communit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efforts accomplish this goal through 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pronged effort 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crease the span of healthy life for all citizen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duce health disparities among population group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chieve access to preventive services for every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6"/>
          <p:cNvGrpSpPr/>
          <p:nvPr/>
        </p:nvGrpSpPr>
        <p:grpSpPr>
          <a:xfrm>
            <a:off x="8648640" y="498600"/>
            <a:ext cx="306360" cy="122040"/>
            <a:chOff x="8648640" y="498600"/>
            <a:chExt cx="306360" cy="122040"/>
          </a:xfrm>
        </p:grpSpPr>
        <p:sp>
          <p:nvSpPr>
            <p:cNvPr id="4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49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ealthy People 2010 Focus Area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ccess to Quality Health Servic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rthritis, Osteoporosis, and Chronic Back Condition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ance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Chronic Kidney Diseas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Diabet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Disability and Secondary Condition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Educational and Community-Based Pr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Environmental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Family Plann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Food Safet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Health Communica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Heart Disease and Stro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 name="Group 13"/>
          <p:cNvGrpSpPr/>
          <p:nvPr/>
        </p:nvGrpSpPr>
        <p:grpSpPr>
          <a:xfrm>
            <a:off x="204840" y="260280"/>
            <a:ext cx="8750160" cy="122040"/>
            <a:chOff x="204840" y="260280"/>
            <a:chExt cx="8750160" cy="122040"/>
          </a:xfrm>
        </p:grpSpPr>
        <p:sp>
          <p:nvSpPr>
            <p:cNvPr id="82" name="Line 2"/>
            <p:cNvSpPr/>
            <p:nvPr/>
          </p:nvSpPr>
          <p:spPr>
            <a:xfrm>
              <a:off x="204840" y="32364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Group 5"/>
            <p:cNvGrpSpPr/>
            <p:nvPr/>
          </p:nvGrpSpPr>
          <p:grpSpPr>
            <a:xfrm>
              <a:off x="8648640" y="260280"/>
              <a:ext cx="306360" cy="122040"/>
              <a:chOff x="8648640" y="260280"/>
              <a:chExt cx="306360" cy="122040"/>
            </a:xfrm>
          </p:grpSpPr>
          <p:sp>
            <p:nvSpPr>
              <p:cNvPr id="84" name="AutoShape 6"/>
              <p:cNvSpPr/>
              <p:nvPr/>
            </p:nvSpPr>
            <p:spPr>
              <a:xfrm>
                <a:off x="8648640" y="26028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7"/>
              <p:cNvSpPr/>
              <p:nvPr/>
            </p:nvSpPr>
            <p:spPr>
              <a:xfrm>
                <a:off x="873432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8"/>
              <p:cNvSpPr/>
              <p:nvPr/>
            </p:nvSpPr>
            <p:spPr>
              <a:xfrm>
                <a:off x="882000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7" name="Text Box 11"/>
          <p:cNvSpPr/>
          <p:nvPr/>
        </p:nvSpPr>
        <p:spPr>
          <a:xfrm>
            <a:off x="785880" y="1785960"/>
            <a:ext cx="77515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1111"/>
                </a:solidFill>
                <a:latin typeface="Tempus Sans ITC"/>
              </a:rPr>
              <a:t>To understands what is the community health nursing </a:t>
            </a:r>
            <a:endParaRPr b="0" lang="en-US" sz="4400" spc="-1" strike="noStrike">
              <a:solidFill>
                <a:srgbClr val="000000"/>
              </a:solidFill>
              <a:latin typeface="Arial"/>
            </a:endParaRPr>
          </a:p>
        </p:txBody>
      </p:sp>
      <p:sp>
        <p:nvSpPr>
          <p:cNvPr id="88" name="Rectangle 13"/>
          <p:cNvSpPr/>
          <p:nvPr/>
        </p:nvSpPr>
        <p:spPr>
          <a:xfrm>
            <a:off x="4572000" y="0"/>
            <a:ext cx="420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372280"/>
                <a:tab algn="l" pos="5486400"/>
                <a:tab algn="l" pos="6400800"/>
                <a:tab algn="l" pos="7315200"/>
                <a:tab algn="l" pos="8229600"/>
                <a:tab algn="l" pos="9144000"/>
                <a:tab algn="l" pos="10058400"/>
              </a:tabLst>
            </a:pPr>
            <a:r>
              <a:rPr b="0" lang="en-US" sz="2400" spc="-1" strike="noStrike">
                <a:solidFill>
                  <a:srgbClr val="000099"/>
                </a:solidFill>
                <a:latin typeface="Franklin Gothic Heavy"/>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2" name="Group 6"/>
          <p:cNvGrpSpPr/>
          <p:nvPr/>
        </p:nvGrpSpPr>
        <p:grpSpPr>
          <a:xfrm>
            <a:off x="8648640" y="498600"/>
            <a:ext cx="306360" cy="122040"/>
            <a:chOff x="8648640" y="498600"/>
            <a:chExt cx="306360" cy="122040"/>
          </a:xfrm>
        </p:grpSpPr>
        <p:sp>
          <p:nvSpPr>
            <p:cNvPr id="50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50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Healthy People 2010 Focus Area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3. HIV        14. Immunization and Infectious Diseas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5. Injury and Violence Prevention  16. Maternal, Infant, and Child Health 17. Medical Product Safety</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8. Mental Health and Mental Disorder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 Nutrition and Overweight</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 Occupational Safety and Health</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Oral Health   22. Physical Activity and Fitnes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Public Health Infrastructure</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Respiratory Diseas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Sexually Transmitted Diseases  26. Substance Abuse</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Tobacco Use</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Vision and Hea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4" name="Group 6"/>
          <p:cNvGrpSpPr/>
          <p:nvPr/>
        </p:nvGrpSpPr>
        <p:grpSpPr>
          <a:xfrm>
            <a:off x="8648640" y="498600"/>
            <a:ext cx="306360" cy="122040"/>
            <a:chOff x="8648640" y="498600"/>
            <a:chExt cx="306360" cy="122040"/>
          </a:xfrm>
        </p:grpSpPr>
        <p:sp>
          <p:nvSpPr>
            <p:cNvPr id="5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5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of health problems constitutes a major part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actice. Prevention means anticipa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verting problems or discovering them as early as possible to minimize potential disability and impairment. It is practiced on three levels in community health: (1) primary prevention, (2) secondary prevention, and (3) tertiary prevention(Neuman, 2001).</a:t>
            </a:r>
            <a:r>
              <a:rPr b="0" lang="en-US" sz="2400" spc="-1" strike="noStrike">
                <a:solidFill>
                  <a:srgbClr val="000000"/>
                </a:solidFill>
                <a:latin typeface="Comic Sans MS"/>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6" name="Group 6"/>
          <p:cNvGrpSpPr/>
          <p:nvPr/>
        </p:nvGrpSpPr>
        <p:grpSpPr>
          <a:xfrm>
            <a:off x="8648640" y="498600"/>
            <a:ext cx="306360" cy="122040"/>
            <a:chOff x="8648640" y="498600"/>
            <a:chExt cx="306360" cy="122040"/>
          </a:xfrm>
        </p:grpSpPr>
        <p:sp>
          <p:nvSpPr>
            <p:cNvPr id="52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0"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53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TextBox 14"/>
          <p:cNvSpPr/>
          <p:nvPr/>
        </p:nvSpPr>
        <p:spPr>
          <a:xfrm>
            <a:off x="285840" y="1357200"/>
            <a:ext cx="8643960" cy="578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lnSpc>
                <a:spcPct val="100000"/>
              </a:lnSpc>
              <a:buClr>
                <a:srgbClr val="000000"/>
              </a:buClr>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t>
            </a:r>
            <a:r>
              <a:rPr b="0" lang="en-US" sz="2400" spc="-1" strike="noStrike">
                <a:solidFill>
                  <a:srgbClr val="ff0000"/>
                </a:solidFill>
                <a:latin typeface="Comic Sans MS"/>
              </a:rPr>
              <a:t>Any effort done before or to prevent the problem to occur</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prevention obviates the occurrence of a health </a:t>
            </a:r>
            <a:r>
              <a:rPr b="0" lang="en-US" sz="2400" spc="-1" strike="noStrike">
                <a:solidFill>
                  <a:srgbClr val="000000"/>
                </a:solidFill>
                <a:latin typeface="Arial"/>
              </a:rPr>
              <a:t>problem; it includes measures taken to keep illness or injuries from occurring. It is applied to a generally healthy population and precedes disease or dysfunc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enetic counseling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munization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ealth diet and healthy lifestyle </a:t>
            </a:r>
            <a:r>
              <a:rPr b="0" lang="en-US" sz="2400" spc="-1" strike="noStrike">
                <a:solidFill>
                  <a:srgbClr val="000099"/>
                </a:solidFill>
                <a:latin typeface="Comic Sans MS"/>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6"/>
          <p:cNvGrpSpPr/>
          <p:nvPr/>
        </p:nvGrpSpPr>
        <p:grpSpPr>
          <a:xfrm>
            <a:off x="8648640" y="498600"/>
            <a:ext cx="306360" cy="122040"/>
            <a:chOff x="8648640" y="498600"/>
            <a:chExt cx="306360" cy="122040"/>
          </a:xfrm>
        </p:grpSpPr>
        <p:sp>
          <p:nvSpPr>
            <p:cNvPr id="5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5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 primary preventi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prevention activities by a community health nurs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encouraging elderly people to install and use safet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eg, grab bars by bathtubs, hand rails on steps), 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injuries from falls; teaching young adults health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style behaviors so that they can adopt changes for a lifetime, for themselves and their children; or working throug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cal health department to help control and prevent communicable diseases such as rubeola, poliomyelitis, or varicella by providing regular immunization pr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Group 6"/>
          <p:cNvGrpSpPr/>
          <p:nvPr/>
        </p:nvGrpSpPr>
        <p:grpSpPr>
          <a:xfrm>
            <a:off x="8648640" y="498600"/>
            <a:ext cx="306360" cy="122040"/>
            <a:chOff x="8648640" y="498600"/>
            <a:chExt cx="306360" cy="122040"/>
          </a:xfrm>
        </p:grpSpPr>
        <p:sp>
          <p:nvSpPr>
            <p:cNvPr id="5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5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TextBox 14"/>
          <p:cNvSpPr/>
          <p:nvPr/>
        </p:nvSpPr>
        <p:spPr>
          <a:xfrm>
            <a:off x="285840" y="1357200"/>
            <a:ext cx="864396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second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efforts to detect and treat existing health problems at the earliest possible stage when disease or impairment already exist. Hypertension and cholesterol screening programs in many communities help to identify high-risk individuals and encourage early treatment to prevent heart attacks or stroke. Other examples are teaching breast and testicular self-examination, encouraging regular mamm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Pap smears for early detection of possible cancer, and providing skin testing for tuberculosis (in infants at 1 year of age and periodically throughout life, with increasing frequenc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high-risk group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Group 6"/>
          <p:cNvGrpSpPr/>
          <p:nvPr/>
        </p:nvGrpSpPr>
        <p:grpSpPr>
          <a:xfrm>
            <a:off x="8648640" y="498600"/>
            <a:ext cx="306360" cy="122040"/>
            <a:chOff x="8648640" y="498600"/>
            <a:chExt cx="306360" cy="122040"/>
          </a:xfrm>
        </p:grpSpPr>
        <p:sp>
          <p:nvSpPr>
            <p:cNvPr id="5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6"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56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second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ary prevention attempts to discover a health problem at a point when intervention may lead to its control or eradication. This is the goal behind testing of water and soil samples for contaminants and hazardous chemicals in the field of community environmental health. It also prompts community health nurses to watch for early signs of child abuse in a family, emotional disturbances in a group of widows, or alcohol and drug abuse among adolesc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Group 6"/>
          <p:cNvGrpSpPr/>
          <p:nvPr/>
        </p:nvGrpSpPr>
        <p:grpSpPr>
          <a:xfrm>
            <a:off x="8648640" y="498600"/>
            <a:ext cx="306360" cy="122040"/>
            <a:chOff x="8648640" y="498600"/>
            <a:chExt cx="306360" cy="122040"/>
          </a:xfrm>
        </p:grpSpPr>
        <p:sp>
          <p:nvSpPr>
            <p:cNvPr id="5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58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I. Terti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tiary prevention attempts to reduce the extent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ity of a health problem to its lowest possible level, so a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inimize disability and restore or preserve function. Examples include treatment and rehabilitation of persons afte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oke to reduce impairment, postmastectomy exercise programs to restore functioning, and early treatment and management of diabetes to reduce problems or slow thei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6" name="Group 6"/>
          <p:cNvGrpSpPr/>
          <p:nvPr/>
        </p:nvGrpSpPr>
        <p:grpSpPr>
          <a:xfrm>
            <a:off x="8648640" y="498600"/>
            <a:ext cx="306360" cy="122040"/>
            <a:chOff x="8648640" y="498600"/>
            <a:chExt cx="306360" cy="122040"/>
          </a:xfrm>
        </p:grpSpPr>
        <p:sp>
          <p:nvSpPr>
            <p:cNvPr id="5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0"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59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3) treatment of disorder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component of community health practice is treat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disorders. It focuses on the illness end of the continuum</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s the remedial aspect of community health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ccurs by three method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irect service to people with health problems, eg. home visits, provides an educational program and support group for peopl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nting to stop smoking or lose weigh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direct service that helps people to obtain treatment, and (3) development of programs to correct unhealthy conditions.</a:t>
            </a:r>
            <a:r>
              <a:rPr b="0" lang="en-US" sz="2400" spc="-1" strike="noStrike">
                <a:solidFill>
                  <a:srgbClr val="000000"/>
                </a:solidFill>
                <a:latin typeface="Tempus Sans ITC"/>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8" name="Group 6"/>
          <p:cNvGrpSpPr/>
          <p:nvPr/>
        </p:nvGrpSpPr>
        <p:grpSpPr>
          <a:xfrm>
            <a:off x="8648640" y="498600"/>
            <a:ext cx="306360" cy="122040"/>
            <a:chOff x="8648640" y="498600"/>
            <a:chExt cx="306360" cy="122040"/>
          </a:xfrm>
        </p:grpSpPr>
        <p:sp>
          <p:nvSpPr>
            <p:cNvPr id="59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2"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0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3) treatment of disorder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direct service that helps people to obtain treatment eg.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ing people with health problems to obtain treat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young woman with postpartum bleeding, assisted by the community health nurse, can obtain an immediate appointment with a physician at the local clinic.</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development of programs to correct unhealthy condition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ommunity with a high incidence of alcoholism and dru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se initiated a chemical dependency counseling and treatment center.</a:t>
            </a:r>
            <a:r>
              <a:rPr b="0" lang="en-US" sz="2400" spc="-1" strike="noStrike">
                <a:solidFill>
                  <a:srgbClr val="000000"/>
                </a:solidFill>
                <a:latin typeface="Tempus Sans ITC"/>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0" name="Group 6"/>
          <p:cNvGrpSpPr/>
          <p:nvPr/>
        </p:nvGrpSpPr>
        <p:grpSpPr>
          <a:xfrm>
            <a:off x="8648640" y="498600"/>
            <a:ext cx="306360" cy="122040"/>
            <a:chOff x="8648640" y="498600"/>
            <a:chExt cx="306360" cy="122040"/>
          </a:xfrm>
        </p:grpSpPr>
        <p:sp>
          <p:nvSpPr>
            <p:cNvPr id="61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1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4) Rehabilita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efforts to reduce disability and, as much as possible, restore func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5) evaluation</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process by which that practice is analyzed, judge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mproved according to established goals and standard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health and health care should be an integr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every kind of health service, from individual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national and international pr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Group 13"/>
          <p:cNvGrpSpPr/>
          <p:nvPr/>
        </p:nvGrpSpPr>
        <p:grpSpPr>
          <a:xfrm>
            <a:off x="204840" y="260280"/>
            <a:ext cx="8750160" cy="122040"/>
            <a:chOff x="204840" y="260280"/>
            <a:chExt cx="8750160" cy="122040"/>
          </a:xfrm>
        </p:grpSpPr>
        <p:sp>
          <p:nvSpPr>
            <p:cNvPr id="92" name="Line 2"/>
            <p:cNvSpPr/>
            <p:nvPr/>
          </p:nvSpPr>
          <p:spPr>
            <a:xfrm>
              <a:off x="204840" y="32364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5"/>
            <p:cNvGrpSpPr/>
            <p:nvPr/>
          </p:nvGrpSpPr>
          <p:grpSpPr>
            <a:xfrm>
              <a:off x="8648640" y="260280"/>
              <a:ext cx="306360" cy="122040"/>
              <a:chOff x="8648640" y="260280"/>
              <a:chExt cx="306360" cy="122040"/>
            </a:xfrm>
          </p:grpSpPr>
          <p:sp>
            <p:nvSpPr>
              <p:cNvPr id="94" name="AutoShape 6"/>
              <p:cNvSpPr/>
              <p:nvPr/>
            </p:nvSpPr>
            <p:spPr>
              <a:xfrm>
                <a:off x="8648640" y="26028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7"/>
              <p:cNvSpPr/>
              <p:nvPr/>
            </p:nvSpPr>
            <p:spPr>
              <a:xfrm>
                <a:off x="873432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8"/>
              <p:cNvSpPr/>
              <p:nvPr/>
            </p:nvSpPr>
            <p:spPr>
              <a:xfrm>
                <a:off x="882000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 name="Text Box 11"/>
          <p:cNvSpPr/>
          <p:nvPr/>
        </p:nvSpPr>
        <p:spPr>
          <a:xfrm>
            <a:off x="395280" y="825480"/>
            <a:ext cx="8713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1111"/>
                </a:solidFill>
                <a:latin typeface="Tempus Sans ITC"/>
              </a:rPr>
              <a:t>We should answer these questions </a:t>
            </a:r>
            <a:endParaRPr b="0" lang="en-US" sz="4400" spc="-1" strike="noStrike">
              <a:solidFill>
                <a:srgbClr val="000000"/>
              </a:solidFill>
              <a:latin typeface="Arial"/>
            </a:endParaRPr>
          </a:p>
        </p:txBody>
      </p:sp>
      <p:sp>
        <p:nvSpPr>
          <p:cNvPr id="98" name="Text Box 12"/>
          <p:cNvSpPr/>
          <p:nvPr/>
        </p:nvSpPr>
        <p:spPr>
          <a:xfrm>
            <a:off x="357120" y="2500200"/>
            <a:ext cx="842976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empus Sans ITC"/>
              </a:rPr>
              <a:t>What are the goals of the community health nursing (CHN)  </a:t>
            </a:r>
            <a:endParaRPr b="0" lang="en-US" sz="3200" spc="-1" strike="noStrike">
              <a:solidFill>
                <a:srgbClr val="000000"/>
              </a:solidFill>
              <a:latin typeface="Arial"/>
            </a:endParaRPr>
          </a:p>
          <a:p>
            <a:pPr>
              <a:lnSpc>
                <a:spcPct val="100000"/>
              </a:lnSpc>
              <a:spcBef>
                <a:spcPts val="200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empus Sans ITC"/>
              </a:rPr>
              <a:t>Who is the client of the CHN</a:t>
            </a:r>
            <a:endParaRPr b="0" lang="en-US" sz="3200" spc="-1" strike="noStrike">
              <a:solidFill>
                <a:srgbClr val="000000"/>
              </a:solidFill>
              <a:latin typeface="Arial"/>
            </a:endParaRPr>
          </a:p>
          <a:p>
            <a:pPr>
              <a:lnSpc>
                <a:spcPct val="100000"/>
              </a:lnSpc>
              <a:spcBef>
                <a:spcPts val="200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empus Sans ITC"/>
              </a:rPr>
              <a:t>What are the setting of the CHN</a:t>
            </a:r>
            <a:endParaRPr b="0" lang="en-US" sz="3200" spc="-1" strike="noStrike">
              <a:solidFill>
                <a:srgbClr val="000000"/>
              </a:solidFill>
              <a:latin typeface="Arial"/>
            </a:endParaRPr>
          </a:p>
          <a:p>
            <a:pPr>
              <a:lnSpc>
                <a:spcPct val="100000"/>
              </a:lnSpc>
              <a:spcBef>
                <a:spcPts val="200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empus Sans ITC"/>
              </a:rPr>
              <a:t>What are the salient role provided by CHN</a:t>
            </a:r>
            <a:endParaRPr b="0" lang="en-US" sz="3200" spc="-1" strike="noStrike">
              <a:solidFill>
                <a:srgbClr val="000000"/>
              </a:solidFill>
              <a:latin typeface="Arial"/>
            </a:endParaRPr>
          </a:p>
        </p:txBody>
      </p:sp>
      <p:sp>
        <p:nvSpPr>
          <p:cNvPr id="99" name="Rectangle 13"/>
          <p:cNvSpPr/>
          <p:nvPr/>
        </p:nvSpPr>
        <p:spPr>
          <a:xfrm>
            <a:off x="4572000" y="0"/>
            <a:ext cx="420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372280"/>
                <a:tab algn="l" pos="5486400"/>
                <a:tab algn="l" pos="6400800"/>
                <a:tab algn="l" pos="7315200"/>
                <a:tab algn="l" pos="8229600"/>
                <a:tab algn="l" pos="9144000"/>
                <a:tab algn="l" pos="10058400"/>
              </a:tabLst>
            </a:pPr>
            <a:r>
              <a:rPr b="0" lang="en-US" sz="2400" spc="-1" strike="noStrike">
                <a:solidFill>
                  <a:srgbClr val="000099"/>
                </a:solidFill>
                <a:latin typeface="Franklin Gothic Heavy"/>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2" name="Group 6"/>
          <p:cNvGrpSpPr/>
          <p:nvPr/>
        </p:nvGrpSpPr>
        <p:grpSpPr>
          <a:xfrm>
            <a:off x="8648640" y="498600"/>
            <a:ext cx="306360" cy="122040"/>
            <a:chOff x="8648640" y="498600"/>
            <a:chExt cx="306360" cy="122040"/>
          </a:xfrm>
        </p:grpSpPr>
        <p:sp>
          <p:nvSpPr>
            <p:cNvPr id="62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6"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2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6) Researc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ystematic investigation to discover facts affecting community health and community health practice, solve problems, and explore improved methods of health serv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actitioners conduct and use scientific investigations at all levels, from federal agencies such as the U. S. Public Health Service to state and local groups conducting research. </a:t>
            </a:r>
            <a:r>
              <a:rPr b="1" lang="en-US" sz="2400" spc="-1" strike="noStrike">
                <a:solidFill>
                  <a:srgbClr val="000000"/>
                </a:solidFill>
                <a:latin typeface="Arial"/>
              </a:rPr>
              <a:t>Epidemiology (the study of health and disease </a:t>
            </a:r>
            <a:r>
              <a:rPr b="0" lang="en-US" sz="2400" spc="-1" strike="noStrike">
                <a:solidFill>
                  <a:srgbClr val="000000"/>
                </a:solidFill>
                <a:latin typeface="Arial"/>
              </a:rPr>
              <a:t>determinants and distribution in populations) and </a:t>
            </a:r>
            <a:r>
              <a:rPr b="1" lang="en-US" sz="2400" spc="-1" strike="noStrike">
                <a:solidFill>
                  <a:srgbClr val="000000"/>
                </a:solidFill>
                <a:latin typeface="Arial"/>
              </a:rPr>
              <a:t>biostatistics </a:t>
            </a:r>
            <a:r>
              <a:rPr b="0" lang="en-US" sz="2400" spc="-1" strike="noStrike">
                <a:solidFill>
                  <a:srgbClr val="000000"/>
                </a:solidFill>
                <a:latin typeface="Arial"/>
              </a:rPr>
              <a:t>(the science of statistically measuring popula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conditions) are the primary public health measure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nalytic sciences underlying community health pract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4" name="Group 6"/>
          <p:cNvGrpSpPr/>
          <p:nvPr/>
        </p:nvGrpSpPr>
        <p:grpSpPr>
          <a:xfrm>
            <a:off x="8648640" y="498600"/>
            <a:ext cx="306360" cy="122040"/>
            <a:chOff x="8648640" y="498600"/>
            <a:chExt cx="306360" cy="122040"/>
          </a:xfrm>
        </p:grpSpPr>
        <p:sp>
          <p:nvSpPr>
            <p:cNvPr id="6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4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TextBox 14"/>
          <p:cNvSpPr/>
          <p:nvPr/>
        </p:nvSpPr>
        <p:spPr>
          <a:xfrm>
            <a:off x="285840" y="1357200"/>
            <a:ext cx="86439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6) </a:t>
            </a:r>
            <a:r>
              <a:rPr b="1" lang="en-US" sz="2400" spc="-1" strike="noStrike">
                <a:solidFill>
                  <a:srgbClr val="ff0000"/>
                </a:solidFill>
                <a:latin typeface="Arial"/>
              </a:rPr>
              <a:t>What the deffrences between the health promation and health protec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in health protection want to avoid illness and its consequenc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6" name="Group 6"/>
          <p:cNvGrpSpPr/>
          <p:nvPr/>
        </p:nvGrpSpPr>
        <p:grpSpPr>
          <a:xfrm>
            <a:off x="8648640" y="498600"/>
            <a:ext cx="306360" cy="122040"/>
            <a:chOff x="8648640" y="498600"/>
            <a:chExt cx="306360" cy="122040"/>
          </a:xfrm>
        </p:grpSpPr>
        <p:sp>
          <p:nvSpPr>
            <p:cNvPr id="64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0" name="Rectangle 10"/>
          <p:cNvSpPr/>
          <p:nvPr/>
        </p:nvSpPr>
        <p:spPr>
          <a:xfrm>
            <a:off x="571680" y="189360"/>
            <a:ext cx="8502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goal of the community health nursing</a:t>
            </a:r>
            <a:endParaRPr b="0" lang="en-US" sz="1600" spc="-1" strike="noStrike">
              <a:solidFill>
                <a:srgbClr val="000000"/>
              </a:solidFill>
              <a:latin typeface="Arial"/>
            </a:endParaRPr>
          </a:p>
        </p:txBody>
      </p:sp>
      <p:sp>
        <p:nvSpPr>
          <p:cNvPr id="6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Text Box 17"/>
          <p:cNvSpPr/>
          <p:nvPr/>
        </p:nvSpPr>
        <p:spPr>
          <a:xfrm>
            <a:off x="571680" y="1428840"/>
            <a:ext cx="78469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ealth nursing preserves and improves the health of population and communities worldwide by meeting the collective needs of the community and societie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endParaRPr b="0" lang="en-US" sz="2800" spc="-1" strike="noStrike">
              <a:solidFill>
                <a:srgbClr val="000000"/>
              </a:solidFill>
              <a:latin typeface="Arial"/>
            </a:endParaRPr>
          </a:p>
        </p:txBody>
      </p:sp>
      <p:sp>
        <p:nvSpPr>
          <p:cNvPr id="65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Rectangle 12"/>
          <p:cNvSpPr/>
          <p:nvPr/>
        </p:nvSpPr>
        <p:spPr>
          <a:xfrm>
            <a:off x="714240" y="857160"/>
            <a:ext cx="430236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f1111"/>
                </a:solidFill>
                <a:latin typeface="Arial"/>
              </a:rPr>
              <a:t>Goals</a:t>
            </a:r>
            <a:r>
              <a:rPr b="1" lang="en-US" sz="1800" spc="-1" strike="noStrike">
                <a:solidFill>
                  <a:srgbClr val="bf1111"/>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8" name="Group 6"/>
          <p:cNvGrpSpPr/>
          <p:nvPr/>
        </p:nvGrpSpPr>
        <p:grpSpPr>
          <a:xfrm>
            <a:off x="8648640" y="498600"/>
            <a:ext cx="306360" cy="122040"/>
            <a:chOff x="8648640" y="498600"/>
            <a:chExt cx="306360" cy="122040"/>
          </a:xfrm>
        </p:grpSpPr>
        <p:sp>
          <p:nvSpPr>
            <p:cNvPr id="6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2" name="Rectangle 10"/>
          <p:cNvSpPr/>
          <p:nvPr/>
        </p:nvSpPr>
        <p:spPr>
          <a:xfrm>
            <a:off x="3000240" y="208080"/>
            <a:ext cx="6073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ACTERISTICS OF COMMUNITY HEALTH NURS</a:t>
            </a:r>
            <a:r>
              <a:rPr b="0" lang="en-US" sz="2400" spc="-1" strike="noStrike">
                <a:solidFill>
                  <a:srgbClr val="000000"/>
                </a:solidFill>
                <a:latin typeface="Arial"/>
              </a:rPr>
              <a:t>ING</a:t>
            </a:r>
            <a:endParaRPr b="0" lang="en-US" sz="2400" spc="-1" strike="noStrike">
              <a:solidFill>
                <a:srgbClr val="000000"/>
              </a:solidFill>
              <a:latin typeface="Arial"/>
            </a:endParaRPr>
          </a:p>
        </p:txBody>
      </p:sp>
      <p:sp>
        <p:nvSpPr>
          <p:cNvPr id="66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ight characteristics of community health nursing are particularly salient to the practice of this specialty: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a field of nursing;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combines public health with nursing;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population focus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it emphasizes prevention, health promotion, and well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promotes client responsibility and self-ca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it uses aggregate measurement and analys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it uses principles of organizational theory;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it involves interprofessional collaboration</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0" name="Group 6"/>
          <p:cNvGrpSpPr/>
          <p:nvPr/>
        </p:nvGrpSpPr>
        <p:grpSpPr>
          <a:xfrm>
            <a:off x="8648640" y="498600"/>
            <a:ext cx="306360" cy="122040"/>
            <a:chOff x="8648640" y="498600"/>
            <a:chExt cx="306360" cy="122040"/>
          </a:xfrm>
        </p:grpSpPr>
        <p:sp>
          <p:nvSpPr>
            <p:cNvPr id="6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4"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a field of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characteristics of any specialized nursing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1) specialized knowledge and skills, and (2) focus on 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ular set of people receiving the service. These two characteristics are true for community health nursing. As a specialty field of nursing, community health nursing adds public health knowledge and skills that address the needs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of communities and aggregates and focuses care 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ies and vulnerable populations.</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1" name="Group 6"/>
          <p:cNvGrpSpPr/>
          <p:nvPr/>
        </p:nvGrpSpPr>
        <p:grpSpPr>
          <a:xfrm>
            <a:off x="8648640" y="498600"/>
            <a:ext cx="306360" cy="122040"/>
            <a:chOff x="8648640" y="498600"/>
            <a:chExt cx="306360" cy="122040"/>
          </a:xfrm>
        </p:grpSpPr>
        <p:sp>
          <p:nvSpPr>
            <p:cNvPr id="68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5"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it combines public health with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ty health nursing, then, as a field of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s nursing science with public health science to formulate a community-based and population-focused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s, 2000). It “synthesizes the knowledge from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health sciences and professional nursing theor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 1999, 2000) to improve the health of communit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vulnerable populations.</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2" name="Group 6"/>
          <p:cNvGrpSpPr/>
          <p:nvPr/>
        </p:nvGrpSpPr>
        <p:grpSpPr>
          <a:xfrm>
            <a:off x="8648640" y="498600"/>
            <a:ext cx="306360" cy="122040"/>
            <a:chOff x="8648640" y="498600"/>
            <a:chExt cx="306360" cy="122040"/>
          </a:xfrm>
        </p:grpSpPr>
        <p:sp>
          <p:nvSpPr>
            <p:cNvPr id="69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6"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TextBox 14"/>
          <p:cNvSpPr/>
          <p:nvPr/>
        </p:nvSpPr>
        <p:spPr>
          <a:xfrm>
            <a:off x="285840" y="785880"/>
            <a:ext cx="86439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nowledge of the following elements of public health is essential to community health nursing (ANA, 1999)</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History and philosophy of public health, including emphas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 the greatest good for the greatest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Concept of aggregates—assessing needs, planning and providing services, and evaluating services’ impact on population groups—including aggregate-level decision-mak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Priority of preventive, protective, and health-promot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tegies over curative strateg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Means for measurement and analysis of co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lth problems, including epidemiologic concepts 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ostatistic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Influence of environmental factors on aggregate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 Principles underlying management and organization f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unity health, because the goal of public health is accomplished through organized community effo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 Public policy analysis and develop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Health advocacy and the political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3" name="Group 6"/>
          <p:cNvGrpSpPr/>
          <p:nvPr/>
        </p:nvGrpSpPr>
        <p:grpSpPr>
          <a:xfrm>
            <a:off x="8648640" y="498600"/>
            <a:ext cx="306360" cy="122040"/>
            <a:chOff x="8648640" y="498600"/>
            <a:chExt cx="306360" cy="122040"/>
          </a:xfrm>
        </p:grpSpPr>
        <p:sp>
          <p:nvSpPr>
            <p:cNvPr id="70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7"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TextBox 14"/>
          <p:cNvSpPr/>
          <p:nvPr/>
        </p:nvSpPr>
        <p:spPr>
          <a:xfrm>
            <a:off x="285840" y="1357200"/>
            <a:ext cx="864396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It is population focused;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tral mission of public health practice is to improv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of population groups. Community health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s this essential feature: it is </a:t>
            </a:r>
            <a:r>
              <a:rPr b="1" lang="en-US" sz="2400" spc="-1" strike="noStrike">
                <a:solidFill>
                  <a:srgbClr val="000000"/>
                </a:solidFill>
                <a:latin typeface="Arial"/>
              </a:rPr>
              <a:t>population focused, meaning </a:t>
            </a:r>
            <a:r>
              <a:rPr b="0" lang="en-US" sz="2400" spc="-1" strike="noStrike">
                <a:solidFill>
                  <a:srgbClr val="000000"/>
                </a:solidFill>
                <a:latin typeface="Arial"/>
              </a:rPr>
              <a:t>that it is concerned for the health status of population groups and their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4" name="Group 6"/>
          <p:cNvGrpSpPr/>
          <p:nvPr/>
        </p:nvGrpSpPr>
        <p:grpSpPr>
          <a:xfrm>
            <a:off x="8648640" y="498600"/>
            <a:ext cx="306360" cy="122040"/>
            <a:chOff x="8648640" y="498600"/>
            <a:chExt cx="306360" cy="122040"/>
          </a:xfrm>
        </p:grpSpPr>
        <p:sp>
          <p:nvSpPr>
            <p:cNvPr id="7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8"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it emphasizes prevention, health promotion, and welln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munity health nursing, the promotion of health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of illness are of first-order priority. There is l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curative car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include services to mothers and infants,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environmental pollution, school health programs, senio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zens’ fitness classes, and “workers’ right-to-know”</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ion that warns against hazards in the workpl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5" name="Group 6"/>
          <p:cNvGrpSpPr/>
          <p:nvPr/>
        </p:nvGrpSpPr>
        <p:grpSpPr>
          <a:xfrm>
            <a:off x="8648640" y="498600"/>
            <a:ext cx="306360" cy="122040"/>
            <a:chOff x="8648640" y="498600"/>
            <a:chExt cx="306360" cy="122040"/>
          </a:xfrm>
        </p:grpSpPr>
        <p:sp>
          <p:nvSpPr>
            <p:cNvPr id="72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9"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promotes client responsibility and self-car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public health, “to increase quality and year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y life and eliminate health disparities” (UDHH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requires a partnership effor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health status and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will not change unless people accept and apply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als (developed in collaboration with clients) presente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community health nur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 name="Group 6"/>
          <p:cNvGrpSpPr/>
          <p:nvPr/>
        </p:nvGrpSpPr>
        <p:grpSpPr>
          <a:xfrm>
            <a:off x="8648640" y="498600"/>
            <a:ext cx="306360" cy="122040"/>
            <a:chOff x="8648640" y="498600"/>
            <a:chExt cx="306360" cy="122040"/>
          </a:xfrm>
        </p:grpSpPr>
        <p:sp>
          <p:nvSpPr>
            <p:cNvPr id="10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17"/>
          <p:cNvSpPr/>
          <p:nvPr/>
        </p:nvSpPr>
        <p:spPr>
          <a:xfrm>
            <a:off x="642960" y="100008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0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TextBox 14"/>
          <p:cNvSpPr/>
          <p:nvPr/>
        </p:nvSpPr>
        <p:spPr>
          <a:xfrm>
            <a:off x="357120" y="1857240"/>
            <a:ext cx="85726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empus Sans ITC"/>
              </a:rPr>
              <a:t>The communities in which we live and work have a profound influence on our collective health and well-bein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empus Sans ITC"/>
              </a:rPr>
              <a:t>Examp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empus Sans ITC"/>
              </a:rPr>
              <a:t>Research has established that both smoking and passive exposure to tobacco smoke are directly associated with serious negative health effects and premature mortality among more than 1 billion smokers worldwide (Institute of Medicine, 200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6" name="Group 6"/>
          <p:cNvGrpSpPr/>
          <p:nvPr/>
        </p:nvGrpSpPr>
        <p:grpSpPr>
          <a:xfrm>
            <a:off x="8648640" y="498600"/>
            <a:ext cx="306360" cy="122040"/>
            <a:chOff x="8648640" y="498600"/>
            <a:chExt cx="306360" cy="122040"/>
          </a:xfrm>
        </p:grpSpPr>
        <p:sp>
          <p:nvSpPr>
            <p:cNvPr id="73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0"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uses aggregate measurement and analysi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ing uses aggregate measurement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The need to collect and examine data on the enti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under study before making intervention deci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fundamental to community health nursing in a publ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actice. Health states, environmental factors, healthrelated services, economic patterns, and social policy are among the many foci of community health research and evaluation,</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7" name="Group 6"/>
          <p:cNvGrpSpPr/>
          <p:nvPr/>
        </p:nvGrpSpPr>
        <p:grpSpPr>
          <a:xfrm>
            <a:off x="8648640" y="498600"/>
            <a:ext cx="306360" cy="122040"/>
            <a:chOff x="8648640" y="498600"/>
            <a:chExt cx="306360" cy="122040"/>
          </a:xfrm>
        </p:grpSpPr>
        <p:sp>
          <p:nvSpPr>
            <p:cNvPr id="74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1"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it uses principles of organizational theor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ing uses principles from organization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y to provide effective administration of health car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Public health has long been defined as the protection and improvement of community health through organized community effort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ommunity health nurses carefully assess group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needs, establish priorities, and plan, imple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evaluate services, they are using public health management and organizational princi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8" name="Group 6"/>
          <p:cNvGrpSpPr/>
          <p:nvPr/>
        </p:nvGrpSpPr>
        <p:grpSpPr>
          <a:xfrm>
            <a:off x="8648640" y="498600"/>
            <a:ext cx="306360" cy="122040"/>
            <a:chOff x="8648640" y="498600"/>
            <a:chExt cx="306360" cy="122040"/>
          </a:xfrm>
        </p:grpSpPr>
        <p:sp>
          <p:nvSpPr>
            <p:cNvPr id="7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2"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TextBox 14"/>
          <p:cNvSpPr/>
          <p:nvPr/>
        </p:nvSpPr>
        <p:spPr>
          <a:xfrm>
            <a:off x="285840" y="135720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it involves interprofessional collaboration</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es must work in cooperation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team members, coordinating services and addres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eds of population groups. This interprofessional </a:t>
            </a:r>
            <a:r>
              <a:rPr b="1" lang="en-US" sz="2400" spc="-1" strike="noStrike">
                <a:solidFill>
                  <a:srgbClr val="000000"/>
                </a:solidFill>
                <a:latin typeface="Arial"/>
              </a:rPr>
              <a:t>collaboration </a:t>
            </a:r>
            <a:r>
              <a:rPr b="0" lang="en-US" sz="2400" spc="-1" strike="noStrike">
                <a:solidFill>
                  <a:srgbClr val="000000"/>
                </a:solidFill>
                <a:latin typeface="Arial"/>
              </a:rPr>
              <a:t>among health care workers, other professionals, and clients is essential for establishing effective services and progr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6"/>
          <p:cNvGrpSpPr/>
          <p:nvPr/>
        </p:nvGrpSpPr>
        <p:grpSpPr>
          <a:xfrm>
            <a:off x="8648640" y="498600"/>
            <a:ext cx="306360" cy="122040"/>
            <a:chOff x="8648640" y="498600"/>
            <a:chExt cx="306360" cy="122040"/>
          </a:xfrm>
        </p:grpSpPr>
        <p:sp>
          <p:nvSpPr>
            <p:cNvPr id="1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17"/>
          <p:cNvSpPr/>
          <p:nvPr/>
        </p:nvSpPr>
        <p:spPr>
          <a:xfrm>
            <a:off x="642960" y="100008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3"/>
          <p:cNvSpPr/>
          <p:nvPr/>
        </p:nvSpPr>
        <p:spPr>
          <a:xfrm>
            <a:off x="1071720" y="1785960"/>
            <a:ext cx="7500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Just as a whole is greater than the sum of its parts, the health of a community is more than the sum of the health of its individual citizens. A community that achieves a high level of wellness is composed of healthy citizens, functioning in an environment that protects and promotes health. Community health, as a field of practice, seeks to provide organization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structure, a broad set of resources, and the  collaborative activities needed to accomplish the goal of an optimally healthy commun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6"/>
          <p:cNvGrpSpPr/>
          <p:nvPr/>
        </p:nvGrpSpPr>
        <p:grpSpPr>
          <a:xfrm>
            <a:off x="8648640" y="498600"/>
            <a:ext cx="306360" cy="122040"/>
            <a:chOff x="8648640" y="498600"/>
            <a:chExt cx="306360" cy="122040"/>
          </a:xfrm>
        </p:grpSpPr>
        <p:sp>
          <p:nvSpPr>
            <p:cNvPr id="12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 Box 17"/>
          <p:cNvSpPr/>
          <p:nvPr/>
        </p:nvSpPr>
        <p:spPr>
          <a:xfrm>
            <a:off x="642960" y="100008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TextBox 14"/>
          <p:cNvSpPr/>
          <p:nvPr/>
        </p:nvSpPr>
        <p:spPr>
          <a:xfrm>
            <a:off x="357120" y="1857240"/>
            <a:ext cx="8572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In acute care, the health of an individual is the primary focus. Community health broadens that focus to concentrate on families, populations, and the community at large. The community becomes the recipient of service, and health becomes the product. Viewed from another perspective, community health is concerned with the interchange betwe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population groups and their total environment, and with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impact of that interchange on collective heal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Group 6"/>
          <p:cNvGrpSpPr/>
          <p:nvPr/>
        </p:nvGrpSpPr>
        <p:grpSpPr>
          <a:xfrm>
            <a:off x="8648640" y="498600"/>
            <a:ext cx="306360" cy="122040"/>
            <a:chOff x="8648640" y="498600"/>
            <a:chExt cx="306360" cy="122040"/>
          </a:xfrm>
        </p:grpSpPr>
        <p:sp>
          <p:nvSpPr>
            <p:cNvPr id="13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4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TextBox 14"/>
          <p:cNvSpPr/>
          <p:nvPr/>
        </p:nvSpPr>
        <p:spPr>
          <a:xfrm>
            <a:off x="285840" y="157176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lthough many believe that health and illness are individual issues, evidence indicates that they also are community issues. The spread of the HIV pandemic, nationally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internationally, is a dramatic and tragic case in point (Berkman, 2001). Other community and national concerns include the rising incidence and prevalence of sexually transmitted diseases, substance abuse, tuberculosis, teen pregnancy, family and teen violence, terrorism, and pollution-driven environmental hazards. Communities can influence the spread of disease, provide barriers to protect members from health hazards, organize ways to combat outbreaks of infectious disease, and promote practices that contribute to individual and collective health (American Nurses Association [ANA], 2000; Clark, 2002;Wurzbach, 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BANDAR</cp:lastModifiedBy>
  <cp:lastPrinted>2008-03-05T21:18:32Z</cp:lastPrinted>
  <dcterms:modified xsi:type="dcterms:W3CDTF">2013-11-04T00:05:58Z</dcterms:modified>
  <cp:revision>167</cp:revision>
  <dc:subject/>
  <dc:title>Slide 1</dc:title>
</cp:coreProperties>
</file>