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318C-4A32-49C5-816E-5FE11ECB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4400" y="698400"/>
            <a:ext cx="4654440" cy="3490920"/>
          </a:xfrm>
          <a:prstGeom prst="rect">
            <a:avLst/>
          </a:prstGeom>
          <a:ln w="0">
            <a:noFill/>
          </a:ln>
        </p:spPr>
      </p:sp>
      <p:sp>
        <p:nvSpPr>
          <p:cNvPr id="1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E0B3-ABF0-4D79-AED2-8F27CBDF4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4400" y="698400"/>
            <a:ext cx="4654440" cy="3490920"/>
          </a:xfrm>
          <a:prstGeom prst="rect">
            <a:avLst/>
          </a:prstGeom>
          <a:ln w="0">
            <a:noFill/>
          </a:ln>
        </p:spPr>
      </p:sp>
      <p:sp>
        <p:nvSpPr>
          <p:cNvPr id="19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C819-13B1-4AF9-8793-738578FFA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4400" y="698400"/>
            <a:ext cx="4654440" cy="3490920"/>
          </a:xfrm>
          <a:prstGeom prst="rect">
            <a:avLst/>
          </a:prstGeom>
          <a:ln w="0">
            <a:noFill/>
          </a:ln>
        </p:spPr>
      </p:sp>
      <p:sp>
        <p:nvSpPr>
          <p:cNvPr id="20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C36C-79E7-4207-9960-C8282827C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4400" y="698400"/>
            <a:ext cx="4654440" cy="3490920"/>
          </a:xfrm>
          <a:prstGeom prst="rect">
            <a:avLst/>
          </a:prstGeom>
          <a:ln w="0">
            <a:noFill/>
          </a:ln>
        </p:spPr>
      </p:sp>
      <p:sp>
        <p:nvSpPr>
          <p:cNvPr id="1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A9FF-F5BA-427E-BD53-5746C56E5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4400" y="698400"/>
            <a:ext cx="4654440" cy="3490920"/>
          </a:xfrm>
          <a:prstGeom prst="rect">
            <a:avLst/>
          </a:prstGeom>
          <a:ln w="0">
            <a:noFill/>
          </a:ln>
        </p:spPr>
      </p:sp>
      <p:sp>
        <p:nvSpPr>
          <p:cNvPr id="17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32E8-9CF7-4974-8B82-3862C3E08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4400" y="698400"/>
            <a:ext cx="4654440" cy="3490920"/>
          </a:xfrm>
          <a:prstGeom prst="rect">
            <a:avLst/>
          </a:prstGeom>
          <a:ln w="0">
            <a:noFill/>
          </a:ln>
        </p:spPr>
      </p:sp>
      <p:sp>
        <p:nvSpPr>
          <p:cNvPr id="1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531E-936B-4E09-9A49-443128273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4400" y="698400"/>
            <a:ext cx="4654440" cy="3490920"/>
          </a:xfrm>
          <a:prstGeom prst="rect">
            <a:avLst/>
          </a:prstGeom>
          <a:ln w="0">
            <a:noFill/>
          </a:ln>
        </p:spPr>
      </p:sp>
      <p:sp>
        <p:nvSpPr>
          <p:cNvPr id="1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C4D6-E3F1-40CF-B90A-B76403CF6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4400" y="698400"/>
            <a:ext cx="4654440" cy="3490920"/>
          </a:xfrm>
          <a:prstGeom prst="rect">
            <a:avLst/>
          </a:prstGeom>
          <a:ln w="0">
            <a:noFill/>
          </a:ln>
        </p:spPr>
      </p:sp>
      <p:sp>
        <p:nvSpPr>
          <p:cNvPr id="18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C407-1893-421D-9097-6B1C6DD25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8400"/>
            <a:ext cx="4654440" cy="3490920"/>
          </a:xfrm>
          <a:prstGeom prst="rect">
            <a:avLst/>
          </a:prstGeom>
          <a:ln w="0">
            <a:noFill/>
          </a:ln>
        </p:spPr>
      </p:sp>
      <p:sp>
        <p:nvSpPr>
          <p:cNvPr id="18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59E8-BC08-4EA8-82DD-D79B58F51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4400" y="698400"/>
            <a:ext cx="4654440" cy="3490920"/>
          </a:xfrm>
          <a:prstGeom prst="rect">
            <a:avLst/>
          </a:prstGeom>
          <a:ln w="0">
            <a:noFill/>
          </a:ln>
        </p:spPr>
      </p:sp>
      <p:sp>
        <p:nvSpPr>
          <p:cNvPr id="19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8AB9-3BC5-4FBB-BAE8-032FC2C51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4400" y="698400"/>
            <a:ext cx="4654440" cy="3490920"/>
          </a:xfrm>
          <a:prstGeom prst="rect">
            <a:avLst/>
          </a:prstGeom>
          <a:ln w="0">
            <a:noFill/>
          </a:ln>
        </p:spPr>
      </p:sp>
      <p:sp>
        <p:nvSpPr>
          <p:cNvPr id="19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810E-287F-425B-B3A2-E0D89DB3F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F652E-2313-4A9F-B013-21BED59FD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F67B-2410-4648-BEB2-F2347CE95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45358-D97E-4BF7-984B-A2EF58237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F3202-8A22-4F95-9747-D4F798A65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56A4-E956-4CBA-9F2C-E1E421D46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F97AF-AD86-4D19-9BE1-D47A5831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D7DD-4B12-47DC-8E86-880A344E2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2EC6-F74E-4FB1-9D23-FFD13E81B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94D14-18C2-40B6-B3BC-CDFD471E2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8EA5-810C-471E-AD7A-C78D4E06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FC10-900C-411D-A8AC-EE1C20FC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9821-7F64-449D-840A-4285341B9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38F0-A766-4A53-A6BE-F343F7001C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Legal Issues in community  health nursing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6"/>
          <p:cNvGrpSpPr/>
          <p:nvPr/>
        </p:nvGrpSpPr>
        <p:grpSpPr>
          <a:xfrm>
            <a:off x="8648640" y="498600"/>
            <a:ext cx="306360" cy="122040"/>
            <a:chOff x="8648640" y="498600"/>
            <a:chExt cx="306360" cy="122040"/>
          </a:xfrm>
        </p:grpSpPr>
        <p:sp>
          <p:nvSpPr>
            <p:cNvPr id="1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1"/>
          <p:cNvSpPr/>
          <p:nvPr/>
        </p:nvSpPr>
        <p:spPr>
          <a:xfrm>
            <a:off x="285840" y="695160"/>
            <a:ext cx="828684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raditional Arabic"/>
              </a:rPr>
              <a:t>Nurses should be take the following steps to safeguard themselves against a professional negligence action: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Current with your job requirements, including any policies that ascribes additional responsibilities to your position.</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ld regular staff meeting with mandatory attendance.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 the free flow of communication among staff.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ew incidents without implication or blame emphasize the opportunity to improve the patient care process.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sure that routinely needed reference materials, such as hospital policies, procedures, guidelines and reference books, are readily accessible for all nur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6"/>
          <p:cNvGrpSpPr/>
          <p:nvPr/>
        </p:nvGrpSpPr>
        <p:grpSpPr>
          <a:xfrm>
            <a:off x="8648640" y="498600"/>
            <a:ext cx="306360" cy="122040"/>
            <a:chOff x="8648640" y="498600"/>
            <a:chExt cx="306360" cy="122040"/>
          </a:xfrm>
        </p:grpSpPr>
        <p:sp>
          <p:nvSpPr>
            <p:cNvPr id="1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1"/>
          <p:cNvSpPr/>
          <p:nvPr/>
        </p:nvSpPr>
        <p:spPr>
          <a:xfrm>
            <a:off x="428760" y="879840"/>
            <a:ext cx="82152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ain a system to give all nurses the opportunity to review amended policies as they are revis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 continuing education and probe nurses for insight into improving patient car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ss communication about a patient’s status and ensure that staff adheres to documentation guidelin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a system for filing and tracking patient care incidents to identify areas where the staff needs educa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ly train staff to use new patient care quipmen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ice staff when the hospital creates, revises, or retires policies or implements a new method of providing patient c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3000240" y="-301320"/>
            <a:ext cx="61437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gal Issues in community health nursing : Objec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357200"/>
            <a:ext cx="8643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empus Sans ITC"/>
              </a:rPr>
              <a:t>After completion the lecture the students enable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1"/>
          <p:cNvSpPr/>
          <p:nvPr/>
        </p:nvSpPr>
        <p:spPr>
          <a:xfrm>
            <a:off x="214200" y="948960"/>
            <a:ext cx="873144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raditional Arabic"/>
              </a:rPr>
              <a:t>In a civilized society, a system of laws promotes order, protects the rights of citizens and provides the framework for a wide variety of relationships. Laws help establish order within a society for the common good of all. In today’s complex worl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raditional Arabic"/>
              </a:rPr>
              <a:t>with advancing technologies and array of societal problems, legal issues are an important aspect of life. For nurses in  practice within the current health system, knowledge of basic legal concepts is vital. (Deloughery, 199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1"/>
          <p:cNvSpPr/>
          <p:nvPr/>
        </p:nvSpPr>
        <p:spPr>
          <a:xfrm>
            <a:off x="214200" y="954720"/>
            <a:ext cx="873144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rses have been legally accountable for their actions for many years, and current trends regarding the legal ramifications of nursing practice compel nurses to learn the legal aspects of their field. Many nurses are functioning in more autonomous roles in which liability exposure increases in proportion to their level of independence. In addition to that the increasing demands in healthcare for quality in patient care services and increasing patient awareness of health care issues directly increase the number of complaints and litigation. So nurses must be aware of legal implications of nursing practice because present day society is litigious, and an increasing number of nurses have been named as defendants in malpractice lawsuits. (Deloughery, 1998, and Elnitsky, Nichols, and Palmer, 1999, and Showers,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
          <p:cNvSpPr/>
          <p:nvPr/>
        </p:nvSpPr>
        <p:spPr>
          <a:xfrm>
            <a:off x="214200" y="943920"/>
            <a:ext cx="8731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negligence and malpract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ligence: “the omission to do something that a reasonable person, guided by those ordinary considerations, which ordinarily regulate human affairs, would to do, or doing something, which a reasonable and prudent person would not to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ailure to exercise the degree of care that a reasonable nurse would exercise under the same or similar circumsta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1"/>
          <p:cNvSpPr/>
          <p:nvPr/>
        </p:nvSpPr>
        <p:spPr>
          <a:xfrm>
            <a:off x="214200" y="941760"/>
            <a:ext cx="87314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pract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part of law of negligence applied to the professional person: It is, in effect, any professional misconduct or unreasonable lack of professional skill”. A nurse could be guilty if she or he injured a client while performing a procedure differently from the way other nurses would have done it. Negligence applies to any person who, for example, drove a car too quickly in snowy weather and injured a pedestri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
          <p:cNvSpPr/>
          <p:nvPr/>
        </p:nvSpPr>
        <p:spPr>
          <a:xfrm>
            <a:off x="214200" y="941760"/>
            <a:ext cx="87314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malpractice sit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err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observe and take appropriate 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taken ident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ge cou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
          <p:cNvSpPr/>
          <p:nvPr/>
        </p:nvSpPr>
        <p:spPr>
          <a:xfrm>
            <a:off x="214200" y="949320"/>
            <a:ext cx="8731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s of Malpractic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essentially four elements that must be presented in a successful malpractice suit; all of these factors must be proven before the court will find liability against the nurse and/or institution. This includes the following: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rse’s had a duty to provide care to the patient and to follow an acceptable standard of car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rse’s failure to adhere to standard of car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rse’s failure to adhere to standard of care caused the patient’s injurie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intiff suffered damages as a result of the nurse’s negligent 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
          <p:cNvSpPr/>
          <p:nvPr/>
        </p:nvSpPr>
        <p:spPr>
          <a:xfrm>
            <a:off x="214200" y="645120"/>
            <a:ext cx="8731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ments of Mal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7" name=""/>
          <p:cNvGraphicFramePr/>
          <p:nvPr/>
        </p:nvGraphicFramePr>
        <p:xfrm>
          <a:off x="357120" y="1357200"/>
          <a:ext cx="8286840" cy="4664160"/>
        </p:xfrm>
        <a:graphic>
          <a:graphicData uri="http://schemas.openxmlformats.org/drawingml/2006/table">
            <a:tbl>
              <a:tblPr/>
              <a:tblGrid>
                <a:gridCol w="3164040"/>
                <a:gridCol w="5122800"/>
              </a:tblGrid>
              <a:tr h="54900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raditional Arabic"/>
                        </a:rPr>
                        <a:t>Element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raditional Arabic"/>
                        </a:rPr>
                        <a:t>Example</a:t>
                      </a:r>
                      <a:r>
                        <a:rPr b="1" lang="en-US" sz="2400" spc="-1" strike="noStrike">
                          <a:solidFill>
                            <a:srgbClr val="ffffff"/>
                          </a:solidFill>
                          <a:latin typeface="Comic Sans MS"/>
                          <a:ea typeface="Traditional Arabic"/>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ty owed the pat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ature of the du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istence of the du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each of the duty ow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see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jury</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mag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monitor a patient’s response to trea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communicate change in stat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he primary health care provi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ensure minimum standards are m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provide patient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ient fa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ctured hip, concuss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7-17T08:28:30Z</dcterms:modified>
  <cp:revision>242</cp:revision>
  <dc:subject/>
  <dc:title>Slide 1</dc:title>
</cp:coreProperties>
</file>