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043080" cy="4651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8000" y="0"/>
            <a:ext cx="3043080" cy="465120"/>
          </a:xfrm>
          <a:prstGeom prst="rect">
            <a:avLst/>
          </a:prstGeom>
          <a:noFill/>
          <a:ln w="0">
            <a:noFill/>
          </a:ln>
        </p:spPr>
        <p:txBody>
          <a:bodyPr lIns="93240" rIns="9324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4040" y="698040"/>
            <a:ext cx="4654440" cy="3490920"/>
          </a:xfrm>
          <a:prstGeom prst="rect">
            <a:avLst/>
          </a:prstGeom>
          <a:noFill/>
          <a:ln w="12600">
            <a:solidFill>
              <a:srgbClr val="000000"/>
            </a:solidFill>
            <a:miter/>
          </a:ln>
        </p:spPr>
        <p:txBody>
          <a:bodyPr lIns="93240" rIns="9324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42320"/>
            <a:ext cx="3043080" cy="46512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8000" y="8842320"/>
            <a:ext cx="3043080" cy="46512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45AF7-7B10-4CB0-AB22-FD2D637E5C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84400" y="698400"/>
            <a:ext cx="4654440" cy="3490920"/>
          </a:xfrm>
          <a:prstGeom prst="rect">
            <a:avLst/>
          </a:prstGeom>
          <a:ln w="0">
            <a:noFill/>
          </a:ln>
        </p:spPr>
      </p:sp>
      <p:sp>
        <p:nvSpPr>
          <p:cNvPr id="621"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2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C1851-D1E2-4E81-9156-5263B50472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84400" y="698400"/>
            <a:ext cx="4654440" cy="3490920"/>
          </a:xfrm>
          <a:prstGeom prst="rect">
            <a:avLst/>
          </a:prstGeom>
          <a:ln w="0">
            <a:noFill/>
          </a:ln>
        </p:spPr>
      </p:sp>
      <p:sp>
        <p:nvSpPr>
          <p:cNvPr id="648"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4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D4260-CAFB-4BAA-A74B-E33DA56F6B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84400" y="698400"/>
            <a:ext cx="4654440" cy="3490920"/>
          </a:xfrm>
          <a:prstGeom prst="rect">
            <a:avLst/>
          </a:prstGeom>
          <a:ln w="0">
            <a:noFill/>
          </a:ln>
        </p:spPr>
      </p:sp>
      <p:sp>
        <p:nvSpPr>
          <p:cNvPr id="651"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5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14A6E-BE60-4F0D-9D2B-D303E0E619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84400" y="698400"/>
            <a:ext cx="4654440" cy="3490920"/>
          </a:xfrm>
          <a:prstGeom prst="rect">
            <a:avLst/>
          </a:prstGeom>
          <a:ln w="0">
            <a:noFill/>
          </a:ln>
        </p:spPr>
      </p:sp>
      <p:sp>
        <p:nvSpPr>
          <p:cNvPr id="654"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5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E6C09-5B7A-4721-A716-387C3FA41C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84400" y="698400"/>
            <a:ext cx="4654440" cy="3490920"/>
          </a:xfrm>
          <a:prstGeom prst="rect">
            <a:avLst/>
          </a:prstGeom>
          <a:ln w="0">
            <a:noFill/>
          </a:ln>
        </p:spPr>
      </p:sp>
      <p:sp>
        <p:nvSpPr>
          <p:cNvPr id="657"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5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D11C2-79E2-424E-80FE-C10A0F30E5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84400" y="698400"/>
            <a:ext cx="4654440" cy="3490920"/>
          </a:xfrm>
          <a:prstGeom prst="rect">
            <a:avLst/>
          </a:prstGeom>
          <a:ln w="0">
            <a:noFill/>
          </a:ln>
        </p:spPr>
      </p:sp>
      <p:sp>
        <p:nvSpPr>
          <p:cNvPr id="660"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6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6B302-733F-41D5-A898-7337A4F767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84400" y="698400"/>
            <a:ext cx="4654440" cy="3490920"/>
          </a:xfrm>
          <a:prstGeom prst="rect">
            <a:avLst/>
          </a:prstGeom>
          <a:ln w="0">
            <a:noFill/>
          </a:ln>
        </p:spPr>
      </p:sp>
      <p:sp>
        <p:nvSpPr>
          <p:cNvPr id="663"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6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579D1-9123-4F60-9457-D5600D3E1C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84400" y="698400"/>
            <a:ext cx="4654440" cy="3490920"/>
          </a:xfrm>
          <a:prstGeom prst="rect">
            <a:avLst/>
          </a:prstGeom>
          <a:ln w="0">
            <a:noFill/>
          </a:ln>
        </p:spPr>
      </p:sp>
      <p:sp>
        <p:nvSpPr>
          <p:cNvPr id="666"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6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0B52E-83A6-417C-B3EB-45C1964444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84400" y="698400"/>
            <a:ext cx="4654440" cy="3490920"/>
          </a:xfrm>
          <a:prstGeom prst="rect">
            <a:avLst/>
          </a:prstGeom>
          <a:ln w="0">
            <a:noFill/>
          </a:ln>
        </p:spPr>
      </p:sp>
      <p:sp>
        <p:nvSpPr>
          <p:cNvPr id="669"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7CF26-AC9E-40E0-A48B-151C53F252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84400" y="698400"/>
            <a:ext cx="4654440" cy="3490920"/>
          </a:xfrm>
          <a:prstGeom prst="rect">
            <a:avLst/>
          </a:prstGeom>
          <a:ln w="0">
            <a:noFill/>
          </a:ln>
        </p:spPr>
      </p:sp>
      <p:sp>
        <p:nvSpPr>
          <p:cNvPr id="672"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2F6CB-CA11-4154-AA66-585B429CA7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84400" y="698400"/>
            <a:ext cx="4654440" cy="3490920"/>
          </a:xfrm>
          <a:prstGeom prst="rect">
            <a:avLst/>
          </a:prstGeom>
          <a:ln w="0">
            <a:noFill/>
          </a:ln>
        </p:spPr>
      </p:sp>
      <p:sp>
        <p:nvSpPr>
          <p:cNvPr id="675"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98B61-5B4F-4F03-8F7A-982F51A523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84400" y="698400"/>
            <a:ext cx="4654440" cy="3490920"/>
          </a:xfrm>
          <a:prstGeom prst="rect">
            <a:avLst/>
          </a:prstGeom>
          <a:ln w="0">
            <a:noFill/>
          </a:ln>
        </p:spPr>
      </p:sp>
      <p:sp>
        <p:nvSpPr>
          <p:cNvPr id="624"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2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98C2E-5EA3-4E75-A500-E9D77E74E0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84400" y="698400"/>
            <a:ext cx="4654440" cy="3490920"/>
          </a:xfrm>
          <a:prstGeom prst="rect">
            <a:avLst/>
          </a:prstGeom>
          <a:ln w="0">
            <a:noFill/>
          </a:ln>
        </p:spPr>
      </p:sp>
      <p:sp>
        <p:nvSpPr>
          <p:cNvPr id="678"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35368-7514-41AC-B552-42B22F3C61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84400" y="698400"/>
            <a:ext cx="4654440" cy="3490920"/>
          </a:xfrm>
          <a:prstGeom prst="rect">
            <a:avLst/>
          </a:prstGeom>
          <a:ln w="0">
            <a:noFill/>
          </a:ln>
        </p:spPr>
      </p:sp>
      <p:sp>
        <p:nvSpPr>
          <p:cNvPr id="681"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596AA-F94A-4F22-91EB-69CA8BAB28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84400" y="698400"/>
            <a:ext cx="4654440" cy="3490920"/>
          </a:xfrm>
          <a:prstGeom prst="rect">
            <a:avLst/>
          </a:prstGeom>
          <a:ln w="0">
            <a:noFill/>
          </a:ln>
        </p:spPr>
      </p:sp>
      <p:sp>
        <p:nvSpPr>
          <p:cNvPr id="684"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F121A-9506-47F8-8F64-8507719BA3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84400" y="698400"/>
            <a:ext cx="4654440" cy="3490920"/>
          </a:xfrm>
          <a:prstGeom prst="rect">
            <a:avLst/>
          </a:prstGeom>
          <a:ln w="0">
            <a:noFill/>
          </a:ln>
        </p:spPr>
      </p:sp>
      <p:sp>
        <p:nvSpPr>
          <p:cNvPr id="687"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C6264-C5DE-4FF3-9F36-336A07F3F9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84400" y="698400"/>
            <a:ext cx="4654440" cy="3490920"/>
          </a:xfrm>
          <a:prstGeom prst="rect">
            <a:avLst/>
          </a:prstGeom>
          <a:ln w="0">
            <a:noFill/>
          </a:ln>
        </p:spPr>
      </p:sp>
      <p:sp>
        <p:nvSpPr>
          <p:cNvPr id="690"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B52E6-DAD2-462E-9853-C8C9CBA55D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84400" y="698400"/>
            <a:ext cx="4654440" cy="3490920"/>
          </a:xfrm>
          <a:prstGeom prst="rect">
            <a:avLst/>
          </a:prstGeom>
          <a:ln w="0">
            <a:noFill/>
          </a:ln>
        </p:spPr>
      </p:sp>
      <p:sp>
        <p:nvSpPr>
          <p:cNvPr id="693"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D920F-0137-4684-BD98-24FBCB7057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84400" y="698400"/>
            <a:ext cx="4654440" cy="3490920"/>
          </a:xfrm>
          <a:prstGeom prst="rect">
            <a:avLst/>
          </a:prstGeom>
          <a:ln w="0">
            <a:noFill/>
          </a:ln>
        </p:spPr>
      </p:sp>
      <p:sp>
        <p:nvSpPr>
          <p:cNvPr id="696"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7FD95-BAF0-45EC-A92F-6623EBE84B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84400" y="698400"/>
            <a:ext cx="4654440" cy="3490920"/>
          </a:xfrm>
          <a:prstGeom prst="rect">
            <a:avLst/>
          </a:prstGeom>
          <a:ln w="0">
            <a:noFill/>
          </a:ln>
        </p:spPr>
      </p:sp>
      <p:sp>
        <p:nvSpPr>
          <p:cNvPr id="699"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6C346-5051-4887-B88D-8AEF4B7B0E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84400" y="698400"/>
            <a:ext cx="4654440" cy="3490920"/>
          </a:xfrm>
          <a:prstGeom prst="rect">
            <a:avLst/>
          </a:prstGeom>
          <a:ln w="0">
            <a:noFill/>
          </a:ln>
        </p:spPr>
      </p:sp>
      <p:sp>
        <p:nvSpPr>
          <p:cNvPr id="702"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29F3D-20F3-470F-9AB0-6D9F2067CD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84400" y="698400"/>
            <a:ext cx="4654440" cy="3490920"/>
          </a:xfrm>
          <a:prstGeom prst="rect">
            <a:avLst/>
          </a:prstGeom>
          <a:ln w="0">
            <a:noFill/>
          </a:ln>
        </p:spPr>
      </p:sp>
      <p:sp>
        <p:nvSpPr>
          <p:cNvPr id="705"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CBF39-C29B-4878-B2D7-EC3E1C92A3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84400" y="698400"/>
            <a:ext cx="4654440" cy="3490920"/>
          </a:xfrm>
          <a:prstGeom prst="rect">
            <a:avLst/>
          </a:prstGeom>
          <a:ln w="0">
            <a:noFill/>
          </a:ln>
        </p:spPr>
      </p:sp>
      <p:sp>
        <p:nvSpPr>
          <p:cNvPr id="627"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2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E7299-AE94-4D51-B25B-00EC61B7D2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84400" y="698400"/>
            <a:ext cx="4654440" cy="3490920"/>
          </a:xfrm>
          <a:prstGeom prst="rect">
            <a:avLst/>
          </a:prstGeom>
          <a:ln w="0">
            <a:noFill/>
          </a:ln>
        </p:spPr>
      </p:sp>
      <p:sp>
        <p:nvSpPr>
          <p:cNvPr id="708"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9BF9B-3575-4B13-9149-54E57BA6B9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84400" y="698400"/>
            <a:ext cx="4654440" cy="3490920"/>
          </a:xfrm>
          <a:prstGeom prst="rect">
            <a:avLst/>
          </a:prstGeom>
          <a:ln w="0">
            <a:noFill/>
          </a:ln>
        </p:spPr>
      </p:sp>
      <p:sp>
        <p:nvSpPr>
          <p:cNvPr id="711"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1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1D845-D997-4B79-AB2B-FED67BE677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84400" y="698400"/>
            <a:ext cx="4654440" cy="3490920"/>
          </a:xfrm>
          <a:prstGeom prst="rect">
            <a:avLst/>
          </a:prstGeom>
          <a:ln w="0">
            <a:noFill/>
          </a:ln>
        </p:spPr>
      </p:sp>
      <p:sp>
        <p:nvSpPr>
          <p:cNvPr id="714"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1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4BB3F-EF74-44CC-98C7-5651AC6171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84400" y="698400"/>
            <a:ext cx="4654440" cy="3490920"/>
          </a:xfrm>
          <a:prstGeom prst="rect">
            <a:avLst/>
          </a:prstGeom>
          <a:ln w="0">
            <a:noFill/>
          </a:ln>
        </p:spPr>
      </p:sp>
      <p:sp>
        <p:nvSpPr>
          <p:cNvPr id="717"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1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34591-FC24-4940-86B1-D91CEE6293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84400" y="698400"/>
            <a:ext cx="4654440" cy="3490920"/>
          </a:xfrm>
          <a:prstGeom prst="rect">
            <a:avLst/>
          </a:prstGeom>
          <a:ln w="0">
            <a:noFill/>
          </a:ln>
        </p:spPr>
      </p:sp>
      <p:sp>
        <p:nvSpPr>
          <p:cNvPr id="720"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2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5DE06-E05B-46D4-B5B9-8A5C872235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84400" y="698400"/>
            <a:ext cx="4654440" cy="3490920"/>
          </a:xfrm>
          <a:prstGeom prst="rect">
            <a:avLst/>
          </a:prstGeom>
          <a:ln w="0">
            <a:noFill/>
          </a:ln>
        </p:spPr>
      </p:sp>
      <p:sp>
        <p:nvSpPr>
          <p:cNvPr id="723"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2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AB8BF-6DD7-4442-9408-ABBF64B355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84400" y="698400"/>
            <a:ext cx="4654440" cy="3490920"/>
          </a:xfrm>
          <a:prstGeom prst="rect">
            <a:avLst/>
          </a:prstGeom>
          <a:ln w="0">
            <a:noFill/>
          </a:ln>
        </p:spPr>
      </p:sp>
      <p:sp>
        <p:nvSpPr>
          <p:cNvPr id="726"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2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E9694-B3B2-42CB-8010-D0356C7458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84400" y="698400"/>
            <a:ext cx="4654440" cy="3490920"/>
          </a:xfrm>
          <a:prstGeom prst="rect">
            <a:avLst/>
          </a:prstGeom>
          <a:ln w="0">
            <a:noFill/>
          </a:ln>
        </p:spPr>
      </p:sp>
      <p:sp>
        <p:nvSpPr>
          <p:cNvPr id="729"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3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5325C-99E3-4ED2-B3A4-B1B551B1D0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84400" y="698400"/>
            <a:ext cx="4654440" cy="3490920"/>
          </a:xfrm>
          <a:prstGeom prst="rect">
            <a:avLst/>
          </a:prstGeom>
          <a:ln w="0">
            <a:noFill/>
          </a:ln>
        </p:spPr>
      </p:sp>
      <p:sp>
        <p:nvSpPr>
          <p:cNvPr id="732"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3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F5234-B3E3-4BD8-B6C1-BAE684FA6A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84400" y="698400"/>
            <a:ext cx="4654440" cy="3490920"/>
          </a:xfrm>
          <a:prstGeom prst="rect">
            <a:avLst/>
          </a:prstGeom>
          <a:ln w="0">
            <a:noFill/>
          </a:ln>
        </p:spPr>
      </p:sp>
      <p:sp>
        <p:nvSpPr>
          <p:cNvPr id="735"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3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6AFB1-A5F6-47C3-B317-730E47A52B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84400" y="698400"/>
            <a:ext cx="4654440" cy="3490920"/>
          </a:xfrm>
          <a:prstGeom prst="rect">
            <a:avLst/>
          </a:prstGeom>
          <a:ln w="0">
            <a:noFill/>
          </a:ln>
        </p:spPr>
      </p:sp>
      <p:sp>
        <p:nvSpPr>
          <p:cNvPr id="630"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3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9BA04-EAAB-4CBF-89BA-AF1B5CAC0F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84400" y="698400"/>
            <a:ext cx="4654440" cy="3490920"/>
          </a:xfrm>
          <a:prstGeom prst="rect">
            <a:avLst/>
          </a:prstGeom>
          <a:ln w="0">
            <a:noFill/>
          </a:ln>
        </p:spPr>
      </p:sp>
      <p:sp>
        <p:nvSpPr>
          <p:cNvPr id="738"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3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CF69D-5F47-493A-BBC8-681F4E0EC6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84400" y="698400"/>
            <a:ext cx="4654440" cy="3490920"/>
          </a:xfrm>
          <a:prstGeom prst="rect">
            <a:avLst/>
          </a:prstGeom>
          <a:ln w="0">
            <a:noFill/>
          </a:ln>
        </p:spPr>
      </p:sp>
      <p:sp>
        <p:nvSpPr>
          <p:cNvPr id="741"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4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A354A-F458-47AA-9088-634832ED1F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84400" y="698400"/>
            <a:ext cx="4654440" cy="3490920"/>
          </a:xfrm>
          <a:prstGeom prst="rect">
            <a:avLst/>
          </a:prstGeom>
          <a:ln w="0">
            <a:noFill/>
          </a:ln>
        </p:spPr>
      </p:sp>
      <p:sp>
        <p:nvSpPr>
          <p:cNvPr id="744"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4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04C2E-F1BA-4A0A-9190-C2183D2649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84400" y="698400"/>
            <a:ext cx="4654440" cy="3490920"/>
          </a:xfrm>
          <a:prstGeom prst="rect">
            <a:avLst/>
          </a:prstGeom>
          <a:ln w="0">
            <a:noFill/>
          </a:ln>
        </p:spPr>
      </p:sp>
      <p:sp>
        <p:nvSpPr>
          <p:cNvPr id="747"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4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9FBC0-0391-4BBF-8708-597D70031B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84400" y="698400"/>
            <a:ext cx="4654440" cy="3490920"/>
          </a:xfrm>
          <a:prstGeom prst="rect">
            <a:avLst/>
          </a:prstGeom>
          <a:ln w="0">
            <a:noFill/>
          </a:ln>
        </p:spPr>
      </p:sp>
      <p:sp>
        <p:nvSpPr>
          <p:cNvPr id="750"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5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2B4A5-0206-49D6-9A40-0CC85E2D77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84400" y="698400"/>
            <a:ext cx="4654440" cy="3490920"/>
          </a:xfrm>
          <a:prstGeom prst="rect">
            <a:avLst/>
          </a:prstGeom>
          <a:ln w="0">
            <a:noFill/>
          </a:ln>
        </p:spPr>
      </p:sp>
      <p:sp>
        <p:nvSpPr>
          <p:cNvPr id="753"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5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1EF10-37E8-42D9-9FEF-4649846CD7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84400" y="698400"/>
            <a:ext cx="4654440" cy="3490920"/>
          </a:xfrm>
          <a:prstGeom prst="rect">
            <a:avLst/>
          </a:prstGeom>
          <a:ln w="0">
            <a:noFill/>
          </a:ln>
        </p:spPr>
      </p:sp>
      <p:sp>
        <p:nvSpPr>
          <p:cNvPr id="756"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5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88666-8CCF-42DF-BAA6-BDB79FF76C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84400" y="698400"/>
            <a:ext cx="4654440" cy="3490920"/>
          </a:xfrm>
          <a:prstGeom prst="rect">
            <a:avLst/>
          </a:prstGeom>
          <a:ln w="0">
            <a:noFill/>
          </a:ln>
        </p:spPr>
      </p:sp>
      <p:sp>
        <p:nvSpPr>
          <p:cNvPr id="759"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1B8FD-EBA7-4290-BBA2-C8AD7202E0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84400" y="698400"/>
            <a:ext cx="4654440" cy="3490920"/>
          </a:xfrm>
          <a:prstGeom prst="rect">
            <a:avLst/>
          </a:prstGeom>
          <a:ln w="0">
            <a:noFill/>
          </a:ln>
        </p:spPr>
      </p:sp>
      <p:sp>
        <p:nvSpPr>
          <p:cNvPr id="762"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A5D6E-EBE2-426C-9617-81A975C58C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84400" y="698400"/>
            <a:ext cx="4654440" cy="3490920"/>
          </a:xfrm>
          <a:prstGeom prst="rect">
            <a:avLst/>
          </a:prstGeom>
          <a:ln w="0">
            <a:noFill/>
          </a:ln>
        </p:spPr>
      </p:sp>
      <p:sp>
        <p:nvSpPr>
          <p:cNvPr id="765"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82F26-25C2-4D1E-84B1-DA9FFD3B6F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84400" y="698400"/>
            <a:ext cx="4654440" cy="3490920"/>
          </a:xfrm>
          <a:prstGeom prst="rect">
            <a:avLst/>
          </a:prstGeom>
          <a:ln w="0">
            <a:noFill/>
          </a:ln>
        </p:spPr>
      </p:sp>
      <p:sp>
        <p:nvSpPr>
          <p:cNvPr id="633"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3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9FAF0-58C3-4348-B631-046DF187D1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84400" y="698400"/>
            <a:ext cx="4654440" cy="3490920"/>
          </a:xfrm>
          <a:prstGeom prst="rect">
            <a:avLst/>
          </a:prstGeom>
          <a:ln w="0">
            <a:noFill/>
          </a:ln>
        </p:spPr>
      </p:sp>
      <p:sp>
        <p:nvSpPr>
          <p:cNvPr id="768"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23750-5A22-4334-A6FD-C77380CB4B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84400" y="698400"/>
            <a:ext cx="4654440" cy="3490920"/>
          </a:xfrm>
          <a:prstGeom prst="rect">
            <a:avLst/>
          </a:prstGeom>
          <a:ln w="0">
            <a:noFill/>
          </a:ln>
        </p:spPr>
      </p:sp>
      <p:sp>
        <p:nvSpPr>
          <p:cNvPr id="771"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7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CE44B-1F14-4A66-BBB8-951C3ECA13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84400" y="698400"/>
            <a:ext cx="4654440" cy="3490920"/>
          </a:xfrm>
          <a:prstGeom prst="rect">
            <a:avLst/>
          </a:prstGeom>
          <a:ln w="0">
            <a:noFill/>
          </a:ln>
        </p:spPr>
      </p:sp>
      <p:sp>
        <p:nvSpPr>
          <p:cNvPr id="774"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7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9BABA-F202-4310-A811-BCDC804F57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84400" y="698400"/>
            <a:ext cx="4654440" cy="3490920"/>
          </a:xfrm>
          <a:prstGeom prst="rect">
            <a:avLst/>
          </a:prstGeom>
          <a:ln w="0">
            <a:noFill/>
          </a:ln>
        </p:spPr>
      </p:sp>
      <p:sp>
        <p:nvSpPr>
          <p:cNvPr id="636"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3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DBB3F-D282-4565-B144-F246837543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84400" y="698400"/>
            <a:ext cx="4654440" cy="3490920"/>
          </a:xfrm>
          <a:prstGeom prst="rect">
            <a:avLst/>
          </a:prstGeom>
          <a:ln w="0">
            <a:noFill/>
          </a:ln>
        </p:spPr>
      </p:sp>
      <p:sp>
        <p:nvSpPr>
          <p:cNvPr id="639"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4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0FEC7-E380-466A-A907-A10F0CBFD3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84400" y="698400"/>
            <a:ext cx="4654440" cy="3490920"/>
          </a:xfrm>
          <a:prstGeom prst="rect">
            <a:avLst/>
          </a:prstGeom>
          <a:ln w="0">
            <a:noFill/>
          </a:ln>
        </p:spPr>
      </p:sp>
      <p:sp>
        <p:nvSpPr>
          <p:cNvPr id="642"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4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6B800-3076-49D1-AB14-E8931F7ABC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84400" y="698400"/>
            <a:ext cx="4654440" cy="3490920"/>
          </a:xfrm>
          <a:prstGeom prst="rect">
            <a:avLst/>
          </a:prstGeom>
          <a:ln w="0">
            <a:noFill/>
          </a:ln>
        </p:spPr>
      </p:sp>
      <p:sp>
        <p:nvSpPr>
          <p:cNvPr id="645"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4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3B0A7-FDAF-4866-B9FE-6FC36A24E8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EED6A9-30BA-4FC0-AAB4-0A3F825771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24EEA-4B78-4145-A079-53A00AD84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54A259-D62B-4BFD-A0E0-A0EF5E3C4E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F82276-32CE-4218-AF3A-8CBA84331D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31FC5-1B3D-4E03-971A-35C21C180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D7ABE-E9B8-4F0E-800E-CB0F3997E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ED8AF-5CF8-4752-9142-9DB2ABDEF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874D0-CFF2-4C14-8654-3D0E0AEBD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3D32D-9BCA-4082-A862-7C5D6E259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C624E-0223-4C53-81F9-D025AC923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4B8F2-F373-40C2-ACB8-38AB78831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28164-4004-4843-A1CC-8B516ED9C8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F4F47-35ED-43A5-B8E1-439876CA7CA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6"/>
          <p:cNvGrpSpPr/>
          <p:nvPr/>
        </p:nvGrpSpPr>
        <p:grpSpPr>
          <a:xfrm>
            <a:off x="8648640" y="498600"/>
            <a:ext cx="306360" cy="122040"/>
            <a:chOff x="8648640" y="498600"/>
            <a:chExt cx="306360" cy="122040"/>
          </a:xfrm>
        </p:grpSpPr>
        <p:sp>
          <p:nvSpPr>
            <p:cNvPr id="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Rectangle 10"/>
          <p:cNvSpPr/>
          <p:nvPr/>
        </p:nvSpPr>
        <p:spPr>
          <a:xfrm>
            <a:off x="3214800" y="-149040"/>
            <a:ext cx="5929200" cy="1252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r>
              <a:rPr b="1" lang="en-US" sz="2000" spc="-1" strike="noStrike">
                <a:solidFill>
                  <a:srgbClr val="ff0000"/>
                </a:solidFill>
                <a:latin typeface="Tempus Sans ITC"/>
              </a:rPr>
              <a:t>Prepared  by Suhail  Al Hu</a:t>
            </a:r>
            <a:r>
              <a:rPr b="1" lang="en-US" sz="1600" spc="-1" strike="noStrike">
                <a:solidFill>
                  <a:srgbClr val="ff0000"/>
                </a:solidFill>
                <a:latin typeface="Tempus Sans ITC"/>
              </a:rPr>
              <a:t>moud </a:t>
            </a:r>
            <a:endParaRPr b="0" lang="en-US" sz="1600" spc="-1" strike="noStrike">
              <a:solidFill>
                <a:srgbClr val="000000"/>
              </a:solidFill>
              <a:latin typeface="Arial"/>
            </a:endParaRPr>
          </a:p>
        </p:txBody>
      </p:sp>
      <p:sp>
        <p:nvSpPr>
          <p:cNvPr id="5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TextBox 14"/>
          <p:cNvSpPr/>
          <p:nvPr/>
        </p:nvSpPr>
        <p:spPr>
          <a:xfrm>
            <a:off x="500040" y="1428840"/>
            <a:ext cx="86439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Communicable Disease Control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Group 6"/>
          <p:cNvGrpSpPr/>
          <p:nvPr/>
        </p:nvGrpSpPr>
        <p:grpSpPr>
          <a:xfrm>
            <a:off x="8648640" y="498600"/>
            <a:ext cx="306360" cy="122040"/>
            <a:chOff x="8648640" y="498600"/>
            <a:chExt cx="306360" cy="122040"/>
          </a:xfrm>
        </p:grpSpPr>
        <p:sp>
          <p:nvSpPr>
            <p:cNvPr id="15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15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TextBox 14"/>
          <p:cNvSpPr/>
          <p:nvPr/>
        </p:nvSpPr>
        <p:spPr>
          <a:xfrm>
            <a:off x="285840" y="1071720"/>
            <a:ext cx="86439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he development of resistant (MDR) strains of bacter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d viruses poses a significant occupational health challenge as well as a practice issue for health work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urrent research reveals that infectious agents may be responsible for a number of the chronic diseases, includ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forms of cancer, that have occupied the interest 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care providers in the last few decad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1" name="Group 6"/>
          <p:cNvGrpSpPr/>
          <p:nvPr/>
        </p:nvGrpSpPr>
        <p:grpSpPr>
          <a:xfrm>
            <a:off x="8648640" y="498600"/>
            <a:ext cx="306360" cy="122040"/>
            <a:chOff x="8648640" y="498600"/>
            <a:chExt cx="306360" cy="122040"/>
          </a:xfrm>
        </p:grpSpPr>
        <p:sp>
          <p:nvSpPr>
            <p:cNvPr id="16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16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Rectangle 12"/>
          <p:cNvSpPr/>
          <p:nvPr/>
        </p:nvSpPr>
        <p:spPr>
          <a:xfrm>
            <a:off x="0" y="85716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volution of Communicable Disease Contro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cable diseases have challenged health care providers for centuri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y have led to the development of countless nursing and medical preventive measures, from simple procedures such as hand-washing, sanitation, and proper ventilation to the research and development of vaccines and antibiotic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ommunicable diseases, particularly those of epidemic and pandemic proportions, such as TB and acquired immunodeficiency syndrome (AIDS), continue to cost millions of lives and billions of dollars to the global human society every y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2" name="Group 6"/>
          <p:cNvGrpSpPr/>
          <p:nvPr/>
        </p:nvGrpSpPr>
        <p:grpSpPr>
          <a:xfrm>
            <a:off x="8648640" y="498600"/>
            <a:ext cx="306360" cy="122040"/>
            <a:chOff x="8648640" y="498600"/>
            <a:chExt cx="306360" cy="122040"/>
          </a:xfrm>
        </p:grpSpPr>
        <p:sp>
          <p:nvSpPr>
            <p:cNvPr id="17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6"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17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Rectangle 12"/>
          <p:cNvSpPr/>
          <p:nvPr/>
        </p:nvSpPr>
        <p:spPr>
          <a:xfrm>
            <a:off x="428760" y="928800"/>
            <a:ext cx="84294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lobal Tren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uring the last several decades, substantial progress has been made in controlling some major infectious diseases around the world, although other diseases have not been managed as well. The following are some of the major accomplishment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995, more than 80% of the world’s children had been immunized against </a:t>
            </a:r>
            <a:r>
              <a:rPr b="0" i="1" lang="en-US" sz="2400" spc="-1" strike="noStrike">
                <a:solidFill>
                  <a:srgbClr val="000000"/>
                </a:solidFill>
                <a:latin typeface="Comic Sans MS"/>
              </a:rPr>
              <a:t>diphtheria, tetanus, whooping cough, poliomyelitis, measles, and TB, compared with fewer than 5% in 1974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lobal eradication of </a:t>
            </a:r>
            <a:r>
              <a:rPr b="0" i="1" lang="en-US" sz="2400" spc="-1" strike="noStrike">
                <a:solidFill>
                  <a:srgbClr val="000000"/>
                </a:solidFill>
                <a:latin typeface="Comic Sans MS"/>
              </a:rPr>
              <a:t>smallpox was achieved in 198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cause of improved sanitation and hygiene, outbreaks 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relapsing fever, transmitted by lice, are rare to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Group 6"/>
          <p:cNvGrpSpPr/>
          <p:nvPr/>
        </p:nvGrpSpPr>
        <p:grpSpPr>
          <a:xfrm>
            <a:off x="8648640" y="498600"/>
            <a:ext cx="306360" cy="122040"/>
            <a:chOff x="8648640" y="498600"/>
            <a:chExt cx="306360" cy="122040"/>
          </a:xfrm>
        </p:grpSpPr>
        <p:sp>
          <p:nvSpPr>
            <p:cNvPr id="18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7"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18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TextBox 14"/>
          <p:cNvSpPr/>
          <p:nvPr/>
        </p:nvSpPr>
        <p:spPr>
          <a:xfrm>
            <a:off x="285840" y="1071720"/>
            <a:ext cx="864396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ported cases worldwide of </a:t>
            </a:r>
            <a:r>
              <a:rPr b="0" i="1" lang="en-US" sz="2800" spc="-1" strike="noStrike">
                <a:solidFill>
                  <a:srgbClr val="000000"/>
                </a:solidFill>
                <a:latin typeface="Comic Sans MS"/>
              </a:rPr>
              <a:t>poliomyelitis </a:t>
            </a:r>
            <a:r>
              <a:rPr b="0" lang="en-US" sz="2800" spc="-1" strike="noStrike">
                <a:solidFill>
                  <a:srgbClr val="000000"/>
                </a:solidFill>
                <a:latin typeface="Comic Sans MS"/>
              </a:rPr>
              <a:t>have declined by 99% since the campaign began, with only 537 new cases in the world in 2001.</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Malaria remains a major threat, even though the mortality </a:t>
            </a:r>
            <a:r>
              <a:rPr b="0" lang="en-US" sz="2800" spc="-1" strike="noStrike">
                <a:solidFill>
                  <a:srgbClr val="000000"/>
                </a:solidFill>
                <a:latin typeface="Comic Sans MS"/>
              </a:rPr>
              <a:t>rate has improved in the last 25 years. In 1954, there were 2.5 million deaths annually and 250 million cases of malaria worldwide; in 2002, there were an estimated 1.5 to 2.7 million deaths and 300 to 500 million ca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 name="Group 6"/>
          <p:cNvGrpSpPr/>
          <p:nvPr/>
        </p:nvGrpSpPr>
        <p:grpSpPr>
          <a:xfrm>
            <a:off x="8648640" y="498600"/>
            <a:ext cx="306360" cy="122040"/>
            <a:chOff x="8648640" y="498600"/>
            <a:chExt cx="306360" cy="122040"/>
          </a:xfrm>
        </p:grpSpPr>
        <p:sp>
          <p:nvSpPr>
            <p:cNvPr id="19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19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TextBox 14"/>
          <p:cNvSpPr/>
          <p:nvPr/>
        </p:nvSpPr>
        <p:spPr>
          <a:xfrm>
            <a:off x="285840" y="1071720"/>
            <a:ext cx="864396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000000"/>
                </a:solidFill>
                <a:latin typeface="Comic Sans MS"/>
              </a:rPr>
              <a:t>New, Emerging, and Resurging Disea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hogens that are considered to be under control because they respond well to current treatment can mutate and </a:t>
            </a:r>
            <a:r>
              <a:rPr b="1" lang="en-US" sz="2400" spc="-1" strike="noStrike">
                <a:solidFill>
                  <a:srgbClr val="000000"/>
                </a:solidFill>
                <a:latin typeface="Comic Sans MS"/>
              </a:rPr>
              <a:t>produce new, virulent strains</a:t>
            </a:r>
            <a:r>
              <a:rPr b="0" lang="en-US" sz="2400" spc="-1" strike="noStrike">
                <a:solidFill>
                  <a:srgbClr val="000000"/>
                </a:solidFill>
                <a:latin typeface="Comic Sans MS"/>
              </a:rPr>
              <a:t>; diseases that have been almost eliminated can emerge again if public health efforts slacken; and diseases that are eradicated in the United States can revisit this country on any one of the hundreds of international flights arriving each 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5" name="Group 6"/>
          <p:cNvGrpSpPr/>
          <p:nvPr/>
        </p:nvGrpSpPr>
        <p:grpSpPr>
          <a:xfrm>
            <a:off x="8648640" y="498600"/>
            <a:ext cx="306360" cy="122040"/>
            <a:chOff x="8648640" y="498600"/>
            <a:chExt cx="306360" cy="122040"/>
          </a:xfrm>
        </p:grpSpPr>
        <p:sp>
          <p:nvSpPr>
            <p:cNvPr id="20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21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TextBox 14"/>
          <p:cNvSpPr/>
          <p:nvPr/>
        </p:nvSpPr>
        <p:spPr>
          <a:xfrm>
            <a:off x="285840" y="785880"/>
            <a:ext cx="86439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merging diseases </a:t>
            </a:r>
            <a:r>
              <a:rPr b="0" lang="en-US" sz="2400" spc="-1" strike="noStrike">
                <a:solidFill>
                  <a:srgbClr val="000000"/>
                </a:solidFill>
                <a:latin typeface="Comic Sans MS"/>
              </a:rPr>
              <a:t>are diseases rarely or never befo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en one country. These diseases may also be new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blic health officials in other countri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merging disea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ccurring in the United States include the hantavirus, seen in the southwestern United States in 1993; dengue fever, acquired from travel outside the United States and first seen among people in Texas in the 1980s; and typhoid, seen in a native Nigerian in New York City in 1994.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6" name="Group 6"/>
          <p:cNvGrpSpPr/>
          <p:nvPr/>
        </p:nvGrpSpPr>
        <p:grpSpPr>
          <a:xfrm>
            <a:off x="8648640" y="498600"/>
            <a:ext cx="306360" cy="122040"/>
            <a:chOff x="8648640" y="498600"/>
            <a:chExt cx="306360" cy="122040"/>
          </a:xfrm>
        </p:grpSpPr>
        <p:sp>
          <p:nvSpPr>
            <p:cNvPr id="21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0"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22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TextBox 14"/>
          <p:cNvSpPr/>
          <p:nvPr/>
        </p:nvSpPr>
        <p:spPr>
          <a:xfrm>
            <a:off x="285840" y="785880"/>
            <a:ext cx="86439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esurging diseases </a:t>
            </a:r>
            <a:r>
              <a:rPr b="0" lang="en-US" sz="2400" spc="-1" strike="noStrike">
                <a:solidFill>
                  <a:srgbClr val="000000"/>
                </a:solidFill>
                <a:latin typeface="Comic Sans MS"/>
              </a:rPr>
              <a:t>are those communicable disea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at have been endemic in some parts of the world but are now endemic in more countries and are increasing to epidemic proportions in other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ten, the resurgence is caused by the emergence of new, drug-resistant strains of a familiar organism, such as the MDR TB bacillus. Staphylococcus aureus  infections have some strains so powerful that they are not responding to vancomycin any longer; they still respond to two new antibiotics, but those could also lose effectiven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7" name="Group 6"/>
          <p:cNvGrpSpPr/>
          <p:nvPr/>
        </p:nvGrpSpPr>
        <p:grpSpPr>
          <a:xfrm>
            <a:off x="8648640" y="498600"/>
            <a:ext cx="306360" cy="122040"/>
            <a:chOff x="8648640" y="498600"/>
            <a:chExt cx="306360" cy="122040"/>
          </a:xfrm>
        </p:grpSpPr>
        <p:sp>
          <p:nvSpPr>
            <p:cNvPr id="22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1"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23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TextBox 14"/>
          <p:cNvSpPr/>
          <p:nvPr/>
        </p:nvSpPr>
        <p:spPr>
          <a:xfrm>
            <a:off x="357120" y="785880"/>
            <a:ext cx="8072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000000"/>
                </a:solidFill>
                <a:latin typeface="Comic Sans MS"/>
              </a:rPr>
              <a:t>Healthy Peop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 objectives still focus on infectious diseases and immunizations, aiming to decrease morbidity and mortality from infectious diseases and to increase the number of children and adults immuniz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8" name="Group 6"/>
          <p:cNvGrpSpPr/>
          <p:nvPr/>
        </p:nvGrpSpPr>
        <p:grpSpPr>
          <a:xfrm>
            <a:off x="8648640" y="498600"/>
            <a:ext cx="306360" cy="122040"/>
            <a:chOff x="8648640" y="498600"/>
            <a:chExt cx="306360" cy="122040"/>
          </a:xfrm>
        </p:grpSpPr>
        <p:sp>
          <p:nvSpPr>
            <p:cNvPr id="23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2"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24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TextBox 14"/>
          <p:cNvSpPr/>
          <p:nvPr/>
        </p:nvSpPr>
        <p:spPr>
          <a:xfrm>
            <a:off x="285840" y="785880"/>
            <a:ext cx="8643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odes of Transmiss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reservoir of infection can be a person, animal, insect, or inanimate material in which the infectious agent lives and multiplies and which serves as a source of infection to others. Transmission of a communicable disease can occur by </a:t>
            </a:r>
            <a:r>
              <a:rPr b="1" lang="en-US" sz="2400" spc="-1" strike="noStrike">
                <a:solidFill>
                  <a:srgbClr val="000000"/>
                </a:solidFill>
                <a:latin typeface="Comic Sans MS"/>
              </a:rPr>
              <a:t>direct or indirect methods</a:t>
            </a:r>
            <a:r>
              <a:rPr b="0" lang="en-US" sz="2400" spc="-1" strike="noStrike">
                <a:solidFill>
                  <a:srgbClr val="000000"/>
                </a:solidFill>
                <a:latin typeface="Comic Sans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9" name="Group 6"/>
          <p:cNvGrpSpPr/>
          <p:nvPr/>
        </p:nvGrpSpPr>
        <p:grpSpPr>
          <a:xfrm>
            <a:off x="8648640" y="498600"/>
            <a:ext cx="306360" cy="122040"/>
            <a:chOff x="8648640" y="498600"/>
            <a:chExt cx="306360" cy="122040"/>
          </a:xfrm>
        </p:grpSpPr>
        <p:sp>
          <p:nvSpPr>
            <p:cNvPr id="25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3" name="Rectangle 10"/>
          <p:cNvSpPr/>
          <p:nvPr/>
        </p:nvSpPr>
        <p:spPr>
          <a:xfrm>
            <a:off x="2428920" y="3240"/>
            <a:ext cx="6715080" cy="885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25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TextBox 14"/>
          <p:cNvSpPr/>
          <p:nvPr/>
        </p:nvSpPr>
        <p:spPr>
          <a:xfrm>
            <a:off x="285840" y="785880"/>
            <a:ext cx="86439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irect Transmiss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rect transmission occurs by immediate transfer of infectious agents from a reservoir to a new host. It requires direct contact with the source, through touching, biting, kissing, or sexual intercourse, or by the direct projection of droplet spray onto the conjunctiva or onto the mucous membranes of the eye, nose, or mouth during sneezing, coughing, spitting, laughing, singing, or talking. Direct transmission is limited to a distance of 1 meter or l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 name="Group 6"/>
          <p:cNvGrpSpPr/>
          <p:nvPr/>
        </p:nvGrpSpPr>
        <p:grpSpPr>
          <a:xfrm>
            <a:off x="8648640" y="498600"/>
            <a:ext cx="306360" cy="122040"/>
            <a:chOff x="8648640" y="498600"/>
            <a:chExt cx="306360" cy="122040"/>
          </a:xfrm>
        </p:grpSpPr>
        <p:sp>
          <p:nvSpPr>
            <p:cNvPr id="6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Rectangle 10"/>
          <p:cNvSpPr/>
          <p:nvPr/>
        </p:nvSpPr>
        <p:spPr>
          <a:xfrm>
            <a:off x="2428920" y="3240"/>
            <a:ext cx="671508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Objectiv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r>
              <a:rPr b="1" lang="en-US" sz="2000" spc="-1" strike="noStrike">
                <a:solidFill>
                  <a:srgbClr val="ff0000"/>
                </a:solidFill>
                <a:latin typeface="Tempus Sans ITC"/>
              </a:rPr>
              <a:t>Prepared  by Suhail  Al Hu</a:t>
            </a:r>
            <a:r>
              <a:rPr b="1" lang="en-US" sz="1600" spc="-1" strike="noStrike">
                <a:solidFill>
                  <a:srgbClr val="ff0000"/>
                </a:solidFill>
                <a:latin typeface="Tempus Sans ITC"/>
              </a:rPr>
              <a:t>moud </a:t>
            </a:r>
            <a:endParaRPr b="0" lang="en-US" sz="1600" spc="-1" strike="noStrike">
              <a:solidFill>
                <a:srgbClr val="000000"/>
              </a:solidFill>
              <a:latin typeface="Arial"/>
            </a:endParaRPr>
          </a:p>
        </p:txBody>
      </p:sp>
      <p:sp>
        <p:nvSpPr>
          <p:cNvPr id="6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TextBox 14"/>
          <p:cNvSpPr/>
          <p:nvPr/>
        </p:nvSpPr>
        <p:spPr>
          <a:xfrm>
            <a:off x="285840" y="107172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pon mastery of this chapter, you should be able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scuss the global and national trends and issues in communicable disease contro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escribe the three modes of transmission for  communicable disea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xplain the strategies used for the three levels of prevention in communicable disease contro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xplain the significance of immunization as a communicable disease control measu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escribe major issues that affect the control and elimination of tuberculos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0" name="Group 6"/>
          <p:cNvGrpSpPr/>
          <p:nvPr/>
        </p:nvGrpSpPr>
        <p:grpSpPr>
          <a:xfrm>
            <a:off x="8648640" y="498600"/>
            <a:ext cx="306360" cy="122040"/>
            <a:chOff x="8648640" y="498600"/>
            <a:chExt cx="306360" cy="122040"/>
          </a:xfrm>
        </p:grpSpPr>
        <p:sp>
          <p:nvSpPr>
            <p:cNvPr id="26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4"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26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TextBox 14"/>
          <p:cNvSpPr/>
          <p:nvPr/>
        </p:nvSpPr>
        <p:spPr>
          <a:xfrm>
            <a:off x="285840" y="785880"/>
            <a:ext cx="86439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direct Transmiss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direct transmission occurs when the infectious agent 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ported within contaminated inanimate materials such as air, water, or food. It is also commonly referred to as </a:t>
            </a:r>
            <a:r>
              <a:rPr b="0" i="1" lang="en-US" sz="2400" spc="-1" strike="noStrike">
                <a:solidFill>
                  <a:srgbClr val="000000"/>
                </a:solidFill>
                <a:latin typeface="Comic Sans MS"/>
              </a:rPr>
              <a:t>vehicleborne transmiss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1" name="Group 6"/>
          <p:cNvGrpSpPr/>
          <p:nvPr/>
        </p:nvGrpSpPr>
        <p:grpSpPr>
          <a:xfrm>
            <a:off x="8648640" y="498600"/>
            <a:ext cx="306360" cy="122040"/>
            <a:chOff x="8648640" y="498600"/>
            <a:chExt cx="306360" cy="122040"/>
          </a:xfrm>
        </p:grpSpPr>
        <p:sp>
          <p:nvSpPr>
            <p:cNvPr id="27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27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TextBox 14"/>
          <p:cNvSpPr/>
          <p:nvPr/>
        </p:nvSpPr>
        <p:spPr>
          <a:xfrm>
            <a:off x="285840" y="785880"/>
            <a:ext cx="86439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irborne Transmiss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irborne transmission occurs through droplet nuclei—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mall residues that result from evaporation of fluid fro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roplets emitted by an infected host. They may also be crea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rposely by atomizing devices or accidentally in microbiolog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boratories. Because of their small size and weight, they can remain suspended in the air for long periods before they are inhaled into the respiratory system of a ho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irborne transmission can also occur in dust. Small partic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 dust from soil containing fungus spores may cling to clothing, bedding, or floors. Alternatively, the spores may become separated from dry soil by the wind and then be inhaled by the h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2" name="Group 6"/>
          <p:cNvGrpSpPr/>
          <p:nvPr/>
        </p:nvGrpSpPr>
        <p:grpSpPr>
          <a:xfrm>
            <a:off x="8648640" y="498600"/>
            <a:ext cx="306360" cy="122040"/>
            <a:chOff x="8648640" y="498600"/>
            <a:chExt cx="306360" cy="122040"/>
          </a:xfrm>
        </p:grpSpPr>
        <p:sp>
          <p:nvSpPr>
            <p:cNvPr id="28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6"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28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TextBox 14"/>
          <p:cNvSpPr/>
          <p:nvPr/>
        </p:nvSpPr>
        <p:spPr>
          <a:xfrm>
            <a:off x="285840" y="785880"/>
            <a:ext cx="8643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IMARY PREVEN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context of communicable disease control, two approaches are useful in achieving primary preven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1) education using mass media and targeting health messages to aggregat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immuniz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3" name="Group 6"/>
          <p:cNvGrpSpPr/>
          <p:nvPr/>
        </p:nvGrpSpPr>
        <p:grpSpPr>
          <a:xfrm>
            <a:off x="8648640" y="498600"/>
            <a:ext cx="306360" cy="122040"/>
            <a:chOff x="8648640" y="498600"/>
            <a:chExt cx="306360" cy="122040"/>
          </a:xfrm>
        </p:grpSpPr>
        <p:sp>
          <p:nvSpPr>
            <p:cNvPr id="29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7"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29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TextBox 14"/>
          <p:cNvSpPr/>
          <p:nvPr/>
        </p:nvSpPr>
        <p:spPr>
          <a:xfrm>
            <a:off x="285840" y="785880"/>
            <a:ext cx="8643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duc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education in primary prevention is directed both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lping at-risk individuals understand their risk status and at promoting behaviors that decrease exposure or susceptibil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4" name="Group 6"/>
          <p:cNvGrpSpPr/>
          <p:nvPr/>
        </p:nvGrpSpPr>
        <p:grpSpPr>
          <a:xfrm>
            <a:off x="8648640" y="498600"/>
            <a:ext cx="306360" cy="122040"/>
            <a:chOff x="8648640" y="498600"/>
            <a:chExt cx="306360" cy="122040"/>
          </a:xfrm>
        </p:grpSpPr>
        <p:sp>
          <p:nvSpPr>
            <p:cNvPr id="30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30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TextBox 14"/>
          <p:cNvSpPr/>
          <p:nvPr/>
        </p:nvSpPr>
        <p:spPr>
          <a:xfrm>
            <a:off x="285840" y="785880"/>
            <a:ext cx="8643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se of Mass Media for Health Educ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people need to be informed about the risks of communicable diseases. Often, use of the mass media is the most effective way to reach the largest number of people. Additionally, many target groups, such as low-income and racially and ethnically diverse communities at high risk for communicable diseases, are very hard to reach one on one. One way to reach them is through the media. To disseminate public health information to large numbers of people, there are four major roles of mass med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5" name="Group 6"/>
          <p:cNvGrpSpPr/>
          <p:nvPr/>
        </p:nvGrpSpPr>
        <p:grpSpPr>
          <a:xfrm>
            <a:off x="8648640" y="498600"/>
            <a:ext cx="306360" cy="122040"/>
            <a:chOff x="8648640" y="498600"/>
            <a:chExt cx="306360" cy="122040"/>
          </a:xfrm>
        </p:grpSpPr>
        <p:sp>
          <p:nvSpPr>
            <p:cNvPr id="31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9" name="Rectangle 10"/>
          <p:cNvSpPr/>
          <p:nvPr/>
        </p:nvSpPr>
        <p:spPr>
          <a:xfrm>
            <a:off x="2428920" y="3240"/>
            <a:ext cx="6715080" cy="885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32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TextBox 14"/>
          <p:cNvSpPr/>
          <p:nvPr/>
        </p:nvSpPr>
        <p:spPr>
          <a:xfrm>
            <a:off x="285840" y="785880"/>
            <a:ext cx="8286840" cy="6738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 the media as a primary change ag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en-US" sz="2400" spc="-1" strike="noStrike">
                <a:solidFill>
                  <a:srgbClr val="000000"/>
                </a:solidFill>
                <a:latin typeface="Comic Sans MS"/>
              </a:rPr>
              <a:t>Programs can successfully increase knowledge about communicable diseases and preventive measur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Use the media as a complement to other disease preven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fforts; the media can effectively model preventive behaviors, such as condom use and drug abstinenc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Use the media as a promoter of communicable disea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rol programs; the media can help to increase particip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 community members in primary prevention servi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Use the media to promote disease prevention messag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edia can contribute to the creation of a social environ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at promotes health (eg, increasing acceptance of regular condom use in the prevention of ST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6" name="Group 6"/>
          <p:cNvGrpSpPr/>
          <p:nvPr/>
        </p:nvGrpSpPr>
        <p:grpSpPr>
          <a:xfrm>
            <a:off x="8648640" y="498600"/>
            <a:ext cx="306360" cy="122040"/>
            <a:chOff x="8648640" y="498600"/>
            <a:chExt cx="306360" cy="122040"/>
          </a:xfrm>
        </p:grpSpPr>
        <p:sp>
          <p:nvSpPr>
            <p:cNvPr id="32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0"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33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TextBox 14"/>
          <p:cNvSpPr/>
          <p:nvPr/>
        </p:nvSpPr>
        <p:spPr>
          <a:xfrm>
            <a:off x="285840" y="785880"/>
            <a:ext cx="86439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mmuniz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mmunization is the process of introduc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form of disease-causing organism into a person’s syste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cause the development of antibodies that will resist that disea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a:t>
            </a:r>
            <a:r>
              <a:rPr b="1" lang="en-US" sz="2400" spc="-1" strike="noStrike">
                <a:solidFill>
                  <a:srgbClr val="000000"/>
                </a:solidFill>
                <a:latin typeface="Comic Sans MS"/>
              </a:rPr>
              <a:t>vaccine is a preparation made from killed, liv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uated, or living fully virulent organisms that is administer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produce or artificially increase immunity to a particula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ea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fore the introduction of pertussis vaccine in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940s, more than 200,000 cases were diagnosed yearly in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ited States, with 5000 to 10,000 deaths each year. Toda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tussis (whooping cough) claims 10 to 15 lives per y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7" name="Group 6"/>
          <p:cNvGrpSpPr/>
          <p:nvPr/>
        </p:nvGrpSpPr>
        <p:grpSpPr>
          <a:xfrm>
            <a:off x="8648640" y="498600"/>
            <a:ext cx="306360" cy="122040"/>
            <a:chOff x="8648640" y="498600"/>
            <a:chExt cx="306360" cy="122040"/>
          </a:xfrm>
        </p:grpSpPr>
        <p:sp>
          <p:nvSpPr>
            <p:cNvPr id="33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1"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34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TextBox 14"/>
          <p:cNvSpPr/>
          <p:nvPr/>
        </p:nvSpPr>
        <p:spPr>
          <a:xfrm>
            <a:off x="285840" y="785880"/>
            <a:ext cx="86439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ssive immunity is short-term resistance to a specific disea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using organism; it may be acquired naturally (as wi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borns through maternal antibody transfer) or artificially through inoculation with a vaccine that gives temporary resista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ch immunizations must be repeated periodical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sustain immunity levels. An example is the influenza vaccin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ctive immunity is long-term (sometimes lifelo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istance to a specific disease-causing organism;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so can be acquired naturally or artificially. Naturally acquired active immunity occurs when a person contracts a disease and develops long-lasting antibodies that provide immunity against future expos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8" name="Group 6"/>
          <p:cNvGrpSpPr/>
          <p:nvPr/>
        </p:nvGrpSpPr>
        <p:grpSpPr>
          <a:xfrm>
            <a:off x="8648640" y="498600"/>
            <a:ext cx="306360" cy="122040"/>
            <a:chOff x="8648640" y="498600"/>
            <a:chExt cx="306360" cy="122040"/>
          </a:xfrm>
        </p:grpSpPr>
        <p:sp>
          <p:nvSpPr>
            <p:cNvPr id="34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2"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35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TextBox 14"/>
          <p:cNvSpPr/>
          <p:nvPr/>
        </p:nvSpPr>
        <p:spPr>
          <a:xfrm>
            <a:off x="285840" y="78588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Vaccine-Preventable Disea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accine-preventable diseases (VPD), such as hepatitis 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influenzae type b, measles, polio, diphtheria, pertuss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d chickenpox, are diseases that can be prevented through immunization. Immunity may be either passive or acti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9" name="Group 6"/>
          <p:cNvGrpSpPr/>
          <p:nvPr/>
        </p:nvGrpSpPr>
        <p:grpSpPr>
          <a:xfrm>
            <a:off x="8648640" y="498600"/>
            <a:ext cx="306360" cy="122040"/>
            <a:chOff x="8648640" y="498600"/>
            <a:chExt cx="306360" cy="122040"/>
          </a:xfrm>
        </p:grpSpPr>
        <p:sp>
          <p:nvSpPr>
            <p:cNvPr id="36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3"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36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TextBox 14"/>
          <p:cNvSpPr/>
          <p:nvPr/>
        </p:nvSpPr>
        <p:spPr>
          <a:xfrm>
            <a:off x="285840" y="785880"/>
            <a:ext cx="86439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rd Immunity</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rd immunity is central to understanding immunization as a means of protecting community health. it is the immunity level present in a particular population of people .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there are few immune persons within a community, there is low herd immunity and the spread of disease is more likely. Vaccination of more individuals in the community, so that a high proportion have acquir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istance to the infectious agent, contributes to hig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rd immunity. High herd immunity reduces the probabil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at the few unimmunized persons will come in contact wi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 another, making spread of the disease less likel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 name="Group 6"/>
          <p:cNvGrpSpPr/>
          <p:nvPr/>
        </p:nvGrpSpPr>
        <p:grpSpPr>
          <a:xfrm>
            <a:off x="8648640" y="498600"/>
            <a:ext cx="306360" cy="122040"/>
            <a:chOff x="8648640" y="498600"/>
            <a:chExt cx="306360" cy="122040"/>
          </a:xfrm>
        </p:grpSpPr>
        <p:sp>
          <p:nvSpPr>
            <p:cNvPr id="7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 name="Rectangle 10"/>
          <p:cNvSpPr/>
          <p:nvPr/>
        </p:nvSpPr>
        <p:spPr>
          <a:xfrm>
            <a:off x="2428920" y="3240"/>
            <a:ext cx="671508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Objectiv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r>
              <a:rPr b="1" lang="en-US" sz="2000" spc="-1" strike="noStrike">
                <a:solidFill>
                  <a:srgbClr val="ff0000"/>
                </a:solidFill>
                <a:latin typeface="Tempus Sans ITC"/>
              </a:rPr>
              <a:t>Prepared  by Suhail  Al Hu</a:t>
            </a:r>
            <a:r>
              <a:rPr b="1" lang="en-US" sz="1600" spc="-1" strike="noStrike">
                <a:solidFill>
                  <a:srgbClr val="ff0000"/>
                </a:solidFill>
                <a:latin typeface="Tempus Sans ITC"/>
              </a:rPr>
              <a:t>moud </a:t>
            </a:r>
            <a:endParaRPr b="0" lang="en-US" sz="1600" spc="-1" strike="noStrike">
              <a:solidFill>
                <a:srgbClr val="000000"/>
              </a:solidFill>
              <a:latin typeface="Arial"/>
            </a:endParaRPr>
          </a:p>
        </p:txBody>
      </p:sp>
      <p:sp>
        <p:nvSpPr>
          <p:cNvPr id="7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TextBox 14"/>
          <p:cNvSpPr/>
          <p:nvPr/>
        </p:nvSpPr>
        <p:spPr>
          <a:xfrm>
            <a:off x="285840" y="107172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fferentiate between human immunodeficiency virus (HIV) infection and acquired immunodeficiency syndrome (AI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scuss specific ways to prevent sexually transmitted diseases, including HIV/AI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dentify six globally emerging communicable disea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scuss the consequences of biologic terrorism with weapons such as anthrax and smallpo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escribe the nurse’s role in communicable disease contro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scuss ethical issues affecting communicable disease and infection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0" name="Group 6"/>
          <p:cNvGrpSpPr/>
          <p:nvPr/>
        </p:nvGrpSpPr>
        <p:grpSpPr>
          <a:xfrm>
            <a:off x="8648640" y="498600"/>
            <a:ext cx="306360" cy="122040"/>
            <a:chOff x="8648640" y="498600"/>
            <a:chExt cx="306360" cy="122040"/>
          </a:xfrm>
        </p:grpSpPr>
        <p:sp>
          <p:nvSpPr>
            <p:cNvPr id="37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37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7" name="TextBox 14"/>
          <p:cNvSpPr/>
          <p:nvPr/>
        </p:nvSpPr>
        <p:spPr>
          <a:xfrm>
            <a:off x="285840" y="785880"/>
            <a:ext cx="86439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arriers to Immunization Coverage</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ligious Barriers.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ancial Barriers</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cial Barriers</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ultural Barriers</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hilosophical Objections</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r Limit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1" name="Group 6"/>
          <p:cNvGrpSpPr/>
          <p:nvPr/>
        </p:nvGrpSpPr>
        <p:grpSpPr>
          <a:xfrm>
            <a:off x="8648640" y="498600"/>
            <a:ext cx="306360" cy="122040"/>
            <a:chOff x="8648640" y="498600"/>
            <a:chExt cx="306360" cy="122040"/>
          </a:xfrm>
        </p:grpSpPr>
        <p:sp>
          <p:nvSpPr>
            <p:cNvPr id="38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5"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38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8" name="TextBox 14"/>
          <p:cNvSpPr/>
          <p:nvPr/>
        </p:nvSpPr>
        <p:spPr>
          <a:xfrm>
            <a:off x="214200" y="857160"/>
            <a:ext cx="8643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ARY PREVEN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 are two approaches to secondary prevention of communicable disease: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reening</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act investigation, partner notification, and case-find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2" name="Group 6"/>
          <p:cNvGrpSpPr/>
          <p:nvPr/>
        </p:nvGrpSpPr>
        <p:grpSpPr>
          <a:xfrm>
            <a:off x="8648640" y="498600"/>
            <a:ext cx="306360" cy="122040"/>
            <a:chOff x="8648640" y="498600"/>
            <a:chExt cx="306360" cy="122040"/>
          </a:xfrm>
        </p:grpSpPr>
        <p:sp>
          <p:nvSpPr>
            <p:cNvPr id="39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6"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39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TextBox 14"/>
          <p:cNvSpPr/>
          <p:nvPr/>
        </p:nvSpPr>
        <p:spPr>
          <a:xfrm>
            <a:off x="285840" y="785880"/>
            <a:ext cx="8643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cree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term screening is used in community health and disease prevention to describe programs that deliver a testing mechanism to detect disease in groups of asymptomatic, apparently healthy individua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3" name="Group 6"/>
          <p:cNvGrpSpPr/>
          <p:nvPr/>
        </p:nvGrpSpPr>
        <p:grpSpPr>
          <a:xfrm>
            <a:off x="8648640" y="498600"/>
            <a:ext cx="306360" cy="122040"/>
            <a:chOff x="8648640" y="498600"/>
            <a:chExt cx="306360" cy="122040"/>
          </a:xfrm>
        </p:grpSpPr>
        <p:sp>
          <p:nvSpPr>
            <p:cNvPr id="40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7"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40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Rectangle 12"/>
          <p:cNvSpPr/>
          <p:nvPr/>
        </p:nvSpPr>
        <p:spPr>
          <a:xfrm>
            <a:off x="285840" y="857160"/>
            <a:ext cx="8358120" cy="704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riteria for Screening Tes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Validity and Reliability. </a:t>
            </a:r>
            <a:r>
              <a:rPr b="0" lang="en-US" sz="2400" spc="-1" strike="noStrike">
                <a:solidFill>
                  <a:srgbClr val="000000"/>
                </a:solidFill>
                <a:latin typeface="Comic Sans MS"/>
              </a:rPr>
              <a:t>The screening test must b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alid and reliable. Validity refers to the test’s ability to accurately identify those with the disease. Reliability refers to the test’s ability to give consistent results when administered on different occasions by different technicia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edictive Value and Yield. </a:t>
            </a:r>
            <a:r>
              <a:rPr b="0" lang="en-US" sz="2400" spc="-1" strike="noStrike">
                <a:solidFill>
                  <a:srgbClr val="000000"/>
                </a:solidFill>
                <a:latin typeface="Comic Sans MS"/>
              </a:rPr>
              <a:t>The predictive value of a screening test is important for determining whether the screening intervention is justified. Yield refers to the number of positive results found per number tested. The predictive value and the yield of screening tests become important in planning screening programs for communicable disease detection and prevention because they can help planners locate screening efforts in areas or within population groups that are known to be at high risk for the disease. The predictive value of screening tests increases as the prevalence of the disease increa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4" name="Group 6"/>
          <p:cNvGrpSpPr/>
          <p:nvPr/>
        </p:nvGrpSpPr>
        <p:grpSpPr>
          <a:xfrm>
            <a:off x="8648640" y="498600"/>
            <a:ext cx="306360" cy="122040"/>
            <a:chOff x="8648640" y="498600"/>
            <a:chExt cx="306360" cy="122040"/>
          </a:xfrm>
        </p:grpSpPr>
        <p:sp>
          <p:nvSpPr>
            <p:cNvPr id="41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8"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41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TextBox 14"/>
          <p:cNvSpPr/>
          <p:nvPr/>
        </p:nvSpPr>
        <p:spPr>
          <a:xfrm>
            <a:off x="285840" y="714240"/>
            <a:ext cx="864396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pidemiologic criteria for screening interventions f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detection of health problems are as follow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Is the disease an important public health proble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Is there a valid and reliable te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Is there an effective and tolerable treatment that favorab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luences the early stages of the disea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Are facilities for diagnosis and treatment after a positi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reening result available and accessib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Is there a recognizable early asymptomatic or latent stag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disea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 Do clear guidelines for referral and treatment exi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 Is the total cost of the screening justifiable compared wi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osts of treating the disease if left undiscover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 Is the screening test itself acceptab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9. Will screening be ongo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5" name="Group 6"/>
          <p:cNvGrpSpPr/>
          <p:nvPr/>
        </p:nvGrpSpPr>
        <p:grpSpPr>
          <a:xfrm>
            <a:off x="8648640" y="498600"/>
            <a:ext cx="306360" cy="122040"/>
            <a:chOff x="8648640" y="498600"/>
            <a:chExt cx="306360" cy="122040"/>
          </a:xfrm>
        </p:grpSpPr>
        <p:sp>
          <p:nvSpPr>
            <p:cNvPr id="42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9"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43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TextBox 14"/>
          <p:cNvSpPr/>
          <p:nvPr/>
        </p:nvSpPr>
        <p:spPr>
          <a:xfrm>
            <a:off x="285840" y="78588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tact Investigation, Partner Notification, and Case-Find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is approach, the community health nurse seeks to discover and notify those who have had contact with a person diagnosed with a communicable disease such as with TB and to notify partners in the case of STDs. The objective of contact investigation and partner notification is specifically to reach contacts of the </a:t>
            </a:r>
            <a:r>
              <a:rPr b="0" i="1" lang="en-US" sz="2400" spc="-1" strike="noStrike">
                <a:solidFill>
                  <a:srgbClr val="000000"/>
                </a:solidFill>
                <a:latin typeface="Comic Sans MS"/>
              </a:rPr>
              <a:t>index case (diagnosed person) before the contacts, </a:t>
            </a:r>
            <a:r>
              <a:rPr b="0" lang="en-US" sz="2400" spc="-1" strike="noStrike">
                <a:solidFill>
                  <a:srgbClr val="000000"/>
                </a:solidFill>
                <a:latin typeface="Comic Sans MS"/>
              </a:rPr>
              <a:t>in turn, become infectious (CDC, 2002c). Therefore, the rapidity with which contact investigation can be accomplish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 a concer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6" name="Group 6"/>
          <p:cNvGrpSpPr/>
          <p:nvPr/>
        </p:nvGrpSpPr>
        <p:grpSpPr>
          <a:xfrm>
            <a:off x="8648640" y="498600"/>
            <a:ext cx="306360" cy="122040"/>
            <a:chOff x="8648640" y="498600"/>
            <a:chExt cx="306360" cy="122040"/>
          </a:xfrm>
        </p:grpSpPr>
        <p:sp>
          <p:nvSpPr>
            <p:cNvPr id="43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44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TextBox 14"/>
          <p:cNvSpPr/>
          <p:nvPr/>
        </p:nvSpPr>
        <p:spPr>
          <a:xfrm>
            <a:off x="285840" y="785880"/>
            <a:ext cx="86439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rtiary Preven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pproaches to tertiary prevention of communicable disease include isolation and quarantine of the infected person and safe handling and control of infectious wastes</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7" name="Group 6"/>
          <p:cNvGrpSpPr/>
          <p:nvPr/>
        </p:nvGrpSpPr>
        <p:grpSpPr>
          <a:xfrm>
            <a:off x="8648640" y="498600"/>
            <a:ext cx="306360" cy="122040"/>
            <a:chOff x="8648640" y="498600"/>
            <a:chExt cx="306360" cy="122040"/>
          </a:xfrm>
        </p:grpSpPr>
        <p:sp>
          <p:nvSpPr>
            <p:cNvPr id="44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1"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45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TextBox 14"/>
          <p:cNvSpPr/>
          <p:nvPr/>
        </p:nvSpPr>
        <p:spPr>
          <a:xfrm>
            <a:off x="214200" y="71424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solation and Quaranti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cable disease control includes two methods f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eeping infected persons and noninfected persons apart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vent the spread of a disease. </a:t>
            </a:r>
            <a:r>
              <a:rPr b="1" lang="en-US" sz="2400" spc="-1" strike="noStrike">
                <a:solidFill>
                  <a:srgbClr val="000000"/>
                </a:solidFill>
                <a:latin typeface="Comic Sans MS"/>
              </a:rPr>
              <a:t>Isolation refers to separation </a:t>
            </a:r>
            <a:r>
              <a:rPr b="0" lang="en-US" sz="2400" spc="-1" strike="noStrike">
                <a:solidFill>
                  <a:srgbClr val="000000"/>
                </a:solidFill>
                <a:latin typeface="Comic Sans MS"/>
              </a:rPr>
              <a:t>of the infected persons (or animals) from others for the period of communicability to limit the transmission of the infectious agent to susceptible persons. </a:t>
            </a:r>
            <a:r>
              <a:rPr b="1" lang="en-US" sz="2400" spc="-1" strike="noStrike">
                <a:solidFill>
                  <a:srgbClr val="000000"/>
                </a:solidFill>
                <a:latin typeface="Comic Sans MS"/>
              </a:rPr>
              <a:t>Quarantine refers to </a:t>
            </a:r>
            <a:r>
              <a:rPr b="0" lang="en-US" sz="2400" spc="-1" strike="noStrike">
                <a:solidFill>
                  <a:srgbClr val="000000"/>
                </a:solidFill>
                <a:latin typeface="Comic Sans MS"/>
              </a:rPr>
              <a:t>restrictions placed on healthy contacts of an infectious case for the duration of the incubation period to prevent disease transmission if infection should develop (Chin, 199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8" name="Group 6"/>
          <p:cNvGrpSpPr/>
          <p:nvPr/>
        </p:nvGrpSpPr>
        <p:grpSpPr>
          <a:xfrm>
            <a:off x="8648640" y="498600"/>
            <a:ext cx="306360" cy="122040"/>
            <a:chOff x="8648640" y="498600"/>
            <a:chExt cx="306360" cy="122040"/>
          </a:xfrm>
        </p:grpSpPr>
        <p:sp>
          <p:nvSpPr>
            <p:cNvPr id="45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2"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46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TextBox 14"/>
          <p:cNvSpPr/>
          <p:nvPr/>
        </p:nvSpPr>
        <p:spPr>
          <a:xfrm>
            <a:off x="285840" y="785880"/>
            <a:ext cx="86439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LECTED COMMUNICABLE DISEAS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 are several communicable diseases that commun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nurses encounter in their practice. They are frequently diagnosed and treated in the community. Tuberculosis (TB) Chlamydia, genital herpes, hepatitis, HIV/AIDS, influenza, pneumonia, syphilis, and viral warts and oth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9" name="Group 6"/>
          <p:cNvGrpSpPr/>
          <p:nvPr/>
        </p:nvGrpSpPr>
        <p:grpSpPr>
          <a:xfrm>
            <a:off x="8648640" y="498600"/>
            <a:ext cx="306360" cy="122040"/>
            <a:chOff x="8648640" y="498600"/>
            <a:chExt cx="306360" cy="122040"/>
          </a:xfrm>
        </p:grpSpPr>
        <p:sp>
          <p:nvSpPr>
            <p:cNvPr id="47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3"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47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6" name="TextBox 14"/>
          <p:cNvSpPr/>
          <p:nvPr/>
        </p:nvSpPr>
        <p:spPr>
          <a:xfrm>
            <a:off x="285840" y="785880"/>
            <a:ext cx="8643960" cy="411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uberculosis (TB)</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cidence and Prevale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ghly one third of the world’s population is infected wi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Mycobacterium tuberculosis. These 2 billion people have the </a:t>
            </a:r>
            <a:r>
              <a:rPr b="0" lang="en-US" sz="2400" spc="-1" strike="noStrike">
                <a:solidFill>
                  <a:srgbClr val="000000"/>
                </a:solidFill>
                <a:latin typeface="Comic Sans MS"/>
              </a:rPr>
              <a:t>potential for developing active TB at some point in time. Each year, 8 million people worldwide develop active TB and 1.8 million people die. Approximately 80% of TB cases are found in 23 countries; the highest incidence rates are in Africa and southeast A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 name="Group 6"/>
          <p:cNvGrpSpPr/>
          <p:nvPr/>
        </p:nvGrpSpPr>
        <p:grpSpPr>
          <a:xfrm>
            <a:off x="8648640" y="498600"/>
            <a:ext cx="306360" cy="122040"/>
            <a:chOff x="8648640" y="498600"/>
            <a:chExt cx="306360" cy="122040"/>
          </a:xfrm>
        </p:grpSpPr>
        <p:sp>
          <p:nvSpPr>
            <p:cNvPr id="8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 name="Rectangle 10"/>
          <p:cNvSpPr/>
          <p:nvPr/>
        </p:nvSpPr>
        <p:spPr>
          <a:xfrm>
            <a:off x="2428920" y="-149040"/>
            <a:ext cx="6715080" cy="1252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r>
              <a:rPr b="1" lang="en-US" sz="2000" spc="-1" strike="noStrike">
                <a:solidFill>
                  <a:srgbClr val="ff0000"/>
                </a:solidFill>
                <a:latin typeface="Tempus Sans ITC"/>
              </a:rPr>
              <a:t>Prepared  by Suhail  Al Hu</a:t>
            </a:r>
            <a:r>
              <a:rPr b="1" lang="en-US" sz="1600" spc="-1" strike="noStrike">
                <a:solidFill>
                  <a:srgbClr val="ff0000"/>
                </a:solidFill>
                <a:latin typeface="Tempus Sans ITC"/>
              </a:rPr>
              <a:t>moud </a:t>
            </a:r>
            <a:endParaRPr b="0" lang="en-US" sz="1600" spc="-1" strike="noStrike">
              <a:solidFill>
                <a:srgbClr val="000000"/>
              </a:solidFill>
              <a:latin typeface="Arial"/>
            </a:endParaRPr>
          </a:p>
        </p:txBody>
      </p:sp>
      <p:sp>
        <p:nvSpPr>
          <p:cNvPr id="8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TextBox 14"/>
          <p:cNvSpPr/>
          <p:nvPr/>
        </p:nvSpPr>
        <p:spPr>
          <a:xfrm>
            <a:off x="285840" y="107172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the communicable diseas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a:t>
            </a:r>
            <a:r>
              <a:rPr b="1" lang="en-US" sz="2400" spc="-1" strike="noStrike">
                <a:solidFill>
                  <a:srgbClr val="000000"/>
                </a:solidFill>
                <a:latin typeface="Comic Sans MS"/>
              </a:rPr>
              <a:t>communicable disease is one that </a:t>
            </a:r>
            <a:r>
              <a:rPr b="0" lang="en-US" sz="2400" spc="-1" strike="noStrike">
                <a:solidFill>
                  <a:srgbClr val="000000"/>
                </a:solidFill>
                <a:latin typeface="Comic Sans MS"/>
              </a:rPr>
              <a:t>can be transmitted from one person to another.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is caused by an agent that is </a:t>
            </a:r>
            <a:r>
              <a:rPr b="1" lang="en-US" sz="2400" spc="-1" strike="noStrike">
                <a:solidFill>
                  <a:srgbClr val="000000"/>
                </a:solidFill>
                <a:latin typeface="Comic Sans MS"/>
              </a:rPr>
              <a:t>infectious (capable of producing infection) </a:t>
            </a:r>
            <a:r>
              <a:rPr b="0" lang="en-US" sz="2400" spc="-1" strike="noStrike">
                <a:solidFill>
                  <a:srgbClr val="000000"/>
                </a:solidFill>
                <a:latin typeface="Comic Sans MS"/>
              </a:rPr>
              <a:t>and is transmitted from a source, or </a:t>
            </a:r>
            <a:r>
              <a:rPr b="1" lang="en-US" sz="2400" spc="-1" strike="noStrike">
                <a:solidFill>
                  <a:srgbClr val="000000"/>
                </a:solidFill>
                <a:latin typeface="Comic Sans MS"/>
              </a:rPr>
              <a:t>reservoir, to a susceptible </a:t>
            </a:r>
            <a:r>
              <a:rPr b="0" lang="en-US" sz="2400" spc="-1" strike="noStrike">
                <a:solidFill>
                  <a:srgbClr val="000000"/>
                </a:solidFill>
                <a:latin typeface="Comic Sans MS"/>
              </a:rPr>
              <a:t>host.</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a:t>
            </a:r>
            <a:r>
              <a:rPr b="1" lang="en-US" sz="2400" spc="-1" strike="noStrike">
                <a:solidFill>
                  <a:srgbClr val="000000"/>
                </a:solidFill>
                <a:latin typeface="Comic Sans MS"/>
              </a:rPr>
              <a:t>communicable disease: A disease or illness in a susceptible host, caused by a potentially harmful infectious organism or its toxic byproduct.</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municable disease spreads due to contact between an infectious agent and a susceptible hos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0" name="Group 6"/>
          <p:cNvGrpSpPr/>
          <p:nvPr/>
        </p:nvGrpSpPr>
        <p:grpSpPr>
          <a:xfrm>
            <a:off x="8648640" y="498600"/>
            <a:ext cx="306360" cy="122040"/>
            <a:chOff x="8648640" y="498600"/>
            <a:chExt cx="306360" cy="122040"/>
          </a:xfrm>
        </p:grpSpPr>
        <p:sp>
          <p:nvSpPr>
            <p:cNvPr id="48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4"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48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7" name="TextBox 14"/>
          <p:cNvSpPr/>
          <p:nvPr/>
        </p:nvSpPr>
        <p:spPr>
          <a:xfrm>
            <a:off x="285840" y="785880"/>
            <a:ext cx="8643960" cy="777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uberculosis (TB)</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pulation at risk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B disease cases occur predominantly among the following groups: foreignborn persons (46%), the elderly (23%), homeless peop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and individuals infected with HIV (8%).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gher incidences of TB are found among low-income people, persons with alcohol or drug abuse problems, the underserved, the malnourished, people in correctional facilities, people with other medical conditions, and individuals working where people at risk for TB are grouped together (eg, homeless shelters, drug treatment centers, health care facilities). TB rates are highest among refugees and immigrants, and noncompliance with treatment in all groups is a major factor in continued transmission of the disease and development of MDR organism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hildren, persons with HIV infection , persons in congregate living such as prisons shelters, long term faciliti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1" name="Group 6"/>
          <p:cNvGrpSpPr/>
          <p:nvPr/>
        </p:nvGrpSpPr>
        <p:grpSpPr>
          <a:xfrm>
            <a:off x="8648640" y="498600"/>
            <a:ext cx="306360" cy="122040"/>
            <a:chOff x="8648640" y="498600"/>
            <a:chExt cx="306360" cy="122040"/>
          </a:xfrm>
        </p:grpSpPr>
        <p:sp>
          <p:nvSpPr>
            <p:cNvPr id="49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5"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49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TextBox 14"/>
          <p:cNvSpPr/>
          <p:nvPr/>
        </p:nvSpPr>
        <p:spPr>
          <a:xfrm>
            <a:off x="285840" y="785880"/>
            <a:ext cx="864396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uberculosis (T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evention and Interven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uberculin testing, the standard method for evaluating T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ection, is a simple skin test that measures by visible reaction whether the body has had immunologic experience with M. tuberculosis (Table 9–5). From there, evaluation procedures determine the classification status of the disease, ranging from 0 to 5. The two most used terms are infected without current disease (classification 2) and with current TB disease (classification 3) (Table 9–6). The skin test itself is not diagnostic of disea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reatment: multidrug regimen with direct observation therapy to ensure complian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2" name="Group 6"/>
          <p:cNvGrpSpPr/>
          <p:nvPr/>
        </p:nvGrpSpPr>
        <p:grpSpPr>
          <a:xfrm>
            <a:off x="8648640" y="498600"/>
            <a:ext cx="306360" cy="122040"/>
            <a:chOff x="8648640" y="498600"/>
            <a:chExt cx="306360" cy="122040"/>
          </a:xfrm>
        </p:grpSpPr>
        <p:sp>
          <p:nvSpPr>
            <p:cNvPr id="50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50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TextBox 14"/>
          <p:cNvSpPr/>
          <p:nvPr/>
        </p:nvSpPr>
        <p:spPr>
          <a:xfrm>
            <a:off x="285840" y="785880"/>
            <a:ext cx="8643960" cy="308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epatit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health nurses have the  key role in TB prevention and treatment. they can:</a:t>
            </a:r>
            <a:endParaRPr b="0" lang="en-US" sz="2400" spc="-1" strike="noStrike">
              <a:solidFill>
                <a:srgbClr val="000000"/>
              </a:solidFill>
              <a:latin typeface="Arial"/>
            </a:endParaRPr>
          </a:p>
          <a:p>
            <a:pPr>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dentify people at risk </a:t>
            </a:r>
            <a:endParaRPr b="0" lang="en-US" sz="2400" spc="-1" strike="noStrike">
              <a:solidFill>
                <a:srgbClr val="000000"/>
              </a:solidFill>
              <a:latin typeface="Arial"/>
            </a:endParaRPr>
          </a:p>
          <a:p>
            <a:pPr>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itiate testing programs </a:t>
            </a:r>
            <a:endParaRPr b="0" lang="en-US" sz="2400" spc="-1" strike="noStrike">
              <a:solidFill>
                <a:srgbClr val="000000"/>
              </a:solidFill>
              <a:latin typeface="Arial"/>
            </a:endParaRPr>
          </a:p>
          <a:p>
            <a:pPr>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o follow-up for compliance </a:t>
            </a:r>
            <a:endParaRPr b="0" lang="en-US" sz="2400" spc="-1" strike="noStrike">
              <a:solidFill>
                <a:srgbClr val="000000"/>
              </a:solidFill>
              <a:latin typeface="Arial"/>
            </a:endParaRPr>
          </a:p>
          <a:p>
            <a:pPr>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vide educ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3" name="Group 6"/>
          <p:cNvGrpSpPr/>
          <p:nvPr/>
        </p:nvGrpSpPr>
        <p:grpSpPr>
          <a:xfrm>
            <a:off x="8648640" y="498600"/>
            <a:ext cx="306360" cy="122040"/>
            <a:chOff x="8648640" y="498600"/>
            <a:chExt cx="306360" cy="122040"/>
          </a:xfrm>
        </p:grpSpPr>
        <p:sp>
          <p:nvSpPr>
            <p:cNvPr id="51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7"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51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0" name="TextBox 14"/>
          <p:cNvSpPr/>
          <p:nvPr/>
        </p:nvSpPr>
        <p:spPr>
          <a:xfrm>
            <a:off x="285840" y="785880"/>
            <a:ext cx="8643960" cy="271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epatit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ve viral hepatitis infections are A, B, C, D, and 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constitutes a serious liver disease caused by a different hepatitis virus. Progress is being made to develop immunizations against various types of hepatitis. Nevertheless, the number of people being infec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th hepatitis is globally epidem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4" name="Group 6"/>
          <p:cNvGrpSpPr/>
          <p:nvPr/>
        </p:nvGrpSpPr>
        <p:grpSpPr>
          <a:xfrm>
            <a:off x="8648640" y="498600"/>
            <a:ext cx="306360" cy="122040"/>
            <a:chOff x="8648640" y="498600"/>
            <a:chExt cx="306360" cy="122040"/>
          </a:xfrm>
        </p:grpSpPr>
        <p:sp>
          <p:nvSpPr>
            <p:cNvPr id="52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8"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52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1" name="TextBox 14"/>
          <p:cNvSpPr/>
          <p:nvPr/>
        </p:nvSpPr>
        <p:spPr>
          <a:xfrm>
            <a:off x="285840" y="785880"/>
            <a:ext cx="86439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epatitis A:</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 : person exposed to unsanitary condition, poor hygiene, sexual contact with infected person, exposed to contaminated food and water</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vention: a vaccine for those at risk for exposur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epatitis A:</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 : person who have contact with blood or body fluid of infected person,  sexual contact with infected person, people who share needles, newborn infected during birth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ry Prevention: a vaccination, children, health worker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ary Prevention: screening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ertiary prevention: minimizing effects of the diseas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5" name="Group 6"/>
          <p:cNvGrpSpPr/>
          <p:nvPr/>
        </p:nvGrpSpPr>
        <p:grpSpPr>
          <a:xfrm>
            <a:off x="8648640" y="498600"/>
            <a:ext cx="306360" cy="122040"/>
            <a:chOff x="8648640" y="498600"/>
            <a:chExt cx="306360" cy="122040"/>
          </a:xfrm>
        </p:grpSpPr>
        <p:sp>
          <p:nvSpPr>
            <p:cNvPr id="53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9"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54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2" name="TextBox 14"/>
          <p:cNvSpPr/>
          <p:nvPr/>
        </p:nvSpPr>
        <p:spPr>
          <a:xfrm>
            <a:off x="285840" y="785880"/>
            <a:ext cx="86439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epatitis C:</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 : intravenous drug users, frequent blood transfusion, sexual contact with infected perso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vention: education and screening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epatitis D:</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 : same as hepatitis B</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ry Prevention: a vaccinatio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epatitis 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ually spread through contaminated water or by fecal-oral contaminatio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 is no diagnosis tes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s high mortality rat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6" name="Group 6"/>
          <p:cNvGrpSpPr/>
          <p:nvPr/>
        </p:nvGrpSpPr>
        <p:grpSpPr>
          <a:xfrm>
            <a:off x="8648640" y="498600"/>
            <a:ext cx="306360" cy="122040"/>
            <a:chOff x="8648640" y="498600"/>
            <a:chExt cx="306360" cy="122040"/>
          </a:xfrm>
        </p:grpSpPr>
        <p:sp>
          <p:nvSpPr>
            <p:cNvPr id="54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0"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55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TextBox 14"/>
          <p:cNvSpPr/>
          <p:nvPr/>
        </p:nvSpPr>
        <p:spPr>
          <a:xfrm>
            <a:off x="285840" y="785880"/>
            <a:ext cx="86439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fluenza</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ral illness characterized by sever muscle aches, fever, headache, sore throat, and cough</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luenza derives its importance from the rapidity with which epidemics evolve, the widespread morbidity, and the seriousness of complications, namely pneumonia</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luenza infections occur primarily in the win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nths, affecting individuals in all age groups and caus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roximately 20,000 deaths and 110,000 hospitalizat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nually in the United State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ry Prevention: yearly vaccination for vulnerable population, health worker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ary Prevention: early diagnosis , and treat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7" name="Group 6"/>
          <p:cNvGrpSpPr/>
          <p:nvPr/>
        </p:nvGrpSpPr>
        <p:grpSpPr>
          <a:xfrm>
            <a:off x="8648640" y="498600"/>
            <a:ext cx="306360" cy="122040"/>
            <a:chOff x="8648640" y="498600"/>
            <a:chExt cx="306360" cy="122040"/>
          </a:xfrm>
        </p:grpSpPr>
        <p:sp>
          <p:nvSpPr>
            <p:cNvPr id="55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1" name="Rectangle 10"/>
          <p:cNvSpPr/>
          <p:nvPr/>
        </p:nvSpPr>
        <p:spPr>
          <a:xfrm>
            <a:off x="2428920" y="1800"/>
            <a:ext cx="6715080" cy="642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56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TextBox 14"/>
          <p:cNvSpPr/>
          <p:nvPr/>
        </p:nvSpPr>
        <p:spPr>
          <a:xfrm>
            <a:off x="285840" y="785880"/>
            <a:ext cx="8643960" cy="740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antaviru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piratory disease caused by a virus that is carried and spread by rodents. Person to person transmission may also possibl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ymptoms: fever, interstitial edema, severe shortness of breath, joint pain, nausea and vomiting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s: people exposed to rodent feces and urine contaminated materials and people bitten by rodent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ry Prevention: rodent control in endemic areas, precautions for decontaminating suspected infectious areas and using protective clothing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ary Prevention: testing for hantavirus antibodi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reatment: there is no cure, mortality rate 45%, supportive care such as controlling fever, provide respirtory supports or controlling hemorrhag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8" name="Group 6"/>
          <p:cNvGrpSpPr/>
          <p:nvPr/>
        </p:nvGrpSpPr>
        <p:grpSpPr>
          <a:xfrm>
            <a:off x="8648640" y="498600"/>
            <a:ext cx="306360" cy="122040"/>
            <a:chOff x="8648640" y="498600"/>
            <a:chExt cx="306360" cy="122040"/>
          </a:xfrm>
        </p:grpSpPr>
        <p:sp>
          <p:nvSpPr>
            <p:cNvPr id="56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2" name="Rectangle 10"/>
          <p:cNvSpPr/>
          <p:nvPr/>
        </p:nvSpPr>
        <p:spPr>
          <a:xfrm>
            <a:off x="2428920" y="1800"/>
            <a:ext cx="6715080" cy="642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57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5" name="TextBox 14"/>
          <p:cNvSpPr/>
          <p:nvPr/>
        </p:nvSpPr>
        <p:spPr>
          <a:xfrm>
            <a:off x="285840" y="785880"/>
            <a:ext cx="86439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bola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used by a virus that is can be spread from person to person, or through direct contact with infected blood, semen and secretion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ymptoms: bleeding in the mucosa abdomen pericardium and vagina and death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s: people living in an area of outbreak , contact with infected person , laboratory worker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ry Prevention: interrupting of spread of the virus from person to perso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ary Prevention: testing for Ebola antibodi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reatment: there is no cure, mortality rate 90%,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9" name="Group 6"/>
          <p:cNvGrpSpPr/>
          <p:nvPr/>
        </p:nvGrpSpPr>
        <p:grpSpPr>
          <a:xfrm>
            <a:off x="8648640" y="498600"/>
            <a:ext cx="306360" cy="122040"/>
            <a:chOff x="8648640" y="498600"/>
            <a:chExt cx="306360" cy="122040"/>
          </a:xfrm>
        </p:grpSpPr>
        <p:sp>
          <p:nvSpPr>
            <p:cNvPr id="58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Rectangle 10"/>
          <p:cNvSpPr/>
          <p:nvPr/>
        </p:nvSpPr>
        <p:spPr>
          <a:xfrm>
            <a:off x="2428920" y="1800"/>
            <a:ext cx="6715080" cy="642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58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6" name="TextBox 14"/>
          <p:cNvSpPr/>
          <p:nvPr/>
        </p:nvSpPr>
        <p:spPr>
          <a:xfrm>
            <a:off x="285840" y="785880"/>
            <a:ext cx="864396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yme diseas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yme disease bacterium </a:t>
            </a:r>
            <a:r>
              <a:rPr b="0" lang="en-US" sz="2400" spc="-1" strike="noStrike">
                <a:solidFill>
                  <a:srgbClr val="000000"/>
                </a:solidFill>
                <a:latin typeface="Comic Sans MS"/>
              </a:rPr>
              <a:t>is transmitted when an infected deer tick bites a person, a bull's-eye rash may appear at the site of tick bite, early symptom like flu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s: people living in areas with infected tick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ry Preven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Education – avoiding tick endemic areas – inspection for ticks and using insecticide and proper light colored clothing outside door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ary Prevention: </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cedures for properly removed the ticks </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llow-up testing and early diagnosi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reatment: antibiotic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 name="Group 6"/>
          <p:cNvGrpSpPr/>
          <p:nvPr/>
        </p:nvGrpSpPr>
        <p:grpSpPr>
          <a:xfrm>
            <a:off x="8648640" y="498600"/>
            <a:ext cx="306360" cy="122040"/>
            <a:chOff x="8648640" y="498600"/>
            <a:chExt cx="306360" cy="122040"/>
          </a:xfrm>
        </p:grpSpPr>
        <p:sp>
          <p:nvSpPr>
            <p:cNvPr id="9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Rectangle 10"/>
          <p:cNvSpPr/>
          <p:nvPr/>
        </p:nvSpPr>
        <p:spPr>
          <a:xfrm>
            <a:off x="2428920" y="-181080"/>
            <a:ext cx="671508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TextBox 14"/>
          <p:cNvSpPr/>
          <p:nvPr/>
        </p:nvSpPr>
        <p:spPr>
          <a:xfrm>
            <a:off x="285840" y="1071720"/>
            <a:ext cx="86439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the communicable disease ……… con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a person or other living being that can be infected by an organis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fectious agent: an organism that causes infectious disease. Agents can be:</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actria </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gi </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Viruses</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etazoa</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tozo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gent: something that must be present in the environment for a disease to occur in a susceptible ho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0" name="Group 6"/>
          <p:cNvGrpSpPr/>
          <p:nvPr/>
        </p:nvGrpSpPr>
        <p:grpSpPr>
          <a:xfrm>
            <a:off x="8648640" y="498600"/>
            <a:ext cx="306360" cy="122040"/>
            <a:chOff x="8648640" y="498600"/>
            <a:chExt cx="306360" cy="122040"/>
          </a:xfrm>
        </p:grpSpPr>
        <p:sp>
          <p:nvSpPr>
            <p:cNvPr id="59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4" name="Rectangle 10"/>
          <p:cNvSpPr/>
          <p:nvPr/>
        </p:nvSpPr>
        <p:spPr>
          <a:xfrm>
            <a:off x="2428920" y="1800"/>
            <a:ext cx="6715080" cy="642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59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7" name="TextBox 14"/>
          <p:cNvSpPr/>
          <p:nvPr/>
        </p:nvSpPr>
        <p:spPr>
          <a:xfrm>
            <a:off x="285840" y="785880"/>
            <a:ext cx="86439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ediculosi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s infestation of lice, tiny insects that feed on human blood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here are many type of </a:t>
            </a:r>
            <a:r>
              <a:rPr b="1" lang="en-US" sz="2400" spc="-1" strike="noStrike">
                <a:solidFill>
                  <a:srgbClr val="000000"/>
                </a:solidFill>
                <a:latin typeface="Comic Sans MS"/>
              </a:rPr>
              <a:t>Pediculosis divided by the body part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tching is the symptom </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s: children, and or people with poor hygien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vention: screening and teaching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eatment: removal of lice by especial shampo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Group 6"/>
          <p:cNvGrpSpPr/>
          <p:nvPr/>
        </p:nvGrpSpPr>
        <p:grpSpPr>
          <a:xfrm>
            <a:off x="8648640" y="498600"/>
            <a:ext cx="306360" cy="122040"/>
            <a:chOff x="8648640" y="498600"/>
            <a:chExt cx="306360" cy="122040"/>
          </a:xfrm>
        </p:grpSpPr>
        <p:sp>
          <p:nvSpPr>
            <p:cNvPr id="60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5" name="Rectangle 10"/>
          <p:cNvSpPr/>
          <p:nvPr/>
        </p:nvSpPr>
        <p:spPr>
          <a:xfrm>
            <a:off x="2428920" y="1800"/>
            <a:ext cx="6715080" cy="642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60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8" name="TextBox 14"/>
          <p:cNvSpPr/>
          <p:nvPr/>
        </p:nvSpPr>
        <p:spPr>
          <a:xfrm>
            <a:off x="285840" y="785880"/>
            <a:ext cx="8643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cabi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 skin disease caused by a tiny parasite that burrows under the ski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racteristic welts are usually fou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tween fingers – on the buttocks – in the axilla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On the inside of the wrists – along the beltlin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ymptom: Itching at nigh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s: any one who has contacted with infected perso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vention: education and  good hygien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eatment: insecticide lo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2" name="Group 6"/>
          <p:cNvGrpSpPr/>
          <p:nvPr/>
        </p:nvGrpSpPr>
        <p:grpSpPr>
          <a:xfrm>
            <a:off x="8648640" y="498600"/>
            <a:ext cx="306360" cy="122040"/>
            <a:chOff x="8648640" y="498600"/>
            <a:chExt cx="306360" cy="122040"/>
          </a:xfrm>
        </p:grpSpPr>
        <p:sp>
          <p:nvSpPr>
            <p:cNvPr id="61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6" name="Rectangle 10"/>
          <p:cNvSpPr/>
          <p:nvPr/>
        </p:nvSpPr>
        <p:spPr>
          <a:xfrm>
            <a:off x="2428920" y="1800"/>
            <a:ext cx="6715080" cy="642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61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9" name="TextBox 14"/>
          <p:cNvSpPr/>
          <p:nvPr/>
        </p:nvSpPr>
        <p:spPr>
          <a:xfrm>
            <a:off x="285840" y="78588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abi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viral illness occurring in mammals that may spread to humans through contact with an infected animal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ymptom: </a:t>
            </a:r>
            <a:r>
              <a:rPr b="0" lang="en-US" sz="2400" spc="-1" strike="noStrike">
                <a:solidFill>
                  <a:srgbClr val="000000"/>
                </a:solidFill>
                <a:latin typeface="Comic Sans MS"/>
              </a:rPr>
              <a:t>fever, headache, malaise, itch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fficulty swallowing, paralysis , agitation and coma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s: contact with animals infected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ry Prevention: educ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accination of pe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imals control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voiding wild animal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feeding wild animal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 exposure vaccin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Group 6"/>
          <p:cNvGrpSpPr/>
          <p:nvPr/>
        </p:nvGrpSpPr>
        <p:grpSpPr>
          <a:xfrm>
            <a:off x="8648640" y="498600"/>
            <a:ext cx="306360" cy="122040"/>
            <a:chOff x="8648640" y="498600"/>
            <a:chExt cx="306360" cy="122040"/>
          </a:xfrm>
        </p:grpSpPr>
        <p:sp>
          <p:nvSpPr>
            <p:cNvPr id="10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 name="Rectangle 10"/>
          <p:cNvSpPr/>
          <p:nvPr/>
        </p:nvSpPr>
        <p:spPr>
          <a:xfrm>
            <a:off x="2428920" y="-181080"/>
            <a:ext cx="671508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TextBox 14"/>
          <p:cNvSpPr/>
          <p:nvPr/>
        </p:nvSpPr>
        <p:spPr>
          <a:xfrm>
            <a:off x="285840" y="107172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the communicable disease ……… co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demic: when an infectious agent or disease has a constant presence within a defined geographic are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pidemic: occurrences of infectious agent or disease that clearly exceed the usual expected frequency of the disease in a particular popul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ndemic when an epidemic outbreak occurs worldwid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Group 6"/>
          <p:cNvGrpSpPr/>
          <p:nvPr/>
        </p:nvGrpSpPr>
        <p:grpSpPr>
          <a:xfrm>
            <a:off x="8648640" y="498600"/>
            <a:ext cx="306360" cy="122040"/>
            <a:chOff x="8648640" y="498600"/>
            <a:chExt cx="306360" cy="122040"/>
          </a:xfrm>
        </p:grpSpPr>
        <p:sp>
          <p:nvSpPr>
            <p:cNvPr id="11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12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TextBox 14"/>
          <p:cNvSpPr/>
          <p:nvPr/>
        </p:nvSpPr>
        <p:spPr>
          <a:xfrm>
            <a:off x="285840" y="1071720"/>
            <a:ext cx="86439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nowledge of communicable diseases is fundamental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ractice of community health nursing because:</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se diseases typically spread through communities of people. </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derstanding of the basic concepts of communicable disease control, as well as the numerous issues arising in this area, helps a community health nurse work effectively to prevent and control communicable disease in populations and groups. </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also helps nurses teach important and effective preventive measures to community members, advocate for those affected, and protect the well-being of uninfected persons (including the nurses themselv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8" name="Group 6"/>
          <p:cNvGrpSpPr/>
          <p:nvPr/>
        </p:nvGrpSpPr>
        <p:grpSpPr>
          <a:xfrm>
            <a:off x="8648640" y="498600"/>
            <a:ext cx="306360" cy="122040"/>
            <a:chOff x="8648640" y="498600"/>
            <a:chExt cx="306360" cy="122040"/>
          </a:xfrm>
        </p:grpSpPr>
        <p:sp>
          <p:nvSpPr>
            <p:cNvPr id="12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13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TextBox 14"/>
          <p:cNvSpPr/>
          <p:nvPr/>
        </p:nvSpPr>
        <p:spPr>
          <a:xfrm>
            <a:off x="285840" y="1071720"/>
            <a:ext cx="864396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ral issues and circumstances have emerged during the last quarter-century that are important areas of concern to community health nurs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Group 6"/>
          <p:cNvGrpSpPr/>
          <p:nvPr/>
        </p:nvGrpSpPr>
        <p:grpSpPr>
          <a:xfrm>
            <a:off x="8648640" y="498600"/>
            <a:ext cx="306360" cy="122040"/>
            <a:chOff x="8648640" y="498600"/>
            <a:chExt cx="306360" cy="122040"/>
          </a:xfrm>
        </p:grpSpPr>
        <p:sp>
          <p:nvSpPr>
            <p:cNvPr id="14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14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TextBox 14"/>
          <p:cNvSpPr/>
          <p:nvPr/>
        </p:nvSpPr>
        <p:spPr>
          <a:xfrm>
            <a:off x="285840" y="1071720"/>
            <a:ext cx="86439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espite significant declines in mortality, communicab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eases are responsible for persistently high morbid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mong various age and population group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ates of some communicable diseases, especially tuberculosis (TB) and sexually transmitted diseases (STDs), remain disproportionately high in selected population groups (in some cases, shockingly high), a fact often masked when statistics are aggrega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seases that were once little-known in the United States, such as West Nile virus, are making an appearance</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7:47:33Z</dcterms:created>
  <dc:creator>Carole Morrison</dc:creator>
  <dc:description/>
  <dc:language>en-US</dc:language>
  <cp:lastModifiedBy>SUHAIL AL HUMOUD</cp:lastModifiedBy>
  <cp:lastPrinted>2008-03-05T21:18:32Z</cp:lastPrinted>
  <dcterms:modified xsi:type="dcterms:W3CDTF">2010-01-08T13:07:59Z</dcterms:modified>
  <cp:revision>272</cp:revision>
  <dc:subject/>
  <dc:title>Slide 1</dc:title>
</cp:coreProperties>
</file>