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7603-8877-488C-9779-F9175EDEC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B0EE-2104-49AA-881B-44D79480E0FD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1AD-21E3-4942-8DAA-3F1ABE7F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2B0-6A35-46C0-841E-4800A309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45D-A3E2-40B0-858F-36116A75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002-3744-42F7-B76A-DAE6A298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714D-D09E-401A-9F10-3A1FCD00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2008-C681-4ED6-B74C-FC801C66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C612-87C5-428A-8B6E-976B774B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5699-18CD-4DD9-8F32-CFE4241A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0D04-EB18-4DCA-B1C8-4D0AFED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6F76-9B07-49C7-82F6-E3EB65B9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3A6-4B78-4E1F-925A-6F87912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E34-AE0F-4C2C-A4DD-05346C26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F87-2729-426C-9912-2B82CA6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65FD-5EDC-4453-8BF7-9F5685A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8887-BAEB-4321-A56E-2B4CC8C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C952-962D-4A54-B4F6-CE567D2F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9578-E682-41ED-8FC1-62318B5C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ADFD-7AFE-4B2F-8467-59FB5A64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B4AF-9690-48AF-BD2F-2174E67F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B91F-FDDF-4FF6-8C0B-F0E049D3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DB2D-D91A-442A-9665-376C06B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A5670-8305-4CEB-A994-85DEEF7C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D51-C473-4A63-AA32-4B5BBE48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7B5A-6E28-4033-9E89-F7019F70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A48E-5464-4F9A-B7FA-A3BBD88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A736-814D-43F5-8095-9B3B955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7BA1-59C2-436C-8647-1A61771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4D44-46B6-4BFA-86E7-84B062D8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F32C-7CAD-4701-9730-9EDBF02A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E3FB-B00A-454D-87A4-A2ED0A4D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072E-9BBF-4A1A-8A35-23002B74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7544-2A09-46A3-8D71-30D34A2A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5C0F-1ED4-4B9C-8CF8-F73395D6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431-38BB-475A-B067-4F51688E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F8E4-F992-49F4-B2FD-B323DCFC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87F1-276C-479F-85F8-B6E38780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2B8C-3913-49E1-90B6-F6921556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B212-45F8-4B14-8588-07C0C98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E4AE-49F5-4BFA-A5AA-4BDD3204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56B69-C79F-4E4E-A090-4FFDADE4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EEE2-BA72-43EC-B957-3B395DD9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2590-DD75-4C66-BF5A-D5F763BE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0A5A-00DE-44D4-8ED9-D3E1A294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1AAD-F540-4C81-AE4D-120AADBF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DC1-0FB0-4CE6-AAA7-681B5D10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706C-E3B5-4BAE-9E0A-E469AA1F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DC20-27C4-4AE6-936A-A30F8895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8EEA-6C97-4937-B179-3607E4E6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1E8AA-B9D3-4D0C-B1D7-C8D947F1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17F4-5C37-4FD8-BE37-422BC61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4837-2165-49BC-A2B4-C621141C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7BD11-7A8B-4985-B025-E7A1F43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5E74-3B04-450D-9175-31B589F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67B9-7B70-43DD-B53B-DF8EC83E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8575-6858-47FA-8331-B07F1848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CCB-AF58-4DD4-8562-47FB132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13316-0B40-485F-A75A-D45C1FC6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D7B-70FF-4BAA-A4DA-F070469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339-CDBA-4FF7-A83B-13DD6247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0EF-7B35-49F4-B100-1F74FCE1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D2B2-8C4C-409F-A7FB-540AF0FCA1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704F-DA88-4788-8D0D-7C60676602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75A-E1D8-4DF0-91B0-AB670B0EB2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D6E3-3F75-4F9C-89B8-D777BE032F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64F3-C41C-4D56-8430-9DDCD61260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5 – Comparative &amp; Superlative adjectiv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ستخدم اسم التفضيل للمقارنة بين اثنين (أو أكثر) اشتركا في صفة، و زاد أحدهما على الآخر في هذه الصف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طول - أقصر - أنشط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عرب حسب موقعه في الجمل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شتق اسم التفضيل على وزن «أفعل» للمذكر و «فُعلى» للمؤنث من فعل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اض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ثلاث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ثب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تام (الأفعال الناقصة : كان وأخواتها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بني للمعلوم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ليس الوصف منه على وزن «افعل» و «فعلاء» أحمر حمراء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قابل للتفاو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d2533c"/>
              </a:solidFill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في حال اختلّ أحد الشروط السابق ذكرها، لا يُصاغ اسم التفضيل من الفعل بشكل مباشر. إنما يُصاغ من المصدر مع كلمة مناسبة على وزن «أفعل»، مثل: أشد - أكثر - أقل - أدن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كون المصدر في هذه الحالة، تمييز منصو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كثر ازدحاماً - أشد حمرةً - أقل دحرجة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ناك ثلاثة أفعال تٌحذف منها الألف عادة في صيغة التفضيل، هي: خير وشر وحب. مثلاً: خير منه أو شر منه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وحب شيئ إلى الإنسان ما منعا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صدق خير من الكذ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لال خير الناس وابن الأخير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Arial"/>
                <a:cs typeface="Arial"/>
              </a:rPr>
              <a:t>حالات 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جرد من أل ومن الإضا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 ← يجب إفراده وتذكيره - المفضل إليه مسبوق بحرف الجر من (ويجوز حذفه إذا كان مفهوماً من الجملة). مثال: أحمد أطول من أخيه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نكر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إفراده وتذكيره. مثال: الكتاب أفضل صديقٍ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عرفاً بأل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أن يُطابق المفضل في التذكير والتأنيث والعدد - لا يُذكر المفضل عليه بعده. أمثلة: محمد هو الأصغر سناً - مها هي الصغرى سناً - الأختان الفضليان - النساء الفضليات – الشباب الأفضلون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معر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وز فيه: أن يطابق المفضل كالمعرف بألـ أو أن يكون مفرداً مذكراً كالمجرد من ألـ ومن الإضافة. أمثلة: محمد أفضل الرجال - فاطمة فضلى النساء أو فاطمة أفضل النس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في أساسيات اللغة العربية لعبد العزيز نبوي - القاهرة: الدار المصرية اللبنانية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المبسط في شرح قواعد اللغة العربية لمحمد حسين سلامة - القاهرة: دار الفكر العربي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0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esl.fis.edu/grammar/rules/comp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nglishclub.com/vocabulary/irregular-adjectives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j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v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khayma.com/medhatfoda/naho%202th/2thn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drmosad.com/index7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267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parative adjectives are used to compare two thing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wo common structures used to compare ar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 (e.g., She is as smart as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 (e.g., She is smarter than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does not chang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changes depending on the number of syllables it ha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lder – hotter – tall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ppier – prettier – luckier – easi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careful – more crowded – more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perlative adjectives are used to talk about one thing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used to describe something as being the most of, e.g., the best, the worst, the most beautiful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oldest – the hottest – the tall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happiest – the prettiest – the luckiest – the easi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areful – the most crowded – the most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djectives that Follow both Ru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disyllabic adjectives follow two rules (i.e., they take -er and -est OR more/the most). For examp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v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en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riend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impl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rro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m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b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lit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jectiv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od – better – the be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a greater degree (more figurative – can be used adverbially to mean in add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distance on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elder – the e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when referring to someone in the fami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older – the o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general u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y – more – the mo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/Superlative Adverb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 / –est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ster – the fast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rder – the hard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ther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/ 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quickly – the most quick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verb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ll – better – the b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ly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Ghadah Alotaibi</cp:lastModifiedBy>
  <cp:lastPrinted>2013-03-29T19:17:46Z</cp:lastPrinted>
  <dcterms:modified xsi:type="dcterms:W3CDTF">2015-03-03T06:07:03Z</dcterms:modified>
  <cp:revision>41</cp:revision>
  <dc:subject/>
  <dc:title>Comparative Constructions II</dc:title>
</cp:coreProperties>
</file>