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0A5C-C58B-41C8-983B-9E014A78E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B2C0-855E-42F2-A848-6A87A2D895E8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D26-0256-46AA-9207-5B41A5F8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093-13DA-4A8E-9FCC-67EBCBE1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BCF-88E3-43AF-92A6-25B4D33A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0F6-FC57-48A3-82E4-3F5FE0E3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A4B7-88B1-4120-A2EA-E2E0CE9C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0A0-85E0-4DD3-8F2D-C38C59F3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C5E4-6BDD-4D0B-A116-DC6518F8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3CBC-AD19-4BF6-A69B-DE8A8A7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4D36-2313-4BF4-AE4B-18BA7B84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1F67-53F8-4535-A9AA-C559DAC1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D847-40A9-4BFA-BB41-728A0650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293-464F-4D57-8A2F-A013BD69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544E-D40C-4336-833A-8F5601A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53EA-3DB3-4688-B6C1-BAB7AF2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2BCF-F075-448B-8DCC-4AB19E50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79E7-2378-499B-8005-B2F12B63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AF39-234B-49C5-BB70-AFAA6433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F8FE-F6EA-4B43-88C8-D2A70284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82BD-3E50-4B61-8603-0FF79158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61A08-7006-48B7-AD86-756B809D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A7A5-B251-4B9A-94F3-F66A6A75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50DF-2B77-4748-9ED2-B35A10ED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6F3-54CF-4CCE-AA6A-0A9B2F8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1429-F563-4D22-85A5-EFA7D75D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5422-F967-4164-9F10-248D14A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B0ED-D265-49FE-A107-7F5D889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6C83-5CFA-408A-BAD9-904EF719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7C3D-9ADB-43FF-A79A-87B1B42E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D492-BE5B-498D-BAAE-CA18557F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E3F7-10A6-42A1-9E6E-43F54EA3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FB4D-D75F-450B-A39B-695FC760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0D2A-3958-4979-ABA9-55D7214F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C272-24F3-4AFF-AE5E-77C4683E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BCB-7225-4884-8A68-2D3DBA82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1A8D-4303-43DC-9A79-0A8D0AB1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2668B-190C-4C07-A08D-B6D20497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66CBB-85CB-4896-BB73-2B1F6896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CFAD-ECFD-42CF-A478-4850341E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FC86-D5CD-4E37-B71C-E45F0013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6B67F-FE72-425C-A2E3-FF2AD32C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CC4FF-088B-465B-9619-C5576E5C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957B-464A-4B12-8674-7E4C6165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8B1C-5386-44ED-9149-011E5684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4A31B-9703-4596-86CF-4FED13AB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421-F9ED-4E6C-AF59-AAEF7AD8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131D-982B-4371-A6AE-CFF5B62D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D5EF4-7F74-4511-92F0-E5777797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8475-6631-44F2-9B2A-C57AEE9C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B3AD-D736-4F98-B05A-92F239FE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17384-F6B1-436C-BBC9-7AD5A3E0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01612-2E0B-406F-8AE4-D691EFF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2A9A-23C3-40FF-AF87-B0183C5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AFC52-B40D-4CE5-936D-B56DC7BD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1458-1CB8-43AC-A4FD-BB92C3DA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FF99-2725-4E6C-80D1-659EE605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8D9-A363-481C-BB1E-6D339367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557C5-1E59-49BE-B26E-3DF9A9AF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8B4-2E17-4CB9-8883-E88F80D1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535-1093-45DA-B62A-DB164BF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DCD-B5F6-40D0-BD8C-1B368AD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F4F1-FA4F-4E69-8751-C2D8ED2415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12A9-40B9-4F11-941D-D6E5519051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DDD9-1A1A-4B31-9964-78248EA571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6048-3A14-4687-9EDC-B3A167DF5B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5C7D-A599-4924-8CFF-76A0E08DE6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#5 – Comparative &amp; Superlative adjectiv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Times New Roman"/>
                <a:cs typeface="Times New Roman"/>
              </a:rPr>
              <a:t>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ستخدم اسم التفضيل للمقارنة بين اثنين (أو أكثر) اشتركا في صفة، و زاد أحدهما على الآخر في هذه الصف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طول - أقصر - أنشط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عرب حسب موقعه في الجمل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شتق اسم التفضيل على وزن «أفعل» للمذكر و «فُعلى» للمؤنث من فعل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اض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ثلاث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ثب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تام (الأفعال الناقصة : كان وأخواتها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بني للمعلوم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ليس الوصف منه على وزن «افعل» و «فعلاء» أحمر حمراء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قابل للتفاو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d2533c"/>
              </a:solidFill>
              <a:latin typeface="Times New Roman"/>
              <a:ea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في حال اختلّ أحد الشروط السابق ذكرها، لا يُصاغ اسم التفضيل من الفعل بشكل مباشر. إنما يُصاغ من المصدر مع كلمة مناسبة على وزن «أفعل»، مثل: أشد - أكثر - أقل - أدنى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كون المصدر في هذه الحالة، تمييز منصو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كثر ازدحاماً - أشد حمرةً - أقل دحرجة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ناك ثلاثة أفعال تٌحذف منها الألف عادة في صيغة التفضيل، هي: خير وشر وحب. مثلاً: خير منه أو شر منه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وحب شيئ إلى الإنسان ما منعا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صدق خير من الكذ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لال خير الناس وابن الأخير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Arial"/>
                <a:cs typeface="Arial"/>
              </a:rPr>
              <a:t>حالات 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جرد من أل ومن الإضا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 ← يجب إفراده وتذكيره - المفضل إليه مسبوق بحرف الجر من (ويجوز حذفه إذا كان مفهوماً من الجملة). مثال: أحمد أطول من أخيه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نكر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إفراده وتذكيره. مثال: الكتاب أفضل صديقٍ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عرفاً بأل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أن يُطابق المفضل في التذكير والتأنيث والعدد - لا يُذكر المفضل عليه بعده. أمثلة: محمد هو الأصغر سناً - مها هي الصغرى سناً - الأختان الفضليان - النساء الفضليات – الشباب الأفضلون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معر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وز فيه: أن يطابق المفضل كالمعرف بألـ أو أن يكون مفرداً مذكراً كالمجرد من ألـ ومن الإضافة. أمثلة: محمد أفضل الرجال - فاطمة فضلى النساء أو فاطمة أفضل النساء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في أساسيات اللغة العربية لعبد العزيز نبوي - القاهرة: الدار المصرية اللبنانية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المبسط في شرح قواعد اللغة العربية لمحمد حسين سلامة - القاهرة: دار الفكر العربي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03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esl.fis.edu/grammar/rules/comp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nglishclub.com/vocabulary/irregular-adjectives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j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v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khayma.com/medhatfoda/naho%202th/2thn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drmosad.com/index7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267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parative adjectives are used to compare two thing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wo common structures used to compare are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 (e.g., She is as smart as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 (e.g., She is smarter than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does not chang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changes depending on the number of syllables it ha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lder – hotter – tall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ppier – prettier – luckier – easi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careful – more crowded – more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perlative adjectives are used to talk about one thing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y are used to describe something as being the most of, e.g., the best, the worst, the most beautiful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coldest – the hottest – the tall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happiest – the prettiest – the luckiest – the easi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 careful – the most crowded – the most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Adjectives that Follow both Ru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me disyllabic adjectives follow two rules (i.e., they take -er and -est OR more/the most). For exampl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lev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ent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riend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impl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rrow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m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bt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olit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jectiv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ood – better – the be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a greater degree (more figurative – can be used adverbially to mean in add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a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distance on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elder – the e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when referring to someone in the fami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older – the o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general u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ny – more – the mo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/Superlative Adverb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 / –est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ster – the fast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rder – the hard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ther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/ 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quickly – the most quickl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verb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ll – better – the b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ly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arth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8:58:27Z</dcterms:created>
  <dc:creator>user</dc:creator>
  <dc:description/>
  <dc:language>en-US</dc:language>
  <cp:lastModifiedBy>Ghadah Alotaibi</cp:lastModifiedBy>
  <cp:lastPrinted>2013-03-29T19:17:46Z</cp:lastPrinted>
  <dcterms:modified xsi:type="dcterms:W3CDTF">2015-03-03T06:07:03Z</dcterms:modified>
  <cp:revision>41</cp:revision>
  <dc:subject/>
  <dc:title>Comparative Constructions II</dc:title>
</cp:coreProperties>
</file>