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CCB-EE5F-4654-BD68-9D29FB76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2EC-385A-4C18-A520-F0F12DA5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4CE-7A54-42C9-AA35-877115DC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F07-78DF-488D-AD39-11C6DD93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465D-CB96-4915-B22C-C58A59AC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2B2B-1A5D-4CA2-A5CC-FE9C7326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F2C2-3E2A-49B0-8C9B-201598FE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0327-BD95-436B-9EED-12EB8562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97F8-3DE3-47C4-A5C3-454C2629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0039-B768-48F8-AC78-F456C770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D32A-8E9C-4C54-94D9-5368937F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F25-CB54-40A5-8D1A-8A503D3D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28E1-11EA-4763-AF01-741DBDC8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A2FC-0BCF-477D-AABD-0269D4C3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85B4-C48C-4A34-B6C2-C03CEF80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8015-8F6E-445B-95E7-D2F5E9BC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99F1-D7A7-4CFD-BE11-348F3AA8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95E-4CDE-4AF3-9131-103BBA1E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8AF-89B3-4051-A45C-5D5DE26A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87B-C0BA-4D1E-8582-A667C2BF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D4F-3413-46F9-A833-8220FE3E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67EA-7205-48EF-BC91-10E59D24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C8A-93F5-41EA-B287-FDB57ACA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7CC-0830-458C-A975-146158AB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60A2-8A71-4EE8-8CF6-5B9C4EC406CC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7201-1588-4757-9AE2-F0615ACEAD73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lor Wide"/>
              </a:rPr>
              <a:t>DENTAL  ANESTHESIA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e09142"/>
                </a:solidFill>
                <a:latin typeface="Arial"/>
              </a:rPr>
              <a:t>COMPLICATIONS IN THE DENTAL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7480" y="4266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7f77"/>
                </a:solidFill>
                <a:latin typeface="Arial"/>
              </a:rPr>
              <a:t>Quantiflex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19640" y="914040"/>
            <a:ext cx="3810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7f77"/>
                </a:solidFill>
                <a:latin typeface="Arial"/>
              </a:rPr>
              <a:t>Nasal Mask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7f77"/>
                </a:solidFill>
                <a:latin typeface="Arial"/>
              </a:rPr>
              <a:t>Rubber Da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" name="Picture 5" descr="C:\My Documents\My Pictures\Picture1.mix"/>
          <p:cNvPicPr/>
          <p:nvPr/>
        </p:nvPicPr>
        <p:blipFill>
          <a:blip r:embed="rId1"/>
          <a:stretch/>
        </p:blipFill>
        <p:spPr>
          <a:xfrm>
            <a:off x="1523880" y="1600200"/>
            <a:ext cx="213372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Picture 6" descr="C:\My Documents\My Pictures\MVC-006S.JPG"/>
          <p:cNvPicPr/>
          <p:nvPr/>
        </p:nvPicPr>
        <p:blipFill>
          <a:blip r:embed="rId2"/>
          <a:stretch/>
        </p:blipFill>
        <p:spPr>
          <a:xfrm>
            <a:off x="5410080" y="1447920"/>
            <a:ext cx="2590920" cy="1904760"/>
          </a:xfrm>
          <a:prstGeom prst="rect">
            <a:avLst/>
          </a:prstGeom>
          <a:ln w="9360">
            <a:solidFill>
              <a:srgbClr val="ae4828"/>
            </a:solidFill>
            <a:miter/>
          </a:ln>
        </p:spPr>
      </p:pic>
      <p:pic>
        <p:nvPicPr>
          <p:cNvPr id="125" name="Picture 7" descr="C:\My Documents\My Pictures\PICTURE5.mix"/>
          <p:cNvPicPr/>
          <p:nvPr/>
        </p:nvPicPr>
        <p:blipFill>
          <a:blip r:embed="rId3"/>
          <a:stretch/>
        </p:blipFill>
        <p:spPr>
          <a:xfrm>
            <a:off x="5410080" y="4038480"/>
            <a:ext cx="2590920" cy="2057400"/>
          </a:xfrm>
          <a:prstGeom prst="rect">
            <a:avLst/>
          </a:prstGeom>
          <a:ln w="9360">
            <a:solidFill>
              <a:srgbClr val="ae48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uls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C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NIBP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ulse Oximetr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apnograph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scitation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ull range of tracheal tubes&amp; accessor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wo working laryngoscop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V agents: Succinylcholine&amp; atropin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Emergency drug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fibrillato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raining: B&amp;AL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halational (mask) ind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/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(&gt;30%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lothane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(3%)        common, smooth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flurane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(&gt;3%)      less pot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oflurane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Respiratory irri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oflurane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           New, smooth, less pot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travenous Ind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9142"/>
                </a:solidFill>
                <a:latin typeface="Arial"/>
              </a:rPr>
              <a:t>Advantages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Avoidance of face mas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Less saliv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Less atmospheric pollu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9142"/>
                </a:solidFill>
                <a:latin typeface="Arial"/>
              </a:rPr>
              <a:t>Disadvantages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CV depress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9142"/>
                </a:solidFill>
                <a:latin typeface="Arial"/>
              </a:rPr>
              <a:t>Drug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thohexitone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Low incidence of nausea &amp;vomiting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    Good recovery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in on injection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involuntary    movements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hiccups &amp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spiratory depress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pofo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halational agents/N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Nasal mask, mouth gag, pack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intain airwa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Posture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upine Position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Less hypotension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less bradycard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owever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igh risk of aspi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irway obstruction&amp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ecrease ERV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Left lateral posi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100% O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uction Observation &amp; monitor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ischarge crite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stru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nalgesia (NSAID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Respiratory Complic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irway Obstruction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(Tongue, Adenoid, Pack,debris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Arial"/>
              </a:rPr>
              <a:t>…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spiratory arre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aryngeal spas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ulmonary aspi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plications</a:t>
            </a:r>
            <a:r>
              <a:rPr b="1" lang="en-US" sz="3600" spc="-1" strike="noStrike">
                <a:solidFill>
                  <a:srgbClr val="e09142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Cardiovascular Complic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potension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duction of anesthes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arotid sinus compress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adycard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ooth extra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alothane(nodal rhythm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plications</a:t>
            </a:r>
            <a:r>
              <a:rPr b="1" lang="en-US" sz="3600" spc="-1" strike="noStrike">
                <a:solidFill>
                  <a:srgbClr val="e09142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7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ysrhythmias (Tachy-arrhythmia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Aetiology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Tooth extraction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- High preoperative catecholamin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- Light anesthes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- Airway obstruction &amp; hypox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- Halothane &amp; local anesthes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- Local anesthesia with vasopress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ntroversia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- Significant with unexpected cardiac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disease(viral myocarditi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D:\photo\BASMALLA\BAS40.PCX"/>
          <p:cNvPicPr/>
          <p:nvPr/>
        </p:nvPicPr>
        <p:blipFill>
          <a:blip r:embed="rId1">
            <a:grayscl/>
            <a:lum bright="-32000"/>
          </a:blip>
          <a:stretch/>
        </p:blipFill>
        <p:spPr>
          <a:xfrm>
            <a:off x="2895480" y="2590920"/>
            <a:ext cx="45720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plications</a:t>
            </a:r>
            <a:r>
              <a:rPr b="1" lang="en-US" sz="3600" spc="-1" strike="noStrike">
                <a:solidFill>
                  <a:srgbClr val="e09142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57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lergic Reaction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Incidence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Very ra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More commonly (vaso-vagal,Toxic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reaction, epinephrin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Aetiolog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g E-mediated rea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aster-linked: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 p-amino benzoic aci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mide-linked: preservatives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 (Paraben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plications</a:t>
            </a:r>
            <a:r>
              <a:rPr b="1" lang="en-US" sz="3600" spc="-1" strike="noStrike">
                <a:solidFill>
                  <a:srgbClr val="e09142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7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lergic Reaction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Manifest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ypotension, tachycardia, arrhythmia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Bronchospasm,cough, dyspnea, pulmonary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oedema, laryngeal oedema, hypox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Urticaria, facial oedema, pruritu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plications</a:t>
            </a:r>
            <a:r>
              <a:rPr b="1" lang="en-US" sz="3600" spc="-1" strike="noStrike">
                <a:solidFill>
                  <a:srgbClr val="e09142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lergic Reaction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iscontinue dru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100% O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Epinephrine (0.01-0.5 mg IV or IM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tubation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IV fluids (LRS 1-2 lite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iphenhydrami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Hydrocortisone (up to 200mg IV)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plications</a:t>
            </a:r>
            <a:r>
              <a:rPr b="1" lang="en-US" sz="3600" spc="-1" strike="noStrike">
                <a:solidFill>
                  <a:srgbClr val="e09142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in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Causes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revious factors (CV, allergic,..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motional factors (more common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Aetiolog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limbic cortex-hypothalamus-reflex vasodila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Increase parasympathetic activity-bradycardi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ead down-leg elev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100% O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essation of anesthesia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plications</a:t>
            </a:r>
            <a:r>
              <a:rPr b="1" lang="en-US" sz="3600" spc="-1" strike="noStrike">
                <a:solidFill>
                  <a:srgbClr val="e09142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scellaneou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Nasal trauma, epistaxi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iffusion hypox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ntinued bleed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ostoperativ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ore thro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Nausea &amp; vomi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ain &amp; swelling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3276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tal Anesth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Out-Patient anesthesia (Dental Chair Anesthesia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ay-Case anesthes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-Patient anesthes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mplete Dental rehabili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mplicated oral surgery procedur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jor Maxillofacial surgeri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addition, Sedation Technique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ntal Chair Anesthes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Out-Patient dental extrac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hildren (4-10 years):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igh incidence of URT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teadily decreas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Patient Selection (&amp;Ind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SA grade I&amp;I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isability (mental&amp; physical)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Review: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existing disease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urrent medic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Fearful adults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ather sed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rocedure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hor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not so extensiv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Contrain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erious cardiopulmonary diseas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P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iabetes or other endocrinological diseas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Neuromuscular disord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agulopathies &amp; Hemoglobinopathi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rked oro-facial swelling (edema&amp; trismu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otential difficult airway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rked congenital heart defec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xtreme obesit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rugs: MAOIs , Anticoagula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Not fas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Equipment (Up to the standards of in-patient 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ental Chai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nesthetic equipm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esuscitation equipm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tal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djustable: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horizontal (supin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ead dow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nual releas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djustable head re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ospital out-patient:operating tab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esthesia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ntinuous flow anesthesia machi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Quantiflex (Relative Analgesia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outh props, packs, gags, nasopharyngeal airway, rubber da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eparate suction uni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cavenging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sham Almoallim</cp:lastModifiedBy>
  <dcterms:modified xsi:type="dcterms:W3CDTF">2015-09-19T13:24:15Z</dcterms:modified>
  <cp:revision>28</cp:revision>
  <dc:subject/>
  <dc:title>PowerPoint Presentation</dc:title>
</cp:coreProperties>
</file>