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D04-E105-4042-8CD4-CE667AB2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A7A-1134-4773-A9E7-63DB28FD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214-ED1C-4D11-868C-9CC4F2C4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E9E-AFE1-4F5B-9433-992C7DA6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4F81-E2D6-4ADE-A740-274AF0E6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054A-4546-4CC7-96EA-38D8B63A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438E-0374-4B37-A442-3FD98658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2AAF-A779-43E8-8A1C-A447930E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D0E6-7C85-4F26-A3A8-1875176D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CFCB-736A-4D9B-A686-ECA7780F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B814-E6AC-4A13-BACA-6D822F46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178-F9A7-4FE5-8A8E-A70DDBF0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B082-D1B5-4FC1-9C57-AF573277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B167-F4E4-4E43-A98D-A6DC9F4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A3E6-BF94-4772-A804-09969CF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D0E0-AC61-4128-9323-416EED09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856D-8ED9-4038-9298-AF86125A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D4D-C95A-44D4-9304-4FE4AE23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65A-F9CA-4D72-8AC6-4AFB0323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9D2-C7E9-4892-ADFF-17962184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404-16C9-4661-BDAF-4980A255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99A-6C60-4787-86C7-A171C852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A65-8BEF-4FE9-9BA1-554B7C61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D5C-4DAC-4716-8096-25EC21CB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59A2-5275-4091-B966-4F96284D3EED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6C89-5A6B-404D-8694-137EA99B0C58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lor Wide"/>
              </a:rPr>
              <a:t>DENTAL  ANESTHESIA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e09142"/>
                </a:solidFill>
                <a:latin typeface="Arial"/>
              </a:rPr>
              <a:t>COMPLICATIONS IN THE DENTAL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7480" y="4266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7f77"/>
                </a:solidFill>
                <a:latin typeface="Arial"/>
              </a:rPr>
              <a:t>Quantiflex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19640" y="914040"/>
            <a:ext cx="3810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7f77"/>
                </a:solidFill>
                <a:latin typeface="Arial"/>
              </a:rPr>
              <a:t>Nasal Mas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7f77"/>
                </a:solidFill>
                <a:latin typeface="Arial"/>
              </a:rPr>
              <a:t>Rubber Da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" name="Picture 5" descr="C:\My Documents\My Pictures\Picture1.mix"/>
          <p:cNvPicPr/>
          <p:nvPr/>
        </p:nvPicPr>
        <p:blipFill>
          <a:blip r:embed="rId1"/>
          <a:stretch/>
        </p:blipFill>
        <p:spPr>
          <a:xfrm>
            <a:off x="1523880" y="1600200"/>
            <a:ext cx="213372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6" descr="C:\My Documents\My Pictures\MVC-006S.JPG"/>
          <p:cNvPicPr/>
          <p:nvPr/>
        </p:nvPicPr>
        <p:blipFill>
          <a:blip r:embed="rId2"/>
          <a:stretch/>
        </p:blipFill>
        <p:spPr>
          <a:xfrm>
            <a:off x="5410080" y="1447920"/>
            <a:ext cx="2590920" cy="1904760"/>
          </a:xfrm>
          <a:prstGeom prst="rect">
            <a:avLst/>
          </a:prstGeom>
          <a:ln w="9360">
            <a:solidFill>
              <a:srgbClr val="ae4828"/>
            </a:solidFill>
            <a:miter/>
          </a:ln>
        </p:spPr>
      </p:pic>
      <p:pic>
        <p:nvPicPr>
          <p:cNvPr id="125" name="Picture 7" descr="C:\My Documents\My Pictures\PICTURE5.mix"/>
          <p:cNvPicPr/>
          <p:nvPr/>
        </p:nvPicPr>
        <p:blipFill>
          <a:blip r:embed="rId3"/>
          <a:stretch/>
        </p:blipFill>
        <p:spPr>
          <a:xfrm>
            <a:off x="5410080" y="4038480"/>
            <a:ext cx="2590920" cy="2057400"/>
          </a:xfrm>
          <a:prstGeom prst="rect">
            <a:avLst/>
          </a:prstGeom>
          <a:ln w="9360">
            <a:solidFill>
              <a:srgbClr val="ae48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ul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C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IBP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ulse Oximet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apnograph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scitation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ull range of tracheal tubes&amp; accessor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wo working laryngoscop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V agents: Succinylcholine&amp; atropin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Emergency drug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fibrillato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raining: B&amp;A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halational (mask) ind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/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(&gt;30%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lothane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(3%)        common, smooth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flurane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(&gt;3%)      less pot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oflurane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Respiratory irri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oflurane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           New, smooth, less pot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travenous Ind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9142"/>
                </a:solidFill>
                <a:latin typeface="Arial"/>
              </a:rPr>
              <a:t>Advantages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Avoidance of face mas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ess saliv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ess atmospheric pollu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9142"/>
                </a:solidFill>
                <a:latin typeface="Arial"/>
              </a:rPr>
              <a:t>Disadvantages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V depress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9142"/>
                </a:solidFill>
                <a:latin typeface="Arial"/>
              </a:rPr>
              <a:t>Drug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thohexitone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Low incidence of nausea &amp;vomiting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 Good recover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in on injection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nvoluntary    movements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hiccups &amp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spiratory depress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ofo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halational agents/N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asal mask, mouth gag, pac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intain airwa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ostur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upine Position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Less hypotension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less bradycard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owever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igh risk of aspi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irway obstruction&amp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ecrease ERV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Left lateral posi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100% O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uction Observation &amp; monitor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scharge crite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nalgesia (NSAI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Respiratory Compl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irway Obstruction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(Tongue, Adenoid, Pack,debris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Arial"/>
              </a:rPr>
              <a:t>…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spiratory arr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aryngeal spas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ulmonary aspi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Cardiovascular Compl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potension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duction of anesthes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arotid sinus compress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adycard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ooth extra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alothane(nodal rhyth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7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ysrhythmias (Tachy-arrhythmia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Aetiology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Tooth extraction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High preoperative catecholamin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Light anesthes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Airway obstruction &amp; hypox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Halothane &amp; local anesthes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Local anesthesia with vasopress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Significan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ntrovers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- Significant with unexpected cardiac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disease(viral myocarditi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:\photo\BASMALLA\BAS40.PCX"/>
          <p:cNvPicPr/>
          <p:nvPr/>
        </p:nvPicPr>
        <p:blipFill>
          <a:blip r:embed="rId1">
            <a:grayscl/>
            <a:lum bright="-32000"/>
          </a:blip>
          <a:stretch/>
        </p:blipFill>
        <p:spPr>
          <a:xfrm>
            <a:off x="2895480" y="2590920"/>
            <a:ext cx="45720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7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lergic Reactio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Incidence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Very ra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More commonly (vaso-vagal,Toxic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reaction, epinephrin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Aetiolog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g E-mediated rea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aster-linked: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p-amino benzoic aci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mide-linked: preservatives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(Paraben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7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lergic Reactio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Manifest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ypotension, tachycardia, arrhythmia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Bronchospasm,cough, dyspnea, pulmonary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 oedema, laryngeal oedema, hypox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rticaria, facial oedema, prurit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lergic Reactio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e0914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scontinue dru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100% O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Epinephrine (0.01-0.5 mg IV or I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tubation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IV fluids (LRS 1-2 lite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phenhydr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Hydrocortisone (up to 200mg IV)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in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Causes</a:t>
            </a: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revious factors (CV, allergic,..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motional factors (more common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Aetiolog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limbic cortex-hypothalamus-reflex vasodila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Increase parasympathetic activity-bradycardi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9142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ead down-leg elev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100% O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essation of anesthesia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Complications</a:t>
            </a:r>
            <a:r>
              <a:rPr b="1" lang="en-US" sz="3600" spc="-1" strike="noStrike">
                <a:solidFill>
                  <a:srgbClr val="e09142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scellaneo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asal trauma, epistax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ffusion hypox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ntinued bl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ostoperativ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ore thro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ausea &amp; vomi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ain &amp; swelling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3276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tal Anesth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ut-Patient anesthesia (Dental Chair Anesthesia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ay-Case anesthes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-Patient anesthes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mplete Dental rehabili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mplicated oral surgery procedur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jor Maxillofacial surger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addition, Sedation Technique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ntal Chair Anesthes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Out-Patient dental extra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hildren (4-10 years):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igh incidence of URT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teadily decreas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Patient Selection (&amp;Ind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SA grade I&amp;I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sability (mental&amp; physical)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Review: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existing diseas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urrent med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Fearful adults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ather sed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rocedure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hor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ot so extensiv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Contrain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rious cardiopulmonary disea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P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iabetes or other endocrinological disea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euromuscular disord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agulopathies &amp; Hemoglobinopath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rked oro-facial swelling (edema&amp; trismu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otential difficult airway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rked congenital heart defec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xtreme obes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rugs: MAOIs , Anticoagula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Not f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-Patient Dental Anesthesia</a:t>
            </a:r>
            <a:br>
              <a:rPr sz="3200"/>
            </a:b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Equipment (Up to the standards of in-patient 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Dental Chai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nesthetic equip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suscitation equip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tal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djustable: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horizontal (supin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ead dow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nual relea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djustable head r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ospital out-patient:operating 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esthesia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ntinuous flow anesthesia mach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Quantiflex (Relative Analgesia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outh props, packs, gags, nasopharyngeal airway, rubber da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parate suction un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cavenging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sham Almoallim</cp:lastModifiedBy>
  <dcterms:modified xsi:type="dcterms:W3CDTF">2015-09-19T13:24:15Z</dcterms:modified>
  <cp:revision>28</cp:revision>
  <dc:subject/>
  <dc:title>PowerPoint Presentation</dc:title>
</cp:coreProperties>
</file>