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F41-19EF-4AE5-AC97-BD3079120A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BFB-3F53-4810-89C6-ABFE1E9174C2}" type="slidenum">
              <a:rPr b="0" lang="ar-SA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976-F07A-43DA-93F6-2A78832D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325-B61E-4A0C-A59E-E2000289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170-9447-4CB0-B080-10FDAEBE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4F-39A4-4FE7-BAF6-7386CBC0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1C31-B26F-4F5B-9403-20777E6C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0D5-D397-400A-9C32-09044D10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00C6-E096-4C0D-A8E1-1638A74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A47-8BE8-4234-857D-7DB14AE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C23-CFE1-41E9-A680-186828F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431-A160-4432-967A-4CF6F751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62F-04BA-4A92-B884-D33EF57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7F9-BBD6-485E-A32E-A01D495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635-BE36-4BBA-A402-C8D9853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B23D-59A2-44B7-AF4E-F9FA3FC8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416-8E12-4AAE-945E-F7BBDF49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B880-C24B-4926-B69D-40D5874E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470-13C1-46B6-A4EA-8231217C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8D67-8EC0-4278-AE5F-EB0B3447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CB42-585E-40DB-BC86-EA024676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5986-CCD5-4713-9960-DDFF5108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25B9-E598-4973-B9A8-2AB93FE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FAD4-AD8E-4C2C-91B4-824593B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62E-0E82-400A-AB2D-49C2A9E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A965-3B84-4A1B-805A-C0A605D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1F4A-2E76-4014-B2D8-F24E3C4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2F0E-00F3-4298-8319-3D21E27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34BF-6BE5-473A-8271-BEF8BBE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A569-EB5B-49AD-B936-9266CEAA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5EC5-7D99-4D0B-B43F-26B53203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D5D7-AC53-4950-B22D-404D77D3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39B9-8DB7-4295-903E-5FD14627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AD73-EF1C-406E-81CD-953B12D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BAD2-96AD-41E0-8360-316487C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620-6A25-4D5B-A465-ACECC83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0501-D03F-43F6-8D56-6D07D6F2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2E89-074D-48D5-8886-64D5750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1812-6882-44C3-8123-B6847AB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176B-BA5B-4B67-B542-B8D5DB2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30FD-6DDB-4827-8947-7614B5D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454A-D0F9-4FBA-943D-D488FF5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7467-39BF-4C04-BE7F-00A4C03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0484-DEE1-4AD3-AC56-45BA21CA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FC37-FFD4-43B7-A55A-B5275656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E15-DEDF-4422-AAF7-1B3648C8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6DD-2144-4735-B1E0-8A8F2C2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538-A107-47EE-B041-57D4DBA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C36-F33F-4C71-B18E-A5AB71D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B57-FDDB-4CB4-AC10-19D6B79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2D53-CC39-46C2-B456-8259CE298D35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F60D-EE90-4F24-9733-DF070EB4FA80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EC74-1A30-4668-AA47-5CC78D059F7C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8D7-1170-4B0E-9884-FBDEB86281EE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rammar-monster.com/lessons/adjectives_compound_adjectives.htm" TargetMode="External"/><Relationship Id="rId2" Type="http://schemas.openxmlformats.org/officeDocument/2006/relationships/hyperlink" Target="http://www.myenglishpages.com/site_php_files/vocabulary-lesson-compound-adjectives.php" TargetMode="External"/><Relationship Id="rId3" Type="http://schemas.openxmlformats.org/officeDocument/2006/relationships/hyperlink" Target="http://www.englishclub.com/grammar/nouns-compound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19280" y="2133720"/>
            <a:ext cx="5616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Compound adjectives &amp; nou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262160" y="4194000"/>
            <a:ext cx="6345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43000" y="731520"/>
            <a:ext cx="640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noun that is made up of two or more wor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ompound noun acts as a single uni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ompound noun can be modifi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y are written with a space between them, a hyphen, or as one word (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ck dictionary if in doubt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143000" y="731520"/>
            <a:ext cx="6958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Some combinations that make up compound nouns ar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Noun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oothbrush / classroom/ bus stop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Adjective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lackboard / software / greenhouse/ full moon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Present participle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ashing machine / swimming pool / ironing board / training whe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16000" y="765000"/>
            <a:ext cx="66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Verb + noun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reakfas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Noun + verb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unrise / haircu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Noun + present participle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ird watchin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Verb + preposition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heck-out / turnabou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Noun + prepositional phrase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ther-in-law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731520"/>
            <a:ext cx="640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Preposition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own stairs / underground / overcoa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. Noun + adjectiv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uthful / spoonfu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43000" y="731520"/>
            <a:ext cx="640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Create the following compound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room for storag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tape for measuring up to 300 cm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ssistant manager of the restaurant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station for express train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tion in cost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wo periods of three month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Plugs with three pin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Two steel boxes for tool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Cables for telephone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. A country that speaks English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عنوان 1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1756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3840" y="357120"/>
            <a:ext cx="864396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عند ترجمة الصفات والأحوال المركبة أو الأسماء المركبة نبحث عن المرادف العربي الملائم للمعنى أو نستعمل أساليب التحويل المختلف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إضاف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حال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نعت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جملة الاسمي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سم الفاعل أو اسم المفعول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سم (ذو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جملة الصل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85480" y="357120"/>
            <a:ext cx="87152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The </a:t>
            </a:r>
            <a:r>
              <a:rPr b="0" i="1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fifteen-minute</a:t>
            </a: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 presentation was boring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العرض الذي دام 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15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 دقيقة مملاً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It is a </a:t>
            </a:r>
            <a:r>
              <a:rPr b="0" i="1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thirty-minute</a:t>
            </a: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 walk from here to school.          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مسافة من هنا إلى المدرسة ثلاثون دقيق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n </a:t>
            </a:r>
            <a:r>
              <a:rPr b="0" i="1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all-too-common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 mistak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هذه غلطة شائعة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 two-door build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هذا المبنى ذو بابين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57120" y="500040"/>
            <a:ext cx="850104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 </a:t>
            </a:r>
            <a:r>
              <a:rPr b="0" i="1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ix-page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 document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هذا مستند مكون من ست صفحات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he works as a </a:t>
            </a:r>
            <a:r>
              <a:rPr b="0" i="1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part-time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 teacher at the school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تعمل كمدرسة بدوام جزئي في المدرسة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he became tongue-tied after what happene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أصبحت معقودة اللسان بعدما حدث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انعقد لسانها بعد ما حدث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look at the following sentences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saw a man-eating alligato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saw a man eating alligato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85480" y="320400"/>
            <a:ext cx="835812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e boy is good-looking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الفتى حسن المظهر</a:t>
            </a: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is actor is well-known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هذا الممثل مشهور جدا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is lady is well-manner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هذه السيدة حسنة الخلق – مهذبة- أخلاقها عالية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85480" y="260280"/>
            <a:ext cx="87152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</a:rPr>
              <a:t>He was brave and open-handed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شجاعا ومبسوط اليد ( كريما – سخيا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advanced towards his enemy alone and open-handed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تقدم نحو غريمه منفردا وباسطا يديه ( ليظهر أنه لا يحمل أسلحة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as as close-mouthed as a rock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كتوما كالصخر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sat there close-mouthed and angry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جلس هناك غاضبا وزاما شفتيه رافضا للكلام مغلقا فاه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7168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ore an old-fashioned overcoat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رتدى معطفا قديم الطراز – ذو طراز قديم – ذو صيحة قديم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She wore a fashionable dres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رتدت فستانا حديث الطراز – على أحدث طراز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bought a rose-wood pipe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شترى غليوناً مصنوعاً من خشب الورد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as brave and open-handed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1"/>
              </a:rPr>
              <a:t>http://www.grammar-monster.com/lessons/adjectives_compound_adjectives.ht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2"/>
              </a:rPr>
              <a:t>http://www.myenglishpages.com/site_php_files/vocabulary-lesson-compound-adjectives.ph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3"/>
              </a:rPr>
              <a:t>http://www.englishclub.com/grammar/nouns-compound.ht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http://www.english-for-students.com/Compound-Words-with-Preposition-and-Noun.htm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404640"/>
            <a:ext cx="7521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first sentence contains a compound adjective. The second sentence doesn't. However the meaning of the two sentences is very different as can be seen in the picture below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-740" t="-7096" r="745" b="7794"/>
          <a:stretch/>
        </p:blipFill>
        <p:spPr>
          <a:xfrm>
            <a:off x="900000" y="1484280"/>
            <a:ext cx="75596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ound adjectives are adjectives that are made up of two or more word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the words in the compound adjective modify (i.e., describe) the same nou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hens are used between the different elements of the compound adjectiv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22240" y="1134720"/>
            <a:ext cx="752184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Some combinations that make up compound adjective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resent participle (v+ing)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ood-looking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irl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ng-lasting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verb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+ed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ll-known / well-mannered / brightly-lit / well-balanced/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ll-behav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hil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43000" y="731880"/>
            <a:ext cx="6400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ongue-tied / sun-dried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nd-power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enerator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(noun+ed)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rt-lived / short-sighted / long-haired /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ld-fashioned/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een-ey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orld-famous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moke-free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aurant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ep-sea / last-minute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length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vi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art-tim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umber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wo-door / forty-mile / a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ee-p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ex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731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xample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s i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x-p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ocum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e works a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t-tim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eacher at the schoo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s is an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-too-commo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istak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 live in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nsely-populated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it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 respect the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eply-root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raditio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i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rty-minut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alk from here to school.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عنوان 1" descr=""/>
          <p:cNvPicPr/>
          <p:nvPr/>
        </p:nvPicPr>
        <p:blipFill>
          <a:blip r:embed="rId1"/>
          <a:stretch/>
        </p:blipFill>
        <p:spPr>
          <a:xfrm>
            <a:off x="822240" y="1530360"/>
            <a:ext cx="752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5:57Z</dcterms:created>
  <dc:creator>Fawaz</dc:creator>
  <dc:description/>
  <dc:language>en-US</dc:language>
  <cp:lastModifiedBy>Ghadah Alotaibi</cp:lastModifiedBy>
  <dcterms:modified xsi:type="dcterms:W3CDTF">2015-04-07T07:01:01Z</dcterms:modified>
  <cp:revision>50</cp:revision>
  <dc:subject/>
  <dc:title>Comparative constructions II</dc:title>
</cp:coreProperties>
</file>