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76ED-EDB7-458A-ACE3-18D5F6964A7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60F5-67EB-461C-8BCB-1520C85AD830}" type="slidenum">
              <a:rPr b="0" lang="ar-SA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FBC8-50BD-4D29-8CA5-B4EC0F40E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AD72-FCB9-4C48-8856-37F4A5B9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2584-F722-4E0D-B2F9-E100179E7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976D-934F-4839-9AC6-5F00E36CF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4FDE-CED3-410B-9DCA-7833285EF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34F5-CA00-4216-ADDA-782FF568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7BE7D-18F6-4E6C-9DD9-EF4929EA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FB40-5C9D-419B-8957-8006A605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5670-6E41-4714-A072-94343137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1490-92CF-41F7-B7F7-90947DCD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C1CB-8D05-4001-B7C2-11779384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003A-54D5-4BAE-AD1D-F19BF81F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FB68-7CDB-4752-B36D-D7E7776C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8E215-8690-4442-BAA9-AEBCB674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3A93-81BF-405A-A026-A84C1D07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92F7-7C89-4EF2-9D92-0FD805063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44BE-6497-484A-9D84-EE91B936E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DAA24-1320-4F05-8351-94E131B0A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6747B-891C-45B5-9EE5-9F321242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F9AE3-E564-4DB5-B220-7E11C9B6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42B4E-8924-4DB1-91D6-D28CA867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29112-AEFF-4B28-A5EB-EB45D0ED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C87F-EE75-411B-BDB5-963E53D8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12909-54E9-4900-8105-A6286A36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B1678-D84C-41E4-937C-9C4E4DFF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F6EB6-E48C-46A8-9AA7-4A34D4A7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A6203-F3DE-4997-B827-301F4333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5C4FF-09AF-4B9C-B521-7E802B41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83003-55A3-431F-8F32-E6CE322D5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859A4-C3A0-4EF7-92D9-C0C87E643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0B218-32A1-4434-B93E-A76E2C08E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61B42-4A8C-4A5A-AB22-5214C75D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35759-54D4-4E82-92CB-8577C552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B082-EDAD-4382-8EDE-79295564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8F800-83F0-457F-B813-E8A14C6E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0D953-BD91-45B8-8389-E0ADB64C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946EA-04E2-4FFB-B279-BA821852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FC28B-852B-4089-BFD0-A72DAF1C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19562-63DE-4C0C-8253-0188F5A6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4FF35-AF43-48D7-A715-A3BE375F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34B01-DA11-43EC-8DED-424A9C49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97BBA-1AF2-4805-BD50-43855B947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F9B68-F78C-474E-A02D-97675CFF1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7F10-D7DE-4449-9E36-60DF1E53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657B-D280-47AE-8EF8-CAC144E5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B737-AED0-489C-BB52-57CB2AC8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5865-0ABC-47D9-BFC9-20DCAADA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89FC-2DF5-47E0-8408-3BC61319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69F2-3376-4AD7-8826-B7F74BF2730D}" type="slidenum">
              <a:rPr b="1" lang="ar-S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D32A-2983-46B7-9109-060F5ADA650F}" type="slidenum">
              <a:rPr b="1" lang="ar-S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2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10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5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11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18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119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13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5605-F596-4668-A8EB-3A36C92873EF}" type="slidenum">
              <a:rPr b="1" lang="ar-S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66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69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170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9502-9DC9-4325-94E3-98CCA9AC59DE}" type="slidenum">
              <a:rPr b="1" lang="ar-S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grammar-monster.com/lessons/adjectives_compound_adjectives.htm" TargetMode="External"/><Relationship Id="rId2" Type="http://schemas.openxmlformats.org/officeDocument/2006/relationships/hyperlink" Target="http://www.myenglishpages.com/site_php_files/vocabulary-lesson-compound-adjectives.php" TargetMode="External"/><Relationship Id="rId3" Type="http://schemas.openxmlformats.org/officeDocument/2006/relationships/hyperlink" Target="http://www.englishclub.com/grammar/nouns-compound.ht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619280" y="2133720"/>
            <a:ext cx="5616720" cy="3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Compound adjectives &amp; noun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1262160" y="4194000"/>
            <a:ext cx="634500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143000" y="731520"/>
            <a:ext cx="64008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 noun that is made up of two or more word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 compound noun acts as a single uni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 compound noun can be modified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hey are written with a space between them, a hyphen, or as one word (</a:t>
            </a:r>
            <a:r>
              <a:rPr b="0" i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heck dictionary if in doubt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1143000" y="731520"/>
            <a:ext cx="69580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Some combinations that make up compound nouns are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. Noun + noun </a:t>
            </a:r>
            <a:r>
              <a:rPr b="0" lang="en-US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toothbrush / classroom/ bus stop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3260c"/>
              </a:buClr>
              <a:buSzPct val="13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. Adjective + noun </a:t>
            </a:r>
            <a:r>
              <a:rPr b="0" lang="en-US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blackboard / software / greenhouse/ full moon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 Present participle + noun </a:t>
            </a:r>
            <a:r>
              <a:rPr b="0" lang="en-US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washing machine / swimming pool / ironing board / training wheel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1116000" y="765000"/>
            <a:ext cx="662472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. Verb + noun </a:t>
            </a:r>
            <a:r>
              <a:rPr b="0" lang="en-US" sz="26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breakfast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5. Noun + verb </a:t>
            </a:r>
            <a:r>
              <a:rPr b="0" lang="en-US" sz="26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sunrise / haircut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6. Noun + present participle </a:t>
            </a:r>
            <a:r>
              <a:rPr b="0" lang="en-US" sz="26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bird watching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7. Verb + preposition </a:t>
            </a:r>
            <a:r>
              <a:rPr b="0" lang="en-US" sz="26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check-out / turnabout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8. Noun + prepositional phrase </a:t>
            </a:r>
            <a:r>
              <a:rPr b="0" lang="en-US" sz="26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mother-in-law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1143000" y="731520"/>
            <a:ext cx="6400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9. Preposition + noun </a:t>
            </a:r>
            <a:r>
              <a:rPr b="0" lang="en-US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down stairs / underground / overcoat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0. Noun + adjective </a:t>
            </a:r>
            <a:r>
              <a:rPr b="0" lang="en-US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mouthful / spoonful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143000" y="731520"/>
            <a:ext cx="64008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Create the following compounds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buClr>
                <a:srgbClr val="c3260c"/>
              </a:buClr>
              <a:buSzPct val="13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 room for storage </a:t>
            </a:r>
            <a:r>
              <a:rPr b="0" lang="en-US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buClr>
                <a:srgbClr val="c3260c"/>
              </a:buClr>
              <a:buSzPct val="13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 tape for measuring up to 300 cm </a:t>
            </a:r>
            <a:r>
              <a:rPr b="0" lang="en-US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buClr>
                <a:srgbClr val="c3260c"/>
              </a:buClr>
              <a:buSzPct val="13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he assistant manager of the restaurant </a:t>
            </a:r>
            <a:r>
              <a:rPr b="0" lang="en-US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buClr>
                <a:srgbClr val="c3260c"/>
              </a:buClr>
              <a:buSzPct val="13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 station for express trains </a:t>
            </a:r>
            <a:r>
              <a:rPr b="0" lang="en-US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buClr>
                <a:srgbClr val="c3260c"/>
              </a:buClr>
              <a:buSzPct val="13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eduction in cost </a:t>
            </a:r>
            <a:r>
              <a:rPr b="0" lang="en-US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buClr>
                <a:srgbClr val="c3260c"/>
              </a:buClr>
              <a:buSzPct val="13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wo periods of three months </a:t>
            </a:r>
            <a:r>
              <a:rPr b="0" lang="en-US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7. Plugs with three pins </a:t>
            </a:r>
            <a:r>
              <a:rPr b="0" lang="en-US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8. Two steel boxes for tools </a:t>
            </a:r>
            <a:r>
              <a:rPr b="0" lang="en-US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9. Cables for telephones </a:t>
            </a:r>
            <a:r>
              <a:rPr b="0" lang="en-US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0. A country that speaks English </a:t>
            </a:r>
            <a:r>
              <a:rPr b="0" lang="en-US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عنوان 1" descr=""/>
          <p:cNvPicPr/>
          <p:nvPr/>
        </p:nvPicPr>
        <p:blipFill>
          <a:blip r:embed="rId1"/>
          <a:stretch/>
        </p:blipFill>
        <p:spPr>
          <a:xfrm>
            <a:off x="285840" y="1500120"/>
            <a:ext cx="817560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213840" y="357120"/>
            <a:ext cx="8643960" cy="58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04040"/>
                </a:solidFill>
                <a:latin typeface="Trebuchet MS"/>
              </a:rPr>
              <a:t>عند ترجمة الصفات والأحوال المركبة أو الأسماء المركبة نبحث عن المرادف العربي الملائم للمعنى أو نستعمل أساليب التحويل المختلفة</a:t>
            </a:r>
            <a:r>
              <a:rPr b="0" lang="ar-SA" sz="3000" spc="-1" strike="noStrike">
                <a:solidFill>
                  <a:srgbClr val="404040"/>
                </a:solidFill>
                <a:latin typeface="Trebuchet MS"/>
              </a:rPr>
              <a:t>: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04040"/>
                </a:solidFill>
                <a:latin typeface="Trebuchet MS"/>
              </a:rPr>
              <a:t>الإضافة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04040"/>
                </a:solidFill>
                <a:latin typeface="Trebuchet MS"/>
              </a:rPr>
              <a:t>الحال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04040"/>
                </a:solidFill>
                <a:latin typeface="Trebuchet MS"/>
              </a:rPr>
              <a:t>النعت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04040"/>
                </a:solidFill>
                <a:latin typeface="Trebuchet MS"/>
              </a:rPr>
              <a:t>الجملة الاسمية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04040"/>
                </a:solidFill>
                <a:latin typeface="Trebuchet MS"/>
              </a:rPr>
              <a:t>اسم الفاعل أو اسم المفعول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04040"/>
                </a:solidFill>
                <a:latin typeface="Trebuchet MS"/>
              </a:rPr>
              <a:t>اسم (ذو)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04040"/>
                </a:solidFill>
                <a:latin typeface="Trebuchet MS"/>
              </a:rPr>
              <a:t>جملة الصلة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285480" y="357120"/>
            <a:ext cx="8715240" cy="59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Trebuchet MS"/>
                <a:ea typeface="Arial"/>
              </a:rPr>
              <a:t>The </a:t>
            </a:r>
            <a:r>
              <a:rPr b="0" i="1" lang="en-US" sz="3000" spc="-1" strike="noStrike">
                <a:solidFill>
                  <a:srgbClr val="404040"/>
                </a:solidFill>
                <a:latin typeface="Trebuchet MS"/>
                <a:ea typeface="Arial"/>
              </a:rPr>
              <a:t>fifteen-minute</a:t>
            </a:r>
            <a:r>
              <a:rPr b="0" lang="en-US" sz="3000" spc="-1" strike="noStrike">
                <a:solidFill>
                  <a:srgbClr val="404040"/>
                </a:solidFill>
                <a:latin typeface="Trebuchet MS"/>
                <a:ea typeface="Arial"/>
              </a:rPr>
              <a:t> presentation was boring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04040"/>
                </a:solidFill>
                <a:latin typeface="Trebuchet MS"/>
              </a:rPr>
              <a:t>كان العرض الذي دام </a:t>
            </a:r>
            <a:r>
              <a:rPr b="0" lang="ar-SA" sz="3000" spc="-1" strike="noStrike">
                <a:solidFill>
                  <a:srgbClr val="404040"/>
                </a:solidFill>
                <a:latin typeface="Trebuchet MS"/>
              </a:rPr>
              <a:t>15</a:t>
            </a:r>
            <a:r>
              <a:rPr b="0" lang="ar-SA" sz="3000" spc="-1" strike="noStrike">
                <a:solidFill>
                  <a:srgbClr val="404040"/>
                </a:solidFill>
                <a:latin typeface="Trebuchet MS"/>
              </a:rPr>
              <a:t> دقيقة مملاً</a:t>
            </a:r>
            <a:r>
              <a:rPr b="0" lang="ar-SA" sz="30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Trebuchet MS"/>
                <a:ea typeface="Arial"/>
              </a:rPr>
              <a:t>It is a </a:t>
            </a:r>
            <a:r>
              <a:rPr b="0" i="1" lang="en-US" sz="3000" spc="-1" strike="noStrike">
                <a:solidFill>
                  <a:srgbClr val="404040"/>
                </a:solidFill>
                <a:latin typeface="Trebuchet MS"/>
                <a:ea typeface="Arial"/>
              </a:rPr>
              <a:t>thirty-minute</a:t>
            </a:r>
            <a:r>
              <a:rPr b="0" lang="en-US" sz="3000" spc="-1" strike="noStrike">
                <a:solidFill>
                  <a:srgbClr val="404040"/>
                </a:solidFill>
                <a:latin typeface="Trebuchet MS"/>
                <a:ea typeface="Arial"/>
              </a:rPr>
              <a:t> walk from here to school.            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04040"/>
                </a:solidFill>
                <a:latin typeface="Trebuchet MS"/>
              </a:rPr>
              <a:t>المسافة من هنا إلى المدرسة ثلاثون دقيقة</a:t>
            </a:r>
            <a:r>
              <a:rPr b="0" lang="ar-SA" sz="30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  <a:ea typeface="Arial"/>
              </a:rPr>
              <a:t>This is an </a:t>
            </a:r>
            <a:r>
              <a:rPr b="0" i="1" lang="en-US" sz="2800" spc="-1" strike="noStrike">
                <a:solidFill>
                  <a:srgbClr val="404040"/>
                </a:solidFill>
                <a:latin typeface="Trebuchet MS"/>
                <a:ea typeface="Arial"/>
              </a:rPr>
              <a:t>all-too-common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  <a:ea typeface="Arial"/>
              </a:rPr>
              <a:t> mistake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Trebuchet MS"/>
              </a:rPr>
              <a:t>هذه غلطة شائعة</a:t>
            </a:r>
            <a:r>
              <a:rPr b="0" lang="ar-SA" sz="28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  <a:ea typeface="Arial"/>
              </a:rPr>
              <a:t>This is a two-door building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Trebuchet MS"/>
              </a:rPr>
              <a:t>هذا المبنى ذو بابين</a:t>
            </a:r>
            <a:r>
              <a:rPr b="0" lang="ar-SA" sz="28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57120" y="500040"/>
            <a:ext cx="850104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  <a:ea typeface="Arial"/>
              </a:rPr>
              <a:t>This is a </a:t>
            </a:r>
            <a:r>
              <a:rPr b="0" i="1" lang="en-US" sz="3200" spc="-1" strike="noStrike">
                <a:solidFill>
                  <a:srgbClr val="404040"/>
                </a:solidFill>
                <a:latin typeface="Trebuchet MS"/>
                <a:ea typeface="Arial"/>
              </a:rPr>
              <a:t>six-page</a:t>
            </a:r>
            <a:r>
              <a:rPr b="0" lang="en-US" sz="3200" spc="-1" strike="noStrike">
                <a:solidFill>
                  <a:srgbClr val="404040"/>
                </a:solidFill>
                <a:latin typeface="Trebuchet MS"/>
                <a:ea typeface="Arial"/>
              </a:rPr>
              <a:t> document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4040"/>
                </a:solidFill>
                <a:latin typeface="Trebuchet MS"/>
              </a:rPr>
              <a:t>هذا مستند مكون من ست صفحات</a:t>
            </a:r>
            <a:r>
              <a:rPr b="0" lang="ar-SA" sz="32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  <a:ea typeface="Arial"/>
              </a:rPr>
              <a:t>She works as a </a:t>
            </a:r>
            <a:r>
              <a:rPr b="0" i="1" lang="en-US" sz="3200" spc="-1" strike="noStrike">
                <a:solidFill>
                  <a:srgbClr val="404040"/>
                </a:solidFill>
                <a:latin typeface="Trebuchet MS"/>
                <a:ea typeface="Arial"/>
              </a:rPr>
              <a:t>part-time</a:t>
            </a:r>
            <a:r>
              <a:rPr b="0" lang="en-US" sz="3200" spc="-1" strike="noStrike">
                <a:solidFill>
                  <a:srgbClr val="404040"/>
                </a:solidFill>
                <a:latin typeface="Trebuchet MS"/>
                <a:ea typeface="Arial"/>
              </a:rPr>
              <a:t> teacher at the school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4040"/>
                </a:solidFill>
                <a:latin typeface="Trebuchet MS"/>
              </a:rPr>
              <a:t>تعمل كمدرسة بدوام جزئي في المدرسة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  <a:ea typeface="Arial"/>
              </a:rPr>
              <a:t>She became tongue-tied after what happened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4040"/>
                </a:solidFill>
                <a:latin typeface="Trebuchet MS"/>
              </a:rPr>
              <a:t>أصبحت معقودة اللسان بعدما حدث</a:t>
            </a:r>
            <a:r>
              <a:rPr b="0" lang="ar-SA" sz="32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4040"/>
                </a:solidFill>
                <a:latin typeface="Trebuchet MS"/>
              </a:rPr>
              <a:t>انعقد لسانها بعد ما حدث</a:t>
            </a:r>
            <a:r>
              <a:rPr b="0" lang="ar-SA" sz="32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17316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look at the following sentences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I saw a man-eating alligator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I saw a man eating alligator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285480" y="320400"/>
            <a:ext cx="8358120" cy="59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8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04040"/>
                </a:solidFill>
                <a:latin typeface="Trebuchet MS"/>
                <a:ea typeface="Arial"/>
              </a:rPr>
              <a:t>The boy is good-looking.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8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404040"/>
                </a:solidFill>
                <a:latin typeface="Trebuchet MS"/>
              </a:rPr>
              <a:t>الفتى حسن المظهر</a:t>
            </a:r>
            <a:r>
              <a:rPr b="0" lang="ar-SA" sz="33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8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04040"/>
                </a:solidFill>
                <a:latin typeface="Trebuchet MS"/>
                <a:ea typeface="Arial"/>
              </a:rPr>
              <a:t>This actor is well-known.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8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404040"/>
                </a:solidFill>
                <a:latin typeface="Trebuchet MS"/>
              </a:rPr>
              <a:t>هذا الممثل مشهور جدا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8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04040"/>
                </a:solidFill>
                <a:latin typeface="Trebuchet MS"/>
                <a:ea typeface="Arial"/>
              </a:rPr>
              <a:t>This lady is well-mannered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8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04040"/>
                </a:solidFill>
                <a:latin typeface="Trebuchet MS"/>
                <a:ea typeface="Arial"/>
              </a:rPr>
              <a:t> </a:t>
            </a:r>
            <a:r>
              <a:rPr b="0" lang="ar-SA" sz="3300" spc="-1" strike="noStrike">
                <a:solidFill>
                  <a:srgbClr val="404040"/>
                </a:solidFill>
                <a:latin typeface="Trebuchet MS"/>
              </a:rPr>
              <a:t>هذه السيدة حسنة الخلق – مهذبة- أخلاقها عالية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85480" y="260280"/>
            <a:ext cx="87152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Trebuchet MS"/>
              </a:rPr>
              <a:t>He was brave and open-handed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04040"/>
                </a:solidFill>
                <a:latin typeface="Trebuchet MS"/>
              </a:rPr>
              <a:t>كان شجاعا ومبسوط اليد ( كريما – سخيا)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Trebuchet MS"/>
                <a:ea typeface="Arial"/>
              </a:rPr>
              <a:t>He advanced towards his enemy alone and open-handed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04040"/>
                </a:solidFill>
                <a:latin typeface="Trebuchet MS"/>
              </a:rPr>
              <a:t>تقدم نحو غريمه منفردا وباسطا يديه ( ليظهر أنه لا يحمل أسلحة)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Trebuchet MS"/>
                <a:ea typeface="Arial"/>
              </a:rPr>
              <a:t>He was as close-mouthed as a rock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04040"/>
                </a:solidFill>
                <a:latin typeface="Trebuchet MS"/>
              </a:rPr>
              <a:t>كان كتوما كالصخرة</a:t>
            </a:r>
            <a:r>
              <a:rPr b="0" lang="ar-SA" sz="30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Trebuchet MS"/>
                <a:ea typeface="Arial"/>
              </a:rPr>
              <a:t>He sat there close-mouthed and angry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04040"/>
                </a:solidFill>
                <a:latin typeface="Trebuchet MS"/>
              </a:rPr>
              <a:t>جلس هناك غاضبا وزاما شفتيه رافضا للكلام مغلقا فاه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71680" y="475920"/>
            <a:ext cx="77724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Trebuchet MS"/>
                <a:ea typeface="Arial"/>
              </a:rPr>
              <a:t>He wore an old-fashioned overcoat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04040"/>
                </a:solidFill>
                <a:latin typeface="Trebuchet MS"/>
              </a:rPr>
              <a:t>ارتدى معطفا قديم الطراز – ذو طراز قديم – ذو صيحة قديمة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Trebuchet MS"/>
                <a:ea typeface="Arial"/>
              </a:rPr>
              <a:t>She wore a fashionable dress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04040"/>
                </a:solidFill>
                <a:latin typeface="Trebuchet MS"/>
              </a:rPr>
              <a:t>ارتدت فستانا حديث الطراز – على أحدث طراز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Trebuchet MS"/>
                <a:ea typeface="Arial"/>
              </a:rPr>
              <a:t>He bought a rose-wood pipe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04040"/>
                </a:solidFill>
                <a:latin typeface="Trebuchet MS"/>
              </a:rPr>
              <a:t>اشترى غليوناً مصنوعاً من خشب الورد</a:t>
            </a:r>
            <a:r>
              <a:rPr b="0" lang="ar-SA" sz="30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Trebuchet MS"/>
                <a:ea typeface="Arial"/>
              </a:rPr>
              <a:t>he was brave and open-handed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56c7aa"/>
                </a:solidFill>
                <a:uFillTx/>
                <a:latin typeface="Trebuchet MS"/>
                <a:ea typeface="Arial"/>
                <a:hlinkClick r:id="rId1"/>
              </a:rPr>
              <a:t>http://www.grammar-monster.com/lessons/adjectives_compound_adjectives.htm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56c7aa"/>
                </a:solidFill>
                <a:uFillTx/>
                <a:latin typeface="Trebuchet MS"/>
                <a:ea typeface="Arial"/>
                <a:hlinkClick r:id="rId2"/>
              </a:rPr>
              <a:t>http://www.myenglishpages.com/site_php_files/vocabulary-lesson-compound-adjectives.php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56c7aa"/>
                </a:solidFill>
                <a:uFillTx/>
                <a:latin typeface="Trebuchet MS"/>
                <a:ea typeface="Arial"/>
                <a:hlinkClick r:id="rId3"/>
              </a:rPr>
              <a:t>http://www.englishclub.com/grammar/nouns-compound.htm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  <a:ea typeface="Arial"/>
              </a:rPr>
              <a:t>http://www.english-for-students.com/Compound-Words-with-Preposition-and-Noun.htm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22240" y="404640"/>
            <a:ext cx="75218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e first sentence contains a compound adjective. The second sentence doesn't. However the meaning of the two sentences is very different as can be seen in the picture below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7" name="Picture 3" descr=""/>
          <p:cNvPicPr/>
          <p:nvPr/>
        </p:nvPicPr>
        <p:blipFill>
          <a:blip r:embed="rId1"/>
          <a:srcRect l="-740" t="-7096" r="745" b="7794"/>
          <a:stretch/>
        </p:blipFill>
        <p:spPr>
          <a:xfrm>
            <a:off x="900000" y="1484280"/>
            <a:ext cx="7559640" cy="51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mpound adjectives are adjectives that are made up of two or more words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ll the words in the compound adjective modify (i.e., describe) the same nou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yphens are used between the different elements of the compound adjectiv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822240" y="1134720"/>
            <a:ext cx="752184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Some combinations that make up compound adjectives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en-US" sz="2800" spc="-1" strike="noStrike">
                <a:solidFill>
                  <a:srgbClr val="821a08"/>
                </a:solidFill>
                <a:latin typeface="Times New Roman"/>
                <a:ea typeface="Times New Roman"/>
              </a:rPr>
              <a:t>Adjective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+ </a:t>
            </a:r>
            <a:r>
              <a:rPr b="0" lang="en-US" sz="2800" spc="-1" strike="noStrike">
                <a:solidFill>
                  <a:srgbClr val="821a08"/>
                </a:solidFill>
                <a:latin typeface="Times New Roman"/>
                <a:ea typeface="Times New Roman"/>
              </a:rPr>
              <a:t>present participle (v+ing)</a:t>
            </a:r>
            <a:r>
              <a:rPr b="0" lang="en-US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good-looking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girl, </a:t>
            </a: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ong-lasting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taste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. </a:t>
            </a:r>
            <a:r>
              <a:rPr b="0" lang="en-US" sz="2800" spc="-1" strike="noStrike">
                <a:solidFill>
                  <a:srgbClr val="821a08"/>
                </a:solidFill>
                <a:latin typeface="Times New Roman"/>
                <a:ea typeface="Times New Roman"/>
              </a:rPr>
              <a:t>Adverb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+ </a:t>
            </a:r>
            <a:r>
              <a:rPr b="0" lang="en-US" sz="2800" spc="-1" strike="noStrike">
                <a:solidFill>
                  <a:srgbClr val="821a08"/>
                </a:solidFill>
                <a:latin typeface="Times New Roman"/>
                <a:ea typeface="Times New Roman"/>
              </a:rPr>
              <a:t>past participle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/</a:t>
            </a:r>
            <a:r>
              <a:rPr b="0" lang="en-US" sz="2800" spc="-1" strike="noStrike">
                <a:solidFill>
                  <a:srgbClr val="821a08"/>
                </a:solidFill>
                <a:latin typeface="Times New Roman"/>
                <a:ea typeface="Times New Roman"/>
              </a:rPr>
              <a:t>noun+ed</a:t>
            </a:r>
            <a:r>
              <a:rPr b="0" lang="en-US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Well-known / well-mannered / brightly-lit / well-balanced/ </a:t>
            </a: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well-behaved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child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143000" y="731880"/>
            <a:ext cx="64008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 </a:t>
            </a:r>
            <a:r>
              <a:rPr b="0" lang="en-US" sz="2800" spc="-1" strike="noStrike">
                <a:solidFill>
                  <a:srgbClr val="821a08"/>
                </a:solidFill>
                <a:latin typeface="Times New Roman"/>
                <a:ea typeface="Times New Roman"/>
              </a:rPr>
              <a:t>Noun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+ </a:t>
            </a:r>
            <a:r>
              <a:rPr b="0" lang="en-US" sz="2800" spc="-1" strike="noStrike">
                <a:solidFill>
                  <a:srgbClr val="821a08"/>
                </a:solidFill>
                <a:latin typeface="Times New Roman"/>
                <a:ea typeface="Times New Roman"/>
              </a:rPr>
              <a:t>past participle </a:t>
            </a:r>
            <a:r>
              <a:rPr b="0" lang="en-US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tongue-tied / sun-dried, </a:t>
            </a: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wind-powered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generator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. </a:t>
            </a:r>
            <a:r>
              <a:rPr b="0" lang="en-US" sz="2800" spc="-1" strike="noStrike">
                <a:solidFill>
                  <a:srgbClr val="821a08"/>
                </a:solidFill>
                <a:latin typeface="Times New Roman"/>
                <a:ea typeface="Times New Roman"/>
              </a:rPr>
              <a:t>Adjective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+ </a:t>
            </a:r>
            <a:r>
              <a:rPr b="0" lang="en-US" sz="2800" spc="-1" strike="noStrike">
                <a:solidFill>
                  <a:srgbClr val="821a08"/>
                </a:solidFill>
                <a:latin typeface="Times New Roman"/>
                <a:ea typeface="Times New Roman"/>
              </a:rPr>
              <a:t>past participle (noun+ed) </a:t>
            </a:r>
            <a:r>
              <a:rPr b="0" lang="en-US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hort-lived / short-sighted / long-haired /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ld-fashioned/ </a:t>
            </a: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green-eyed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cat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5. </a:t>
            </a:r>
            <a:r>
              <a:rPr b="0" lang="en-US" sz="2800" spc="-1" strike="noStrike">
                <a:solidFill>
                  <a:srgbClr val="821a08"/>
                </a:solidFill>
                <a:latin typeface="Times New Roman"/>
                <a:ea typeface="Times New Roman"/>
              </a:rPr>
              <a:t>Noun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+ </a:t>
            </a:r>
            <a:r>
              <a:rPr b="0" lang="en-US" sz="2800" spc="-1" strike="noStrike">
                <a:solidFill>
                  <a:srgbClr val="821a08"/>
                </a:solidFill>
                <a:latin typeface="Times New Roman"/>
                <a:ea typeface="Times New Roman"/>
              </a:rPr>
              <a:t>adjective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world-famous, </a:t>
            </a: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moke-free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estaurant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143000" y="731520"/>
            <a:ext cx="6400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6. </a:t>
            </a:r>
            <a:r>
              <a:rPr b="0" lang="en-US" sz="2800" spc="-1" strike="noStrike">
                <a:solidFill>
                  <a:srgbClr val="821a08"/>
                </a:solidFill>
                <a:latin typeface="Times New Roman"/>
                <a:ea typeface="Times New Roman"/>
              </a:rPr>
              <a:t>Adjective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+ </a:t>
            </a:r>
            <a:r>
              <a:rPr b="0" lang="en-US" sz="2800" spc="-1" strike="noStrike">
                <a:solidFill>
                  <a:srgbClr val="821a08"/>
                </a:solidFill>
                <a:latin typeface="Times New Roman"/>
                <a:ea typeface="Times New Roman"/>
              </a:rPr>
              <a:t>noun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deep-sea / last-minute, </a:t>
            </a: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full-length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movie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7. </a:t>
            </a:r>
            <a:r>
              <a:rPr b="0" lang="en-US" sz="2800" spc="-1" strike="noStrike">
                <a:solidFill>
                  <a:srgbClr val="821a08"/>
                </a:solidFill>
                <a:latin typeface="Times New Roman"/>
                <a:ea typeface="Times New Roman"/>
              </a:rPr>
              <a:t>Noun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+ </a:t>
            </a:r>
            <a:r>
              <a:rPr b="0" lang="en-US" sz="2800" spc="-1" strike="noStrike">
                <a:solidFill>
                  <a:srgbClr val="821a08"/>
                </a:solidFill>
                <a:latin typeface="Times New Roman"/>
                <a:ea typeface="Times New Roman"/>
              </a:rPr>
              <a:t>noun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part-tim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8. </a:t>
            </a:r>
            <a:r>
              <a:rPr b="0" lang="en-US" sz="2800" spc="-1" strike="noStrike">
                <a:solidFill>
                  <a:srgbClr val="821a08"/>
                </a:solidFill>
                <a:latin typeface="Times New Roman"/>
                <a:ea typeface="Times New Roman"/>
              </a:rPr>
              <a:t>Number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+ </a:t>
            </a:r>
            <a:r>
              <a:rPr b="0" lang="en-US" sz="2800" spc="-1" strike="noStrike">
                <a:solidFill>
                  <a:srgbClr val="821a08"/>
                </a:solidFill>
                <a:latin typeface="Times New Roman"/>
                <a:ea typeface="Times New Roman"/>
              </a:rPr>
              <a:t>noun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wo-door / forty-mile / a </a:t>
            </a: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hree-page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text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143000" y="731880"/>
            <a:ext cx="6400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Examples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his is a </a:t>
            </a:r>
            <a:r>
              <a:rPr b="0" i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ix-page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document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he works as a </a:t>
            </a:r>
            <a:r>
              <a:rPr b="0" i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rt-time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teacher at the school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his is an </a:t>
            </a:r>
            <a:r>
              <a:rPr b="0" i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ll-too-common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mistake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We live in a </a:t>
            </a:r>
            <a:r>
              <a:rPr b="0" i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ensely-populated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ity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 respect the </a:t>
            </a:r>
            <a:r>
              <a:rPr b="0" i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eeply-rooted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tradition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t is a </a:t>
            </a:r>
            <a:r>
              <a:rPr b="0" i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hirty-minute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walk from here to school.           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عنوان 1" descr=""/>
          <p:cNvPicPr/>
          <p:nvPr/>
        </p:nvPicPr>
        <p:blipFill>
          <a:blip r:embed="rId1"/>
          <a:stretch/>
        </p:blipFill>
        <p:spPr>
          <a:xfrm>
            <a:off x="822240" y="1530360"/>
            <a:ext cx="752328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1T11:05:57Z</dcterms:created>
  <dc:creator>Fawaz</dc:creator>
  <dc:description/>
  <dc:language>en-US</dc:language>
  <cp:lastModifiedBy>Ghadah Alotaibi</cp:lastModifiedBy>
  <dcterms:modified xsi:type="dcterms:W3CDTF">2015-04-07T07:01:01Z</dcterms:modified>
  <cp:revision>50</cp:revision>
  <dc:subject/>
  <dc:title>Comparative constructions II</dc:title>
</cp:coreProperties>
</file>