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0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, Gibson et al. Brain Research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, Gibson et al. Brain Research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23560" y="1447920"/>
            <a:ext cx="60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utational Analysi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-5526"/>
          <a:stretch/>
        </p:blipFill>
        <p:spPr>
          <a:xfrm>
            <a:off x="190440" y="380880"/>
            <a:ext cx="4267440" cy="382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10160" y="563400"/>
            <a:ext cx="5715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system of 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sociation of performance and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ation of US and CS path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  US, CS simulations.        --  Reversible le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manip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1883" t="7577" r="22347" b="66729"/>
          <a:stretch/>
        </p:blipFill>
        <p:spPr>
          <a:xfrm>
            <a:off x="495360" y="2376360"/>
            <a:ext cx="4724280" cy="3338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5622840"/>
            <a:ext cx="9296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3080" y="152280"/>
            <a:ext cx="9296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ebellar lesions selectively abolish the learned respon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But not all forms of classical conditio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72280" y="6248520"/>
            <a:ext cx="48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Cormick et al., 1984; man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4703" t="4125" r="14948" b="65293"/>
          <a:stretch/>
        </p:blipFill>
        <p:spPr>
          <a:xfrm>
            <a:off x="5448240" y="2666880"/>
            <a:ext cx="472464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524560" y="2286000"/>
            <a:ext cx="48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training le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66760" y="2741760"/>
          <a:ext cx="5334120" cy="37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741760"/>
                    <a:ext cx="533412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160" y="0"/>
            <a:ext cx="9943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ying domain of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domain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ellum for motor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ation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ellum for learning preci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ing between stimul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66760" y="2741760"/>
          <a:ext cx="5334120" cy="37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741760"/>
                    <a:ext cx="533412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160" y="0"/>
            <a:ext cx="9943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ying domain of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domain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ellum for motor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ation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ellum for learning preci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ing between stimul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9480" y="3503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iming hypothesis accounts for dissociation of heart rate and eyeblink respon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76320"/>
            <a:ext cx="1005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ions of the cerebellar hemisp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 no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lish eyeblink response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srupt the adaptive ti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971800"/>
          <a:ext cx="25905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2590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809880" y="2438280"/>
          <a:ext cx="388620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438280"/>
                    <a:ext cx="38862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09880" y="1676520"/>
            <a:ext cx="571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0204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90204"/>
                </a:solidFill>
                <a:latin typeface="Times New Roman"/>
              </a:rPr>
              <a:t>Prelesion           Postle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1828800"/>
            <a:ext cx="38124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1828800"/>
            <a:ext cx="38124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4680" y="3124080"/>
            <a:ext cx="23623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ed with 200 ms 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ed with 500 ms 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rett et al.,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-5526"/>
          <a:stretch/>
        </p:blipFill>
        <p:spPr>
          <a:xfrm>
            <a:off x="190440" y="380880"/>
            <a:ext cx="4267440" cy="3822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10160" y="563400"/>
            <a:ext cx="5715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levels of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associations at D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ise timing from cerebellar cortex to flexibly make response adap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52280"/>
            <a:ext cx="98679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paradig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field adap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omotor transform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al systems:  Do these tasks engage common reg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visit role of cerebellum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 these tasks require precise ti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learning as test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38800" y="6858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4838" t="8615" r="9678" b="15994"/>
          <a:stretch/>
        </p:blipFill>
        <p:spPr>
          <a:xfrm>
            <a:off x="7048440" y="838080"/>
            <a:ext cx="3133800" cy="1951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3080" y="685800"/>
            <a:ext cx="4038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i appear at one of four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response key in corresponding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i follow sequence or are chosen at random.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learning as test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38800" y="6858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4838" t="8615" r="9678" b="15994"/>
          <a:stretch/>
        </p:blipFill>
        <p:spPr>
          <a:xfrm>
            <a:off x="7048440" y="838080"/>
            <a:ext cx="3133800" cy="1951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3080" y="685800"/>
            <a:ext cx="4038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i appear at one of four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response key in corresponding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i follow sequence or are chosen at random.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440" y="4191120"/>
            <a:ext cx="10287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series of spatial associ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i, responses lack precise timin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er indicates effector-independent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ational analysis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ssential for sequence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440" y="106200"/>
            <a:ext cx="9982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lanche of patient and imaging studies with SR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al question:  Is Structure X involved in lea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focus on basal ganglia and cerebellum given hypothesized role in skill, procedural learning, and automati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52280"/>
            <a:ext cx="98679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paradig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field adap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omotor transform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one term (motor learning) fit all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etermine similarities/dif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quisition:   On-line vs. KR feedb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ation: 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38160" y="-65160"/>
            <a:ext cx="1078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 Grou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gree of Learning Compared to Contro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Normal      Attenuated     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kinson’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BG les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38160" y="-65160"/>
            <a:ext cx="10782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 Grou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gree of Learning Compared to Contro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Normal      Attenuated     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kinson’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BG les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ing results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rectional Change in Activation with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No Change    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8160" y="-65160"/>
            <a:ext cx="10782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 Grou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gree of Learning Compared to Contro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Normal      Attenuated     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kinson’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BG les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ing results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rectional Change in Activation with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No Change    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60" y="4753080"/>
            <a:ext cx="102870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f both BG and Cerebellar lesions impair SRT learning, why are imaging results so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f cerebellar lesions are so devastating to learning, why decrease with learning, esp. when motor cortical areas show increase w/ lea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1160" y="1600200"/>
            <a:ext cx="5486400" cy="279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10287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learning as test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-based hypoth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979640"/>
            <a:ext cx="354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tical-cerebellar interactions to maintain S-R mapp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62040" y="43419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cerebellar systems for forming sequential associ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760" y="5560920"/>
            <a:ext cx="1002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 deficit:  Poor sequence learning because noisy S-R cod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provide weak input for associative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1360" y="13176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on:   Deficit in SRT learning will be reduced in pati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cerebellar lesions if S-R coding requirem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minim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1360" y="13176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on:   Deficit in SRT learning will be reduced in pati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cerebellar lesions if S-R coding requirem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minim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1680" y="2590920"/>
            <a:ext cx="5943600" cy="4190760"/>
            <a:chOff x="571680" y="2590920"/>
            <a:chExt cx="5943600" cy="4190760"/>
          </a:xfrm>
        </p:grpSpPr>
        <p:sp>
          <p:nvSpPr>
            <p:cNvPr id="114" name=""/>
            <p:cNvSpPr/>
            <p:nvPr/>
          </p:nvSpPr>
          <p:spPr>
            <a:xfrm>
              <a:off x="571680" y="2590920"/>
              <a:ext cx="5943600" cy="419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729720" y="2811960"/>
              <a:ext cx="5715720" cy="38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495360" y="1782720"/>
            <a:ext cx="6248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h to targe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h to target associated           lo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central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19840" y="2725560"/>
            <a:ext cx="32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cessive targets follow 8-element sequence or selected random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ic cues tax  S-R coding system (e.g., Wise premo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8880" y="38088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selectively impaired with symbolic c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t with performance problem rath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 sequence learning per se.</a:t>
            </a:r>
            <a:r>
              <a:rPr b="0" lang="en-US" sz="3200" spc="-1" strike="noStrike">
                <a:solidFill>
                  <a:srgbClr val="f90204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59551" t="0" r="0" b="59768"/>
          <a:stretch/>
        </p:blipFill>
        <p:spPr>
          <a:xfrm>
            <a:off x="190440" y="2981160"/>
            <a:ext cx="6096240" cy="308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77599" t="47341" r="0" b="0"/>
          <a:stretch/>
        </p:blipFill>
        <p:spPr>
          <a:xfrm>
            <a:off x="6743880" y="2571840"/>
            <a:ext cx="3205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69544" b="0"/>
          <a:stretch/>
        </p:blipFill>
        <p:spPr>
          <a:xfrm>
            <a:off x="1333440" y="1693800"/>
            <a:ext cx="2667240" cy="501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" y="90360"/>
            <a:ext cx="1002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 2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more traditional keypressing SRT tas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with patient control:   PD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33869" b="0"/>
          <a:stretch/>
        </p:blipFill>
        <p:spPr>
          <a:xfrm>
            <a:off x="1333440" y="1693800"/>
            <a:ext cx="5791320" cy="5011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4480" y="90360"/>
            <a:ext cx="1002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 2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more traditional keypressing SRT tas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with patient control:   PD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082960"/>
            <a:ext cx="28576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axia group shows selective impairment with symbolic c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s and PD learn with both c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320" y="-54000"/>
            <a:ext cx="10248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bring together patient and imag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human cerebellar studies have used symbolic cue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onkey lesion study used direct cues:  normal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52280"/>
            <a:ext cx="98679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paradig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field adap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omotor transform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one term (motor learning) fit all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ural systems:  Do these tasks engage common reg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320" y="-54000"/>
            <a:ext cx="10248840" cy="63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bring together patient and imag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human cerebellar studies have used symbolic cue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onkey lesion study used direct cues:  normal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t with imaging studies showing reduction in cerebell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ion over the course of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s on maintaining S-R mapping will decrease over ti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mapping becomes well-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rectional Change in Activation with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No Ch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T lear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320" y="-54000"/>
            <a:ext cx="10248840" cy="68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bring together patient and imag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human cerebellar studies have used symbolic cue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onkey lesion study used direct cues:  normal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t with imaging studies showing reduction in cerebell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ion over the course of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s on maintaining S-R mapping will decrease over ti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mapping becomes well-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rectional Change in Activation with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No Ch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T lear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ediction:   Weak cerebellar/prefrontal activation with direct c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-11160"/>
            <a:ext cx="986796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ar role in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lear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(no tim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field adap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ly (on-line timed error sig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omotor transform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?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-11160"/>
            <a:ext cx="986796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ar role in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lear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(no tim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field adap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ly (on-line timed error sig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omotor transform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?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ing and patient work suggests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memory account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-R maps required in transformed enviro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-R Map 1:   Old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-R Map 2:   Hypothesis of New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-11160"/>
            <a:ext cx="986796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ar role in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lear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(no tim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field adap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ly (on-line timed error sig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omotor transform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?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single- and multi-step transform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:   25 deg displacement in one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:      5 deg every 20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54403"/>
          <a:stretch/>
        </p:blipFill>
        <p:spPr>
          <a:xfrm>
            <a:off x="463680" y="4389480"/>
            <a:ext cx="3537000" cy="2468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45604" r="0" b="2940"/>
          <a:stretch/>
        </p:blipFill>
        <p:spPr>
          <a:xfrm>
            <a:off x="4152960" y="4419720"/>
            <a:ext cx="3124080" cy="2460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05640" y="5029200"/>
            <a:ext cx="27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edi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95360" y="380880"/>
            <a:ext cx="9524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 model of cerebellum and error detection and cor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 fibers:  Simple spikes indicate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mbing fibers:  Complex spikes indicate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spike activity leads to weigh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0040" y="122400"/>
            <a:ext cx="38275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952560" y="2895480"/>
            <a:ext cx="4343400" cy="3276360"/>
            <a:chOff x="952560" y="2895480"/>
            <a:chExt cx="4343400" cy="327636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rcRect l="0" t="1581" r="0" b="93689"/>
            <a:stretch/>
          </p:blipFill>
          <p:spPr>
            <a:xfrm>
              <a:off x="952560" y="2895480"/>
              <a:ext cx="4343400" cy="3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rcRect l="0" t="60003" r="0" b="0"/>
            <a:stretch/>
          </p:blipFill>
          <p:spPr>
            <a:xfrm>
              <a:off x="952560" y="3242160"/>
              <a:ext cx="4343400" cy="292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5829480" y="3429000"/>
            <a:ext cx="40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” somatosensory input that is either expected or un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4840" y="6019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.    Exp.      Un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40040" y="122400"/>
            <a:ext cx="38275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6134040" y="2895480"/>
            <a:ext cx="3581280" cy="3199680"/>
            <a:chOff x="6134040" y="2895480"/>
            <a:chExt cx="3581280" cy="319968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rcRect l="0" t="0" r="35812" b="95979"/>
            <a:stretch/>
          </p:blipFill>
          <p:spPr>
            <a:xfrm>
              <a:off x="6134040" y="2895480"/>
              <a:ext cx="3581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rcRect l="0" t="64545" r="35812" b="0"/>
            <a:stretch/>
          </p:blipFill>
          <p:spPr>
            <a:xfrm>
              <a:off x="6134040" y="3134160"/>
              <a:ext cx="3581280" cy="296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952560" y="2895480"/>
            <a:ext cx="4343400" cy="3276360"/>
            <a:chOff x="952560" y="2895480"/>
            <a:chExt cx="4343400" cy="32763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rcRect l="0" t="1581" r="0" b="93689"/>
            <a:stretch/>
          </p:blipFill>
          <p:spPr>
            <a:xfrm>
              <a:off x="952560" y="2895480"/>
              <a:ext cx="4343400" cy="3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rcRect l="0" t="60003" r="0" b="0"/>
            <a:stretch/>
          </p:blipFill>
          <p:spPr>
            <a:xfrm>
              <a:off x="952560" y="3242160"/>
              <a:ext cx="4343400" cy="292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1104840" y="6019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.    Exp.      Un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67560" y="6019920"/>
            <a:ext cx="36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         Un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95360" y="182520"/>
            <a:ext cx="83059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s of Omission and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Y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s of commission are well-ti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s of omission lack precise ti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280"/>
            <a:ext cx="98679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paradig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field adap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omotor transform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one term (motor learning) fit all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ural systems:  Do these tasks engage common reg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est case:   Cerebe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30520" y="1600200"/>
            <a:ext cx="6918120" cy="448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5880" y="6324480"/>
            <a:ext cx="49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ith and Shadmehr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380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field adaptation is impaired in patients with cerebellar degeneration and not basal ganglia de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1680" y="1295280"/>
            <a:ext cx="4647960" cy="426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22840" y="1295280"/>
            <a:ext cx="4146480" cy="426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960" y="152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sm adaptation impairment in patient with bilateral cerebellar str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5607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 Participant                         Cerebellar Str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6324480"/>
            <a:ext cx="49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n et al.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4183"/>
          <a:stretch/>
        </p:blipFill>
        <p:spPr>
          <a:xfrm>
            <a:off x="2400480" y="121932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5880" y="6324480"/>
            <a:ext cx="49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mez-Beldarrain et al.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152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learning is absent (ipsilesional) in patients with unilateral cerebellar str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6280" y="4952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  S    S    R   S    S   S   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5192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conditioning of eyeblink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23960" y="1905120"/>
          <a:ext cx="8761320" cy="42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05120"/>
                    <a:ext cx="876132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1883" t="7577" r="22347" b="66729"/>
          <a:stretch/>
        </p:blipFill>
        <p:spPr>
          <a:xfrm>
            <a:off x="495360" y="2376360"/>
            <a:ext cx="472428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5622840"/>
            <a:ext cx="9296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" y="15228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ebellar lesions selectively abolish the learned respon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72280" y="6248520"/>
            <a:ext cx="48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Cormick et al., 1984; man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1:15:00Z</dcterms:created>
  <dc:creator>Mark W. Geisler</dc:creator>
  <dc:description/>
  <dc:language>en-US</dc:language>
  <cp:lastModifiedBy>Richard Ivry</cp:lastModifiedBy>
  <cp:lastPrinted>1999-01-28T22:50:30Z</cp:lastPrinted>
  <dcterms:modified xsi:type="dcterms:W3CDTF">2007-10-12T23:20:31Z</dcterms:modified>
  <cp:revision>100</cp:revision>
  <dc:subject/>
  <dc:title>THE MANY MANIFESTATIONS OF A CEREBELLAR TIMING SYSTEM</dc:title>
</cp:coreProperties>
</file>