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55E-3A4F-4EE2-8FFC-C04F494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FD3-935A-45BF-A3E8-329BCCF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391-6E1B-4A9F-B811-A13176EC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7D1-0783-41A5-8009-CB2E0363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7ED7-92C1-4620-87CB-7ED3FEAA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1CF-EBDE-44D8-9243-A7EBC11B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2A41-35F0-4CAD-84DF-8D405F8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C0D-FC8B-4C6C-92C3-FA53157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DF3B-AAF6-4729-A399-1B8CA5C1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CDC1-4B32-4396-A88F-A9669A00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6A2-3F0F-4F10-A650-3823F19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D07-D1B6-4DE2-BD74-7DA8C27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788-A755-4D67-8078-778222E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C95F-E51E-4C89-AE7A-568C0A9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6349-BCC8-418C-A3BF-7FB0B37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5469-F5CA-4514-8FCB-49E3A9B4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BB1-4FC6-4FBB-B9EA-1C2C27D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8E3C-07B0-4F02-8788-663D7A5E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DA30-5E34-40D4-93AE-4CCA56F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CD3B-DDDC-4089-A69B-08B5F2A7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762C-8942-451D-8C8C-63FEBEBE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B9E4-E304-42B1-953E-4023467F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6E5-300B-496B-A0E8-2218349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D6A6-1C2E-484C-83E1-5EAE992D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3DB1-85DA-482F-A7E4-B9E4290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53BD-D49E-4DF9-AA2B-00BC8DD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8F58-E2AB-47E0-8635-AEAB129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2AFB-B8AC-4946-846F-6F41A36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FC16-87B8-4B31-822A-6E12B841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3B39-C2FD-4E0C-AB14-9788B286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D690-437C-4B11-B617-2F0DA571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1254-6590-473A-AB89-57B91B57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FD80-5546-4C48-80AE-00B74060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8C1-1349-4544-BD58-0026150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7F6A-1708-4BB8-A018-B1FC073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64ED-42A5-4E1F-B4E0-D19E9583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0447-BDFD-4EA0-891D-AF88F76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A29B-3F69-46AF-8254-5DE57CE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0C11-4D91-4B1B-ABCE-92D8F12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3E2C-C9EF-4767-991D-E2F4ED7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3F09-DB9D-47EE-B50D-0573DF5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5730-8A1C-4F80-A27F-87611E22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45C58-307C-42A0-A618-114A58A0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7700-4EE0-4B1B-B8BF-394A1688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DC8-8ACA-4547-A79D-8E0E07C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F189-5EE9-43DD-B07F-99EA0D5C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ABD56-9013-4671-9845-6EF04032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40F3-3FED-4014-A2C8-84A6EEBA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B56D-D369-479A-BD25-E8DDE0A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E0C7-2E10-47AE-B875-95523C3E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DB6B-8F29-4351-81A2-AFA5D58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94B9-690B-4E8D-836C-4B58596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221A-13EE-47DC-870E-4B7D87F5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631F-BFAC-4BBA-B322-F5D05D8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AEE0-15AB-4A98-845E-17A84D9D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EA7-CA0B-4BF1-9824-98A0BF3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2D3F-7D7A-4951-9C74-5D18BAD7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AAF-72AD-4347-AA02-35F7AA1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D9C-073D-415E-AF3A-E3DD648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0C3-835F-4349-B436-86E4A70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F3DF-5399-4FB9-805C-8BF0EBC3D5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527-DC7F-40F0-8E83-5A8FBD5A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6D0-C73E-46F6-94FB-2A40877A2F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D7B-1EFB-47A5-A3EE-2088104FCA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cc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EDE-87D3-4AD3-AD10-781B4E46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8" name="WordArt 2"/>
          <p:cNvSpPr txBox="1"/>
          <p:nvPr/>
        </p:nvSpPr>
        <p:spPr>
          <a:xfrm>
            <a:off x="1428840" y="2142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2050920" y="3284640"/>
            <a:ext cx="53578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القسم العمل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قسم النظري العم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تاد الحاسب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ل حاسب مؤلف م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إدخ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معالج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- وحدات إخراج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لا يعني وحدات الإدخال في الشبكات هي وحدات إدخال الأجهزة بل هي وحدات إدخال شبكي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فذ التسلسلي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al port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حاسبين فق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صورة 3" descr="Serial_port.jpg"/>
          <p:cNvPicPr/>
          <p:nvPr/>
        </p:nvPicPr>
        <p:blipFill>
          <a:blip r:embed="rId2"/>
          <a:stretch/>
        </p:blipFill>
        <p:spPr>
          <a:xfrm>
            <a:off x="5572080" y="3000240"/>
            <a:ext cx="2817720" cy="2108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om-Kabel"/>
          <p:cNvPicPr/>
          <p:nvPr/>
        </p:nvPicPr>
        <p:blipFill>
          <a:blip r:embed="rId3"/>
          <a:stretch/>
        </p:blipFill>
        <p:spPr>
          <a:xfrm>
            <a:off x="500040" y="3357720"/>
            <a:ext cx="3700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00400" y="1600200"/>
            <a:ext cx="40194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منفذ التفرعي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llel port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لربط حاسبين فق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http://www.free-computer-tips.info/wp-content/uploads/2010/08/Parallel-Port.jpg"/>
          <p:cNvPicPr/>
          <p:nvPr/>
        </p:nvPicPr>
        <p:blipFill>
          <a:blip r:embed="rId2"/>
          <a:srcRect l="0" t="27500" r="0" b="23749"/>
          <a:stretch/>
        </p:blipFill>
        <p:spPr>
          <a:xfrm>
            <a:off x="1357200" y="2857680"/>
            <a:ext cx="7620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فذ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serial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حاسبين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softsupplier.com/wp-content/uploads/2010/10/MacBook-Pro-USB-port.jpg"/>
          <p:cNvPicPr/>
          <p:nvPr/>
        </p:nvPicPr>
        <p:blipFill>
          <a:blip r:embed="rId2"/>
          <a:stretch/>
        </p:blipFill>
        <p:spPr>
          <a:xfrm>
            <a:off x="4071960" y="2928960"/>
            <a:ext cx="4762440" cy="3591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geocities.ws/k7hkl_arv/PC_USB_Connectors_Pinout.png"/>
          <p:cNvPicPr/>
          <p:nvPr/>
        </p:nvPicPr>
        <p:blipFill>
          <a:blip r:embed="rId3"/>
          <a:stretch/>
        </p:blipFill>
        <p:spPr>
          <a:xfrm>
            <a:off x="0" y="0"/>
            <a:ext cx="2708280" cy="227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www.bb-elec.com/images/hubport_diagram.gif"/>
          <p:cNvPicPr/>
          <p:nvPr/>
        </p:nvPicPr>
        <p:blipFill>
          <a:blip r:embed="rId4"/>
          <a:stretch/>
        </p:blipFill>
        <p:spPr>
          <a:xfrm>
            <a:off x="214200" y="2928960"/>
            <a:ext cx="1730520" cy="1376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www.51cto.com/files/uploadimg/20070919/1317300.jpg"/>
          <p:cNvPicPr/>
          <p:nvPr/>
        </p:nvPicPr>
        <p:blipFill>
          <a:blip r:embed="rId5"/>
          <a:stretch/>
        </p:blipFill>
        <p:spPr>
          <a:xfrm>
            <a:off x="2214720" y="3071880"/>
            <a:ext cx="1422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منافذ الحاسب الآ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0000" y="1052640"/>
            <a:ext cx="30448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فذ كرت الشبك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ربط عدة حواسي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://support.morehouse.edu/whatis-network/ethernet-jack-on-computer.jpg"/>
          <p:cNvPicPr/>
          <p:nvPr/>
        </p:nvPicPr>
        <p:blipFill>
          <a:blip r:embed="rId2"/>
          <a:srcRect l="0" t="25774" r="14287" b="27839"/>
          <a:stretch/>
        </p:blipFill>
        <p:spPr>
          <a:xfrm>
            <a:off x="2928960" y="3143160"/>
            <a:ext cx="6032520" cy="271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techpubs.sgi.com/library/dynaweb_docs/hdwr/SGI_EndUser/books/1100MG/sgi_html/figures/1100.port.ethernet.gif"/>
          <p:cNvPicPr/>
          <p:nvPr/>
        </p:nvPicPr>
        <p:blipFill>
          <a:blip r:embed="rId3"/>
          <a:stretch/>
        </p:blipFill>
        <p:spPr>
          <a:xfrm>
            <a:off x="571680" y="928800"/>
            <a:ext cx="1581120" cy="2028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http://www.aboutplcs.com/P3000/software/help/Ethernet_Port_Connectivity_1.gif"/>
          <p:cNvPicPr/>
          <p:nvPr/>
        </p:nvPicPr>
        <p:blipFill>
          <a:blip r:embed="rId4"/>
          <a:stretch/>
        </p:blipFill>
        <p:spPr>
          <a:xfrm>
            <a:off x="684360" y="3573360"/>
            <a:ext cx="13474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01:29Z</dcterms:created>
  <dc:creator>user1</dc:creator>
  <dc:description/>
  <dc:language>en-US</dc:language>
  <cp:lastModifiedBy>admin</cp:lastModifiedBy>
  <dcterms:modified xsi:type="dcterms:W3CDTF">2002-05-01T03:38:23Z</dcterms:modified>
  <cp:revision>267</cp:revision>
  <dc:subject/>
  <dc:title>اتصال شبكات 2</dc:title>
</cp:coreProperties>
</file>