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9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09D-DC08-4B52-853B-708B07AC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9D1-C31A-4949-A2BD-F3137C4F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A5B6-D3A1-4904-8C63-10D5CC24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A35-E043-49D4-8FF8-1FA8CEF7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D927-633E-489B-BFB5-6BA62CDD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E8DE-B7F5-4FA1-809E-B3C424B7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8D7A-BB0D-4124-89A6-302836A6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1B0D-A4A8-4FDB-93CC-2E408D12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6559-9748-4A30-B274-75B12E2E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FEC3-0728-4A5A-ADC5-A8BE9914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C0D7-29C2-4D87-9F1E-B657DF60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C1CD-E8CD-4060-839E-E804F7B0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B825-2963-4344-9626-6D30A58F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E65E-37F9-4EB8-923D-47A7AAB0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1194-BEE9-45E6-9786-C67372B9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01C3-7DF4-4F13-A7D6-146AAFAE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F903-3E4C-48CB-86DB-66881B85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42FEB-A70B-498A-9A1F-D4087ECF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33C0F-677D-4D8E-B6D7-84BD6E86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BB9A2-12CC-4748-AD2A-7FB424C4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80C12-5215-4A4C-AFFC-691B5FAF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67781-B902-4A4C-B457-215C138C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FFA0-EE78-4133-BE5D-9776F1C1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0C325-A8DC-444A-938F-EE152276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0613C-2003-4D16-8EC8-A31D2F3E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A7B9E-AA5C-43EF-A363-FF66A2EC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0523E-63C2-463E-8FB1-6EADB215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B0A2F-649C-4224-AC2E-C7A3A5B1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EFE36-EC2B-4229-9DB8-478EBD33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AA6A4-16F4-4332-87D3-3D4B838E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0C22A-0E22-408A-98A5-960F34B3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62EA5-F563-43EF-A587-36C945CE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D2C91-2658-4B20-B07B-78881A77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F67A-D692-4205-82EE-8C694D96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A658E-A60C-4D65-ABDB-6A154A34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9D885-266A-4376-983F-F4AF19B0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9FEA5-6B10-4336-B7DC-6715C52F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EE57D-7097-4933-AB89-7D9F64CA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9BA4F-5011-4053-B81E-D4BA7ADA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6199F-6C09-4D24-B950-E0400FF2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4F773-18B7-47A6-89F7-BB2E151E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F6AA3-A628-4318-9455-CC67D141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B9EED-5A51-446C-855A-C6137BC8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ED4C3-BE0E-41B6-AB3C-ACDDE8AA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967D-30F4-41CC-A41C-8BFE3C78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5089E-72A4-4C6D-A631-EA541171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4668F-E2EF-48F8-8E49-9628909F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AC69C-F9AA-41E8-B53D-CE6DF6DB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9D14C-10DF-48D8-AF4C-76C3E7D2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B404F-8E23-41C4-8F2C-B893961C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B49B1-0B8C-4F9A-860B-F9F6F6C9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76D84-8DE4-440F-85FE-0061824E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4D8C9-E910-4BF2-9406-4FC9D3F2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A5522-19C3-473F-8D4F-E6B7CDA7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BFE7C-6855-4305-9687-E42DF188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252A-1BCB-43C1-B3E9-8484E2FB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5D4D9-2AF3-47C5-BC0D-51F90D0D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EB1-BC10-4E4D-A052-517BFF0C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1A48-EBA4-4927-A4E8-43B95351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C5BF-5024-43D2-8965-FE35F783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E403-DBF1-49A7-9957-718F4BF8785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cc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D869-5EE2-44CF-A57E-531583918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E9E2-277D-4A1A-B2CC-35940F8949F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C489-C9DB-41A1-9ABD-541DBF117FA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cc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0B49-BACE-4E9C-B278-AED88B19F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08" name="WordArt 2"/>
          <p:cNvSpPr txBox="1"/>
          <p:nvPr/>
        </p:nvSpPr>
        <p:spPr>
          <a:xfrm>
            <a:off x="1428840" y="214200"/>
            <a:ext cx="6629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cc6600"/>
                    </a:gs>
                  </a:gsLst>
                  <a:lin ang="18900000"/>
                </a:gradFill>
                <a:latin typeface="+mn-cs"/>
              </a:rPr>
              <a:t>شبكات الحاسب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cc6600"/>
                    </a:gs>
                  </a:gsLst>
                  <a:lin ang="18900000"/>
                </a:gradFill>
                <a:latin typeface="+mn-cs"/>
              </a:rPr>
              <a:t>2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cc6600"/>
                    </a:gs>
                  </a:gsLst>
                  <a:lin ang="189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cc6600"/>
                  </a:gs>
                </a:gsLst>
                <a:lin ang="18900000"/>
              </a:gradFill>
              <a:latin typeface="+mn-cs"/>
              <a:ea typeface="+mn-cs"/>
            </a:endParaRPr>
          </a:p>
        </p:txBody>
      </p:sp>
      <p:sp>
        <p:nvSpPr>
          <p:cNvPr id="209" name="WordArt 5"/>
          <p:cNvSpPr txBox="1"/>
          <p:nvPr/>
        </p:nvSpPr>
        <p:spPr>
          <a:xfrm>
            <a:off x="2050920" y="3284640"/>
            <a:ext cx="53578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cc6600"/>
                    </a:gs>
                  </a:gsLst>
                  <a:lin ang="18900000"/>
                </a:gradFill>
                <a:latin typeface="+mn-cs"/>
              </a:rPr>
              <a:t>القسم العمل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cc6600"/>
                  </a:gs>
                </a:gsLst>
                <a:lin ang="18900000"/>
              </a:gradFill>
              <a:latin typeface="+mn-cs"/>
              <a:ea typeface="+mn-c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cc6600"/>
                  </a:gs>
                </a:gsLst>
                <a:lin ang="18900000"/>
              </a:gradFill>
              <a:latin typeface="+mn-cs"/>
              <a:ea typeface="+mn-c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القسم النظري العمل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عتاد الحاسب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كل حاسب مؤلف من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- وحدات إدخا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- وحدات معالج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- وحدات إخراج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Calibri"/>
              </a:rPr>
              <a:t>لا يعني وحدات الإدخال في الشبكات هي وحدات إدخال الأجهزة بل هي وحدات إدخال شبكيه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منافذ الحاسب الآل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نفذ التسلسلي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al port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ربط حاسبين فق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صورة 3" descr="Serial_port.jpg"/>
          <p:cNvPicPr/>
          <p:nvPr/>
        </p:nvPicPr>
        <p:blipFill>
          <a:blip r:embed="rId2"/>
          <a:stretch/>
        </p:blipFill>
        <p:spPr>
          <a:xfrm>
            <a:off x="5572080" y="3000240"/>
            <a:ext cx="2817720" cy="2108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Com-Kabel"/>
          <p:cNvPicPr/>
          <p:nvPr/>
        </p:nvPicPr>
        <p:blipFill>
          <a:blip r:embed="rId3"/>
          <a:stretch/>
        </p:blipFill>
        <p:spPr>
          <a:xfrm>
            <a:off x="500040" y="3357720"/>
            <a:ext cx="37004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نافذ الحاسب الآلي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000400" y="1600200"/>
            <a:ext cx="40194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المنفذ التفرعي 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arallel port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لربط حاسبين فقط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http://www.free-computer-tips.info/wp-content/uploads/2010/08/Parallel-Port.jpg"/>
          <p:cNvPicPr/>
          <p:nvPr/>
        </p:nvPicPr>
        <p:blipFill>
          <a:blip r:embed="rId2"/>
          <a:srcRect l="0" t="27500" r="0" b="23749"/>
          <a:stretch/>
        </p:blipFill>
        <p:spPr>
          <a:xfrm>
            <a:off x="1357200" y="2857680"/>
            <a:ext cx="7620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منافذ الحاسب الآل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نفذ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al serial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ربط حاسبين فق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2" descr="http://softsupplier.com/wp-content/uploads/2010/10/MacBook-Pro-USB-port.jpg"/>
          <p:cNvPicPr/>
          <p:nvPr/>
        </p:nvPicPr>
        <p:blipFill>
          <a:blip r:embed="rId2"/>
          <a:stretch/>
        </p:blipFill>
        <p:spPr>
          <a:xfrm>
            <a:off x="4071960" y="2928960"/>
            <a:ext cx="4762440" cy="3591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://www.geocities.ws/k7hkl_arv/PC_USB_Connectors_Pinout.png"/>
          <p:cNvPicPr/>
          <p:nvPr/>
        </p:nvPicPr>
        <p:blipFill>
          <a:blip r:embed="rId3"/>
          <a:stretch/>
        </p:blipFill>
        <p:spPr>
          <a:xfrm>
            <a:off x="0" y="0"/>
            <a:ext cx="2708280" cy="2279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http://www.bb-elec.com/images/hubport_diagram.gif"/>
          <p:cNvPicPr/>
          <p:nvPr/>
        </p:nvPicPr>
        <p:blipFill>
          <a:blip r:embed="rId4"/>
          <a:stretch/>
        </p:blipFill>
        <p:spPr>
          <a:xfrm>
            <a:off x="214200" y="2928960"/>
            <a:ext cx="1730520" cy="1376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http://www.51cto.com/files/uploadimg/20070919/1317300.jpg"/>
          <p:cNvPicPr/>
          <p:nvPr/>
        </p:nvPicPr>
        <p:blipFill>
          <a:blip r:embed="rId5"/>
          <a:stretch/>
        </p:blipFill>
        <p:spPr>
          <a:xfrm>
            <a:off x="2214720" y="3071880"/>
            <a:ext cx="142236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منافذ الحاسب الآل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580000" y="1052640"/>
            <a:ext cx="304488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نفذ كرت الشبكة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ربط عدة حواسيب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2" descr="http://support.morehouse.edu/whatis-network/ethernet-jack-on-computer.jpg"/>
          <p:cNvPicPr/>
          <p:nvPr/>
        </p:nvPicPr>
        <p:blipFill>
          <a:blip r:embed="rId2"/>
          <a:srcRect l="0" t="25774" r="14287" b="27839"/>
          <a:stretch/>
        </p:blipFill>
        <p:spPr>
          <a:xfrm>
            <a:off x="2928960" y="3143160"/>
            <a:ext cx="6032520" cy="27147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http://techpubs.sgi.com/library/dynaweb_docs/hdwr/SGI_EndUser/books/1100MG/sgi_html/figures/1100.port.ethernet.gif"/>
          <p:cNvPicPr/>
          <p:nvPr/>
        </p:nvPicPr>
        <p:blipFill>
          <a:blip r:embed="rId3"/>
          <a:stretch/>
        </p:blipFill>
        <p:spPr>
          <a:xfrm>
            <a:off x="571680" y="928800"/>
            <a:ext cx="1581120" cy="2028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http://www.aboutplcs.com/P3000/software/help/Ethernet_Port_Connectivity_1.gif"/>
          <p:cNvPicPr/>
          <p:nvPr/>
        </p:nvPicPr>
        <p:blipFill>
          <a:blip r:embed="rId4"/>
          <a:stretch/>
        </p:blipFill>
        <p:spPr>
          <a:xfrm>
            <a:off x="684360" y="3573360"/>
            <a:ext cx="134748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9:01:29Z</dcterms:created>
  <dc:creator>user1</dc:creator>
  <dc:description/>
  <dc:language>en-US</dc:language>
  <cp:lastModifiedBy>admin</cp:lastModifiedBy>
  <dcterms:modified xsi:type="dcterms:W3CDTF">2002-05-01T03:38:23Z</dcterms:modified>
  <cp:revision>267</cp:revision>
  <dc:subject/>
  <dc:title>اتصال شبكات 2</dc:title>
</cp:coreProperties>
</file>