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24C7-67FE-4B15-A97D-5478CEDB7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4FBA-3739-4D15-82BA-530D408F2408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omic Sans MS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D040-FFB5-4FFF-BCF8-F965898682A8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omic Sans MS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AB40-A303-43C1-870C-5279B7E63E14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omic Sans MS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6CBE-728E-4DB9-90D1-E760C9EF313D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omic Sans MS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56D5-6FA7-461D-AB16-B0BF1280A3AF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omic Sans MS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756A-BE56-4FED-B051-030558FB0721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omic Sans MS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45D7-B456-4771-A9AA-9951E769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6701-A010-4530-9322-E5339DA9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EF9D-9E42-4251-9886-28C684D6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644E-E85D-473C-82AC-4B8DAE4E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8107-CE03-4152-9392-FEB7EE83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F99F-9603-4E21-81BD-4001A790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D9B6-826D-4719-B9F3-54CEA386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734B-9459-4049-805A-23B916A8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B0F5-CE83-44C1-A46D-660F33FC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77C4-435F-42A8-A3AB-2C4931A1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CE20-B436-431A-B14E-259E7FC9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8902-C393-4DCA-A560-B0AFB388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2E79-BA82-4A85-A245-0C969874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F50D-8303-4A69-8DBD-FCA30493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BBD3-ABB4-450B-AD09-1C6C79A2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6134-0966-4E3F-A2A5-F4A36559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4BB4-F8B9-471C-930C-E6BB2F16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5698F-F31C-4BFA-B748-E68F6B2C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EDB20-0D7E-435F-AA1A-AA4BFE1B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BD6D8-E789-4325-B1D3-24DC832B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F556C-5D6D-4FE6-A999-B4DDE085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44264-126F-4F00-9566-B7906C75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70CD-84C5-42F3-B325-D498F6FB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84D5F-D4E2-4F36-A620-3BD322B8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D7C00-5B89-4E8E-BA7E-2D321D8A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05F3E-DF54-43A9-A7AF-D7A834B3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BCE72-8249-4B97-8E6C-B606881D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3A7BA-8EDA-4483-B850-141A7FFF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D05D1-896B-48CD-984A-F157B2BD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DDF7E-8FCE-4EB4-A639-2F785CA2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FFD1B-84BC-42C8-9BD4-67CACE22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7904E-8882-474A-9968-E300633D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7B483-6F81-4FEC-83EF-4978C67A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D7A4-329E-4E01-A32D-DBB154F3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27DF0-429E-4B53-AE8C-E83778B5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7C790-C699-4737-A65E-7AC6790B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F44E7-68A5-4A97-AE2F-CF9A1671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7F3D6-AFB4-4D78-A84E-D456C8FE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02011-224E-425D-A451-2FDDB869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60F74-2360-45B8-88B6-0C2D62F3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01ED1-AB6A-4E45-B48C-60D20191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44048-EB3F-4366-B786-1F0763DE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0D442-3FC3-4793-A308-54F313F76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81928-0381-4ED1-A8DC-CB558BA7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D3FF-FC07-4CE2-8EE3-74B6F0D8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8642F-FC04-46EE-B0BA-5D32DFF7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30D3B-C319-4CAD-AEAA-4B37B5CF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CA4BF-752E-4A46-882E-9A1F541B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B88A4-D6EF-4D77-A44D-3CB261E9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224B0-A8AB-47B1-B9A4-9282B033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00A9B-8F1B-48E7-AF10-4AC657AA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FD17A-366B-42F3-B749-912161ED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05153-1033-4F6F-A2BE-586217C7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9C8F8-2995-43DA-A2B2-B951050B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169AE-CCBC-4EEB-A72F-2998E013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01A5-3E6E-48AE-9461-69BF89AF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B212E-77F2-4FEF-9CE9-DD0C51F0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C9089-5258-418F-B22A-ACCDD46C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46269-00A9-4098-BF00-753346FA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7EDE7-9B33-4FD7-AC51-BDC8F312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E4086-9407-4004-AEA4-2C4199EF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B4C3C-11B0-4ABD-B8F4-1DF5C467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DDD9F-95E2-4A8F-A143-74825B25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EFE4A-7C28-437A-AACF-41CBB21E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0ED2E-5229-457A-A7D2-FDB17E0E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0DF92-B5F5-44CC-9EEB-48751024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D2E8-08E0-4F26-BFC4-23C8DACB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5B6E2-4D99-4571-807A-1B75E56B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FC30D-8925-4767-9CE0-12B34F0E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46954-9F74-4B03-B0F4-44B5695F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98A3D-CA83-4450-91C1-C7600426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0E1C0-49AC-46BD-BC59-8D2D4B15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AC822-2E99-44AF-8BA5-2870A7AE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48048-520F-498D-963F-1771BC3A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4AF48-39D9-42A0-97D2-0AE6F556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5FD96-05A9-4B99-B7B3-A649BA31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E9A0D-13F7-42A6-9BB1-A51A9E22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C6BD-59B5-451C-B165-29996732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0A42B-4EF8-41A5-BAA7-EDCA5351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1C244-07E2-4F0D-BE5F-F3736331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D1545-12DD-468C-BEBC-1D30478A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B8397-763C-4541-AC75-545172AE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E6AEE-E0D0-4A7C-8449-D2BDA57A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ADCD-8A4B-4BD2-93E3-8E10B789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E6C5-A40B-4B58-8929-91E7F36BEB4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750F-BB60-4B9A-8AC0-59B9E1D07EC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A540-9E9E-4389-A604-A31A2044A10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837E-F0DF-4EC0-99B3-51DC896EFA0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D842-F41D-4F67-9383-670272EDB6D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E562-3717-4A2B-A9D5-E1B5889052A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FE1B-8B5D-474D-ADE7-BDD3946C06F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533520" y="11430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d6ecff"/>
                </a:solidFill>
                <a:latin typeface="Comic Sans MS"/>
              </a:rPr>
              <a:t>Concept of </a:t>
            </a:r>
            <a:endParaRPr b="0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1295280" y="2666880"/>
            <a:ext cx="6400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tamorphic Rocks and metamorphis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1050840" y="379440"/>
            <a:ext cx="7042320" cy="609768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3"/>
          <p:cNvSpPr/>
          <p:nvPr/>
        </p:nvSpPr>
        <p:spPr>
          <a:xfrm>
            <a:off x="2971800" y="4419720"/>
            <a:ext cx="685800" cy="457200"/>
          </a:xfrm>
          <a:prstGeom prst="rect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157a"/>
                </a:solidFill>
                <a:latin typeface="Comic Sans MS"/>
              </a:rPr>
              <a:t>15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523880" y="5335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nfining Pressu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1752480" y="13716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fining pressure is the same in all directions (incl. 3rd dimensio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AutoShape 4"/>
          <p:cNvSpPr/>
          <p:nvPr/>
        </p:nvSpPr>
        <p:spPr>
          <a:xfrm>
            <a:off x="3581280" y="2514600"/>
            <a:ext cx="76320" cy="685800"/>
          </a:xfrm>
          <a:prstGeom prst="downArrow">
            <a:avLst>
              <a:gd name="adj1" fmla="val 50000"/>
              <a:gd name="adj2" fmla="val 224646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3581280" y="3429000"/>
            <a:ext cx="76320" cy="83808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3657600" y="3276720"/>
            <a:ext cx="914400" cy="75960"/>
          </a:xfrm>
          <a:prstGeom prst="leftArrow">
            <a:avLst>
              <a:gd name="adj1" fmla="val 50000"/>
              <a:gd name="adj2" fmla="val 300948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AutoShape 7"/>
          <p:cNvSpPr/>
          <p:nvPr/>
        </p:nvSpPr>
        <p:spPr>
          <a:xfrm>
            <a:off x="2743200" y="32767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1613160" y="5029200"/>
            <a:ext cx="747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fining pressure implies that there is little mor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one direction that in the other direction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4724280" y="2438280"/>
            <a:ext cx="3657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water, that i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ne ton per m2 each meter of dept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m ~ 1 atm or 10 tons of pressu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1523880" y="5335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rected Pressu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1752480" y="13716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n one pressure is greater than the other three (incl. 3rd dimensio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0" name="AutoShape 4"/>
          <p:cNvSpPr/>
          <p:nvPr/>
        </p:nvSpPr>
        <p:spPr>
          <a:xfrm>
            <a:off x="3581280" y="2514600"/>
            <a:ext cx="76320" cy="685800"/>
          </a:xfrm>
          <a:prstGeom prst="downArrow">
            <a:avLst>
              <a:gd name="adj1" fmla="val 50000"/>
              <a:gd name="adj2" fmla="val 224646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1" name="AutoShape 5"/>
          <p:cNvSpPr/>
          <p:nvPr/>
        </p:nvSpPr>
        <p:spPr>
          <a:xfrm>
            <a:off x="3581280" y="3429000"/>
            <a:ext cx="76320" cy="83808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AutoShape 6"/>
          <p:cNvSpPr/>
          <p:nvPr/>
        </p:nvSpPr>
        <p:spPr>
          <a:xfrm>
            <a:off x="3657600" y="32767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AutoShape 7"/>
          <p:cNvSpPr/>
          <p:nvPr/>
        </p:nvSpPr>
        <p:spPr>
          <a:xfrm>
            <a:off x="3276720" y="3276720"/>
            <a:ext cx="304560" cy="75960"/>
          </a:xfrm>
          <a:prstGeom prst="rightArrow">
            <a:avLst>
              <a:gd name="adj1" fmla="val 50000"/>
              <a:gd name="adj2" fmla="val 100237"/>
            </a:avLst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Line 10"/>
          <p:cNvSpPr/>
          <p:nvPr/>
        </p:nvSpPr>
        <p:spPr>
          <a:xfrm>
            <a:off x="2971800" y="2438280"/>
            <a:ext cx="205740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5" name="Line 11"/>
          <p:cNvSpPr/>
          <p:nvPr/>
        </p:nvSpPr>
        <p:spPr>
          <a:xfrm>
            <a:off x="4495680" y="4191120"/>
            <a:ext cx="60984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6" name="Line 12"/>
          <p:cNvSpPr/>
          <p:nvPr/>
        </p:nvSpPr>
        <p:spPr>
          <a:xfrm flipH="1" flipV="1">
            <a:off x="4114440" y="4495320"/>
            <a:ext cx="6094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4876920" y="281952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irected pressure is great enough rocks can break and/or fol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523880" y="10666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luids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1447920" y="2514600"/>
            <a:ext cx="64767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ccelerate chemical reac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ssolve ions and move them from one mineral to anoth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 change in rock composition by fluid transport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metasomatis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303120" y="471600"/>
            <a:ext cx="85359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806400" y="379440"/>
            <a:ext cx="75294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AutoShape 2"/>
          <p:cNvSpPr/>
          <p:nvPr/>
        </p:nvSpPr>
        <p:spPr>
          <a:xfrm>
            <a:off x="1295280" y="914400"/>
            <a:ext cx="5410440" cy="5105520"/>
          </a:xfrm>
          <a:prstGeom prst="triangle">
            <a:avLst>
              <a:gd name="adj" fmla="val 49472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3581280" y="457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essu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6781680" y="59436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mperatur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0" y="579132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luid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tasomatism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5105520" y="457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(Impact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6781680" y="5486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ontac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2971800" y="3733920"/>
            <a:ext cx="1600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Buri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low-P, low-T)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low-gra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0" y="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TYPES OF METAMORPHIS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0" name="Line 12"/>
          <p:cNvSpPr/>
          <p:nvPr/>
        </p:nvSpPr>
        <p:spPr>
          <a:xfrm flipV="1">
            <a:off x="4114800" y="3200040"/>
            <a:ext cx="175248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Text Box 13"/>
          <p:cNvSpPr/>
          <p:nvPr/>
        </p:nvSpPr>
        <p:spPr>
          <a:xfrm rot="19449600">
            <a:off x="3734280" y="281916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creasing gra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6095880" y="22860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gional Metamorphis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4495680" y="1600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bduction Zon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5257800" y="3733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untain bel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4"/>
          <p:cNvSpPr/>
          <p:nvPr/>
        </p:nvSpPr>
        <p:spPr>
          <a:xfrm>
            <a:off x="1371960" y="6095880"/>
            <a:ext cx="56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ck, contact, regional, and buria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26" name="Picture 5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6"/>
          <p:cNvSpPr/>
          <p:nvPr/>
        </p:nvSpPr>
        <p:spPr>
          <a:xfrm>
            <a:off x="2209680" y="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 metamorphis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3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Rectangle 8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5" name="Rectangle 9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Rectangle 10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7" name="Rectangle 11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8" name="Rectangle 12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Line 13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Line 14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1" name="Line 15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2" name="Rectangle 16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Line 17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Oval 18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0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1" name="Rectangle 8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Rectangle 9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Rectangle 11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Rectangle 12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Line 13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Line 14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8" name="Line 15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Line 17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1" name="Oval 18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2" name="AutoShape 19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3" name="Rectangle 20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4" name="Line 21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5" name="Oval 22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c1eeff"/>
                </a:solidFill>
                <a:latin typeface="Consolas"/>
                <a:ea typeface="Tahoma"/>
              </a:rPr>
              <a:t>          </a:t>
            </a:r>
            <a:r>
              <a:rPr b="0" lang="en-US" sz="2500" spc="-1" strike="noStrike">
                <a:solidFill>
                  <a:srgbClr val="c1eeff"/>
                </a:solidFill>
                <a:latin typeface="Consolas"/>
              </a:rPr>
              <a:t>Concept of metamorphic rocks</a:t>
            </a:r>
            <a:br>
              <a:rPr sz="2500"/>
            </a:br>
            <a:endParaRPr b="0" lang="en-US" sz="25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85440" y="12949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ETAMORPHIC ROCK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ntrols on metamorphism by: P,T, fluid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sother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Geothermal gradi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nfining pressu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irected pressu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gional metamorphis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ntact metamorphis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High-P metamorphis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urial or low-grade metamorphis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liated textu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rystal Growth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essure-Temperature Paths (pro-grade and retrograde metamorphism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1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Rectangle 8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3" name="Rectangle 9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Rectangle 10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Rectangle 11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6" name="Rectangle 12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7" name="Line 13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Line 14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9" name="Line 15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Rectangle 16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Line 17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2" name="Oval 18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3" name="AutoShape 19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Rectangle 20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Line 21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6" name="Oval 22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7" name="Rectangle 23"/>
          <p:cNvSpPr/>
          <p:nvPr/>
        </p:nvSpPr>
        <p:spPr>
          <a:xfrm>
            <a:off x="5197320" y="13644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igh-pressur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Line 24"/>
          <p:cNvSpPr/>
          <p:nvPr/>
        </p:nvSpPr>
        <p:spPr>
          <a:xfrm flipH="1" flipV="1">
            <a:off x="6091200" y="1030320"/>
            <a:ext cx="1666800" cy="162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Oval 25"/>
          <p:cNvSpPr/>
          <p:nvPr/>
        </p:nvSpPr>
        <p:spPr>
          <a:xfrm>
            <a:off x="7713720" y="261288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Rectangle 8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7" name="Rectangle 9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8" name="Rectangle 10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9" name="Rectangle 11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Rectangle 12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1" name="Line 13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2" name="Line 14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3" name="Line 15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4" name="Rectangle 16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5" name="Line 17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6" name="Oval 18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7" name="AutoShape 19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8" name="Rectangle 20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9" name="Line 21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0" name="Oval 22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1" name="Rectangle 23"/>
          <p:cNvSpPr/>
          <p:nvPr/>
        </p:nvSpPr>
        <p:spPr>
          <a:xfrm>
            <a:off x="5197320" y="13644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igh-pressur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2" name="Line 24"/>
          <p:cNvSpPr/>
          <p:nvPr/>
        </p:nvSpPr>
        <p:spPr>
          <a:xfrm flipH="1" flipV="1">
            <a:off x="6091200" y="1030320"/>
            <a:ext cx="1666800" cy="162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3" name="Oval 25"/>
          <p:cNvSpPr/>
          <p:nvPr/>
        </p:nvSpPr>
        <p:spPr>
          <a:xfrm>
            <a:off x="7713720" y="261288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4" name="Rectangle 26"/>
          <p:cNvSpPr/>
          <p:nvPr/>
        </p:nvSpPr>
        <p:spPr>
          <a:xfrm>
            <a:off x="6683400" y="1054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ac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5" name="Line 27"/>
          <p:cNvSpPr/>
          <p:nvPr/>
        </p:nvSpPr>
        <p:spPr>
          <a:xfrm flipH="1" flipV="1">
            <a:off x="7661160" y="1646280"/>
            <a:ext cx="333360" cy="820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6" name="Oval 28"/>
          <p:cNvSpPr/>
          <p:nvPr/>
        </p:nvSpPr>
        <p:spPr>
          <a:xfrm>
            <a:off x="7940520" y="2432160"/>
            <a:ext cx="9216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2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3" name="Rectangle 8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4" name="Rectangle 9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5" name="Rectangle 10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6" name="Rectangle 11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7" name="Line 12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8" name="Line 13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9" name="Line 14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0" name="Rectangle 15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1" name="Line 16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2" name="Oval 17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3" name="AutoShape 18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4" name="Rectangle 19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5" name="Line 20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6" name="Oval 21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7" name="Rectangle 22"/>
          <p:cNvSpPr/>
          <p:nvPr/>
        </p:nvSpPr>
        <p:spPr>
          <a:xfrm>
            <a:off x="5197320" y="13644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igh-pressur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Line 23"/>
          <p:cNvSpPr/>
          <p:nvPr/>
        </p:nvSpPr>
        <p:spPr>
          <a:xfrm flipH="1" flipV="1">
            <a:off x="6091200" y="1030320"/>
            <a:ext cx="1666800" cy="162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9" name="Oval 24"/>
          <p:cNvSpPr/>
          <p:nvPr/>
        </p:nvSpPr>
        <p:spPr>
          <a:xfrm>
            <a:off x="7713720" y="261288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0" name="Rectangle 25"/>
          <p:cNvSpPr/>
          <p:nvPr/>
        </p:nvSpPr>
        <p:spPr>
          <a:xfrm>
            <a:off x="6683400" y="1054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ac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1" name="Line 26"/>
          <p:cNvSpPr/>
          <p:nvPr/>
        </p:nvSpPr>
        <p:spPr>
          <a:xfrm flipH="1" flipV="1">
            <a:off x="7661160" y="1646280"/>
            <a:ext cx="333360" cy="820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2" name="Oval 27"/>
          <p:cNvSpPr/>
          <p:nvPr/>
        </p:nvSpPr>
        <p:spPr>
          <a:xfrm>
            <a:off x="7940520" y="2432160"/>
            <a:ext cx="9216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3" name="Rectangle 28"/>
          <p:cNvSpPr/>
          <p:nvPr/>
        </p:nvSpPr>
        <p:spPr>
          <a:xfrm>
            <a:off x="1932120" y="5788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uri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4" name="Line 29"/>
          <p:cNvSpPr/>
          <p:nvPr/>
        </p:nvSpPr>
        <p:spPr>
          <a:xfrm flipH="1" flipV="1">
            <a:off x="2195640" y="3578400"/>
            <a:ext cx="333360" cy="2201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5" name="Oval 30"/>
          <p:cNvSpPr/>
          <p:nvPr/>
        </p:nvSpPr>
        <p:spPr>
          <a:xfrm>
            <a:off x="2151000" y="3540240"/>
            <a:ext cx="9216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108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6" name="Rectangle 31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303120" y="712800"/>
            <a:ext cx="8535960" cy="543240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3"/>
          <p:cNvSpPr/>
          <p:nvPr/>
        </p:nvSpPr>
        <p:spPr>
          <a:xfrm>
            <a:off x="178920" y="2317680"/>
            <a:ext cx="68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Depth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k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509040" y="2678040"/>
            <a:ext cx="267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411480" y="306720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3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411480" y="3559320"/>
            <a:ext cx="354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2" name="Rectangle 7"/>
          <p:cNvSpPr/>
          <p:nvPr/>
        </p:nvSpPr>
        <p:spPr>
          <a:xfrm rot="1385400">
            <a:off x="986400" y="4173480"/>
            <a:ext cx="1334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Asthen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3" name="Rectangle 8"/>
          <p:cNvSpPr/>
          <p:nvPr/>
        </p:nvSpPr>
        <p:spPr>
          <a:xfrm rot="1122000">
            <a:off x="706320" y="3095640"/>
            <a:ext cx="150948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4" name="Rectangle 9"/>
          <p:cNvSpPr/>
          <p:nvPr/>
        </p:nvSpPr>
        <p:spPr>
          <a:xfrm>
            <a:off x="4047480" y="2244600"/>
            <a:ext cx="1358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Regional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metamorphi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5" name="Rectangle 10"/>
          <p:cNvSpPr/>
          <p:nvPr/>
        </p:nvSpPr>
        <p:spPr>
          <a:xfrm>
            <a:off x="6028560" y="2320920"/>
            <a:ext cx="787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crus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6" name="Rectangle 11"/>
          <p:cNvSpPr/>
          <p:nvPr/>
        </p:nvSpPr>
        <p:spPr>
          <a:xfrm>
            <a:off x="6500880" y="3478320"/>
            <a:ext cx="1056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Ocean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Line 12"/>
          <p:cNvSpPr/>
          <p:nvPr/>
        </p:nvSpPr>
        <p:spPr>
          <a:xfrm flipV="1">
            <a:off x="4152960" y="2626920"/>
            <a:ext cx="243000" cy="48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8" name="Line 13"/>
          <p:cNvSpPr/>
          <p:nvPr/>
        </p:nvSpPr>
        <p:spPr>
          <a:xfrm flipV="1">
            <a:off x="6818400" y="2890440"/>
            <a:ext cx="233280" cy="62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9" name="Line 14"/>
          <p:cNvSpPr/>
          <p:nvPr/>
        </p:nvSpPr>
        <p:spPr>
          <a:xfrm flipH="1" flipV="1">
            <a:off x="6620040" y="2579400"/>
            <a:ext cx="249120" cy="196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193680" y="2667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Line 16"/>
          <p:cNvSpPr/>
          <p:nvPr/>
        </p:nvSpPr>
        <p:spPr>
          <a:xfrm flipH="1" flipV="1">
            <a:off x="966960" y="891720"/>
            <a:ext cx="720720" cy="150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2" name="Oval 17"/>
          <p:cNvSpPr/>
          <p:nvPr/>
        </p:nvSpPr>
        <p:spPr>
          <a:xfrm>
            <a:off x="1654200" y="235260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3" name="AutoShape 18"/>
          <p:cNvSpPr/>
          <p:nvPr/>
        </p:nvSpPr>
        <p:spPr>
          <a:xfrm>
            <a:off x="3308400" y="3086280"/>
            <a:ext cx="176040" cy="880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22680 h 880920"/>
              <a:gd name="textAreaBottom" fmla="*/ 858240 h 88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4" name="Rectangle 19"/>
          <p:cNvSpPr/>
          <p:nvPr/>
        </p:nvSpPr>
        <p:spPr>
          <a:xfrm>
            <a:off x="2550960" y="262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5" name="Line 20"/>
          <p:cNvSpPr/>
          <p:nvPr/>
        </p:nvSpPr>
        <p:spPr>
          <a:xfrm flipV="1">
            <a:off x="3238560" y="887040"/>
            <a:ext cx="85680" cy="2637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6" name="Oval 21"/>
          <p:cNvSpPr/>
          <p:nvPr/>
        </p:nvSpPr>
        <p:spPr>
          <a:xfrm>
            <a:off x="3187800" y="3470400"/>
            <a:ext cx="9180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7" name="Rectangle 22"/>
          <p:cNvSpPr/>
          <p:nvPr/>
        </p:nvSpPr>
        <p:spPr>
          <a:xfrm>
            <a:off x="5197320" y="136440"/>
            <a:ext cx="20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giona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igh-pressur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8" name="Line 23"/>
          <p:cNvSpPr/>
          <p:nvPr/>
        </p:nvSpPr>
        <p:spPr>
          <a:xfrm flipH="1" flipV="1">
            <a:off x="6091200" y="1030320"/>
            <a:ext cx="1666800" cy="162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9" name="Oval 24"/>
          <p:cNvSpPr/>
          <p:nvPr/>
        </p:nvSpPr>
        <p:spPr>
          <a:xfrm>
            <a:off x="7713720" y="261288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Rectangle 25"/>
          <p:cNvSpPr/>
          <p:nvPr/>
        </p:nvSpPr>
        <p:spPr>
          <a:xfrm>
            <a:off x="6683400" y="105408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ac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1" name="Line 26"/>
          <p:cNvSpPr/>
          <p:nvPr/>
        </p:nvSpPr>
        <p:spPr>
          <a:xfrm flipH="1" flipV="1">
            <a:off x="7661160" y="1646280"/>
            <a:ext cx="333360" cy="820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2" name="Oval 27"/>
          <p:cNvSpPr/>
          <p:nvPr/>
        </p:nvSpPr>
        <p:spPr>
          <a:xfrm>
            <a:off x="7940520" y="2432160"/>
            <a:ext cx="9216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3" name="Oval 30"/>
          <p:cNvSpPr/>
          <p:nvPr/>
        </p:nvSpPr>
        <p:spPr>
          <a:xfrm>
            <a:off x="2151000" y="3540240"/>
            <a:ext cx="92160" cy="9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108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4" name="Rectangle 31"/>
          <p:cNvSpPr/>
          <p:nvPr/>
        </p:nvSpPr>
        <p:spPr>
          <a:xfrm rot="1191600">
            <a:off x="760320" y="3614760"/>
            <a:ext cx="2581200" cy="2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Continental mantle lith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5" name="Rectangle 32"/>
          <p:cNvSpPr/>
          <p:nvPr/>
        </p:nvSpPr>
        <p:spPr>
          <a:xfrm>
            <a:off x="5783400" y="4910040"/>
            <a:ext cx="644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6" name="Line 33"/>
          <p:cNvSpPr/>
          <p:nvPr/>
        </p:nvSpPr>
        <p:spPr>
          <a:xfrm flipH="1" flipV="1">
            <a:off x="5601960" y="5167080"/>
            <a:ext cx="1103400" cy="190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7" name="Oval 34"/>
          <p:cNvSpPr/>
          <p:nvPr/>
        </p:nvSpPr>
        <p:spPr>
          <a:xfrm>
            <a:off x="5575320" y="5138640"/>
            <a:ext cx="92160" cy="9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2600" dir="108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8" name="Rectangle 35"/>
          <p:cNvSpPr/>
          <p:nvPr/>
        </p:nvSpPr>
        <p:spPr>
          <a:xfrm>
            <a:off x="6640560" y="524196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afloo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tamorphism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Textures to distinguish metamorphic rocks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809640" y="379440"/>
            <a:ext cx="75247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2706840" y="379440"/>
            <a:ext cx="37303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1635120" y="379440"/>
            <a:ext cx="58723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"/>
          <p:cNvPicPr/>
          <p:nvPr/>
        </p:nvPicPr>
        <p:blipFill>
          <a:blip r:embed="rId1"/>
          <a:stretch/>
        </p:blipFill>
        <p:spPr>
          <a:xfrm>
            <a:off x="1379520" y="379440"/>
            <a:ext cx="63835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1135080" y="379440"/>
            <a:ext cx="68724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1273320" y="379440"/>
            <a:ext cx="659736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1295280" y="11430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Factors that control the type and and degree Metamorphism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3048120" y="2971800"/>
            <a:ext cx="19047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essu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luid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1295280" y="914400"/>
            <a:ext cx="6858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mperature increases with depth A typical continental geothermal gradient is 30 degrees C per kilomet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Where is the 1300 degree isother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ld lithosphere - 150 k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w lithosphere (Divergent) - 30 k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lcanic regions (Convergent)- 50 k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090440" y="379440"/>
            <a:ext cx="6963120" cy="609768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3"/>
          <p:cNvSpPr/>
          <p:nvPr/>
        </p:nvSpPr>
        <p:spPr>
          <a:xfrm>
            <a:off x="6019920" y="5638680"/>
            <a:ext cx="228600" cy="228600"/>
          </a:xfrm>
          <a:prstGeom prst="rect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303120" y="1087560"/>
            <a:ext cx="853596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858960" y="379440"/>
            <a:ext cx="74260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909720" y="379440"/>
            <a:ext cx="73231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1:08:46Z</dcterms:created>
  <dc:creator>t w</dc:creator>
  <dc:description/>
  <dc:language>en-US</dc:language>
  <cp:lastModifiedBy>ksu</cp:lastModifiedBy>
  <dcterms:modified xsi:type="dcterms:W3CDTF">2011-11-01T02:01:33Z</dcterms:modified>
  <cp:revision>65</cp:revision>
  <dc:subject/>
  <dc:title>PowerPoint Presentation</dc:title>
</cp:coreProperties>
</file>