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7114-FBDC-4795-8667-B94086C68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76A5-BDB3-42A0-8861-B40631B1A0BF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F37D-BDA0-4694-8D9F-808C68FF4143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31A3-C906-46F7-A04D-3241A651743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EB9E-9725-4E04-807B-CF6D24CEBCA7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6FE1-4DE6-403C-B1D8-070D8266F00B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8B54-C5DA-4A42-AAE4-93CF8DE57359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381-68BA-41DB-808A-4A93E74F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20F-28AD-4CC9-9489-677D460C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2E6-A8B8-4D03-BEC2-F359A3BD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25A-B142-4EED-9379-BFD77DF7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E9CF-7B33-45D9-8EB5-B9F55527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C132-F0FD-4EA2-89EC-F0307221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AD20-0115-41FC-8CA5-E0DED842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48E0-E3DA-4FD2-B0C9-29A3E70C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7299-F275-4661-9ECA-A1E7E201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05EC-D901-4525-8034-EFE4D4E1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DD29-04B0-49CA-B3A5-142624BB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0A5C-DF9D-418A-A725-9486509E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C511-A3AA-466A-9119-BB6403DE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D6A7-5C8B-44F8-A917-3E898160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31B0-6419-44EA-8B95-D010DE5A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26B9-0819-4F43-9DFB-4A1288CB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13AC-249D-4D1F-8F06-BC75C0A3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61134-308C-4A24-A41C-5C5170F5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6C8F4-9FAE-4AEC-B90F-5CDA1905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10C1D-5C2B-4D58-9731-467120E6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218D1-F27E-43F5-B6F8-EB26E7B0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78142-67FC-4E32-B80C-ABC89419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DAF2-CAB6-42F4-8EB8-B27AEE10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8ABD4-7E91-4D1A-B40D-E327565A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18E3A-E4FB-4EBD-A7EC-6C73838A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BF8A8-2F8E-4926-ABD4-6E241EE8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C15C8-6D9F-431F-8065-49B77761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3AF56-BFD2-4380-881D-3243F8FA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D9225-82A5-48C0-B376-5439BC69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D7059-38F8-43E5-A5F5-F3F56E34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BC6C4-181D-405B-ABDD-EE214A3F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97329-9303-4B2A-A2A8-C3F95CC9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946B5-28CA-4388-931F-4614E59B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72D-EE13-4797-ACC9-2D073ECD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CDC3E-DCF7-4D97-8BF1-14418D04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B9EB1-B93C-4D10-B210-9788782D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EC679-A70C-4DCA-AA0C-FC95BFD6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75672-53C5-47DE-9782-2BC195E5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EAB05-8226-46BB-9771-F0DA0978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ABD6E-74D8-4A7B-BE04-05A1F893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BCC76-91ED-4B08-83C3-741BD286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F02AF-3914-41BD-857D-89CF2296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E5230-D915-4B25-9055-56369F12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1B662-1CBF-4677-ABB6-4CC6DB60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19B4-4482-4499-A94D-0B012D22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9361C-2313-47CC-AE06-CFF6CF28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02569-572C-4204-8E0F-A50C0DCA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3E812-CA57-4B2C-9206-AA4BB721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70F20-64E6-4489-9418-8A752A98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3D62E-7C65-46E7-A509-7FDD0688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30ACF-A65A-42D2-B57A-AA961A2E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FE0DC-1A9F-41B0-8DDA-D859D461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C0D8C-DE0C-4E60-826C-6162E78F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ABDB1-E1EB-41FA-BBC5-F9248BE5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E1FA6-7ABE-49C1-9187-B4C54051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D8D-F81D-40C8-8F8C-20A4A6AC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493EB-606B-4605-BBAA-FACA1B47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05761-99CA-4504-A843-8C075826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6863F-70FA-45B7-A806-51CAF045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48820-1827-49FC-B6A9-5A9775C9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C1453-C0E1-47B8-8E6E-D653ACE7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CBACA-F1E2-4F05-81F3-4961926D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037F9-DC6A-4DCC-8996-9F5EF4ED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9D5FB-573B-4B43-9C8B-20F810D5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A9592-048A-4AC0-B1D4-10D098B4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A2092-88FD-4F22-B17A-422EC5CC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EE9-1033-45E6-AA23-7255C94A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009E8-A21E-4ABE-B95C-4F2337CC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1F471-BE0D-4BFA-AD4E-C861A6FB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8B766-10FD-4FFF-97BE-7E835E6B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39DA1-B32B-4E10-91B1-2CF099FD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515AC-C76C-4F51-AC1D-B9DA0468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FCB20-4535-4702-8092-6C67F463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82DAE-E1DD-43E7-B3F4-77911A47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A8F9B-1033-4289-9D1C-138631CA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CF52F-9A62-485E-B784-0BD2C297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E1D5A-AC7A-4BDB-8057-07EC4DB5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90E-328D-4C3A-8B47-9B44CF26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D3971-B2DD-47FB-9C3D-68E23983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14F18-ABF6-4194-AA5C-1AF028E2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6DA5C-FDDA-476B-9B06-D43CFCF6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FFFA8-407E-4C14-951C-8C79EBE5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0D57E-3B74-4148-9792-6F239A0E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B61-2B5A-4064-BD9E-2B27A2EC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CE70-401A-49C2-8166-D3DAA19E279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2B1D-C901-4848-BFD6-526E767DE6C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8119-3231-4AD5-A3E7-074485CB869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7566-21B5-42D2-82AB-EF2E96325CC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F331-AA8C-4E0E-AFD3-165F747E600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E788-25F7-46CF-8B7C-7C7E127A10E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561B-CBD8-4CB8-805C-9FC36C46E05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533520" y="11430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d6ecff"/>
                </a:solidFill>
                <a:latin typeface="Comic Sans MS"/>
              </a:rPr>
              <a:t>Concept of 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1295280" y="2666880"/>
            <a:ext cx="6400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tamorphic Rocks and metamorphis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1050840" y="379440"/>
            <a:ext cx="7042320" cy="609768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3"/>
          <p:cNvSpPr/>
          <p:nvPr/>
        </p:nvSpPr>
        <p:spPr>
          <a:xfrm>
            <a:off x="2971800" y="4419720"/>
            <a:ext cx="685800" cy="457200"/>
          </a:xfrm>
          <a:prstGeom prst="rect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157a"/>
                </a:solidFill>
                <a:latin typeface="Comic Sans MS"/>
              </a:rPr>
              <a:t>15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52388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fining Press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1752480" y="1371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fining pressure is the same in all directions (incl. 3rd dimensio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3581280" y="2514600"/>
            <a:ext cx="76320" cy="685800"/>
          </a:xfrm>
          <a:prstGeom prst="downArrow">
            <a:avLst>
              <a:gd name="adj1" fmla="val 50000"/>
              <a:gd name="adj2" fmla="val 224646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3581280" y="3429000"/>
            <a:ext cx="76320" cy="83808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3657600" y="3276720"/>
            <a:ext cx="914400" cy="75960"/>
          </a:xfrm>
          <a:prstGeom prst="leftArrow">
            <a:avLst>
              <a:gd name="adj1" fmla="val 50000"/>
              <a:gd name="adj2" fmla="val 300948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2743200" y="3276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1613160" y="5029200"/>
            <a:ext cx="747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fining pressure implies that there is little mor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one direction that in the other direct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4724280" y="2438280"/>
            <a:ext cx="3657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water, that 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e ton per m2 each meter of dept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m ~ 1 atm or 10 tons of press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152388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rected Press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1752480" y="1371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one pressure is greater than the other three (incl. 3rd dimensio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3581280" y="2514600"/>
            <a:ext cx="76320" cy="685800"/>
          </a:xfrm>
          <a:prstGeom prst="downArrow">
            <a:avLst>
              <a:gd name="adj1" fmla="val 50000"/>
              <a:gd name="adj2" fmla="val 224646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1" name="AutoShape 5"/>
          <p:cNvSpPr/>
          <p:nvPr/>
        </p:nvSpPr>
        <p:spPr>
          <a:xfrm>
            <a:off x="3581280" y="3429000"/>
            <a:ext cx="76320" cy="83808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3657600" y="32767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3276720" y="3276720"/>
            <a:ext cx="304560" cy="75960"/>
          </a:xfrm>
          <a:prstGeom prst="rightArrow">
            <a:avLst>
              <a:gd name="adj1" fmla="val 50000"/>
              <a:gd name="adj2" fmla="val 100237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Line 10"/>
          <p:cNvSpPr/>
          <p:nvPr/>
        </p:nvSpPr>
        <p:spPr>
          <a:xfrm>
            <a:off x="2971800" y="2438280"/>
            <a:ext cx="205740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Line 11"/>
          <p:cNvSpPr/>
          <p:nvPr/>
        </p:nvSpPr>
        <p:spPr>
          <a:xfrm>
            <a:off x="4495680" y="4191120"/>
            <a:ext cx="60984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6" name="Line 12"/>
          <p:cNvSpPr/>
          <p:nvPr/>
        </p:nvSpPr>
        <p:spPr>
          <a:xfrm flipH="1" flipV="1">
            <a:off x="4114440" y="4495320"/>
            <a:ext cx="6094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4876920" y="281952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irected pressure is great enough rocks can break and/or fol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523880" y="10666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luid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1447920" y="2514600"/>
            <a:ext cx="64767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celerate chemical re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solve ions and move them from one mineral to anoth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 change in rock composition by fluid transport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metasomatis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303120" y="471600"/>
            <a:ext cx="85359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806400" y="379440"/>
            <a:ext cx="75294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AutoShape 2"/>
          <p:cNvSpPr/>
          <p:nvPr/>
        </p:nvSpPr>
        <p:spPr>
          <a:xfrm>
            <a:off x="1295280" y="914400"/>
            <a:ext cx="5410440" cy="5105520"/>
          </a:xfrm>
          <a:prstGeom prst="triangle">
            <a:avLst>
              <a:gd name="adj" fmla="val 4947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3581280" y="457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6781680" y="59436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mperat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0" y="579132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lui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tasomatism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5105520" y="457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(Impact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6781680" y="5486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ont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2971800" y="3733920"/>
            <a:ext cx="1600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Buri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low-P, low-T)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low-gr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0" y="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TYPES OF METAMORPHIS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Line 12"/>
          <p:cNvSpPr/>
          <p:nvPr/>
        </p:nvSpPr>
        <p:spPr>
          <a:xfrm flipV="1">
            <a:off x="4114800" y="3200040"/>
            <a:ext cx="175248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Text Box 13"/>
          <p:cNvSpPr/>
          <p:nvPr/>
        </p:nvSpPr>
        <p:spPr>
          <a:xfrm rot="19449600">
            <a:off x="3734280" y="281916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creasing gr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6095880" y="22860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gional Metamorphis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4495680" y="1600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bduction Zo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5257800" y="3733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untain bel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4"/>
          <p:cNvSpPr/>
          <p:nvPr/>
        </p:nvSpPr>
        <p:spPr>
          <a:xfrm>
            <a:off x="1371960" y="6095880"/>
            <a:ext cx="56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ck, contact, regional, and buria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6"/>
          <p:cNvSpPr/>
          <p:nvPr/>
        </p:nvSpPr>
        <p:spPr>
          <a:xfrm>
            <a:off x="220968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metamorphis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5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7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8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2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0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1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3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5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c1eeff"/>
                </a:solidFill>
                <a:latin typeface="Consolas"/>
                <a:ea typeface="Tahoma"/>
              </a:rPr>
              <a:t>          </a:t>
            </a:r>
            <a:r>
              <a:rPr b="0" lang="en-US" sz="2500" spc="-1" strike="noStrike">
                <a:solidFill>
                  <a:srgbClr val="c1eeff"/>
                </a:solidFill>
                <a:latin typeface="Consolas"/>
              </a:rPr>
              <a:t>Concept of metamorphic rocks</a:t>
            </a:r>
            <a:br>
              <a:rPr sz="2500"/>
            </a:br>
            <a:endParaRPr b="0" lang="en-US" sz="25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44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ETAMORPHIC ROCK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ntrols on metamorphism by: P,T, fluid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sother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Geothermal gradi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nfining pressu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irected pressu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gional metamorph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ntact metamorph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igh-P metamorph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urial or low-grade metamorph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liated textu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rystal Growt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essure-Temperature Paths (pro-grade and retrograde metamorphism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2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3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6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7" name="Rectangle 23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Line 24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Oval 25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8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9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5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7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8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9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0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1" name="Rectangle 23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2" name="Line 24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3" name="Oval 25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Rectangle 26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5" name="Line 27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2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3" name="Rectangle 8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4" name="Rectangle 9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Rectangle 10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6" name="Rectangle 11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7" name="Line 12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8" name="Line 13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9" name="Line 14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0" name="Rectangle 15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1" name="Line 16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2" name="Oval 17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3" name="AutoShape 18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Rectangle 19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Line 20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6" name="Oval 21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7" name="Rectangle 22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Line 23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9" name="Oval 24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0" name="Rectangle 25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1" name="Line 26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2" name="Oval 27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Rectangle 28"/>
          <p:cNvSpPr/>
          <p:nvPr/>
        </p:nvSpPr>
        <p:spPr>
          <a:xfrm>
            <a:off x="1932120" y="5788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uri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4" name="Line 29"/>
          <p:cNvSpPr/>
          <p:nvPr/>
        </p:nvSpPr>
        <p:spPr>
          <a:xfrm flipH="1" flipV="1">
            <a:off x="2195640" y="3578400"/>
            <a:ext cx="333360" cy="220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5" name="Oval 30"/>
          <p:cNvSpPr/>
          <p:nvPr/>
        </p:nvSpPr>
        <p:spPr>
          <a:xfrm>
            <a:off x="2151000" y="3540240"/>
            <a:ext cx="9216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108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6" name="Rectangle 31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2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Rectangle 8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4" name="Rectangle 9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6" name="Rectangle 11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Line 12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Line 13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9" name="Line 14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Line 16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Oval 17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AutoShape 18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Line 20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6" name="Oval 21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7" name="Rectangle 22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Line 23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Oval 24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Rectangle 25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1" name="Line 26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2" name="Oval 27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Oval 30"/>
          <p:cNvSpPr/>
          <p:nvPr/>
        </p:nvSpPr>
        <p:spPr>
          <a:xfrm>
            <a:off x="2151000" y="3540240"/>
            <a:ext cx="9216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108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4" name="Rectangle 31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5783400" y="4910040"/>
            <a:ext cx="64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Line 33"/>
          <p:cNvSpPr/>
          <p:nvPr/>
        </p:nvSpPr>
        <p:spPr>
          <a:xfrm flipH="1" flipV="1">
            <a:off x="5601960" y="5167080"/>
            <a:ext cx="1103400" cy="190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Oval 34"/>
          <p:cNvSpPr/>
          <p:nvPr/>
        </p:nvSpPr>
        <p:spPr>
          <a:xfrm>
            <a:off x="5575320" y="513864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108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8" name="Rectangle 35"/>
          <p:cNvSpPr/>
          <p:nvPr/>
        </p:nvSpPr>
        <p:spPr>
          <a:xfrm>
            <a:off x="6640560" y="52419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afloo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Textures to distinguish metamorphic rock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809640" y="379440"/>
            <a:ext cx="7524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2706840" y="379440"/>
            <a:ext cx="37303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1635120" y="379440"/>
            <a:ext cx="58723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1379520" y="379440"/>
            <a:ext cx="63835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1135080" y="379440"/>
            <a:ext cx="68724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1273320" y="379440"/>
            <a:ext cx="65973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1295280" y="1143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actors that control the type and and degree Metamorphis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048120" y="2971800"/>
            <a:ext cx="19047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ssu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luid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1295280" y="914400"/>
            <a:ext cx="6858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mperature increases with depth A typical continental geothermal gradient is 30 degrees C per kilome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Where is the 1300 degree isother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ld lithosphere - 150 k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w lithosphere (Divergent) - 30 k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lcanic regions (Convergent)- 50 k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090440" y="379440"/>
            <a:ext cx="6963120" cy="609768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3"/>
          <p:cNvSpPr/>
          <p:nvPr/>
        </p:nvSpPr>
        <p:spPr>
          <a:xfrm>
            <a:off x="6019920" y="5638680"/>
            <a:ext cx="228600" cy="228600"/>
          </a:xfrm>
          <a:prstGeom prst="rect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303120" y="1087560"/>
            <a:ext cx="853596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858960" y="379440"/>
            <a:ext cx="74260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909720" y="379440"/>
            <a:ext cx="73231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t w</dc:creator>
  <dc:description/>
  <dc:language>en-US</dc:language>
  <cp:lastModifiedBy>ksu</cp:lastModifiedBy>
  <dcterms:modified xsi:type="dcterms:W3CDTF">2011-11-01T02:01:33Z</dcterms:modified>
  <cp:revision>65</cp:revision>
  <dc:subject/>
  <dc:title>PowerPoint Presentation</dc:title>
</cp:coreProperties>
</file>