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356E-0E6A-4AE2-AC08-4928D70F1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4E1D-1D8E-4D9F-B3EE-1CF439E15F21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omic Sans MS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FEF5-13FB-4FC6-869B-FB7D2EF73081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omic Sans MS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6253-2BD0-4C89-B5AE-991CFA0E86E2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omic Sans MS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9358-FEE6-4B7F-AC6A-2294FC952793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omic Sans MS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F9CD-F827-44D7-90D9-94F3FBF9B868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omic Sans MS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AB4D-B2A9-4A3C-B827-BDEE8D5346A1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omic Sans MS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CFD2-4CE0-4D81-8104-CD4FDEB9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040A-D4C1-4611-93FB-84645017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7E50-320B-4634-9985-1EAF59A0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396E-5AA4-4860-A33A-0EBCA407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8794-B533-4B8C-BC8D-1F8A3B0D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C74E-CCFC-4BD5-B624-FDF18712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F54F-DFFC-4F2B-A0CC-A13729CB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9890-034F-4F78-8E7E-691466FF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8E1E-C2FB-4791-9DAA-E38FFDA3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58C1-0460-4384-9EB3-D227069D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1D13-4CD8-41EE-9D8E-5DB8A4E0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F97-C79D-4F35-B4F7-3C7568B7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B455-212A-4083-A7ED-CD58A4BE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32AD-4C60-4E1F-B6AC-E6C88DC4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8DA4-1CCF-419E-A2A1-2AEB285A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F6A7-F16B-4AF2-A54E-704D3900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27A2-7B6C-4D3B-A1F8-0368B310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4C49F-0C95-4168-AA4C-B1DF3733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C3F36-9F30-4525-A049-1D75C39C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2D910-71F4-4AA5-B279-08311C95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71170-1CC6-4DD3-9073-BBCCEDE6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10860-B6B0-480C-A832-82ED6D3C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771E-922D-4D44-BFFF-7D6A9484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877CD-51D7-4D99-BF41-932FEC8C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839EB-FEF3-4BE1-9FEA-7BC59F9E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C29CE-BA11-4B71-9C45-FDCB5A22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1A19B-B4C9-48C0-B07D-E98AC0F2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21A29-91ED-42DD-AC82-153E7F60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CE8E5-E04C-45C4-80C0-73A0775F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4BE5C-8D1E-4BE5-A5F9-607D7800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5ECB6-2BED-440D-AA4E-6333A059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D4F80-0077-43C0-8E9B-DE17EF59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0F2D1-CD43-4F31-8DAC-8568CDB3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A23-C5F7-443C-8C69-4FF6873D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211ED-1760-443A-BD62-A3AB665B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AC244-7023-4544-B431-9C113A33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8977C-EE9E-49CE-9A61-60CEBE43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AD089-DA13-4740-947D-069E4AC1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42708-C718-4678-A8C8-FE9F3DE5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5EC71-0FC5-4E63-BD95-96017D1E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75737-D0C5-4994-8071-FBBAA0CC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9DFA5-AB47-4C7F-851E-187AAC8A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F5032-E91C-4A7D-8FBC-9E10025D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5A0E1-5CC3-4BA9-BA83-0C9B8B1F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73AC-FE3F-47A9-8090-75BCAB4B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B8530-E061-4A33-8D4B-7B18C93F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62793-4737-4A4B-9FA2-2CA31B87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C0A0F-8CB3-4486-8CEA-545CFAD9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C34B7-3AF9-46F1-81D7-C605C13D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A4CB0-1833-485C-AEB9-A032D5A4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D0140-A1F5-4910-A74A-1DE3D2BA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FB86D-208A-4CD2-9AB0-C72329DE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4DBBB-6584-48CD-B863-E20C22E6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A507D-E486-4B8D-9A06-F67E3860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7C909-D4C7-4374-9072-FDA64D6C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6A3E-3BA2-4086-AC6A-93A06A00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A9280-1A38-4E66-865D-FC6E47CC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300B3-ABF8-4A39-B247-92460106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BC7C6-FC27-4017-BDC4-A340C83C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8A60A-02C6-453F-BACC-115ED504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5EF60-BB8B-4A5E-86CA-39641DE6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B559A-CE2F-4EE1-8776-966C651E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75A12-EEBD-4171-BE03-D7956C9C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A7840-434A-452F-A949-97DC0355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F866A-83E6-4971-933D-07F8D246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76B78-740B-421B-B11F-A75E5532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C7B2-5662-4A26-A190-9EA2287A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E71F3-D9C3-4D4E-9505-74469E27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F5AFD-5268-4898-8300-A3D43310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308D5-63EE-436E-88F3-930A8EEC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51F6D-DC0A-4AD8-8D49-5A7797E7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87414-2B18-410B-BD11-2EA6FD64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2DCF9-55C9-4450-8CF6-40C29288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96D79-EFD0-46DF-90D4-B05B3629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BCEA9-B9AE-4297-B6D3-0EF09374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86022-8C33-4E80-AF33-E8D6CD09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A74D5-C59C-41CD-AED6-EBE54F76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4EBB-CF45-4CB7-A788-A41239F1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DFDDF-E569-46DC-AF25-94DF066D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44F03-F82D-4CF0-84BB-20A6E474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7A3B0-827C-4B94-BDAB-A848D075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7C9A2-DEA6-42F0-A488-136EBFEF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6F576-4A08-49AC-87FC-8D7A18BC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BD15-9D85-4030-A07E-F3323EEA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DE40-27D6-4777-AC8E-B90207816D7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3F91-C290-429E-BD01-60C0A2A4640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0783-443C-4E60-8A0E-4EF40A4FCF5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E005-967F-4FE9-ADD8-5EAC1471BC1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F300-1EC3-4D63-B8D8-4A9E08FC0D7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C8BB-69FD-4798-821A-B791FBC82D2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61F0-7F70-4E0B-9A0B-EFD7BBDB4A7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533520" y="11430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d6ecff"/>
                </a:solidFill>
                <a:latin typeface="Comic Sans MS"/>
              </a:rPr>
              <a:t>Concept of 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1295280" y="2666880"/>
            <a:ext cx="6400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tamorphic Rocks and metamorphis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1050840" y="379440"/>
            <a:ext cx="7042320" cy="609768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3"/>
          <p:cNvSpPr/>
          <p:nvPr/>
        </p:nvSpPr>
        <p:spPr>
          <a:xfrm>
            <a:off x="2971800" y="4419720"/>
            <a:ext cx="685800" cy="457200"/>
          </a:xfrm>
          <a:prstGeom prst="rect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157a"/>
                </a:solidFill>
                <a:latin typeface="Comic Sans MS"/>
              </a:rPr>
              <a:t>15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523880" y="533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fining Press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1752480" y="1371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fining pressure is the same in all directions (incl. 3rd dimensio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AutoShape 4"/>
          <p:cNvSpPr/>
          <p:nvPr/>
        </p:nvSpPr>
        <p:spPr>
          <a:xfrm>
            <a:off x="3581280" y="2514600"/>
            <a:ext cx="76320" cy="685800"/>
          </a:xfrm>
          <a:prstGeom prst="downArrow">
            <a:avLst>
              <a:gd name="adj1" fmla="val 50000"/>
              <a:gd name="adj2" fmla="val 224646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3581280" y="3429000"/>
            <a:ext cx="76320" cy="83808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3657600" y="3276720"/>
            <a:ext cx="914400" cy="75960"/>
          </a:xfrm>
          <a:prstGeom prst="leftArrow">
            <a:avLst>
              <a:gd name="adj1" fmla="val 50000"/>
              <a:gd name="adj2" fmla="val 300948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AutoShape 7"/>
          <p:cNvSpPr/>
          <p:nvPr/>
        </p:nvSpPr>
        <p:spPr>
          <a:xfrm>
            <a:off x="2743200" y="3276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1613160" y="5029200"/>
            <a:ext cx="747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fining pressure implies that there is little mor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one direction that in the other direction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4724280" y="2438280"/>
            <a:ext cx="3657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water, that 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ne ton per m2 each meter of dept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m ~ 1 atm or 10 tons of press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1523880" y="533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rected Press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1752480" y="1371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one pressure is greater than the other three (incl. 3rd dimensio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0" name="AutoShape 4"/>
          <p:cNvSpPr/>
          <p:nvPr/>
        </p:nvSpPr>
        <p:spPr>
          <a:xfrm>
            <a:off x="3581280" y="2514600"/>
            <a:ext cx="76320" cy="685800"/>
          </a:xfrm>
          <a:prstGeom prst="downArrow">
            <a:avLst>
              <a:gd name="adj1" fmla="val 50000"/>
              <a:gd name="adj2" fmla="val 224646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1" name="AutoShape 5"/>
          <p:cNvSpPr/>
          <p:nvPr/>
        </p:nvSpPr>
        <p:spPr>
          <a:xfrm>
            <a:off x="3581280" y="3429000"/>
            <a:ext cx="76320" cy="83808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3657600" y="32767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3276720" y="3276720"/>
            <a:ext cx="304560" cy="75960"/>
          </a:xfrm>
          <a:prstGeom prst="rightArrow">
            <a:avLst>
              <a:gd name="adj1" fmla="val 50000"/>
              <a:gd name="adj2" fmla="val 100237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Line 10"/>
          <p:cNvSpPr/>
          <p:nvPr/>
        </p:nvSpPr>
        <p:spPr>
          <a:xfrm>
            <a:off x="2971800" y="2438280"/>
            <a:ext cx="205740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5" name="Line 11"/>
          <p:cNvSpPr/>
          <p:nvPr/>
        </p:nvSpPr>
        <p:spPr>
          <a:xfrm>
            <a:off x="4495680" y="4191120"/>
            <a:ext cx="60984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6" name="Line 12"/>
          <p:cNvSpPr/>
          <p:nvPr/>
        </p:nvSpPr>
        <p:spPr>
          <a:xfrm flipH="1" flipV="1">
            <a:off x="4114440" y="4495320"/>
            <a:ext cx="6094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4876920" y="281952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irected pressure is great enough rocks can break and/or fol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523880" y="10666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luids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1447920" y="2514600"/>
            <a:ext cx="64767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ccelerate chemical reac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ssolve ions and move them from one mineral to anoth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 change in rock composition by fluid transport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metasomatis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303120" y="471600"/>
            <a:ext cx="85359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806400" y="379440"/>
            <a:ext cx="75294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AutoShape 2"/>
          <p:cNvSpPr/>
          <p:nvPr/>
        </p:nvSpPr>
        <p:spPr>
          <a:xfrm>
            <a:off x="1295280" y="914400"/>
            <a:ext cx="5410440" cy="5105520"/>
          </a:xfrm>
          <a:prstGeom prst="triangle">
            <a:avLst>
              <a:gd name="adj" fmla="val 4947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3581280" y="457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ess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6781680" y="59436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mperat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0" y="579132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lui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tasomatism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5105520" y="457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(Impact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6781680" y="5486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ontac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2971800" y="3733920"/>
            <a:ext cx="1600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Buri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low-P, low-T)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low-gra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0" y="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TYPES OF METAMORPHIS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0" name="Line 12"/>
          <p:cNvSpPr/>
          <p:nvPr/>
        </p:nvSpPr>
        <p:spPr>
          <a:xfrm flipV="1">
            <a:off x="4114800" y="3200040"/>
            <a:ext cx="175248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Text Box 13"/>
          <p:cNvSpPr/>
          <p:nvPr/>
        </p:nvSpPr>
        <p:spPr>
          <a:xfrm rot="19449600">
            <a:off x="3734280" y="281916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creasing gra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6095880" y="22860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gional Metamorphis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4495680" y="1600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bduction Zon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5257800" y="3733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untain bel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4"/>
          <p:cNvSpPr/>
          <p:nvPr/>
        </p:nvSpPr>
        <p:spPr>
          <a:xfrm>
            <a:off x="1371960" y="6095880"/>
            <a:ext cx="56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ck, contact, regional, and buria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26" name="Picture 5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6"/>
          <p:cNvSpPr/>
          <p:nvPr/>
        </p:nvSpPr>
        <p:spPr>
          <a:xfrm>
            <a:off x="2209680" y="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metamorphis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5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7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8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1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2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0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1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AutoShape 19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3" name="Rectangle 20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Line 21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5" name="Oval 22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c1eeff"/>
                </a:solidFill>
                <a:latin typeface="Consolas"/>
                <a:ea typeface="Tahoma"/>
              </a:rPr>
              <a:t>          </a:t>
            </a:r>
            <a:r>
              <a:rPr b="0" lang="en-US" sz="2500" spc="-1" strike="noStrike">
                <a:solidFill>
                  <a:srgbClr val="c1eeff"/>
                </a:solidFill>
                <a:latin typeface="Consolas"/>
              </a:rPr>
              <a:t>Concept of metamorphic rocks</a:t>
            </a:r>
            <a:br>
              <a:rPr sz="2500"/>
            </a:br>
            <a:endParaRPr b="0" lang="en-US" sz="25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5440" y="12949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ETAMORPHIC ROCK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ntrols on metamorphism by: P,T, fluid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sother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Geothermal gradi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nfining pressu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irected pressu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gional metamorphis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ntact metamorphis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High-P metamorphis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urial or low-grade metamorphis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liated textu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rystal Growt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essure-Temperature Paths (pro-grade and retrograde metamorphism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1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6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2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3" name="AutoShape 19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Rectangle 20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Line 21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6" name="Oval 22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7" name="Rectangle 23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Line 24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Oval 25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8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9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3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4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5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6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7" name="AutoShape 19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8" name="Rectangle 20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9" name="Line 21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0" name="Oval 22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1" name="Rectangle 23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2" name="Line 24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3" name="Oval 25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4" name="Rectangle 26"/>
          <p:cNvSpPr/>
          <p:nvPr/>
        </p:nvSpPr>
        <p:spPr>
          <a:xfrm>
            <a:off x="6683400" y="1054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ac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5" name="Line 27"/>
          <p:cNvSpPr/>
          <p:nvPr/>
        </p:nvSpPr>
        <p:spPr>
          <a:xfrm flipH="1" flipV="1">
            <a:off x="7661160" y="1646280"/>
            <a:ext cx="333360" cy="820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7940520" y="2432160"/>
            <a:ext cx="9216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2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3" name="Rectangle 8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4" name="Rectangle 9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5" name="Rectangle 10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6" name="Rectangle 11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7" name="Line 12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8" name="Line 13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9" name="Line 14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0" name="Rectangle 15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1" name="Line 16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2" name="Oval 17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3" name="AutoShape 18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Rectangle 19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Line 20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6" name="Oval 21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7" name="Rectangle 22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Line 23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9" name="Oval 24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0" name="Rectangle 25"/>
          <p:cNvSpPr/>
          <p:nvPr/>
        </p:nvSpPr>
        <p:spPr>
          <a:xfrm>
            <a:off x="6683400" y="1054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ac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1" name="Line 26"/>
          <p:cNvSpPr/>
          <p:nvPr/>
        </p:nvSpPr>
        <p:spPr>
          <a:xfrm flipH="1" flipV="1">
            <a:off x="7661160" y="1646280"/>
            <a:ext cx="333360" cy="820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2" name="Oval 27"/>
          <p:cNvSpPr/>
          <p:nvPr/>
        </p:nvSpPr>
        <p:spPr>
          <a:xfrm>
            <a:off x="7940520" y="2432160"/>
            <a:ext cx="9216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3" name="Rectangle 28"/>
          <p:cNvSpPr/>
          <p:nvPr/>
        </p:nvSpPr>
        <p:spPr>
          <a:xfrm>
            <a:off x="1932120" y="5788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uri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4" name="Line 29"/>
          <p:cNvSpPr/>
          <p:nvPr/>
        </p:nvSpPr>
        <p:spPr>
          <a:xfrm flipH="1" flipV="1">
            <a:off x="2195640" y="3578400"/>
            <a:ext cx="333360" cy="220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5" name="Oval 30"/>
          <p:cNvSpPr/>
          <p:nvPr/>
        </p:nvSpPr>
        <p:spPr>
          <a:xfrm>
            <a:off x="2151000" y="3540240"/>
            <a:ext cx="9216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108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6" name="Rectangle 31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2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3" name="Rectangle 8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4" name="Rectangle 9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6" name="Rectangle 11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Line 12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8" name="Line 13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9" name="Line 14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Line 16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Oval 17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3" name="AutoShape 18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Line 20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6" name="Oval 21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7" name="Rectangle 22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Line 23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Oval 24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Rectangle 25"/>
          <p:cNvSpPr/>
          <p:nvPr/>
        </p:nvSpPr>
        <p:spPr>
          <a:xfrm>
            <a:off x="6683400" y="1054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ac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1" name="Line 26"/>
          <p:cNvSpPr/>
          <p:nvPr/>
        </p:nvSpPr>
        <p:spPr>
          <a:xfrm flipH="1" flipV="1">
            <a:off x="7661160" y="1646280"/>
            <a:ext cx="333360" cy="820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2" name="Oval 27"/>
          <p:cNvSpPr/>
          <p:nvPr/>
        </p:nvSpPr>
        <p:spPr>
          <a:xfrm>
            <a:off x="7940520" y="2432160"/>
            <a:ext cx="9216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Oval 30"/>
          <p:cNvSpPr/>
          <p:nvPr/>
        </p:nvSpPr>
        <p:spPr>
          <a:xfrm>
            <a:off x="2151000" y="3540240"/>
            <a:ext cx="9216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108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4" name="Rectangle 31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5" name="Rectangle 32"/>
          <p:cNvSpPr/>
          <p:nvPr/>
        </p:nvSpPr>
        <p:spPr>
          <a:xfrm>
            <a:off x="5783400" y="4910040"/>
            <a:ext cx="64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Line 33"/>
          <p:cNvSpPr/>
          <p:nvPr/>
        </p:nvSpPr>
        <p:spPr>
          <a:xfrm flipH="1" flipV="1">
            <a:off x="5601960" y="5167080"/>
            <a:ext cx="1103400" cy="190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7" name="Oval 34"/>
          <p:cNvSpPr/>
          <p:nvPr/>
        </p:nvSpPr>
        <p:spPr>
          <a:xfrm>
            <a:off x="5575320" y="513864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108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8" name="Rectangle 35"/>
          <p:cNvSpPr/>
          <p:nvPr/>
        </p:nvSpPr>
        <p:spPr>
          <a:xfrm>
            <a:off x="6640560" y="52419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afloo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Textures to distinguish metamorphic rock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809640" y="379440"/>
            <a:ext cx="75247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2706840" y="379440"/>
            <a:ext cx="37303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1635120" y="379440"/>
            <a:ext cx="58723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1379520" y="379440"/>
            <a:ext cx="63835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1135080" y="379440"/>
            <a:ext cx="68724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1273320" y="379440"/>
            <a:ext cx="65973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1295280" y="1143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actors that control the type and and degree Metamorphis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3048120" y="2971800"/>
            <a:ext cx="19047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ssu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luid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1295280" y="914400"/>
            <a:ext cx="6858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mperature increases with depth A typical continental geothermal gradient is 30 degrees C per kilome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Where is the 1300 degree isother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ld lithosphere - 150 k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w lithosphere (Divergent) - 30 k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lcanic regions (Convergent)- 50 k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090440" y="379440"/>
            <a:ext cx="6963120" cy="609768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3"/>
          <p:cNvSpPr/>
          <p:nvPr/>
        </p:nvSpPr>
        <p:spPr>
          <a:xfrm>
            <a:off x="6019920" y="5638680"/>
            <a:ext cx="228600" cy="228600"/>
          </a:xfrm>
          <a:prstGeom prst="rect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303120" y="1087560"/>
            <a:ext cx="853596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858960" y="379440"/>
            <a:ext cx="74260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909720" y="379440"/>
            <a:ext cx="73231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1:08:46Z</dcterms:created>
  <dc:creator>t w</dc:creator>
  <dc:description/>
  <dc:language>en-US</dc:language>
  <cp:lastModifiedBy>ksu</cp:lastModifiedBy>
  <dcterms:modified xsi:type="dcterms:W3CDTF">2011-11-01T02:01:33Z</dcterms:modified>
  <cp:revision>65</cp:revision>
  <dc:subject/>
  <dc:title>PowerPoint Presentation</dc:title>
</cp:coreProperties>
</file>