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5535-C23D-4A94-8815-0999D7D8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663B-C72C-4404-9695-22D0642E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B355-32DB-4374-9F84-703D701D0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EC2B-914B-49C3-9CDD-F848BF789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54B9-3132-42B4-963A-090064EF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812A-C2C5-4F83-B365-D37CE121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6EAD-2070-4A81-82BC-016A700B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AA87-31C7-4277-B971-AE14BFB6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F863-6A7B-407E-8901-C7FC14A2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E781-F090-4A28-A117-62A77141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A613-55CA-4571-95C4-A375A5CD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8595-B7E9-4D1B-B6CF-1D080988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233C-060C-41CB-A0D0-D5BAF1F5B97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ar.wikipedia.org/w/index.php?title=&#1575;&#1604;&#1605;&#1588;&#1575;&#1585;&#1603;&#1577;&amp;action=edit&amp;redlink=1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00120"/>
            <a:ext cx="7772400" cy="21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Comparative Constructions II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10. Conju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5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. أو: تفيد التخيير و الإباحة و الشك و التشكيك والتقسي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التحق بالجامعة أو المعه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شرب قهوة أو شايا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لبثنا يوماً أو بعض يو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إنا وإياكم لعلى هدى أو في ضلال مبي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فعل ماض أو مضارع أو أم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13840" y="285840"/>
            <a:ext cx="8472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. لكنْ: تختلف عن (لكنّ) التي تفيد الاستدراك. وتأتي بعد نفي أو نهي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ما أكلت عنباً لكن أكلت تفاحا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لا تصاحب الأشرار لكن الأخيا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أنا لا أكره الناس لكن أحتقر المغتابي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. لا:عكس لكن، تأتي بعد الإثبات أو الأمر أو النداء .وتكون إقراراً لما قبله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فوز الشجاع لا الجبا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هذه قصة لا مقا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ا محمد لا علي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شتر كتابا لا ملاب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42920" y="356760"/>
            <a:ext cx="885816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ombine each pair of sentences by using a suitable coordinat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is pret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is clever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yet, fo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follow the ru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will be fined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nd, o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rah wanted to buy a new ba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started to save money. ( so, fo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ave never visited As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ave never visited Africa.   ( either, neith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ombine each pair of sentences by using suitable correlative coordinato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spoke to the secreta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spoke to the director. ( both …and, whether…o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not play viol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not play piano. ( either …or, neither … no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have some coffe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have some tea.  (either …or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أكمل الجمل التالية بحرف عطف مناسب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نت ..........محمد  صديقا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ذهبت إلى المدرسة .......تغيبت 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حترم العلماء ........الجهلاء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صليت ركعتين ....ثلاث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حضر الضيوف..... تناولنا العشاء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صام الرجل عن الطعام ..... مغيب الشم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jun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junctions are words that link words, phrases and clauses. There are two classes of conjunctions: coordinators and subordina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ors link units of equal syntactic status. However, subordinators link units of unequal syntactic statu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ordin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7 simple coordinators in English: for, and, nor, but, or, yet, and so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ANBO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23880" y="2976480"/>
          <a:ext cx="6096240" cy="2595600"/>
        </p:xfrm>
        <a:graphic>
          <a:graphicData uri="http://schemas.openxmlformats.org/drawingml/2006/table">
            <a:tbl>
              <a:tblPr/>
              <a:tblGrid>
                <a:gridCol w="1220760"/>
                <a:gridCol w="48754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nects a reason to a res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nects equal similar id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nects two negative sente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nects equal different ide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nects two equal cho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nects equal contrasting id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nects a result to a reas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ordin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14200" y="1285560"/>
            <a:ext cx="87868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m a little hungry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 didn’t eat breakfast this mor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hn likes to fis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u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doesn’t eat meat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oes she drink mil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like to eat fis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ot to catch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prefer coffe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e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sunn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ye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l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didn’t eat breakfast this morning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 am a little hung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ordin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3840" y="1213920"/>
            <a:ext cx="86439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relative coordinators are always in pairs. They connect grammatically equal elements. There are 5 correlative coordinators in English: both .. And, not only … but also, either … or, neither … nor, whether … 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Both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San Francisco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Sydney have beautiful harb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Japanese food is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ot only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elicious to eat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but also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eautiful to look 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ring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either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a raincoat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an umbrell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 old man can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either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read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or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wri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li can’t decide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whether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to join the med school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to study engineer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Calibri"/>
              </a:rPr>
              <a:t>حروف العط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هي حروف تعطف ما بعدها على ما قبلها، وهي: الواو والفاء و ثم و أو وحتى وأم المتصلة ولكن ول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واو: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فيد الجمع (</a:t>
            </a:r>
            <a:r>
              <a:rPr b="0" lang="ar-SA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المشاركة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) بين المعطوف والمعطوف عليه في الحكم والإِعراب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ثل (سافر محمد وخالد)، ولا تدل على ترتيب بينهما ولا تعقيب، إِذ يمكن أَن يكون محمد سافر قبل، أَو خالد سافر قبل، كما يمكن أَن يكونا سافرا معا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إذ يرفع إبراهيم القواعد من البيت وإسماعي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42840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. الفاء: تفيد الترتيب مع التعقيب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سافر محمد فخال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ي أن المسافر الأول محمد وخالد سافر بعده بلا مهلة بينهم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شربت الماء فالقهو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وصلت الطائرة فنزل منها الركاب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كثيراً ماتفيد مع الترتيب معنى التسب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سها المصلي فسجد للسهو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جتهدت فنجحت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6480"/>
            <a:ext cx="8362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. ثم: تفيد الترتيب مع التراخي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سافر أحمد ثم خال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تدل على أن خالداً سافر بعد أحمد بمهلةٍ متراخي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كنت طفلا ثم صبيا ثم غلاما ثم شاب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. حتى: تفيد التدريج والغاي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ركبت كل الوسائل حتى الطائر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صمد الجيش في المعركة حتى آخر رج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. أم المتصلة تفيد العطف للتعيين وتكون مسبوقة بهمزة استفهام وتسمى همزة التعيي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أتحب التفاح أم البرتقال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يهمك رضا الله أم رضا الناس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أنت الناجح أم أخوك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4:16:25Z</dcterms:created>
  <dc:creator>ABS</dc:creator>
  <dc:description/>
  <dc:language>en-US</dc:language>
  <cp:lastModifiedBy>Ghadah Alotaibi</cp:lastModifiedBy>
  <dcterms:modified xsi:type="dcterms:W3CDTF">2015-03-30T18:30:45Z</dcterms:modified>
  <cp:revision>42</cp:revision>
  <dc:subject/>
  <dc:title>Comparative Constructions II</dc:title>
</cp:coreProperties>
</file>