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FE3-5501-4112-A13D-61468016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485-C884-4009-AB0A-D5E59FB5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F3E-C224-4176-8AB0-93BE8ADC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AC6-6B38-49A7-8AD4-B4C5935C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668-2624-478F-A80E-E4D02333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F0E-6776-4C0B-8528-BB65A3DF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B55-23F1-413A-B287-E564D8B5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C4A-3FA6-40F9-B2F2-28D90491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75A-DB5D-4B8F-A6F4-3BD4EFCD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A32-C419-4450-9AF4-647251F4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0C9-565D-41F8-A374-D65481F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01F-DC97-40F5-AD82-6E1D6EF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77BC-15DF-4D31-94BB-9150BD6680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r.wikipedia.org/w/index.php?title=&#1575;&#1604;&#1605;&#1588;&#1575;&#1585;&#1603;&#1577;&amp;action=edit&amp;redlink=1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omparative Constructions I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10. Conj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أو: تفيد التخيير و الإباحة و الشك و التشكيك والتقسي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لتحق بالجامعة أو المعه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شرب قهوة أو شايا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بثنا يوماً أو بعض يو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إنا وإياكم لعلى هدى أو في ضلال مب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فعل ماض أو مضارع أو أم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13840" y="285840"/>
            <a:ext cx="8472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لكنْ: تختلف عن (لكنّ) التي تفيد الاستدراك. وتأتي بعد نفي أو نه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ما أكلت عنباً لكن أكلت تفاحا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لا تصاحب الأشرار لكن الأخي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أنا لا أكره الناس لكن أحتقر المغتاب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لا:عكس لكن، تأتي بعد الإثبات أو الأمر أو النداء .وتكون إقراراً لما قبل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فوز الشجاع لا الجبا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ذه قصة لا مقا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ا محمد لا عل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شتر كتابا لا ملاب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920" y="356760"/>
            <a:ext cx="88581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bine each pair of sentences by using a suitable coordin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pret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clev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yet, f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follow the r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fined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nd, 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ah wanted to buy a new ba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started to save money. ( so, f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never visited A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never visited Africa.   ( either, neith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bine each pair of sentences by using suitable correlative coordina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poke to the secret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poke to the director. ( both …and, whether…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not play viol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not play piano. ( either …or, neither … n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have some coff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have some tea.  (either …o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كمل الجمل التالية بحرف عطف مناسب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ت ..........محمد  صديقا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ذهبت إلى المدرسة .......تغيبت 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حترم العلماء ........الجهلا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ليت ركعتين ....ثلا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حضر الضيوف..... تناولنا العشا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صام الرجل عن الطعام ..... مغيب الشم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j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nctions are words that link words, phrases and clauses. There are two classes of conjunctions: coordinators and subordin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ors link units of equal syntactic status. However, subordinators link units of unequal syntactic stat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7 simple coordinators in English: for, and, nor, but, or, yet, and so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NBO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3880" y="2976480"/>
          <a:ext cx="6096240" cy="2595600"/>
        </p:xfrm>
        <a:graphic>
          <a:graphicData uri="http://schemas.openxmlformats.org/drawingml/2006/table">
            <a:tbl>
              <a:tblPr/>
              <a:tblGrid>
                <a:gridCol w="1220760"/>
                <a:gridCol w="48754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a reason to a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equal similar 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two negative sent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equal different ide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two equal ch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equal contrasting id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nects a result to a reas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200" y="128556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little hungr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didn’t eat breakfast this mo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likes to fis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oesn’t eat mea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oes she drink mi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ike to eat fis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t to catc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prefer coffe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sunn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idn’t eat breakfast this morning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am a little hung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rdin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2139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ive coordinators are always in pairs. They connect grammatically equal elements. There are 5 correlative coordinators in English: both .. And, not only … but also, either … or, neither … nor, whether … 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San Francisc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Sydney have beautiful harb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panese food i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ot on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licious to ea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ut als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eautiful to look 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rin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 raincoa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 umbrel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old man ca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eithe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rea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wr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i can’t decid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hethe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o join the med scho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o study enginee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</a:rPr>
              <a:t>حروف العط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ي حروف تعطف ما بعدها على ما قبلها، وهي: الواو والفاء و ثم و أو وحتى وأم المتصلة ولكن ول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واو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فيد الجمع (</a:t>
            </a:r>
            <a:r>
              <a:rPr b="0" lang="ar-SA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المشارك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) بين المعطوف والمعطوف عليه في الحكم والإِعرا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ثل (سافر محمد وخالد)، ولا تدل على ترتيب بينهما ولا تعقيب، إِذ يمكن أَن يكون محمد سافر قبل، أَو خالد سافر قبل، كما يمكن أَن يكونا سافرا معا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إذ يرفع إبراهيم القواعد من البيت وإسماعي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الفاء: تفيد الترتيب مع التعقي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سافر محمد فخال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ي أن المسافر الأول محمد وخالد سافر بعده بلا مهلة بينهم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شربت الماء فالقهو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وصلت الطائرة فنزل منها الركا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كثيراً ماتفيد مع الترتيب معنى التسب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سها المصلي فسجد للسه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تهدت فنجح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36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ثم: تفيد الترتيب مع التراخ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سافر أحمد ثم خال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تدل على أن خالداً سافر بعد أحمد بمهلةٍ متراخ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نت طفلا ثم صبيا ثم غلاما ثم شاب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حتى: تفيد التدريج والغا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ركبت كل الوسائل حتى الطائر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مد الجيش في المعركة حتى آخر رج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 أم المتصلة تفيد العطف للتعيين وتكون مسبوقة بهمزة استفهام وتسمى همزة التعي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أتحب التفاح أم البرتقال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يهمك رضا الله أم رضا الناس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أنت الناجح أم أخوك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4:16:25Z</dcterms:created>
  <dc:creator>ABS</dc:creator>
  <dc:description/>
  <dc:language>en-US</dc:language>
  <cp:lastModifiedBy>Ghadah Alotaibi</cp:lastModifiedBy>
  <dcterms:modified xsi:type="dcterms:W3CDTF">2015-03-30T18:30:45Z</dcterms:modified>
  <cp:revision>42</cp:revision>
  <dc:subject/>
  <dc:title>Comparative Constructions II</dc:title>
</cp:coreProperties>
</file>