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5.png" ContentType="image/png"/>
  <Override PartName="/ppt/media/image1.png" ContentType="image/png"/>
  <Override PartName="/ppt/media/image3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dt" idx="58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roduction to AOI Log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ftr" idx="59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 type="sldNum" idx="60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F9E6-4507-43B2-95B1-8E90E0DD3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0" name="Picture 8" descr=""/>
          <p:cNvPicPr/>
          <p:nvPr/>
        </p:nvPicPr>
        <p:blipFill>
          <a:blip r:embed="rId2"/>
          <a:stretch/>
        </p:blipFill>
        <p:spPr>
          <a:xfrm>
            <a:off x="6208560" y="8788320"/>
            <a:ext cx="48420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0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3725-1F75-4A07-A7EB-0B414EBF2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BINARY-to-DECIMAL convers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 students to subscript all numbers (i.e. Subscript 10 for decimal &amp; subscript 2 for decim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students know that as the become more proficient at the conversions, they may not need to write out the Bit-Weighting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0A5A-A24D-49E2-BD99-77E95D268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1F4B-6A97-456D-93EE-9BC242FA3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8F98-11A3-46BB-B2C0-800CA6E0D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9105-317C-4649-AACC-C1CAB9797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C001-04ED-4E4A-8052-6B1DFC3D1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tudents need more practice, here are four additional example of DECIMAL to BINARY conversions.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181C-361C-4F64-B4D4-76F8CAA4C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the solutions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EC85-00D3-41D2-8132-D61B0613C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to assigning the activity, review the process for DECIMAL-to-BINARY and BINARY-to-DEC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B6BF-5883-4DF5-9BAE-F841E59DB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0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F695-FB66-43E1-B2B9-926026650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ory Slide / Overview of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at humans use base ten (or decimal), because we have ten fingers and that digital electronics uses base-two (binary) because it only understands two states; ON and OFF.  For students to be able to analyze and design digital electronics, they need to be proficient at converting numbers between these two number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ten has ten unique symbols (0 – 9) while binary has two unique symbols (0 – 1). Any number can represent a base and the number of symbols it utilizes will always be that number. This is discussed further later in Unit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2892-DCB1-4533-9C90-DF5DBDE01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DECIMAL-to-BINARY convers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 students to subscript all numbers (i.e. Subscript 10 for decimal &amp; subscript 2 for bin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mon mistake is inverting the LSB and MS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e-dot triangular symbol here stands for the word “therefore” and is used commonly among mathematics schol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5B9E-E671-4FF0-BC42-9415A53DC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7EC0-4D0B-4BFC-93E8-8D04A34A2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4532-8953-419D-9B88-7EDBE5B8C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BB42-9F95-4795-87A0-9A3129FE7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2D93-E35B-44F6-9B16-C3C1B9826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tudents need more practice, here are four additional example of DECIMAL to BINARY conversion.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B6E9-0DBD-40D0-9A24-E876870FE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the solutions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4BD4-F489-4DDF-84A7-86545EF00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5CD24-F7E4-48ED-8EED-55BA9002B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DA4E8-9F42-4FE2-A3B3-1ED7F841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FE8CC-84F3-4ACC-86E6-CA1120AC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12F1E-119C-4534-BC02-E1980CE9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69F67-C434-4DB0-BC96-32D9FF82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AD18F-1097-44D5-90EF-6F9D9155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39179-4D9F-4577-B075-702BDE3A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04A5D-D380-4B0C-9307-EF9C0EB7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3201F-BE90-4C68-AF6D-C1E31C40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7EAB4-91BD-4192-9951-4100386C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AF2A5-7663-4B37-B2CB-806F109B0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4D759-7854-46E6-B3D5-F5959FFD1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FB9EE-A2EE-4B4B-8017-93D7C981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B5DD9-3F78-4A46-A4AF-4D2C58BE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664D2-26B7-4F95-994E-94030F9B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AEB1E-2E2D-4A5D-A73F-685E4973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04F74-E245-47F5-AB6E-96CA9D3F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CBD28-9ECD-461C-AB07-EFCAD734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20845-7C0A-4830-925E-76327210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8F3A6-BC9F-4E17-8F98-33B66522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709B3-A40E-4ADD-AF24-4D9FA242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2B0F-FED0-4E99-AB3E-16163F01D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19155-91B6-4413-8F7F-9EB7CF81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25AFD-50CE-41F8-A992-883D94C8A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8C1A8-1AF4-4C79-93F5-DD74C2915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B1675-1333-4ED1-AE28-A0699B976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D07F7-F9AF-4397-B2B5-E45C5525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A5EF4-DD1A-4F37-82D1-ED1DE1CD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DE407-7ACB-417F-AF21-5A6AF724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F3A34-9909-45F5-A331-60B648FD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304D5-A30F-46F7-BFE1-9E043177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599B8-D6F3-4A5D-9824-B64E182C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FFE4-4012-4D40-B030-60CB9B13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1351F-219D-4B2F-8BDF-9F0CCE30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ED1AF-BB4E-46F3-B795-F23C1A48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F634B-53DA-4B70-987B-B9452D5F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B324D-3E17-4E13-AC82-C8BD535C1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3FE99-E835-401A-A68C-2CCBC0ADD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8D50A-9E86-42E6-B4F2-B4E661C83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9521B-23F7-45D9-B4E7-F9E38284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EAD66-E8A9-4EE3-ADE7-E6503D19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B0C90-1BAE-47E4-B2EE-8DF299E4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80A9B-35C5-4FD5-88D4-EFBE1ABA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D153-5BD7-42C6-9743-9BB8AAF1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C41E9-0C73-4537-90FC-6BBF566C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2657D-9A9A-400C-BE06-B3EE95EE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F01FB-3AC1-4BA6-9DF3-F85B28E9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CF623-2B0B-4773-8156-EE34002B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CF36C-48F9-4E1C-86FC-FFD5303A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650BB-C1AB-4B11-82B5-9E7450C35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22E26-CAEC-4AB3-AF5E-BE3516304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AD954-087C-471E-917F-D0D120C48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687CA-92CF-483B-AF86-DF8E0E5E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2E37C-2760-4F75-8047-9F5FF355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553E-D336-4666-BDA6-D2BBF940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10D91-EF9E-4900-A3A8-663B8EB8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3B2B0-5C96-46F0-AC65-EC19D11F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91505-514D-4939-B3BD-FE961C7A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EA6C7E-9D40-4DCB-8AD6-FC9EB086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89103B-F382-4339-8828-D7C99D68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EC0752-4D17-403A-86D9-AF92F4F1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C95F5-ACDE-4A49-9DED-A9038110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BC44F-5C16-435F-A4B8-CAFAEECE0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03C59-B5BF-4958-94D0-76CE4D341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3CB333-D7A9-4607-ABA2-920016E25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84D7-BA20-4C1E-9FC0-02323C1D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8BF78-4EE4-4784-9619-16093987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6516D-67DF-4295-AD28-A7F75CAA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EA8F7-7104-4E29-9351-2C13157C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15371-A4EA-49EC-B3C2-C0F1C330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7DD28-C813-4554-8FD2-A2D44234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2DA7C3-FD41-4618-BC90-FCE2B361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E4493-444E-488F-B6E5-4F085934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193F6D-DA6E-47A6-B8B4-8450FB01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A3ED6B-8995-4EE4-AA6D-7E09A57D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1543B5-EA79-4543-B889-2F6F447A6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D177-B16D-430C-8E57-988F72B4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C2C35B-18EF-41EB-AEB0-6C9BC912B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A958A-AD5A-4D1D-99CD-AA57BC7C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189E2-9363-4030-A1F5-5749E385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985FE-E69A-4CFB-92C6-B735931D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A89EE-E6DB-4869-A063-3F31F897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E910E-F9C6-4995-A2C4-0C637B23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B6541-5305-4743-A524-8F5E8582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F8C0A-C3AD-4202-AF4A-D4BB57F6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BCCE7-18E4-469D-ADC7-47B7F283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925C2-E3CC-4511-8551-C9CE1088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4311-50B4-4832-842D-55285633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35346-245A-46DB-8EC9-DC98147A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510F7-6FF8-43A7-8E4F-2ECD63988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2A15C-D3F7-40D4-A202-4723DDE20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ED0757-214B-4291-B865-A6A97EA96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763C98-4E30-428E-BA3E-6FB223AF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6986A0-8972-474A-A58D-E3F3BF89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F3164C-86B4-477E-A9BE-003C91D0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D22A83-9AA8-40FB-8CC1-28810102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6EB3E9-F84F-40AF-8DDB-3F7412FC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CE4231-EB9E-4663-9D14-8E3C2375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98F0-7A32-46AA-A6DD-5C2C32B4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3A281-52D7-4AAB-B105-8A90AAB8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A785DB-5E97-4B60-9672-E7402F8E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37E27E-4ECF-4A07-BCF9-DBCA4540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2B1C19-BD21-466D-B258-AB9C65D45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A9985A-310D-47D8-A224-629657009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A85DC6-0D1F-4036-9486-39E8B774D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011DE5-1C8F-46C5-8836-77988508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A4B61F-0409-42BC-8081-9DEBD5A7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4EDB10-8FA8-4848-8D61-43D2E5B4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CBBDD4-4DD1-480D-A5D7-853BD4CA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B8AE-D5D3-4F01-B844-CDBCDD15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CCB7EB-8156-442A-B25D-24D69FB4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124B01-7553-4784-86A8-C765AE75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C1DC43-F208-40F4-B30E-7EEFB9A0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B5A663-C0F1-451C-A2BF-A5105ED0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1A769D-B8B5-4A96-BEA0-4E43FC6D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36F58A-28A8-400A-AD92-07C9E8621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01B850-9B02-4062-B2D3-08C83CC72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298E1B-D58E-416C-8393-BC39364D5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CDC1A1-2D6B-4161-B438-3F9582B4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C412C1-06D3-42A2-A74C-9F8E3C9B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3C45-2DE2-422D-A39A-43E34790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24635E-2A6A-45B2-946C-3453AE84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69AB65-C851-458F-8628-B4267C75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8F838B-2D7E-48D2-BE5F-250BCC0A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9485A9-2402-44C2-929B-4BE554B3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B1212B-471F-46B8-96AC-6832D79C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545617-302A-46AC-948E-29106808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1D2C5D-61DD-42C1-9336-497858BC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8A3F13-E227-4423-BAC2-433867572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1A0EB7-CEEE-468C-AC90-68517AC5E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62B4C6-C776-4233-A0CB-553E25721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E1AC-C4DE-488A-829F-5FD0F927E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051DB8-74FE-4862-BA3D-EE64FBDF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B244BF-6B83-4465-B848-598FC3B5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DD89BE-B7A3-41CC-B71F-E6EE5CE9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265218-C7CC-48C2-AF7E-E34A52FE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DBFE70-AA22-47D4-AB00-2E2C9D05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816166-FE46-4E6B-8B9E-F3EFEF9B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55ADFA-999E-4263-AA8F-9CA1EBF0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B028B1-1E7C-4815-8E55-D66BDC56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40F4F4-A8E6-40A7-965F-BC52F664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D5FE07-5509-4B4B-BAFD-4861E17D5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9C01-38F0-4EE4-90AD-4831E89F9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956FCB-79B6-4A10-9DFB-2F448D779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90044C-82D0-4C1C-A576-154F46FA1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48B014-548D-4369-8159-3ADAF5C4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095869-9693-499A-BCEA-19E579C5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6F56D2-BCAB-4911-8984-6019E004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9BDF54-5D7C-4995-AC30-CCF73659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1E406C-6E96-4816-857E-ADD0468B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DD4741-B38B-40FE-88A8-C1F2F35D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E71823-5F07-4C1D-904C-7DD45088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2CEB94-F048-4B3C-9B17-5751E23E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A0F3-6811-460D-979B-950F65BD0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1612DE-52C2-4F25-8FF5-D40F9C63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79913F-060E-4D8A-B981-FAC8FAB9C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794599-50CB-4697-8852-2720DD2D5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67531E-3273-4498-BD94-338405E95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6AD375-C74E-4936-BCE9-5EF7684D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33C6A0-DB46-48C9-8A5D-F737BCB0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3D52CB-BD0A-4C4E-A2E6-873F3DDF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4B76B0-B37B-4176-9343-F341FA6A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FE6586-7246-453D-80C4-7D77E8BC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C8C7C6-F9ED-4993-9431-0D91DFF1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B7EF-5DF9-4EF5-BCF5-5BF769E5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03417F-5D50-4836-A7D1-2A5DF017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DD4FC6-2E28-49A5-BE0A-3571AB17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2DB75E-14DF-443D-82EF-D169A444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211F1B-B922-4568-B5EC-27521FF50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F1C5B4-82A9-4993-ADB2-EE77D5619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F44D29-32A1-49A1-ACCB-F0312D365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1134F7-7C8E-41C7-BF15-858305F0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E12251-9077-4F83-BB80-707B9A50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8B7791-3243-4CF8-BE07-6C2F04EB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22F3E1-56C2-4D60-B745-AD1E0E6E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1589-4DDF-4D1D-9EE1-48846802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38E48B-7D96-49F8-8D90-58729199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511955-C5C2-4025-9789-B1E78CCA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1B95CA-323A-43BB-A686-2DCC183B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D65FE0-8C1B-422F-8F33-E416B8B3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D2D777-B707-4AA6-B3EC-D04DA69F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417894-B186-4AD7-8947-546501A25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79184A-F89F-4393-BC17-242AEAC1B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0C2915-BB7C-4396-AFC7-944070DA0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22D505-3593-48FB-BBDF-56D14C40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FF59F2-2802-4EC0-AC3C-912B7B25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F151-0EC5-4386-9F66-5BB9E332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46A2E5-49B7-4733-B99D-543BED81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8ED4E5-91CC-4B8F-93C0-4EDBD2EC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940E9D-F7DF-4A57-9687-FD1D604B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1BE3E0-5D52-4CB2-9CBC-290907EC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B9220B-52AD-4D7E-B6E0-D71327C9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564989-3BEC-4EBA-82E8-FE4D5F8E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10FD29-613B-4C4F-A6B8-D32CB519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CF04A7-8047-4F76-9BF2-1B27465AC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E92791-2816-442B-ACE5-3F2551811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6C45-C0B8-4606-A60C-D6D56FE1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67B1-625C-4D8C-8670-0BABED71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367D-3A60-4058-A45A-9E9D4ED2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A95A-2061-4378-96DA-79ABA0AC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7C9E-505E-4A6C-A459-FB1D849C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80C7-3CEF-4032-8DCE-BECDCA21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B8B5-6902-4CA1-8994-E8215CF54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7563-4ED0-4D63-B1EC-9B0EC0469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03679-FD23-436A-BC42-226ADBAB9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BB817-E1F8-491E-AF0F-A9C196AC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B71A8-F345-4039-83E9-5F3BDDF4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56791-25F8-4D3D-B6F3-DFD06FC2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6A731-9604-4B10-8F7E-8BFA7307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227B8-2168-4C26-B0F3-19036EBC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4B3BC-9F6B-4A40-8AA7-3D86F4DC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1D7E8-4006-4AC7-BF88-0C226346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7BA68-B821-4AE5-AE05-74A54E5D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E7613-1E1D-48F8-A5D0-E504541B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D2B90-55FE-4D0F-BC16-A1D2B3AFD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5C848-CBB9-483A-B772-352EF74C3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18CE9-EAA9-4EEC-BD51-3965DA86F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DAA04-AE9A-4E78-9DDE-192D4BCF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6A88C-B1FA-4AF8-8733-3D7FEB6D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6B893-3AAE-49F6-BF20-40DAE9EA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03FE8-A380-4D0C-BF1A-4FAF0C19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27319-46E2-4AC3-B8D5-F7CAD0B2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FBB0E-6E70-42D2-870E-4092E648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15EFA-51FF-4770-904F-B4F25F42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A6884-A598-4090-82C4-F68DA341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8FB66-FD12-445B-9F32-D8EB27C6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C3B29-C17F-422C-AE00-46036B500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F0717-1F13-4FFA-9FEA-2C9D255F0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1025-65D8-4C5D-B97F-6750270AD9A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6DC3-3425-4053-8EC7-CE0ADD7B2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4BB0-1ABE-4E12-97BA-EB5C367052A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D257-D0C7-45EC-A0F7-427C0409E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6F17-AE90-425B-8291-9799E8140F1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B3EB-84F6-4580-831E-D5B02A31E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7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9A4B-FA53-432E-B360-39EA3DCB91F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E642-7D11-47CD-A986-DD2612FB9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3367-0BCC-451D-9238-08FFE1F4192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4312-907A-43B8-ABC5-2DEA22A82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A9C1-35A6-455F-AD89-7AD271E719D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D2ED-233C-4FB6-A836-B4F56C7C3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3CFA-1339-4FA8-83D5-89F1096C0D3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7AED-BFE6-4A05-A7B5-B0DAF1915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ECDB-A171-40CC-A490-8D7AF030A6D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F120-358A-4DF3-842E-EB6D48B25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C7EC-D3FC-4718-ADD4-F6B59852C69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06E8-BB15-4BBE-8E01-9B417A07E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9D7F-702D-42B6-8EE7-47873E754AE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AB8F-F615-4D1D-9334-A949DB447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78D8-5314-4D7B-90FC-4FD86CBE7CA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D6A0-1F41-46AD-9D9A-65BD7DE71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7772400" y="6172200"/>
            <a:ext cx="47484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7C7F-A95D-40DC-8BCC-7A0A8AC07CD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B871-7534-4D03-98D8-ED5C1D2D9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472D-1526-42E4-BC4F-5B4DC18EA0B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BFAA-222F-4F45-B229-050E0460F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9406-7503-4AC1-BB4F-EFE6B866FEC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2762-814A-406C-8A3A-7C58A4BF3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7F71-CB61-4636-AF88-AFDA467F614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6C78-FA9A-473E-8444-72483E46E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5A91-9FDF-4AAE-B393-7A6CB5638D0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EFA0-5CD0-4086-AEE5-5C890E015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2EF6-D92A-4616-8D0D-1C7AE5FB5FC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1544-E9A1-491B-A950-C167366E2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232B-A369-4E32-A859-8691AA8D1F4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C84A-916F-4865-BE66-F15772F26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7F28-0076-46CF-8F13-F3F2884C7BB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BD06-0F79-4E8A-8712-EC6846BB3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65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65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Number Syst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6" descr="3x3_PLTW_Logo_R"/>
          <p:cNvPicPr/>
          <p:nvPr/>
        </p:nvPicPr>
        <p:blipFill>
          <a:blip r:embed="rId1"/>
          <a:stretch/>
        </p:blipFill>
        <p:spPr>
          <a:xfrm>
            <a:off x="3048120" y="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‒to‒ Decimal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457200" y="14479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Process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ighted Multi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each bi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it corresponding bit-weighting factor (i.e. Bit-0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; Bit-1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; Bit-2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4; et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up all the products in step (a) to get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mal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ecimal number 01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8" name="Group 19"/>
          <p:cNvGrpSpPr/>
          <p:nvPr/>
        </p:nvGrpSpPr>
        <p:grpSpPr>
          <a:xfrm>
            <a:off x="5486400" y="4648320"/>
            <a:ext cx="2209680" cy="609480"/>
            <a:chOff x="5486400" y="4648320"/>
            <a:chExt cx="2209680" cy="609480"/>
          </a:xfrm>
        </p:grpSpPr>
        <p:sp>
          <p:nvSpPr>
            <p:cNvPr id="1149" name="TextBox 68"/>
            <p:cNvSpPr/>
            <p:nvPr/>
          </p:nvSpPr>
          <p:spPr>
            <a:xfrm>
              <a:off x="5607720" y="4753080"/>
              <a:ext cx="196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01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 2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 6 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Rounded Rectangle 64"/>
            <p:cNvSpPr/>
            <p:nvPr/>
          </p:nvSpPr>
          <p:spPr>
            <a:xfrm>
              <a:off x="5486400" y="4648320"/>
              <a:ext cx="220968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51" name=""/>
          <p:cNvGraphicFramePr/>
          <p:nvPr/>
        </p:nvGraphicFramePr>
        <p:xfrm>
          <a:off x="762120" y="4145040"/>
          <a:ext cx="3225600" cy="1646280"/>
        </p:xfrm>
        <a:graphic>
          <a:graphicData uri="http://schemas.openxmlformats.org/drawingml/2006/table">
            <a:tbl>
              <a:tblPr/>
              <a:tblGrid>
                <a:gridCol w="396720"/>
                <a:gridCol w="273240"/>
                <a:gridCol w="366480"/>
                <a:gridCol w="274680"/>
                <a:gridCol w="365040"/>
                <a:gridCol w="274680"/>
                <a:gridCol w="365040"/>
                <a:gridCol w="274680"/>
                <a:gridCol w="6350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2" name="Right Brace 14"/>
          <p:cNvSpPr/>
          <p:nvPr/>
        </p:nvSpPr>
        <p:spPr>
          <a:xfrm>
            <a:off x="3048120" y="4619520"/>
            <a:ext cx="304560" cy="68580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685800"/>
              <a:gd name="textAreaBottom" fmla="*/ 6778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0"/>
                  <a:pt x="10800" y="800"/>
                </a:cubicBezTo>
                <a:lnTo>
                  <a:pt x="10800" y="10000"/>
                </a:lnTo>
                <a:cubicBezTo>
                  <a:pt x="10800" y="10400"/>
                  <a:pt x="16200" y="10800"/>
                  <a:pt x="21600" y="10800"/>
                </a:cubicBezTo>
                <a:cubicBezTo>
                  <a:pt x="16200" y="10800"/>
                  <a:pt x="10800" y="11200"/>
                  <a:pt x="10800" y="11600"/>
                </a:cubicBezTo>
                <a:lnTo>
                  <a:pt x="10800" y="20800"/>
                </a:lnTo>
                <a:cubicBezTo>
                  <a:pt x="10800" y="212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Box 16"/>
          <p:cNvSpPr/>
          <p:nvPr/>
        </p:nvSpPr>
        <p:spPr>
          <a:xfrm>
            <a:off x="3200400" y="47242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t-Weigh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E920-9406-4B5C-BA9E-728E8AC2C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1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E0B6-5E35-4349-B54C-3B8E60120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1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Group 73"/>
          <p:cNvGrpSpPr/>
          <p:nvPr/>
        </p:nvGrpSpPr>
        <p:grpSpPr>
          <a:xfrm>
            <a:off x="2362320" y="5486400"/>
            <a:ext cx="2895480" cy="762120"/>
            <a:chOff x="2362320" y="5486400"/>
            <a:chExt cx="2895480" cy="762120"/>
          </a:xfrm>
        </p:grpSpPr>
        <p:sp>
          <p:nvSpPr>
            <p:cNvPr id="1161" name="TextBox 68"/>
            <p:cNvSpPr/>
            <p:nvPr/>
          </p:nvSpPr>
          <p:spPr>
            <a:xfrm>
              <a:off x="2695680" y="5638680"/>
              <a:ext cx="2274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0000"/>
                </a:buClr>
                <a:buFont typeface="Symbol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0010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8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ounded Rectangle 72"/>
            <p:cNvSpPr/>
            <p:nvPr/>
          </p:nvSpPr>
          <p:spPr>
            <a:xfrm>
              <a:off x="2362320" y="5486400"/>
              <a:ext cx="2895480" cy="762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63" name=""/>
          <p:cNvGraphicFramePr/>
          <p:nvPr/>
        </p:nvGraphicFramePr>
        <p:xfrm>
          <a:off x="990720" y="3124080"/>
          <a:ext cx="4114800" cy="2011320"/>
        </p:xfrm>
        <a:graphic>
          <a:graphicData uri="http://schemas.openxmlformats.org/drawingml/2006/table">
            <a:tbl>
              <a:tblPr/>
              <a:tblGrid>
                <a:gridCol w="365040"/>
                <a:gridCol w="274680"/>
                <a:gridCol w="366480"/>
                <a:gridCol w="273240"/>
                <a:gridCol w="366840"/>
                <a:gridCol w="274320"/>
                <a:gridCol w="365400"/>
                <a:gridCol w="274680"/>
                <a:gridCol w="365040"/>
                <a:gridCol w="274680"/>
                <a:gridCol w="9144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4" name="TextBox 5"/>
          <p:cNvSpPr/>
          <p:nvPr/>
        </p:nvSpPr>
        <p:spPr>
          <a:xfrm>
            <a:off x="457200" y="264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7040-B63E-442D-941A-E94D89C05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Box 5"/>
          <p:cNvSpPr/>
          <p:nvPr/>
        </p:nvSpPr>
        <p:spPr>
          <a:xfrm>
            <a:off x="457200" y="13716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0110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60DF-D133-4FDB-8FC6-806AD0C0A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Box 5"/>
          <p:cNvSpPr/>
          <p:nvPr/>
        </p:nvSpPr>
        <p:spPr>
          <a:xfrm>
            <a:off x="457200" y="13716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0110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1" name="Group 10"/>
          <p:cNvGrpSpPr/>
          <p:nvPr/>
        </p:nvGrpSpPr>
        <p:grpSpPr>
          <a:xfrm>
            <a:off x="3505320" y="5486400"/>
            <a:ext cx="2895480" cy="762120"/>
            <a:chOff x="3505320" y="5486400"/>
            <a:chExt cx="2895480" cy="762120"/>
          </a:xfrm>
        </p:grpSpPr>
        <p:sp>
          <p:nvSpPr>
            <p:cNvPr id="1172" name="TextBox 68"/>
            <p:cNvSpPr/>
            <p:nvPr/>
          </p:nvSpPr>
          <p:spPr>
            <a:xfrm>
              <a:off x="3646800" y="5638680"/>
              <a:ext cx="261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0000"/>
                </a:buClr>
                <a:buFont typeface="Symbol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0110101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53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ounded Rectangle 72"/>
            <p:cNvSpPr/>
            <p:nvPr/>
          </p:nvSpPr>
          <p:spPr>
            <a:xfrm>
              <a:off x="3505320" y="5486400"/>
              <a:ext cx="2895480" cy="762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74" name=""/>
          <p:cNvGraphicFramePr/>
          <p:nvPr/>
        </p:nvGraphicFramePr>
        <p:xfrm>
          <a:off x="990720" y="3124080"/>
          <a:ext cx="5394240" cy="2011320"/>
        </p:xfrm>
        <a:graphic>
          <a:graphicData uri="http://schemas.openxmlformats.org/drawingml/2006/table">
            <a:tbl>
              <a:tblPr/>
              <a:tblGrid>
                <a:gridCol w="365040"/>
                <a:gridCol w="274680"/>
                <a:gridCol w="366480"/>
                <a:gridCol w="273240"/>
                <a:gridCol w="366840"/>
                <a:gridCol w="274320"/>
                <a:gridCol w="365400"/>
                <a:gridCol w="274680"/>
                <a:gridCol w="365040"/>
                <a:gridCol w="274680"/>
                <a:gridCol w="365040"/>
                <a:gridCol w="274680"/>
                <a:gridCol w="366480"/>
                <a:gridCol w="273240"/>
                <a:gridCol w="9144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3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5" name="TextBox 5"/>
          <p:cNvSpPr/>
          <p:nvPr/>
        </p:nvSpPr>
        <p:spPr>
          <a:xfrm>
            <a:off x="457200" y="264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2092-7B71-4A00-A706-4170EB83B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F482-A2DF-48BC-BC2C-AF8A5F292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Box 3"/>
          <p:cNvSpPr/>
          <p:nvPr/>
        </p:nvSpPr>
        <p:spPr>
          <a:xfrm>
            <a:off x="3198600" y="1789200"/>
            <a:ext cx="781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Box 4"/>
          <p:cNvSpPr/>
          <p:nvPr/>
        </p:nvSpPr>
        <p:spPr>
          <a:xfrm>
            <a:off x="3391560" y="2887560"/>
            <a:ext cx="100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6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Box 5"/>
          <p:cNvSpPr/>
          <p:nvPr/>
        </p:nvSpPr>
        <p:spPr>
          <a:xfrm>
            <a:off x="3836160" y="3983040"/>
            <a:ext cx="100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3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Box 6"/>
          <p:cNvSpPr/>
          <p:nvPr/>
        </p:nvSpPr>
        <p:spPr>
          <a:xfrm>
            <a:off x="4029480" y="5079960"/>
            <a:ext cx="1232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1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23B7-6711-45BB-80D4-4745C8123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&amp;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Group 15"/>
          <p:cNvGrpSpPr/>
          <p:nvPr/>
        </p:nvGrpSpPr>
        <p:grpSpPr>
          <a:xfrm>
            <a:off x="762120" y="1371600"/>
            <a:ext cx="7589880" cy="2653560"/>
            <a:chOff x="762120" y="1371600"/>
            <a:chExt cx="7589880" cy="2653560"/>
          </a:xfrm>
        </p:grpSpPr>
        <p:grpSp>
          <p:nvGrpSpPr>
            <p:cNvPr id="1189" name="Group 13"/>
            <p:cNvGrpSpPr/>
            <p:nvPr/>
          </p:nvGrpSpPr>
          <p:grpSpPr>
            <a:xfrm>
              <a:off x="762120" y="1371600"/>
              <a:ext cx="7391880" cy="1354320"/>
              <a:chOff x="762120" y="1371600"/>
              <a:chExt cx="7391880" cy="1354320"/>
            </a:xfrm>
          </p:grpSpPr>
          <p:pic>
            <p:nvPicPr>
              <p:cNvPr id="1190" name="Rectangl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1371600"/>
                <a:ext cx="2794320" cy="135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1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0520" y="1371600"/>
                <a:ext cx="2553480" cy="135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Striped Right Arrow 6"/>
              <p:cNvSpPr/>
              <p:nvPr/>
            </p:nvSpPr>
            <p:spPr>
              <a:xfrm>
                <a:off x="3491280" y="1735920"/>
                <a:ext cx="2309760" cy="776880"/>
              </a:xfrm>
              <a:prstGeom prst="pie">
                <a:avLst/>
              </a:prstGeom>
              <a:solidFill>
                <a:srgbClr val="005bd0"/>
              </a:solidFill>
              <a:ln w="12600">
                <a:solidFill>
                  <a:srgbClr val="ff17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uccessiv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ivi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3" name="Rectangle 7"/>
            <p:cNvSpPr/>
            <p:nvPr/>
          </p:nvSpPr>
          <p:spPr>
            <a:xfrm>
              <a:off x="762120" y="2638080"/>
              <a:ext cx="7589880" cy="13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639720" indent="-3650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vide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mal Number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y 2; the remainder is the LSB of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ary 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39720" indent="-3650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the Quotient Zero, the conversion is complete; else repeat step (a) using the Quotient as the Decimal Number.  The new remainder is the next most significant bit of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ary Number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Rectangle 9"/>
          <p:cNvSpPr/>
          <p:nvPr/>
        </p:nvSpPr>
        <p:spPr>
          <a:xfrm>
            <a:off x="762120" y="5492880"/>
            <a:ext cx="74977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9720" indent="-365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ply each bit of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inary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by it corresponding bit-weighting factor (i.e. Bit-0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1; Bit-1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2; Bit-2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4; etc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m up all the products in step (a) to get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cimal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Group 20"/>
          <p:cNvGrpSpPr/>
          <p:nvPr/>
        </p:nvGrpSpPr>
        <p:grpSpPr>
          <a:xfrm>
            <a:off x="762120" y="4191120"/>
            <a:ext cx="7643520" cy="1353960"/>
            <a:chOff x="762120" y="4191120"/>
            <a:chExt cx="7643520" cy="1353960"/>
          </a:xfrm>
        </p:grpSpPr>
        <p:sp>
          <p:nvSpPr>
            <p:cNvPr id="1196" name="Striped Right Arrow 8"/>
            <p:cNvSpPr/>
            <p:nvPr/>
          </p:nvSpPr>
          <p:spPr>
            <a:xfrm>
              <a:off x="3494160" y="4554000"/>
              <a:ext cx="2313360" cy="779760"/>
            </a:xfrm>
            <a:prstGeom prst="pie">
              <a:avLst/>
            </a:prstGeom>
            <a:solidFill>
              <a:srgbClr val="005bd0"/>
            </a:solidFill>
            <a:ln w="12600">
              <a:solidFill>
                <a:srgbClr val="ff1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eigh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ultipl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7" name="Rectangle 18" descr=""/>
            <p:cNvPicPr/>
            <p:nvPr/>
          </p:nvPicPr>
          <p:blipFill>
            <a:blip r:embed="rId3"/>
            <a:stretch/>
          </p:blipFill>
          <p:spPr>
            <a:xfrm>
              <a:off x="5605200" y="4191120"/>
              <a:ext cx="280044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Rectangle 19" descr=""/>
            <p:cNvPicPr/>
            <p:nvPr/>
          </p:nvPicPr>
          <p:blipFill>
            <a:blip r:embed="rId4"/>
            <a:stretch/>
          </p:blipFill>
          <p:spPr>
            <a:xfrm>
              <a:off x="762120" y="4191120"/>
              <a:ext cx="2558880" cy="13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9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B04C-4518-435F-9F41-C0A6EB81C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mag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, Inc. (2008). Clip Art. Retrieved March 15, 2008 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office.microsoft.com/en-us/clipart/default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F2D6-AE28-4D61-8C3F-055FAD768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dging the Digital Div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Group 23"/>
          <p:cNvGrpSpPr/>
          <p:nvPr/>
        </p:nvGrpSpPr>
        <p:grpSpPr>
          <a:xfrm>
            <a:off x="228600" y="2514600"/>
            <a:ext cx="1189080" cy="1193760"/>
            <a:chOff x="228600" y="2514600"/>
            <a:chExt cx="1189080" cy="1193760"/>
          </a:xfrm>
        </p:grpSpPr>
        <p:sp>
          <p:nvSpPr>
            <p:cNvPr id="1006" name="Freeform 24"/>
            <p:cNvSpPr/>
            <p:nvPr/>
          </p:nvSpPr>
          <p:spPr>
            <a:xfrm>
              <a:off x="368280" y="2514600"/>
              <a:ext cx="1049400" cy="1050840"/>
            </a:xfrm>
            <a:custGeom>
              <a:avLst/>
              <a:gdLst>
                <a:gd name="textAreaLeft" fmla="*/ 0 w 1049400"/>
                <a:gd name="textAreaRight" fmla="*/ 1049400 w 104940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1323" h="1323">
                  <a:moveTo>
                    <a:pt x="662" y="0"/>
                  </a:moveTo>
                  <a:lnTo>
                    <a:pt x="729" y="4"/>
                  </a:lnTo>
                  <a:lnTo>
                    <a:pt x="795" y="14"/>
                  </a:lnTo>
                  <a:lnTo>
                    <a:pt x="859" y="30"/>
                  </a:lnTo>
                  <a:lnTo>
                    <a:pt x="918" y="52"/>
                  </a:lnTo>
                  <a:lnTo>
                    <a:pt x="977" y="80"/>
                  </a:lnTo>
                  <a:lnTo>
                    <a:pt x="1031" y="113"/>
                  </a:lnTo>
                  <a:lnTo>
                    <a:pt x="1082" y="151"/>
                  </a:lnTo>
                  <a:lnTo>
                    <a:pt x="1129" y="194"/>
                  </a:lnTo>
                  <a:lnTo>
                    <a:pt x="1172" y="241"/>
                  </a:lnTo>
                  <a:lnTo>
                    <a:pt x="1210" y="291"/>
                  </a:lnTo>
                  <a:lnTo>
                    <a:pt x="1243" y="347"/>
                  </a:lnTo>
                  <a:lnTo>
                    <a:pt x="1271" y="404"/>
                  </a:lnTo>
                  <a:lnTo>
                    <a:pt x="1293" y="465"/>
                  </a:lnTo>
                  <a:lnTo>
                    <a:pt x="1309" y="529"/>
                  </a:lnTo>
                  <a:lnTo>
                    <a:pt x="1319" y="594"/>
                  </a:lnTo>
                  <a:lnTo>
                    <a:pt x="1323" y="662"/>
                  </a:lnTo>
                  <a:lnTo>
                    <a:pt x="1319" y="730"/>
                  </a:lnTo>
                  <a:lnTo>
                    <a:pt x="1309" y="796"/>
                  </a:lnTo>
                  <a:lnTo>
                    <a:pt x="1293" y="859"/>
                  </a:lnTo>
                  <a:lnTo>
                    <a:pt x="1271" y="919"/>
                  </a:lnTo>
                  <a:lnTo>
                    <a:pt x="1243" y="978"/>
                  </a:lnTo>
                  <a:lnTo>
                    <a:pt x="1210" y="1032"/>
                  </a:lnTo>
                  <a:lnTo>
                    <a:pt x="1172" y="1083"/>
                  </a:lnTo>
                  <a:lnTo>
                    <a:pt x="1129" y="1130"/>
                  </a:lnTo>
                  <a:lnTo>
                    <a:pt x="1082" y="1172"/>
                  </a:lnTo>
                  <a:lnTo>
                    <a:pt x="1031" y="1210"/>
                  </a:lnTo>
                  <a:lnTo>
                    <a:pt x="977" y="1244"/>
                  </a:lnTo>
                  <a:lnTo>
                    <a:pt x="918" y="1271"/>
                  </a:lnTo>
                  <a:lnTo>
                    <a:pt x="859" y="1293"/>
                  </a:lnTo>
                  <a:lnTo>
                    <a:pt x="795" y="1309"/>
                  </a:lnTo>
                  <a:lnTo>
                    <a:pt x="729" y="1320"/>
                  </a:lnTo>
                  <a:lnTo>
                    <a:pt x="662" y="1323"/>
                  </a:lnTo>
                  <a:lnTo>
                    <a:pt x="594" y="1320"/>
                  </a:lnTo>
                  <a:lnTo>
                    <a:pt x="528" y="1309"/>
                  </a:lnTo>
                  <a:lnTo>
                    <a:pt x="465" y="1293"/>
                  </a:lnTo>
                  <a:lnTo>
                    <a:pt x="405" y="1271"/>
                  </a:lnTo>
                  <a:lnTo>
                    <a:pt x="346" y="1244"/>
                  </a:lnTo>
                  <a:lnTo>
                    <a:pt x="292" y="1210"/>
                  </a:lnTo>
                  <a:lnTo>
                    <a:pt x="241" y="1172"/>
                  </a:lnTo>
                  <a:lnTo>
                    <a:pt x="194" y="1130"/>
                  </a:lnTo>
                  <a:lnTo>
                    <a:pt x="151" y="1083"/>
                  </a:lnTo>
                  <a:lnTo>
                    <a:pt x="113" y="1032"/>
                  </a:lnTo>
                  <a:lnTo>
                    <a:pt x="80" y="978"/>
                  </a:lnTo>
                  <a:lnTo>
                    <a:pt x="52" y="919"/>
                  </a:lnTo>
                  <a:lnTo>
                    <a:pt x="30" y="859"/>
                  </a:lnTo>
                  <a:lnTo>
                    <a:pt x="14" y="796"/>
                  </a:lnTo>
                  <a:lnTo>
                    <a:pt x="4" y="730"/>
                  </a:lnTo>
                  <a:lnTo>
                    <a:pt x="0" y="662"/>
                  </a:lnTo>
                  <a:lnTo>
                    <a:pt x="4" y="594"/>
                  </a:lnTo>
                  <a:lnTo>
                    <a:pt x="14" y="529"/>
                  </a:lnTo>
                  <a:lnTo>
                    <a:pt x="30" y="465"/>
                  </a:lnTo>
                  <a:lnTo>
                    <a:pt x="52" y="404"/>
                  </a:lnTo>
                  <a:lnTo>
                    <a:pt x="80" y="347"/>
                  </a:lnTo>
                  <a:lnTo>
                    <a:pt x="113" y="291"/>
                  </a:lnTo>
                  <a:lnTo>
                    <a:pt x="151" y="241"/>
                  </a:lnTo>
                  <a:lnTo>
                    <a:pt x="194" y="194"/>
                  </a:lnTo>
                  <a:lnTo>
                    <a:pt x="241" y="151"/>
                  </a:lnTo>
                  <a:lnTo>
                    <a:pt x="292" y="113"/>
                  </a:lnTo>
                  <a:lnTo>
                    <a:pt x="346" y="80"/>
                  </a:lnTo>
                  <a:lnTo>
                    <a:pt x="405" y="52"/>
                  </a:lnTo>
                  <a:lnTo>
                    <a:pt x="465" y="30"/>
                  </a:lnTo>
                  <a:lnTo>
                    <a:pt x="528" y="14"/>
                  </a:lnTo>
                  <a:lnTo>
                    <a:pt x="594" y="4"/>
                  </a:lnTo>
                  <a:lnTo>
                    <a:pt x="662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25"/>
            <p:cNvSpPr/>
            <p:nvPr/>
          </p:nvSpPr>
          <p:spPr>
            <a:xfrm>
              <a:off x="351000" y="3290760"/>
              <a:ext cx="85680" cy="36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0" h="46">
                  <a:moveTo>
                    <a:pt x="110" y="0"/>
                  </a:moveTo>
                  <a:lnTo>
                    <a:pt x="97" y="0"/>
                  </a:lnTo>
                  <a:lnTo>
                    <a:pt x="84" y="1"/>
                  </a:lnTo>
                  <a:lnTo>
                    <a:pt x="70" y="1"/>
                  </a:lnTo>
                  <a:lnTo>
                    <a:pt x="57" y="2"/>
                  </a:lnTo>
                  <a:lnTo>
                    <a:pt x="43" y="3"/>
                  </a:lnTo>
                  <a:lnTo>
                    <a:pt x="29" y="3"/>
                  </a:lnTo>
                  <a:lnTo>
                    <a:pt x="14" y="5"/>
                  </a:lnTo>
                  <a:lnTo>
                    <a:pt x="0" y="5"/>
                  </a:lnTo>
                  <a:lnTo>
                    <a:pt x="0" y="46"/>
                  </a:lnTo>
                  <a:lnTo>
                    <a:pt x="110" y="24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26"/>
            <p:cNvSpPr/>
            <p:nvPr/>
          </p:nvSpPr>
          <p:spPr>
            <a:xfrm>
              <a:off x="228600" y="2801880"/>
              <a:ext cx="905040" cy="906480"/>
            </a:xfrm>
            <a:custGeom>
              <a:avLst/>
              <a:gdLst>
                <a:gd name="textAreaLeft" fmla="*/ 0 w 905040"/>
                <a:gd name="textAreaRight" fmla="*/ 905400 w 905040"/>
                <a:gd name="textAreaTop" fmla="*/ 0 h 906480"/>
                <a:gd name="textAreaBottom" fmla="*/ 906840 h 906480"/>
              </a:gdLst>
              <a:ahLst/>
              <a:rect l="textAreaLeft" t="textAreaTop" r="textAreaRight" b="textAreaBottom"/>
              <a:pathLst>
                <a:path w="1139" h="1141">
                  <a:moveTo>
                    <a:pt x="940" y="201"/>
                  </a:moveTo>
                  <a:lnTo>
                    <a:pt x="915" y="177"/>
                  </a:lnTo>
                  <a:lnTo>
                    <a:pt x="889" y="155"/>
                  </a:lnTo>
                  <a:lnTo>
                    <a:pt x="863" y="135"/>
                  </a:lnTo>
                  <a:lnTo>
                    <a:pt x="835" y="115"/>
                  </a:lnTo>
                  <a:lnTo>
                    <a:pt x="806" y="97"/>
                  </a:lnTo>
                  <a:lnTo>
                    <a:pt x="778" y="80"/>
                  </a:lnTo>
                  <a:lnTo>
                    <a:pt x="748" y="66"/>
                  </a:lnTo>
                  <a:lnTo>
                    <a:pt x="718" y="52"/>
                  </a:lnTo>
                  <a:lnTo>
                    <a:pt x="687" y="40"/>
                  </a:lnTo>
                  <a:lnTo>
                    <a:pt x="654" y="30"/>
                  </a:lnTo>
                  <a:lnTo>
                    <a:pt x="622" y="21"/>
                  </a:lnTo>
                  <a:lnTo>
                    <a:pt x="590" y="13"/>
                  </a:lnTo>
                  <a:lnTo>
                    <a:pt x="556" y="7"/>
                  </a:lnTo>
                  <a:lnTo>
                    <a:pt x="523" y="3"/>
                  </a:lnTo>
                  <a:lnTo>
                    <a:pt x="490" y="1"/>
                  </a:lnTo>
                  <a:lnTo>
                    <a:pt x="455" y="0"/>
                  </a:lnTo>
                  <a:lnTo>
                    <a:pt x="153" y="0"/>
                  </a:lnTo>
                  <a:lnTo>
                    <a:pt x="153" y="252"/>
                  </a:lnTo>
                  <a:lnTo>
                    <a:pt x="0" y="252"/>
                  </a:lnTo>
                  <a:lnTo>
                    <a:pt x="0" y="361"/>
                  </a:lnTo>
                  <a:lnTo>
                    <a:pt x="153" y="361"/>
                  </a:lnTo>
                  <a:lnTo>
                    <a:pt x="153" y="621"/>
                  </a:lnTo>
                  <a:lnTo>
                    <a:pt x="167" y="621"/>
                  </a:lnTo>
                  <a:lnTo>
                    <a:pt x="182" y="619"/>
                  </a:lnTo>
                  <a:lnTo>
                    <a:pt x="196" y="619"/>
                  </a:lnTo>
                  <a:lnTo>
                    <a:pt x="210" y="618"/>
                  </a:lnTo>
                  <a:lnTo>
                    <a:pt x="223" y="617"/>
                  </a:lnTo>
                  <a:lnTo>
                    <a:pt x="237" y="617"/>
                  </a:lnTo>
                  <a:lnTo>
                    <a:pt x="250" y="616"/>
                  </a:lnTo>
                  <a:lnTo>
                    <a:pt x="263" y="616"/>
                  </a:lnTo>
                  <a:lnTo>
                    <a:pt x="263" y="361"/>
                  </a:lnTo>
                  <a:lnTo>
                    <a:pt x="556" y="361"/>
                  </a:lnTo>
                  <a:lnTo>
                    <a:pt x="556" y="252"/>
                  </a:lnTo>
                  <a:lnTo>
                    <a:pt x="263" y="252"/>
                  </a:lnTo>
                  <a:lnTo>
                    <a:pt x="263" y="109"/>
                  </a:lnTo>
                  <a:lnTo>
                    <a:pt x="455" y="109"/>
                  </a:lnTo>
                  <a:lnTo>
                    <a:pt x="484" y="110"/>
                  </a:lnTo>
                  <a:lnTo>
                    <a:pt x="513" y="112"/>
                  </a:lnTo>
                  <a:lnTo>
                    <a:pt x="540" y="115"/>
                  </a:lnTo>
                  <a:lnTo>
                    <a:pt x="568" y="121"/>
                  </a:lnTo>
                  <a:lnTo>
                    <a:pt x="596" y="127"/>
                  </a:lnTo>
                  <a:lnTo>
                    <a:pt x="623" y="133"/>
                  </a:lnTo>
                  <a:lnTo>
                    <a:pt x="650" y="143"/>
                  </a:lnTo>
                  <a:lnTo>
                    <a:pt x="676" y="153"/>
                  </a:lnTo>
                  <a:lnTo>
                    <a:pt x="702" y="165"/>
                  </a:lnTo>
                  <a:lnTo>
                    <a:pt x="726" y="177"/>
                  </a:lnTo>
                  <a:lnTo>
                    <a:pt x="750" y="191"/>
                  </a:lnTo>
                  <a:lnTo>
                    <a:pt x="774" y="206"/>
                  </a:lnTo>
                  <a:lnTo>
                    <a:pt x="797" y="222"/>
                  </a:lnTo>
                  <a:lnTo>
                    <a:pt x="819" y="239"/>
                  </a:lnTo>
                  <a:lnTo>
                    <a:pt x="841" y="259"/>
                  </a:lnTo>
                  <a:lnTo>
                    <a:pt x="862" y="279"/>
                  </a:lnTo>
                  <a:lnTo>
                    <a:pt x="896" y="315"/>
                  </a:lnTo>
                  <a:lnTo>
                    <a:pt x="927" y="356"/>
                  </a:lnTo>
                  <a:lnTo>
                    <a:pt x="954" y="397"/>
                  </a:lnTo>
                  <a:lnTo>
                    <a:pt x="977" y="441"/>
                  </a:lnTo>
                  <a:lnTo>
                    <a:pt x="995" y="486"/>
                  </a:lnTo>
                  <a:lnTo>
                    <a:pt x="1010" y="533"/>
                  </a:lnTo>
                  <a:lnTo>
                    <a:pt x="1021" y="581"/>
                  </a:lnTo>
                  <a:lnTo>
                    <a:pt x="1028" y="631"/>
                  </a:lnTo>
                  <a:lnTo>
                    <a:pt x="828" y="631"/>
                  </a:lnTo>
                  <a:lnTo>
                    <a:pt x="828" y="730"/>
                  </a:lnTo>
                  <a:lnTo>
                    <a:pt x="502" y="730"/>
                  </a:lnTo>
                  <a:lnTo>
                    <a:pt x="524" y="801"/>
                  </a:lnTo>
                  <a:lnTo>
                    <a:pt x="535" y="829"/>
                  </a:lnTo>
                  <a:lnTo>
                    <a:pt x="548" y="854"/>
                  </a:lnTo>
                  <a:lnTo>
                    <a:pt x="563" y="877"/>
                  </a:lnTo>
                  <a:lnTo>
                    <a:pt x="581" y="897"/>
                  </a:lnTo>
                  <a:lnTo>
                    <a:pt x="599" y="915"/>
                  </a:lnTo>
                  <a:lnTo>
                    <a:pt x="619" y="933"/>
                  </a:lnTo>
                  <a:lnTo>
                    <a:pt x="641" y="946"/>
                  </a:lnTo>
                  <a:lnTo>
                    <a:pt x="662" y="959"/>
                  </a:lnTo>
                  <a:lnTo>
                    <a:pt x="684" y="971"/>
                  </a:lnTo>
                  <a:lnTo>
                    <a:pt x="706" y="980"/>
                  </a:lnTo>
                  <a:lnTo>
                    <a:pt x="729" y="988"/>
                  </a:lnTo>
                  <a:lnTo>
                    <a:pt x="751" y="994"/>
                  </a:lnTo>
                  <a:lnTo>
                    <a:pt x="772" y="999"/>
                  </a:lnTo>
                  <a:lnTo>
                    <a:pt x="793" y="1004"/>
                  </a:lnTo>
                  <a:lnTo>
                    <a:pt x="811" y="1007"/>
                  </a:lnTo>
                  <a:lnTo>
                    <a:pt x="828" y="1010"/>
                  </a:lnTo>
                  <a:lnTo>
                    <a:pt x="828" y="1032"/>
                  </a:lnTo>
                  <a:lnTo>
                    <a:pt x="263" y="1032"/>
                  </a:lnTo>
                  <a:lnTo>
                    <a:pt x="263" y="640"/>
                  </a:lnTo>
                  <a:lnTo>
                    <a:pt x="153" y="662"/>
                  </a:lnTo>
                  <a:lnTo>
                    <a:pt x="153" y="1141"/>
                  </a:lnTo>
                  <a:lnTo>
                    <a:pt x="938" y="1140"/>
                  </a:lnTo>
                  <a:lnTo>
                    <a:pt x="938" y="906"/>
                  </a:lnTo>
                  <a:lnTo>
                    <a:pt x="884" y="905"/>
                  </a:lnTo>
                  <a:lnTo>
                    <a:pt x="882" y="905"/>
                  </a:lnTo>
                  <a:lnTo>
                    <a:pt x="878" y="905"/>
                  </a:lnTo>
                  <a:lnTo>
                    <a:pt x="871" y="904"/>
                  </a:lnTo>
                  <a:lnTo>
                    <a:pt x="862" y="904"/>
                  </a:lnTo>
                  <a:lnTo>
                    <a:pt x="851" y="903"/>
                  </a:lnTo>
                  <a:lnTo>
                    <a:pt x="839" y="900"/>
                  </a:lnTo>
                  <a:lnTo>
                    <a:pt x="825" y="898"/>
                  </a:lnTo>
                  <a:lnTo>
                    <a:pt x="810" y="896"/>
                  </a:lnTo>
                  <a:lnTo>
                    <a:pt x="794" y="892"/>
                  </a:lnTo>
                  <a:lnTo>
                    <a:pt x="778" y="888"/>
                  </a:lnTo>
                  <a:lnTo>
                    <a:pt x="760" y="882"/>
                  </a:lnTo>
                  <a:lnTo>
                    <a:pt x="743" y="876"/>
                  </a:lnTo>
                  <a:lnTo>
                    <a:pt x="726" y="868"/>
                  </a:lnTo>
                  <a:lnTo>
                    <a:pt x="710" y="860"/>
                  </a:lnTo>
                  <a:lnTo>
                    <a:pt x="694" y="851"/>
                  </a:lnTo>
                  <a:lnTo>
                    <a:pt x="679" y="839"/>
                  </a:lnTo>
                  <a:lnTo>
                    <a:pt x="938" y="839"/>
                  </a:lnTo>
                  <a:lnTo>
                    <a:pt x="938" y="740"/>
                  </a:lnTo>
                  <a:lnTo>
                    <a:pt x="1139" y="740"/>
                  </a:lnTo>
                  <a:lnTo>
                    <a:pt x="1139" y="685"/>
                  </a:lnTo>
                  <a:lnTo>
                    <a:pt x="1138" y="650"/>
                  </a:lnTo>
                  <a:lnTo>
                    <a:pt x="1136" y="617"/>
                  </a:lnTo>
                  <a:lnTo>
                    <a:pt x="1132" y="584"/>
                  </a:lnTo>
                  <a:lnTo>
                    <a:pt x="1127" y="550"/>
                  </a:lnTo>
                  <a:lnTo>
                    <a:pt x="1119" y="518"/>
                  </a:lnTo>
                  <a:lnTo>
                    <a:pt x="1111" y="486"/>
                  </a:lnTo>
                  <a:lnTo>
                    <a:pt x="1100" y="454"/>
                  </a:lnTo>
                  <a:lnTo>
                    <a:pt x="1089" y="422"/>
                  </a:lnTo>
                  <a:lnTo>
                    <a:pt x="1075" y="393"/>
                  </a:lnTo>
                  <a:lnTo>
                    <a:pt x="1060" y="363"/>
                  </a:lnTo>
                  <a:lnTo>
                    <a:pt x="1044" y="334"/>
                  </a:lnTo>
                  <a:lnTo>
                    <a:pt x="1025" y="306"/>
                  </a:lnTo>
                  <a:lnTo>
                    <a:pt x="1007" y="279"/>
                  </a:lnTo>
                  <a:lnTo>
                    <a:pt x="986" y="252"/>
                  </a:lnTo>
                  <a:lnTo>
                    <a:pt x="963" y="226"/>
                  </a:lnTo>
                  <a:lnTo>
                    <a:pt x="940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29"/>
            <p:cNvSpPr/>
            <p:nvPr/>
          </p:nvSpPr>
          <p:spPr>
            <a:xfrm>
              <a:off x="903240" y="2882880"/>
              <a:ext cx="379440" cy="3776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77" h="478">
                  <a:moveTo>
                    <a:pt x="240" y="478"/>
                  </a:moveTo>
                  <a:lnTo>
                    <a:pt x="263" y="477"/>
                  </a:lnTo>
                  <a:lnTo>
                    <a:pt x="286" y="473"/>
                  </a:lnTo>
                  <a:lnTo>
                    <a:pt x="308" y="468"/>
                  </a:lnTo>
                  <a:lnTo>
                    <a:pt x="330" y="460"/>
                  </a:lnTo>
                  <a:lnTo>
                    <a:pt x="350" y="449"/>
                  </a:lnTo>
                  <a:lnTo>
                    <a:pt x="371" y="438"/>
                  </a:lnTo>
                  <a:lnTo>
                    <a:pt x="390" y="424"/>
                  </a:lnTo>
                  <a:lnTo>
                    <a:pt x="408" y="408"/>
                  </a:lnTo>
                  <a:lnTo>
                    <a:pt x="424" y="390"/>
                  </a:lnTo>
                  <a:lnTo>
                    <a:pt x="438" y="371"/>
                  </a:lnTo>
                  <a:lnTo>
                    <a:pt x="449" y="351"/>
                  </a:lnTo>
                  <a:lnTo>
                    <a:pt x="460" y="331"/>
                  </a:lnTo>
                  <a:lnTo>
                    <a:pt x="467" y="309"/>
                  </a:lnTo>
                  <a:lnTo>
                    <a:pt x="473" y="286"/>
                  </a:lnTo>
                  <a:lnTo>
                    <a:pt x="476" y="263"/>
                  </a:lnTo>
                  <a:lnTo>
                    <a:pt x="477" y="238"/>
                  </a:lnTo>
                  <a:lnTo>
                    <a:pt x="476" y="215"/>
                  </a:lnTo>
                  <a:lnTo>
                    <a:pt x="473" y="191"/>
                  </a:lnTo>
                  <a:lnTo>
                    <a:pt x="467" y="169"/>
                  </a:lnTo>
                  <a:lnTo>
                    <a:pt x="460" y="147"/>
                  </a:lnTo>
                  <a:lnTo>
                    <a:pt x="449" y="127"/>
                  </a:lnTo>
                  <a:lnTo>
                    <a:pt x="438" y="107"/>
                  </a:lnTo>
                  <a:lnTo>
                    <a:pt x="424" y="88"/>
                  </a:lnTo>
                  <a:lnTo>
                    <a:pt x="408" y="70"/>
                  </a:lnTo>
                  <a:lnTo>
                    <a:pt x="390" y="54"/>
                  </a:lnTo>
                  <a:lnTo>
                    <a:pt x="371" y="40"/>
                  </a:lnTo>
                  <a:lnTo>
                    <a:pt x="350" y="29"/>
                  </a:lnTo>
                  <a:lnTo>
                    <a:pt x="330" y="18"/>
                  </a:lnTo>
                  <a:lnTo>
                    <a:pt x="308" y="10"/>
                  </a:lnTo>
                  <a:lnTo>
                    <a:pt x="286" y="5"/>
                  </a:lnTo>
                  <a:lnTo>
                    <a:pt x="263" y="1"/>
                  </a:lnTo>
                  <a:lnTo>
                    <a:pt x="240" y="0"/>
                  </a:lnTo>
                  <a:lnTo>
                    <a:pt x="216" y="1"/>
                  </a:lnTo>
                  <a:lnTo>
                    <a:pt x="191" y="5"/>
                  </a:lnTo>
                  <a:lnTo>
                    <a:pt x="168" y="10"/>
                  </a:lnTo>
                  <a:lnTo>
                    <a:pt x="147" y="18"/>
                  </a:lnTo>
                  <a:lnTo>
                    <a:pt x="126" y="29"/>
                  </a:lnTo>
                  <a:lnTo>
                    <a:pt x="106" y="40"/>
                  </a:lnTo>
                  <a:lnTo>
                    <a:pt x="88" y="54"/>
                  </a:lnTo>
                  <a:lnTo>
                    <a:pt x="70" y="70"/>
                  </a:lnTo>
                  <a:lnTo>
                    <a:pt x="54" y="86"/>
                  </a:lnTo>
                  <a:lnTo>
                    <a:pt x="41" y="105"/>
                  </a:lnTo>
                  <a:lnTo>
                    <a:pt x="29" y="124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8"/>
                  </a:lnTo>
                  <a:lnTo>
                    <a:pt x="1" y="263"/>
                  </a:lnTo>
                  <a:lnTo>
                    <a:pt x="5" y="286"/>
                  </a:lnTo>
                  <a:lnTo>
                    <a:pt x="11" y="309"/>
                  </a:lnTo>
                  <a:lnTo>
                    <a:pt x="19" y="331"/>
                  </a:lnTo>
                  <a:lnTo>
                    <a:pt x="29" y="351"/>
                  </a:lnTo>
                  <a:lnTo>
                    <a:pt x="41" y="371"/>
                  </a:lnTo>
                  <a:lnTo>
                    <a:pt x="54" y="390"/>
                  </a:lnTo>
                  <a:lnTo>
                    <a:pt x="70" y="408"/>
                  </a:lnTo>
                  <a:lnTo>
                    <a:pt x="88" y="424"/>
                  </a:lnTo>
                  <a:lnTo>
                    <a:pt x="107" y="438"/>
                  </a:lnTo>
                  <a:lnTo>
                    <a:pt x="127" y="449"/>
                  </a:lnTo>
                  <a:lnTo>
                    <a:pt x="148" y="460"/>
                  </a:lnTo>
                  <a:lnTo>
                    <a:pt x="170" y="468"/>
                  </a:lnTo>
                  <a:lnTo>
                    <a:pt x="193" y="473"/>
                  </a:lnTo>
                  <a:lnTo>
                    <a:pt x="216" y="477"/>
                  </a:lnTo>
                  <a:lnTo>
                    <a:pt x="240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30"/>
            <p:cNvSpPr/>
            <p:nvPr/>
          </p:nvSpPr>
          <p:spPr>
            <a:xfrm>
              <a:off x="1001880" y="2979720"/>
              <a:ext cx="182520" cy="1839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1" h="232">
                  <a:moveTo>
                    <a:pt x="0" y="115"/>
                  </a:moveTo>
                  <a:lnTo>
                    <a:pt x="2" y="104"/>
                  </a:lnTo>
                  <a:lnTo>
                    <a:pt x="3" y="94"/>
                  </a:lnTo>
                  <a:lnTo>
                    <a:pt x="5" y="82"/>
                  </a:lnTo>
                  <a:lnTo>
                    <a:pt x="10" y="72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2" y="19"/>
                  </a:lnTo>
                  <a:lnTo>
                    <a:pt x="63" y="13"/>
                  </a:lnTo>
                  <a:lnTo>
                    <a:pt x="73" y="8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40" y="3"/>
                  </a:lnTo>
                  <a:lnTo>
                    <a:pt x="150" y="5"/>
                  </a:lnTo>
                  <a:lnTo>
                    <a:pt x="161" y="8"/>
                  </a:lnTo>
                  <a:lnTo>
                    <a:pt x="171" y="13"/>
                  </a:lnTo>
                  <a:lnTo>
                    <a:pt x="180" y="19"/>
                  </a:lnTo>
                  <a:lnTo>
                    <a:pt x="189" y="26"/>
                  </a:lnTo>
                  <a:lnTo>
                    <a:pt x="197" y="34"/>
                  </a:lnTo>
                  <a:lnTo>
                    <a:pt x="212" y="51"/>
                  </a:lnTo>
                  <a:lnTo>
                    <a:pt x="223" y="72"/>
                  </a:lnTo>
                  <a:lnTo>
                    <a:pt x="229" y="94"/>
                  </a:lnTo>
                  <a:lnTo>
                    <a:pt x="231" y="115"/>
                  </a:lnTo>
                  <a:lnTo>
                    <a:pt x="229" y="138"/>
                  </a:lnTo>
                  <a:lnTo>
                    <a:pt x="222" y="160"/>
                  </a:lnTo>
                  <a:lnTo>
                    <a:pt x="211" y="181"/>
                  </a:lnTo>
                  <a:lnTo>
                    <a:pt x="197" y="197"/>
                  </a:lnTo>
                  <a:lnTo>
                    <a:pt x="180" y="212"/>
                  </a:lnTo>
                  <a:lnTo>
                    <a:pt x="161" y="223"/>
                  </a:lnTo>
                  <a:lnTo>
                    <a:pt x="140" y="229"/>
                  </a:lnTo>
                  <a:lnTo>
                    <a:pt x="117" y="232"/>
                  </a:lnTo>
                  <a:lnTo>
                    <a:pt x="105" y="232"/>
                  </a:lnTo>
                  <a:lnTo>
                    <a:pt x="94" y="229"/>
                  </a:lnTo>
                  <a:lnTo>
                    <a:pt x="83" y="227"/>
                  </a:lnTo>
                  <a:lnTo>
                    <a:pt x="73" y="224"/>
                  </a:lnTo>
                  <a:lnTo>
                    <a:pt x="63" y="219"/>
                  </a:lnTo>
                  <a:lnTo>
                    <a:pt x="52" y="213"/>
                  </a:lnTo>
                  <a:lnTo>
                    <a:pt x="43" y="206"/>
                  </a:lnTo>
                  <a:lnTo>
                    <a:pt x="35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1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3" y="138"/>
                  </a:lnTo>
                  <a:lnTo>
                    <a:pt x="2" y="12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31"/>
            <p:cNvSpPr/>
            <p:nvPr/>
          </p:nvSpPr>
          <p:spPr>
            <a:xfrm>
              <a:off x="603360" y="2882880"/>
              <a:ext cx="379440" cy="3776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78" h="478">
                  <a:moveTo>
                    <a:pt x="239" y="478"/>
                  </a:moveTo>
                  <a:lnTo>
                    <a:pt x="263" y="477"/>
                  </a:lnTo>
                  <a:lnTo>
                    <a:pt x="286" y="473"/>
                  </a:lnTo>
                  <a:lnTo>
                    <a:pt x="308" y="468"/>
                  </a:lnTo>
                  <a:lnTo>
                    <a:pt x="331" y="460"/>
                  </a:lnTo>
                  <a:lnTo>
                    <a:pt x="352" y="449"/>
                  </a:lnTo>
                  <a:lnTo>
                    <a:pt x="371" y="438"/>
                  </a:lnTo>
                  <a:lnTo>
                    <a:pt x="391" y="424"/>
                  </a:lnTo>
                  <a:lnTo>
                    <a:pt x="408" y="408"/>
                  </a:lnTo>
                  <a:lnTo>
                    <a:pt x="424" y="390"/>
                  </a:lnTo>
                  <a:lnTo>
                    <a:pt x="438" y="371"/>
                  </a:lnTo>
                  <a:lnTo>
                    <a:pt x="450" y="351"/>
                  </a:lnTo>
                  <a:lnTo>
                    <a:pt x="460" y="331"/>
                  </a:lnTo>
                  <a:lnTo>
                    <a:pt x="468" y="309"/>
                  </a:lnTo>
                  <a:lnTo>
                    <a:pt x="474" y="286"/>
                  </a:lnTo>
                  <a:lnTo>
                    <a:pt x="477" y="263"/>
                  </a:lnTo>
                  <a:lnTo>
                    <a:pt x="478" y="238"/>
                  </a:lnTo>
                  <a:lnTo>
                    <a:pt x="477" y="215"/>
                  </a:lnTo>
                  <a:lnTo>
                    <a:pt x="474" y="191"/>
                  </a:lnTo>
                  <a:lnTo>
                    <a:pt x="468" y="169"/>
                  </a:lnTo>
                  <a:lnTo>
                    <a:pt x="460" y="147"/>
                  </a:lnTo>
                  <a:lnTo>
                    <a:pt x="450" y="127"/>
                  </a:lnTo>
                  <a:lnTo>
                    <a:pt x="438" y="107"/>
                  </a:lnTo>
                  <a:lnTo>
                    <a:pt x="424" y="88"/>
                  </a:lnTo>
                  <a:lnTo>
                    <a:pt x="408" y="70"/>
                  </a:lnTo>
                  <a:lnTo>
                    <a:pt x="391" y="54"/>
                  </a:lnTo>
                  <a:lnTo>
                    <a:pt x="371" y="40"/>
                  </a:lnTo>
                  <a:lnTo>
                    <a:pt x="352" y="29"/>
                  </a:lnTo>
                  <a:lnTo>
                    <a:pt x="331" y="18"/>
                  </a:lnTo>
                  <a:lnTo>
                    <a:pt x="308" y="10"/>
                  </a:lnTo>
                  <a:lnTo>
                    <a:pt x="286" y="5"/>
                  </a:lnTo>
                  <a:lnTo>
                    <a:pt x="263" y="1"/>
                  </a:lnTo>
                  <a:lnTo>
                    <a:pt x="239" y="0"/>
                  </a:lnTo>
                  <a:lnTo>
                    <a:pt x="215" y="1"/>
                  </a:lnTo>
                  <a:lnTo>
                    <a:pt x="190" y="5"/>
                  </a:lnTo>
                  <a:lnTo>
                    <a:pt x="169" y="10"/>
                  </a:lnTo>
                  <a:lnTo>
                    <a:pt x="147" y="18"/>
                  </a:lnTo>
                  <a:lnTo>
                    <a:pt x="125" y="29"/>
                  </a:lnTo>
                  <a:lnTo>
                    <a:pt x="105" y="40"/>
                  </a:lnTo>
                  <a:lnTo>
                    <a:pt x="87" y="54"/>
                  </a:lnTo>
                  <a:lnTo>
                    <a:pt x="71" y="70"/>
                  </a:lnTo>
                  <a:lnTo>
                    <a:pt x="54" y="86"/>
                  </a:lnTo>
                  <a:lnTo>
                    <a:pt x="41" y="105"/>
                  </a:lnTo>
                  <a:lnTo>
                    <a:pt x="29" y="124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8"/>
                  </a:lnTo>
                  <a:lnTo>
                    <a:pt x="1" y="263"/>
                  </a:lnTo>
                  <a:lnTo>
                    <a:pt x="5" y="286"/>
                  </a:lnTo>
                  <a:lnTo>
                    <a:pt x="11" y="309"/>
                  </a:lnTo>
                  <a:lnTo>
                    <a:pt x="18" y="331"/>
                  </a:lnTo>
                  <a:lnTo>
                    <a:pt x="28" y="351"/>
                  </a:lnTo>
                  <a:lnTo>
                    <a:pt x="39" y="371"/>
                  </a:lnTo>
                  <a:lnTo>
                    <a:pt x="53" y="390"/>
                  </a:lnTo>
                  <a:lnTo>
                    <a:pt x="69" y="408"/>
                  </a:lnTo>
                  <a:lnTo>
                    <a:pt x="87" y="424"/>
                  </a:lnTo>
                  <a:lnTo>
                    <a:pt x="106" y="438"/>
                  </a:lnTo>
                  <a:lnTo>
                    <a:pt x="126" y="449"/>
                  </a:lnTo>
                  <a:lnTo>
                    <a:pt x="148" y="460"/>
                  </a:lnTo>
                  <a:lnTo>
                    <a:pt x="170" y="468"/>
                  </a:lnTo>
                  <a:lnTo>
                    <a:pt x="192" y="473"/>
                  </a:lnTo>
                  <a:lnTo>
                    <a:pt x="215" y="477"/>
                  </a:lnTo>
                  <a:lnTo>
                    <a:pt x="239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32"/>
            <p:cNvSpPr/>
            <p:nvPr/>
          </p:nvSpPr>
          <p:spPr>
            <a:xfrm>
              <a:off x="700200" y="2979720"/>
              <a:ext cx="185760" cy="1839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3" h="232">
                  <a:moveTo>
                    <a:pt x="0" y="115"/>
                  </a:moveTo>
                  <a:lnTo>
                    <a:pt x="2" y="104"/>
                  </a:lnTo>
                  <a:lnTo>
                    <a:pt x="3" y="94"/>
                  </a:lnTo>
                  <a:lnTo>
                    <a:pt x="5" y="82"/>
                  </a:lnTo>
                  <a:lnTo>
                    <a:pt x="10" y="72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2" y="19"/>
                  </a:lnTo>
                  <a:lnTo>
                    <a:pt x="63" y="13"/>
                  </a:lnTo>
                  <a:lnTo>
                    <a:pt x="73" y="8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40" y="3"/>
                  </a:lnTo>
                  <a:lnTo>
                    <a:pt x="150" y="5"/>
                  </a:lnTo>
                  <a:lnTo>
                    <a:pt x="162" y="8"/>
                  </a:lnTo>
                  <a:lnTo>
                    <a:pt x="171" y="13"/>
                  </a:lnTo>
                  <a:lnTo>
                    <a:pt x="181" y="19"/>
                  </a:lnTo>
                  <a:lnTo>
                    <a:pt x="191" y="26"/>
                  </a:lnTo>
                  <a:lnTo>
                    <a:pt x="199" y="34"/>
                  </a:lnTo>
                  <a:lnTo>
                    <a:pt x="207" y="42"/>
                  </a:lnTo>
                  <a:lnTo>
                    <a:pt x="214" y="51"/>
                  </a:lnTo>
                  <a:lnTo>
                    <a:pt x="219" y="61"/>
                  </a:lnTo>
                  <a:lnTo>
                    <a:pt x="224" y="72"/>
                  </a:lnTo>
                  <a:lnTo>
                    <a:pt x="229" y="82"/>
                  </a:lnTo>
                  <a:lnTo>
                    <a:pt x="231" y="94"/>
                  </a:lnTo>
                  <a:lnTo>
                    <a:pt x="232" y="104"/>
                  </a:lnTo>
                  <a:lnTo>
                    <a:pt x="233" y="115"/>
                  </a:lnTo>
                  <a:lnTo>
                    <a:pt x="231" y="138"/>
                  </a:lnTo>
                  <a:lnTo>
                    <a:pt x="224" y="160"/>
                  </a:lnTo>
                  <a:lnTo>
                    <a:pt x="214" y="181"/>
                  </a:lnTo>
                  <a:lnTo>
                    <a:pt x="200" y="197"/>
                  </a:lnTo>
                  <a:lnTo>
                    <a:pt x="182" y="212"/>
                  </a:lnTo>
                  <a:lnTo>
                    <a:pt x="162" y="223"/>
                  </a:lnTo>
                  <a:lnTo>
                    <a:pt x="140" y="229"/>
                  </a:lnTo>
                  <a:lnTo>
                    <a:pt x="117" y="232"/>
                  </a:lnTo>
                  <a:lnTo>
                    <a:pt x="105" y="232"/>
                  </a:lnTo>
                  <a:lnTo>
                    <a:pt x="94" y="229"/>
                  </a:lnTo>
                  <a:lnTo>
                    <a:pt x="83" y="227"/>
                  </a:lnTo>
                  <a:lnTo>
                    <a:pt x="73" y="224"/>
                  </a:lnTo>
                  <a:lnTo>
                    <a:pt x="63" y="219"/>
                  </a:lnTo>
                  <a:lnTo>
                    <a:pt x="52" y="213"/>
                  </a:lnTo>
                  <a:lnTo>
                    <a:pt x="43" y="206"/>
                  </a:lnTo>
                  <a:lnTo>
                    <a:pt x="35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1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3" y="138"/>
                  </a:lnTo>
                  <a:lnTo>
                    <a:pt x="2" y="12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33"/>
            <p:cNvSpPr/>
            <p:nvPr/>
          </p:nvSpPr>
          <p:spPr>
            <a:xfrm>
              <a:off x="1068480" y="3046320"/>
              <a:ext cx="49320" cy="507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64">
                  <a:moveTo>
                    <a:pt x="32" y="64"/>
                  </a:moveTo>
                  <a:lnTo>
                    <a:pt x="44" y="61"/>
                  </a:lnTo>
                  <a:lnTo>
                    <a:pt x="54" y="54"/>
                  </a:lnTo>
                  <a:lnTo>
                    <a:pt x="61" y="44"/>
                  </a:lnTo>
                  <a:lnTo>
                    <a:pt x="63" y="31"/>
                  </a:lnTo>
                  <a:lnTo>
                    <a:pt x="61" y="19"/>
                  </a:lnTo>
                  <a:lnTo>
                    <a:pt x="54" y="10"/>
                  </a:lnTo>
                  <a:lnTo>
                    <a:pt x="44" y="3"/>
                  </a:lnTo>
                  <a:lnTo>
                    <a:pt x="32" y="0"/>
                  </a:lnTo>
                  <a:lnTo>
                    <a:pt x="19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9" y="54"/>
                  </a:lnTo>
                  <a:lnTo>
                    <a:pt x="19" y="61"/>
                  </a:lnTo>
                  <a:lnTo>
                    <a:pt x="32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34"/>
            <p:cNvSpPr/>
            <p:nvPr/>
          </p:nvSpPr>
          <p:spPr>
            <a:xfrm>
              <a:off x="768600" y="30463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64">
                  <a:moveTo>
                    <a:pt x="31" y="64"/>
                  </a:moveTo>
                  <a:lnTo>
                    <a:pt x="43" y="61"/>
                  </a:lnTo>
                  <a:lnTo>
                    <a:pt x="54" y="54"/>
                  </a:lnTo>
                  <a:lnTo>
                    <a:pt x="61" y="44"/>
                  </a:lnTo>
                  <a:lnTo>
                    <a:pt x="63" y="31"/>
                  </a:lnTo>
                  <a:lnTo>
                    <a:pt x="61" y="19"/>
                  </a:lnTo>
                  <a:lnTo>
                    <a:pt x="54" y="10"/>
                  </a:lnTo>
                  <a:lnTo>
                    <a:pt x="43" y="3"/>
                  </a:lnTo>
                  <a:lnTo>
                    <a:pt x="31" y="0"/>
                  </a:lnTo>
                  <a:lnTo>
                    <a:pt x="18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9" y="54"/>
                  </a:lnTo>
                  <a:lnTo>
                    <a:pt x="18" y="61"/>
                  </a:lnTo>
                  <a:lnTo>
                    <a:pt x="31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Group 37"/>
          <p:cNvGrpSpPr/>
          <p:nvPr/>
        </p:nvGrpSpPr>
        <p:grpSpPr>
          <a:xfrm>
            <a:off x="3595680" y="2525760"/>
            <a:ext cx="1128240" cy="1208160"/>
            <a:chOff x="3595680" y="2525760"/>
            <a:chExt cx="1128240" cy="1208160"/>
          </a:xfrm>
        </p:grpSpPr>
        <p:sp>
          <p:nvSpPr>
            <p:cNvPr id="1016" name="Freeform 38"/>
            <p:cNvSpPr/>
            <p:nvPr/>
          </p:nvSpPr>
          <p:spPr>
            <a:xfrm flipH="1">
              <a:off x="3744720" y="2525760"/>
              <a:ext cx="979200" cy="976320"/>
            </a:xfrm>
            <a:custGeom>
              <a:avLst/>
              <a:gdLst>
                <a:gd name="textAreaLeft" fmla="*/ 360 w 979200"/>
                <a:gd name="textAreaRight" fmla="*/ 979920 w 97920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617" h="615">
                  <a:moveTo>
                    <a:pt x="308" y="0"/>
                  </a:moveTo>
                  <a:lnTo>
                    <a:pt x="340" y="1"/>
                  </a:lnTo>
                  <a:lnTo>
                    <a:pt x="370" y="6"/>
                  </a:lnTo>
                  <a:lnTo>
                    <a:pt x="400" y="14"/>
                  </a:lnTo>
                  <a:lnTo>
                    <a:pt x="429" y="24"/>
                  </a:lnTo>
                  <a:lnTo>
                    <a:pt x="456" y="37"/>
                  </a:lnTo>
                  <a:lnTo>
                    <a:pt x="481" y="52"/>
                  </a:lnTo>
                  <a:lnTo>
                    <a:pt x="504" y="70"/>
                  </a:lnTo>
                  <a:lnTo>
                    <a:pt x="526" y="90"/>
                  </a:lnTo>
                  <a:lnTo>
                    <a:pt x="546" y="112"/>
                  </a:lnTo>
                  <a:lnTo>
                    <a:pt x="564" y="135"/>
                  </a:lnTo>
                  <a:lnTo>
                    <a:pt x="580" y="161"/>
                  </a:lnTo>
                  <a:lnTo>
                    <a:pt x="592" y="188"/>
                  </a:lnTo>
                  <a:lnTo>
                    <a:pt x="603" y="216"/>
                  </a:lnTo>
                  <a:lnTo>
                    <a:pt x="610" y="245"/>
                  </a:lnTo>
                  <a:lnTo>
                    <a:pt x="615" y="276"/>
                  </a:lnTo>
                  <a:lnTo>
                    <a:pt x="617" y="307"/>
                  </a:lnTo>
                  <a:lnTo>
                    <a:pt x="615" y="339"/>
                  </a:lnTo>
                  <a:lnTo>
                    <a:pt x="610" y="369"/>
                  </a:lnTo>
                  <a:lnTo>
                    <a:pt x="603" y="399"/>
                  </a:lnTo>
                  <a:lnTo>
                    <a:pt x="592" y="427"/>
                  </a:lnTo>
                  <a:lnTo>
                    <a:pt x="580" y="454"/>
                  </a:lnTo>
                  <a:lnTo>
                    <a:pt x="564" y="480"/>
                  </a:lnTo>
                  <a:lnTo>
                    <a:pt x="546" y="503"/>
                  </a:lnTo>
                  <a:lnTo>
                    <a:pt x="526" y="525"/>
                  </a:lnTo>
                  <a:lnTo>
                    <a:pt x="504" y="545"/>
                  </a:lnTo>
                  <a:lnTo>
                    <a:pt x="481" y="562"/>
                  </a:lnTo>
                  <a:lnTo>
                    <a:pt x="456" y="578"/>
                  </a:lnTo>
                  <a:lnTo>
                    <a:pt x="429" y="591"/>
                  </a:lnTo>
                  <a:lnTo>
                    <a:pt x="400" y="601"/>
                  </a:lnTo>
                  <a:lnTo>
                    <a:pt x="370" y="609"/>
                  </a:lnTo>
                  <a:lnTo>
                    <a:pt x="340" y="614"/>
                  </a:lnTo>
                  <a:lnTo>
                    <a:pt x="308" y="615"/>
                  </a:lnTo>
                  <a:lnTo>
                    <a:pt x="277" y="614"/>
                  </a:lnTo>
                  <a:lnTo>
                    <a:pt x="246" y="609"/>
                  </a:lnTo>
                  <a:lnTo>
                    <a:pt x="217" y="601"/>
                  </a:lnTo>
                  <a:lnTo>
                    <a:pt x="188" y="591"/>
                  </a:lnTo>
                  <a:lnTo>
                    <a:pt x="162" y="578"/>
                  </a:lnTo>
                  <a:lnTo>
                    <a:pt x="136" y="562"/>
                  </a:lnTo>
                  <a:lnTo>
                    <a:pt x="112" y="545"/>
                  </a:lnTo>
                  <a:lnTo>
                    <a:pt x="90" y="525"/>
                  </a:lnTo>
                  <a:lnTo>
                    <a:pt x="70" y="503"/>
                  </a:lnTo>
                  <a:lnTo>
                    <a:pt x="53" y="480"/>
                  </a:lnTo>
                  <a:lnTo>
                    <a:pt x="37" y="454"/>
                  </a:lnTo>
                  <a:lnTo>
                    <a:pt x="24" y="427"/>
                  </a:lnTo>
                  <a:lnTo>
                    <a:pt x="14" y="399"/>
                  </a:lnTo>
                  <a:lnTo>
                    <a:pt x="6" y="369"/>
                  </a:lnTo>
                  <a:lnTo>
                    <a:pt x="2" y="339"/>
                  </a:lnTo>
                  <a:lnTo>
                    <a:pt x="0" y="307"/>
                  </a:lnTo>
                  <a:lnTo>
                    <a:pt x="2" y="276"/>
                  </a:lnTo>
                  <a:lnTo>
                    <a:pt x="6" y="245"/>
                  </a:lnTo>
                  <a:lnTo>
                    <a:pt x="14" y="216"/>
                  </a:lnTo>
                  <a:lnTo>
                    <a:pt x="24" y="188"/>
                  </a:lnTo>
                  <a:lnTo>
                    <a:pt x="37" y="161"/>
                  </a:lnTo>
                  <a:lnTo>
                    <a:pt x="53" y="135"/>
                  </a:lnTo>
                  <a:lnTo>
                    <a:pt x="70" y="112"/>
                  </a:lnTo>
                  <a:lnTo>
                    <a:pt x="90" y="90"/>
                  </a:lnTo>
                  <a:lnTo>
                    <a:pt x="112" y="70"/>
                  </a:lnTo>
                  <a:lnTo>
                    <a:pt x="136" y="52"/>
                  </a:lnTo>
                  <a:lnTo>
                    <a:pt x="162" y="37"/>
                  </a:lnTo>
                  <a:lnTo>
                    <a:pt x="188" y="24"/>
                  </a:lnTo>
                  <a:lnTo>
                    <a:pt x="217" y="14"/>
                  </a:lnTo>
                  <a:lnTo>
                    <a:pt x="246" y="6"/>
                  </a:lnTo>
                  <a:lnTo>
                    <a:pt x="277" y="1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39"/>
            <p:cNvSpPr/>
            <p:nvPr/>
          </p:nvSpPr>
          <p:spPr>
            <a:xfrm flipH="1">
              <a:off x="3846240" y="3000600"/>
              <a:ext cx="318600" cy="317520"/>
            </a:xfrm>
            <a:custGeom>
              <a:avLst/>
              <a:gdLst>
                <a:gd name="textAreaLeft" fmla="*/ -360 w 318600"/>
                <a:gd name="textAreaRight" fmla="*/ 318600 w 3186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1" h="200">
                  <a:moveTo>
                    <a:pt x="29" y="170"/>
                  </a:moveTo>
                  <a:lnTo>
                    <a:pt x="37" y="177"/>
                  </a:lnTo>
                  <a:lnTo>
                    <a:pt x="45" y="183"/>
                  </a:lnTo>
                  <a:lnTo>
                    <a:pt x="53" y="188"/>
                  </a:lnTo>
                  <a:lnTo>
                    <a:pt x="62" y="192"/>
                  </a:lnTo>
                  <a:lnTo>
                    <a:pt x="71" y="196"/>
                  </a:lnTo>
                  <a:lnTo>
                    <a:pt x="81" y="198"/>
                  </a:lnTo>
                  <a:lnTo>
                    <a:pt x="91" y="199"/>
                  </a:lnTo>
                  <a:lnTo>
                    <a:pt x="101" y="200"/>
                  </a:lnTo>
                  <a:lnTo>
                    <a:pt x="110" y="199"/>
                  </a:lnTo>
                  <a:lnTo>
                    <a:pt x="120" y="198"/>
                  </a:lnTo>
                  <a:lnTo>
                    <a:pt x="129" y="196"/>
                  </a:lnTo>
                  <a:lnTo>
                    <a:pt x="139" y="192"/>
                  </a:lnTo>
                  <a:lnTo>
                    <a:pt x="148" y="188"/>
                  </a:lnTo>
                  <a:lnTo>
                    <a:pt x="156" y="183"/>
                  </a:lnTo>
                  <a:lnTo>
                    <a:pt x="164" y="177"/>
                  </a:lnTo>
                  <a:lnTo>
                    <a:pt x="171" y="170"/>
                  </a:lnTo>
                  <a:lnTo>
                    <a:pt x="178" y="163"/>
                  </a:lnTo>
                  <a:lnTo>
                    <a:pt x="184" y="155"/>
                  </a:lnTo>
                  <a:lnTo>
                    <a:pt x="189" y="147"/>
                  </a:lnTo>
                  <a:lnTo>
                    <a:pt x="193" y="138"/>
                  </a:lnTo>
                  <a:lnTo>
                    <a:pt x="197" y="129"/>
                  </a:lnTo>
                  <a:lnTo>
                    <a:pt x="199" y="120"/>
                  </a:lnTo>
                  <a:lnTo>
                    <a:pt x="200" y="109"/>
                  </a:lnTo>
                  <a:lnTo>
                    <a:pt x="201" y="100"/>
                  </a:lnTo>
                  <a:lnTo>
                    <a:pt x="200" y="89"/>
                  </a:lnTo>
                  <a:lnTo>
                    <a:pt x="198" y="79"/>
                  </a:lnTo>
                  <a:lnTo>
                    <a:pt x="196" y="70"/>
                  </a:lnTo>
                  <a:lnTo>
                    <a:pt x="193" y="61"/>
                  </a:lnTo>
                  <a:lnTo>
                    <a:pt x="189" y="52"/>
                  </a:lnTo>
                  <a:lnTo>
                    <a:pt x="184" y="44"/>
                  </a:lnTo>
                  <a:lnTo>
                    <a:pt x="178" y="36"/>
                  </a:lnTo>
                  <a:lnTo>
                    <a:pt x="171" y="29"/>
                  </a:lnTo>
                  <a:lnTo>
                    <a:pt x="165" y="23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40" y="8"/>
                  </a:lnTo>
                  <a:lnTo>
                    <a:pt x="131" y="4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1" y="0"/>
                  </a:lnTo>
                  <a:lnTo>
                    <a:pt x="91" y="0"/>
                  </a:lnTo>
                  <a:lnTo>
                    <a:pt x="81" y="1"/>
                  </a:lnTo>
                  <a:lnTo>
                    <a:pt x="71" y="4"/>
                  </a:lnTo>
                  <a:lnTo>
                    <a:pt x="62" y="7"/>
                  </a:lnTo>
                  <a:lnTo>
                    <a:pt x="53" y="11"/>
                  </a:lnTo>
                  <a:lnTo>
                    <a:pt x="45" y="16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2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0"/>
                  </a:lnTo>
                  <a:lnTo>
                    <a:pt x="1" y="90"/>
                  </a:lnTo>
                  <a:lnTo>
                    <a:pt x="0" y="100"/>
                  </a:lnTo>
                  <a:lnTo>
                    <a:pt x="1" y="109"/>
                  </a:lnTo>
                  <a:lnTo>
                    <a:pt x="2" y="120"/>
                  </a:lnTo>
                  <a:lnTo>
                    <a:pt x="4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2" y="163"/>
                  </a:lnTo>
                  <a:lnTo>
                    <a:pt x="2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40"/>
            <p:cNvSpPr/>
            <p:nvPr/>
          </p:nvSpPr>
          <p:spPr>
            <a:xfrm flipH="1">
              <a:off x="3928680" y="3081600"/>
              <a:ext cx="153720" cy="153720"/>
            </a:xfrm>
            <a:custGeom>
              <a:avLst/>
              <a:gdLst>
                <a:gd name="textAreaLeft" fmla="*/ -360 w 153720"/>
                <a:gd name="textAreaRight" fmla="*/ 153720 w 1537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7" h="97">
                  <a:moveTo>
                    <a:pt x="0" y="49"/>
                  </a:moveTo>
                  <a:lnTo>
                    <a:pt x="1" y="39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8" y="11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4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8" y="1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1" y="6"/>
                  </a:lnTo>
                  <a:lnTo>
                    <a:pt x="75" y="8"/>
                  </a:lnTo>
                  <a:lnTo>
                    <a:pt x="79" y="11"/>
                  </a:lnTo>
                  <a:lnTo>
                    <a:pt x="83" y="15"/>
                  </a:lnTo>
                  <a:lnTo>
                    <a:pt x="89" y="22"/>
                  </a:lnTo>
                  <a:lnTo>
                    <a:pt x="94" y="30"/>
                  </a:lnTo>
                  <a:lnTo>
                    <a:pt x="96" y="39"/>
                  </a:lnTo>
                  <a:lnTo>
                    <a:pt x="97" y="49"/>
                  </a:lnTo>
                  <a:lnTo>
                    <a:pt x="96" y="58"/>
                  </a:lnTo>
                  <a:lnTo>
                    <a:pt x="94" y="68"/>
                  </a:lnTo>
                  <a:lnTo>
                    <a:pt x="89" y="76"/>
                  </a:lnTo>
                  <a:lnTo>
                    <a:pt x="83" y="83"/>
                  </a:lnTo>
                  <a:lnTo>
                    <a:pt x="79" y="87"/>
                  </a:lnTo>
                  <a:lnTo>
                    <a:pt x="75" y="89"/>
                  </a:lnTo>
                  <a:lnTo>
                    <a:pt x="71" y="92"/>
                  </a:lnTo>
                  <a:lnTo>
                    <a:pt x="67" y="93"/>
                  </a:lnTo>
                  <a:lnTo>
                    <a:pt x="63" y="95"/>
                  </a:lnTo>
                  <a:lnTo>
                    <a:pt x="58" y="96"/>
                  </a:lnTo>
                  <a:lnTo>
                    <a:pt x="53" y="97"/>
                  </a:lnTo>
                  <a:lnTo>
                    <a:pt x="49" y="97"/>
                  </a:lnTo>
                  <a:lnTo>
                    <a:pt x="39" y="96"/>
                  </a:lnTo>
                  <a:lnTo>
                    <a:pt x="30" y="93"/>
                  </a:lnTo>
                  <a:lnTo>
                    <a:pt x="21" y="89"/>
                  </a:lnTo>
                  <a:lnTo>
                    <a:pt x="14" y="83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1" y="5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41"/>
            <p:cNvSpPr/>
            <p:nvPr/>
          </p:nvSpPr>
          <p:spPr>
            <a:xfrm flipH="1">
              <a:off x="3717720" y="2768760"/>
              <a:ext cx="898200" cy="965160"/>
            </a:xfrm>
            <a:custGeom>
              <a:avLst/>
              <a:gdLst>
                <a:gd name="textAreaLeft" fmla="*/ -360 w 898200"/>
                <a:gd name="textAreaRight" fmla="*/ 898200 w 89820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566" h="608">
                  <a:moveTo>
                    <a:pt x="3" y="408"/>
                  </a:moveTo>
                  <a:lnTo>
                    <a:pt x="4" y="404"/>
                  </a:lnTo>
                  <a:lnTo>
                    <a:pt x="7" y="401"/>
                  </a:lnTo>
                  <a:lnTo>
                    <a:pt x="10" y="399"/>
                  </a:lnTo>
                  <a:lnTo>
                    <a:pt x="13" y="397"/>
                  </a:lnTo>
                  <a:lnTo>
                    <a:pt x="15" y="395"/>
                  </a:lnTo>
                  <a:lnTo>
                    <a:pt x="19" y="393"/>
                  </a:lnTo>
                  <a:lnTo>
                    <a:pt x="22" y="393"/>
                  </a:lnTo>
                  <a:lnTo>
                    <a:pt x="26" y="392"/>
                  </a:lnTo>
                  <a:lnTo>
                    <a:pt x="40" y="390"/>
                  </a:lnTo>
                  <a:lnTo>
                    <a:pt x="53" y="385"/>
                  </a:lnTo>
                  <a:lnTo>
                    <a:pt x="65" y="377"/>
                  </a:lnTo>
                  <a:lnTo>
                    <a:pt x="76" y="368"/>
                  </a:lnTo>
                  <a:lnTo>
                    <a:pt x="84" y="357"/>
                  </a:lnTo>
                  <a:lnTo>
                    <a:pt x="91" y="344"/>
                  </a:lnTo>
                  <a:lnTo>
                    <a:pt x="95" y="331"/>
                  </a:lnTo>
                  <a:lnTo>
                    <a:pt x="97" y="316"/>
                  </a:lnTo>
                  <a:lnTo>
                    <a:pt x="95" y="305"/>
                  </a:lnTo>
                  <a:lnTo>
                    <a:pt x="92" y="294"/>
                  </a:lnTo>
                  <a:lnTo>
                    <a:pt x="88" y="282"/>
                  </a:lnTo>
                  <a:lnTo>
                    <a:pt x="82" y="272"/>
                  </a:lnTo>
                  <a:lnTo>
                    <a:pt x="82" y="273"/>
                  </a:lnTo>
                  <a:lnTo>
                    <a:pt x="83" y="273"/>
                  </a:lnTo>
                  <a:lnTo>
                    <a:pt x="75" y="262"/>
                  </a:lnTo>
                  <a:lnTo>
                    <a:pt x="67" y="250"/>
                  </a:lnTo>
                  <a:lnTo>
                    <a:pt x="61" y="238"/>
                  </a:lnTo>
                  <a:lnTo>
                    <a:pt x="56" y="224"/>
                  </a:lnTo>
                  <a:lnTo>
                    <a:pt x="52" y="211"/>
                  </a:lnTo>
                  <a:lnTo>
                    <a:pt x="49" y="198"/>
                  </a:lnTo>
                  <a:lnTo>
                    <a:pt x="47" y="184"/>
                  </a:lnTo>
                  <a:lnTo>
                    <a:pt x="46" y="171"/>
                  </a:lnTo>
                  <a:lnTo>
                    <a:pt x="47" y="155"/>
                  </a:lnTo>
                  <a:lnTo>
                    <a:pt x="50" y="139"/>
                  </a:lnTo>
                  <a:lnTo>
                    <a:pt x="53" y="124"/>
                  </a:lnTo>
                  <a:lnTo>
                    <a:pt x="59" y="109"/>
                  </a:lnTo>
                  <a:lnTo>
                    <a:pt x="65" y="95"/>
                  </a:lnTo>
                  <a:lnTo>
                    <a:pt x="74" y="81"/>
                  </a:lnTo>
                  <a:lnTo>
                    <a:pt x="83" y="69"/>
                  </a:lnTo>
                  <a:lnTo>
                    <a:pt x="94" y="57"/>
                  </a:lnTo>
                  <a:lnTo>
                    <a:pt x="100" y="51"/>
                  </a:lnTo>
                  <a:lnTo>
                    <a:pt x="106" y="46"/>
                  </a:lnTo>
                  <a:lnTo>
                    <a:pt x="113" y="40"/>
                  </a:lnTo>
                  <a:lnTo>
                    <a:pt x="120" y="36"/>
                  </a:lnTo>
                  <a:lnTo>
                    <a:pt x="126" y="32"/>
                  </a:lnTo>
                  <a:lnTo>
                    <a:pt x="133" y="28"/>
                  </a:lnTo>
                  <a:lnTo>
                    <a:pt x="140" y="24"/>
                  </a:lnTo>
                  <a:lnTo>
                    <a:pt x="148" y="21"/>
                  </a:lnTo>
                  <a:lnTo>
                    <a:pt x="155" y="18"/>
                  </a:lnTo>
                  <a:lnTo>
                    <a:pt x="163" y="15"/>
                  </a:lnTo>
                  <a:lnTo>
                    <a:pt x="170" y="13"/>
                  </a:lnTo>
                  <a:lnTo>
                    <a:pt x="178" y="12"/>
                  </a:lnTo>
                  <a:lnTo>
                    <a:pt x="186" y="10"/>
                  </a:lnTo>
                  <a:lnTo>
                    <a:pt x="194" y="9"/>
                  </a:lnTo>
                  <a:lnTo>
                    <a:pt x="202" y="8"/>
                  </a:lnTo>
                  <a:lnTo>
                    <a:pt x="210" y="8"/>
                  </a:lnTo>
                  <a:lnTo>
                    <a:pt x="219" y="8"/>
                  </a:lnTo>
                  <a:lnTo>
                    <a:pt x="228" y="9"/>
                  </a:lnTo>
                  <a:lnTo>
                    <a:pt x="236" y="11"/>
                  </a:lnTo>
                  <a:lnTo>
                    <a:pt x="245" y="12"/>
                  </a:lnTo>
                  <a:lnTo>
                    <a:pt x="254" y="14"/>
                  </a:lnTo>
                  <a:lnTo>
                    <a:pt x="262" y="16"/>
                  </a:lnTo>
                  <a:lnTo>
                    <a:pt x="271" y="19"/>
                  </a:lnTo>
                  <a:lnTo>
                    <a:pt x="279" y="23"/>
                  </a:lnTo>
                  <a:lnTo>
                    <a:pt x="289" y="17"/>
                  </a:lnTo>
                  <a:lnTo>
                    <a:pt x="299" y="13"/>
                  </a:lnTo>
                  <a:lnTo>
                    <a:pt x="310" y="9"/>
                  </a:lnTo>
                  <a:lnTo>
                    <a:pt x="321" y="6"/>
                  </a:lnTo>
                  <a:lnTo>
                    <a:pt x="332" y="3"/>
                  </a:lnTo>
                  <a:lnTo>
                    <a:pt x="344" y="1"/>
                  </a:lnTo>
                  <a:lnTo>
                    <a:pt x="355" y="0"/>
                  </a:lnTo>
                  <a:lnTo>
                    <a:pt x="367" y="0"/>
                  </a:lnTo>
                  <a:lnTo>
                    <a:pt x="384" y="1"/>
                  </a:lnTo>
                  <a:lnTo>
                    <a:pt x="401" y="3"/>
                  </a:lnTo>
                  <a:lnTo>
                    <a:pt x="417" y="7"/>
                  </a:lnTo>
                  <a:lnTo>
                    <a:pt x="432" y="13"/>
                  </a:lnTo>
                  <a:lnTo>
                    <a:pt x="447" y="20"/>
                  </a:lnTo>
                  <a:lnTo>
                    <a:pt x="461" y="28"/>
                  </a:lnTo>
                  <a:lnTo>
                    <a:pt x="473" y="38"/>
                  </a:lnTo>
                  <a:lnTo>
                    <a:pt x="485" y="48"/>
                  </a:lnTo>
                  <a:lnTo>
                    <a:pt x="496" y="61"/>
                  </a:lnTo>
                  <a:lnTo>
                    <a:pt x="505" y="74"/>
                  </a:lnTo>
                  <a:lnTo>
                    <a:pt x="514" y="88"/>
                  </a:lnTo>
                  <a:lnTo>
                    <a:pt x="521" y="102"/>
                  </a:lnTo>
                  <a:lnTo>
                    <a:pt x="527" y="117"/>
                  </a:lnTo>
                  <a:lnTo>
                    <a:pt x="531" y="134"/>
                  </a:lnTo>
                  <a:lnTo>
                    <a:pt x="534" y="150"/>
                  </a:lnTo>
                  <a:lnTo>
                    <a:pt x="534" y="167"/>
                  </a:lnTo>
                  <a:lnTo>
                    <a:pt x="534" y="173"/>
                  </a:lnTo>
                  <a:lnTo>
                    <a:pt x="532" y="178"/>
                  </a:lnTo>
                  <a:lnTo>
                    <a:pt x="530" y="182"/>
                  </a:lnTo>
                  <a:lnTo>
                    <a:pt x="526" y="186"/>
                  </a:lnTo>
                  <a:lnTo>
                    <a:pt x="522" y="190"/>
                  </a:lnTo>
                  <a:lnTo>
                    <a:pt x="518" y="192"/>
                  </a:lnTo>
                  <a:lnTo>
                    <a:pt x="512" y="194"/>
                  </a:lnTo>
                  <a:lnTo>
                    <a:pt x="507" y="194"/>
                  </a:lnTo>
                  <a:lnTo>
                    <a:pt x="501" y="194"/>
                  </a:lnTo>
                  <a:lnTo>
                    <a:pt x="497" y="192"/>
                  </a:lnTo>
                  <a:lnTo>
                    <a:pt x="492" y="190"/>
                  </a:lnTo>
                  <a:lnTo>
                    <a:pt x="488" y="186"/>
                  </a:lnTo>
                  <a:lnTo>
                    <a:pt x="484" y="182"/>
                  </a:lnTo>
                  <a:lnTo>
                    <a:pt x="482" y="178"/>
                  </a:lnTo>
                  <a:lnTo>
                    <a:pt x="480" y="173"/>
                  </a:lnTo>
                  <a:lnTo>
                    <a:pt x="480" y="167"/>
                  </a:lnTo>
                  <a:lnTo>
                    <a:pt x="479" y="156"/>
                  </a:lnTo>
                  <a:lnTo>
                    <a:pt x="477" y="145"/>
                  </a:lnTo>
                  <a:lnTo>
                    <a:pt x="475" y="135"/>
                  </a:lnTo>
                  <a:lnTo>
                    <a:pt x="471" y="124"/>
                  </a:lnTo>
                  <a:lnTo>
                    <a:pt x="466" y="115"/>
                  </a:lnTo>
                  <a:lnTo>
                    <a:pt x="461" y="105"/>
                  </a:lnTo>
                  <a:lnTo>
                    <a:pt x="454" y="96"/>
                  </a:lnTo>
                  <a:lnTo>
                    <a:pt x="447" y="88"/>
                  </a:lnTo>
                  <a:lnTo>
                    <a:pt x="439" y="80"/>
                  </a:lnTo>
                  <a:lnTo>
                    <a:pt x="430" y="73"/>
                  </a:lnTo>
                  <a:lnTo>
                    <a:pt x="420" y="68"/>
                  </a:lnTo>
                  <a:lnTo>
                    <a:pt x="410" y="63"/>
                  </a:lnTo>
                  <a:lnTo>
                    <a:pt x="400" y="59"/>
                  </a:lnTo>
                  <a:lnTo>
                    <a:pt x="389" y="57"/>
                  </a:lnTo>
                  <a:lnTo>
                    <a:pt x="378" y="55"/>
                  </a:lnTo>
                  <a:lnTo>
                    <a:pt x="367" y="55"/>
                  </a:lnTo>
                  <a:lnTo>
                    <a:pt x="357" y="55"/>
                  </a:lnTo>
                  <a:lnTo>
                    <a:pt x="348" y="57"/>
                  </a:lnTo>
                  <a:lnTo>
                    <a:pt x="338" y="58"/>
                  </a:lnTo>
                  <a:lnTo>
                    <a:pt x="329" y="61"/>
                  </a:lnTo>
                  <a:lnTo>
                    <a:pt x="320" y="63"/>
                  </a:lnTo>
                  <a:lnTo>
                    <a:pt x="312" y="67"/>
                  </a:lnTo>
                  <a:lnTo>
                    <a:pt x="304" y="71"/>
                  </a:lnTo>
                  <a:lnTo>
                    <a:pt x="297" y="76"/>
                  </a:lnTo>
                  <a:lnTo>
                    <a:pt x="293" y="78"/>
                  </a:lnTo>
                  <a:lnTo>
                    <a:pt x="290" y="80"/>
                  </a:lnTo>
                  <a:lnTo>
                    <a:pt x="286" y="81"/>
                  </a:lnTo>
                  <a:lnTo>
                    <a:pt x="282" y="82"/>
                  </a:lnTo>
                  <a:lnTo>
                    <a:pt x="278" y="82"/>
                  </a:lnTo>
                  <a:lnTo>
                    <a:pt x="274" y="81"/>
                  </a:lnTo>
                  <a:lnTo>
                    <a:pt x="271" y="80"/>
                  </a:lnTo>
                  <a:lnTo>
                    <a:pt x="267" y="78"/>
                  </a:lnTo>
                  <a:lnTo>
                    <a:pt x="260" y="75"/>
                  </a:lnTo>
                  <a:lnTo>
                    <a:pt x="254" y="72"/>
                  </a:lnTo>
                  <a:lnTo>
                    <a:pt x="247" y="69"/>
                  </a:lnTo>
                  <a:lnTo>
                    <a:pt x="240" y="67"/>
                  </a:lnTo>
                  <a:lnTo>
                    <a:pt x="232" y="66"/>
                  </a:lnTo>
                  <a:lnTo>
                    <a:pt x="225" y="65"/>
                  </a:lnTo>
                  <a:lnTo>
                    <a:pt x="218" y="63"/>
                  </a:lnTo>
                  <a:lnTo>
                    <a:pt x="210" y="63"/>
                  </a:lnTo>
                  <a:lnTo>
                    <a:pt x="199" y="64"/>
                  </a:lnTo>
                  <a:lnTo>
                    <a:pt x="189" y="66"/>
                  </a:lnTo>
                  <a:lnTo>
                    <a:pt x="179" y="68"/>
                  </a:lnTo>
                  <a:lnTo>
                    <a:pt x="168" y="71"/>
                  </a:lnTo>
                  <a:lnTo>
                    <a:pt x="159" y="76"/>
                  </a:lnTo>
                  <a:lnTo>
                    <a:pt x="150" y="82"/>
                  </a:lnTo>
                  <a:lnTo>
                    <a:pt x="141" y="88"/>
                  </a:lnTo>
                  <a:lnTo>
                    <a:pt x="133" y="96"/>
                  </a:lnTo>
                  <a:lnTo>
                    <a:pt x="126" y="104"/>
                  </a:lnTo>
                  <a:lnTo>
                    <a:pt x="120" y="112"/>
                  </a:lnTo>
                  <a:lnTo>
                    <a:pt x="114" y="121"/>
                  </a:lnTo>
                  <a:lnTo>
                    <a:pt x="110" y="130"/>
                  </a:lnTo>
                  <a:lnTo>
                    <a:pt x="106" y="140"/>
                  </a:lnTo>
                  <a:lnTo>
                    <a:pt x="104" y="150"/>
                  </a:lnTo>
                  <a:lnTo>
                    <a:pt x="102" y="160"/>
                  </a:lnTo>
                  <a:lnTo>
                    <a:pt x="102" y="171"/>
                  </a:lnTo>
                  <a:lnTo>
                    <a:pt x="102" y="180"/>
                  </a:lnTo>
                  <a:lnTo>
                    <a:pt x="103" y="189"/>
                  </a:lnTo>
                  <a:lnTo>
                    <a:pt x="105" y="198"/>
                  </a:lnTo>
                  <a:lnTo>
                    <a:pt x="108" y="207"/>
                  </a:lnTo>
                  <a:lnTo>
                    <a:pt x="111" y="215"/>
                  </a:lnTo>
                  <a:lnTo>
                    <a:pt x="115" y="224"/>
                  </a:lnTo>
                  <a:lnTo>
                    <a:pt x="120" y="232"/>
                  </a:lnTo>
                  <a:lnTo>
                    <a:pt x="126" y="239"/>
                  </a:lnTo>
                  <a:lnTo>
                    <a:pt x="126" y="240"/>
                  </a:lnTo>
                  <a:lnTo>
                    <a:pt x="127" y="240"/>
                  </a:lnTo>
                  <a:lnTo>
                    <a:pt x="133" y="249"/>
                  </a:lnTo>
                  <a:lnTo>
                    <a:pt x="137" y="258"/>
                  </a:lnTo>
                  <a:lnTo>
                    <a:pt x="141" y="267"/>
                  </a:lnTo>
                  <a:lnTo>
                    <a:pt x="145" y="277"/>
                  </a:lnTo>
                  <a:lnTo>
                    <a:pt x="148" y="287"/>
                  </a:lnTo>
                  <a:lnTo>
                    <a:pt x="150" y="297"/>
                  </a:lnTo>
                  <a:lnTo>
                    <a:pt x="151" y="307"/>
                  </a:lnTo>
                  <a:lnTo>
                    <a:pt x="152" y="316"/>
                  </a:lnTo>
                  <a:lnTo>
                    <a:pt x="151" y="335"/>
                  </a:lnTo>
                  <a:lnTo>
                    <a:pt x="147" y="352"/>
                  </a:lnTo>
                  <a:lnTo>
                    <a:pt x="140" y="369"/>
                  </a:lnTo>
                  <a:lnTo>
                    <a:pt x="132" y="385"/>
                  </a:lnTo>
                  <a:lnTo>
                    <a:pt x="122" y="399"/>
                  </a:lnTo>
                  <a:lnTo>
                    <a:pt x="110" y="412"/>
                  </a:lnTo>
                  <a:lnTo>
                    <a:pt x="97" y="423"/>
                  </a:lnTo>
                  <a:lnTo>
                    <a:pt x="82" y="432"/>
                  </a:lnTo>
                  <a:lnTo>
                    <a:pt x="88" y="436"/>
                  </a:lnTo>
                  <a:lnTo>
                    <a:pt x="95" y="439"/>
                  </a:lnTo>
                  <a:lnTo>
                    <a:pt x="102" y="442"/>
                  </a:lnTo>
                  <a:lnTo>
                    <a:pt x="109" y="444"/>
                  </a:lnTo>
                  <a:lnTo>
                    <a:pt x="116" y="446"/>
                  </a:lnTo>
                  <a:lnTo>
                    <a:pt x="124" y="447"/>
                  </a:lnTo>
                  <a:lnTo>
                    <a:pt x="132" y="448"/>
                  </a:lnTo>
                  <a:lnTo>
                    <a:pt x="139" y="448"/>
                  </a:lnTo>
                  <a:lnTo>
                    <a:pt x="140" y="448"/>
                  </a:lnTo>
                  <a:lnTo>
                    <a:pt x="142" y="448"/>
                  </a:lnTo>
                  <a:lnTo>
                    <a:pt x="143" y="448"/>
                  </a:lnTo>
                  <a:lnTo>
                    <a:pt x="144" y="448"/>
                  </a:lnTo>
                  <a:lnTo>
                    <a:pt x="152" y="448"/>
                  </a:lnTo>
                  <a:lnTo>
                    <a:pt x="162" y="446"/>
                  </a:lnTo>
                  <a:lnTo>
                    <a:pt x="170" y="444"/>
                  </a:lnTo>
                  <a:lnTo>
                    <a:pt x="179" y="442"/>
                  </a:lnTo>
                  <a:lnTo>
                    <a:pt x="187" y="438"/>
                  </a:lnTo>
                  <a:lnTo>
                    <a:pt x="195" y="434"/>
                  </a:lnTo>
                  <a:lnTo>
                    <a:pt x="202" y="428"/>
                  </a:lnTo>
                  <a:lnTo>
                    <a:pt x="210" y="423"/>
                  </a:lnTo>
                  <a:lnTo>
                    <a:pt x="217" y="416"/>
                  </a:lnTo>
                  <a:lnTo>
                    <a:pt x="224" y="408"/>
                  </a:lnTo>
                  <a:lnTo>
                    <a:pt x="231" y="398"/>
                  </a:lnTo>
                  <a:lnTo>
                    <a:pt x="237" y="389"/>
                  </a:lnTo>
                  <a:lnTo>
                    <a:pt x="241" y="379"/>
                  </a:lnTo>
                  <a:lnTo>
                    <a:pt x="245" y="368"/>
                  </a:lnTo>
                  <a:lnTo>
                    <a:pt x="248" y="357"/>
                  </a:lnTo>
                  <a:lnTo>
                    <a:pt x="250" y="346"/>
                  </a:lnTo>
                  <a:lnTo>
                    <a:pt x="250" y="334"/>
                  </a:lnTo>
                  <a:lnTo>
                    <a:pt x="250" y="325"/>
                  </a:lnTo>
                  <a:lnTo>
                    <a:pt x="249" y="316"/>
                  </a:lnTo>
                  <a:lnTo>
                    <a:pt x="247" y="307"/>
                  </a:lnTo>
                  <a:lnTo>
                    <a:pt x="245" y="298"/>
                  </a:lnTo>
                  <a:lnTo>
                    <a:pt x="241" y="290"/>
                  </a:lnTo>
                  <a:lnTo>
                    <a:pt x="238" y="282"/>
                  </a:lnTo>
                  <a:lnTo>
                    <a:pt x="233" y="274"/>
                  </a:lnTo>
                  <a:lnTo>
                    <a:pt x="229" y="267"/>
                  </a:lnTo>
                  <a:lnTo>
                    <a:pt x="227" y="264"/>
                  </a:lnTo>
                  <a:lnTo>
                    <a:pt x="226" y="262"/>
                  </a:lnTo>
                  <a:lnTo>
                    <a:pt x="225" y="259"/>
                  </a:lnTo>
                  <a:lnTo>
                    <a:pt x="224" y="257"/>
                  </a:lnTo>
                  <a:lnTo>
                    <a:pt x="224" y="256"/>
                  </a:lnTo>
                  <a:lnTo>
                    <a:pt x="223" y="256"/>
                  </a:lnTo>
                  <a:lnTo>
                    <a:pt x="222" y="256"/>
                  </a:lnTo>
                  <a:lnTo>
                    <a:pt x="222" y="255"/>
                  </a:lnTo>
                  <a:lnTo>
                    <a:pt x="217" y="253"/>
                  </a:lnTo>
                  <a:lnTo>
                    <a:pt x="213" y="250"/>
                  </a:lnTo>
                  <a:lnTo>
                    <a:pt x="209" y="246"/>
                  </a:lnTo>
                  <a:lnTo>
                    <a:pt x="207" y="241"/>
                  </a:lnTo>
                  <a:lnTo>
                    <a:pt x="205" y="236"/>
                  </a:lnTo>
                  <a:lnTo>
                    <a:pt x="205" y="231"/>
                  </a:lnTo>
                  <a:lnTo>
                    <a:pt x="205" y="225"/>
                  </a:lnTo>
                  <a:lnTo>
                    <a:pt x="206" y="220"/>
                  </a:lnTo>
                  <a:lnTo>
                    <a:pt x="209" y="215"/>
                  </a:lnTo>
                  <a:lnTo>
                    <a:pt x="212" y="211"/>
                  </a:lnTo>
                  <a:lnTo>
                    <a:pt x="216" y="208"/>
                  </a:lnTo>
                  <a:lnTo>
                    <a:pt x="221" y="205"/>
                  </a:lnTo>
                  <a:lnTo>
                    <a:pt x="226" y="203"/>
                  </a:lnTo>
                  <a:lnTo>
                    <a:pt x="231" y="202"/>
                  </a:lnTo>
                  <a:lnTo>
                    <a:pt x="237" y="203"/>
                  </a:lnTo>
                  <a:lnTo>
                    <a:pt x="242" y="204"/>
                  </a:lnTo>
                  <a:lnTo>
                    <a:pt x="249" y="207"/>
                  </a:lnTo>
                  <a:lnTo>
                    <a:pt x="256" y="209"/>
                  </a:lnTo>
                  <a:lnTo>
                    <a:pt x="263" y="212"/>
                  </a:lnTo>
                  <a:lnTo>
                    <a:pt x="270" y="213"/>
                  </a:lnTo>
                  <a:lnTo>
                    <a:pt x="277" y="216"/>
                  </a:lnTo>
                  <a:lnTo>
                    <a:pt x="285" y="217"/>
                  </a:lnTo>
                  <a:lnTo>
                    <a:pt x="292" y="219"/>
                  </a:lnTo>
                  <a:lnTo>
                    <a:pt x="299" y="220"/>
                  </a:lnTo>
                  <a:lnTo>
                    <a:pt x="305" y="221"/>
                  </a:lnTo>
                  <a:lnTo>
                    <a:pt x="309" y="224"/>
                  </a:lnTo>
                  <a:lnTo>
                    <a:pt x="314" y="227"/>
                  </a:lnTo>
                  <a:lnTo>
                    <a:pt x="317" y="231"/>
                  </a:lnTo>
                  <a:lnTo>
                    <a:pt x="320" y="235"/>
                  </a:lnTo>
                  <a:lnTo>
                    <a:pt x="321" y="240"/>
                  </a:lnTo>
                  <a:lnTo>
                    <a:pt x="323" y="246"/>
                  </a:lnTo>
                  <a:lnTo>
                    <a:pt x="322" y="251"/>
                  </a:lnTo>
                  <a:lnTo>
                    <a:pt x="321" y="257"/>
                  </a:lnTo>
                  <a:lnTo>
                    <a:pt x="319" y="261"/>
                  </a:lnTo>
                  <a:lnTo>
                    <a:pt x="316" y="265"/>
                  </a:lnTo>
                  <a:lnTo>
                    <a:pt x="312" y="268"/>
                  </a:lnTo>
                  <a:lnTo>
                    <a:pt x="308" y="271"/>
                  </a:lnTo>
                  <a:lnTo>
                    <a:pt x="304" y="273"/>
                  </a:lnTo>
                  <a:lnTo>
                    <a:pt x="300" y="274"/>
                  </a:lnTo>
                  <a:lnTo>
                    <a:pt x="294" y="274"/>
                  </a:lnTo>
                  <a:lnTo>
                    <a:pt x="299" y="289"/>
                  </a:lnTo>
                  <a:lnTo>
                    <a:pt x="302" y="304"/>
                  </a:lnTo>
                  <a:lnTo>
                    <a:pt x="305" y="319"/>
                  </a:lnTo>
                  <a:lnTo>
                    <a:pt x="305" y="334"/>
                  </a:lnTo>
                  <a:lnTo>
                    <a:pt x="305" y="351"/>
                  </a:lnTo>
                  <a:lnTo>
                    <a:pt x="302" y="368"/>
                  </a:lnTo>
                  <a:lnTo>
                    <a:pt x="298" y="384"/>
                  </a:lnTo>
                  <a:lnTo>
                    <a:pt x="293" y="400"/>
                  </a:lnTo>
                  <a:lnTo>
                    <a:pt x="285" y="415"/>
                  </a:lnTo>
                  <a:lnTo>
                    <a:pt x="277" y="429"/>
                  </a:lnTo>
                  <a:lnTo>
                    <a:pt x="267" y="443"/>
                  </a:lnTo>
                  <a:lnTo>
                    <a:pt x="255" y="455"/>
                  </a:lnTo>
                  <a:lnTo>
                    <a:pt x="249" y="461"/>
                  </a:lnTo>
                  <a:lnTo>
                    <a:pt x="243" y="467"/>
                  </a:lnTo>
                  <a:lnTo>
                    <a:pt x="236" y="472"/>
                  </a:lnTo>
                  <a:lnTo>
                    <a:pt x="229" y="477"/>
                  </a:lnTo>
                  <a:lnTo>
                    <a:pt x="222" y="481"/>
                  </a:lnTo>
                  <a:lnTo>
                    <a:pt x="214" y="485"/>
                  </a:lnTo>
                  <a:lnTo>
                    <a:pt x="207" y="489"/>
                  </a:lnTo>
                  <a:lnTo>
                    <a:pt x="199" y="492"/>
                  </a:lnTo>
                  <a:lnTo>
                    <a:pt x="199" y="553"/>
                  </a:lnTo>
                  <a:lnTo>
                    <a:pt x="389" y="553"/>
                  </a:lnTo>
                  <a:lnTo>
                    <a:pt x="377" y="547"/>
                  </a:lnTo>
                  <a:lnTo>
                    <a:pt x="365" y="539"/>
                  </a:lnTo>
                  <a:lnTo>
                    <a:pt x="355" y="530"/>
                  </a:lnTo>
                  <a:lnTo>
                    <a:pt x="345" y="520"/>
                  </a:lnTo>
                  <a:lnTo>
                    <a:pt x="336" y="510"/>
                  </a:lnTo>
                  <a:lnTo>
                    <a:pt x="328" y="498"/>
                  </a:lnTo>
                  <a:lnTo>
                    <a:pt x="323" y="485"/>
                  </a:lnTo>
                  <a:lnTo>
                    <a:pt x="318" y="471"/>
                  </a:lnTo>
                  <a:lnTo>
                    <a:pt x="309" y="436"/>
                  </a:lnTo>
                  <a:lnTo>
                    <a:pt x="427" y="436"/>
                  </a:lnTo>
                  <a:lnTo>
                    <a:pt x="427" y="385"/>
                  </a:lnTo>
                  <a:lnTo>
                    <a:pt x="485" y="385"/>
                  </a:lnTo>
                  <a:lnTo>
                    <a:pt x="479" y="374"/>
                  </a:lnTo>
                  <a:lnTo>
                    <a:pt x="474" y="362"/>
                  </a:lnTo>
                  <a:lnTo>
                    <a:pt x="469" y="350"/>
                  </a:lnTo>
                  <a:lnTo>
                    <a:pt x="464" y="337"/>
                  </a:lnTo>
                  <a:lnTo>
                    <a:pt x="460" y="323"/>
                  </a:lnTo>
                  <a:lnTo>
                    <a:pt x="456" y="309"/>
                  </a:lnTo>
                  <a:lnTo>
                    <a:pt x="453" y="294"/>
                  </a:lnTo>
                  <a:lnTo>
                    <a:pt x="449" y="279"/>
                  </a:lnTo>
                  <a:lnTo>
                    <a:pt x="446" y="262"/>
                  </a:lnTo>
                  <a:lnTo>
                    <a:pt x="444" y="245"/>
                  </a:lnTo>
                  <a:lnTo>
                    <a:pt x="443" y="228"/>
                  </a:lnTo>
                  <a:lnTo>
                    <a:pt x="442" y="212"/>
                  </a:lnTo>
                  <a:lnTo>
                    <a:pt x="497" y="211"/>
                  </a:lnTo>
                  <a:lnTo>
                    <a:pt x="498" y="225"/>
                  </a:lnTo>
                  <a:lnTo>
                    <a:pt x="499" y="240"/>
                  </a:lnTo>
                  <a:lnTo>
                    <a:pt x="501" y="254"/>
                  </a:lnTo>
                  <a:lnTo>
                    <a:pt x="503" y="269"/>
                  </a:lnTo>
                  <a:lnTo>
                    <a:pt x="508" y="289"/>
                  </a:lnTo>
                  <a:lnTo>
                    <a:pt x="513" y="309"/>
                  </a:lnTo>
                  <a:lnTo>
                    <a:pt x="519" y="327"/>
                  </a:lnTo>
                  <a:lnTo>
                    <a:pt x="526" y="344"/>
                  </a:lnTo>
                  <a:lnTo>
                    <a:pt x="533" y="359"/>
                  </a:lnTo>
                  <a:lnTo>
                    <a:pt x="540" y="372"/>
                  </a:lnTo>
                  <a:lnTo>
                    <a:pt x="548" y="383"/>
                  </a:lnTo>
                  <a:lnTo>
                    <a:pt x="557" y="392"/>
                  </a:lnTo>
                  <a:lnTo>
                    <a:pt x="566" y="400"/>
                  </a:lnTo>
                  <a:lnTo>
                    <a:pt x="566" y="440"/>
                  </a:lnTo>
                  <a:lnTo>
                    <a:pt x="482" y="440"/>
                  </a:lnTo>
                  <a:lnTo>
                    <a:pt x="482" y="492"/>
                  </a:lnTo>
                  <a:lnTo>
                    <a:pt x="394" y="492"/>
                  </a:lnTo>
                  <a:lnTo>
                    <a:pt x="401" y="497"/>
                  </a:lnTo>
                  <a:lnTo>
                    <a:pt x="408" y="501"/>
                  </a:lnTo>
                  <a:lnTo>
                    <a:pt x="416" y="505"/>
                  </a:lnTo>
                  <a:lnTo>
                    <a:pt x="424" y="508"/>
                  </a:lnTo>
                  <a:lnTo>
                    <a:pt x="432" y="511"/>
                  </a:lnTo>
                  <a:lnTo>
                    <a:pt x="440" y="513"/>
                  </a:lnTo>
                  <a:lnTo>
                    <a:pt x="449" y="515"/>
                  </a:lnTo>
                  <a:lnTo>
                    <a:pt x="457" y="516"/>
                  </a:lnTo>
                  <a:lnTo>
                    <a:pt x="482" y="518"/>
                  </a:lnTo>
                  <a:lnTo>
                    <a:pt x="482" y="608"/>
                  </a:lnTo>
                  <a:lnTo>
                    <a:pt x="144" y="608"/>
                  </a:lnTo>
                  <a:lnTo>
                    <a:pt x="144" y="503"/>
                  </a:lnTo>
                  <a:lnTo>
                    <a:pt x="143" y="504"/>
                  </a:lnTo>
                  <a:lnTo>
                    <a:pt x="142" y="504"/>
                  </a:lnTo>
                  <a:lnTo>
                    <a:pt x="140" y="504"/>
                  </a:lnTo>
                  <a:lnTo>
                    <a:pt x="139" y="504"/>
                  </a:lnTo>
                  <a:lnTo>
                    <a:pt x="129" y="503"/>
                  </a:lnTo>
                  <a:lnTo>
                    <a:pt x="120" y="502"/>
                  </a:lnTo>
                  <a:lnTo>
                    <a:pt x="110" y="501"/>
                  </a:lnTo>
                  <a:lnTo>
                    <a:pt x="101" y="499"/>
                  </a:lnTo>
                  <a:lnTo>
                    <a:pt x="91" y="497"/>
                  </a:lnTo>
                  <a:lnTo>
                    <a:pt x="82" y="493"/>
                  </a:lnTo>
                  <a:lnTo>
                    <a:pt x="73" y="490"/>
                  </a:lnTo>
                  <a:lnTo>
                    <a:pt x="64" y="486"/>
                  </a:lnTo>
                  <a:lnTo>
                    <a:pt x="56" y="481"/>
                  </a:lnTo>
                  <a:lnTo>
                    <a:pt x="48" y="476"/>
                  </a:lnTo>
                  <a:lnTo>
                    <a:pt x="40" y="471"/>
                  </a:lnTo>
                  <a:lnTo>
                    <a:pt x="33" y="465"/>
                  </a:lnTo>
                  <a:lnTo>
                    <a:pt x="25" y="458"/>
                  </a:lnTo>
                  <a:lnTo>
                    <a:pt x="18" y="451"/>
                  </a:lnTo>
                  <a:lnTo>
                    <a:pt x="12" y="444"/>
                  </a:lnTo>
                  <a:lnTo>
                    <a:pt x="6" y="436"/>
                  </a:lnTo>
                  <a:lnTo>
                    <a:pt x="2" y="429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3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42"/>
            <p:cNvSpPr/>
            <p:nvPr/>
          </p:nvSpPr>
          <p:spPr>
            <a:xfrm flipH="1">
              <a:off x="3595320" y="3000600"/>
              <a:ext cx="317160" cy="3175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0" h="200">
                  <a:moveTo>
                    <a:pt x="29" y="170"/>
                  </a:moveTo>
                  <a:lnTo>
                    <a:pt x="37" y="177"/>
                  </a:lnTo>
                  <a:lnTo>
                    <a:pt x="45" y="183"/>
                  </a:lnTo>
                  <a:lnTo>
                    <a:pt x="53" y="188"/>
                  </a:lnTo>
                  <a:lnTo>
                    <a:pt x="61" y="192"/>
                  </a:lnTo>
                  <a:lnTo>
                    <a:pt x="71" y="196"/>
                  </a:lnTo>
                  <a:lnTo>
                    <a:pt x="80" y="198"/>
                  </a:lnTo>
                  <a:lnTo>
                    <a:pt x="90" y="199"/>
                  </a:lnTo>
                  <a:lnTo>
                    <a:pt x="100" y="200"/>
                  </a:lnTo>
                  <a:lnTo>
                    <a:pt x="110" y="199"/>
                  </a:lnTo>
                  <a:lnTo>
                    <a:pt x="119" y="198"/>
                  </a:lnTo>
                  <a:lnTo>
                    <a:pt x="129" y="196"/>
                  </a:lnTo>
                  <a:lnTo>
                    <a:pt x="138" y="192"/>
                  </a:lnTo>
                  <a:lnTo>
                    <a:pt x="147" y="188"/>
                  </a:lnTo>
                  <a:lnTo>
                    <a:pt x="155" y="183"/>
                  </a:lnTo>
                  <a:lnTo>
                    <a:pt x="163" y="177"/>
                  </a:lnTo>
                  <a:lnTo>
                    <a:pt x="171" y="170"/>
                  </a:lnTo>
                  <a:lnTo>
                    <a:pt x="178" y="163"/>
                  </a:lnTo>
                  <a:lnTo>
                    <a:pt x="183" y="155"/>
                  </a:lnTo>
                  <a:lnTo>
                    <a:pt x="188" y="147"/>
                  </a:lnTo>
                  <a:lnTo>
                    <a:pt x="192" y="138"/>
                  </a:lnTo>
                  <a:lnTo>
                    <a:pt x="196" y="129"/>
                  </a:lnTo>
                  <a:lnTo>
                    <a:pt x="198" y="120"/>
                  </a:lnTo>
                  <a:lnTo>
                    <a:pt x="199" y="109"/>
                  </a:lnTo>
                  <a:lnTo>
                    <a:pt x="200" y="100"/>
                  </a:lnTo>
                  <a:lnTo>
                    <a:pt x="199" y="89"/>
                  </a:lnTo>
                  <a:lnTo>
                    <a:pt x="198" y="79"/>
                  </a:lnTo>
                  <a:lnTo>
                    <a:pt x="195" y="70"/>
                  </a:lnTo>
                  <a:lnTo>
                    <a:pt x="192" y="61"/>
                  </a:lnTo>
                  <a:lnTo>
                    <a:pt x="188" y="52"/>
                  </a:lnTo>
                  <a:lnTo>
                    <a:pt x="183" y="44"/>
                  </a:lnTo>
                  <a:lnTo>
                    <a:pt x="177" y="36"/>
                  </a:lnTo>
                  <a:lnTo>
                    <a:pt x="171" y="29"/>
                  </a:lnTo>
                  <a:lnTo>
                    <a:pt x="164" y="23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39" y="8"/>
                  </a:lnTo>
                  <a:lnTo>
                    <a:pt x="130" y="4"/>
                  </a:lnTo>
                  <a:lnTo>
                    <a:pt x="120" y="2"/>
                  </a:lnTo>
                  <a:lnTo>
                    <a:pt x="110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0" y="1"/>
                  </a:lnTo>
                  <a:lnTo>
                    <a:pt x="71" y="4"/>
                  </a:lnTo>
                  <a:lnTo>
                    <a:pt x="61" y="7"/>
                  </a:lnTo>
                  <a:lnTo>
                    <a:pt x="53" y="11"/>
                  </a:lnTo>
                  <a:lnTo>
                    <a:pt x="45" y="16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3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0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0" y="109"/>
                  </a:lnTo>
                  <a:lnTo>
                    <a:pt x="2" y="120"/>
                  </a:lnTo>
                  <a:lnTo>
                    <a:pt x="4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3" y="163"/>
                  </a:lnTo>
                  <a:lnTo>
                    <a:pt x="2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43"/>
            <p:cNvSpPr/>
            <p:nvPr/>
          </p:nvSpPr>
          <p:spPr>
            <a:xfrm flipH="1">
              <a:off x="3678480" y="3081600"/>
              <a:ext cx="151920" cy="153720"/>
            </a:xfrm>
            <a:custGeom>
              <a:avLst/>
              <a:gdLst>
                <a:gd name="textAreaLeft" fmla="*/ 360 w 151920"/>
                <a:gd name="textAreaRight" fmla="*/ 152640 w 1519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6" h="97">
                  <a:moveTo>
                    <a:pt x="0" y="49"/>
                  </a:moveTo>
                  <a:lnTo>
                    <a:pt x="1" y="39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7" y="11"/>
                  </a:lnTo>
                  <a:lnTo>
                    <a:pt x="21" y="8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4" y="3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62" y="3"/>
                  </a:lnTo>
                  <a:lnTo>
                    <a:pt x="66" y="4"/>
                  </a:lnTo>
                  <a:lnTo>
                    <a:pt x="70" y="6"/>
                  </a:lnTo>
                  <a:lnTo>
                    <a:pt x="74" y="8"/>
                  </a:lnTo>
                  <a:lnTo>
                    <a:pt x="78" y="11"/>
                  </a:lnTo>
                  <a:lnTo>
                    <a:pt x="82" y="15"/>
                  </a:lnTo>
                  <a:lnTo>
                    <a:pt x="88" y="22"/>
                  </a:lnTo>
                  <a:lnTo>
                    <a:pt x="93" y="30"/>
                  </a:lnTo>
                  <a:lnTo>
                    <a:pt x="95" y="39"/>
                  </a:lnTo>
                  <a:lnTo>
                    <a:pt x="96" y="49"/>
                  </a:lnTo>
                  <a:lnTo>
                    <a:pt x="95" y="58"/>
                  </a:lnTo>
                  <a:lnTo>
                    <a:pt x="93" y="68"/>
                  </a:lnTo>
                  <a:lnTo>
                    <a:pt x="88" y="76"/>
                  </a:lnTo>
                  <a:lnTo>
                    <a:pt x="82" y="83"/>
                  </a:lnTo>
                  <a:lnTo>
                    <a:pt x="78" y="87"/>
                  </a:lnTo>
                  <a:lnTo>
                    <a:pt x="74" y="89"/>
                  </a:lnTo>
                  <a:lnTo>
                    <a:pt x="70" y="92"/>
                  </a:lnTo>
                  <a:lnTo>
                    <a:pt x="66" y="93"/>
                  </a:lnTo>
                  <a:lnTo>
                    <a:pt x="62" y="95"/>
                  </a:lnTo>
                  <a:lnTo>
                    <a:pt x="57" y="96"/>
                  </a:lnTo>
                  <a:lnTo>
                    <a:pt x="52" y="97"/>
                  </a:lnTo>
                  <a:lnTo>
                    <a:pt x="48" y="97"/>
                  </a:lnTo>
                  <a:lnTo>
                    <a:pt x="38" y="96"/>
                  </a:lnTo>
                  <a:lnTo>
                    <a:pt x="29" y="93"/>
                  </a:lnTo>
                  <a:lnTo>
                    <a:pt x="21" y="89"/>
                  </a:lnTo>
                  <a:lnTo>
                    <a:pt x="13" y="83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1" y="5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44"/>
            <p:cNvSpPr/>
            <p:nvPr/>
          </p:nvSpPr>
          <p:spPr>
            <a:xfrm flipH="1">
              <a:off x="3984840" y="3137040"/>
              <a:ext cx="42480" cy="42840"/>
            </a:xfrm>
            <a:custGeom>
              <a:avLst/>
              <a:gdLst>
                <a:gd name="textAreaLeft" fmla="*/ 360 w 42480"/>
                <a:gd name="textAreaRight" fmla="*/ 43200 w 424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7" h="27">
                  <a:moveTo>
                    <a:pt x="14" y="27"/>
                  </a:moveTo>
                  <a:lnTo>
                    <a:pt x="19" y="26"/>
                  </a:lnTo>
                  <a:lnTo>
                    <a:pt x="23" y="23"/>
                  </a:lnTo>
                  <a:lnTo>
                    <a:pt x="26" y="19"/>
                  </a:lnTo>
                  <a:lnTo>
                    <a:pt x="27" y="14"/>
                  </a:lnTo>
                  <a:lnTo>
                    <a:pt x="26" y="8"/>
                  </a:lnTo>
                  <a:lnTo>
                    <a:pt x="23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9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9" y="26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45"/>
            <p:cNvSpPr/>
            <p:nvPr/>
          </p:nvSpPr>
          <p:spPr>
            <a:xfrm flipH="1">
              <a:off x="3733920" y="3137040"/>
              <a:ext cx="41040" cy="42840"/>
            </a:xfrm>
            <a:custGeom>
              <a:avLst/>
              <a:gdLst>
                <a:gd name="textAreaLeft" fmla="*/ 360 w 41040"/>
                <a:gd name="textAreaRight" fmla="*/ 41760 w 410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6" h="27">
                  <a:moveTo>
                    <a:pt x="13" y="27"/>
                  </a:moveTo>
                  <a:lnTo>
                    <a:pt x="18" y="26"/>
                  </a:lnTo>
                  <a:lnTo>
                    <a:pt x="22" y="23"/>
                  </a:lnTo>
                  <a:lnTo>
                    <a:pt x="25" y="19"/>
                  </a:lnTo>
                  <a:lnTo>
                    <a:pt x="26" y="14"/>
                  </a:lnTo>
                  <a:lnTo>
                    <a:pt x="25" y="8"/>
                  </a:lnTo>
                  <a:lnTo>
                    <a:pt x="22" y="4"/>
                  </a:lnTo>
                  <a:lnTo>
                    <a:pt x="18" y="2"/>
                  </a:lnTo>
                  <a:lnTo>
                    <a:pt x="13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8" y="26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Group 72"/>
          <p:cNvGrpSpPr/>
          <p:nvPr/>
        </p:nvGrpSpPr>
        <p:grpSpPr>
          <a:xfrm>
            <a:off x="2430000" y="1596600"/>
            <a:ext cx="1526760" cy="1187280"/>
            <a:chOff x="2430000" y="1596600"/>
            <a:chExt cx="1526760" cy="1187280"/>
          </a:xfrm>
        </p:grpSpPr>
        <p:sp>
          <p:nvSpPr>
            <p:cNvPr id="1025" name="Oval Callout 73"/>
            <p:cNvSpPr/>
            <p:nvPr/>
          </p:nvSpPr>
          <p:spPr>
            <a:xfrm flipH="1">
              <a:off x="2437920" y="1725480"/>
              <a:ext cx="1462320" cy="1001880"/>
            </a:xfrm>
            <a:prstGeom prst="wedgeEllipseCallout">
              <a:avLst>
                <a:gd name="adj1" fmla="val -39583"/>
                <a:gd name="adj2" fmla="val 63749"/>
              </a:avLst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Box 74"/>
            <p:cNvSpPr/>
            <p:nvPr/>
          </p:nvSpPr>
          <p:spPr>
            <a:xfrm flipH="1" rot="866400">
              <a:off x="2823120" y="1954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Rockwell Extra Bold"/>
                </a:rPr>
                <a:t>7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TextBox 75"/>
            <p:cNvSpPr/>
            <p:nvPr/>
          </p:nvSpPr>
          <p:spPr>
            <a:xfrm flipH="1" rot="20900400">
              <a:off x="3169080" y="2273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Agency FB"/>
                </a:rPr>
                <a:t>2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Box 76"/>
            <p:cNvSpPr/>
            <p:nvPr/>
          </p:nvSpPr>
          <p:spPr>
            <a:xfrm flipH="1" rot="1104600">
              <a:off x="3339000" y="203832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itannic Bold"/>
                </a:rPr>
                <a:t>5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TextBox 77"/>
            <p:cNvSpPr/>
            <p:nvPr/>
          </p:nvSpPr>
          <p:spPr>
            <a:xfrm flipH="1" rot="1347000">
              <a:off x="3298680" y="16794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06060"/>
                  </a:solidFill>
                  <a:latin typeface="Times New Roman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TextBox 78"/>
            <p:cNvSpPr/>
            <p:nvPr/>
          </p:nvSpPr>
          <p:spPr>
            <a:xfrm flipH="1" rot="20700000">
              <a:off x="2491560" y="19346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TextBox 79"/>
            <p:cNvSpPr/>
            <p:nvPr/>
          </p:nvSpPr>
          <p:spPr>
            <a:xfrm flipH="1" rot="19671600">
              <a:off x="2637000" y="17524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06060"/>
                  </a:solidFill>
                  <a:latin typeface="Albertus MT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TextBox 80"/>
            <p:cNvSpPr/>
            <p:nvPr/>
          </p:nvSpPr>
          <p:spPr>
            <a:xfrm flipH="1" rot="1047600">
              <a:off x="2594520" y="23544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06060"/>
                  </a:solidFill>
                  <a:latin typeface="Arial Black"/>
                </a:rPr>
                <a:t>1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Box 81"/>
            <p:cNvSpPr/>
            <p:nvPr/>
          </p:nvSpPr>
          <p:spPr>
            <a:xfrm flipH="1" rot="935400">
              <a:off x="2813040" y="21906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Aharoni"/>
                  <a:ea typeface="Aharoni"/>
                </a:rPr>
                <a:t>2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Box 82"/>
            <p:cNvSpPr/>
            <p:nvPr/>
          </p:nvSpPr>
          <p:spPr>
            <a:xfrm flipH="1" rot="20621400">
              <a:off x="2950920" y="16592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oadway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Box 83"/>
            <p:cNvSpPr/>
            <p:nvPr/>
          </p:nvSpPr>
          <p:spPr>
            <a:xfrm flipH="1" rot="1138200">
              <a:off x="2462400" y="216216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Arial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TextBox 84"/>
            <p:cNvSpPr/>
            <p:nvPr/>
          </p:nvSpPr>
          <p:spPr>
            <a:xfrm flipH="1" rot="20700000">
              <a:off x="2979000" y="245880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1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147"/>
          <p:cNvGrpSpPr/>
          <p:nvPr/>
        </p:nvGrpSpPr>
        <p:grpSpPr>
          <a:xfrm>
            <a:off x="4569120" y="3222000"/>
            <a:ext cx="4309200" cy="3483720"/>
            <a:chOff x="4569120" y="3222000"/>
            <a:chExt cx="4309200" cy="3483720"/>
          </a:xfrm>
        </p:grpSpPr>
        <p:grpSp>
          <p:nvGrpSpPr>
            <p:cNvPr id="1038" name="Group 123"/>
            <p:cNvGrpSpPr/>
            <p:nvPr/>
          </p:nvGrpSpPr>
          <p:grpSpPr>
            <a:xfrm>
              <a:off x="4569120" y="3222000"/>
              <a:ext cx="4309200" cy="3483720"/>
              <a:chOff x="4569120" y="3222000"/>
              <a:chExt cx="4309200" cy="3483720"/>
            </a:xfrm>
          </p:grpSpPr>
          <p:sp>
            <p:nvSpPr>
              <p:cNvPr id="1039" name="Cloud 85"/>
              <p:cNvSpPr/>
              <p:nvPr/>
            </p:nvSpPr>
            <p:spPr>
              <a:xfrm>
                <a:off x="4572000" y="3276720"/>
                <a:ext cx="4114800" cy="3429000"/>
              </a:xfrm>
              <a:custGeom>
                <a:avLst/>
                <a:gdLst>
                  <a:gd name="textAreaLeft" fmla="*/ 567000 w 4114800"/>
                  <a:gd name="textAreaRight" fmla="*/ 3255120 w 4114800"/>
                  <a:gd name="textAreaTop" fmla="*/ 517680 h 3429000"/>
                  <a:gd name="textAreaBottom" fmla="*/ 2752200 h 3429000"/>
                </a:gdLst>
                <a:ahLst/>
                <a:rect l="textAreaLeft" t="textAreaTop" r="textAreaRight" b="textAreaBottom"/>
                <a:pathLst>
                  <a:path w="43200" h="43200">
                    <a:moveTo>
                      <a:pt x="3900" y="14370"/>
                    </a:moveTo>
                    <a:lnTo>
                      <a:pt x="3900" y="14370"/>
                    </a:lnTo>
                    <a:arcTo wR="6753" hR="9190" stAng="10170548" swAng="7427171"/>
                    <a:lnTo>
                      <a:pt x="14005" y="5202"/>
                    </a:lnTo>
                    <a:arcTo wR="5333" hR="7267" stAng="-8646226" swAng="5396752"/>
                    <a:lnTo>
                      <a:pt x="22456" y="3432"/>
                    </a:lnTo>
                    <a:arcTo wR="4365" hR="5945" stAng="-8748310" swAng="5983216"/>
                    <a:lnTo>
                      <a:pt x="29833" y="2481"/>
                    </a:lnTo>
                    <a:arcTo wR="4857" hR="6595" stAng="-7859247" swAng="7034694"/>
                    <a:lnTo>
                      <a:pt x="38318" y="5576"/>
                    </a:lnTo>
                    <a:arcTo wR="5333" hR="7273" stAng="-4722629" swAng="6541720"/>
                    <a:lnTo>
                      <a:pt x="41818" y="15460"/>
                    </a:lnTo>
                    <a:arcTo wR="6775" hR="9220" stAng="-2776007" swAng="7816113"/>
                    <a:lnTo>
                      <a:pt x="37404" y="30203"/>
                    </a:lnTo>
                    <a:arcTo wR="5785" hR="7867" stAng="37436" swAng="6841911"/>
                    <a:lnTo>
                      <a:pt x="28556" y="36813"/>
                    </a:lnTo>
                    <a:arcTo wR="6752" hR="9215" stAng="1346980" swAng="6910786"/>
                    <a:lnTo>
                      <a:pt x="16480" y="39264"/>
                    </a:lnTo>
                    <a:arcTo wR="7720" hR="10543" stAng="3974661" swAng="4542738"/>
                    <a:lnTo>
                      <a:pt x="5804" y="35470"/>
                    </a:lnTo>
                    <a:arcTo wR="4360" hR="5918" stAng="5103633" swAng="8804007"/>
                    <a:lnTo>
                      <a:pt x="2113" y="25548"/>
                    </a:lnTo>
                    <a:arcTo wR="4345" hR="5945" stAng="6790459" swAng="9150775"/>
                    <a:close/>
                  </a:path>
                  <a:path fill="none" w="43200" h="43200">
                    <a:moveTo>
                      <a:pt x="4693" y="26177"/>
                    </a:moveTo>
                    <a:lnTo>
                      <a:pt x="4693" y="26177"/>
                    </a:lnTo>
                    <a:arcTo wR="4345" hR="5945" stAng="5204745" swAng="1585714"/>
                    <a:moveTo>
                      <a:pt x="6928" y="34899"/>
                    </a:moveTo>
                    <a:lnTo>
                      <a:pt x="6928" y="34899"/>
                    </a:lnTo>
                    <a:arcTo wR="4360" hR="5918" stAng="4416323" swAng="686679"/>
                    <a:moveTo>
                      <a:pt x="16478" y="39090"/>
                    </a:moveTo>
                    <a:lnTo>
                      <a:pt x="16478" y="39090"/>
                    </a:lnTo>
                    <a:arcTo wR="6752" hR="9215" stAng="8257461" swAng="844950"/>
                    <a:moveTo>
                      <a:pt x="28827" y="34751"/>
                    </a:moveTo>
                    <a:lnTo>
                      <a:pt x="28827" y="34751"/>
                    </a:lnTo>
                    <a:arcTo wR="6752" hR="9215" stAng="387139" swAng="959841"/>
                    <a:moveTo>
                      <a:pt x="34129" y="22954"/>
                    </a:moveTo>
                    <a:lnTo>
                      <a:pt x="34129" y="22954"/>
                    </a:lnTo>
                    <a:arcTo wR="5785" hR="7867" stAng="-4217785" swAng="4255228"/>
                    <a:moveTo>
                      <a:pt x="41798" y="15354"/>
                    </a:moveTo>
                    <a:lnTo>
                      <a:pt x="41798" y="15354"/>
                    </a:lnTo>
                    <a:arcTo wR="5333" hR="7273" stAng="1819091" swAng="1665385"/>
                    <a:moveTo>
                      <a:pt x="38324" y="5426"/>
                    </a:moveTo>
                    <a:lnTo>
                      <a:pt x="38324" y="5426"/>
                    </a:lnTo>
                    <a:arcTo wR="4857" hR="6595" stAng="-824553" swAng="891799"/>
                    <a:moveTo>
                      <a:pt x="29078" y="3952"/>
                    </a:moveTo>
                    <a:lnTo>
                      <a:pt x="29078" y="3952"/>
                    </a:lnTo>
                    <a:arcTo wR="4857" hR="6595" stAng="-8950828" swAng="1091979"/>
                    <a:moveTo>
                      <a:pt x="22141" y="4720"/>
                    </a:moveTo>
                    <a:lnTo>
                      <a:pt x="22141" y="4720"/>
                    </a:lnTo>
                    <a:arcTo wR="4365" hR="5945" stAng="-9809519" swAng="1061209"/>
                    <a:moveTo>
                      <a:pt x="14000" y="5192"/>
                    </a:moveTo>
                    <a:lnTo>
                      <a:pt x="14000" y="5192"/>
                    </a:lnTo>
                    <a:arcTo wR="6753" hR="9190" stAng="-4002280" swAng="739132"/>
                    <a:moveTo>
                      <a:pt x="4127" y="15789"/>
                    </a:moveTo>
                    <a:lnTo>
                      <a:pt x="4127" y="15789"/>
                    </a:lnTo>
                    <a:arcTo wR="6753" hR="9190" stAng="9459493" swAng="711644"/>
                  </a:path>
                </a:pathLst>
              </a:custGeom>
              <a:noFill/>
              <a:ln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TextBox 89"/>
              <p:cNvSpPr/>
              <p:nvPr/>
            </p:nvSpPr>
            <p:spPr>
              <a:xfrm flipH="1" rot="866400">
                <a:off x="5166000" y="43387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TextBox 90"/>
              <p:cNvSpPr/>
              <p:nvPr/>
            </p:nvSpPr>
            <p:spPr>
              <a:xfrm flipH="1" rot="20900400">
                <a:off x="5535720" y="517356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TextBox 91"/>
              <p:cNvSpPr/>
              <p:nvPr/>
            </p:nvSpPr>
            <p:spPr>
              <a:xfrm flipH="1" rot="19293600">
                <a:off x="6447600" y="3532320"/>
                <a:ext cx="91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itannic Bold"/>
                  </a:rPr>
                  <a:t>10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TextBox 92"/>
              <p:cNvSpPr/>
              <p:nvPr/>
            </p:nvSpPr>
            <p:spPr>
              <a:xfrm flipH="1" rot="2532000">
                <a:off x="5969520" y="341316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a6a6a6"/>
                    </a:solidFill>
                    <a:latin typeface="Times New Roman"/>
                  </a:rPr>
                  <a:t>0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TextBox 93"/>
              <p:cNvSpPr/>
              <p:nvPr/>
            </p:nvSpPr>
            <p:spPr>
              <a:xfrm flipH="1" rot="20700000">
                <a:off x="5054040" y="373032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TextBox 94"/>
              <p:cNvSpPr/>
              <p:nvPr/>
            </p:nvSpPr>
            <p:spPr>
              <a:xfrm flipH="1" rot="19671600">
                <a:off x="5311800" y="361908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6a6a6"/>
                    </a:solidFill>
                    <a:latin typeface="Albertus MT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TextBox 95"/>
              <p:cNvSpPr/>
              <p:nvPr/>
            </p:nvSpPr>
            <p:spPr>
              <a:xfrm flipH="1" rot="1047600">
                <a:off x="4772160" y="503388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TextBox 96"/>
              <p:cNvSpPr/>
              <p:nvPr/>
            </p:nvSpPr>
            <p:spPr>
              <a:xfrm flipH="1" rot="20397000">
                <a:off x="5260320" y="478332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TextBox 97"/>
              <p:cNvSpPr/>
              <p:nvPr/>
            </p:nvSpPr>
            <p:spPr>
              <a:xfrm flipH="1" rot="20621400">
                <a:off x="5011200" y="3935520"/>
                <a:ext cx="61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oadway"/>
                  </a:rPr>
                  <a:t>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TextBox 98"/>
              <p:cNvSpPr/>
              <p:nvPr/>
            </p:nvSpPr>
            <p:spPr>
              <a:xfrm flipH="1" rot="1138200">
                <a:off x="4592160" y="457632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TextBox 100"/>
              <p:cNvSpPr/>
              <p:nvPr/>
            </p:nvSpPr>
            <p:spPr>
              <a:xfrm flipH="1" rot="866400">
                <a:off x="7298280" y="35053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TextBox 101"/>
              <p:cNvSpPr/>
              <p:nvPr/>
            </p:nvSpPr>
            <p:spPr>
              <a:xfrm flipH="1" rot="20900400">
                <a:off x="7376040" y="518472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TextBox 102"/>
              <p:cNvSpPr/>
              <p:nvPr/>
            </p:nvSpPr>
            <p:spPr>
              <a:xfrm flipH="1" rot="1047600">
                <a:off x="7056720" y="465444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TextBox 103"/>
              <p:cNvSpPr/>
              <p:nvPr/>
            </p:nvSpPr>
            <p:spPr>
              <a:xfrm flipH="1" rot="20397000">
                <a:off x="7622640" y="417348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TextBox 104"/>
              <p:cNvSpPr/>
              <p:nvPr/>
            </p:nvSpPr>
            <p:spPr>
              <a:xfrm flipH="1" rot="1138200">
                <a:off x="6801840" y="388584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TextBox 105"/>
              <p:cNvSpPr/>
              <p:nvPr/>
            </p:nvSpPr>
            <p:spPr>
              <a:xfrm flipH="1" rot="866400">
                <a:off x="6461640" y="48722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TextBox 106"/>
              <p:cNvSpPr/>
              <p:nvPr/>
            </p:nvSpPr>
            <p:spPr>
              <a:xfrm flipH="1" rot="20900400">
                <a:off x="6917760" y="5707080"/>
                <a:ext cx="122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TextBox 107"/>
              <p:cNvSpPr/>
              <p:nvPr/>
            </p:nvSpPr>
            <p:spPr>
              <a:xfrm flipH="1" rot="19293600">
                <a:off x="5151960" y="5669280"/>
                <a:ext cx="91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itannic Bold"/>
                  </a:rPr>
                  <a:t>10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TextBox 108"/>
              <p:cNvSpPr/>
              <p:nvPr/>
            </p:nvSpPr>
            <p:spPr>
              <a:xfrm flipH="1" rot="2532000">
                <a:off x="7258680" y="415620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a6a6a6"/>
                    </a:solidFill>
                    <a:latin typeface="Times New Roman"/>
                  </a:rPr>
                  <a:t>0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TextBox 109"/>
              <p:cNvSpPr/>
              <p:nvPr/>
            </p:nvSpPr>
            <p:spPr>
              <a:xfrm flipH="1" rot="20700000">
                <a:off x="6273360" y="418752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TextBox 110"/>
              <p:cNvSpPr/>
              <p:nvPr/>
            </p:nvSpPr>
            <p:spPr>
              <a:xfrm flipH="1" rot="19671600">
                <a:off x="6607440" y="415260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6a6a6"/>
                    </a:solidFill>
                    <a:latin typeface="Albertus MT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TextBox 111"/>
              <p:cNvSpPr/>
              <p:nvPr/>
            </p:nvSpPr>
            <p:spPr>
              <a:xfrm flipH="1" rot="1047600">
                <a:off x="6067800" y="572112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TextBox 112"/>
              <p:cNvSpPr/>
              <p:nvPr/>
            </p:nvSpPr>
            <p:spPr>
              <a:xfrm flipH="1" rot="20397000">
                <a:off x="6555960" y="531684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TextBox 113"/>
              <p:cNvSpPr/>
              <p:nvPr/>
            </p:nvSpPr>
            <p:spPr>
              <a:xfrm flipH="1" rot="20621400">
                <a:off x="6306840" y="4427640"/>
                <a:ext cx="61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oadway"/>
                  </a:rPr>
                  <a:t>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TextBox 114"/>
              <p:cNvSpPr/>
              <p:nvPr/>
            </p:nvSpPr>
            <p:spPr>
              <a:xfrm flipH="1" rot="1138200">
                <a:off x="5887080" y="502596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TextBox 115"/>
              <p:cNvSpPr/>
              <p:nvPr/>
            </p:nvSpPr>
            <p:spPr>
              <a:xfrm flipH="1" rot="866400">
                <a:off x="5978880" y="60152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TextBox 116"/>
              <p:cNvSpPr/>
              <p:nvPr/>
            </p:nvSpPr>
            <p:spPr>
              <a:xfrm flipH="1" rot="2049000">
                <a:off x="7472520" y="392760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TextBox 117"/>
              <p:cNvSpPr/>
              <p:nvPr/>
            </p:nvSpPr>
            <p:spPr>
              <a:xfrm flipH="1" rot="1047600">
                <a:off x="7871760" y="480528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gency FB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TextBox 118"/>
              <p:cNvSpPr/>
              <p:nvPr/>
            </p:nvSpPr>
            <p:spPr>
              <a:xfrm flipH="1" rot="20397000">
                <a:off x="5609520" y="397836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TextBox 119"/>
              <p:cNvSpPr/>
              <p:nvPr/>
            </p:nvSpPr>
            <p:spPr>
              <a:xfrm flipH="1" rot="1138200">
                <a:off x="7958160" y="4500360"/>
                <a:ext cx="67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TextBox 120"/>
              <p:cNvSpPr/>
              <p:nvPr/>
            </p:nvSpPr>
            <p:spPr>
              <a:xfrm flipH="1" rot="20700000">
                <a:off x="4830120" y="556236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TextBox 121"/>
              <p:cNvSpPr/>
              <p:nvPr/>
            </p:nvSpPr>
            <p:spPr>
              <a:xfrm flipH="1" rot="20700000">
                <a:off x="6944760" y="5440320"/>
                <a:ext cx="820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TextBox 122"/>
              <p:cNvSpPr/>
              <p:nvPr/>
            </p:nvSpPr>
            <p:spPr>
              <a:xfrm flipH="1" rot="19581000">
                <a:off x="5181480" y="600408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73" name="Picture 8" descr="C:\Users\ghzite.MAIN\AppData\Local\Microsoft\Windows\Temporary Internet Files\Content.IE5\PYENXLS3\MCj04242240000[1].wmf"/>
            <p:cNvPicPr/>
            <p:nvPr/>
          </p:nvPicPr>
          <p:blipFill>
            <a:blip r:embed="rId1"/>
            <a:stretch/>
          </p:blipFill>
          <p:spPr>
            <a:xfrm>
              <a:off x="7772400" y="4191120"/>
              <a:ext cx="648360" cy="92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Picture 9" descr="C:\Users\ghzite.MAIN\AppData\Local\Microsoft\Windows\Temporary Internet Files\Content.IE5\W2MQ2YGS\MCj04326490000[1].png"/>
            <p:cNvPicPr/>
            <p:nvPr/>
          </p:nvPicPr>
          <p:blipFill>
            <a:blip r:embed="rId2"/>
            <a:stretch/>
          </p:blipFill>
          <p:spPr>
            <a:xfrm>
              <a:off x="5638680" y="5334120"/>
              <a:ext cx="1015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5" name="Picture 11" descr="C:\Users\ghzite.MAIN\AppData\Local\Microsoft\Windows\Temporary Internet Files\Content.IE5\G4VZ6G1N\MCj04316250000[1].png"/>
            <p:cNvPicPr/>
            <p:nvPr/>
          </p:nvPicPr>
          <p:blipFill>
            <a:blip r:embed="rId3"/>
            <a:stretch/>
          </p:blipFill>
          <p:spPr>
            <a:xfrm>
              <a:off x="5181480" y="3581280"/>
              <a:ext cx="1015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13" descr="C:\Users\ghzite.MAIN\AppData\Local\Microsoft\Windows\Temporary Internet Files\Content.IE5\G4VZ6G1N\MCj03968720000[1].wmf"/>
            <p:cNvPicPr/>
            <p:nvPr/>
          </p:nvPicPr>
          <p:blipFill>
            <a:blip r:embed="rId4"/>
            <a:stretch/>
          </p:blipFill>
          <p:spPr>
            <a:xfrm>
              <a:off x="6781680" y="3581280"/>
              <a:ext cx="1073520" cy="9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Picture 20" descr=""/>
            <p:cNvPicPr/>
            <p:nvPr/>
          </p:nvPicPr>
          <p:blipFill>
            <a:blip r:embed="rId5"/>
            <a:stretch/>
          </p:blipFill>
          <p:spPr>
            <a:xfrm rot="1011000">
              <a:off x="6891840" y="5139360"/>
              <a:ext cx="947880" cy="12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Picture 48" descr="C:\Users\ghzite.MAIN\AppData\Local\Microsoft\Windows\Temporary Internet Files\Content.IE5\PYENXLS3\MCj04241920000[1].wmf"/>
            <p:cNvPicPr/>
            <p:nvPr/>
          </p:nvPicPr>
          <p:blipFill>
            <a:blip r:embed="rId6"/>
            <a:stretch/>
          </p:blipFill>
          <p:spPr>
            <a:xfrm>
              <a:off x="6095880" y="4267080"/>
              <a:ext cx="1359000" cy="11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9" name="Picture 49" descr="C:\Users\ghzite.MAIN\AppData\Local\Microsoft\Windows\Temporary Internet Files\Content.IE5\W2MQ2YGS\MCj04339230000[1].png"/>
            <p:cNvPicPr/>
            <p:nvPr/>
          </p:nvPicPr>
          <p:blipFill>
            <a:blip r:embed="rId7"/>
            <a:stretch/>
          </p:blipFill>
          <p:spPr>
            <a:xfrm>
              <a:off x="4952880" y="4800600"/>
              <a:ext cx="1009440" cy="100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0" name="Group 126"/>
          <p:cNvGrpSpPr/>
          <p:nvPr/>
        </p:nvGrpSpPr>
        <p:grpSpPr>
          <a:xfrm>
            <a:off x="811800" y="1527120"/>
            <a:ext cx="1535760" cy="1180440"/>
            <a:chOff x="811800" y="1527120"/>
            <a:chExt cx="1535760" cy="1180440"/>
          </a:xfrm>
        </p:grpSpPr>
        <p:sp>
          <p:nvSpPr>
            <p:cNvPr id="1081" name="Oval Callout 127"/>
            <p:cNvSpPr/>
            <p:nvPr/>
          </p:nvSpPr>
          <p:spPr>
            <a:xfrm>
              <a:off x="877680" y="1649160"/>
              <a:ext cx="1462320" cy="1001880"/>
            </a:xfrm>
            <a:prstGeom prst="wedgeEllipseCallout">
              <a:avLst>
                <a:gd name="adj1" fmla="val -39583"/>
                <a:gd name="adj2" fmla="val 63749"/>
              </a:avLst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TextBox 128"/>
            <p:cNvSpPr/>
            <p:nvPr/>
          </p:nvSpPr>
          <p:spPr>
            <a:xfrm rot="20733600">
              <a:off x="1334520" y="1877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Rockwell Extra Bold"/>
                </a:rPr>
                <a:t>7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TextBox 129"/>
            <p:cNvSpPr/>
            <p:nvPr/>
          </p:nvSpPr>
          <p:spPr>
            <a:xfrm rot="699600">
              <a:off x="989280" y="2197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Agency FB"/>
                </a:rPr>
                <a:t>2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TextBox 130"/>
            <p:cNvSpPr/>
            <p:nvPr/>
          </p:nvSpPr>
          <p:spPr>
            <a:xfrm rot="20495400">
              <a:off x="855000" y="1990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itannic Bold"/>
                </a:rPr>
                <a:t>5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TextBox 131"/>
            <p:cNvSpPr/>
            <p:nvPr/>
          </p:nvSpPr>
          <p:spPr>
            <a:xfrm rot="19448400">
              <a:off x="935280" y="16444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06060"/>
                  </a:solidFill>
                  <a:latin typeface="Times New Roman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Box 132"/>
            <p:cNvSpPr/>
            <p:nvPr/>
          </p:nvSpPr>
          <p:spPr>
            <a:xfrm rot="900000">
              <a:off x="1876680" y="18586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Box 133"/>
            <p:cNvSpPr/>
            <p:nvPr/>
          </p:nvSpPr>
          <p:spPr>
            <a:xfrm rot="1928400">
              <a:off x="1594080" y="16459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06060"/>
                  </a:solidFill>
                  <a:latin typeface="Albertus MT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Box 134"/>
            <p:cNvSpPr/>
            <p:nvPr/>
          </p:nvSpPr>
          <p:spPr>
            <a:xfrm rot="20552400">
              <a:off x="1645200" y="22590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06060"/>
                  </a:solidFill>
                  <a:latin typeface="Arial Black"/>
                </a:rPr>
                <a:t>1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Box 135"/>
            <p:cNvSpPr/>
            <p:nvPr/>
          </p:nvSpPr>
          <p:spPr>
            <a:xfrm rot="20664600">
              <a:off x="1391040" y="211428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Aharoni"/>
                  <a:ea typeface="Aharoni"/>
                </a:rPr>
                <a:t>2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TextBox 136"/>
            <p:cNvSpPr/>
            <p:nvPr/>
          </p:nvSpPr>
          <p:spPr>
            <a:xfrm rot="978600">
              <a:off x="1306440" y="15818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oadway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Box 137"/>
            <p:cNvSpPr/>
            <p:nvPr/>
          </p:nvSpPr>
          <p:spPr>
            <a:xfrm rot="20461800">
              <a:off x="1877400" y="208548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Arial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Box 138"/>
            <p:cNvSpPr/>
            <p:nvPr/>
          </p:nvSpPr>
          <p:spPr>
            <a:xfrm rot="900000">
              <a:off x="1388880" y="23828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1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3" name="Circular Arrow 143"/>
          <p:cNvSpPr/>
          <p:nvPr/>
        </p:nvSpPr>
        <p:spPr>
          <a:xfrm rot="10800000">
            <a:off x="1752480" y="2133720"/>
            <a:ext cx="4648320" cy="3504960"/>
          </a:xfrm>
          <a:custGeom>
            <a:avLst/>
            <a:gdLst>
              <a:gd name="textAreaLeft" fmla="*/ 932760 w 4648320"/>
              <a:gd name="textAreaRight" fmla="*/ 3715560 w 4648320"/>
              <a:gd name="textAreaTop" fmla="*/ 765360 h 3504960"/>
              <a:gd name="textAreaBottom" fmla="*/ 2739600 h 3504960"/>
            </a:gdLst>
            <a:ahLst/>
            <a:rect l="textAreaLeft" t="textAreaTop" r="textAreaRight" b="textAreaBottom"/>
            <a:pathLst>
              <a:path w="4648200" h="3505200">
                <a:moveTo>
                  <a:pt x="2333689" y="356460"/>
                </a:moveTo>
                <a:lnTo>
                  <a:pt x="2333689" y="356460"/>
                </a:lnTo>
                <a:arcTo wR="1967656" hR="1396156" stAng="-5376389" swAng="4399007"/>
                <a:lnTo>
                  <a:pt x="4461292" y="1222707"/>
                </a:lnTo>
                <a:lnTo>
                  <a:pt x="4084293" y="1762492"/>
                </a:lnTo>
                <a:lnTo>
                  <a:pt x="3333617" y="1216370"/>
                </a:lnTo>
                <a:lnTo>
                  <a:pt x="3626323" y="1218015"/>
                </a:lnTo>
                <a:lnTo>
                  <a:pt x="3626323" y="1218015"/>
                </a:lnTo>
                <a:arcTo wR="1552851" hR="981351" stAng="-1339132" swAng="-4037258"/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Circular Arrow 144"/>
          <p:cNvSpPr/>
          <p:nvPr/>
        </p:nvSpPr>
        <p:spPr>
          <a:xfrm>
            <a:off x="2666880" y="1447920"/>
            <a:ext cx="4648320" cy="3504960"/>
          </a:xfrm>
          <a:custGeom>
            <a:avLst/>
            <a:gdLst>
              <a:gd name="textAreaLeft" fmla="*/ 932760 w 4648320"/>
              <a:gd name="textAreaRight" fmla="*/ 3715560 w 4648320"/>
              <a:gd name="textAreaTop" fmla="*/ 765360 h 3504960"/>
              <a:gd name="textAreaBottom" fmla="*/ 2739600 h 3504960"/>
            </a:gdLst>
            <a:ahLst/>
            <a:rect l="textAreaLeft" t="textAreaTop" r="textAreaRight" b="textAreaBottom"/>
            <a:pathLst>
              <a:path w="4648200" h="3505200">
                <a:moveTo>
                  <a:pt x="2333689" y="356460"/>
                </a:moveTo>
                <a:lnTo>
                  <a:pt x="2333689" y="356460"/>
                </a:lnTo>
                <a:arcTo wR="1967656" hR="1396156" stAng="-5376389" swAng="4399007"/>
                <a:lnTo>
                  <a:pt x="4461292" y="1222707"/>
                </a:lnTo>
                <a:lnTo>
                  <a:pt x="4084293" y="1762492"/>
                </a:lnTo>
                <a:lnTo>
                  <a:pt x="3333617" y="1216370"/>
                </a:lnTo>
                <a:lnTo>
                  <a:pt x="3626323" y="1218015"/>
                </a:lnTo>
                <a:lnTo>
                  <a:pt x="3626323" y="1218015"/>
                </a:lnTo>
                <a:arcTo wR="1552851" hR="981351" stAng="-1339132" swAng="-4037258"/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Box 145"/>
          <p:cNvSpPr/>
          <p:nvPr/>
        </p:nvSpPr>
        <p:spPr>
          <a:xfrm>
            <a:off x="469800" y="476424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-to-Dec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146"/>
          <p:cNvSpPr/>
          <p:nvPr/>
        </p:nvSpPr>
        <p:spPr>
          <a:xfrm>
            <a:off x="6095880" y="1676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mal-to-B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9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947B-37CA-4F78-BAEB-6529921EA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mal ‒to‒ Binary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457200" y="1447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Process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ccessive 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mal Numb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2; the remainder is the LSB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quotation is zero, the conversion is complete; else repeat step (a) using the quotation as the Decimal Number.  The new remainder is the next most significant bi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ecimal number 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0" name="Object 6"/>
              <p:cNvSpPr txBox="1"/>
              <p:nvPr/>
            </p:nvSpPr>
            <p:spPr>
              <a:xfrm>
                <a:off x="1116000" y="4708440"/>
                <a:ext cx="352908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3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 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  Least Significant B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1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0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1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 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  Most Significant Bi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01" name="Group 65"/>
          <p:cNvGrpSpPr/>
          <p:nvPr/>
        </p:nvGrpSpPr>
        <p:grpSpPr>
          <a:xfrm>
            <a:off x="4973760" y="5257800"/>
            <a:ext cx="1981080" cy="609480"/>
            <a:chOff x="4973760" y="5257800"/>
            <a:chExt cx="1981080" cy="609480"/>
          </a:xfrm>
        </p:grpSpPr>
        <p:sp>
          <p:nvSpPr>
            <p:cNvPr id="1102" name="TextBox 68"/>
            <p:cNvSpPr/>
            <p:nvPr/>
          </p:nvSpPr>
          <p:spPr>
            <a:xfrm>
              <a:off x="5151600" y="5362560"/>
              <a:ext cx="164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ounded Rectangle 64"/>
            <p:cNvSpPr/>
            <p:nvPr/>
          </p:nvSpPr>
          <p:spPr>
            <a:xfrm>
              <a:off x="4973760" y="5257800"/>
              <a:ext cx="198108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698C-6C75-4622-94B9-D84D0CDFE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2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2048-EB36-446D-9999-9F86C62FC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2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Box 5"/>
          <p:cNvSpPr/>
          <p:nvPr/>
        </p:nvSpPr>
        <p:spPr>
          <a:xfrm>
            <a:off x="457200" y="2362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1" name="Object 6"/>
              <p:cNvSpPr txBox="1"/>
              <p:nvPr/>
            </p:nvSpPr>
            <p:spPr>
              <a:xfrm>
                <a:off x="938160" y="2819520"/>
                <a:ext cx="21020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6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L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Object 4"/>
              <p:cNvSpPr txBox="1"/>
              <p:nvPr/>
            </p:nvSpPr>
            <p:spPr>
              <a:xfrm>
                <a:off x="1049400" y="5410080"/>
                <a:ext cx="20048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M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Object 5"/>
              <p:cNvSpPr txBox="1"/>
              <p:nvPr/>
            </p:nvSpPr>
            <p:spPr>
              <a:xfrm>
                <a:off x="961920" y="3467160"/>
                <a:ext cx="12636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3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Object 5"/>
              <p:cNvSpPr txBox="1"/>
              <p:nvPr/>
            </p:nvSpPr>
            <p:spPr>
              <a:xfrm>
                <a:off x="1066680" y="4114800"/>
                <a:ext cx="11955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6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Object 7"/>
              <p:cNvSpPr txBox="1"/>
              <p:nvPr/>
            </p:nvSpPr>
            <p:spPr>
              <a:xfrm>
                <a:off x="1066680" y="4762440"/>
                <a:ext cx="11541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3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16" name="Group 39"/>
          <p:cNvGrpSpPr/>
          <p:nvPr/>
        </p:nvGrpSpPr>
        <p:grpSpPr>
          <a:xfrm>
            <a:off x="4800600" y="4114800"/>
            <a:ext cx="2362320" cy="609480"/>
            <a:chOff x="4800600" y="4114800"/>
            <a:chExt cx="2362320" cy="609480"/>
          </a:xfrm>
        </p:grpSpPr>
        <p:sp>
          <p:nvSpPr>
            <p:cNvPr id="1117" name="TextBox 68"/>
            <p:cNvSpPr/>
            <p:nvPr/>
          </p:nvSpPr>
          <p:spPr>
            <a:xfrm>
              <a:off x="4947120" y="4219560"/>
              <a:ext cx="2068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26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10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Rounded Rectangle 37"/>
            <p:cNvSpPr/>
            <p:nvPr/>
          </p:nvSpPr>
          <p:spPr>
            <a:xfrm>
              <a:off x="4800600" y="4114800"/>
              <a:ext cx="236232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9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D1A2-A32B-4F80-88F6-2DD2E82BB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4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11AD-1E1B-45D2-9176-599C87DCC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4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Box 5"/>
          <p:cNvSpPr/>
          <p:nvPr/>
        </p:nvSpPr>
        <p:spPr>
          <a:xfrm>
            <a:off x="457200" y="2362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6" name="Object 6"/>
              <p:cNvSpPr txBox="1"/>
              <p:nvPr/>
            </p:nvSpPr>
            <p:spPr>
              <a:xfrm>
                <a:off x="973080" y="2819520"/>
                <a:ext cx="2032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4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L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Object 5"/>
              <p:cNvSpPr txBox="1"/>
              <p:nvPr/>
            </p:nvSpPr>
            <p:spPr>
              <a:xfrm>
                <a:off x="934920" y="3467160"/>
                <a:ext cx="13194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0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Object 4"/>
              <p:cNvSpPr txBox="1"/>
              <p:nvPr/>
            </p:nvSpPr>
            <p:spPr>
              <a:xfrm>
                <a:off x="961920" y="4114800"/>
                <a:ext cx="13050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0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Object 7"/>
              <p:cNvSpPr txBox="1"/>
              <p:nvPr/>
            </p:nvSpPr>
            <p:spPr>
              <a:xfrm>
                <a:off x="1066680" y="4762440"/>
                <a:ext cx="11541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5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30" name="Group 15"/>
          <p:cNvGrpSpPr/>
          <p:nvPr/>
        </p:nvGrpSpPr>
        <p:grpSpPr>
          <a:xfrm>
            <a:off x="4759200" y="4114800"/>
            <a:ext cx="2362320" cy="609480"/>
            <a:chOff x="4759200" y="4114800"/>
            <a:chExt cx="2362320" cy="609480"/>
          </a:xfrm>
        </p:grpSpPr>
        <p:sp>
          <p:nvSpPr>
            <p:cNvPr id="1131" name="TextBox 68"/>
            <p:cNvSpPr/>
            <p:nvPr/>
          </p:nvSpPr>
          <p:spPr>
            <a:xfrm>
              <a:off x="4834800" y="4219560"/>
              <a:ext cx="22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41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01001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Rounded Rectangle 37"/>
            <p:cNvSpPr/>
            <p:nvPr/>
          </p:nvSpPr>
          <p:spPr>
            <a:xfrm>
              <a:off x="4759200" y="4114800"/>
              <a:ext cx="236232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33" name="Object 6"/>
              <p:cNvSpPr txBox="1"/>
              <p:nvPr/>
            </p:nvSpPr>
            <p:spPr>
              <a:xfrm>
                <a:off x="1050840" y="6058080"/>
                <a:ext cx="2005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M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Object 8"/>
              <p:cNvSpPr txBox="1"/>
              <p:nvPr/>
            </p:nvSpPr>
            <p:spPr>
              <a:xfrm>
                <a:off x="1071720" y="5410080"/>
                <a:ext cx="11952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5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E673-BAA4-48D1-A075-701C7DEC6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8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8C56-ECB7-4527-8C2F-DF68E7DCD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8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3"/>
          <p:cNvSpPr/>
          <p:nvPr/>
        </p:nvSpPr>
        <p:spPr>
          <a:xfrm>
            <a:off x="2762280" y="1789200"/>
            <a:ext cx="1665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1 0 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4"/>
          <p:cNvSpPr/>
          <p:nvPr/>
        </p:nvSpPr>
        <p:spPr>
          <a:xfrm>
            <a:off x="2776320" y="2887560"/>
            <a:ext cx="200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1 1 0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5"/>
          <p:cNvSpPr/>
          <p:nvPr/>
        </p:nvSpPr>
        <p:spPr>
          <a:xfrm>
            <a:off x="2765160" y="3983040"/>
            <a:ext cx="2341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1 0 1 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Box 6"/>
          <p:cNvSpPr/>
          <p:nvPr/>
        </p:nvSpPr>
        <p:spPr>
          <a:xfrm>
            <a:off x="3000240" y="5079960"/>
            <a:ext cx="301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0 1 1 1 1 0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A1F2-A46B-4A03-8C81-F3CBEE718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3:36:47Z</dcterms:created>
  <dc:creator>DE Revision Team</dc:creator>
  <dc:description/>
  <cp:keywords>DE PLTW Unit 2 Combinational Logic</cp:keywords>
  <dc:language>en-US</dc:language>
  <cp:lastModifiedBy>sara</cp:lastModifiedBy>
  <dcterms:modified xsi:type="dcterms:W3CDTF">2014-03-05T18:30:16Z</dcterms:modified>
  <cp:revision>117</cp:revision>
  <dc:subject>DE - Unit 2 - Lesson 2.1 - Introduction to AOI Logic</dc:subject>
  <dc:title>Binary Number System &amp; Convers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ContentTypeId">
    <vt:lpwstr>0x010100CC6BB1F00AAFA34493B35981E2967FB1</vt:lpwstr>
  </property>
</Properties>
</file>