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1BFC-0774-4184-8A8C-713716E12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C292-9F04-4F85-BCE2-5FD217AA4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9385-733D-4DCD-80A9-9AAC5BA0B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095A-6C73-4993-BFE0-334B85587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C0D7-D49A-40FD-9CF9-363783E03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3172-66B9-4798-83A9-97515DF6F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E2F7-66BE-4BCF-92AF-93B294157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2739-96D9-40A1-AEF1-710D0F9F2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23C3-87AF-4616-8A18-7B6749060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ABFB-D48F-4A6E-8FCB-5487DB0A1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3D96-1EB5-47AA-A9B3-DC155B01E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BD24-ABA4-446B-B834-E86C85242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FE7C-0AA5-4B6C-A96E-4C3238065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F525-71CC-47D8-B4AB-867FFF9B6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5C56-23E4-4A5A-A27A-C524B9177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C397-3DB6-4101-B9B3-0F09E8BEB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7132-2456-42EC-A366-2736057EE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1A72-9A72-43C9-832D-4FF1AC97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C137-E15F-4EC5-8919-ABA2A133C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BD45D-2954-4760-8E09-5FAD3A90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1E338-E498-4EA2-8B6E-C25EC927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27CAB-B3D9-4B8F-B37C-81B39850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A1ACC-3582-47B2-93B8-8D903DE7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5593A-48D5-44FE-8BC5-60621DFF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5719A-8886-4CC0-962A-82246163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73CB4-DC8A-44FD-B4C3-83988746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2D966-6F95-4DCD-AAA4-595E2E84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C65CE-521A-4A2B-9411-79D46ABE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53F8D-203D-4FA4-B4F9-A3343A2C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15416-345B-4ACE-BEBD-3E35D3E7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F1129-528F-4E19-9302-1204EAB0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F7C7F-2577-4A1D-9FB6-1B8C252C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09E1E-98E6-4DB5-8BEC-D1F2BF13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E45A7-1A1A-46C7-8053-5D168F35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BEDEA-57AB-44E1-8B75-F19F0377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635F0-81CC-41E0-B337-6B737D44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E12AD-ED65-4C71-899C-AFAC2F3A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13502-AA11-4CCC-8A56-A3C4F8C8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55537-21B3-48FD-91D4-2734631C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8491A-4CEA-4A13-AC18-2AD53F99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4CA-1CDD-4C44-B109-BEA7BBFD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CE302-E169-4CAF-AF44-EE2D6FB1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82023-843C-4A32-98F9-7F6992CB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14620-0C14-405E-9F81-FEE64087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0266E-28E9-44F0-AA48-C1CF2F95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D7878-BFDA-46B6-9D20-2F73DFCA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F7281-8093-413B-870A-EC7B93A3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24AE2-64FF-4D8C-9FA8-35763F3B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1E561-5FEE-4D2E-A8E2-1926CE67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60936-3AC5-4672-96F5-043179D8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B8AAB-0B50-40E9-9CD9-8C6FD94B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D2B-FAFD-4396-8FD6-F3B64052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6E43A-0153-40D0-B2F8-45FF339A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464A4-E255-49BD-A2C7-35715E37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E7199-7BF1-42D4-91AE-FFC0283A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936B0-C738-4CC8-BC25-D5BC9C3C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5C06E-8CCE-4A87-AF7C-E86F7D4F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43C5A-F949-41C6-8491-C5826100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60621-CFD3-4FA0-8154-F3B02087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81CED-F845-40D4-9003-FD5C0E4F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378CC-2CCB-42BE-A6F4-CC6B0D1D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D29AD-55FF-4241-BB6F-202CF8DE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2FB-1385-4E35-9C8D-9A9895FE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145E7-20F3-424B-86C1-D10FC6B6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A2293-857B-469C-B624-387D5C3F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70315-3926-4E36-B584-BECA6024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650C4-F796-4A54-A0C2-AC291A1D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73141-FA03-4E4D-B0F5-ACBA6D8C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EB98A-2121-4E36-9E70-D418059F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780C0-E91E-40E9-B1F4-B3B73C7E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0C28E-753D-478D-B63D-922ADD42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BDD39-0470-4B90-AD45-9214315E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21F7B-D067-4F72-A257-BA43A052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79C-00AB-4491-89FB-AE2924D8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2B2BE-08F6-47DE-901A-D8C7B033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62B50-CB82-404B-9BE9-72D81C05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C59F9-11EA-475B-9B71-CE963F0F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38A28-CDBD-4814-BA19-9A05118A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59D2B-7A20-4643-BEBD-D75280C3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293BE-9AA9-4638-8C11-7F1E568F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6A558-2CD8-41C0-BAC5-82069B05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97E19-3B13-4688-9FA9-C2E498F7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6F3D9-3B16-4039-8D26-1CC8C57E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1B70F-4DCB-439E-A625-3F8CFD6E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259-17F7-4822-9015-1A04F8D6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5A9AA-D9BB-422F-A5AB-483BC615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FFB39-50F4-4F14-9886-D6EE5E8B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C4E0F-8A6A-4615-BF5C-71A7A6DF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A5884-9FDD-432F-91D4-826ACE72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9D405-D24E-4867-92C5-96FCA884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F8443-9202-473A-86EF-749F650E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1E00B-5BFE-4EDF-A838-A1617FE5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8FBBD-7AB8-4A21-9184-2896F4DC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55C0B-1BE9-4728-8DA3-50E44D9C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3C7D6-BEB5-4198-A8F5-45B907A8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B78-5C32-4DF6-BC40-91580995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9DDA0-A20D-458D-A7F2-4AC73DBE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32D9B-8333-458F-820F-E930D0A0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351B6-A7FF-434A-8EE7-F1F156E4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FA6D1-276D-47A4-9785-AF378519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57E5C-E566-4746-BBB8-4C24D9F1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825D5-8225-4E56-8B82-95227948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F9BC7-14D0-4D1A-B280-C4996A90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8E485-2F56-46D4-9124-25A5E260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94063-848F-43E9-8FC4-64027C6D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0F3E5-CC4C-4BAB-A3F1-48BABDAC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523-5B39-4DA4-8F20-209D3644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A9F4A-F5DA-40BF-B744-B894AD0C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A7D7A-E428-4474-A8F9-2EAD2B40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C1D56-6B0B-4D4F-87E6-C4E93837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DCE15-C7BE-4FB5-B499-766C925E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942A3-8470-4A59-99D2-D1246817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0B615-1842-401A-B4C3-ABD3ED04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FBE0F-62B4-4D13-88B5-C8A93B68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95C52-C72D-4216-A6AF-F4735837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07972-75D9-427B-BC38-8DCCD25C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EEC20-714B-4D03-9786-62B085D5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9D04-FD18-4D84-9A9A-69028565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DC325-FE22-48D7-B4E9-482678C6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E3FD8-67D8-4A98-A063-20BF3D23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758C4-CC72-4829-9146-4117FFFE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D9D17-7CC8-4652-B059-7066CB0C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774C5-AA88-4AD6-BBF8-36A5DC59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9F676-A64D-42B6-AB6B-502BABF2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A4EB32-EECB-4172-9B57-CE24DC45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ABD26-C471-448B-B5D1-AC056E48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5E70A-2E7B-438E-932E-B5A5E2BE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E8836-AC42-4166-A916-8FA60879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D1E5-C58C-456E-B25B-518D4BAE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763AE-1044-4B71-8DB0-D4CC4274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7BD3E-F6A0-4831-82A9-54A9C0D7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18D47-6D6D-4A65-B75C-B718B46C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9831B-5B6B-43EB-A302-BE16024E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C26A2-BBD6-4D88-9317-0FEF727B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588C28-F1DF-4367-A424-F584EE1D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350291-2A45-4570-A2B8-A5843522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225A4D-7EE7-4DDB-8AC9-770EA546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D115B8-5828-4516-9AC0-ECE5CAF8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3E8889-567C-4486-923D-94C2B979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C5E-C163-4E61-842D-B4CEB002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91190A-BF89-41B0-9F67-8F7172D4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BF6184-7A41-466F-8852-E6BE3346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138266-20CC-4352-8BF4-6557D29A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7B491E-E0FE-4929-BBB2-46621F58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95DB89-31C7-403E-B588-89B9996A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CC567-3A90-4BDB-9CF9-07ED4EDC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CE839-E940-4F9D-920E-C584D6E0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6952C0-381B-4693-878B-11433D2A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1A9DC-6204-41A0-BAA6-63988B87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64BD8A-F8BD-4D75-A52E-A3C4B86B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483-5E6D-4DBF-8F0A-1654B370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84FBA3-59BC-4221-9F0F-0D0F4F53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5A199E-5193-41CA-A7E3-50D1C1B7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59C5B-C035-4007-8796-C407DDDD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8AF742-8244-4C62-9559-821DE265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EF106-6119-459E-8E7D-8008F101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20A596-2649-4717-B3DF-6D3210EE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4F9141-1190-427E-B114-D518CBE6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B97AC-912D-4316-A20E-AB906241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D91305-4211-44CE-97E3-4EC397F4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69173C-A506-4F74-99E8-B2997D6E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1C3-2DB6-41DA-8D51-05E935B5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C57148-3F5A-4C06-91C5-334D9266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60C957-E84C-4557-9E3B-C7831B5A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BD5C5D-D7BD-498E-987D-1D93C702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ED9CFB-9228-4FCC-802C-29C5F05D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BCCFE6-812B-4FB5-B66B-1616EAAF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85FC3D-5E7D-4D0F-8FCA-60634C0D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227A7-6044-4C2C-A6F4-F3394325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7F898D-A81D-432D-9445-859BBBA9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D4533-EE4B-4ED6-A11B-DD422687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591CF7-7CA0-414A-840E-29240C3A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BB5E-E9BF-4549-BEA1-CB334444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D4CA86-3284-4BB9-BF2B-9C97776B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580EC-D2AB-416A-9282-51DC0824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6B2F18-92D9-428C-B7E5-925DC900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761CA-A66D-4A7F-86FC-839E9DE2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386C65-27FA-440C-AE71-E87D56E3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871817-FF07-45F1-B17A-09411994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AD33C1-8736-4092-9484-92F32F45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1E4BE5-A829-40DE-9A7E-9617F74C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FE22AF-B39B-4257-AC16-06154C12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D16C6D-4D57-43E6-873C-F077FB31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9295-48F6-4CBB-B6B3-4B70B18C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CE023E-55B9-4CC6-B680-A1C8464E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0DC0C-BB3B-4AB6-830E-57D894F0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352527-796E-4F90-8ECD-A1ECE301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47E02E-CB67-440E-A47A-D4E43367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BC703D-D4FD-433A-8834-6E788978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71EBF7-13EA-4A62-AAB7-560348A3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22F486-8CB4-4A26-97E7-A4879B2D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3A2288-B16B-4080-92B4-C771A392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A9A70A-B106-4F6B-8890-B238D7C5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63AA6C-4E35-473E-93AB-E44F47B9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64A8-C4EE-4879-9141-B0F3D95A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82C322-9683-4B72-906A-0E7B0C72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BD371C-EFBB-43F3-99F9-58D1A831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41BFA-F72C-4C33-A4C8-01E21AAB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E73071-1D7E-4BE4-8784-AC97869A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2ABFB1-78AC-4761-BBAF-7D2A867F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01E53B-6F8D-4D67-9DD3-4E5737F1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426216-1553-494D-BA9F-1B439C3C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255F2D-2D0C-426B-80D6-D48B3E1F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7488AC-46BF-4FED-80E0-0289007F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4E05DD-B7B2-4F94-94EE-383AC728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CF45-59CD-4348-9416-85240D87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18D985-DEC1-4A14-843C-59FAB11A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EA04C7-11B0-4916-8E92-328E4238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689080-B0A8-411B-BE0E-FD3B5972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76BE06-5BB6-48C5-9CB7-F7624FA4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D943C4-DDB4-4353-AA6F-AF45E394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DE4B5D-74D7-46DE-8ADE-4D3807D5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3A47C8-C4A3-41BA-BB7F-76B6B9FC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AF5187-65BB-4BBD-B0BC-00C58801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315F5C-D72C-464D-990F-E1ADDAED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5281-FBD0-4AA9-9AA2-ECDC95AE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5516-CD3C-49E9-B960-B7785AE7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5C56-6838-494C-A781-3C5355CE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A8B8-16E8-4831-80E0-041055BC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C760-9849-4CEC-AED7-ACD45460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652F-0FE2-4521-A961-672E79E0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8EB1-FC06-4060-A392-7B049F60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FC23-AA0B-4481-ADA4-C9A5C396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264C3-D847-4C78-83D8-7030EBF4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DD9B-5542-4B73-8F23-3CE341C6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7A64-B1B2-42F6-8844-683F2A2B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A8FC8-B192-4618-93AA-523E17FD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33038-4D9D-4F23-B0CB-8DFD396B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4ABA2-8CF0-4F24-9D02-9F840663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82CAB-F055-45BA-9C39-2FD5E218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6D174-3D93-471A-87F8-32C507A1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39DF6-7017-4C49-BC1A-11604F2C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6DF0B-5B76-4424-8E7A-E23D08DF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FA970-A8FF-484D-AD3E-E93D9193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4DE8D-42FC-420E-B606-9AB6C786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2FB9A-E9B7-4E86-8FC1-D9E6C9AA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97240-1401-47B7-8743-2BA96102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ADF2D-0D88-43E1-89DD-3AD24684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20F8D-32CE-4688-AD48-D3B7DDF6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C4796-B344-4338-B317-A67131B8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83A0D-B04D-48FC-82AE-B69BE343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5E86B-E9F1-4FAE-8605-934D89F9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57496-F3DD-40B4-BFF9-30024687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73B65-E9A8-4E22-9584-2365DC90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1670D-F419-47DC-81ED-53AA02A4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ED12A-7F9F-4380-85A6-D107DD9A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5D2EE-0461-4C37-BCDD-C55D75FA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218A-8121-435F-832D-7F54EBC67C7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931B-BDBA-44A6-B0C5-059E2CBBF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24E6-3BA5-41FD-A166-2CC7DDE4AA4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1E26-D96A-4BF0-BDED-B0CBEEE22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3E26-617D-4FAE-958E-6A4DEEC4829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6542-2A9F-425E-987A-6753BAA40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F5D7-C8DB-40D8-9A4D-A99B91BDF1E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F614-BD9D-41AB-B813-A4C8166C6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FFB9-D68A-4641-8D46-5D07257824B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7DF7-DF3A-4931-9114-59E6FF5BB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9500-8905-4FC2-9065-811E8710DD4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3683-131E-4C22-8B26-41FB18508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305E-8C3E-4175-AEC0-EB0F699362C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633E-4033-4224-A9C1-05824E6CF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3DFD-F051-4616-818B-116E506C54D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A99E-DF94-4BCD-82DE-D26938978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8EA1-BE22-4AD4-B995-97B088FAAAF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A2F8-0CC4-4414-86DB-0CAB629BE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87CE-55AD-4C61-AD94-B95AE7E1A2E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3337-FE5B-4E95-9EA5-25FB97EFA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FD3A-F364-4A7E-87AA-20178803294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51F7-66EB-4716-B3FF-3DB808EBC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40CA-7F2E-425D-B3F0-A2BACAEB03B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D412-F6A5-45B2-AA6A-3ABDF8FB5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7D5E-EAC3-409A-8DA6-BC60F7BF1AA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091E-CC1B-4599-86CE-57721C665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A3B1-EDE4-42DE-8BD7-6FF0583AD72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473E-E01C-4CA7-8B38-6466EB09E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FB45-6D40-46FD-BFFB-88A0E6094D7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ED01-0D1F-4900-B3F5-4BCB36B7C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08D9-7957-4EB7-9539-18C27BD3948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03DE-DFD4-45EA-B843-DC9AC3338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359E-EB7C-492D-9456-0F0E8C0B4EB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463F-9A7B-4E0C-8D1D-FE50FD6D1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1DD9-B787-4FC2-8DE9-07FAA2DADA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9760-B1F4-47F2-9E03-716026DC6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C800-8A57-4003-BFEA-94CC0A5E7FF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60F0-B355-4BA8-B790-2B51D3164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36B3-F41B-4C3D-8E5F-F7D35A17F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7F53-36C6-4923-81DC-DEA8F3002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EDB3-F161-43F1-B5AF-AF3E749FD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B958-77F2-472D-B07C-980487482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365040"/>
                <a:gridCol w="274680"/>
                <a:gridCol w="366480"/>
                <a:gridCol w="27324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DF8C-7169-4AAD-AFCF-66B21EBC5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1F31-75AF-4CC6-8A93-B3244A208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099B-04FE-449D-870E-0B0C038B3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0520" y="1371600"/>
                <a:ext cx="255348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91280" y="1735920"/>
                <a:ext cx="2309760" cy="7768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54000"/>
              <a:ext cx="2313360" cy="77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5888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0EFF-6805-42ED-9015-A86AABB4A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8377-3830-4EEA-BF93-D7112240F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>
                  <a:gd name="textAreaLeft" fmla="*/ 567000 w 4114800"/>
                  <a:gd name="textAreaRight" fmla="*/ 3255120 w 4114800"/>
                  <a:gd name="textAreaTop" fmla="*/ 517680 h 3429000"/>
                  <a:gd name="textAreaBottom" fmla="*/ 2752200 h 342900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B7FF-3A04-4350-B5D1-97093253A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0FC8-4B0C-4F60-B59A-986C2B7B4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DC10-B832-493A-88F7-A98D3C39E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082A-DA71-4E69-BD32-697701919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7193-48A3-4691-A49B-9D19B129C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6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B021-1CBA-4665-961E-E44A18092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E171-B38D-4709-9976-605863C63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CCDB-E3ED-4108-B75A-5DDDE196E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sara</cp:lastModifiedBy>
  <dcterms:modified xsi:type="dcterms:W3CDTF">2014-03-05T18:30:16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ntentTypeId">
    <vt:lpwstr>0x010100CC6BB1F00AAFA34493B35981E2967FB1</vt:lpwstr>
  </property>
</Properties>
</file>