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6AA-F3F2-4DF2-8AF3-C92C151E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3F20-37FA-4C09-ADCD-EB6048CB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4AC-0787-46FD-8135-7516E621D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EC4-36CD-40B5-86B7-B2E37B99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012-C5E5-426B-B8C0-2BA17C22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E0A-2670-4CBC-85D8-25F9E940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AAA-A7D1-4A1F-85AE-1F8B4393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20DB-203E-4C1B-B880-931D96C0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55C7-0A15-422F-A54E-B2D1B210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FC3-8D6A-4C75-AD2E-9423E600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9859-47D5-49C9-8698-E3E9732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1D4-76A0-43FF-BFC1-34688537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3A2A-D146-423A-9E7F-42DDF523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2C7C-7657-48C5-83D5-2536847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EA0-F661-40B6-B06D-00581177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3042-0564-4072-9C2C-FB2C63E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4CDF-E983-47C9-B351-A6D0DDE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BA5C-EC08-48E3-AC10-CDC716F3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A27A-0F93-479C-B5E3-AB88F499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BD82-6AD4-4F06-9CBC-563B5664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65C-E3B3-46FC-AC0E-C673064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4EB-F7AD-4D11-AC9E-297EA90B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102-0EF0-4F31-85BD-BC1D136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706-301E-4399-84AE-318FFC7A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24B-1E6A-4864-A2ED-2D4A9C5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BAB-0A0A-422E-868A-E05FF0C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907-03E4-4C21-9212-6470FF2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2160" y="-4680"/>
                <a:ext cx="945720" cy="683280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87840" y="16970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07640" y="1260000"/>
                <a:ext cx="945720" cy="5029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07640" y="124200"/>
                <a:ext cx="945720" cy="3031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87840" y="989640"/>
                <a:ext cx="946080" cy="348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89640" y="665280"/>
                <a:ext cx="946080" cy="432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1080" y="3571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0840" y="3901680"/>
                <a:ext cx="946080" cy="4993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0280" y="35366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0280" y="2397600"/>
                <a:ext cx="946080" cy="30420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0280" y="3214080"/>
                <a:ext cx="946080" cy="34704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0280" y="2931480"/>
                <a:ext cx="946080" cy="42768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0280" y="260100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33800"/>
                <a:ext cx="945720" cy="4993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8400" y="4504680"/>
                <a:ext cx="946080" cy="5029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0840" y="5611680"/>
                <a:ext cx="946080" cy="303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0000" y="6206400"/>
                <a:ext cx="345960" cy="9475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7520"/>
                  <a:gd name="textAreaBottom" fmla="*/ 947880 h 9475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79040"/>
                <a:ext cx="945720" cy="42768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543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124-CCBB-445E-B945-7605B6ECF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5720" y="-158220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7720" y="264312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664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960" y="2793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1000" y="274392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3440" y="268992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9120" y="275184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4320" y="2636640"/>
                <a:ext cx="976680" cy="6678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0360" y="26344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4920" y="27860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800" y="27360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1120" y="268416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960" y="272448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9120" y="2643120"/>
                <a:ext cx="977040" cy="667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552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6320" y="2784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2520" y="2684160"/>
                <a:ext cx="976680" cy="57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8120" y="272448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00B-B2EA-4B88-9DC0-D07603A0E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Co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Sub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2"/>
          <p:cNvSpPr/>
          <p:nvPr/>
        </p:nvSpPr>
        <p:spPr>
          <a:xfrm>
            <a:off x="1066680" y="2286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Dependent &amp; independent cla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مستطيل 3"/>
          <p:cNvSpPr/>
          <p:nvPr/>
        </p:nvSpPr>
        <p:spPr>
          <a:xfrm>
            <a:off x="1066680" y="121932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pendent clause is a group of words that contains a subject and a verb, expresses a complete thought, and can 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is a group of words that contains a subject and a verb,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a complete thought, and c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x Senten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lex sentence is a sentence that contains one independent clause and at least one dependent cla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ordinate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that begins with a subordinating conjunction. Since subordinate clauses are adverbial, they may appear at the beginning or end of a complex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143000" y="2979720"/>
            <a:ext cx="77724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njoy dark coffee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l student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ed the mid-term exam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udent with a sick leave was ab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you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njoy tea mo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14400" y="533520"/>
            <a:ext cx="77724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ordination </a:t>
            </a:r>
            <a:br>
              <a:rPr sz="3600"/>
            </a:b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Clauses capable of forming separate simpl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Coordination conjunctions in sent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مستطيل 1"/>
          <p:cNvSpPr/>
          <p:nvPr/>
        </p:nvSpPr>
        <p:spPr>
          <a:xfrm>
            <a:off x="99072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Subordinating Conjunctions: Punctuating Complex Sent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مستطيل 2"/>
          <p:cNvSpPr/>
          <p:nvPr/>
        </p:nvSpPr>
        <p:spPr>
          <a:xfrm>
            <a:off x="990720" y="1828800"/>
            <a:ext cx="8119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ubordinate clause appears at the beginning of a complex sentence, it must be separated from the independent clause by a com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After he finished his homework, Saad went sho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if a subordinate clause appears after the independent clause in a compound sentence, no comma is nee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Saad went shopping after he finished his home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te on punctu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ubordinating conjunction in a complex sentenc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 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 comma is needed to show separation between the two cla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-1933560" y="-38160"/>
            <a:ext cx="13011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1-30T03:21:57Z</dcterms:modified>
  <cp:revision>91</cp:revision>
  <dc:subject/>
  <dc:title>No Slide Title</dc:title>
</cp:coreProperties>
</file>