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ADEF-0ACD-4AEC-AC3F-5B3AD4FB8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10B1-9391-4D54-8649-ED98A337C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7DF6-98F6-40D7-B10B-002B400B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8A0-472C-4E29-A2D8-CDDF30B2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83E-8EBF-4C0A-B5C1-EF8C5592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632-67B0-4946-BA2F-9928412B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871-1CA0-45AF-980A-C479C01C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09D1-217E-4251-BC63-E09D9393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4535-0AAF-4F3F-944F-CB1DF85C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ECC6-88A3-4100-84EF-4709F435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835B-70DA-442D-8CD6-45CD488B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EBE0-6F5D-4DB9-B2A7-66787858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C52C-016E-4896-8670-56A64352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133D-C281-4393-B450-C06276C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8B0-3896-473A-935F-34828C5C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C400-E8D4-48DC-90F3-A0E6E90B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B032-7D71-472A-AD74-54D1B851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6D59-5916-419A-81CD-D6157DE4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0405-CB8B-44EE-9EB5-21941D62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9022-0DB0-4A87-B7E5-1CAE1683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298-07CA-463B-BFFF-437C0C56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D46-2375-4E6D-B9AC-E62D93CA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D20-3BFD-4780-923D-F68EF7A6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A2B-EAC9-4C8B-AA6E-CB4D80ED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C60-AAF7-4668-A0B7-ABE51F7E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B6C-02A0-41E1-89EE-4CDED661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6491-E1B6-4D54-8CC9-2991B18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2160" y="-4680"/>
                <a:ext cx="945720" cy="683280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87840" y="1697040"/>
                <a:ext cx="946080" cy="50076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07640" y="1260000"/>
                <a:ext cx="945720" cy="5029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07640" y="124200"/>
                <a:ext cx="945720" cy="3031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87840" y="989640"/>
                <a:ext cx="946080" cy="3481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89640" y="665280"/>
                <a:ext cx="946080" cy="4327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1080" y="35712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0840" y="3901680"/>
                <a:ext cx="946080" cy="4993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0280" y="3536640"/>
                <a:ext cx="946080" cy="50076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0280" y="2397600"/>
                <a:ext cx="946080" cy="30420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0280" y="3214080"/>
                <a:ext cx="946080" cy="34704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0280" y="2931480"/>
                <a:ext cx="946080" cy="42768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0280" y="260100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240" y="4933800"/>
                <a:ext cx="945720" cy="49932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8400" y="4504680"/>
                <a:ext cx="946080" cy="5029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0840" y="5611680"/>
                <a:ext cx="946080" cy="303120"/>
              </a:xfrm>
              <a:custGeom>
                <a:avLst/>
                <a:gdLst>
                  <a:gd name="textAreaLeft" fmla="*/ 360 w 946080"/>
                  <a:gd name="textAreaRight" fmla="*/ 946800 w 9460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0000" y="6206400"/>
                <a:ext cx="345960" cy="9475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47520"/>
                  <a:gd name="textAreaBottom" fmla="*/ 947880 h 9475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0680" y="6179040"/>
                <a:ext cx="945720" cy="427680"/>
              </a:xfrm>
              <a:custGeom>
                <a:avLst/>
                <a:gdLst>
                  <a:gd name="textAreaLeft" fmla="*/ -360 w 945720"/>
                  <a:gd name="textAreaRight" fmla="*/ 945720 w 94572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54320"/>
                <a:ext cx="958320" cy="375480"/>
              </a:xfrm>
              <a:custGeom>
                <a:avLst/>
                <a:gdLst>
                  <a:gd name="textAreaLeft" fmla="*/ 0 w 958320"/>
                  <a:gd name="textAreaRight" fmla="*/ 958320 w 9583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173A-46A9-4BF0-B313-CEE98457C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000"/>
              <a:chOff x="-3240" y="2479680"/>
              <a:chExt cx="9146880" cy="101700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5720" y="-1582200"/>
                <a:ext cx="977040" cy="9118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7720" y="2643120"/>
                <a:ext cx="977040" cy="66816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6640" y="264240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7960" y="2793600"/>
                <a:ext cx="977040" cy="40428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1000" y="274392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3440" y="2689920"/>
                <a:ext cx="977040" cy="574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9120" y="2751840"/>
                <a:ext cx="989640" cy="4996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4320" y="2636640"/>
                <a:ext cx="976680" cy="6678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600360" y="263448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4920" y="2786040"/>
                <a:ext cx="977040" cy="40464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5800" y="2736000"/>
                <a:ext cx="977040" cy="4662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1120" y="2684160"/>
                <a:ext cx="976680" cy="5724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9960" y="2724480"/>
                <a:ext cx="989640" cy="50112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9120" y="2643120"/>
                <a:ext cx="977040" cy="6678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5520" y="2642400"/>
                <a:ext cx="977040" cy="66960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6320" y="2784600"/>
                <a:ext cx="977040" cy="404280"/>
              </a:xfrm>
              <a:custGeom>
                <a:avLst/>
                <a:gdLst>
                  <a:gd name="textAreaLeft" fmla="*/ 360 w 977040"/>
                  <a:gd name="textAreaRight" fmla="*/ 977760 w 9770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784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8480"/>
                  <a:gd name="textAreaBottom" fmla="*/ 978480 h 9784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2520" y="2684160"/>
                <a:ext cx="976680" cy="57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8120" y="2724480"/>
                <a:ext cx="989640" cy="501480"/>
              </a:xfrm>
              <a:custGeom>
                <a:avLst/>
                <a:gdLst>
                  <a:gd name="textAreaLeft" fmla="*/ -360 w 989640"/>
                  <a:gd name="textAreaRight" fmla="*/ 989640 w 9896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C533-3E01-4D9E-9FC4-689AA782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514600" y="1371600"/>
            <a:ext cx="50292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Coord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&amp; Subordin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مستطيل 2"/>
          <p:cNvSpPr/>
          <p:nvPr/>
        </p:nvSpPr>
        <p:spPr>
          <a:xfrm>
            <a:off x="1066680" y="22860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Dependent &amp; independent cla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مستطيل 3"/>
          <p:cNvSpPr/>
          <p:nvPr/>
        </p:nvSpPr>
        <p:spPr>
          <a:xfrm>
            <a:off x="1066680" y="121932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dependent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ependent clause is a group of words that contains a subject and a verb, expresses a complete thought, and can stand alone as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pendent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pendent clause is a group of words that contains a subject and a verb, do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a complete thought, and ca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 alone as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lex Sentenc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mplex sentence is a sentence that contains one independent clause and at least one dependent clau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ordinate Claus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pendent clause that begins with a subordinating conjunction. Since subordinate clauses are adverbial, they may appear at the beginning or end of a complex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1143000" y="2979720"/>
            <a:ext cx="777240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 like coffee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enjoy dark coffee 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All students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ded the mid-term exam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udent with a sick leave was ab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o you like coffee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enjoy tea mo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ins two independent clause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14400" y="533520"/>
            <a:ext cx="777240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Coordination </a:t>
            </a:r>
            <a:br>
              <a:rPr sz="3600"/>
            </a:br>
            <a:r>
              <a:rPr b="0" lang="en-US" sz="3200" spc="-1" strike="noStrike">
                <a:solidFill>
                  <a:srgbClr val="0099cc"/>
                </a:solidFill>
                <a:latin typeface="Comic Sans MS"/>
              </a:rPr>
              <a:t>Clauses capable of forming separate simpl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Coordination conjunctions in sent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مستطيل 1"/>
          <p:cNvSpPr/>
          <p:nvPr/>
        </p:nvSpPr>
        <p:spPr>
          <a:xfrm>
            <a:off x="990720" y="457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omic Sans MS"/>
              </a:rPr>
              <a:t>Subordinating Conjunctions: Punctuating Complex Sent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مستطيل 2"/>
          <p:cNvSpPr/>
          <p:nvPr/>
        </p:nvSpPr>
        <p:spPr>
          <a:xfrm>
            <a:off x="990720" y="1828800"/>
            <a:ext cx="8119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ubordinate clause appears at the beginning of a complex sentence, it must be separated from the independent clause by a com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i="1" lang="en-US" sz="2000" spc="-1" strike="noStrike">
                <a:solidFill>
                  <a:srgbClr val="2d5cb9"/>
                </a:solidFill>
                <a:latin typeface="Times New Roman"/>
              </a:rPr>
              <a:t>After he finished his homework, Saad went shopp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if a subordinate clause appears after the independent clause in a compound sentence, no comma is need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xample: </a:t>
            </a:r>
            <a:r>
              <a:rPr b="1" i="1" lang="en-US" sz="2000" spc="-1" strike="noStrike">
                <a:solidFill>
                  <a:srgbClr val="2d5cb9"/>
                </a:solidFill>
                <a:latin typeface="Times New Roman"/>
              </a:rPr>
              <a:t>Saad went shopping after he finished his homewor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ote on punctu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subordinating conjunction in a complex sentence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re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l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ven thou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 comma is needed to show separation between the two clau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-1933560" y="-38160"/>
            <a:ext cx="130111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ASUS</cp:lastModifiedBy>
  <cp:lastPrinted>2005-06-10T16:41:19Z</cp:lastPrinted>
  <dcterms:modified xsi:type="dcterms:W3CDTF">2015-11-30T03:21:57Z</dcterms:modified>
  <cp:revision>91</cp:revision>
  <dc:subject/>
  <dc:title>No Slide Title</dc:title>
</cp:coreProperties>
</file>