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FFC4-C6FF-435E-B679-C3EB8A54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986A-7ED9-403D-B020-43692DCD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C1F1-8ED9-411F-BAF7-3F24FF868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F03-0BB3-4650-9BA5-3DD473D6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FF5-9C31-4D76-B338-B20F9B91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4DC-0194-4281-B72D-049E39D4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B432-EF51-4A3D-848E-F7A90285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0E9F-AC90-4734-91C0-8AEB45F3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1A8F-63C2-48B7-89E2-F06F39AF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FFA6-5A4E-430A-B481-5D4BF569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79A4-D336-4EB6-A2C6-883C1B7B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7DB8-BFFD-4CE7-8EF4-96B36E05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647B-4631-482E-A742-FEEE1233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E695-3790-4E68-9F6F-890CA600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FA1-C135-4B86-A07A-1EE12CA7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98E3-7A50-4436-AE6A-52904217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FFC9-84A1-4AC9-BD06-750C141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A89B-4C0C-4E48-ACAC-B9A78F4B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3868-1658-4CB3-AB37-A483B4B5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E710-1E56-4459-9C4C-864CCDF5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FDB3-EB4B-4C11-8D33-9E2F2BC8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136-5C70-4B89-8C91-E3052B68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269-1D55-4434-AF75-E6A62D40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B7B-1FDF-45B1-96D0-790DD7EA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583-287C-45DC-A02A-C15FCE5B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F01-884A-4155-9AAE-98275AA4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816-62DA-4EE2-8817-6C573B6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2160" y="-4680"/>
                <a:ext cx="945720" cy="683280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87840" y="1697040"/>
                <a:ext cx="946080" cy="50076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07640" y="1260000"/>
                <a:ext cx="945720" cy="5029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07640" y="124200"/>
                <a:ext cx="945720" cy="3031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87840" y="989640"/>
                <a:ext cx="946080" cy="3481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89640" y="665280"/>
                <a:ext cx="946080" cy="4327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1080" y="35712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0840" y="3901680"/>
                <a:ext cx="946080" cy="4993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0280" y="3536640"/>
                <a:ext cx="946080" cy="50076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0280" y="2397600"/>
                <a:ext cx="946080" cy="30420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0280" y="3214080"/>
                <a:ext cx="946080" cy="34704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0280" y="2931480"/>
                <a:ext cx="946080" cy="42768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0280" y="260100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33800"/>
                <a:ext cx="945720" cy="4993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8400" y="4504680"/>
                <a:ext cx="946080" cy="5029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0840" y="5611680"/>
                <a:ext cx="946080" cy="3031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0000" y="6206400"/>
                <a:ext cx="345960" cy="9475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47520"/>
                  <a:gd name="textAreaBottom" fmla="*/ 947880 h 9475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79040"/>
                <a:ext cx="945720" cy="42768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5432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E28B-3080-4DF7-B9D9-CBC26E580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5720" y="-158220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7720" y="264312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6640" y="264240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960" y="2793600"/>
                <a:ext cx="977040" cy="40428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1000" y="274392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3440" y="268992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9120" y="275184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4320" y="2636640"/>
                <a:ext cx="976680" cy="6678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0360" y="26344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4920" y="27860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800" y="27360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1120" y="268416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960" y="272448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9120" y="2643120"/>
                <a:ext cx="977040" cy="667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5520" y="264240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6320" y="2784600"/>
                <a:ext cx="977040" cy="40428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2520" y="2684160"/>
                <a:ext cx="976680" cy="57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8120" y="272448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2659-D9C4-4BDB-8605-75F903CD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1371600"/>
            <a:ext cx="50292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Co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&amp; Sub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2"/>
          <p:cNvSpPr/>
          <p:nvPr/>
        </p:nvSpPr>
        <p:spPr>
          <a:xfrm>
            <a:off x="1066680" y="22860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Dependent &amp; independent cla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مستطيل 3"/>
          <p:cNvSpPr/>
          <p:nvPr/>
        </p:nvSpPr>
        <p:spPr>
          <a:xfrm>
            <a:off x="1066680" y="121932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ependent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ependent clause is a group of words that contains a subject and a verb, expresses a complete thought, and can stand alone as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endent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endent clause is a group of words that contains a subject and a verb, 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a complete thought, and c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 alone as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x Senten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lex sentence is a sentence that contains one independent clause and at least one dependent cla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ordinate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endent clause that begins with a subordinating conjunction. Since subordinate clauses are adverbial, they may appear at the beginning or end of a complex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143000" y="2979720"/>
            <a:ext cx="777240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 like coffe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njoy dark coffee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l students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ed the mid-term exam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udent with a sick leave was ab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 you like coffe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enjoy tea mo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14400" y="533520"/>
            <a:ext cx="77724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ordination </a:t>
            </a:r>
            <a:br>
              <a:rPr sz="3600"/>
            </a:b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Clauses capable of forming separate simpl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Coordination conjunctions in sent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مستطيل 1"/>
          <p:cNvSpPr/>
          <p:nvPr/>
        </p:nvSpPr>
        <p:spPr>
          <a:xfrm>
            <a:off x="990720" y="457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Subordinating Conjunctions: Punctuating Complex Sent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مستطيل 2"/>
          <p:cNvSpPr/>
          <p:nvPr/>
        </p:nvSpPr>
        <p:spPr>
          <a:xfrm>
            <a:off x="990720" y="1828800"/>
            <a:ext cx="8119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ubordinate clause appears at the beginning of a complex sentence, it must be separated from the independent clause by a com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i="1" lang="en-US" sz="2000" spc="-1" strike="noStrike">
                <a:solidFill>
                  <a:srgbClr val="2d5cb9"/>
                </a:solidFill>
                <a:latin typeface="Times New Roman"/>
              </a:rPr>
              <a:t>After he finished his homework, Saad went shop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if a subordinate clause appears after the independent clause in a compound sentence, no comma is need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i="1" lang="en-US" sz="2000" spc="-1" strike="noStrike">
                <a:solidFill>
                  <a:srgbClr val="2d5cb9"/>
                </a:solidFill>
                <a:latin typeface="Times New Roman"/>
              </a:rPr>
              <a:t>Saad went shopping after he finished his home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te on punctu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subordinating conjunction in a complex sentenc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n 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 comma is needed to show separation between the two cla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-1933560" y="-38160"/>
            <a:ext cx="13011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ASUS</cp:lastModifiedBy>
  <cp:lastPrinted>2005-06-10T16:41:19Z</cp:lastPrinted>
  <dcterms:modified xsi:type="dcterms:W3CDTF">2015-11-30T03:21:57Z</dcterms:modified>
  <cp:revision>91</cp:revision>
  <dc:subject/>
  <dc:title>No Slide Title</dc:title>
</cp:coreProperties>
</file>