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3DA-CE4D-4F4C-99B8-4F1FE6EA6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38DF-FFB5-4DE5-B192-479758C69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2D47-71A6-4C57-BE7B-9F2AF36AA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970-6157-4F87-8E5C-251E0D46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47F-CE54-4EC5-A05C-90801561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2B1-577E-43B3-A82B-7765098A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7F7-1CDF-45DC-B217-47218E1E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BC4C-ED28-4040-9F29-C1AEA7A3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8406-1058-4ACF-AF80-B2439E8F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DF84-456B-44AD-B22E-915E87CF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7EAF-8511-4BEF-8830-350CE753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9215-202D-4115-8ABE-5F497DBC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182B-5625-45B2-AEBA-5B3F3FE8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2FE7-EFD3-4C7C-A98D-FE5469B7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DA8-2A33-4CEA-856B-D0E92214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D358-E12B-4DF3-BA2A-A3855AE6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DFDB-C0FA-4DC2-B79B-DF585557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55C4-7B16-45CB-9F62-829753B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A195-DD0B-44C5-AE94-2A8A06BD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B698-2F9B-4E11-B573-A31F3D63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BB4-53E9-4828-AEF3-B891075E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F43-4F73-474D-87C8-F1590877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BA9-EA92-4A55-9924-43838535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9EF-5019-41F5-8B25-C63C7BA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402-A52B-4C84-B859-4F90D63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269-0515-4783-A392-42577319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A31-7370-4DBE-A1CC-9595A5E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2160" y="-4680"/>
                <a:ext cx="945720" cy="683280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87840" y="1697040"/>
                <a:ext cx="946080" cy="50076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07640" y="1260000"/>
                <a:ext cx="945720" cy="5029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07640" y="124200"/>
                <a:ext cx="945720" cy="3031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87840" y="989640"/>
                <a:ext cx="946080" cy="3481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89640" y="665280"/>
                <a:ext cx="946080" cy="4327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1080" y="35712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0840" y="3901680"/>
                <a:ext cx="946080" cy="4993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0280" y="3536640"/>
                <a:ext cx="946080" cy="50076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0280" y="2397600"/>
                <a:ext cx="946080" cy="30420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0280" y="3214080"/>
                <a:ext cx="946080" cy="34704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0280" y="2931480"/>
                <a:ext cx="946080" cy="42768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0280" y="260100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33800"/>
                <a:ext cx="945720" cy="4993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8400" y="4504680"/>
                <a:ext cx="946080" cy="5029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0840" y="5611680"/>
                <a:ext cx="946080" cy="3031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0000" y="6206400"/>
                <a:ext cx="345960" cy="9475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47520"/>
                  <a:gd name="textAreaBottom" fmla="*/ 947880 h 9475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79040"/>
                <a:ext cx="945720" cy="42768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5432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AC15-5EDF-49CF-A93B-04170E83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000"/>
              <a:chOff x="-3240" y="2479680"/>
              <a:chExt cx="9146880" cy="10170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5720" y="-1582200"/>
                <a:ext cx="977040" cy="9118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7720" y="264312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6640" y="264240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960" y="2793600"/>
                <a:ext cx="977040" cy="40428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1000" y="274392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3440" y="2689920"/>
                <a:ext cx="977040" cy="574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9120" y="2751840"/>
                <a:ext cx="989640" cy="4996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4320" y="2636640"/>
                <a:ext cx="976680" cy="6678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0360" y="26344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4920" y="2786040"/>
                <a:ext cx="977040" cy="40464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800" y="273600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1120" y="268416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960" y="2724480"/>
                <a:ext cx="989640" cy="501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9120" y="2643120"/>
                <a:ext cx="977040" cy="667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5520" y="264240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6320" y="2784600"/>
                <a:ext cx="977040" cy="40428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84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8480"/>
                  <a:gd name="textAreaBottom" fmla="*/ 978480 h 9784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2520" y="2684160"/>
                <a:ext cx="976680" cy="57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8120" y="2724480"/>
                <a:ext cx="989640" cy="5014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C9D4-DD9E-4B9F-B4C6-37B422CA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1371600"/>
            <a:ext cx="50292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Co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&amp; Sub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مستطيل 2"/>
          <p:cNvSpPr/>
          <p:nvPr/>
        </p:nvSpPr>
        <p:spPr>
          <a:xfrm>
            <a:off x="1066680" y="22860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Dependent &amp; independent cla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مستطيل 3"/>
          <p:cNvSpPr/>
          <p:nvPr/>
        </p:nvSpPr>
        <p:spPr>
          <a:xfrm>
            <a:off x="1066680" y="121932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dependent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ependent clause is a group of words that contains a subject and a verb, expresses a complete thought, and can stand alone as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endent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endent clause is a group of words that contains a subject and a verb, do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a complete thought, and c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 alone as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x Senten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lex sentence is a sentence that contains one independent clause and at least one dependent cla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ordinate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endent clause that begins with a subordinating conjunction. Since subordinate clauses are adverbial, they may appear at the beginning or end of a complex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143000" y="2979720"/>
            <a:ext cx="777240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 like coffe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njoy dark coffee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l students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ed the mid-term exam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udent with a sick leave was ab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o you like coffe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enjoy tea mo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14400" y="533520"/>
            <a:ext cx="77724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ordination </a:t>
            </a:r>
            <a:br>
              <a:rPr sz="3600"/>
            </a:br>
            <a:r>
              <a:rPr b="0" lang="en-US" sz="3200" spc="-1" strike="noStrike">
                <a:solidFill>
                  <a:srgbClr val="0099cc"/>
                </a:solidFill>
                <a:latin typeface="Comic Sans MS"/>
              </a:rPr>
              <a:t>Clauses capable of forming separate simpl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Coordination conjunctions in sent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مستطيل 1"/>
          <p:cNvSpPr/>
          <p:nvPr/>
        </p:nvSpPr>
        <p:spPr>
          <a:xfrm>
            <a:off x="990720" y="457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Subordinating Conjunctions: Punctuating Complex Sent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مستطيل 2"/>
          <p:cNvSpPr/>
          <p:nvPr/>
        </p:nvSpPr>
        <p:spPr>
          <a:xfrm>
            <a:off x="990720" y="1828800"/>
            <a:ext cx="8119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ubordinate clause appears at the beginning of a complex sentence, it must be separated from the independent clause by a com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i="1" lang="en-US" sz="2000" spc="-1" strike="noStrike">
                <a:solidFill>
                  <a:srgbClr val="2d5cb9"/>
                </a:solidFill>
                <a:latin typeface="Times New Roman"/>
              </a:rPr>
              <a:t>After he finished his homework, Saad went shopp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if a subordinate clause appears after the independent clause in a compound sentence, no comma is need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i="1" lang="en-US" sz="2000" spc="-1" strike="noStrike">
                <a:solidFill>
                  <a:srgbClr val="2d5cb9"/>
                </a:solidFill>
                <a:latin typeface="Times New Roman"/>
              </a:rPr>
              <a:t>Saad went shopping after he finished his home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te on punctu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subordinating conjunction in a complex sentenc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en 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 comma is needed to show separation between the two cla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-1933560" y="-38160"/>
            <a:ext cx="13011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ASUS</cp:lastModifiedBy>
  <cp:lastPrinted>2005-06-10T16:41:19Z</cp:lastPrinted>
  <dcterms:modified xsi:type="dcterms:W3CDTF">2015-11-30T03:21:57Z</dcterms:modified>
  <cp:revision>91</cp:revision>
  <dc:subject/>
  <dc:title>No Slide Title</dc:title>
</cp:coreProperties>
</file>